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png" ContentType="image/png"/>
  <Override PartName="/ppt/media/image14.png" ContentType="image/png"/>
  <Override PartName="/ppt/media/image23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CCD6-F835-4FF7-AF7F-E0CAAA6112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4AC9-0408-4E1C-AB59-DA3EAAC10E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бенности содержания учебников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5FF5-37B4-435B-9ED4-44C92F5BBA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живые организмы вышли на суш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тория Земли и жизни на ней – знакомство с самыми главными событ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перед, в прошло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появилась на свет наша план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происходит  в недрах нашей план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уда на Земле вода и возду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вращения горных п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менялась поверхность нашей план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читают палеонтологическую летопи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и почему живые существа изменя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ки и потом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гда и как появилась жизнь на Зем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заре жизни: мир микроорганиз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живые организмы перестали быть микроскопическ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живые организмы обзавелись скеле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Жизнь в древних мор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5928-615A-4137-9A6A-2B4F916965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люди открывали Землю и создавали карту – знакомство с картой на фоне истории географических откр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ва 1. География древнего мира. План и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Наша Земля на кар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государства и первые пл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и и города библейский пред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Географические планы в древности и сегод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ие открытия в Древней Гре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ие знания в Римской импе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ва 2. Средневековые путешествия и откр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ешествия викингов и араб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ешествия европейцев в Центральную Азию, Индию и Кита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ходы и открытия русских на севере Европы и в Западной Сиби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ва 3. Великие географические открытия. Градусная сетка на глобусе и кар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кие географические откр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ия в Амер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кругосветные пл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Глобус, параллели и мериди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Географические координ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Искажение на карте и изменение во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ие Австралии и Оке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DEE2-440C-48F7-982F-D028021B06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 6 класса  «Мир Земл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9391-EB7B-4B2E-961D-9748D70F4E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 7 класс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емля – планета люд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ий аппарат учебника соответствует проблемно-диалогической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акту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и дополнительный тек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люстрации сопровождены комментариями и вопрос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ие 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диционные репродуктивные и творческие 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AB4D-4741-4C7D-A2B7-4CBF0E91B4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290F-C4A3-4BC6-B3FB-263E2DDAD2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ие линии развития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у школьников системного географического мышления:  формирование представления о взаимодействии единой системы «природа – население – хозяйство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Использование географических карт в качестве источника информ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ение окружающего мира и критическое восприятие полученной информации с точки зрения географ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E2DA-8ED9-4182-A370-3E141BD0B0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итие у школьников системного географического мышления:  формирование представления о взаимодействии единой системы «природа – население – хозяйств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класс. Раздел 6. «Мир географических систем» – единство природного и рукотвор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класс. Изучение природы, населения и хозяйства каждой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-9 классы. Единство физической и экономической географии на примере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91F4-40D8-4156-BC3A-9FB889626A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С помощью языка карт география позволяет понять место любого объекта окружающего мира на Зем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класс – «Как люди открывали Землю и создавали карту» – приобретение навыка использования физической кар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-7 классы – освоение тематически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-9 классы – использование карт в качестве источни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719C-8502-4194-A971-3FA1A6C1C7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знанное овладение жизненно необходимыми географическими знаниями, умениями и навыкам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для жизни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класс. Умение объяснять окружающий природный мир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Как себя вести в случае стихийного б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 класс. Пособие для туриста. Как себя вести в разных стран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-9 классы. Страна, в которой я живу, ее природа и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972F-D6AC-4147-BAE7-A774BE175B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К по естествознанию и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9653-0166-41F9-A246-5F693E0A4D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«Земля и люд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991C-F0D5-4BD0-8AE6-B8375BE2FA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ейшие цели курса естествознания – преодоление дефицитов биологии и 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речие биологии – провозглашение исторического подхода при отсутствие его последовательной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5ED0-B211-46EA-AF32-A24BE515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2026-39EA-4C86-BB4B-53D41275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DD83-2B57-4C78-BA3A-A1A8806A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C6B5-7064-4A8A-979C-CB340EDD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A054E-0288-4950-9251-24410E5E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69BD7-DC72-4BFB-A5C9-F6266145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316AB-A0A7-4B07-854A-AD797A60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367A5-1920-4A49-990B-3EFBA7D7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7CF8C-E699-43BD-B75D-B09FDB9B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20B23-D548-4E0E-9BAB-9C8DC2AE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D26DE-5BBD-4795-8EDE-9FEB976C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A75F-7751-4829-855C-C1A2752E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82EF7-A8B8-4CA4-86A7-5E56A237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7AF2C-8D88-4327-938A-FB8EDC53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679F7-B731-475A-8AEE-DC2104DA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2E692-D3E9-4A04-9B8A-70D14413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07450-5A4A-41CE-BCDF-ED601765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C408-90C9-4B31-90ED-CD374FDC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48F3-DF8F-4082-9BDD-432A30A6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5A61-42A8-41D4-A99F-A66E1B3A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501B-6338-4F0B-B232-44EBD74C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A31D-2883-4E97-869D-FFFCB157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FCB0-6E3A-416F-B830-93DE9EEB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4025-291B-4622-96AD-8036E82E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2A98-DF3B-40F5-9C95-31DEC60143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8259-9E74-4B97-8F58-CE1920AC5DD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q=755295856&amp;p=141&amp;ag=ih&amp;rpt2=simage&amp;qs=rpt%3Dimage%26text%3D%25FA%25C5%25CD%25CC%25D1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7.png"/><Relationship Id="rId3" Type="http://schemas.openxmlformats.org/officeDocument/2006/relationships/image" Target="../media/image26.png"/><Relationship Id="rId4" Type="http://schemas.openxmlformats.org/officeDocument/2006/relationships/hyperlink" Target="http://images.yandex.ru/yandpage?q=755295856&amp;p=4&amp;ag=ih&amp;rpt2=simage&amp;qs=rpt%3Dimage%26text%3D%25FA%25C5%25CD%25CC%25D1" TargetMode="External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2000" y="2079720"/>
            <a:ext cx="6605640" cy="217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Особенности содержания учебников географ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стория Земли и жизни на ней – знакомство с самыми главными события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5560" y="1905120"/>
            <a:ext cx="4051080" cy="47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перед, в прошлое!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появилась на свет наша планет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Что происходит  в недрах нашей плане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ткуда на Земле вода и возду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евращения горных пород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менялась поверхность нашей плане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читают палеонтологическую летопис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и почему живые существа изменяютс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едки и потом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огда и как появилась жизнь на Земл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а заре жизни: мир микроорганизм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живые организмы перестали быть микроскопически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живые организмы обзавелись скелето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Жизнь в древних моря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5157720" y="2484360"/>
            <a:ext cx="3780000" cy="382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живые организмы вышли на суш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растения изменили облик суш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осваивали сушу первые позвоноч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аши далекие предки – зверозубые ящер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огда владыками суши были дракон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Завоевание моря и неб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остки нового мир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еликое вымир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ир травяных экосисте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оисхождение челове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еликое оледене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и почему менялся климат нашей плане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ошлое – ключ к будущем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люди открывали Землю и создавали карту – знакомство с картой на фоне истории географических открыт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2033280"/>
            <a:ext cx="4365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1. География древнего мира. План и карт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Наша Земля на карте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ервые государства и первые плавани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Земли и города библейский преданий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Географические планы в древности и сегодн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Географические открытия в Древней Грец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Географические знания в Римской импер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2. Средневековые путешествия и открыти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утешествия викингов и арабов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утешествия европейцев в Центральную Азию, Индию и Китай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ходы и открытия русских на севере Европы и в Западной Сибир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3. Великие географические открытия. Градусная сетка на глобусе и картах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еликие географические открыти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ткрытия в Америке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ервые кругосветные плавани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Глобус, параллели и меридианы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Географические координаты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Искажение на карте и изменение во времен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ткрытие Австралии и Океан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292720" y="2033640"/>
            <a:ext cx="3328920" cy="44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4. Исследования в океанах и во внутренних частях материков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Исследования Америк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ткрытия русских землепроходцев в Аз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Русские экспедиции в Ледовитом и Тихом океанах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утешествия и открытия в Южном полушар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ткрытия в Арктике и Антарктике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Экспедиции и открытия в Мировом океане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Изучение Евраз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5. Современные исследования. Значение и использование карт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утешествия и открытия 20 век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Ориентирование по плану и на местности. Изображение рельеф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Аэро-и космические снимки. Разнообразие и значение карт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Глазомерная съемк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чебник  6 класса  «Мир Земли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1422360" y="1494000"/>
            <a:ext cx="7559640" cy="51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чальный курс общего землеве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сширенный астрономический разд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Земля – частица Вселенно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лавный акцент знакомства с оболочк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емли – три состояния вещества. Поэто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зделе о гидросфере появили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дразделы«Твердая вода» и «Жид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да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держание разделов имеет структур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аткое введение в разд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ое содержание раздела: о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схождения до природопользова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ведение итогов изучения разд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13" descr="i?id=875718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2000" y="4194000"/>
            <a:ext cx="1170000" cy="947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25" descr=" География (6-й класс). «Мир Земли» "/>
          <p:cNvPicPr/>
          <p:nvPr/>
        </p:nvPicPr>
        <p:blipFill>
          <a:blip r:embed="rId3"/>
          <a:stretch/>
        </p:blipFill>
        <p:spPr>
          <a:xfrm>
            <a:off x="385920" y="1628640"/>
            <a:ext cx="933120" cy="12384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бник  7 класса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Земля – планета люде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1035" descr="DSCN4006"/>
          <p:cNvPicPr/>
          <p:nvPr/>
        </p:nvPicPr>
        <p:blipFill>
          <a:blip r:embed="rId1"/>
          <a:stretch/>
        </p:blipFill>
        <p:spPr>
          <a:xfrm>
            <a:off x="6821640" y="414360"/>
            <a:ext cx="1828800" cy="1368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7" descr=" География (7-й класс). «Земля - планета людей» "/>
          <p:cNvPicPr/>
          <p:nvPr/>
        </p:nvPicPr>
        <p:blipFill>
          <a:blip r:embed="rId2"/>
          <a:stretch/>
        </p:blipFill>
        <p:spPr>
          <a:xfrm>
            <a:off x="431640" y="1628640"/>
            <a:ext cx="952560" cy="1305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0" descr=" Народы мира. Книга для чтения по географии "/>
          <p:cNvPicPr/>
          <p:nvPr/>
        </p:nvPicPr>
        <p:blipFill>
          <a:blip r:embed="rId3"/>
          <a:stretch/>
        </p:blipFill>
        <p:spPr>
          <a:xfrm>
            <a:off x="385920" y="4734000"/>
            <a:ext cx="952200" cy="12668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9"/>
          <p:cNvSpPr/>
          <p:nvPr/>
        </p:nvSpPr>
        <p:spPr>
          <a:xfrm>
            <a:off x="2592360" y="2168640"/>
            <a:ext cx="6254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рс странове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диница рассмотрения – стр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накомство с природой, населением и хозяйством стр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1032"/>
          <p:cNvSpPr/>
          <p:nvPr/>
        </p:nvSpPr>
        <p:spPr>
          <a:xfrm>
            <a:off x="2006640" y="5454720"/>
            <a:ext cx="66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роды мир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Книга для чтения по географи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1037" descr="i?id=1636019&amp;tov=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71640" y="3159000"/>
            <a:ext cx="1270080" cy="127008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одический аппарат учебника соответствует проблемно-диалогической техн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просы актуал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бл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ой и дополнительный тек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ллюстрации сопровождены комментариями и вопрос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ткие выво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диционные репродуктивные и творческие зад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ажнейшие линии развития географ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16280" y="2124000"/>
            <a:ext cx="69768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у школьников системного географического мышления:  формирование представления о взаимодействии единой системы «природа – население – хозяйство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пользование географических карт в качестве источника информ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ъяснение окружающего мира и критическое восприятие полученной информации с точки зрения географ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1024" descr="e_maneb"/>
          <p:cNvPicPr/>
          <p:nvPr/>
        </p:nvPicPr>
        <p:blipFill>
          <a:blip r:embed="rId1"/>
          <a:stretch/>
        </p:blipFill>
        <p:spPr>
          <a:xfrm>
            <a:off x="385920" y="4959360"/>
            <a:ext cx="1171440" cy="876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26" descr="Leo"/>
          <p:cNvPicPr/>
          <p:nvPr/>
        </p:nvPicPr>
        <p:blipFill>
          <a:blip r:embed="rId2"/>
          <a:stretch/>
        </p:blipFill>
        <p:spPr>
          <a:xfrm>
            <a:off x="341280" y="2349360"/>
            <a:ext cx="1260360" cy="882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28" descr="глобус"/>
          <p:cNvPicPr/>
          <p:nvPr/>
        </p:nvPicPr>
        <p:blipFill>
          <a:blip r:embed="rId3"/>
          <a:stretch/>
        </p:blipFill>
        <p:spPr>
          <a:xfrm>
            <a:off x="341280" y="3429000"/>
            <a:ext cx="1270080" cy="12445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Развитие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у школьников системного географического мышления:  формирование представления о взаимодействии единой системы «природа – население – хозяйство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46280" y="2033640"/>
            <a:ext cx="6199200" cy="4114800"/>
          </a:xfrm>
          <a:prstGeom prst="rect">
            <a:avLst/>
          </a:prstGeom>
          <a:solidFill>
            <a:srgbClr val="00c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 класс. Раздел 6. «Мир географических систем» – единство природного и рукотворн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 класс. Изучение природы, населения и хозяйства каждой стр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-9 классы. Единство физической и экономической географии на примере Росс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1024" descr="naber"/>
          <p:cNvPicPr/>
          <p:nvPr/>
        </p:nvPicPr>
        <p:blipFill>
          <a:blip r:embed="rId1"/>
          <a:stretch/>
        </p:blipFill>
        <p:spPr>
          <a:xfrm>
            <a:off x="297000" y="1808280"/>
            <a:ext cx="2038320" cy="1428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26" descr="puspa_samadhi_1_web"/>
          <p:cNvPicPr/>
          <p:nvPr/>
        </p:nvPicPr>
        <p:blipFill>
          <a:blip r:embed="rId2"/>
          <a:stretch/>
        </p:blipFill>
        <p:spPr>
          <a:xfrm>
            <a:off x="250920" y="3338640"/>
            <a:ext cx="2025720" cy="1519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28" descr="флаг России"/>
          <p:cNvPicPr/>
          <p:nvPr/>
        </p:nvPicPr>
        <p:blipFill>
          <a:blip r:embed="rId3"/>
          <a:stretch/>
        </p:blipFill>
        <p:spPr>
          <a:xfrm>
            <a:off x="206280" y="5003640"/>
            <a:ext cx="2070360" cy="11289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С помощью языка карт география позволяет понять место любого объекта окружающего мира на Земл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41640" y="1989000"/>
            <a:ext cx="6694560" cy="4114800"/>
          </a:xfrm>
          <a:prstGeom prst="rect">
            <a:avLst/>
          </a:prstGeom>
          <a:solidFill>
            <a:srgbClr val="00c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класс – «Как люди открывали Землю и создавали карту» – приобретение навыка использования физической карт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-7 классы – освоение тематических кар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-9 классы – использование карт в качестве источника информ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1" descr="карта России"/>
          <p:cNvPicPr/>
          <p:nvPr/>
        </p:nvPicPr>
        <p:blipFill>
          <a:blip r:embed="rId1"/>
          <a:stretch/>
        </p:blipFill>
        <p:spPr>
          <a:xfrm>
            <a:off x="297000" y="2168640"/>
            <a:ext cx="1269720" cy="952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политическая карта"/>
          <p:cNvPicPr/>
          <p:nvPr/>
        </p:nvPicPr>
        <p:blipFill>
          <a:blip r:embed="rId2"/>
          <a:stretch/>
        </p:blipFill>
        <p:spPr>
          <a:xfrm>
            <a:off x="250920" y="333864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URAL"/>
          <p:cNvPicPr/>
          <p:nvPr/>
        </p:nvPicPr>
        <p:blipFill>
          <a:blip r:embed="rId3"/>
          <a:stretch/>
        </p:blipFill>
        <p:spPr>
          <a:xfrm>
            <a:off x="162000" y="482436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Осознанное овладение жизненно необходимыми географическими знаниями, умениями и навыками для жизни в современных условия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97000" y="1943280"/>
            <a:ext cx="6794640" cy="4114800"/>
          </a:xfrm>
          <a:prstGeom prst="rect">
            <a:avLst/>
          </a:prstGeom>
          <a:solidFill>
            <a:srgbClr val="00c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 класс. Умение объяснять окружающий природный мир. Как себя вести в случае стихийного бед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 класс. Пособие для туриста. Как себя вести в разных стран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-9 классы. Страна, в которой я живу, ее природа и хозяй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1024" descr="флаг России"/>
          <p:cNvPicPr/>
          <p:nvPr/>
        </p:nvPicPr>
        <p:blipFill>
          <a:blip r:embed="rId1"/>
          <a:stretch/>
        </p:blipFill>
        <p:spPr>
          <a:xfrm>
            <a:off x="297000" y="5049720"/>
            <a:ext cx="1395360" cy="760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26" descr="23709"/>
          <p:cNvPicPr/>
          <p:nvPr/>
        </p:nvPicPr>
        <p:blipFill>
          <a:blip r:embed="rId2"/>
          <a:stretch/>
        </p:blipFill>
        <p:spPr>
          <a:xfrm>
            <a:off x="476280" y="1943280"/>
            <a:ext cx="1143000" cy="1047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29" descr="2340"/>
          <p:cNvPicPr/>
          <p:nvPr/>
        </p:nvPicPr>
        <p:blipFill>
          <a:blip r:embed="rId3"/>
          <a:stretch/>
        </p:blipFill>
        <p:spPr>
          <a:xfrm>
            <a:off x="206280" y="3203640"/>
            <a:ext cx="1557360" cy="15462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МК по естествознанию и географ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0" descr="nat_5clm"/>
          <p:cNvPicPr/>
          <p:nvPr/>
        </p:nvPicPr>
        <p:blipFill>
          <a:blip r:embed="rId1"/>
          <a:stretch/>
        </p:blipFill>
        <p:spPr>
          <a:xfrm>
            <a:off x="539640" y="5246640"/>
            <a:ext cx="952560" cy="1495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nat_5cl1"/>
          <p:cNvPicPr/>
          <p:nvPr/>
        </p:nvPicPr>
        <p:blipFill>
          <a:blip r:embed="rId2"/>
          <a:stretch/>
        </p:blipFill>
        <p:spPr>
          <a:xfrm>
            <a:off x="539640" y="2149560"/>
            <a:ext cx="952560" cy="1247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nat_5cl2"/>
          <p:cNvPicPr/>
          <p:nvPr/>
        </p:nvPicPr>
        <p:blipFill>
          <a:blip r:embed="rId3"/>
          <a:stretch/>
        </p:blipFill>
        <p:spPr>
          <a:xfrm>
            <a:off x="539640" y="3608280"/>
            <a:ext cx="1052640" cy="1316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763640" y="2293920"/>
            <a:ext cx="1511280" cy="8240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ик «Земля и люди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95280" y="170028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492360" y="1700280"/>
            <a:ext cx="115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6372360" y="162864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763640" y="3805200"/>
            <a:ext cx="1511280" cy="5806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ая тетрад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1692360" y="5408640"/>
            <a:ext cx="1530360" cy="520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ические рекомендац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716360" y="2293920"/>
            <a:ext cx="1368360" cy="8240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ик    «Мир Земли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4716360" y="3805200"/>
            <a:ext cx="1511280" cy="5806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ая тетрад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7597800" y="2205000"/>
            <a:ext cx="1546200" cy="1067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ик    «Земля – планета людей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4527720" y="5319720"/>
            <a:ext cx="1618920" cy="520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ические рекомендац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7632720" y="3699000"/>
            <a:ext cx="1511280" cy="5806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ая тетрад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 География (6-й класс). «Мир Земли». Методические рекомендации "/>
          <p:cNvPicPr/>
          <p:nvPr/>
        </p:nvPicPr>
        <p:blipFill>
          <a:blip r:embed="rId4"/>
          <a:stretch/>
        </p:blipFill>
        <p:spPr>
          <a:xfrm>
            <a:off x="3492360" y="5138640"/>
            <a:ext cx="930240" cy="1440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 География (7-й класс). «Земля - планета людей» "/>
          <p:cNvPicPr/>
          <p:nvPr/>
        </p:nvPicPr>
        <p:blipFill>
          <a:blip r:embed="rId5"/>
          <a:stretch/>
        </p:blipFill>
        <p:spPr>
          <a:xfrm>
            <a:off x="6327720" y="2124000"/>
            <a:ext cx="986040" cy="1349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 Рабочая тетрадь к учебнику географии «Земля - планета людей» "/>
          <p:cNvPicPr/>
          <p:nvPr/>
        </p:nvPicPr>
        <p:blipFill>
          <a:blip r:embed="rId6"/>
          <a:stretch/>
        </p:blipFill>
        <p:spPr>
          <a:xfrm>
            <a:off x="6281640" y="3564000"/>
            <a:ext cx="1101960" cy="1395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 Уроки географии в 7-м классе по учебнику «Земля – планета людей». Методические рекомендации для учителя "/>
          <p:cNvPicPr/>
          <p:nvPr/>
        </p:nvPicPr>
        <p:blipFill>
          <a:blip r:embed="rId7"/>
          <a:stretch/>
        </p:blipFill>
        <p:spPr>
          <a:xfrm>
            <a:off x="6327720" y="5049720"/>
            <a:ext cx="952560" cy="1495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 География (6-й класс). «Мир Земли» "/>
          <p:cNvPicPr/>
          <p:nvPr/>
        </p:nvPicPr>
        <p:blipFill>
          <a:blip r:embed="rId8"/>
          <a:stretch/>
        </p:blipFill>
        <p:spPr>
          <a:xfrm>
            <a:off x="3537000" y="2168640"/>
            <a:ext cx="933480" cy="1238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 Рабочая тетрадь к учебнику географии для 6-го класса «Мир Земли» "/>
          <p:cNvPicPr/>
          <p:nvPr/>
        </p:nvPicPr>
        <p:blipFill>
          <a:blip r:embed="rId9"/>
          <a:stretch/>
        </p:blipFill>
        <p:spPr>
          <a:xfrm>
            <a:off x="3446640" y="3473280"/>
            <a:ext cx="1180800" cy="14954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7316640" y="5364000"/>
            <a:ext cx="1619280" cy="520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ические рекомендац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чебник «Земля и люди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3" descr="nat_5cl1"/>
          <p:cNvPicPr/>
          <p:nvPr/>
        </p:nvPicPr>
        <p:blipFill>
          <a:blip r:embed="rId1"/>
          <a:stretch/>
        </p:blipFill>
        <p:spPr>
          <a:xfrm>
            <a:off x="324000" y="1484280"/>
            <a:ext cx="952200" cy="1247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geo_6cl1"/>
          <p:cNvPicPr/>
          <p:nvPr/>
        </p:nvPicPr>
        <p:blipFill>
          <a:blip r:embed="rId2"/>
          <a:stretch/>
        </p:blipFill>
        <p:spPr>
          <a:xfrm>
            <a:off x="5940360" y="5373720"/>
            <a:ext cx="952560" cy="12286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1835280" y="1844640"/>
            <a:ext cx="2663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Земли и жизни на н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4859280" y="1844640"/>
            <a:ext cx="4033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люди открывали землю и создавали карт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547640" y="2924280"/>
            <a:ext cx="324036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лавные события в жизни Земл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ем прошлое, а применяем – в настояще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5148360" y="2924280"/>
            <a:ext cx="32400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ория географических открыти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комство с карт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ографическая номенклатур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9" descr="bio_6cl1"/>
          <p:cNvPicPr/>
          <p:nvPr/>
        </p:nvPicPr>
        <p:blipFill>
          <a:blip r:embed="rId3"/>
          <a:stretch/>
        </p:blipFill>
        <p:spPr>
          <a:xfrm>
            <a:off x="2268360" y="5300640"/>
            <a:ext cx="952560" cy="1266840"/>
          </a:xfrm>
          <a:prstGeom prst="rect">
            <a:avLst/>
          </a:prstGeom>
          <a:ln w="0">
            <a:noFill/>
          </a:ln>
        </p:spPr>
      </p:pic>
      <p:sp>
        <p:nvSpPr>
          <p:cNvPr id="150" name="Line 10"/>
          <p:cNvSpPr/>
          <p:nvPr/>
        </p:nvSpPr>
        <p:spPr>
          <a:xfrm>
            <a:off x="2771640" y="4437000"/>
            <a:ext cx="0" cy="72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6372360" y="4653000"/>
            <a:ext cx="0" cy="649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324000" y="4797360"/>
            <a:ext cx="1726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едевтика биолог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7165800" y="4797360"/>
            <a:ext cx="1727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едевтика географ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жнейшие цели курса естествознания – преодоление дефицитов биологии и географ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05920" y="1988640"/>
            <a:ext cx="4140360" cy="112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1188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Противоречие биологии – провозглашение исторического подхода при отсутствие его последовательной реализаци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976640" y="4689360"/>
            <a:ext cx="4005360" cy="139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Цель – сформировать целостную картину освоения Земли и развития способов ее изображения на карте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932360" y="1989000"/>
            <a:ext cx="3960720" cy="134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Цель – сформировать целостную картину развития Земли и жизни на ней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250920" y="4734000"/>
            <a:ext cx="4006800" cy="148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Разрыв между историей в гуманитарном и естественнонаучном смыслах: история людей оказывается оторванной от истории природы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4346640" y="2394000"/>
            <a:ext cx="584280" cy="495360"/>
          </a:xfrm>
          <a:prstGeom prst="rightArrow">
            <a:avLst>
              <a:gd name="adj1" fmla="val 50000"/>
              <a:gd name="adj2" fmla="val 2948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4302000" y="5184720"/>
            <a:ext cx="584280" cy="495360"/>
          </a:xfrm>
          <a:prstGeom prst="rightArrow">
            <a:avLst>
              <a:gd name="adj1" fmla="val 50000"/>
              <a:gd name="adj2" fmla="val 2948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21:21:39Z</dcterms:created>
  <dc:creator>Вахрушев Шура</dc:creator>
  <dc:description/>
  <dc:language>en-US</dc:language>
  <cp:lastModifiedBy>LEGION</cp:lastModifiedBy>
  <dcterms:modified xsi:type="dcterms:W3CDTF">2014-12-29T08:43:59Z</dcterms:modified>
  <cp:revision>118</cp:revision>
  <dc:subject/>
  <dc:title>БИОЛОГИЯ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Документ</vt:lpwstr>
  </property>
  <property fmtid="{D5CDD505-2E9C-101B-9397-08002B2CF9AE}" pid="3" name="Муниципалитет">
    <vt:lpwstr/>
  </property>
</Properties>
</file>