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CA1A-DCEC-4CCB-95DC-8E03D42F72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глазами географ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0C53-9FD0-4D53-9AD7-1FECC5F4DF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обус не всегда был таким, как сейчас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телем первого глобуса был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мецкий географ Мартин  Бехай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было в 1492 году. Свою модель он назвал «земное яблок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глобус Бехай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личается от современного глобуса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нём не было Северной и Южной Америк, они не были откры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мере изучения Земли на глобусе появлялось все больше и больше географических объектов. Представьте себе, что вы отправляетесь в далекое путешествие по земному шару. Удобно ли вам будет в пути ориентироваться по глобус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т, глобусом в путешествии пользоваться неудоб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3C1E-8E54-4D82-AF97-CC49F22135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ути нужен другой помощник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географическая к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оторыми видами географических карт мы уже пользовались: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изическая карта России, Политическая карта мира, Экологическая к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ческая карта - это изображение Земли на бума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ческая карта - это условное изображение поверхности Земли на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E243-704B-4E14-96C3-463FC6C5FB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им глобус и карту полушарий. Что между ними общего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карте и на глобусе встречаются одни и те же цвета: синий, белый, коричневый, зеленый, желтый. На карте, и на глобусе указаны материки и океаны. На карте и на глобусе мы видим экватор, параллели и меридианы. Также  указаны Северный Полюс и Южный Полю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лобус - это целый шар, а на карте две полов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сем не случайно эту карту называют «Карта полушарий». «Половинки» - это полушария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падное полушарие и Восточное полушар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тите внимание на масштаб. Он нам показывает, сколько километров на местности соответствует одному сантиметру на кар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5A7C-BED1-4A46-8587-75DA83C0FD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геогра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учает территориальную организацию человеческ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5A0E-E68C-40FC-889E-E3C7EE98D8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я из уровня социально-экономического развития, страны мира сегодня принято подразделять на два типа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чески развит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вивающие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E24E-3EDF-495C-AE1A-61F9ACBDA7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география дает наиболее полные знания о природе, населении и хозяйстве того или иного региона нашей страны и мира в целом, она помогает прогнозировать и моделировать, те изменения природы, которые вызываются хозяйственной деятельностью людей. Без учета особенностей природы и населения нельзя определить политику развития региона. География обеспечивает контроль над состоянием природы, участвует в разработке системы мероприятий по борьбе с негативными последствиями воздействия человека на природу, дает прогнозы изменения и развития отдельных террито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D83C-E30A-4D6A-AD70-D98EA16F5C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 текст учебника стр.22-2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ить на вопросы стр.2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ься к те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C9F8-AB33-4AB1-B25C-4C17BD81B3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наукой, изучающей Землю, - географией; сформировать представление о глобусе и географической карте; закрепить умение работать с картой и глобусом; развивать умение наблюдать, сравнивать, анализировать, делать вы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4F59-00FE-4C17-AB68-72DD808088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мы посмотрим на окружающий нас мир глазами географов, узнаем, что такое география и что она изуч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F2B2-94DB-423E-B45B-EC1D957971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же такое география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наука о Земле. В переводе с греческого «география» означает «землеописание». Это слово образовалось из двух слов: «гео» - Земля и «графо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иш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телось бы добавить, что «гео» - это сокращение от «Гея» - так звали греческую богиню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как толкует слово «география» С.И. Ожего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наук, изучающих поверхность Земли с ее природными условиями, распределение на ней населения, экономическ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59AB-03DA-4453-8DB5-6D071790E1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то такие географы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 - специалист по ге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изучает география? Что же нам может объяснить  современная   география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графия изучает природу земной поверхности, население и его хозяйственн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объясняет,   почему Земля такая круглая, почему в одних районах лежит снег, а 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других — жаркое лето, почему в одних странах ловят рыбу, а в других добывают неф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изобретения человека помогают нам путешествовать по планете?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глобус и географическая к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01B6-7602-4DD7-A0B3-086180E95D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ую форму имеет глобус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лобус имеет форму шара, немного приплюснут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ую он имеет окраску?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глобусе есть синий, желтый, коричневый, зеленый, белый цвета. Си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да, желтый, коричневый, зеленый — суша, белый - л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глобус называют «мяч в сетке»?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Глобус покрыт линиями, будто сет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1255-6499-4B57-B069-CE9E8B8076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две точки глобуса остаются на месте при его враще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вращении на месте остаются полюса: северный и юж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вы скажете о линиях, расположенных горизонта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ризонтальные линии разные по длине, у полюсов это маленькие коле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называют «главный пояс Земли»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Главный пояс земли» - эквато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вы скажете о вертикальных лин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ртикальные линии соединяются в одну точку на полю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EF29-3235-4EEA-B312-39AE3231F0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линия на глобусе имеет, свое название. Вы уже сказали, что «главный пояс Земли» - это экватор, его еще называют «самая длинная параллель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A6C1-5776-4E9B-923E-E76E732E65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же называют остальные горизонтальные линии? Как они расположены друг относительно  дру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нии расположены паралл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их можно назвать?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аралл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тикальные линии, соединяющие полюса, называются меридианами. На глобусе указаны материки и океаны. Четыре океана на земном шар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Тихий, Атлантический ,Индийский и Северный Ледовит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вы можете сказать о матери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териков шесть: Евразия, Африка, Австралия, Антарктида, Северная Америка, Южная Амер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C838-BF69-4D4C-A4E8-EA1FCC1A82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196-4752-4614-B4AD-6FCCD435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C97-F8F5-4706-901D-F505BA93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A09-09B4-474A-88C0-A328562C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8DA-4305-41AF-8841-6A410CA5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581A1-D91C-41B6-8D73-ECC57387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FFFA7-3011-495D-8A72-BBA760A8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42BA4-668B-4B46-90DA-114DD0D3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E11A6-296D-4ED7-BC09-E4E96F3D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45371-EB03-49F8-9D34-880F43D2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2E144-3601-41CD-9597-90C35BFF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BCCA7-523C-4905-A401-56BE1B1B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676-B264-4F90-99B8-16D5AFB1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33B14-6BDC-46F6-9D33-8CB6C6E8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B7C23-B026-46E5-81F6-78E51153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579A9-F0A9-43F7-A68A-C2DF7214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C1A7D-D2E6-434C-A1FC-8B55A850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634B9-14DC-4778-B819-7E3FE0B9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2D7-4559-4979-96A6-3795220E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E44-919C-47EC-9973-4A7AAB5B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698-B115-4823-9BAF-9D961BE4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92E-9E0E-4E57-8AF0-A29C892C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0FF-1AC4-4EEB-8224-EA6F3E1A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22C-9BE7-4692-8E68-C0ED0500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A9F-CA4D-44A1-B529-963D1920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214E-504E-419A-AAE3-1AD6E6FC7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ECC8-3A1C-4E1B-9B2B-49E02A28B9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ир глазами географа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j0301252"/>
          <p:cNvPicPr/>
          <p:nvPr/>
        </p:nvPicPr>
        <p:blipFill>
          <a:blip r:embed="rId1"/>
          <a:stretch/>
        </p:blipFill>
        <p:spPr>
          <a:xfrm>
            <a:off x="4500720" y="1843200"/>
            <a:ext cx="4032000" cy="4149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4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лобус не всегда был таким, как сейчас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телем первого глобуса бы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ецкий географ Мартин  Бехай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Это было в 1492 году. Свою модель он назвал «земное яблок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м глобус Бехайм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личается от современного глобуса?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нём не было Северной и Южной Америк, они не были откры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мере изучения Земли на глобусе появлялось все больше и больше географических объектов. Представьте себе, что вы отправляетесь в далекое путешествие по земному шару. Удобно ли вам будет в пути ориентироваться по глобусу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т, глобусом в путешествии пользоваться неудоб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5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ути нужен другой помощник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Это географическая ка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которыми видами географических карт мы уже пользовались: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изическая карта России, Политическая карта мира, Экологическая ка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еографическая карта - это изображение Земли на бумаг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еографическая карта - это условное изображение поверхности Земли на плоск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7" descr="geo-small"/>
          <p:cNvPicPr/>
          <p:nvPr/>
        </p:nvPicPr>
        <p:blipFill>
          <a:blip r:embed="rId1"/>
          <a:stretch/>
        </p:blipFill>
        <p:spPr>
          <a:xfrm>
            <a:off x="4356000" y="1484280"/>
            <a:ext cx="4608720" cy="42498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5.1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авним глобус и карту полушарий. Что между ними общего?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карте и на глобусе встречаются одни и те же цвета: синий, белый, коричневый, зеленый, желтый. На карте, и на глобусе указаны материки и океаны. На карте и на глобусе мы видим экватор, параллели и меридианы. Также  указаны Северный Полюс и Южный Полю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лобус - это целый шар, а на карте две половин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сем не случайно эту карту называют «Карта полушарий». «Половинки» - это полушария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падное полушарие и Восточное полушар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тите внимание на масштаб. Он нам показывает, сколько километров на местности соответствует одному сантиметру на карт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6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кономическая географ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зучает территориальную организацию человеческого обще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7" descr="j0251301"/>
          <p:cNvPicPr/>
          <p:nvPr/>
        </p:nvPicPr>
        <p:blipFill>
          <a:blip r:embed="rId1"/>
          <a:stretch/>
        </p:blipFill>
        <p:spPr>
          <a:xfrm>
            <a:off x="3924360" y="1843200"/>
            <a:ext cx="4535280" cy="40050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ходя из уровня социально-экономического развития, страны мира сегодня принято подразделять на два типа: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экономически развиты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ны 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звивающиес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н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олько география дает наиболее полные знания о природе, населении и хозяйстве того или иного региона нашей страны и мира в целом, она помогает прогнозировать и моделировать, те изменения природы, которые вызываются хозяйственной деятельностью людей. Без учета особенностей природы и населения нельзя определить политику развития региона. География обеспечивает контроль над состоянием природы, участвует в разработке системы мероприятий по борьбе с негативными последствиями воздействия человека на природу, дает прогнозы изменения и развития отдельных территор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8" descr="j0285360"/>
          <p:cNvPicPr/>
          <p:nvPr/>
        </p:nvPicPr>
        <p:blipFill>
          <a:blip r:embed="rId1"/>
          <a:stretch/>
        </p:blipFill>
        <p:spPr>
          <a:xfrm>
            <a:off x="4572000" y="1484280"/>
            <a:ext cx="4248000" cy="460872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итать  текст учебника стр.22-2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ить на вопросы стр.2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ться к тес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ель работы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накомить с наукой, изучающей Землю, - географией; сформировать представление о глобусе и географической карте; закрепить умение работать с картой и глобусом; развивать умение наблюдать, сравнивать, анализировать, делать выво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егодня мы посмотрим на окружающий нас мир глазами географов, узнаем, что такое география и что она изучает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11" descr="polit-map-small"/>
          <p:cNvPicPr/>
          <p:nvPr/>
        </p:nvPicPr>
        <p:blipFill>
          <a:blip r:embed="rId1"/>
          <a:stretch/>
        </p:blipFill>
        <p:spPr>
          <a:xfrm>
            <a:off x="755640" y="3357720"/>
            <a:ext cx="7488360" cy="24476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же такое география?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то наука о Земле. В переводе с греческого «география» означает «землеописание». Это слово образовалось из двух слов: «гео» - Земля и «графо»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иш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телось бы добавить, что «гео» - это сокращение от «Гея» - так звали греческую богиню Зем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как толкует слово «география» С.И. Ожег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еография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лекс наук, изучающих поверхность Земли с ее природными условиями, распределение на ней населения, экономических ресур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1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то такие географы?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еограф - специалист по географ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изучает география? Что же нам может объяснить  современная   география?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графия изучает природу земной поверхности, население и его хозяйственную деятельн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еография объясняет,   почему Земля такая круглая, почему в одних районах лежит снег, а 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других — жаркое лето, почему в одних странах ловят рыбу, а в других добывают неф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ие изобретения человека помогают нам путешествовать по планете?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Это глобус и географическая кар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ую форму имеет глобус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лобус имеет форму шара, немного приплюснут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ую он имеет окраску? Почем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 глобусе есть синий, желтый, коричневый, зеленый, белый цвета. Синий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да, желтый, коричневый, зеленый — суша, белый - л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ему глобус называют «мяч в сетке»?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Глобус покрыт линиями, будто сет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е две точки глобуса остаются на месте при его вращен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вращении на месте остаются полюса: северный и юж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вы скажете о линиях, расположенных горизонтальн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оризонтальные линии разные по длине, у полюсов это маленькие коле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азывают «главный пояс Земли»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Главный пояс земли» - экватор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вы скажете о вертикальных линия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ртикальные линии соединяются в одну точку на полюс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MG-85-ATEv0"/>
          <p:cNvPicPr/>
          <p:nvPr/>
        </p:nvPicPr>
        <p:blipFill>
          <a:blip r:embed="rId1"/>
          <a:stretch/>
        </p:blipFill>
        <p:spPr>
          <a:xfrm>
            <a:off x="4932360" y="692280"/>
            <a:ext cx="3743280" cy="518472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ая линия на глобусе имеет, свое название. Вы уже сказали, что «главный пояс Земли» - это экватор, его еще называют «самая длинная параллель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же называют остальные горизонтальные линии? Как они расположены друг относительно  друг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инии расположены параллель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их можно назвать?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аралл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тикальные линии, соединяющие полюса, называются меридианами. На глобусе указаны материки и океаны. Четыре океана на земном шар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: Тихий, Атлантический ,Индийский и Северный Ледовит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вы можете сказать о материка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териков шесть: Евразия, Африка, Австралия, Антарктида, Северная Америка, Южная Аме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7" descr="clip_image005"/>
          <p:cNvPicPr/>
          <p:nvPr/>
        </p:nvPicPr>
        <p:blipFill>
          <a:blip r:embed="rId1"/>
          <a:stretch/>
        </p:blipFill>
        <p:spPr>
          <a:xfrm>
            <a:off x="4500720" y="476280"/>
            <a:ext cx="4248000" cy="51847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24:07Z</dcterms:created>
  <dc:creator>оля</dc:creator>
  <dc:description/>
  <dc:language>en-US</dc:language>
  <cp:lastModifiedBy>LEGION</cp:lastModifiedBy>
  <dcterms:modified xsi:type="dcterms:W3CDTF">2014-12-29T09:26:03Z</dcterms:modified>
  <cp:revision>8</cp:revision>
  <dc:subject/>
  <dc:title>Мир глазами географа!</dc:title>
</cp:coreProperties>
</file>