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wmf" ContentType="image/x-wmf"/>
  <Override PartName="/ppt/media/image19.wmf" ContentType="image/x-wmf"/>
  <Override PartName="/ppt/media/image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DD87-4493-411D-B4DA-52D48AB0EA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СПОЛЬ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  К  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НА    УРО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Г Е О Г Р А Ф И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9E91-253D-4F34-A8D6-0B7A679B7C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Этапы   внедрения   ИКТ</a:t>
            </a:r>
            <a:r>
              <a:rPr b="0" lang="en-US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d20000"/>
                </a:solidFill>
                <a:latin typeface="Times New Roman"/>
                <a:ea typeface="Times New Roman"/>
              </a:rPr>
              <a:t>на   уроках    ГЕОГРА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оение компьютера, работа с готовыми электронными изданиями, дисками, создание презентаций учителем  и учащимися, как демонстрационный, иллюстративный материал. </a:t>
            </a: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( 2004-2005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наглядного материала по темам, изменение презентаций в сторону контроля, практики, отработки умений и навыков ( создание и решение тестовых заданий) </a:t>
            </a: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(2005-2006 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электронных приложений к новым учебникам изд. «СФЕРЫ», использование ИНТЕРНЕТА  на уроках, как источника различной информации – текстовой и иллюстративной, использование прямого  подключения  ко всемирной сети на уроке для новостей, виртуальных экскурсий, решения  тестов ОН-ЛАЙН </a:t>
            </a: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(2006-2007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оение интерактивной дос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ITACHY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спользование её внутреннего ресурса, создания своих шаблонов, создание сборно-разборных презентаций, слайдов, интегрированных уроков с учителями английского языка, химии, биологии </a:t>
            </a: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(2007-2008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программы «Живая география», вновь поступивших «интерактивных  географических карт». Классификация накопленного материала, при подготовке к экзаменам и к ЕГЭ по географии </a:t>
            </a: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(2008-2009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2478-7433-4F75-A68C-CCA936AD28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ff"/>
                </a:solidFill>
                <a:latin typeface="Arial"/>
                <a:ea typeface="Arial"/>
              </a:rPr>
              <a:t>Новое  на  уроках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uk-UA" sz="1200" spc="-1" strike="noStrike">
                <a:solidFill>
                  <a:srgbClr val="00ff00"/>
                </a:solidFill>
                <a:latin typeface="Arial"/>
                <a:ea typeface="Arial"/>
              </a:rPr>
              <a:t>ГЕОГРА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1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рактивная доск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использование готовых дисков, программ, построение и создание нового)                                                                </a:t>
            </a: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2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рнет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(поиск различной информации – текстового и иллюстративного характера, решение тестов при подготовке к ЕГЭ                                         </a:t>
            </a: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3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Использовани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вых учебников                       изд. «СФЕР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27D1-050C-4BCC-8F94-8EE62B869A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ff"/>
                </a:solidFill>
                <a:latin typeface="Arial"/>
                <a:ea typeface="Arial"/>
              </a:rPr>
              <a:t>Создание  нов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2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ЕРЕВОД ТАБЛИЧНОЙ ИНФОРМАЦИИ В КАРТОГРАФИЧЕСК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ЗДАНИЕ СБОРНО-РАЗБОРНОГО «КОНСТРУКТОРА».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Учащиеся расставляют табличные данные в знаках  на страны, показывая фактические знания, умение сравнивать, знание  географической номенклату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вершенно новый уровень работы освоили старшеклассники (10-11 кл.)  Используя табличные данные  по любой теме они создают новые электронные пособия  -сборно-разборные картограммы, картосхемы ( по простому конструкторы), которые в последствии используются на уроках другими поколениями для отработки какого-либо навы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A7F7-7590-467E-8318-E1B53E4E78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рактивная доск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позволяет быстро строить различные  схемы, рисунки, объясняющие природные  процессы. При этом используются  ресурсы доски: готовые фигуры, изменение цвета, различные линии, картинки, шаблоны. Это все развивает творческий потенциал учащихся. Повышает интерес к предм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14F0-59F3-4531-8C1E-3017893ABF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РЕЗУЛЬТАТ</a:t>
            </a: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СПОЛЬЗОВАНИЯ</a:t>
            </a: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  К  Т</a:t>
            </a: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НА    УРОКАХ</a:t>
            </a: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НА    УРО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4E5C-E908-4707-AC43-418E5CAEE6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стущее количество учащихся, желающих сдавать географию, как экзамен по выбору, говорит о том, что  ребята более уверены в своих знаниях. Это тоже результат внедрения И К Т на уроках геогра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C485-EBFF-416B-9BE7-C3A8F6D95D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Централизованное  тестирование  по  географии   2005-2006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d20000"/>
                </a:solidFill>
                <a:latin typeface="Calibri"/>
              </a:rPr>
              <a:t>9 классы                                                               11 кла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ало -13 че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писало 16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5» - 1 чел.                                                                     «5»-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4» – 8                                                                            «4» -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3» - 4                                                                            «3» -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2» - 0                                                                            «2» 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знаний 69 %                                      качество знаний – 94%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певаемость 100%                                          успеваемость – 94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3343-898E-41FB-B791-35A177D527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C701-8EF7-4084-B3BF-0E9DC8E1D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515B-7534-4ED8-A838-49CF4479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01FC-4C6D-4DF2-BB1C-4F8EA17DC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2A1A-C0A2-4D1E-A710-F59E01FA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380C-D985-45A6-8196-EA4A7802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3EF1-8CBC-4DA1-AE76-7A5F7FE5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B786-08C0-4FD9-8634-F9F5A8EF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86F0-97D3-427C-B0C3-CCAB07DC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0C76-2D8B-4581-BB6B-973A8A39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FE19-674F-4598-840F-BF1244C6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F2F9-50E9-4886-9F6B-92556357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2CB4-1043-4F99-B8B8-F5754F1D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CE10-F50D-4CDD-9CD2-92FCB65B03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5.jpe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595520" y="728640"/>
            <a:ext cx="6145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ПОЛЬЗОВАНИЕ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3227400" y="1701720"/>
            <a:ext cx="25938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 К  Т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2171880" y="4618080"/>
            <a:ext cx="470520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   УРОКАХ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1789200" y="5751360"/>
            <a:ext cx="6337080" cy="6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 Е О Г Р А Ф И И 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Picture 6" descr="img008"/>
          <p:cNvPicPr/>
          <p:nvPr/>
        </p:nvPicPr>
        <p:blipFill>
          <a:blip r:embed="rId9"/>
          <a:stretch/>
        </p:blipFill>
        <p:spPr>
          <a:xfrm>
            <a:off x="2652840" y="2511360"/>
            <a:ext cx="3828960" cy="18781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3516480" y="135000"/>
            <a:ext cx="27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ОУ № 4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1143000" y="0"/>
            <a:ext cx="6705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Этапы   внедрения   ИК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1905120" y="685800"/>
            <a:ext cx="5305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d2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  уроках    ГЕОГРАФИИ</a:t>
            </a:r>
            <a:endParaRPr b="0" lang="en-US" sz="1800" spc="1" strike="noStrike">
              <a:ln w="0">
                <a:noFill/>
              </a:ln>
              <a:solidFill>
                <a:srgbClr val="d2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52280" y="1143000"/>
            <a:ext cx="8991720" cy="60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воение компьютера, работа с готовыми электронными изданиями, дисками, создание презентаций учителем  и учащимися, как демонстрационный, иллюстративный материал. </a:t>
            </a: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( 2004-2005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опление наглядного материала по темам, изменение презентаций в сторону контроля, практики, отработки умений и навыков ( создание и решение тестовых заданий) </a:t>
            </a: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(2005-2006 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электронных приложений к новым учебникам изд. «СФЕРЫ», использование ИНТЕРНЕТА  на уроках, как источника различной информации – текстовой и иллюстративной, использование прямого  подключения  ко всемирной сети на уроке для новостей, виртуальных экскурсий, решения  тестов ОН-ЛАЙН </a:t>
            </a: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(2006-2007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воение интерактивной дос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ITACH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спользование её внутреннего ресурса, создания своих шаблонов, создание сборно-разборных презентаций, слайдов, интегрированных уроков с учителями английского языка, химии, биологии </a:t>
            </a: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(2007-2008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программы «Живая география», вновь поступивших «интерактивных  географических карт». Классификация накопленного материала, при подготовке к экзаменам и к ЕГЭ по географии </a:t>
            </a: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(2008-2009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d2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IMG_0012"/>
          <p:cNvPicPr/>
          <p:nvPr/>
        </p:nvPicPr>
        <p:blipFill>
          <a:blip r:embed="rId1"/>
          <a:stretch/>
        </p:blipFill>
        <p:spPr>
          <a:xfrm>
            <a:off x="0" y="0"/>
            <a:ext cx="4251240" cy="318924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60" name="Picture 6" descr="IMG_0025"/>
          <p:cNvPicPr/>
          <p:nvPr/>
        </p:nvPicPr>
        <p:blipFill>
          <a:blip r:embed="rId2"/>
          <a:stretch/>
        </p:blipFill>
        <p:spPr>
          <a:xfrm>
            <a:off x="4740120" y="3554280"/>
            <a:ext cx="4403880" cy="330372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61" name="Picture 7" descr="IMG_0037"/>
          <p:cNvPicPr/>
          <p:nvPr/>
        </p:nvPicPr>
        <p:blipFill>
          <a:blip r:embed="rId3"/>
          <a:stretch/>
        </p:blipFill>
        <p:spPr>
          <a:xfrm>
            <a:off x="0" y="3541680"/>
            <a:ext cx="4419720" cy="331632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sp>
        <p:nvSpPr>
          <p:cNvPr id="62" name="WordArt 9"/>
          <p:cNvSpPr txBox="1"/>
          <p:nvPr/>
        </p:nvSpPr>
        <p:spPr>
          <a:xfrm>
            <a:off x="4476600" y="0"/>
            <a:ext cx="466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овое  на  урока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3" name="WordArt 10"/>
          <p:cNvSpPr txBox="1"/>
          <p:nvPr/>
        </p:nvSpPr>
        <p:spPr>
          <a:xfrm>
            <a:off x="5334120" y="609480"/>
            <a:ext cx="27813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ГЕОГРАФ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4191120" y="914400"/>
            <a:ext cx="4952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1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терактивная доск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(использование готовых дисков, программ, построение и создание нового)                                                                </a:t>
            </a: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2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(поиск различной информации – текстового и иллюстративного характера, решение тестов при подготовке к ЕГЭ                                         </a:t>
            </a: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3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Использовани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овых учебников                       изд. «СФЕР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IMG_0053"/>
          <p:cNvPicPr/>
          <p:nvPr/>
        </p:nvPicPr>
        <p:blipFill>
          <a:blip r:embed="rId1"/>
          <a:stretch/>
        </p:blipFill>
        <p:spPr>
          <a:xfrm>
            <a:off x="0" y="0"/>
            <a:ext cx="4648320" cy="348768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67" name="Picture 5" descr="IMG_0054"/>
          <p:cNvPicPr/>
          <p:nvPr/>
        </p:nvPicPr>
        <p:blipFill>
          <a:blip r:embed="rId2"/>
          <a:stretch/>
        </p:blipFill>
        <p:spPr>
          <a:xfrm>
            <a:off x="4664160" y="3497400"/>
            <a:ext cx="4479840" cy="336060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sp>
        <p:nvSpPr>
          <p:cNvPr id="68" name="Text Box 6"/>
          <p:cNvSpPr/>
          <p:nvPr/>
        </p:nvSpPr>
        <p:spPr>
          <a:xfrm>
            <a:off x="152280" y="3657600"/>
            <a:ext cx="4267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вершенно новый уровень работы освоили старшеклассники (10-11 кл.)  Используя табличные данные  по любой теме они создают новые электронные пособия  -сборно-разборные картограммы, картосхемы ( по простому конструкторы), которые в последствии используются на уроках другими поколениями для отработки какого-либо нав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4724280" y="914400"/>
            <a:ext cx="457200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20000"/>
                </a:solidFill>
                <a:latin typeface="Arial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ЕРЕВОД ТАБЛИЧНОЙ ИНФОРМАЦИИ В КАРТОГРАФИЧЕСКУ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20000"/>
                </a:solidFill>
                <a:latin typeface="Arial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ОЗДАНИЕ СБОРНО-РАЗБОРНОГО «КОНСТРУКТОРА».          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Учащиеся расставляют табличные данные в знаках  на страны, показывая фактические знания, умение сравнивать, знание  географической номенклатур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8"/>
          <p:cNvSpPr txBox="1"/>
          <p:nvPr/>
        </p:nvSpPr>
        <p:spPr>
          <a:xfrm>
            <a:off x="5029200" y="228600"/>
            <a:ext cx="3790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оздание  нов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IMG_0058"/>
          <p:cNvPicPr/>
          <p:nvPr/>
        </p:nvPicPr>
        <p:blipFill>
          <a:blip r:embed="rId1"/>
          <a:stretch/>
        </p:blipFill>
        <p:spPr>
          <a:xfrm>
            <a:off x="0" y="0"/>
            <a:ext cx="4419720" cy="331632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73" name="Picture 5" descr="IMG_0049"/>
          <p:cNvPicPr/>
          <p:nvPr/>
        </p:nvPicPr>
        <p:blipFill>
          <a:blip r:embed="rId2"/>
          <a:stretch/>
        </p:blipFill>
        <p:spPr>
          <a:xfrm>
            <a:off x="0" y="3486240"/>
            <a:ext cx="4495680" cy="3371760"/>
          </a:xfrm>
          <a:prstGeom prst="rect">
            <a:avLst/>
          </a:prstGeom>
          <a:ln w="28440">
            <a:solidFill>
              <a:srgbClr val="00ff00"/>
            </a:solidFill>
            <a:miter/>
          </a:ln>
        </p:spPr>
      </p:pic>
      <p:pic>
        <p:nvPicPr>
          <p:cNvPr id="74" name="Picture 6" descr="IMG_0069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316320"/>
          </a:xfrm>
          <a:prstGeom prst="rect">
            <a:avLst/>
          </a:prstGeom>
          <a:ln w="28440">
            <a:solidFill>
              <a:srgbClr val="00ff00"/>
            </a:solidFill>
            <a:miter/>
          </a:ln>
        </p:spPr>
      </p:pic>
      <p:sp>
        <p:nvSpPr>
          <p:cNvPr id="75" name="Text Box 7"/>
          <p:cNvSpPr/>
          <p:nvPr/>
        </p:nvSpPr>
        <p:spPr>
          <a:xfrm>
            <a:off x="4876920" y="3581280"/>
            <a:ext cx="403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терактивная доск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позволяет быстро строить различные  схемы, рисунки, объясняющие природные  процессы. При этом используются  ресурсы доски: готовые фигуры, изменение цвета, различные линии, картинки, шаблоны. Это все развивает творческий потенциал учащихся. Повышает интерес к предме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2"/>
          <p:cNvSpPr txBox="1"/>
          <p:nvPr/>
        </p:nvSpPr>
        <p:spPr>
          <a:xfrm>
            <a:off x="1595520" y="1646280"/>
            <a:ext cx="6145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ПОЛЬЗОВАНИЯ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WordArt 3"/>
          <p:cNvSpPr txBox="1"/>
          <p:nvPr/>
        </p:nvSpPr>
        <p:spPr>
          <a:xfrm>
            <a:off x="3421080" y="2349360"/>
            <a:ext cx="259236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 К  Т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2459160" y="5211720"/>
            <a:ext cx="470520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   УРОКАХ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1789200" y="5859360"/>
            <a:ext cx="633708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   УРОКАХ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Picture 6" descr="img008"/>
          <p:cNvPicPr/>
          <p:nvPr/>
        </p:nvPicPr>
        <p:blipFill>
          <a:blip r:embed="rId9"/>
          <a:stretch/>
        </p:blipFill>
        <p:spPr>
          <a:xfrm>
            <a:off x="2844720" y="3105000"/>
            <a:ext cx="3828960" cy="1879920"/>
          </a:xfrm>
          <a:prstGeom prst="rect">
            <a:avLst/>
          </a:prstGeom>
          <a:ln w="0">
            <a:noFill/>
          </a:ln>
        </p:spPr>
      </p:pic>
      <p:sp>
        <p:nvSpPr>
          <p:cNvPr id="82" name="WordArt 7"/>
          <p:cNvSpPr txBox="1"/>
          <p:nvPr/>
        </p:nvSpPr>
        <p:spPr>
          <a:xfrm>
            <a:off x="1690560" y="-243000"/>
            <a:ext cx="6626520" cy="12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ЗУЛЬТАТ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838080" y="0"/>
          <a:ext cx="7391520" cy="532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0"/>
                    <a:ext cx="7391520" cy="53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 Box 3"/>
          <p:cNvSpPr/>
          <p:nvPr/>
        </p:nvSpPr>
        <p:spPr>
          <a:xfrm>
            <a:off x="5867280" y="18288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 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33520" y="533412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стущее количество учащихся, желающих сдавать географию, как экзамен по выбору, говорит о том, что  ребята более уверены в своих знаниях. Это тоже результат внедрения И К Т на уроках ге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-707760" y="-44280"/>
            <a:ext cx="1104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Централизованное  тестирование  по  географии   2005-2006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2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d20000"/>
                </a:solidFill>
                <a:latin typeface="Arial"/>
              </a:rPr>
              <a:t>9 классы                                                               11 кл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ало -13 че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писало 16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5» - 1 чел.                                                                     «5»-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4» – 8                                                                            «4» -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3» - 4                                                                            «3» -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2» - 0                                                                            «2»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о знаний 69 %                                      качество знаний – 94%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певаемость 100%                                          успеваемость – 9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838080" y="609480"/>
            <a:ext cx="3353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334120" y="609480"/>
            <a:ext cx="35812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5"/>
          <p:cNvGraphicFramePr/>
          <p:nvPr/>
        </p:nvGraphicFramePr>
        <p:xfrm>
          <a:off x="152280" y="3017880"/>
          <a:ext cx="4267440" cy="297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017880"/>
                    <a:ext cx="42674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6"/>
          <p:cNvGraphicFramePr/>
          <p:nvPr/>
        </p:nvGraphicFramePr>
        <p:xfrm>
          <a:off x="4495680" y="3048120"/>
          <a:ext cx="4496040" cy="2728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3048120"/>
                    <a:ext cx="449604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7"/>
          <p:cNvSpPr/>
          <p:nvPr/>
        </p:nvSpPr>
        <p:spPr>
          <a:xfrm>
            <a:off x="1143000" y="4876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9%   9 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371600" y="3733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4%   11 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562720" y="2819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УСПЕВАЕ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5181480" y="38862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0%             9 к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6400800" y="472428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94%11 к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762120" y="2895480"/>
            <a:ext cx="3200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КАЧЕСТВО 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Object 2"/>
          <p:cNvGraphicFramePr/>
          <p:nvPr/>
        </p:nvGraphicFramePr>
        <p:xfrm>
          <a:off x="228600" y="380880"/>
          <a:ext cx="8534520" cy="621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80880"/>
                    <a:ext cx="8534520" cy="621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2-29T10:54:42Z</dcterms:modified>
  <cp:revision>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