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DA9B-5229-49BF-91A0-FA48C1234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Г Е О Г Р А Ф 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8634-700C-4D01-BD8A-573858DE8C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Этапы   внедрения   ИКТ</a:t>
            </a:r>
            <a:r>
              <a:rPr b="0" lang="en-US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на   уроках   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 2004-200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5-2006 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6-200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интерактивной дос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ITACH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7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8-200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6D1-7438-4A27-84E0-B5776ED253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Новое  на  уроках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00ff00"/>
                </a:solidFill>
                <a:latin typeface="Arial"/>
                <a:ea typeface="Arial"/>
              </a:rPr>
              <a:t>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3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спользов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ых учебников                       изд. «СФЕР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BE6F-81CF-4409-80DD-6EED31D78A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ОД ТАБЛИЧНОЙ ИНФОРМАЦИИ В КАРТОГРАФИЧЕСК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СБОРНО-РАЗБОРНОГО «КОНСТРУКТОРА».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7D9-33CF-4A9B-8DD9-B1F4AC9183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B68F-701F-464E-8F2B-A1A4CB3425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Я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E93A-7A34-423F-AE10-127DE0EC2E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4769-583F-4A67-8F33-8E2C66E2D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Централизованное  тестирование  по  географии   2005-2006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9 классы                                                               11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ло -13 че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писало 16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- 1 чел.                                                                     «5»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8                                                                            «4»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- 4                                                                            «3» 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- 0                                                                            «2»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знаний 69 %                                      качество знаний – 94%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ваемость 100%                                          успеваемость – 9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04E1-FD26-4D5C-BB83-ABA5907A18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C36-9D6B-4999-A246-3124CADB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E8A-FF98-4375-A6CD-B1A66785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0C4-7C86-4B97-8B0B-E503166F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1D4-6C64-448F-BB1B-413A4E0B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E33-26D1-4B04-8856-08E8BDEA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BFB-33EB-409E-BB77-F4796F8F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64A-AB1A-4495-8513-C7AF392E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4D4-4668-4408-945B-74D5D314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430-573B-493B-A109-6A1CC02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D92-BCA0-4301-ACAB-2BA8C2CC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354-6887-4F30-B944-1F2B0102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CE8-AA4C-4D24-8257-2F3A595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3E36-4EBA-41DF-9AA1-E1F898817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5.jpe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95520" y="72864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Е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227400" y="1701720"/>
            <a:ext cx="25938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171880" y="4618080"/>
            <a:ext cx="4705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89200" y="5751360"/>
            <a:ext cx="63370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О Г Р А Ф И И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img008"/>
          <p:cNvPicPr/>
          <p:nvPr/>
        </p:nvPicPr>
        <p:blipFill>
          <a:blip r:embed="rId9"/>
          <a:stretch/>
        </p:blipFill>
        <p:spPr>
          <a:xfrm>
            <a:off x="2652840" y="2511360"/>
            <a:ext cx="3828960" cy="1878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516480" y="1350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У № 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43000" y="0"/>
            <a:ext cx="670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  внедрения   ИК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905120" y="68580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d2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 уроках    ГЕОГРАФИИ</a:t>
            </a:r>
            <a:endParaRPr b="0" lang="en-US" sz="1800" spc="1" strike="noStrike">
              <a:ln w="0">
                <a:noFill/>
              </a:ln>
              <a:solidFill>
                <a:srgbClr val="d2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52280" y="1143000"/>
            <a:ext cx="899172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 2004-200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5-2006 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6-200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интерактивной дос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TACH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7-200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8-2009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d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G_0012"/>
          <p:cNvPicPr/>
          <p:nvPr/>
        </p:nvPicPr>
        <p:blipFill>
          <a:blip r:embed="rId1"/>
          <a:stretch/>
        </p:blipFill>
        <p:spPr>
          <a:xfrm>
            <a:off x="0" y="0"/>
            <a:ext cx="4251240" cy="3189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0" name="Picture 6" descr="IMG_0025"/>
          <p:cNvPicPr/>
          <p:nvPr/>
        </p:nvPicPr>
        <p:blipFill>
          <a:blip r:embed="rId2"/>
          <a:stretch/>
        </p:blipFill>
        <p:spPr>
          <a:xfrm>
            <a:off x="4740120" y="3554280"/>
            <a:ext cx="4403880" cy="3303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1" name="Picture 7" descr="IMG_0037"/>
          <p:cNvPicPr/>
          <p:nvPr/>
        </p:nvPicPr>
        <p:blipFill>
          <a:blip r:embed="rId3"/>
          <a:stretch/>
        </p:blipFill>
        <p:spPr>
          <a:xfrm>
            <a:off x="0" y="354168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2" name="WordArt 9"/>
          <p:cNvSpPr txBox="1"/>
          <p:nvPr/>
        </p:nvSpPr>
        <p:spPr>
          <a:xfrm>
            <a:off x="4476600" y="0"/>
            <a:ext cx="466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овое  на  урока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5334120" y="609480"/>
            <a:ext cx="2781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ГЕОГРА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191120" y="91440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спользов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ых учебников                       изд. «СФЕ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_0053"/>
          <p:cNvPicPr/>
          <p:nvPr/>
        </p:nvPicPr>
        <p:blipFill>
          <a:blip r:embed="rId1"/>
          <a:stretch/>
        </p:blipFill>
        <p:spPr>
          <a:xfrm>
            <a:off x="0" y="0"/>
            <a:ext cx="4648320" cy="34876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7" name="Picture 5" descr="IMG_0054"/>
          <p:cNvPicPr/>
          <p:nvPr/>
        </p:nvPicPr>
        <p:blipFill>
          <a:blip r:embed="rId2"/>
          <a:stretch/>
        </p:blipFill>
        <p:spPr>
          <a:xfrm>
            <a:off x="4664160" y="3497400"/>
            <a:ext cx="4479840" cy="33606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152280" y="3657600"/>
            <a:ext cx="426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724280" y="914400"/>
            <a:ext cx="45720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ВОД ТАБЛИЧНОЙ ИНФОРМАЦИИ В КАРТОГРАФИЧЕСК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ЗДАНИЕ СБОРНО-РАЗБОРНОГО «КОНСТРУКТОРА».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5029200" y="228600"/>
            <a:ext cx="37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здание  нов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0058"/>
          <p:cNvPicPr/>
          <p:nvPr/>
        </p:nvPicPr>
        <p:blipFill>
          <a:blip r:embed="rId1"/>
          <a:stretch/>
        </p:blipFill>
        <p:spPr>
          <a:xfrm>
            <a:off x="0" y="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73" name="Picture 5" descr="IMG_0049"/>
          <p:cNvPicPr/>
          <p:nvPr/>
        </p:nvPicPr>
        <p:blipFill>
          <a:blip r:embed="rId2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74" name="Picture 6" descr="IMG_0069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31632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75" name="Text Box 7"/>
          <p:cNvSpPr/>
          <p:nvPr/>
        </p:nvSpPr>
        <p:spPr>
          <a:xfrm>
            <a:off x="4876920" y="35812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595520" y="164628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3421080" y="2349360"/>
            <a:ext cx="2592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459160" y="5211720"/>
            <a:ext cx="47052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789200" y="5859360"/>
            <a:ext cx="63370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6" descr="img008"/>
          <p:cNvPicPr/>
          <p:nvPr/>
        </p:nvPicPr>
        <p:blipFill>
          <a:blip r:embed="rId9"/>
          <a:stretch/>
        </p:blipFill>
        <p:spPr>
          <a:xfrm>
            <a:off x="2844720" y="3105000"/>
            <a:ext cx="3828960" cy="187992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1690560" y="-243000"/>
            <a:ext cx="662652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838080" y="0"/>
          <a:ext cx="739152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3915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"/>
          <p:cNvSpPr/>
          <p:nvPr/>
        </p:nvSpPr>
        <p:spPr>
          <a:xfrm>
            <a:off x="586728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5334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707760" y="-44280"/>
            <a:ext cx="1104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нтрализованное  тестирование  по  географии   2005-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9 классы                                                               11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о -13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писало 1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5» - 1 чел.                                                                     «5»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4» – 8                                                                            «4» -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3» - 4                                                                            «3» 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2» - 0                                                                            «2»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знаний 69 %                                      качество знаний – 94%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ваемость 100%                                          успеваемость – 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38080" y="609480"/>
            <a:ext cx="3353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4120" y="609480"/>
            <a:ext cx="35812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152280" y="3017880"/>
          <a:ext cx="426744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17880"/>
                    <a:ext cx="4267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4495680" y="3048120"/>
          <a:ext cx="4496040" cy="27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048120"/>
                    <a:ext cx="449604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7"/>
          <p:cNvSpPr/>
          <p:nvPr/>
        </p:nvSpPr>
        <p:spPr>
          <a:xfrm>
            <a:off x="11430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9%   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371600" y="3733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4%   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62720" y="2819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181480" y="3886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%             9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40080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4%11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762120" y="289548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ЧЕСТВО 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228600" y="380880"/>
          <a:ext cx="8534520" cy="621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53452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0:54:4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