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E534-C889-4A60-AC91-67229881E2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ernard MT Condensed"/>
              </a:rPr>
              <a:t>Использование ИКТ на уроках географ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голюбова Евгения Михайловна, учитель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У сош №3 г.Нелид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D44F-1A9F-48E9-8A85-7E298953FE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 u="sng">
                <a:solidFill>
                  <a:srgbClr val="660066"/>
                </a:solidFill>
                <a:uFillTx/>
                <a:latin typeface="Calibri"/>
              </a:rPr>
              <a:t>Эпифит</a:t>
            </a:r>
            <a:r>
              <a:rPr b="0" i="1" lang="ru-RU" sz="1200" spc="-1" strike="noStrike">
                <a:solidFill>
                  <a:srgbClr val="660066"/>
                </a:solidFill>
                <a:latin typeface="Calibri"/>
              </a:rPr>
              <a:t> — это какое-либо растение, которое произрастает на другом растении, при этом не получает от него никаких питательных веществ.</a:t>
            </a:r>
            <a:r>
              <a:rPr b="0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0F70-D614-4C36-8E65-ACBEAF929C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CECA-B6A6-4FAC-87F9-7D9F5713D8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80"/>
                </a:solidFill>
                <a:latin typeface="Calibri"/>
              </a:rPr>
              <a:t>Проверка домашнего зад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 переводе с греческого обозначает слово «география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является объектом изучения физической ге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дал название науке географ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впервые совершил кругосветное путешеств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утешественник исследовал Азию в течение 24 л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путешественник оставил после себя труд «Хождение за три моря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три моря он перес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первым открыл морской путь в Индию вокруг Афр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открыл Амери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ют эпоху открытий конц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172D-0262-4D79-A32B-1634473E8E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Проверь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000  - 3000 к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щность атм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8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держание азота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 граду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нижение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на каждый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1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держание кислорода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8 – 20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олщина тропосферы над эквато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0 – 55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ерхняя граница страт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FAD4-B16C-420B-897F-300D254F52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шение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ётчик поднялся на высоту 2 км. Каково атмосферное давление воздуха на этой высоте, если у поверхности Земли оно равнялось 750 мм рт. ст.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пределите, чему равна приблизительно относительная высота горной вершины, если у подошвы горы барометр показывает 740 мм, а на вершине 440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сота населённого пункта 2000 м над уровнем моря. Высчитайте атмосферное давление на этой выс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карте определите на какой высоте над уровнем моря находится наш населённый пункт? Высчитайте, какое атмосферное давление можно считать нормальным для наше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B7AC-4B1D-42C0-AA62-E9C8D2A9C8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нение ИКТ на уроках делает урок нетрадиционным, ярким, насыщенным, приводит к необходимости пересмотра различных способов подачи учебного материала и различных подходов в обучении. Но не следует забывать, что к информационным технологиям необходимо обращаться лишь в том случае, когда они обеспечивают более высокий уровень образовательного процесса на том или ином этапе обучения по сравнению с другими мет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заключении отмечу, что персональный компьютер сегодня одно из самых мощных и эффективных из всех существовавших до сих пор технических средств обучения, позволяющий заметно повысить качество усвоения информации и интерес к предмету, а также осуществлять интегративный подход в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1DC7-47B9-417C-AB42-F222C98F05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им из направлений модернизации системы  географического образования  является внедрение компьютерных технологий  и мультимеди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нение в обучении компьютера в сочетании с аудиовизуальными средствами принято называть «новыми  информационными технологиями в образован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оследние годы  система  образования в нашей стране  направлена не столько на усвоение суммы готовых знаний,  сколько  на формирование интеллектуальных умений, умений самостоятельной   познава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3158-87D1-46FB-A464-77D3946B57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нение информационных  компьютерных технологий на уроках географии не только облегчает усвоение учебного материала,  но и представляет новые возможности для  развития творческих  способностей 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овышает мотивацию учащихся к уче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активизирует познавательную деятель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вивает мышление и творческие способности ребёнка;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ормирует активную жизненную позицию в современном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57CE-1F57-446D-980B-3828339760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сновные формы работы с ИКТ на уроках  географии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е применение в учебном проце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КТ  для организации  самостоятельной работы  учащихся  по географии вне  школьных  зан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нформационных технологий для обеспечения познавательного дос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ы и учебные программы можно назвать универсальными  средствами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CD07-618E-43E4-AFE0-146790670A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рамм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ower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к урокам моим незаменимым помощником является приложени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Poin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ходящее в состав паке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 её помощью создаётся мультимедиа технология, которая позволяет объединить на одном носителе различные формы представления информации. Это приложение позволяет мне самостоятельно по собственному сценарию подготовить интерактивное мультимедийное пособие к уроку по любой теме с минимальными временными зат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E767-7589-4FCE-99FD-2BBB58D5E0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ется возможность использовать фотографии, слайды, музыкальные фрагменты, дикторский текст, видеоматериалы, компьютерную анимацию, структурированные тексты с иллюстрациями, использовать ссылки на сайты Интернет, а также не только выстраивать материал в виде последовательного изложения, но и создавать возможность нелинейного перемещения между различными частями уро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14F3-EC9C-4420-939D-A966FCC300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никален органический мир Байкала. В озере встречается около1500 видов животных и более 1000 видов растений, большая часть которых – водоро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70% обитателей озера –энде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D2BB-BBF5-407C-8B1A-9F20A12E08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иродоохранные мероприят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ято много постановлений правительства по рациональному использованию природных ресурсов и охране природы в бассейне Байкала, налаживается очистка промышленных и бытовых стоков, поступающих в озе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999 г принят даже специальный закон о Байка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бассейне Селенги установлен особый режим хозяйственной деятельности , направленный на уменьшение загрязнения реки и ее прит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бассейне Байкала созданы три заповедника и два национальных па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дача сохранения чистейших байкальских вод , его уникальной фауны должна стать задачей не только хозяйственников и правительства, но и всех жителей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B2DC-4BD2-4805-A6D2-E1FCF28494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4CF-23A0-4C53-BFE8-DD78DD80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3AA-570B-4162-BAC5-25DD4C68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5DE-C6C0-4048-93A2-40393002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3A2F-B909-423E-9B54-494E9EAE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42C-D820-4802-9161-52766865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575-7D01-48BF-95AC-A2D75EAF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285-8136-4D8D-97BB-5296C914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ED4-EAA2-4709-A0E8-E65307E8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F76-FC8C-4D04-ACE3-05394A34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7ADC-C57D-4B15-A913-D1B0AAAF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0C52-12D7-4FC2-B2E4-1D094FD2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9F6-C773-437E-99C9-18D050D6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99ccff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3655-7549-4555-958F-EE90F29087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a/Ombres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u.wikipedia.org/wiki/&#1060;&#1072;&#1081;&#1083;:Omul_Fish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ernard MT Condensed"/>
              </a:rPr>
              <a:t>Использование ИКТ на уроках географи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1120" y="4952520"/>
            <a:ext cx="4690800" cy="14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голюбова Евгения Михайловна, учитель г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 сош №3 г.Нелид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 u="sng">
                <a:solidFill>
                  <a:srgbClr val="660066"/>
                </a:solidFill>
                <a:uFillTx/>
                <a:latin typeface="Arial"/>
              </a:rPr>
              <a:t>Эпифит</a:t>
            </a:r>
            <a:r>
              <a:rPr b="0" i="1" lang="ru-RU" sz="3200" spc="-1" strike="noStrike">
                <a:solidFill>
                  <a:srgbClr val="660066"/>
                </a:solidFill>
                <a:latin typeface="Arial"/>
              </a:rPr>
              <a:t> — это какое-либо растение, которое произрастает на другом растении, при этом не получает от него никаких питательных веществ.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Эпифиты"/>
          <p:cNvPicPr/>
          <p:nvPr/>
        </p:nvPicPr>
        <p:blipFill>
          <a:blip r:embed="rId1"/>
          <a:stretch/>
        </p:blipFill>
        <p:spPr>
          <a:xfrm>
            <a:off x="304920" y="304920"/>
            <a:ext cx="3733560" cy="5029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Эпифиты 12"/>
          <p:cNvPicPr/>
          <p:nvPr/>
        </p:nvPicPr>
        <p:blipFill>
          <a:blip r:embed="rId2"/>
          <a:stretch/>
        </p:blipFill>
        <p:spPr>
          <a:xfrm>
            <a:off x="4191120" y="304920"/>
            <a:ext cx="4724280" cy="4114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3733920" y="2514600"/>
            <a:ext cx="3676680" cy="417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800px-Victoria_amazonica_JPG01"/>
          <p:cNvPicPr/>
          <p:nvPr/>
        </p:nvPicPr>
        <p:blipFill>
          <a:blip r:embed="rId4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228600"/>
          <a:ext cx="9144000" cy="6689880"/>
        </p:xfrm>
        <a:graphic>
          <a:graphicData uri="http://schemas.openxmlformats.org/drawingml/2006/table">
            <a:tbl>
              <a:tblPr/>
              <a:tblGrid>
                <a:gridCol w="2611440"/>
                <a:gridCol w="1457280"/>
                <a:gridCol w="1692360"/>
                <a:gridCol w="1690560"/>
                <a:gridCol w="1692360"/>
              </a:tblGrid>
              <a:tr h="4597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точный ход темп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духа в разные сезоны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я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емя су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1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00"/>
                </a:solidFill>
                <a:latin typeface="Arial"/>
              </a:rPr>
              <a:t>Проверка домашнего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 переводе с греческого обозначает слово «география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является объектом изучения физической географ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дал название науке географ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впервые совершил кругосветное путешеств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путешественник исследовал Азию в течение 24 л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путешественник оставил после себя труд «Хождение за три моря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три моря он перес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первым открыл морской путь в Индию вокруг Афри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открыл Амери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зывают эпоху открытий конц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000  - 3000 к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щность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78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ние азота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6 граду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нижени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на каждый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1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ние кислорода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8 – 2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лщина тропосферы над эква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0 – 55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рхняя граница страт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ешение зада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ётчик поднялся на высоту 2 км. Каково атмосферное давление воздуха на этой высоте, если у поверхности Земли оно равнялось 750 мм рт. ст.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ите, чему равна приблизительно относительная высота горной вершины, если у подошвы горы барометр показывает 740 мм, а на вершине 440 м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ота населённого пункта 2000 м над уровнем моря. Высчитайте атмосферное давление на этой выс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карте определите на какой высоте над уровнем моря находится наш населённый пункт? Высчитайте, какое атмосферное давление можно считать нормальным для нашей мес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ение ИКТ на уроках делает урок нетрадиционным, ярким, насыщенным, приводит к необходимости пересмотра различных способов подачи учебного материала и различных подходов в обучении. Но не следует забывать, что к информационным технологиям необходимо обращаться лишь в том случае, когда они обеспечивают более высокий уровень образовательного процесса на том или ином этапе обучения по сравнению с другими мето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ключении отмечу, что персональный компьютер сегодня одно из самых мощных и эффективных из всех существовавших до сих пор технических средств обучения, позволяющий заметно повысить качество усвоения информации и интерес к предмету, а также осуществлять интегративный подход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им из направлений модернизации системы  географического образования  является внедрение компьютерных технологий  и мультимеди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ение в обучении компьютера в сочетании с аудиовизуальными средствами принято называть «новыми  информационными технологиями в образован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оследние годы  система  образования в нашей стране  направлена не столько на усвоение суммы готовых знаний,  сколько  на формирование интеллектуальных умений, умений самостоятельной   позна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ение информационных  компьютерных технологий на уроках географии не только облегчает усвоение учебного материала,  но и представляет новые возможности для  развития творческих  способностей  уча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вышает мотивацию учащихся к учени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активизирует познавательную деятель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звивает мышление и творческие способности ребёнка;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формирует активную жизненную позицию в современном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новные формы работы с ИКТ на уроках  географ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средственное применение в учебном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ИКТ  для организации  самостоятельной работы  учащихся  по географии вне  школьных  заня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информационных технологий для обеспечения познавательного дос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ы и учебные программы можно назвать универсальными  средствами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533520" y="83988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дготовке к урокам моим незаменимым помощником является прилож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ходящее в состав паке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 её помощью создаётся мультимедиа технология, которая позволяет объединить на одном носителе различные формы представления информации. Это приложение позволяет мне самостоятельно по собственному сценарию подготовить интерактивное мультимедийное пособие к уроку по любой теме с минимальными временными затрат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вляется возможность использовать фотографии, слайды, музыкальные фрагменты, дикторский текст, видеоматериалы, компьютерную анимацию, структурированные тексты с иллюстрациями, использовать ссылки на сайты Интернет, а также не только выстраивать материал в виде последовательного изложения, но и создавать возможность нелинейного перемещения между различными частями ур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никален органический мир Байкала. В озере встречается около1500 видов животных и более 1000 видов растений, большая часть которых – водоро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70% обитателей озера –энде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так называемые маты, целебные водоросли, образующиеся в ручьях серо-водородных источников на Хойто-Гл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8610480" cy="6248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Водоросли в минерализованном притоке Кынгарг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152280"/>
            <a:ext cx="8763120" cy="6553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иродоохранные мероприят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нято много постановлений правительства по рациональному использованию природных ресурсов и охране природы в бассейне Байкала, налаживается очистка промышленных и бытовых стоков, поступающих в озе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1999 г принят даже специальный закон о Байка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бассейне Селенги установлен особый режим хозяйственной деятельности , направленный на уменьшение загрязнения реки и ее прит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бассейне Байкала созданы три заповедника и два национальных пар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а сохранения чистейших байкальских вод , его уникальной фауны должна стать задачей не только хозяйственников и правительства, но и всех жителей рег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Байкальский берег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00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4539"/>
          <p:cNvPicPr/>
          <p:nvPr/>
        </p:nvPicPr>
        <p:blipFill>
          <a:blip r:embed="rId2"/>
          <a:stretch/>
        </p:blipFill>
        <p:spPr>
          <a:xfrm>
            <a:off x="228600" y="15228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36796"/>
          <p:cNvPicPr/>
          <p:nvPr/>
        </p:nvPicPr>
        <p:blipFill>
          <a:blip r:embed="rId3"/>
          <a:stretch/>
        </p:blipFill>
        <p:spPr>
          <a:xfrm>
            <a:off x="228600" y="152280"/>
            <a:ext cx="8763120" cy="655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296153"/>
          <p:cNvPicPr/>
          <p:nvPr/>
        </p:nvPicPr>
        <p:blipFill>
          <a:blip r:embed="rId4"/>
          <a:stretch/>
        </p:blipFill>
        <p:spPr>
          <a:xfrm>
            <a:off x="228600" y="152280"/>
            <a:ext cx="8763120" cy="6553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310935"/>
          <p:cNvPicPr/>
          <p:nvPr/>
        </p:nvPicPr>
        <p:blipFill>
          <a:blip r:embed="rId5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310933"/>
          <p:cNvPicPr/>
          <p:nvPr/>
        </p:nvPicPr>
        <p:blipFill>
          <a:blip r:embed="rId6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72000" cy="289548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sp>
        <p:nvSpPr>
          <p:cNvPr id="76" name="Rectangle 3"/>
          <p:cNvSpPr/>
          <p:nvPr/>
        </p:nvSpPr>
        <p:spPr>
          <a:xfrm>
            <a:off x="228600" y="3734280"/>
            <a:ext cx="297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тарктиду называют -    Землей в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198948787__45"/>
          <p:cNvPicPr/>
          <p:nvPr/>
        </p:nvPicPr>
        <p:blipFill>
          <a:blip r:embed="rId2"/>
          <a:stretch/>
        </p:blipFill>
        <p:spPr>
          <a:xfrm>
            <a:off x="4114800" y="2971800"/>
            <a:ext cx="4782960" cy="3722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3_antarktida_25574"/>
          <p:cNvPicPr/>
          <p:nvPr/>
        </p:nvPicPr>
        <p:blipFill>
          <a:blip r:embed="rId3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29T11:17:4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