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D187-059A-4A4E-81C0-7E8020B7AB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оголюбова Евгения Михайловна, 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У сош №3 г.Нелид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DCAA-2272-480C-9207-CE4588CBB0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 u="sng">
                <a:solidFill>
                  <a:srgbClr val="660066"/>
                </a:solidFill>
                <a:uFillTx/>
                <a:latin typeface="Calibri"/>
              </a:rPr>
              <a:t>Эпифит</a:t>
            </a:r>
            <a:r>
              <a:rPr b="0" i="1" lang="ru-RU" sz="1200" spc="-1" strike="noStrike">
                <a:solidFill>
                  <a:srgbClr val="660066"/>
                </a:solidFill>
                <a:latin typeface="Calibri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AE8F-669C-4F9C-BB50-7A77575526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1D9F-883D-436C-AEC8-07CAC20436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80"/>
                </a:solidFill>
                <a:latin typeface="Calibri"/>
              </a:rPr>
              <a:t>Проверка домашнего зад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 переводе с греческого обозначает слово «географи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является объектом изучения физической ге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ал название науке географ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впервые совершил кругосветное путеше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утешественник исследовал Азию в течение 24 л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путешественник оставил после себя труд «Хождение за три моря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три моря он перес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первым открыл морской путь в Индию вокруг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Аме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ют эпоху открытий конц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DF7C-81F4-4EFB-8365-AD05DEF9D9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роверь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000  - 3000 к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щность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8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азот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 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нижени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на каждый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1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– 2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лщина тропосферы над экв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0 – 55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рхняя граница страт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3405-68A8-47DD-B594-53A6DFED2E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шение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9A7C-5562-4A0C-8B08-D90A476B65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3BEB-BCFC-4432-96A1-9CE7431BEE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4AFF-A409-4AE5-B0B1-369082A2DB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овышает мотивацию учащихся к 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ивизирует познавательную деятель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звивает мышление и творческие способности ребёнка;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ормирует активную жизненную позицию в современном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1F18-E2EB-47C6-B4BE-E2F1F37FBE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новные формы работы с ИКТ на уроках  географи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е применение в учеб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нформационных технологий для обеспечения познавательного дос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ы и учебные программы можно назвать универсальными  средствами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FE9-F054-4286-B38E-67164CDCEF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рамм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ower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к урокам моим незаменимым помощником является приложе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Poi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ходящее в состав паке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CC38-1F9C-4FD5-8F0B-E0A63F5BD2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A771-80F3-486B-A23D-69CF97C6B6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70% обитателей озера –энде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BD82-5CAF-4567-853D-1D47846C0C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родоохранные мероприят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1999 г принят даже специальный закон о Байка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бассейне Байкала созданы три заповедника и два национальных п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28EA-7C20-4D7F-BFB2-3EE6F29AD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CF2-F5F9-4018-9559-12299742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3208-269E-4D1C-9CBC-B74C72A8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D63-4B6E-4B54-94C5-D96BF2B9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BE5-79AB-4FD4-90D8-D39C9BC6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75C-407C-4493-AD5C-9074292C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255-576D-4947-97DC-62E9DE58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A70-CDB6-4319-BF18-5B04316F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08B-6E43-425B-9B6F-2FA4150C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2B8-3198-4205-9E9A-B4D248E7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7CC-013B-493A-A6AD-040C433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42F-8E33-4707-A910-67D51C6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724-0122-4AD5-AC71-8F38EAFD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99cc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C1DB-BF28-45F9-A128-63F3F3968C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Ombre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u.wikipedia.org/wiki/&#1060;&#1072;&#1081;&#1083;:Omul_Fish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ernard MT Condensed"/>
              </a:rPr>
              <a:t>Использование ИКТ на уроках географ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520"/>
            <a:ext cx="4690800" cy="14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оголюбова Евгения Михайловна, 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 сош №3 г.Нелид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Arial"/>
              </a:rPr>
              <a:t>Эпифит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 — это какое-либо растение, которое произрастает на другом растении, при этом не получает от него никаких питательных веществ.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Эпифиты"/>
          <p:cNvPicPr/>
          <p:nvPr/>
        </p:nvPicPr>
        <p:blipFill>
          <a:blip r:embed="rId1"/>
          <a:stretch/>
        </p:blipFill>
        <p:spPr>
          <a:xfrm>
            <a:off x="304920" y="304920"/>
            <a:ext cx="3733560" cy="5029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Эпифиты 12"/>
          <p:cNvPicPr/>
          <p:nvPr/>
        </p:nvPicPr>
        <p:blipFill>
          <a:blip r:embed="rId2"/>
          <a:stretch/>
        </p:blipFill>
        <p:spPr>
          <a:xfrm>
            <a:off x="4191120" y="30492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733920" y="2514600"/>
            <a:ext cx="3676680" cy="417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00px-Victoria_amazonica_JPG01"/>
          <p:cNvPicPr/>
          <p:nvPr/>
        </p:nvPicPr>
        <p:blipFill>
          <a:blip r:embed="rId4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228600"/>
          <a:ext cx="9144000" cy="6689880"/>
        </p:xfrm>
        <a:graphic>
          <a:graphicData uri="http://schemas.openxmlformats.org/drawingml/2006/table">
            <a:tbl>
              <a:tblPr/>
              <a:tblGrid>
                <a:gridCol w="2611440"/>
                <a:gridCol w="1457280"/>
                <a:gridCol w="1692360"/>
                <a:gridCol w="1690560"/>
                <a:gridCol w="1692360"/>
              </a:tblGrid>
              <a:tr h="4597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точный ход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духа в разные сезоны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ся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емя су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7f7ba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7f7ba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0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1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00"/>
                </a:solidFill>
                <a:latin typeface="Arial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в переводе с греческого обозначает слово «географи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является объектом изучения физической географ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дал название науке географ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впервые совершил кругосветное путеше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утешественник исследовал Азию в течение 24 л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путешественник оставил после себя труд «Хождение за три моря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три моря он перес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первым открыл морской путь в Индию вокруг Афри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открыл Амери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ют эпоху открытий кон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00  - 3000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щность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азот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 граду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ижени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на каждый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8 – 20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лщина тропосферы над экв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0 – 55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рхняя граница страт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ешение зада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ётчик поднялся на высоту 2 км. Каково атмосферное давление воздуха на этой высоте, если у поверхности Земли оно равнялось 750 мм рт. ст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, чему равна приблизительно относительная высота горной вершины, если у подошвы горы барометр показывает 740 мм, а на вершине 440 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сота населённого пункта 2000 м над уровнем моря. Высчитайте атмосферное давление на этой выс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карте определите на какой высоте над уровнем моря находится наш населённый пункт? Высчитайте, какое атмосферное давление можно считать нормальным для наше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е ИКТ на уроках делает урок нетрадиционным, ярким, насыщенным, приводит к необходимости пересмотра различных способов подачи учебного материала и различных подходов в обучении. Но не следует забывать, что к информационным технологиям необходимо обращаться лишь в том случае, когда они обеспечивают более высокий уровень образовательного процесса на том или ином этапе обучения по сравнению с другими мето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заключении отмечу, что персональный компьютер сегодня одно из самых мощных и эффективных из всех существовавших до сих пор технических средств обучения, позволяющий заметно повысить качество усвоения информации и интерес к предмету, а также осуществлять интегративный подход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направлений модернизации системы  географического образования  является внедрение компьютерных технологий  и мультимеди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в обучении компьютера в сочетании с аудиовизуальными средствами принято называть «новыми  информационными технологиями в образован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оследние годы  система  образования в нашей стране  направлена не столько на усвоение суммы готовых знаний,  сколько  на формирование интеллектуальных умений, умений самостоятельной   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 компьютерных технологий на уроках географии не только облегчает усвоение учебного материала,  но и представляет новые возможности для  развития творческих  способностей 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вышает мотивацию учащихся к учению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ктивизирует познавательную деятель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звивает мышление и творческие способности ребёнка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формирует активную жизненную позицию в современном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сновные формы работы с ИКТ на уроках  географ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е применение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КТ  для организации  самостоятельной работы  учащихся  по географии вне  школьных  зан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информационных технологий для обеспечения познавательного досу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ы и учебные программы можно назвать универсальными  средствами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533520" y="8398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дготовке к урокам моим незаменимым помощником является приложен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ходящее в состав паке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 её помощью создаётся мультимедиа технология, которая позволяет объединить на одном носителе различные формы представления информации. Это приложение позволяет мне самостоятельно по собственному сценарию подготовить интерактивное мультимедийное пособие к уроку по любой теме с минимальными временными затрат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является возможность использовать фотографии, слайды, музыкальные фрагменты, дикторский текст, видеоматериалы, компьютерную анимацию, структурированные тексты с иллюстрациями, использовать ссылки на сайты Интернет, а также не только выстраивать материал в виде последовательного изложения, но и создавать возможность нелинейного перемещения между различными частями ур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никален органический мир Байкала. В озере встречается около1500 видов животных и более 1000 видов растений, большая часть которых – водоро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70% обитателей озера –энде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так называемые маты, целебные водоросли, образующиеся в ручьях серо-водородных источников на Хойто-Гл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04920"/>
            <a:ext cx="8610480" cy="6248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Водоросли в минерализованном притоке Кынгарг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родоохранные меропри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о много постановлений правительства по рациональному использованию природных ресурсов и охране природы в бассейне Байкала, налаживается очистка промышленных и бытовых стоков, поступающих в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999 г принят даже специальный закон о Байка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Селенги установлен особый режим хозяйственной деятельности , направленный на уменьшение загрязнения реки и ее прит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бассейне Байкала созданы три заповедника и два национальных па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а сохранения чистейших байкальских вод , его уникальной фауны должна стать задачей не только хозяйственников и правительства, но и всех жителей рег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Байкальский берег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0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4539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36796"/>
          <p:cNvPicPr/>
          <p:nvPr/>
        </p:nvPicPr>
        <p:blipFill>
          <a:blip r:embed="rId3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296153"/>
          <p:cNvPicPr/>
          <p:nvPr/>
        </p:nvPicPr>
        <p:blipFill>
          <a:blip r:embed="rId4"/>
          <a:stretch/>
        </p:blipFill>
        <p:spPr>
          <a:xfrm>
            <a:off x="228600" y="152280"/>
            <a:ext cx="8763120" cy="6553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310935"/>
          <p:cNvPicPr/>
          <p:nvPr/>
        </p:nvPicPr>
        <p:blipFill>
          <a:blip r:embed="rId5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310933"/>
          <p:cNvPicPr/>
          <p:nvPr/>
        </p:nvPicPr>
        <p:blipFill>
          <a:blip r:embed="rId6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72000" cy="2895480"/>
          </a:xfrm>
          <a:prstGeom prst="rect">
            <a:avLst/>
          </a:prstGeom>
          <a:ln w="38160">
            <a:solidFill>
              <a:srgbClr val="0000cc"/>
            </a:solidFill>
            <a:miter/>
          </a:ln>
        </p:spPr>
      </p:pic>
      <p:sp>
        <p:nvSpPr>
          <p:cNvPr id="76" name="Rectangle 3"/>
          <p:cNvSpPr/>
          <p:nvPr/>
        </p:nvSpPr>
        <p:spPr>
          <a:xfrm>
            <a:off x="228600" y="3734280"/>
            <a:ext cx="297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тарктиду называют -    Землей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98948787__45"/>
          <p:cNvPicPr/>
          <p:nvPr/>
        </p:nvPicPr>
        <p:blipFill>
          <a:blip r:embed="rId2"/>
          <a:stretch/>
        </p:blipFill>
        <p:spPr>
          <a:xfrm>
            <a:off x="4114800" y="2971800"/>
            <a:ext cx="4782960" cy="3722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3_antarktida_25574"/>
          <p:cNvPicPr/>
          <p:nvPr/>
        </p:nvPicPr>
        <p:blipFill>
          <a:blip r:embed="rId3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1:17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