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2.jpeg" ContentType="image/jpeg"/>
  <Override PartName="/ppt/media/image21.jpeg" ContentType="image/jpeg"/>
  <Override PartName="/ppt/media/image18.jpeg" ContentType="image/jpeg"/>
  <Override PartName="/ppt/media/image17.jpeg" ContentType="image/jpeg"/>
  <Override PartName="/ppt/media/image12.gif" ContentType="image/gif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3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7.jpeg" ContentType="image/jpeg"/>
  <Override PartName="/ppt/media/image6.jpeg" ContentType="image/jpeg"/>
  <Override PartName="/ppt/media/image33.jpeg" ContentType="image/jpeg"/>
  <Override PartName="/ppt/media/image10.png" ContentType="image/png"/>
  <Override PartName="/ppt/media/image35.jpeg" ContentType="image/jpeg"/>
  <Override PartName="/ppt/media/image29.jpeg" ContentType="image/jpeg"/>
  <Override PartName="/ppt/media/image24.jpeg" ContentType="image/jpeg"/>
  <Override PartName="/ppt/media/image30.jpeg" ContentType="image/jpeg"/>
  <Override PartName="/ppt/media/image3.jpeg" ContentType="image/jpeg"/>
  <Override PartName="/ppt/media/image3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8.jpeg" ContentType="image/jpeg"/>
  <Override PartName="/ppt/media/image39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-216000" algn="r">
              <a:spcBef>
                <a:spcPts val="300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005D8-F8A7-438F-A44C-9A834BDA757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hyperlink" Target="http://www.uraledu.ru/files/&#1071;&#1087;&#1086;&#1085;&#1080;&#1103;-1.ppt" TargetMode="External"/><Relationship Id="rId2" Type="http://schemas.openxmlformats.org/officeDocument/2006/relationships/hyperlink" Target="http://www.uraledu.ru/files/&#1069;&#1092;&#1080;&#1086;&#1087;&#1080;&#1103;.ppt" TargetMode="External"/><Relationship Id="rId3" Type="http://schemas.openxmlformats.org/officeDocument/2006/relationships/hyperlink" Target="http://www.uraledu.ru/files/&#1056;&#1077;&#1089;&#1087;&#1091;&#1073;&#1083;&#1080;&#1082;&#1072;%20&#1050;&#1077;&#1085;&#1080;&#1103;.ppt" TargetMode="External"/><Relationship Id="rId4" Type="http://schemas.openxmlformats.org/officeDocument/2006/relationships/slide" Target="../slides/slide20.xml"/><Relationship Id="rId5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Учитель геогра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МОУ-Средняя общеобразов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школа №1 г.Арами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Calibri"/>
              </a:rPr>
              <a:t>Пятыгина Светлана Пет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4DED-494A-47DC-B3A8-23884AD1787E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Прием наложения слоёв карты</a:t>
            </a:r>
            <a:br>
              <a:rPr sz="1800"/>
            </a:b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актуален в курсе географии «Население и хозяйство России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выявить факторы размещения  предприятий черной металлургии (9 класс, тема: «География размещения предприятий чёрной металлургии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C749C-62A4-43D8-A046-016D80A4685E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грузоперевозок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6AA84-5A83-4660-9A65-8687D50E7EB2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специализированных кар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контроля знаний учащихс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онтальный опрос (проведение географических диктан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й  (ответ у дос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CCB2-27B6-4448-9766-4A155E5D9769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нтерактивной доски в работе с детьми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242E-A097-42BB-8B58-1BF840357C9E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Положительные моменты использования интерактивной доски при работе с учащимися с ограниченными возможностями здоров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D168-AD33-48A3-BF0E-4035F84EC60F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ение разных форм и методических приёмов при работе с электронной географической картой формирует у учащихся важнейшие географические умения  - картографическ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8F426-62F2-4BB2-921A-18BBD3EBD9C6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ктронны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и издательства «Кирилл и Мефод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грированный программный продукт «КМ-Школ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AE84-B8AC-4B5C-8609-C3892BD78762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ногие природные процессы и явления показаны в динамике, в виде  видеофрагментов, которые развивают образное мышление, формируют географические представления учащих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B302D-5A1C-4495-9CF1-5855905534C8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Интерактивные электронные карты, выпущенные издательством «Дрофа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B18B-2D3B-4E70-8ABC-D43FE083CA79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реда ИПП «КМ-Школ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добна для организации проектной работы учащихся.  Ученики получают возможность быстро найти необходимую информацию, оформить результаты самостоятельной групповой работы в виде презент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«Экономика и культура Японии»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1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«Страны Африк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7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D405-5A31-43F2-B4C3-A96C2EF9ECF1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аиллю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48068-09E6-42E4-A73A-7796E7556246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a10"/>
                </a:solidFill>
                <a:latin typeface="Calibri"/>
              </a:rPr>
              <a:t>Медиаобъекты и текстовые комментар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являются очень ценными при знакомстве с внешними характерными чертами изучаемых объек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54C0C-1980-44CE-B73E-721A601D6B85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ая доска  позволяет эффективно использовать в работе  электронные учебники «Начальный курс географии», «Наш – дом Земля», «География России», «Экономическая и социальная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еография мира»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3A957-427F-4F50-8046-3126EB650AC2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ые тренаж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2DB23-16B9-4F78-A33E-0AEE72CD2678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активные тренаже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F6D7-0227-41A2-94E3-3A2A47BC6C95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стирование по тем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C81DD-3DD1-4882-AE49-7EE96A55713B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активные карт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ACD22-7512-4989-A38F-89422880778F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Вывод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технологии позволяют ученикам  с интересом усваивать большой объем информации, урок становится более наглядным, разнообразным и увлекатель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9FBE-85EE-4772-BAAB-0252CAFA9FFF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ваивать новые возможности интерактивной доски при изучении географии чтобы повысить эффективность уро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60BE-3713-441D-A173-809D6DC8059E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Возможности наглядного пособия:</a:t>
            </a: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ближать участки земной поверхности для более детального рассмот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5712-C1F3-43B0-84F8-FF3E7A142428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Снимать часть обозначений, упрощая карту, делая её более наглядной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7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Тема «Схема поверхностных течений»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590D-BCFF-42D7-8D41-94F09927D3FB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Создавать рисунки,</a:t>
            </a:r>
            <a:br>
              <a:rPr sz="1600"/>
            </a:b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наносить надписи на карте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7 клас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ема : «Географическое положение Южной Америки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дание. Определить крайние точки материка Ю. Америка, определить географические координа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3061-1B51-4F31-B08B-558C9BBF3A92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a10"/>
                </a:solidFill>
                <a:latin typeface="Calibri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0" lang="ru-RU" sz="1800" spc="-1" strike="noStrike">
                <a:solidFill>
                  <a:srgbClr val="000a10"/>
                </a:solidFill>
                <a:latin typeface="Calibri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При изучении географического положения материков в 7 классе, учащиеся проводят меридианы и параллели, а затем, включив нужный слой, осуществляют самопроверку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DE694-B944-49DB-8D2A-357BA14E5A83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a10"/>
                </a:solidFill>
                <a:latin typeface="Calibri"/>
              </a:rPr>
              <a:t>Дополнительный иллюстративный  и текстовый материа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ет возможность  учащимся глубже понять содержание изучаемого объекта или территории, сравнить географические объек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1EF1A-96EF-4C37-B6E3-87A83AE7892D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a10"/>
                </a:solidFill>
                <a:latin typeface="Calibri"/>
              </a:rPr>
              <a:t>Комбинирование слоями позволяет выявить причинно-следственные связи и закономерности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 класс. Тема «Тектоника и минеральные ресурсы Росс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 сделать вывод о соответствии крупных форм рельефа определенным структурам земной ко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90000"/>
              </a:lnSpc>
              <a:spcBef>
                <a:spcPts val="300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86659-61F4-4FBC-AF43-3270029752A0}" type="slidenum">
              <a:rPr b="0" lang="uk-UA" sz="1200" spc="-1" strike="noStrike">
                <a:solidFill>
                  <a:srgbClr val="eaeaea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11CC-935F-48ED-AADF-7B83BD95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53C3-C965-4192-B126-4213C8BD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5B40-301E-4DE9-941C-1F5292A8F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C76-7FB2-484E-B82D-224E74320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43129F-D88E-44F8-B805-A3C7D9D5C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D4010-DC2C-46D4-A34E-74EF033AA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6CEE2B-A24D-4E80-A48A-EB685746F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E7F9C-11E0-4260-B016-FC020216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1B414A-0D8E-47FE-91C9-F2F747F2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2A7E7-E3FB-4D90-9FA1-E9B512273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8BD60F-3DBA-475E-8AD1-BD48C9E4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5E17-46DA-4AEF-90B0-F27E3691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A91E3C-396C-49EC-AD15-07E0F368E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4A0024-D5F1-43D1-870C-E79EB4276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88AD9-9742-4594-B844-D6C3792E5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58EF2-7418-4439-9EA9-27175C2C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5DB7F4-51D6-49BD-9434-2EA15AC4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9DE56-E3BE-4BE7-9AD4-65CBB6B9B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D0B7A-5666-4F51-8465-A0D1CD84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7B632-C7F4-4348-9138-AAD7A19BC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7BE6E-81F5-4BC2-A431-7FD89E10E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09F18-AD2A-443A-9053-1DCBF356B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24CF-1236-4BB0-820F-2DD37F3F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4B7E2-74CC-4020-ADDB-C4334185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54FD0-85DB-4075-8579-8F9EAA6D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7B108-0E0D-48DD-B909-44DC2F93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5E989-04B1-4B0C-A3A3-E64A9C94C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4CC76-2479-4F88-AB51-F3430648F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E53E0-C5DD-44BA-816C-F83F9EF63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AA8AD-78FC-4157-8CAC-F804CC53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BC547-C4EC-4712-B0A1-6A917710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78351-34AE-44FB-88BB-53D4BF29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2B0B1D-7613-4AEB-A0E8-20B1BFB0E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ED443-DB48-47F7-9C43-46941A99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6C62D-AB92-4A6E-9977-980DC82D4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92DA8-073E-4E6C-AE24-72B5670C2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F92DF-E5FB-4863-8482-2A79263D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69D22-0BC1-4A22-952E-2D70658D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AC6E46-43A0-4702-A970-79116998A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5030B3-B31B-42B6-9E7D-486BAC3C8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03BC9E-1551-4490-AB79-3D9BE679B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B3A10-9EC8-4800-81DC-5B703DB98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97C68-E895-4E4E-9F4F-5E24F92A5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B8572-93B5-4896-B82F-A1161741B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B98E-60F4-4444-859E-E7FFB15DB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4B638-5D73-4D52-8694-DCDA6C83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F8523-06D0-487A-A20E-AD34893AB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2C6ED3-1C9A-40C3-9624-71A41188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799C6-2823-4973-A0E2-D10D54F9A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BADC2-21FF-435E-8B63-F72A533D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BFA9D-489F-4994-9D10-419266D8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961B7-170C-4450-A17E-B18B0DB8B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176BE-0686-4787-B69A-DC8BDCB80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1AF5B-D0B7-4628-9A73-1705C0D2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F76B9E-7CF6-4B38-B72C-F0EC94F86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7ABB-249B-4509-97E5-F989C5EA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987C4D-EEB9-4155-8117-8F2C932D4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9DA9F-2E68-49A1-B0CA-3C682C5D8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5E0D0-7D04-4DDC-B4FC-561261316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C2964E-8F4E-440F-AF7E-0799B74C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6803C9-9AC7-4E82-A877-20691534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506EBE-2966-4FEA-93F6-A4EF324AC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F92C23-9DBE-4189-9EB2-76511CF2F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F83C23-B228-45EE-8D84-5ED6E582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A7EB8D-179D-42A0-ABD0-6F502F26D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105759-0D63-444F-A9F6-548E87922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AE1-3657-445C-A81B-6C691370D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B87F4-1764-484C-B0DB-CAFA3EFD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A12E91-ED89-4A37-A48D-24E7A533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3DD70-92C5-48DB-BF63-A7EF66946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650A-8DAE-4A27-B973-1C310051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F1D0-5F4F-49DD-994F-8829D187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2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8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5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6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7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8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9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0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1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2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44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47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0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1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2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3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4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5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56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57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0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1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2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3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64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A93B-4473-4D97-8006-3FA6B9C494E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53AB2-725B-41ED-AE0F-18B6511BB9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09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10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1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2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3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sp>
          <p:nvSpPr>
            <p:cNvPr id="115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116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117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58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159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60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1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2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3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4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5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6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7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8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69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0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171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72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3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4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5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6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7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8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79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0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1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2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3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4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5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6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7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8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89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190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91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2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3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4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5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6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7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8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199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0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1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2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3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4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5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6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07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208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209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0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1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2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3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4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15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16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217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18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19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20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055B-30CB-4AC9-98B8-7133A83129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4161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2" name="Group 2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263" name="Freeform 3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264" name="Group 4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265" name="Freeform 5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6" name="Freeform 6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7" name="Freeform 7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8" name="Freeform 8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69" name="Freeform 9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0" name="Freeform 10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1" name="Freeform 11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2" name="Freeform 12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3" name="Freeform 13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b82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4" name="Freeform 14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5" name="Freeform 15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6" name="Freeform 16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7" name="Freeform 17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8" name="Freeform 18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79" name="Freeform 19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0" name="Freeform 20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1" name="Freeform 21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2" name="Freeform 22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3" name="Freeform 23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56590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4" name="Freeform 24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5e86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5" name="Freeform 25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618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6" name="Freeform 26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9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7" name="Freeform 27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8" name="Freeform 28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289" name="Freeform 29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8587d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290" name="Group 30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1" name="Freeform 31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2" name="Freeform 32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3" name="Freeform 33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4" name="Freeform 34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5" name="Freeform 35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6" name="Freeform 36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7" name="Freeform 37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8" name="Freeform 38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299" name="Freeform 39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0" name="Freeform 40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1" name="Freeform 41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2" name="Freeform 42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3" name="Freeform 43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4" name="Freeform 44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5" name="Freeform 45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b4b6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306" name="Group 46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307" name="Freeform 47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08" name="Freeform 48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grpSp>
            <p:nvGrpSpPr>
              <p:cNvPr id="309" name="Group 49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310" name="Freeform 50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1" name="Freeform 51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2" name="Freeform 52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3" name="Freeform 53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4" name="Freeform 54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5" name="Freeform 55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6" name="Freeform 56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7" name="Freeform 57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318" name="Freeform 58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b4b6b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  <p:sp>
            <p:nvSpPr>
              <p:cNvPr id="319" name="Freeform 59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0" name="Freeform 60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1" name="Freeform 61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2" name="Freeform 62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3" name="Freeform 63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b4b6b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4" name="Freeform 64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5" name="Freeform 65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26" name="Freeform 66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0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11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6ADB-C89F-4418-B86B-64B003488CB5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6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7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37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sp>
          <p:nvSpPr>
            <p:cNvPr id="37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sp>
          <p:nvSpPr>
            <p:cNvPr id="37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</p:grp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DF42-5AC6-4087-9789-D366FBB3CC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8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19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spcBef>
                  <a:spcPts val="799"/>
                </a:spcBef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eaeaea"/>
                </a:solidFill>
                <a:latin typeface="Garamond"/>
              </a:endParaRPr>
            </a:p>
          </p:txBody>
        </p:sp>
        <p:grpSp>
          <p:nvGrpSpPr>
            <p:cNvPr id="420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21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2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3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4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5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6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7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8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29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0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1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32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433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4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5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6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7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8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39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0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1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2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3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4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5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6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7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8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49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0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51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52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3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4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5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6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7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8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59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0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1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2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3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4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5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6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7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68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buClr>
                    <a:srgbClr val="65b2ff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</p:grpSp>
        <p:grpSp>
          <p:nvGrpSpPr>
            <p:cNvPr id="469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470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1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2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3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4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5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sp>
            <p:nvSpPr>
              <p:cNvPr id="476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0000"/>
                  </a:lnSpc>
                  <a:spcBef>
                    <a:spcPts val="799"/>
                  </a:spcBef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eaeaea"/>
                  </a:solidFill>
                  <a:latin typeface="Garamond"/>
                </a:endParaRPr>
              </a:p>
            </p:txBody>
          </p:sp>
          <p:grpSp>
            <p:nvGrpSpPr>
              <p:cNvPr id="477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478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79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80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  <p:sp>
              <p:nvSpPr>
                <p:cNvPr id="481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lnSpc>
                      <a:spcPct val="90000"/>
                    </a:lnSpc>
                    <a:spcBef>
                      <a:spcPts val="799"/>
                    </a:spcBef>
                    <a:buClr>
                      <a:srgbClr val="65b2ff"/>
                    </a:buClr>
                    <a:buSzPct val="70000"/>
                    <a:buFont typeface="Wingdings" charset="2"/>
                    <a:buChar char="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200" spc="-1" strike="noStrike">
                    <a:solidFill>
                      <a:srgbClr val="eaeaea"/>
                    </a:solidFill>
                    <a:latin typeface="Garamond"/>
                  </a:endParaRPr>
                </a:p>
              </p:txBody>
            </p:sp>
          </p:grpSp>
        </p:grpSp>
      </p:grpSp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BDF77-65A2-4785-933F-866FD439215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uraledu.ru/files/&#1071;&#1087;&#1086;&#1085;&#1080;&#1103;-1.ppt" TargetMode="External"/><Relationship Id="rId2" Type="http://schemas.openxmlformats.org/officeDocument/2006/relationships/hyperlink" Target="http://www.uraledu.ru/files/&#1069;&#1092;&#1080;&#1086;&#1087;&#1080;&#1103;.ppt" TargetMode="External"/><Relationship Id="rId3" Type="http://schemas.openxmlformats.org/officeDocument/2006/relationships/hyperlink" Target="http://www.uraledu.ru/files/&#1056;&#1077;&#1089;&#1087;&#1091;&#1073;&#1083;&#1080;&#1082;&#1072;%20&#1050;&#1077;&#1085;&#1080;&#1103;.ppt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25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323640" y="3885840"/>
            <a:ext cx="3384360" cy="25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Учитель географии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МОУ-Средняя общеобразовательна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школа №1 г.Арамил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b2500"/>
                </a:solidFill>
                <a:latin typeface="Garamond"/>
              </a:rPr>
              <a:t>Пятыгина Светлана Петровна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1" name="Rectangle 5"/>
          <p:cNvSpPr/>
          <p:nvPr/>
        </p:nvSpPr>
        <p:spPr>
          <a:xfrm>
            <a:off x="684360" y="25560"/>
            <a:ext cx="7704000" cy="237924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a10"/>
                </a:solidFill>
                <a:latin typeface="Tahoma"/>
              </a:rPr>
              <a:t>Использование интерактивной доски Interwrite Board на уроках географии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32" name="Picture 0" descr="image002"/>
          <p:cNvPicPr/>
          <p:nvPr/>
        </p:nvPicPr>
        <p:blipFill>
          <a:blip r:embed="rId1"/>
          <a:stretch/>
        </p:blipFill>
        <p:spPr>
          <a:xfrm>
            <a:off x="3708360" y="2421000"/>
            <a:ext cx="5048280" cy="3790800"/>
          </a:xfrm>
          <a:prstGeom prst="rect">
            <a:avLst/>
          </a:prstGeom>
          <a:ln w="0">
            <a:noFill/>
          </a:ln>
        </p:spPr>
      </p:pic>
      <p:sp>
        <p:nvSpPr>
          <p:cNvPr id="533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a10"/>
                </a:solidFill>
                <a:latin typeface="Garamond"/>
              </a:rPr>
              <a:t>Прием наложения слоёв карты</a:t>
            </a:r>
            <a:br>
              <a:rPr sz="4000"/>
            </a:br>
            <a:r>
              <a:rPr b="1" lang="ru-RU" sz="4000" spc="-1" strike="noStrike">
                <a:solidFill>
                  <a:srgbClr val="000a10"/>
                </a:solidFill>
                <a:latin typeface="Garamond"/>
              </a:rPr>
              <a:t>актуален в курсе географии «Население и хозяйство России»</a:t>
            </a: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Задание: выявить факторы размещения  предприятий черной металлургии (9 класс, тема: «География размещения предприятий чёрной металлургии»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7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81" name="Text Box 12"/>
          <p:cNvSpPr/>
          <p:nvPr/>
        </p:nvSpPr>
        <p:spPr>
          <a:xfrm>
            <a:off x="826920" y="260280"/>
            <a:ext cx="6409080" cy="30708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a10"/>
                </a:solidFill>
                <a:latin typeface="Tahoma"/>
              </a:rPr>
              <a:t>География размещения угля и железной руды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82" name="Picture 0" descr="image002"/>
          <p:cNvPicPr/>
          <p:nvPr/>
        </p:nvPicPr>
        <p:blipFill>
          <a:blip r:embed="rId1"/>
          <a:stretch/>
        </p:blipFill>
        <p:spPr>
          <a:xfrm>
            <a:off x="324000" y="1303200"/>
            <a:ext cx="8496000" cy="4684680"/>
          </a:xfrm>
          <a:prstGeom prst="rect">
            <a:avLst/>
          </a:prstGeom>
          <a:ln w="0">
            <a:noFill/>
          </a:ln>
        </p:spPr>
      </p:pic>
      <p:sp>
        <p:nvSpPr>
          <p:cNvPr id="58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b2500"/>
                </a:solidFill>
                <a:latin typeface="Garamond"/>
              </a:rPr>
              <a:t>Направление грузоперевозок</a:t>
            </a: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85" name="Picture 1" descr="image002"/>
          <p:cNvPicPr/>
          <p:nvPr/>
        </p:nvPicPr>
        <p:blipFill>
          <a:blip r:embed="rId1"/>
          <a:stretch/>
        </p:blipFill>
        <p:spPr>
          <a:xfrm>
            <a:off x="1403280" y="1628640"/>
            <a:ext cx="6147000" cy="4602240"/>
          </a:xfrm>
          <a:prstGeom prst="rect">
            <a:avLst/>
          </a:prstGeom>
          <a:ln w="0">
            <a:noFill/>
          </a:ln>
        </p:spPr>
      </p:pic>
      <p:sp>
        <p:nvSpPr>
          <p:cNvPr id="58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88" name="Picture 1" descr="image002"/>
          <p:cNvPicPr/>
          <p:nvPr/>
        </p:nvPicPr>
        <p:blipFill>
          <a:blip r:embed="rId1"/>
          <a:stretch/>
        </p:blipFill>
        <p:spPr>
          <a:xfrm>
            <a:off x="900000" y="1268280"/>
            <a:ext cx="6840720" cy="5127840"/>
          </a:xfrm>
          <a:prstGeom prst="rect">
            <a:avLst/>
          </a:prstGeom>
          <a:ln w="0">
            <a:noFill/>
          </a:ln>
        </p:spPr>
      </p:pic>
      <p:sp>
        <p:nvSpPr>
          <p:cNvPr id="58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a69564"/>
                </a:solidFill>
                <a:latin typeface="Garamond"/>
              </a:rPr>
              <a:t>Использование специализированных карт</a:t>
            </a: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1042560" y="692280"/>
            <a:ext cx="7489800" cy="54036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Организация контроля знаний учащихся: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Фронтальный опрос (проведение географических диктантов)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-457200"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индивидуальный  (ответ у доски)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92" name="Picture 5" descr=""/>
          <p:cNvPicPr/>
          <p:nvPr/>
        </p:nvPicPr>
        <p:blipFill>
          <a:blip r:embed="rId1"/>
          <a:stretch/>
        </p:blipFill>
        <p:spPr>
          <a:xfrm>
            <a:off x="1763640" y="3357720"/>
            <a:ext cx="5904000" cy="3220920"/>
          </a:xfrm>
          <a:prstGeom prst="rect">
            <a:avLst/>
          </a:prstGeom>
          <a:ln w="0">
            <a:noFill/>
          </a:ln>
        </p:spPr>
      </p:pic>
      <p:sp>
        <p:nvSpPr>
          <p:cNvPr id="59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69564"/>
                </a:solidFill>
                <a:latin typeface="Garamond"/>
              </a:rPr>
              <a:t>Использование интерактивной доски в работе с детьми с ограниченными возможностями здоровья</a:t>
            </a: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95" name="Picture 4" descr="SPM_A0376"/>
          <p:cNvPicPr/>
          <p:nvPr/>
        </p:nvPicPr>
        <p:blipFill>
          <a:blip r:embed="rId1"/>
          <a:srcRect l="11118" t="0" r="0" b="0"/>
          <a:stretch/>
        </p:blipFill>
        <p:spPr>
          <a:xfrm>
            <a:off x="250920" y="170028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10"/>
          <p:cNvSpPr/>
          <p:nvPr/>
        </p:nvSpPr>
        <p:spPr>
          <a:xfrm>
            <a:off x="250920" y="5157720"/>
            <a:ext cx="3744720" cy="150876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Задание. Написать названия гор.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6 коррекционный класс. 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Тема «Горы»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97" name="Text Box 11"/>
          <p:cNvSpPr/>
          <p:nvPr/>
        </p:nvSpPr>
        <p:spPr>
          <a:xfrm>
            <a:off x="4572000" y="4941720"/>
            <a:ext cx="4032360" cy="217296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Задание. Впиши в клеточки название отраслей промышленности.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Garamond"/>
              </a:rPr>
              <a:t>7 коррекционный класс. Тема «Промышленность – основа хозяйства, её отрасли» </a:t>
            </a:r>
            <a:endParaRPr b="0" lang="en-US" sz="20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648320" y="3938760"/>
            <a:ext cx="4038480" cy="218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99" name="Picture 2" descr="image002"/>
          <p:cNvPicPr/>
          <p:nvPr/>
        </p:nvPicPr>
        <p:blipFill>
          <a:blip r:embed="rId2"/>
          <a:stretch/>
        </p:blipFill>
        <p:spPr>
          <a:xfrm>
            <a:off x="4498920" y="1700280"/>
            <a:ext cx="4645080" cy="2987640"/>
          </a:xfrm>
          <a:prstGeom prst="rect">
            <a:avLst/>
          </a:prstGeom>
          <a:ln w="0">
            <a:noFill/>
          </a:ln>
        </p:spPr>
      </p:pic>
      <p:sp>
        <p:nvSpPr>
          <p:cNvPr id="60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Положительные моменты использования интерактивной доски при работе с учащимися с ограниченными возможностями здоровья</a:t>
            </a: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4581360" y="1557360"/>
            <a:ext cx="45626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Способствует развитию контроля и самоконтроля учащихся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В процессе выполнения заданий развивается внимание, расширяется его объём и концентрация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Учащиеся овладевают простыми, но необходимыми приёмами зрительного и слухового запоминания, а также сохранения увиденного и услышанного в памяти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Закладываются любознательности, самостоятельности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Закладываются предпосылки для формирования компьютерной грамотности, для дальнейшей адоптации в социуме.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03" name="Picture 1" descr="image002"/>
          <p:cNvPicPr/>
          <p:nvPr/>
        </p:nvPicPr>
        <p:blipFill>
          <a:blip r:embed="rId1"/>
          <a:stretch/>
        </p:blipFill>
        <p:spPr>
          <a:xfrm>
            <a:off x="250920" y="1844640"/>
            <a:ext cx="4254480" cy="3670200"/>
          </a:xfrm>
          <a:prstGeom prst="rect">
            <a:avLst/>
          </a:prstGeom>
          <a:ln w="0">
            <a:noFill/>
          </a:ln>
        </p:spPr>
      </p:pic>
      <p:sp>
        <p:nvSpPr>
          <p:cNvPr id="60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a10"/>
                </a:solidFill>
                <a:latin typeface="Garamond"/>
              </a:rPr>
              <a:t>Вывод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solidFill>
            <a:srgbClr val="ffffe3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Применение разных форм и методических приёмов при работе с электронной географической картой формирует у учащихся важнейшие географические умения  - картографические.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07" name="Picture 1" descr="image002"/>
          <p:cNvPicPr/>
          <p:nvPr/>
        </p:nvPicPr>
        <p:blipFill>
          <a:blip r:embed="rId1"/>
          <a:stretch/>
        </p:blipFill>
        <p:spPr>
          <a:xfrm>
            <a:off x="4764240" y="1600200"/>
            <a:ext cx="3806640" cy="4525920"/>
          </a:xfrm>
          <a:prstGeom prst="rect">
            <a:avLst/>
          </a:prstGeom>
          <a:ln w="0">
            <a:noFill/>
          </a:ln>
        </p:spPr>
      </p:pic>
      <p:sp>
        <p:nvSpPr>
          <p:cNvPr id="60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Электронные ресурс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диски издательства «Кирилл и Мефодий»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интегрированный программный продукт «КМ-Школа»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11" name="Picture 1" descr="image002"/>
          <p:cNvPicPr/>
          <p:nvPr/>
        </p:nvPicPr>
        <p:blipFill>
          <a:blip r:embed="rId1"/>
          <a:stretch/>
        </p:blipFill>
        <p:spPr>
          <a:xfrm>
            <a:off x="4305240" y="1700280"/>
            <a:ext cx="2184480" cy="309708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3" descr="image002"/>
          <p:cNvPicPr/>
          <p:nvPr/>
        </p:nvPicPr>
        <p:blipFill>
          <a:blip r:embed="rId2"/>
          <a:stretch/>
        </p:blipFill>
        <p:spPr>
          <a:xfrm>
            <a:off x="6732720" y="1700280"/>
            <a:ext cx="2190600" cy="3097080"/>
          </a:xfrm>
          <a:prstGeom prst="rect">
            <a:avLst/>
          </a:prstGeom>
          <a:ln w="0">
            <a:noFill/>
          </a:ln>
        </p:spPr>
      </p:pic>
      <p:sp>
        <p:nvSpPr>
          <p:cNvPr id="613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Многие природные процессы и явления показаны в динамике, в виде  видеофрагментов, которые развивают образное мышление, формируют географические представления учащихся.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15" name="Picture 0" descr="image002"/>
          <p:cNvPicPr/>
          <p:nvPr/>
        </p:nvPicPr>
        <p:blipFill>
          <a:blip r:embed="rId1"/>
          <a:stretch/>
        </p:blipFill>
        <p:spPr>
          <a:xfrm>
            <a:off x="179280" y="4221000"/>
            <a:ext cx="5616720" cy="248472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" descr="image002"/>
          <p:cNvPicPr/>
          <p:nvPr/>
        </p:nvPicPr>
        <p:blipFill>
          <a:blip r:embed="rId2"/>
          <a:stretch/>
        </p:blipFill>
        <p:spPr>
          <a:xfrm>
            <a:off x="5651640" y="1557360"/>
            <a:ext cx="3492360" cy="2619360"/>
          </a:xfrm>
          <a:prstGeom prst="rect">
            <a:avLst/>
          </a:prstGeom>
          <a:ln w="0">
            <a:noFill/>
          </a:ln>
        </p:spPr>
      </p:pic>
      <p:sp>
        <p:nvSpPr>
          <p:cNvPr id="61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a10"/>
                </a:solidFill>
                <a:latin typeface="Garamond"/>
              </a:rPr>
              <a:t>Интерактивные электронные карты, выпущенные издательством «Дрофа»</a:t>
            </a:r>
            <a:br>
              <a:rPr sz="4000"/>
            </a:br>
            <a:endParaRPr b="1" lang="en-US" sz="4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452240" y="2876040"/>
            <a:ext cx="4870440" cy="324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36" name="Text Box 15"/>
          <p:cNvSpPr/>
          <p:nvPr/>
        </p:nvSpPr>
        <p:spPr>
          <a:xfrm>
            <a:off x="179280" y="4869000"/>
            <a:ext cx="4032360" cy="184788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Garamond"/>
              </a:rPr>
              <a:t>В школе накоплено 62 интерактивные карты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37" name="Picture 1" descr="image002"/>
          <p:cNvPicPr/>
          <p:nvPr/>
        </p:nvPicPr>
        <p:blipFill>
          <a:blip r:embed="rId1"/>
          <a:stretch/>
        </p:blipFill>
        <p:spPr>
          <a:xfrm>
            <a:off x="611280" y="1628640"/>
            <a:ext cx="1998720" cy="2808360"/>
          </a:xfrm>
          <a:prstGeom prst="rect">
            <a:avLst/>
          </a:prstGeom>
          <a:ln w="0">
            <a:noFill/>
          </a:ln>
        </p:spPr>
      </p:pic>
      <p:pic>
        <p:nvPicPr>
          <p:cNvPr id="538" name="Picture 3" descr="image002"/>
          <p:cNvPicPr/>
          <p:nvPr/>
        </p:nvPicPr>
        <p:blipFill>
          <a:blip r:embed="rId2"/>
          <a:stretch/>
        </p:blipFill>
        <p:spPr>
          <a:xfrm>
            <a:off x="3564000" y="1628640"/>
            <a:ext cx="1719360" cy="252108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4" descr="image002"/>
          <p:cNvPicPr/>
          <p:nvPr/>
        </p:nvPicPr>
        <p:blipFill>
          <a:blip r:embed="rId3"/>
          <a:stretch/>
        </p:blipFill>
        <p:spPr>
          <a:xfrm>
            <a:off x="6227640" y="1628640"/>
            <a:ext cx="1984320" cy="280836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Arial"/>
              </a:rPr>
              <a:t>Среда ИПП «КМ-Школы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удобна для организации проектной работы учащихся.  Ученики получают возможность быстро найти необходимую информацию, оформить результаты самостоятельной групповой работы в виде презентации: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1"/>
              </a:rPr>
              <a:t>«Экономика и культура Японии» </a:t>
            </a: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11 кла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2"/>
              </a:rPr>
              <a:t>«Страны Африки»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5b2ff"/>
                </a:solidFill>
                <a:uFillTx/>
                <a:latin typeface="Arial"/>
                <a:hlinkClick r:id="rId3"/>
              </a:rPr>
              <a:t>7 класс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20" name="Picture 1" descr="image002"/>
          <p:cNvPicPr/>
          <p:nvPr/>
        </p:nvPicPr>
        <p:blipFill>
          <a:blip r:embed="rId4"/>
          <a:stretch/>
        </p:blipFill>
        <p:spPr>
          <a:xfrm>
            <a:off x="4645080" y="1725480"/>
            <a:ext cx="4362480" cy="4583160"/>
          </a:xfrm>
          <a:prstGeom prst="rect">
            <a:avLst/>
          </a:prstGeom>
          <a:ln w="0">
            <a:noFill/>
          </a:ln>
        </p:spPr>
      </p:pic>
      <p:sp>
        <p:nvSpPr>
          <p:cNvPr id="621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Picture 2" descr="image002"/>
          <p:cNvPicPr/>
          <p:nvPr/>
        </p:nvPicPr>
        <p:blipFill>
          <a:blip r:embed="rId1"/>
          <a:stretch/>
        </p:blipFill>
        <p:spPr>
          <a:xfrm>
            <a:off x="2050920" y="1413000"/>
            <a:ext cx="3961080" cy="3133440"/>
          </a:xfrm>
          <a:prstGeom prst="rect">
            <a:avLst/>
          </a:prstGeom>
          <a:ln w="0">
            <a:noFill/>
          </a:ln>
        </p:spPr>
      </p:pic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solidFill>
            <a:srgbClr val="9900ff"/>
          </a:solidFill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Медиаиллюстра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eaeaea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25" name="Picture 0" descr="image002"/>
          <p:cNvPicPr/>
          <p:nvPr/>
        </p:nvPicPr>
        <p:blipFill>
          <a:blip r:embed="rId2"/>
          <a:stretch/>
        </p:blipFill>
        <p:spPr>
          <a:xfrm>
            <a:off x="0" y="3284640"/>
            <a:ext cx="2522520" cy="3573360"/>
          </a:xfrm>
          <a:prstGeom prst="rect">
            <a:avLst/>
          </a:prstGeom>
          <a:ln w="0">
            <a:noFill/>
          </a:ln>
        </p:spPr>
      </p:pic>
      <p:pic>
        <p:nvPicPr>
          <p:cNvPr id="626" name="Picture 4" descr="image002"/>
          <p:cNvPicPr/>
          <p:nvPr/>
        </p:nvPicPr>
        <p:blipFill>
          <a:blip r:embed="rId3"/>
          <a:stretch/>
        </p:blipFill>
        <p:spPr>
          <a:xfrm>
            <a:off x="3780000" y="3860640"/>
            <a:ext cx="5364000" cy="2532240"/>
          </a:xfrm>
          <a:prstGeom prst="rect">
            <a:avLst/>
          </a:prstGeom>
          <a:ln w="0">
            <a:noFill/>
          </a:ln>
        </p:spPr>
      </p:pic>
      <p:sp>
        <p:nvSpPr>
          <p:cNvPr id="627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29" name="Picture 1" descr="image002"/>
          <p:cNvPicPr/>
          <p:nvPr/>
        </p:nvPicPr>
        <p:blipFill>
          <a:blip r:embed="rId1"/>
          <a:stretch/>
        </p:blipFill>
        <p:spPr>
          <a:xfrm>
            <a:off x="539640" y="907920"/>
            <a:ext cx="3889440" cy="2917800"/>
          </a:xfrm>
          <a:prstGeom prst="rect">
            <a:avLst/>
          </a:prstGeom>
          <a:ln w="0">
            <a:noFill/>
          </a:ln>
        </p:spPr>
      </p:pic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64508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a10"/>
                </a:solidFill>
                <a:latin typeface="Arial"/>
              </a:rPr>
              <a:t>Медиаобъекты и текстовые комментарии</a:t>
            </a:r>
            <a:r>
              <a:rPr b="1" lang="ru-RU" sz="2800" spc="-1" strike="noStrike">
                <a:solidFill>
                  <a:srgbClr val="eaeaea"/>
                </a:solidFill>
                <a:latin typeface="Arial"/>
              </a:rPr>
              <a:t> являются очень ценными при знакомстве с внешними характерными чертами изучаемых объектов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631" name="Picture 7" descr="image002"/>
          <p:cNvPicPr/>
          <p:nvPr/>
        </p:nvPicPr>
        <p:blipFill>
          <a:blip r:embed="rId2"/>
          <a:stretch/>
        </p:blipFill>
        <p:spPr>
          <a:xfrm>
            <a:off x="455760" y="3960720"/>
            <a:ext cx="4037040" cy="2097360"/>
          </a:xfrm>
          <a:prstGeom prst="rect">
            <a:avLst/>
          </a:prstGeom>
          <a:ln w="0">
            <a:noFill/>
          </a:ln>
        </p:spPr>
      </p:pic>
      <p:sp>
        <p:nvSpPr>
          <p:cNvPr id="632" name="Місце для нижнього колонтитула 1"/>
          <p:cNvSpPr/>
          <p:nvPr/>
        </p:nvSpPr>
        <p:spPr>
          <a:xfrm>
            <a:off x="3124080" y="6242040"/>
            <a:ext cx="2895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Интерактивная доска  позволяет эффективно использовать в работе  электронные учебники «Начальный курс географии», «Наш – дом Земля», «География России», «Экономическая и социальная</a:t>
            </a: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ecff"/>
                </a:solidFill>
                <a:latin typeface="Arial"/>
              </a:rPr>
              <a:t>география мира».</a:t>
            </a: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34" name="Picture 1" descr="image002"/>
          <p:cNvPicPr/>
          <p:nvPr/>
        </p:nvPicPr>
        <p:blipFill>
          <a:blip r:embed="rId1"/>
          <a:stretch/>
        </p:blipFill>
        <p:spPr>
          <a:xfrm>
            <a:off x="179280" y="2997360"/>
            <a:ext cx="2808360" cy="256536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3" descr="image002"/>
          <p:cNvPicPr/>
          <p:nvPr/>
        </p:nvPicPr>
        <p:blipFill>
          <a:blip r:embed="rId2"/>
          <a:stretch/>
        </p:blipFill>
        <p:spPr>
          <a:xfrm>
            <a:off x="3132000" y="2276640"/>
            <a:ext cx="2880000" cy="26287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5" descr="image002"/>
          <p:cNvPicPr/>
          <p:nvPr/>
        </p:nvPicPr>
        <p:blipFill>
          <a:blip r:embed="rId3"/>
          <a:stretch/>
        </p:blipFill>
        <p:spPr>
          <a:xfrm>
            <a:off x="6294600" y="2924280"/>
            <a:ext cx="2849400" cy="2598480"/>
          </a:xfrm>
          <a:prstGeom prst="rect">
            <a:avLst/>
          </a:prstGeom>
          <a:ln w="0">
            <a:noFill/>
          </a:ln>
        </p:spPr>
      </p:pic>
      <p:sp>
        <p:nvSpPr>
          <p:cNvPr id="6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Arial"/>
              </a:rPr>
              <a:t>Интерактивные тренажеры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7"/>
          <p:cNvSpPr/>
          <p:nvPr/>
        </p:nvSpPr>
        <p:spPr>
          <a:xfrm>
            <a:off x="1116000" y="5661000"/>
            <a:ext cx="6624720" cy="970920"/>
          </a:xfrm>
          <a:prstGeom prst="rect">
            <a:avLst/>
          </a:prstGeom>
          <a:solidFill>
            <a:srgbClr val="99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buClr>
                <a:srgbClr val="99ff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8ae"/>
                </a:solidFill>
                <a:latin typeface="Garamond"/>
              </a:rPr>
              <a:t>Отработка умений и навыков у учащихся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41" name="Picture 1" descr="image002"/>
          <p:cNvPicPr/>
          <p:nvPr/>
        </p:nvPicPr>
        <p:blipFill>
          <a:blip r:embed="rId1"/>
          <a:stretch/>
        </p:blipFill>
        <p:spPr>
          <a:xfrm>
            <a:off x="900000" y="920880"/>
            <a:ext cx="6840720" cy="4518000"/>
          </a:xfrm>
          <a:prstGeom prst="rect">
            <a:avLst/>
          </a:prstGeom>
          <a:ln w="0">
            <a:noFill/>
          </a:ln>
        </p:spPr>
      </p:pic>
      <p:sp>
        <p:nvSpPr>
          <p:cNvPr id="6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Интерактивные тренажеры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644" name="Picture 1" descr="image002"/>
          <p:cNvPicPr/>
          <p:nvPr/>
        </p:nvPicPr>
        <p:blipFill>
          <a:blip r:embed="rId1"/>
          <a:stretch/>
        </p:blipFill>
        <p:spPr>
          <a:xfrm>
            <a:off x="324000" y="1341360"/>
            <a:ext cx="8604000" cy="4737240"/>
          </a:xfrm>
          <a:prstGeom prst="rect">
            <a:avLst/>
          </a:prstGeom>
          <a:ln w="0">
            <a:noFill/>
          </a:ln>
        </p:spPr>
      </p:pic>
      <p:sp>
        <p:nvSpPr>
          <p:cNvPr id="6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естирование по тема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324000" y="5805360"/>
            <a:ext cx="8424720" cy="9709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8ae"/>
                </a:solidFill>
                <a:latin typeface="Garamond"/>
              </a:rPr>
              <a:t>Возможность проверить усвоение учебного материала.</a:t>
            </a: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48" name="Picture 1" descr="image002"/>
          <p:cNvPicPr/>
          <p:nvPr/>
        </p:nvPicPr>
        <p:blipFill>
          <a:blip r:embed="rId1"/>
          <a:stretch/>
        </p:blipFill>
        <p:spPr>
          <a:xfrm>
            <a:off x="900000" y="836640"/>
            <a:ext cx="7559640" cy="4994280"/>
          </a:xfrm>
          <a:prstGeom prst="rect">
            <a:avLst/>
          </a:prstGeom>
          <a:ln w="0">
            <a:noFill/>
          </a:ln>
        </p:spPr>
      </p:pic>
      <p:sp>
        <p:nvSpPr>
          <p:cNvPr id="6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Arial"/>
              </a:rPr>
              <a:t>Интерактивные карты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51" name="Text Box 10"/>
          <p:cNvSpPr/>
          <p:nvPr/>
        </p:nvSpPr>
        <p:spPr>
          <a:xfrm>
            <a:off x="5919840" y="3443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52" name="Text Box 11"/>
          <p:cNvSpPr/>
          <p:nvPr/>
        </p:nvSpPr>
        <p:spPr>
          <a:xfrm>
            <a:off x="4356000" y="4292640"/>
            <a:ext cx="2880000" cy="368280"/>
          </a:xfrm>
          <a:prstGeom prst="rect">
            <a:avLst/>
          </a:prstGeom>
          <a:solidFill>
            <a:srgbClr val="000a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8ae"/>
                </a:solidFill>
                <a:latin typeface="Tahoma"/>
              </a:rPr>
              <a:t>11 класс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653" name="Text Box 12"/>
          <p:cNvSpPr/>
          <p:nvPr/>
        </p:nvSpPr>
        <p:spPr>
          <a:xfrm>
            <a:off x="324000" y="4292640"/>
            <a:ext cx="2519280" cy="368280"/>
          </a:xfrm>
          <a:prstGeom prst="rect">
            <a:avLst/>
          </a:prstGeom>
          <a:solidFill>
            <a:srgbClr val="000a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aeaea"/>
                </a:solidFill>
                <a:latin typeface="Tahoma"/>
              </a:rPr>
              <a:t>7 класс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654" name="Picture 1" descr="image002"/>
          <p:cNvPicPr/>
          <p:nvPr/>
        </p:nvPicPr>
        <p:blipFill>
          <a:blip r:embed="rId1"/>
          <a:stretch/>
        </p:blipFill>
        <p:spPr>
          <a:xfrm>
            <a:off x="179280" y="1052640"/>
            <a:ext cx="4038840" cy="302868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3" descr="image002"/>
          <p:cNvPicPr/>
          <p:nvPr/>
        </p:nvPicPr>
        <p:blipFill>
          <a:blip r:embed="rId2"/>
          <a:stretch/>
        </p:blipFill>
        <p:spPr>
          <a:xfrm>
            <a:off x="4356000" y="1052640"/>
            <a:ext cx="4470480" cy="3052800"/>
          </a:xfrm>
          <a:prstGeom prst="rect">
            <a:avLst/>
          </a:prstGeom>
          <a:ln w="0">
            <a:noFill/>
          </a:ln>
        </p:spPr>
      </p:pic>
      <p:sp>
        <p:nvSpPr>
          <p:cNvPr id="6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a10"/>
                </a:solidFill>
                <a:latin typeface="Garamond"/>
              </a:rPr>
              <a:t>Вывод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859280" y="1699920"/>
            <a:ext cx="396072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компьютерные технологии позволяют ученикам  с интересом усваивать большой объем информации, урок становится более наглядным, разнообразным и увлекательным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59" name="Picture 1" descr="image002"/>
          <p:cNvPicPr/>
          <p:nvPr/>
        </p:nvPicPr>
        <p:blipFill>
          <a:blip r:embed="rId1"/>
          <a:stretch/>
        </p:blipFill>
        <p:spPr>
          <a:xfrm>
            <a:off x="250920" y="1916280"/>
            <a:ext cx="4824360" cy="3625560"/>
          </a:xfrm>
          <a:prstGeom prst="rect">
            <a:avLst/>
          </a:prstGeom>
          <a:ln w="0">
            <a:noFill/>
          </a:ln>
        </p:spPr>
      </p:pic>
      <p:sp>
        <p:nvSpPr>
          <p:cNvPr id="6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69564"/>
                </a:solidFill>
                <a:latin typeface="Garamond"/>
              </a:rPr>
              <a:t>Задача: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1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b2500"/>
                </a:solidFill>
                <a:latin typeface="Garamond"/>
              </a:rPr>
              <a:t>осваивать новые возможности интерактивной доски при изучении географии чтобы повысить эффективность урока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663" name="Picture 1" descr="image002"/>
          <p:cNvPicPr/>
          <p:nvPr/>
        </p:nvPicPr>
        <p:blipFill>
          <a:blip r:embed="rId1"/>
          <a:stretch/>
        </p:blipFill>
        <p:spPr>
          <a:xfrm>
            <a:off x="4211640" y="1557360"/>
            <a:ext cx="4716360" cy="3530520"/>
          </a:xfrm>
          <a:prstGeom prst="rect">
            <a:avLst/>
          </a:prstGeom>
          <a:ln w="0">
            <a:noFill/>
          </a:ln>
        </p:spPr>
      </p:pic>
      <p:sp>
        <p:nvSpPr>
          <p:cNvPr id="66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Возможности наглядного пособия:</a:t>
            </a:r>
            <a:br>
              <a:rPr sz="3200"/>
            </a:b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6840" y="1599840"/>
            <a:ext cx="4032360" cy="412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b2500"/>
                </a:solidFill>
                <a:latin typeface="Garamond"/>
              </a:rPr>
              <a:t>приближать участки земной поверхности для более детального рассмотрения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43" name="Picture 1" descr="image002"/>
          <p:cNvPicPr/>
          <p:nvPr/>
        </p:nvPicPr>
        <p:blipFill>
          <a:blip r:embed="rId1"/>
          <a:stretch/>
        </p:blipFill>
        <p:spPr>
          <a:xfrm>
            <a:off x="4932360" y="1341360"/>
            <a:ext cx="3651120" cy="33973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3" descr="image002"/>
          <p:cNvPicPr/>
          <p:nvPr/>
        </p:nvPicPr>
        <p:blipFill>
          <a:blip r:embed="rId2"/>
          <a:stretch/>
        </p:blipFill>
        <p:spPr>
          <a:xfrm>
            <a:off x="179280" y="3645000"/>
            <a:ext cx="4643640" cy="2892240"/>
          </a:xfrm>
          <a:prstGeom prst="rect">
            <a:avLst/>
          </a:prstGeom>
          <a:ln w="0">
            <a:noFill/>
          </a:ln>
        </p:spPr>
      </p:pic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Снимать часть обозначений, упрощая карту, делая её более наглядной</a:t>
            </a: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2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7 класс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43080" indent="-343080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Тема «Схема поверхностных течений»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1763640" y="6922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65b2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49" name="Picture 1" descr="image002"/>
          <p:cNvPicPr/>
          <p:nvPr/>
        </p:nvPicPr>
        <p:blipFill>
          <a:blip r:embed="rId1"/>
          <a:stretch/>
        </p:blipFill>
        <p:spPr>
          <a:xfrm>
            <a:off x="1187280" y="2708280"/>
            <a:ext cx="6048720" cy="3759120"/>
          </a:xfrm>
          <a:prstGeom prst="rect">
            <a:avLst/>
          </a:prstGeom>
          <a:ln w="0">
            <a:noFill/>
          </a:ln>
        </p:spPr>
      </p:pic>
      <p:sp>
        <p:nvSpPr>
          <p:cNvPr id="55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Создавать рисунки,</a:t>
            </a:r>
            <a:br>
              <a:rPr sz="2800"/>
            </a:b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наносить надписи на карте </a:t>
            </a:r>
            <a:br>
              <a:rPr sz="28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27280" y="1600200"/>
            <a:ext cx="291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7 класс.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Тема : «Географическое положение Южной Америки»</a:t>
            </a:r>
            <a:br>
              <a:rPr sz="2000"/>
            </a:b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4b2500"/>
                </a:solidFill>
                <a:latin typeface="Garamond"/>
              </a:rPr>
              <a:t>Задание. Определить крайние точки материка Ю. Америка, определить географические координаты.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491508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54" name="Picture 1" descr="image002"/>
          <p:cNvPicPr/>
          <p:nvPr/>
        </p:nvPicPr>
        <p:blipFill>
          <a:blip r:embed="rId1"/>
          <a:stretch/>
        </p:blipFill>
        <p:spPr>
          <a:xfrm>
            <a:off x="324000" y="1773360"/>
            <a:ext cx="5040000" cy="3778200"/>
          </a:xfrm>
          <a:prstGeom prst="rect">
            <a:avLst/>
          </a:prstGeom>
          <a:ln w="0">
            <a:noFill/>
          </a:ln>
        </p:spPr>
      </p:pic>
      <p:sp>
        <p:nvSpPr>
          <p:cNvPr id="55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2e5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8147160" cy="1452600"/>
          </a:xfrm>
          <a:prstGeom prst="rect">
            <a:avLst/>
          </a:prstGeom>
          <a:solidFill>
            <a:srgbClr val="bfbfa7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 </a:t>
            </a:r>
            <a:br>
              <a:rPr sz="3200"/>
            </a:br>
            <a:endParaRPr b="1" lang="en-US" sz="32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236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0" lang="ru-RU" sz="2000" spc="-1" strike="noStrike">
                <a:solidFill>
                  <a:srgbClr val="663300"/>
                </a:solidFill>
                <a:latin typeface="Garamond"/>
              </a:rPr>
              <a:t>При изучении географического положения материков в 7 классе, учащиеся проводят меридианы и параллели, а затем, включив нужный слой, осуществляют самопроверку.  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58" name="Picture 4" descr=""/>
          <p:cNvPicPr/>
          <p:nvPr/>
        </p:nvPicPr>
        <p:blipFill>
          <a:blip r:embed="rId1"/>
          <a:srcRect l="0" t="0" r="17025" b="0"/>
          <a:stretch/>
        </p:blipFill>
        <p:spPr>
          <a:xfrm>
            <a:off x="250920" y="1773360"/>
            <a:ext cx="3384360" cy="30589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7" descr=""/>
          <p:cNvPicPr/>
          <p:nvPr/>
        </p:nvPicPr>
        <p:blipFill>
          <a:blip r:embed="rId2"/>
          <a:srcRect l="0" t="0" r="18210" b="0"/>
          <a:stretch/>
        </p:blipFill>
        <p:spPr>
          <a:xfrm>
            <a:off x="4859280" y="3213000"/>
            <a:ext cx="3672000" cy="336708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9" descr="024"/>
          <p:cNvPicPr/>
          <p:nvPr/>
        </p:nvPicPr>
        <p:blipFill>
          <a:blip r:embed="rId3"/>
          <a:stretch/>
        </p:blipFill>
        <p:spPr>
          <a:xfrm>
            <a:off x="1042920" y="3357720"/>
            <a:ext cx="961920" cy="76176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0"/>
          <p:cNvSpPr/>
          <p:nvPr/>
        </p:nvSpPr>
        <p:spPr>
          <a:xfrm>
            <a:off x="539640" y="189000"/>
            <a:ext cx="8147160" cy="1452600"/>
          </a:xfrm>
          <a:prstGeom prst="rect">
            <a:avLst/>
          </a:prstGeom>
          <a:solidFill>
            <a:srgbClr val="bfbf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Возможность рисования на карте значительно расширяет её роль как наглядного пособия при закреплении нового материала</a:t>
            </a:r>
            <a:r>
              <a:rPr b="1" lang="ru-RU" sz="3200" spc="-1" strike="noStrike">
                <a:solidFill>
                  <a:srgbClr val="000a10"/>
                </a:solidFill>
                <a:latin typeface="Garamond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Garamond"/>
            </a:endParaRPr>
          </a:p>
        </p:txBody>
      </p:sp>
      <p:sp>
        <p:nvSpPr>
          <p:cNvPr id="56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556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a69564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000a10"/>
                </a:solidFill>
                <a:latin typeface="Garamond"/>
              </a:rPr>
              <a:t>Дополнительный иллюстративный  и текстовый материал</a:t>
            </a:r>
            <a:endParaRPr b="1" lang="en-US" sz="2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Дает возможность  учащимся глубже понять содержание изучаемого объекта или территории, сравнить географические объекты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65" name="Text Box 10"/>
          <p:cNvSpPr/>
          <p:nvPr/>
        </p:nvSpPr>
        <p:spPr>
          <a:xfrm>
            <a:off x="1042920" y="6237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eaeaea"/>
                </a:solidFill>
                <a:latin typeface="Tahoma"/>
              </a:rPr>
              <a:t>8 класс Тема: «Типы почв России»</a:t>
            </a:r>
            <a:endParaRPr b="0" lang="en-US" sz="1800" spc="-1" strike="noStrike">
              <a:solidFill>
                <a:srgbClr val="eaeaea"/>
              </a:solidFill>
              <a:latin typeface="Garamond"/>
            </a:endParaRPr>
          </a:p>
        </p:txBody>
      </p:sp>
      <p:pic>
        <p:nvPicPr>
          <p:cNvPr id="566" name="Picture 1" descr="image002"/>
          <p:cNvPicPr/>
          <p:nvPr/>
        </p:nvPicPr>
        <p:blipFill>
          <a:blip r:embed="rId1"/>
          <a:stretch/>
        </p:blipFill>
        <p:spPr>
          <a:xfrm>
            <a:off x="3780000" y="1268280"/>
            <a:ext cx="3456000" cy="2589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" descr="image002"/>
          <p:cNvPicPr/>
          <p:nvPr/>
        </p:nvPicPr>
        <p:blipFill>
          <a:blip r:embed="rId2"/>
          <a:stretch/>
        </p:blipFill>
        <p:spPr>
          <a:xfrm>
            <a:off x="5292720" y="3933720"/>
            <a:ext cx="3530520" cy="2664000"/>
          </a:xfrm>
          <a:prstGeom prst="rect">
            <a:avLst/>
          </a:prstGeom>
          <a:ln w="0">
            <a:noFill/>
          </a:ln>
        </p:spPr>
      </p:pic>
      <p:sp>
        <p:nvSpPr>
          <p:cNvPr id="56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solidFill>
            <a:srgbClr val="a99d2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a10"/>
                </a:solidFill>
                <a:latin typeface="Garamond"/>
              </a:rPr>
              <a:t>Комбинирование слоями позволяет выявить причинно-следственные связи и закономерности.</a:t>
            </a:r>
            <a:br>
              <a:rPr sz="2800"/>
            </a:br>
            <a:endParaRPr b="1" lang="en-US" sz="28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8 класс. Тема «Тектоника и минеральные ресурсы России»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b2500"/>
                </a:solidFill>
                <a:latin typeface="Garamond"/>
              </a:rPr>
              <a:t>Задание: сделать вывод о соответствии крупных форм рельефа определенным структурам земной коры. 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571" name="Picture 1" descr="image002"/>
          <p:cNvPicPr/>
          <p:nvPr/>
        </p:nvPicPr>
        <p:blipFill>
          <a:blip r:embed="rId1"/>
          <a:stretch/>
        </p:blipFill>
        <p:spPr>
          <a:xfrm>
            <a:off x="4500720" y="1628640"/>
            <a:ext cx="4643280" cy="3662640"/>
          </a:xfrm>
          <a:prstGeom prst="rect">
            <a:avLst/>
          </a:prstGeom>
          <a:ln w="0">
            <a:noFill/>
          </a:ln>
        </p:spPr>
      </p:pic>
      <p:sp>
        <p:nvSpPr>
          <p:cNvPr id="57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a69564"/>
              </a:solidFill>
              <a:latin typeface="Garamond"/>
            </a:endParaRPr>
          </a:p>
        </p:txBody>
      </p:sp>
      <p:pic>
        <p:nvPicPr>
          <p:cNvPr id="574" name="Picture 1" descr="image002"/>
          <p:cNvPicPr/>
          <p:nvPr/>
        </p:nvPicPr>
        <p:blipFill>
          <a:blip r:embed="rId1"/>
          <a:stretch/>
        </p:blipFill>
        <p:spPr>
          <a:xfrm>
            <a:off x="250920" y="1484280"/>
            <a:ext cx="8570880" cy="4795920"/>
          </a:xfrm>
          <a:prstGeom prst="rect">
            <a:avLst/>
          </a:prstGeom>
          <a:ln w="0">
            <a:noFill/>
          </a:ln>
        </p:spPr>
      </p:pic>
      <p:sp>
        <p:nvSpPr>
          <p:cNvPr id="57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eaeaea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4-12-29T09:38:29Z</dcterms:modified>
  <cp:revision>41</cp:revision>
  <dc:subject/>
  <dc:title>PowerPoint Presentation</dc:title>
</cp:coreProperties>
</file>