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9450-007A-40D1-9C8B-293F78A0C3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slide" Target="../slides/slide20.xml"/><Relationship Id="rId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Учитель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МОУ-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школа №1 г.Арам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Пятыгина Светлан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754D-BEBE-4926-8DC9-918292A01398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Прием наложения слоёв карты</a:t>
            </a:r>
            <a:br>
              <a:rPr sz="1800"/>
            </a:b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актуален в курсе географии «Население и хозяйство Росси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BA94-0730-472E-8BF0-E5671EDB3881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грузоперевозо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7EEE-8EE5-45A5-9C6B-C5E59AE8748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онтроля знаний учащих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онтальный опрос (проведение географических диктан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 (ответ у до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E928-4BD2-4849-9752-07F2757A8CF3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рактивной доски в работе с детьми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1900-8688-4541-B3CB-3B34A4D1EA64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8203-DCDB-412D-AB8D-E6807218D08C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9042-0CB0-4A7A-AA1E-654844ABFCF1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и издательства «Кирилл и Мефод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программный продукт «КМ-Школ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E967-B932-4726-A02E-6DDD9847A71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DE90-BB82-466A-B411-E8B4B468EA64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Интерактивные электронные карты, выпущенные издательством «Дроф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8CFE-A821-415E-9F3A-C3B38D2F342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а ИПП «КМ-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«Экономика и культура Японии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Страны Афри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ED1F-501B-4617-A7BB-CD461A18D39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аиллю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226F-A923-4A14-B3F9-6E4592030D5D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a10"/>
                </a:solidFill>
                <a:latin typeface="Calibri"/>
              </a:rPr>
              <a:t>Медиаобъекты и текстовые комментар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2E3C-5A1E-44D6-A3B0-30731DA1B86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мир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275B-CC06-44DD-B5FE-20D9C331313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2EBC-13C8-4AC5-83D5-F890353FAA93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2692-2765-4B88-8344-0A52C9E32EE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ирование по тем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7821-7770-48A6-8494-5702EF87E77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кар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C2FE-51F4-4383-8552-1E024287FC4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94FD-F678-45A7-8A5E-81916E3AE7E2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FD1B-272E-44C9-A60B-42D3F29C59D2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и наглядного пособия: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ближать участки земной поверхности для более детального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54FB-5E10-424C-A801-79900B5641CD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Снимать часть обозначений, упрощая карту, делая её более нагляд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Тема «Схема поверхностных течений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131E-E8A6-41A7-AB0C-B94364E36A1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Создавать рисунки,</a:t>
            </a: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наносить надписи на карте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: «Географическое положение Южной Америк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D75B-AA60-408A-8A13-D162FACA9AA3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1D72-E811-4E4D-B25F-7644D4070714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a10"/>
                </a:solidFill>
                <a:latin typeface="Calibri"/>
              </a:rPr>
              <a:t>Дополнительный иллюстративный  и текстовый материа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0333-0B4B-43D8-898F-FD4CCFDEDCD4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Комбинирование слоями позволяет выявить причинно-следственные связи и закономер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. Тема «Тектоника и минеральные ресурсы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DA63-AF2C-4C97-B9C9-55DB0167FD0B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E45-0544-4AB1-AF7A-9123005B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3C6-025D-4048-BD3B-D59D9429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F46-AC24-40EB-B952-E93C8502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9C4-A5D6-4352-86E6-5C231C79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01097-03EB-4A34-9943-6283414A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D1F74-9207-48BD-8B0E-80FD7B0F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BFAE9-91C4-4A03-BB43-276C9FA7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7F0B7-B48A-4E75-B1EC-B22D93B5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D8B79-9BCB-4368-BCB1-610A5FC1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79F33-BCE9-4D2A-985F-1EEF4D88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FACAB-9A9E-423C-8B74-A0CE3C61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82D-C91C-45B5-8DDF-713D8E10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BCBE4-AB46-4747-8DB3-D9E2971A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915EB-0FBE-4E94-9FB7-9A23BD2B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D2CDD-CC06-41F0-BB96-F0400E36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98515-F86F-4052-B57C-12369D30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6D89C-4C97-4883-BF15-9BD52124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EAA16-8E19-4224-9608-5A2E3C31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BB8A-3658-4722-AD30-FAAE9B72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B55E1-0865-4170-BEB2-32C53067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649DB-D318-40B7-BAFB-455AF6F3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C0DB-005F-4467-876A-28364864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82E-AA93-43A8-B697-B8216FE7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E2A1-F64C-44DF-A48A-304F4616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3443-74B2-4C94-A9D1-09A2315F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7978-B8D7-4C0E-852F-F4EB6678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9F95-E1F9-4EE4-8907-6713BBCE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EE974-D4F3-42D6-8073-6069EFB4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F738-8032-463D-9ECD-30652AA7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36DA-6565-467A-B013-EA382699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42264-1D87-43B0-A045-23CD527A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7627C-2620-4A79-B2AD-10AADF3A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D305D-FC0A-47E4-89D1-E73855EB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22C-E452-46CD-B862-A9E9262D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638DB-4D77-4114-9CBE-1303F715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5052C-09F3-423D-9E06-A54F2BAB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0078-5B2F-4CE2-80A7-C2D7728D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56AB-CC04-476F-8DC6-C23752AB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6A75-9F83-4710-B9F4-458387CC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58D4E-69F5-4EC5-90B5-E8526FDC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238E-4E23-4C9F-920B-F43A5218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0C8A8-D6BB-4BC7-977A-8D86249C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1512-FE38-4072-8420-BA6FDBAF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0F873-F860-4519-9BEF-8B5CA90A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33E-4FEF-4926-9BB4-F6C5F777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701DB-5D18-49E3-995A-AC2C4FF2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5EA42-88E8-42FF-B4E4-613DD0C1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869D8-938F-4A93-9A7F-593C2430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F9BF-B2B9-47E4-872E-B64F5680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1E367-BB8D-4FD9-8B41-DD1F644C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C073A-06F5-4478-A782-BBF92BFD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BD026-39E3-4BD7-9B6A-5DF750D6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7E03A-15C0-4857-AA73-8CA4EC0C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40DE8-71DE-425B-8018-E061F712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42381-2BFA-4CE2-B17E-F3F2F73F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05A-92AD-42DE-9E06-22249FB3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EC683-14B8-4C2B-8662-E018F54A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54892-E11E-44DF-8E43-1D3FB395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E871B-BDC0-4340-A7E2-9D6F2D02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B8D7F-6228-42A0-A9EF-9401AEFA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250A0-56E8-496A-A142-0AF8780C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A5795-EBF2-44F1-BD42-6F3A88C8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C001F-2453-41B3-B0A7-031A4BE3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03CA9-9F06-4DAB-BBF5-F9536D27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2091A-47C4-49B2-BF3F-6993DC89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DDD90-B3D6-42E1-8908-EB904ADC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4FE-D3C3-4907-B3EA-4C7DFDB3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F4A7B-4B47-407E-AABC-B1CB2B9B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49928-DBA3-45DF-9BD3-C77A3A17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9D31C-F28F-4F52-8CF7-A79FDDAD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16E-C717-4644-8019-CC847038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B1B-D16A-467B-B0EC-F43513A0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AB48-8EA6-42B0-B097-839144F9B79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B0C7-DF1E-4235-9EBA-0EE5853D9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11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1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7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20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1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2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B0F1-18FA-4201-99ED-5E19B1331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6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9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0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1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1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C453-B77E-4D3A-AD50-570D6DAF83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37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7857-F31C-4AFD-9FF3-A6B92675F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1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42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3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5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6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47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7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7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6FA1-5976-4E0F-A362-E402BBE092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23640" y="3885840"/>
            <a:ext cx="338436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Учитель географии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МОУ-Средняя общеобразовательна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школа №1 г.Арамил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Пятыгина Светлана Петровна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684360" y="25560"/>
            <a:ext cx="7704000" cy="237924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a10"/>
                </a:solidFill>
                <a:latin typeface="Tahoma"/>
              </a:rPr>
              <a:t>Использование интерактивной доски Interwrite Board на уроках географии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2" name="Picture 0" descr="image002"/>
          <p:cNvPicPr/>
          <p:nvPr/>
        </p:nvPicPr>
        <p:blipFill>
          <a:blip r:embed="rId1"/>
          <a:stretch/>
        </p:blipFill>
        <p:spPr>
          <a:xfrm>
            <a:off x="3708360" y="2421000"/>
            <a:ext cx="5048280" cy="379080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Прием наложения слоёв карты</a:t>
            </a:r>
            <a:br>
              <a:rPr sz="4000"/>
            </a:b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актуален в курсе географии «Население и хозяйство России»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826920" y="260280"/>
            <a:ext cx="6409080" cy="3070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a10"/>
                </a:solidFill>
                <a:latin typeface="Tahoma"/>
              </a:rPr>
              <a:t>География размещения угля и железной руды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82" name="Picture 0" descr="image002"/>
          <p:cNvPicPr/>
          <p:nvPr/>
        </p:nvPicPr>
        <p:blipFill>
          <a:blip r:embed="rId1"/>
          <a:stretch/>
        </p:blipFill>
        <p:spPr>
          <a:xfrm>
            <a:off x="324000" y="1303200"/>
            <a:ext cx="8496000" cy="468468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Направление грузоперевозок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5" name="Picture 1" descr="image002"/>
          <p:cNvPicPr/>
          <p:nvPr/>
        </p:nvPicPr>
        <p:blipFill>
          <a:blip r:embed="rId1"/>
          <a:stretch/>
        </p:blipFill>
        <p:spPr>
          <a:xfrm>
            <a:off x="1403280" y="1628640"/>
            <a:ext cx="6147000" cy="4602240"/>
          </a:xfrm>
          <a:prstGeom prst="rect">
            <a:avLst/>
          </a:prstGeom>
          <a:ln w="0">
            <a:noFill/>
          </a:ln>
        </p:spPr>
      </p:pic>
      <p:sp>
        <p:nvSpPr>
          <p:cNvPr id="58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8" name="Picture 1" descr="image002"/>
          <p:cNvPicPr/>
          <p:nvPr/>
        </p:nvPicPr>
        <p:blipFill>
          <a:blip r:embed="rId1"/>
          <a:stretch/>
        </p:blipFill>
        <p:spPr>
          <a:xfrm>
            <a:off x="900000" y="1268280"/>
            <a:ext cx="6840720" cy="512784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Использование специализированных карт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692280"/>
            <a:ext cx="7489800" cy="54036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рганизация контроля знаний учащихся: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Фронтальный опрос (проведение географических диктантов)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ндивидуальный  (ответ у доски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1763640" y="3357720"/>
            <a:ext cx="5904000" cy="3220920"/>
          </a:xfrm>
          <a:prstGeom prst="rect">
            <a:avLst/>
          </a:prstGeom>
          <a:ln w="0">
            <a:noFill/>
          </a:ln>
        </p:spPr>
      </p:pic>
      <p:sp>
        <p:nvSpPr>
          <p:cNvPr id="5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69564"/>
                </a:solidFill>
                <a:latin typeface="Garamond"/>
              </a:rPr>
              <a:t>Использование интерактивной доски в работе с детьми с ограниченными возможностями здоровья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95" name="Picture 4" descr="SPM_A0376"/>
          <p:cNvPicPr/>
          <p:nvPr/>
        </p:nvPicPr>
        <p:blipFill>
          <a:blip r:embed="rId1"/>
          <a:srcRect l="11118" t="0" r="0" b="0"/>
          <a:stretch/>
        </p:blipFill>
        <p:spPr>
          <a:xfrm>
            <a:off x="250920" y="170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0"/>
          <p:cNvSpPr/>
          <p:nvPr/>
        </p:nvSpPr>
        <p:spPr>
          <a:xfrm>
            <a:off x="250920" y="5157720"/>
            <a:ext cx="3744720" cy="15087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Написать названия гор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6 коррекционный класс.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Тема «Горы»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4572000" y="4941720"/>
            <a:ext cx="4032360" cy="21729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Впиши в клеточки название отраслей промышленности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7 коррекционный класс. Тема «Промышленность – основа хозяйства, её отрасли»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9" name="Picture 2" descr="image002"/>
          <p:cNvPicPr/>
          <p:nvPr/>
        </p:nvPicPr>
        <p:blipFill>
          <a:blip r:embed="rId2"/>
          <a:stretch/>
        </p:blipFill>
        <p:spPr>
          <a:xfrm>
            <a:off x="4498920" y="1700280"/>
            <a:ext cx="4645080" cy="2987640"/>
          </a:xfrm>
          <a:prstGeom prst="rect">
            <a:avLst/>
          </a:prstGeom>
          <a:ln w="0">
            <a:noFill/>
          </a:ln>
        </p:spPr>
      </p:pic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4581360" y="1557360"/>
            <a:ext cx="4562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Способствует развитию контроля и самоконтроля учащихс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 процессе выполнения заданий развивается внимание, расширяется его объём и концентраци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Учащиеся овладевают простыми, но необходимыми приёмами зрительного и слухового запоминания, а также сохранения увиденного и услышанного в памя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любознательности, самостоятельнос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предпосылки для формирования компьютерной грамотности, для дальнейшей адоптации в социуме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03" name="Picture 1" descr="image002"/>
          <p:cNvPicPr/>
          <p:nvPr/>
        </p:nvPicPr>
        <p:blipFill>
          <a:blip r:embed="rId1"/>
          <a:stretch/>
        </p:blipFill>
        <p:spPr>
          <a:xfrm>
            <a:off x="250920" y="1844640"/>
            <a:ext cx="4254480" cy="3670200"/>
          </a:xfrm>
          <a:prstGeom prst="rect">
            <a:avLst/>
          </a:prstGeom>
          <a:ln w="0">
            <a:noFill/>
          </a:ln>
        </p:spPr>
      </p:pic>
      <p:sp>
        <p:nvSpPr>
          <p:cNvPr id="60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07" name="Picture 1" descr="image002"/>
          <p:cNvPicPr/>
          <p:nvPr/>
        </p:nvPicPr>
        <p:blipFill>
          <a:blip r:embed="rId1"/>
          <a:stretch/>
        </p:blipFill>
        <p:spPr>
          <a:xfrm>
            <a:off x="4764240" y="1600200"/>
            <a:ext cx="3806640" cy="4525920"/>
          </a:xfrm>
          <a:prstGeom prst="rect">
            <a:avLst/>
          </a:prstGeom>
          <a:ln w="0">
            <a:noFill/>
          </a:ln>
        </p:spPr>
      </p:pic>
      <p:sp>
        <p:nvSpPr>
          <p:cNvPr id="60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лектронные 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иски издательства «Кирилл и Мефодий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тегрированный программный продукт «КМ-Школа»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11" name="Picture 1" descr="image002"/>
          <p:cNvPicPr/>
          <p:nvPr/>
        </p:nvPicPr>
        <p:blipFill>
          <a:blip r:embed="rId1"/>
          <a:stretch/>
        </p:blipFill>
        <p:spPr>
          <a:xfrm>
            <a:off x="4305240" y="1700280"/>
            <a:ext cx="2184480" cy="3097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image002"/>
          <p:cNvPicPr/>
          <p:nvPr/>
        </p:nvPicPr>
        <p:blipFill>
          <a:blip r:embed="rId2"/>
          <a:stretch/>
        </p:blipFill>
        <p:spPr>
          <a:xfrm>
            <a:off x="6732720" y="1700280"/>
            <a:ext cx="2190600" cy="3097080"/>
          </a:xfrm>
          <a:prstGeom prst="rect">
            <a:avLst/>
          </a:prstGeom>
          <a:ln w="0">
            <a:noFill/>
          </a:ln>
        </p:spPr>
      </p:pic>
      <p:sp>
        <p:nvSpPr>
          <p:cNvPr id="61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15" name="Picture 0" descr="image002"/>
          <p:cNvPicPr/>
          <p:nvPr/>
        </p:nvPicPr>
        <p:blipFill>
          <a:blip r:embed="rId1"/>
          <a:stretch/>
        </p:blipFill>
        <p:spPr>
          <a:xfrm>
            <a:off x="179280" y="4221000"/>
            <a:ext cx="5616720" cy="24847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image002"/>
          <p:cNvPicPr/>
          <p:nvPr/>
        </p:nvPicPr>
        <p:blipFill>
          <a:blip r:embed="rId2"/>
          <a:stretch/>
        </p:blipFill>
        <p:spPr>
          <a:xfrm>
            <a:off x="5651640" y="1557360"/>
            <a:ext cx="3492360" cy="261936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a10"/>
                </a:solidFill>
                <a:latin typeface="Garamond"/>
              </a:rPr>
              <a:t>Интерактивные электронные карты, выпущенные издательством «Дрофа»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52240" y="2876040"/>
            <a:ext cx="48704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179280" y="4869000"/>
            <a:ext cx="4032360" cy="18478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Garamond"/>
              </a:rPr>
              <a:t>В школе накоплено 62 интерактивные карты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7" name="Picture 1" descr="image002"/>
          <p:cNvPicPr/>
          <p:nvPr/>
        </p:nvPicPr>
        <p:blipFill>
          <a:blip r:embed="rId1"/>
          <a:stretch/>
        </p:blipFill>
        <p:spPr>
          <a:xfrm>
            <a:off x="611280" y="1628640"/>
            <a:ext cx="1998720" cy="2808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image002"/>
          <p:cNvPicPr/>
          <p:nvPr/>
        </p:nvPicPr>
        <p:blipFill>
          <a:blip r:embed="rId2"/>
          <a:stretch/>
        </p:blipFill>
        <p:spPr>
          <a:xfrm>
            <a:off x="3564000" y="1628640"/>
            <a:ext cx="1719360" cy="2521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image002"/>
          <p:cNvPicPr/>
          <p:nvPr/>
        </p:nvPicPr>
        <p:blipFill>
          <a:blip r:embed="rId3"/>
          <a:stretch/>
        </p:blipFill>
        <p:spPr>
          <a:xfrm>
            <a:off x="6227640" y="1628640"/>
            <a:ext cx="1984320" cy="280836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реда ИПП «КМ-Школ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«Экономика и культура Японии»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«Страны Африки»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7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0" name="Picture 1" descr="image002"/>
          <p:cNvPicPr/>
          <p:nvPr/>
        </p:nvPicPr>
        <p:blipFill>
          <a:blip r:embed="rId4"/>
          <a:stretch/>
        </p:blipFill>
        <p:spPr>
          <a:xfrm>
            <a:off x="4645080" y="1725480"/>
            <a:ext cx="4362480" cy="4583160"/>
          </a:xfrm>
          <a:prstGeom prst="rect">
            <a:avLst/>
          </a:prstGeom>
          <a:ln w="0">
            <a:noFill/>
          </a:ln>
        </p:spPr>
      </p:pic>
      <p:sp>
        <p:nvSpPr>
          <p:cNvPr id="6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image002"/>
          <p:cNvPicPr/>
          <p:nvPr/>
        </p:nvPicPr>
        <p:blipFill>
          <a:blip r:embed="rId1"/>
          <a:stretch/>
        </p:blipFill>
        <p:spPr>
          <a:xfrm>
            <a:off x="2050920" y="1413000"/>
            <a:ext cx="3961080" cy="31334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диаиллюстр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5" name="Picture 0" descr="image002"/>
          <p:cNvPicPr/>
          <p:nvPr/>
        </p:nvPicPr>
        <p:blipFill>
          <a:blip r:embed="rId2"/>
          <a:stretch/>
        </p:blipFill>
        <p:spPr>
          <a:xfrm>
            <a:off x="0" y="3284640"/>
            <a:ext cx="2522520" cy="3573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image002"/>
          <p:cNvPicPr/>
          <p:nvPr/>
        </p:nvPicPr>
        <p:blipFill>
          <a:blip r:embed="rId3"/>
          <a:stretch/>
        </p:blipFill>
        <p:spPr>
          <a:xfrm>
            <a:off x="3780000" y="3860640"/>
            <a:ext cx="5364000" cy="2532240"/>
          </a:xfrm>
          <a:prstGeom prst="rect">
            <a:avLst/>
          </a:prstGeom>
          <a:ln w="0">
            <a:noFill/>
          </a:ln>
        </p:spPr>
      </p:pic>
      <p:sp>
        <p:nvSpPr>
          <p:cNvPr id="6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29" name="Picture 1" descr="image002"/>
          <p:cNvPicPr/>
          <p:nvPr/>
        </p:nvPicPr>
        <p:blipFill>
          <a:blip r:embed="rId1"/>
          <a:stretch/>
        </p:blipFill>
        <p:spPr>
          <a:xfrm>
            <a:off x="539640" y="90792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Arial"/>
              </a:rPr>
              <a:t>Медиаобъекты и текстовые комментарии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31" name="Picture 7" descr="image002"/>
          <p:cNvPicPr/>
          <p:nvPr/>
        </p:nvPicPr>
        <p:blipFill>
          <a:blip r:embed="rId2"/>
          <a:stretch/>
        </p:blipFill>
        <p:spPr>
          <a:xfrm>
            <a:off x="455760" y="3960720"/>
            <a:ext cx="4037040" cy="2097360"/>
          </a:xfrm>
          <a:prstGeom prst="rect">
            <a:avLst/>
          </a:prstGeom>
          <a:ln w="0">
            <a:noFill/>
          </a:ln>
        </p:spPr>
      </p:pic>
      <p:sp>
        <p:nvSpPr>
          <p:cNvPr id="6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география мира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34" name="Picture 1" descr="image002"/>
          <p:cNvPicPr/>
          <p:nvPr/>
        </p:nvPicPr>
        <p:blipFill>
          <a:blip r:embed="rId1"/>
          <a:stretch/>
        </p:blipFill>
        <p:spPr>
          <a:xfrm>
            <a:off x="179280" y="2997360"/>
            <a:ext cx="2808360" cy="2565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image002"/>
          <p:cNvPicPr/>
          <p:nvPr/>
        </p:nvPicPr>
        <p:blipFill>
          <a:blip r:embed="rId2"/>
          <a:stretch/>
        </p:blipFill>
        <p:spPr>
          <a:xfrm>
            <a:off x="3132000" y="2276640"/>
            <a:ext cx="2880000" cy="26287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image002"/>
          <p:cNvPicPr/>
          <p:nvPr/>
        </p:nvPicPr>
        <p:blipFill>
          <a:blip r:embed="rId3"/>
          <a:stretch/>
        </p:blipFill>
        <p:spPr>
          <a:xfrm>
            <a:off x="6294600" y="2924280"/>
            <a:ext cx="2849400" cy="259848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1116000" y="5661000"/>
            <a:ext cx="6624720" cy="9709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Garamond"/>
              </a:rPr>
              <a:t>Отработка умений и навыков у учащихся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1" name="Picture 1" descr="image002"/>
          <p:cNvPicPr/>
          <p:nvPr/>
        </p:nvPicPr>
        <p:blipFill>
          <a:blip r:embed="rId1"/>
          <a:stretch/>
        </p:blipFill>
        <p:spPr>
          <a:xfrm>
            <a:off x="900000" y="920880"/>
            <a:ext cx="6840720" cy="45180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4" name="Picture 1" descr="image002"/>
          <p:cNvPicPr/>
          <p:nvPr/>
        </p:nvPicPr>
        <p:blipFill>
          <a:blip r:embed="rId1"/>
          <a:stretch/>
        </p:blipFill>
        <p:spPr>
          <a:xfrm>
            <a:off x="324000" y="1341360"/>
            <a:ext cx="8604000" cy="4737240"/>
          </a:xfrm>
          <a:prstGeom prst="rect">
            <a:avLst/>
          </a:prstGeom>
          <a:ln w="0">
            <a:noFill/>
          </a:ln>
        </p:spPr>
      </p:pic>
      <p:sp>
        <p:nvSpPr>
          <p:cNvPr id="6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стирование по тем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324000" y="5805360"/>
            <a:ext cx="8424720" cy="9709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8ae"/>
                </a:solidFill>
                <a:latin typeface="Garamond"/>
              </a:rPr>
              <a:t>Возможность проверить усвоение учебного материала.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8" name="Picture 1" descr="image002"/>
          <p:cNvPicPr/>
          <p:nvPr/>
        </p:nvPicPr>
        <p:blipFill>
          <a:blip r:embed="rId1"/>
          <a:stretch/>
        </p:blipFill>
        <p:spPr>
          <a:xfrm>
            <a:off x="900000" y="836640"/>
            <a:ext cx="7559640" cy="4994280"/>
          </a:xfrm>
          <a:prstGeom prst="rect">
            <a:avLst/>
          </a:prstGeom>
          <a:ln w="0">
            <a:noFill/>
          </a:ln>
        </p:spPr>
      </p:pic>
      <p:sp>
        <p:nvSpPr>
          <p:cNvPr id="6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нтерактивные кар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Text Box 10"/>
          <p:cNvSpPr/>
          <p:nvPr/>
        </p:nvSpPr>
        <p:spPr>
          <a:xfrm>
            <a:off x="5919840" y="344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4356000" y="4292640"/>
            <a:ext cx="288000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324000" y="4292640"/>
            <a:ext cx="251928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7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54" name="Picture 1" descr="image002"/>
          <p:cNvPicPr/>
          <p:nvPr/>
        </p:nvPicPr>
        <p:blipFill>
          <a:blip r:embed="rId1"/>
          <a:stretch/>
        </p:blipFill>
        <p:spPr>
          <a:xfrm>
            <a:off x="179280" y="105264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image002"/>
          <p:cNvPicPr/>
          <p:nvPr/>
        </p:nvPicPr>
        <p:blipFill>
          <a:blip r:embed="rId2"/>
          <a:stretch/>
        </p:blipFill>
        <p:spPr>
          <a:xfrm>
            <a:off x="4356000" y="1052640"/>
            <a:ext cx="4470480" cy="305280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859280" y="1699920"/>
            <a:ext cx="3960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59" name="Picture 1" descr="image002"/>
          <p:cNvPicPr/>
          <p:nvPr/>
        </p:nvPicPr>
        <p:blipFill>
          <a:blip r:embed="rId1"/>
          <a:stretch/>
        </p:blipFill>
        <p:spPr>
          <a:xfrm>
            <a:off x="250920" y="1916280"/>
            <a:ext cx="4824360" cy="3625560"/>
          </a:xfrm>
          <a:prstGeom prst="rect">
            <a:avLst/>
          </a:prstGeom>
          <a:ln w="0">
            <a:noFill/>
          </a:ln>
        </p:spPr>
      </p:pic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дача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1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63" name="Picture 1" descr="image002"/>
          <p:cNvPicPr/>
          <p:nvPr/>
        </p:nvPicPr>
        <p:blipFill>
          <a:blip r:embed="rId1"/>
          <a:stretch/>
        </p:blipFill>
        <p:spPr>
          <a:xfrm>
            <a:off x="4211640" y="1557360"/>
            <a:ext cx="4716360" cy="3530520"/>
          </a:xfrm>
          <a:prstGeom prst="rect">
            <a:avLst/>
          </a:prstGeom>
          <a:ln w="0">
            <a:noFill/>
          </a:ln>
        </p:spPr>
      </p:pic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Возможности наглядного пособия: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1599840"/>
            <a:ext cx="40323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приближать участки земной поверхности для более детального рассмотрени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43" name="Picture 1" descr="image002"/>
          <p:cNvPicPr/>
          <p:nvPr/>
        </p:nvPicPr>
        <p:blipFill>
          <a:blip r:embed="rId1"/>
          <a:stretch/>
        </p:blipFill>
        <p:spPr>
          <a:xfrm>
            <a:off x="4932360" y="1341360"/>
            <a:ext cx="3651120" cy="3397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image002"/>
          <p:cNvPicPr/>
          <p:nvPr/>
        </p:nvPicPr>
        <p:blipFill>
          <a:blip r:embed="rId2"/>
          <a:stretch/>
        </p:blipFill>
        <p:spPr>
          <a:xfrm>
            <a:off x="179280" y="3645000"/>
            <a:ext cx="4643640" cy="289224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Снимать часть обозначений, упрощая карту, делая её более наглядной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«Схема поверхностных течений»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763640" y="6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49" name="Picture 1" descr="image002"/>
          <p:cNvPicPr/>
          <p:nvPr/>
        </p:nvPicPr>
        <p:blipFill>
          <a:blip r:embed="rId1"/>
          <a:stretch/>
        </p:blipFill>
        <p:spPr>
          <a:xfrm>
            <a:off x="1187280" y="2708280"/>
            <a:ext cx="6048720" cy="375912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Создавать рисунки,</a:t>
            </a:r>
            <a:br>
              <a:rPr sz="2800"/>
            </a:b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наносить надписи на карте 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27280" y="1600200"/>
            <a:ext cx="29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.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: «Географическое положение Южной Америки»</a:t>
            </a:r>
            <a:br>
              <a:rPr sz="2000"/>
            </a:b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91508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54" name="Picture 1" descr="image002"/>
          <p:cNvPicPr/>
          <p:nvPr/>
        </p:nvPicPr>
        <p:blipFill>
          <a:blip r:embed="rId1"/>
          <a:stretch/>
        </p:blipFill>
        <p:spPr>
          <a:xfrm>
            <a:off x="324000" y="1773360"/>
            <a:ext cx="5040000" cy="3778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e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2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Garamond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rcRect l="0" t="0" r="17025" b="0"/>
          <a:stretch/>
        </p:blipFill>
        <p:spPr>
          <a:xfrm>
            <a:off x="250920" y="1773360"/>
            <a:ext cx="3384360" cy="3058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2"/>
          <a:srcRect l="0" t="0" r="18210" b="0"/>
          <a:stretch/>
        </p:blipFill>
        <p:spPr>
          <a:xfrm>
            <a:off x="4859280" y="3213000"/>
            <a:ext cx="3672000" cy="33670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024"/>
          <p:cNvPicPr/>
          <p:nvPr/>
        </p:nvPicPr>
        <p:blipFill>
          <a:blip r:embed="rId3"/>
          <a:stretch/>
        </p:blipFill>
        <p:spPr>
          <a:xfrm>
            <a:off x="1042920" y="3357720"/>
            <a:ext cx="961920" cy="76176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0"/>
          <p:cNvSpPr/>
          <p:nvPr/>
        </p:nvSpPr>
        <p:spPr>
          <a:xfrm>
            <a:off x="539640" y="18900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556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a10"/>
                </a:solidFill>
                <a:latin typeface="Garamond"/>
              </a:rPr>
              <a:t>Дополнительный иллюстративный  и текстовый материал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104292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8 класс Тема: «Типы почв России»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66" name="Picture 1" descr="image002"/>
          <p:cNvPicPr/>
          <p:nvPr/>
        </p:nvPicPr>
        <p:blipFill>
          <a:blip r:embed="rId1"/>
          <a:stretch/>
        </p:blipFill>
        <p:spPr>
          <a:xfrm>
            <a:off x="3780000" y="1268280"/>
            <a:ext cx="3456000" cy="2589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image002"/>
          <p:cNvPicPr/>
          <p:nvPr/>
        </p:nvPicPr>
        <p:blipFill>
          <a:blip r:embed="rId2"/>
          <a:stretch/>
        </p:blipFill>
        <p:spPr>
          <a:xfrm>
            <a:off x="5292720" y="3933720"/>
            <a:ext cx="3530520" cy="2664000"/>
          </a:xfrm>
          <a:prstGeom prst="rect">
            <a:avLst/>
          </a:prstGeom>
          <a:ln w="0">
            <a:noFill/>
          </a:ln>
        </p:spPr>
      </p:pic>
      <p:sp>
        <p:nvSpPr>
          <p:cNvPr id="5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Комбинирование слоями позволяет выявить причинно-следственные связи и закономерности.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8 класс. Тема «Тектоника и минеральные ресурсы России»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71" name="Picture 1" descr="image002"/>
          <p:cNvPicPr/>
          <p:nvPr/>
        </p:nvPicPr>
        <p:blipFill>
          <a:blip r:embed="rId1"/>
          <a:stretch/>
        </p:blipFill>
        <p:spPr>
          <a:xfrm>
            <a:off x="4500720" y="1628640"/>
            <a:ext cx="4643280" cy="3662640"/>
          </a:xfrm>
          <a:prstGeom prst="rect">
            <a:avLst/>
          </a:prstGeom>
          <a:ln w="0">
            <a:noFill/>
          </a:ln>
        </p:spPr>
      </p:pic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74" name="Picture 1" descr="image002"/>
          <p:cNvPicPr/>
          <p:nvPr/>
        </p:nvPicPr>
        <p:blipFill>
          <a:blip r:embed="rId1"/>
          <a:stretch/>
        </p:blipFill>
        <p:spPr>
          <a:xfrm>
            <a:off x="250920" y="1484280"/>
            <a:ext cx="8570880" cy="479592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2-29T09:38:29Z</dcterms:modified>
  <cp:revision>41</cp:revision>
  <dc:subject/>
  <dc:title>PowerPoint Presentation</dc:title>
</cp:coreProperties>
</file>