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5D6BE-8683-4137-B0CC-DAEFD0018FC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Использование мультимедиа технологий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на уроках географ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9900"/>
                </a:solidFill>
                <a:latin typeface="Arial"/>
              </a:rPr>
              <a:t>Учитель географии МОУ Орловской СОШ Самоличенко Наталья Викторов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31206-AFA6-44F3-9313-C5907ADB46B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Основные направления применения мультимедиа-учебников в обучении географ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Организация познавательной деятельности учащихся на уроке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передача учебной информации, мотивация обучения, показ, сопоставление процессов и явлений, демонстрация наглядных материал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Проверка результатов обучения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практика, тест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Организация самостоятельной работы учащихся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самостоятельное приобретение знаний и умений, подготовка докладов и сообщений, осуществление дифференцированного подхода, углубленное изучение географ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B40E9-56F3-47BC-B0F5-3F8451A32C1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Можно выделить следующие особенности данной технолог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чество изображения, выполняемого мелом на доске, не выдерживает никакого сравнения с аккуратным, ярким, чётким и цветным изображением на экране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помощью доски и мела затруднительно и нелепо объяснять работу с различными приложениями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случаях выявления в слайдах пособия недостатков или ошибок, можно сравнительно легко устранить дефекты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зависимости от подготовленности учащихся, используя в презентациях гиперссылки, один и тот же материал можно объяснять и очень подробно, и рассматривая только базовые вопросы темы. Темп и объём излагаемого материала, определяется по ходу урок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 время демонстрации презентации, даже с применением проектора, рабочее место учащихся достаточно хорошо освещено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вышение уровня использования наглядности на урок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49E67-EC3D-4FA8-941A-2426DFE89BC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вышение производительности урок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ановление межпредметных связей с другими предметам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является возможность организации проектной деятельности учащихся по созданию учебных программ под руководством преподавателей информатики и учителями-предметникам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подаватель создающий, или использующий информационные технологии вынужден обращать огромное внимание на логику подачи учебного материала, что положительным образом сказывается на  уровне знаний учащихс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меняется, отношение к ПК. Ребята начинают воспринимать его в качестве универсального инструмента для работы в любой области человеческой деятель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6FD35-D0A2-48BD-B050-4B6E7888343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Рекомендации по разработке мультимедийных презента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ультимедийные программные средства обладают большими возможностями в отображении информации, значительно отличающимися от привычных, и оказывают непосредственное влияние на мотивацию обучаемых, скорость восприятия материала, утомляемость и, таким образом, на эффективность учебного процесса в целом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03E60-9E2E-4DA2-BBD9-FADC08DD1FB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На этапе создания мультимедийной презентации необходимо учитывать следующие момент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сихологические особенности учащихся данного класс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и и результаты обучен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уктуру познавательного пространств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стоположение учащихс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бор наиболее эффективных элементов компьютерных технологий для решения конкретных задач конкретного урок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ветовую гамму оформления учебного материа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DB31A-C2EC-4A8D-AF16-31A91509BFE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При создании слайдов необходимо учесть ряд основных требований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айд должен содержать минимально возможное количество сло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надписей и заголовков следует употреблять четкий крупный шрифт, ограничить использование просто текста. Лаконичность — одно из исходных требований при разработке учебных программ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очтительнее выносить на слайд предложения, определения, слова, термины, которые учащиеся будут записывать в тетради, прочитывать их вслух во время демонстрации презентац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мер букв, цифр, знаков, их контрастность определяется необходимостью их четкого рассмотрения с последнего ряда парт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5740E-E93A-4553-B84C-1AA1B58565F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ливка фона, букв, линий предпочтительна спокойного, «неядовитого» цвета, не вызывающая раздражение и утомление глаз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ертежи, рисунки, фотографии и другие иллюстрационные материалы должны, по возможности, иметь максимальный равномерно заполнять все экранное пол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льзя перегружать слайды зрительной информацие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просмотр одного слайда следует отводить достаточное время (не менее 2-3 мин.), чтобы учащиеся могли сконцентрировать внимание на экранном изображении, проследить последовательность действий, рассмотреть все элементы слайда, зафиксировать конечный результат, сделать записи в рабочие тетрад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вуковое сопровождение слайдов не должно носить резкий, отвлекающий, раздражающий характе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C39D8-94AF-412C-8219-E64CB655017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Для обеспечения эффективности учебного процесса необходимо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бегать монотонности, учитывать смену деятельности учащихся по ее уровням: узнавание, воспроизведение, применение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иентироваться на развитие мыслительных (умственных) способностей ребенка, т.е. развитие наблюдательности, ассоциативности, сравнения, аналогии, выделения главного, обобщения, воображения и т.п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ть возможность успешно работать на уроке с применением компьютерных технологий и сильным, и средним, и слабым учащимся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итывать фактор памяти ребенка (оперативной, кратковременной и долговременной). Ограниченно следует контролировать то, что введено только на уровне оперативной и кратковременной памят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D382F-EAB4-464C-A6B3-32222E43CB5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На пути внедрения этих технологий возникают проблемы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сутствие в школе организованных условий с максимально свободным доступом к компьютеру - из-за наличия компьютеров в школе только в кабинете информатики и предназначенных в основном для обучения учащихся;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т заинтересованности учителей - предметников в проведении уроков, связанных с применением в учебном процессе электронных носителей информации, из-за отсутствия поддержки (материальной, организационной, методической и пр.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подаватели не умеют интегрировать проектную методику, использовать компьютерные технологии с достаточно жесткой классно-урочной системо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256C5-E17A-47F0-8FD3-7B11E7673C5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Мультимедиа</a:t>
            </a:r>
            <a:r>
              <a:rPr b="0" i="1" lang="ru-RU" sz="1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это представление объектов и процессов не традиционным текстовым описанием, но с помощью фото, видео, графики, анимации, звука, то есть во всех известных сегодня формах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десь мы имеем два основных преимущества –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ачественное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оличественное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A0A5E-6441-499D-80F5-4E9E674879B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Качественно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новые возможности очевидны, если сравнить словесные описания с непосредственным аудиовизуальным представлением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Количественные</a:t>
            </a: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имущества выражаются в том, что мультимедиа среда много выше по информационной плотност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йствительно, одна страница текста, как известно, содержит около 2 Кбайт информации. Преподаватель произносит этот текст примерно в течении 1-2 минут. За ту же минуту полноэкранное видео приносит порядка 1,2 Гбайт информации. Вот почему «лучше один раз увидеть, чем миллион раз услышать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7FE38-1D30-4E6D-B94D-8B955B5583F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Методика использования мультимедиа технологий предполагает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ершенствование системы управления обучением на различных этапах урока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иление мотивации учения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качества обучения и воспитания, что повысит информационную культуру учащихся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вышение уровня подготовки учащихся в области современных информационных технологий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монстрацию возможностей компьютера, не только как средства для игр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4AADD-F45F-40F3-8703-716A4F84957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Мультимедийные уроки помогают решить следующие дидактические задач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воить базовые знания по предмету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тизировать усвоенные знания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формировать навыки самоконтрол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формировать мотивацию к учению в целом и к информатике в частност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казать учебно-методическую помощь учащимся в самостоятельной работе над учебным материалом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04718-CBFD-4CEF-A3DB-8B190CBB1BE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Мультимедийная презентаци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таким образом, наиболее оптимально и эффективно соответствует </a:t>
            </a: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триединой </a:t>
            </a: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дидактической цели урок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0000"/>
                </a:solidFill>
                <a:uFillTx/>
                <a:latin typeface="Arial"/>
              </a:rPr>
              <a:t>Образовательный аспект</a:t>
            </a: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 восприятие  учащимися учебного материала, осмысливание связей и отношений в объектах изучен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0000"/>
                </a:solidFill>
                <a:uFillTx/>
                <a:latin typeface="Arial"/>
              </a:rPr>
              <a:t>Развивающий аспект</a:t>
            </a: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развитие познавательного интереса у учащихся, умения обобщать, анализировать, сравнивать, активизация творческой деятельности учащихс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0000"/>
                </a:solidFill>
                <a:uFillTx/>
                <a:latin typeface="Arial"/>
              </a:rPr>
              <a:t>Воспитательный  аспект</a:t>
            </a: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воспитание научного мировоззрения, умения четко организовать самостоятельную и групповую работу, воспитание чувства товарищества, взаимопомощ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22A4F-AA17-46F4-9032-64B9762187E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Мультимедийные технологии могут быть использованы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ля анонсирования темы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Тема урока представлена на слайдах, в которых кратко изложены ключевые моменты разбираемого вопроса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к сопровождение объяснения учител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к информационно-обучающее пособ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ля контроля знани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6C7E9-CDAB-416C-8A5C-DC90B153290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Варианты использования компьютерных технологий в обучении географ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07D1B-C934-4B89-9C1F-D0CFC8E2533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00"/>
                </a:solidFill>
                <a:latin typeface="Arial"/>
              </a:rPr>
              <a:t>Варианты использования ИКТ при обучении географ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7A369-AE0A-400D-8BC1-1D5CE41F9C5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2D959-9820-472A-9DC0-616AF5A7F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ACE67-951E-4052-8EF9-DD428E459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3058D-BDD2-4233-BDF3-7AC22EB6A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A93DA-FA3C-4679-B676-8C2A9FF9E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ED7FD-9D3D-493E-AACF-349C80574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08BE6-02C2-4A37-A62A-2B811E147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D8D79-B196-4614-B9A1-BFAD54D7F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B20C3-F06D-4C1F-8E27-77B3976B0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412E3-B6AC-44A8-AA6C-095CA5FBC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36110-B6C0-4120-AEA2-455C39B8D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FF622-D66B-4E85-A572-C784AD141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BD322-B948-46EA-B3F8-9A53AA73C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7FAA4-56CF-4044-A334-A93BE897C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48F32-D98B-4A7D-A97B-6136A3BB9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E1FB8-CC64-4979-9399-86839AABB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FFC20-9D6B-4BA6-81A9-8AEFA17A4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2DAE4-E613-495E-BB49-2A60E9014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A779F-DD97-4393-8E21-3451FC4C0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94E24-578D-40F2-90DE-9E83B465C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D0DE5-FD4E-4486-871F-440C42034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C784E-1503-4D30-AA8A-A6A39E6AA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F1397-8AAC-4D7F-820E-C0BA33EB2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D424E-8B03-4C3A-9EF2-E4DD476C9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D0D18-06FA-4DF4-BAED-D3651B8B8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D0EC4-93C6-443C-A2C4-67E3D7566971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F0190-E496-4180-BBF2-AD21BF3BDAAC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../&#1075;&#1077;&#1086;&#1075;&#1088;&#1072;&#1092;&#1080;&#1103;/&#1084;&#1077;&#1090;&#1086;&#1076;.&#1088;&#1072;&#1073;&#1086;&#1090;&#1072;/&#1055;&#1088;&#1077;&#1079;&#1077;&#1085;&#1090;&#1072;&#1094;&#1080;&#1103;1.ppt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/E:/Local%20Settings/Temp/&#1054;&#1073;&#1091;&#1095;&#1072;&#1102;&#1097;&#1080;&#1077;%20&#1087;&#1088;&#1086;&#1075;&#1088;&#1072;&#1084;&#1084;&#1099;.ppt" TargetMode="External"/><Relationship Id="rId2" Type="http://schemas.openxmlformats.org/officeDocument/2006/relationships/hyperlink" Target="file:///E:/Local%20Settings/Temp/&#1054;&#1073;&#1091;&#1095;&#1072;&#1102;&#1097;&#1080;&#1077;%20&#1087;&#1088;&#1086;&#1075;&#1088;&#1072;&#1084;&#1084;&#1099;.ppt" TargetMode="External"/><Relationship Id="rId3" Type="http://schemas.openxmlformats.org/officeDocument/2006/relationships/hyperlink" Target="file:///E:/Local%20Settings/Temp/&#1054;&#1073;&#1091;&#1095;&#1072;&#1102;&#1097;&#1080;&#1077;%20&#1087;&#1088;&#1086;&#1075;&#1088;&#1072;&#1084;&#1084;&#1099;.ppt" TargetMode="External"/><Relationship Id="rId4" Type="http://schemas.openxmlformats.org/officeDocument/2006/relationships/hyperlink" Target="file:///E:/Local%20Settings/Temp/&#1054;&#1073;&#1091;&#1095;&#1072;&#1102;&#1097;&#1080;&#1077;%20&#1087;&#1088;&#1086;&#1075;&#1088;&#1072;&#1084;&#1084;&#1099;.ppt" TargetMode="External"/><Relationship Id="rId5" Type="http://schemas.openxmlformats.org/officeDocument/2006/relationships/hyperlink" Target="file:///E:/Local%20Settings/Temp/&#1054;&#1073;&#1091;&#1095;&#1072;&#1102;&#1097;&#1080;&#1077;%20&#1087;&#1088;&#1086;&#1075;&#1088;&#1072;&#1084;&#1084;&#1099;.ppt" TargetMode="Externa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Использование мультимедиа технологий</a:t>
            </a:r>
            <a:br>
              <a:rPr sz="4800"/>
            </a:b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 на уроках географии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00"/>
                </a:solidFill>
                <a:latin typeface="Verdana"/>
              </a:rPr>
              <a:t>Учитель географии МОУ Орловской СОШ Самоличенко Наталья Викторовн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Основные направления применения мультимедиа-учебников в обучении географии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Организация познавательной деятельности учащихся на уроке: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передача учебной информации, мотивация обучения, показ, сопоставление процессов и явлений, демонстрация наглядных материалов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Проверка результатов обучения: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практика, тесты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Организация самостоятельной работы учащихся: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самостоятельное приобретение знаний и умений, подготовка докладов и сообщений, осуществление дифференцированного подхода, углубленное изучение географии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304560" y="456840"/>
            <a:ext cx="88390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Verdana"/>
              </a:rPr>
              <a:t>Можно выделить следующие особенности данной технологи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качество изображения, выполняемого мелом на доске, не выдерживает никакого сравнения с аккуратным, ярким, чётким и цветным изображением на экране;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с помощью доски и мела затруднительно и нелепо объяснять работу с различными приложениями;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В случаях выявления в слайдах пособия недостатков или ошибок, можно сравнительно легко устранить дефекты;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В зависимости от подготовленности учащихся, используя в презентациях гиперссылки, один и тот же материал можно объяснять и очень подробно, и рассматривая только базовые вопросы темы. Темп и объём излагаемого материала, определяется по ходу урока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Во время демонстрации презентации, даже с применением проектора, рабочее место учащихся достаточно хорошо освещено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Повышение уровня использования наглядности на уроке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62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Повышение производительности урока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Установление межпредметных связей с другими предметами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Появляется возможность организации проектной деятельности учащихся по созданию учебных программ под руководством преподавателей информатики и учителями-предметниками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Преподаватель создающий, или использующий информационные технологии вынужден обращать огромное внимание на логику подачи учебного материала, что положительным образом сказывается на  уровне знаний учащихся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Изменяется, отношение к ПК. Ребята начинают воспринимать его в качестве универсального инструмента для работы в любой области человеческой деятельности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457200" y="3045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Verdana"/>
              </a:rPr>
              <a:t>Рекомендации по разработке мультимедийных презентаци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ультимедийные программные средства обладают большими возможностями в отображении информации, значительно отличающимися от привычных, и оказывают непосредственное влияние на мотивацию обучаемых, скорость восприятия материала, утомляемость и, таким образом, на эффективность учебного процесса в целом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304920" y="304920"/>
            <a:ext cx="8534160" cy="62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На этапе создания мультимедийной презентации необходимо учитывать следующие моменты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Психологические особенности учащихся данного класса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Цели и результаты обучения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труктуру познавательного пространства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Местоположение учащихся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ыбор наиболее эффективных элементов компьютерных технологий для решения конкретных задач конкретного урока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Цветовую гамму оформления учебного материал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380520" y="380880"/>
            <a:ext cx="84582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При создании слайдов необходимо учесть ряд основных требований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Слайд должен содержать минимально возможное количество слов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Для надписей и заголовков следует употреблять четкий крупный шрифт, ограничить использование просто текста. Лаконичность — одно из исходных требований при разработке учебных программ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Предпочтительнее выносить на слайд предложения, определения, слова, термины, которые учащиеся будут записывать в тетради, прочитывать их вслух во время демонстрации презентации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Размер букв, цифр, знаков, их контрастность определяется необходимостью их четкого рассмотрения с последнего ряда парт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304920" y="304560"/>
            <a:ext cx="853416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Заливка фона, букв, линий предпочтительна спокойного, «неядовитого» цвета, не вызывающая раздражение и утомление глаз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Чертежи, рисунки, фотографии и другие иллюстрационные материалы должны, по возможности, иметь максимальный равномерно заполнять все экранное поле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Нельзя перегружать слайды зрительной информацией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На просмотр одного слайда следует отводить достаточное время (не менее 2-3 мин.), чтобы учащиеся могли сконцентрировать внимание на экранном изображении, проследить последовательность действий, рассмотреть все элементы слайда, зафиксировать конечный результат, сделать записи в рабочие тетради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Звуковое сопровождение слайдов не должно носить резкий, отвлекающий, раздражающий характер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304560" y="304560"/>
            <a:ext cx="883908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Для обеспечения эффективности учебного процесса необходимо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избегать монотонности, учитывать смену деятельности учащихся по ее уровням: узнавание, воспроизведение, применение;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ориентироваться на развитие мыслительных (умственных) способностей ребенка, т.е. развитие наблюдательности, ассоциативности, сравнения, аналогии, выделения главного, обобщения, воображения и т.п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дать возможность успешно работать на уроке с применением компьютерных технологий и сильным, и средним, и слабым учащимся;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учитывать фактор памяти ребенка (оперативной, кратковременной и долговременной). Ограниченно следует контролировать то, что введено только на уровне оперативной и кратковременной памяти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304560" y="304560"/>
            <a:ext cx="883908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На пути внедрения этих технологий возникают проблемы: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отсутствие в школе организованных условий с максимально свободным доступом к компьютеру - из-за наличия компьютеров в школе только в кабинете информатики и предназначенных в основном для обучения учащихся; 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нет заинтересованности учителей - предметников в проведении уроков, связанных с применением в учебном процессе электронных носителей информации, из-за отсутствия поддержки (материальной, организационной, методической и пр.);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преподаватели не умеют интегрировать проектную методику, использовать компьютерные технологии с достаточно жесткой классно-урочной системой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57200" y="609120"/>
            <a:ext cx="8229600" cy="552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Verdana"/>
              </a:rPr>
              <a:t>Мультимедиа</a:t>
            </a:r>
            <a:r>
              <a:rPr b="0" i="1" lang="ru-RU" sz="32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- это представление объектов и процессов не традиционным текстовым описанием, но с помощью фото, видео, графики, анимации, звука, то есть во всех известных сегодня формах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десь мы имеем два основных преимущества – 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качественное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и 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количественное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0" y="380520"/>
            <a:ext cx="86868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Качественно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новые возможности очевидны, если сравнить словесные описания с непосредственным аудиовизуальным представлением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Количественные</a:t>
            </a:r>
            <a:r>
              <a:rPr b="0" lang="ru-RU" sz="2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преимущества выражаются в том, что мультимедиа среда много выше по информационной плотности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Действительно, одна страница текста, как известно, содержит около 2 Кбайт информации. Преподаватель произносит этот текст примерно в течении 1-2 минут. За ту же минуту полноэкранное видео приносит порядка 1,2 Гбайт информации. Вот почему «лучше один раз увидеть, чем миллион раз услышать»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Методика использования мультимедиа технологий предполагает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овершенствование системы управления обучением на различных этапах урока;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усиление мотивации учения;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улучшение качества обучения и воспитания, что повысит информационную культуру учащихся;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повышение уровня подготовки учащихся в области современных информационных технологий;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демонстрацию возможностей компьютера, не только как средства для игры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Мультимедийные уроки помогают решить следующие дидактические задачи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усвоить базовые знания по предмету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истематизировать усвоенные знания;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формировать навыки самоконтроля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формировать мотивацию к учению в целом и к информатике в частности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оказать учебно-методическую помощь учащимся в самостоятельной работе над учебным материалом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-360" y="304920"/>
            <a:ext cx="8839080" cy="62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Мультимедийная презентация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, таким образом, наиболее оптимально и эффективно соответствует </a:t>
            </a: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триединой </a:t>
            </a:r>
            <a:r>
              <a:rPr b="0" lang="ru-RU" sz="2400" spc="-1" strike="noStrike">
                <a:solidFill>
                  <a:srgbClr val="ff0000"/>
                </a:solidFill>
                <a:latin typeface="Verdana"/>
              </a:rPr>
              <a:t>дидактической цели урока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: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Verdana"/>
              </a:rPr>
              <a:t>Образовательный аспект</a:t>
            </a:r>
            <a:r>
              <a:rPr b="0" lang="ru-RU" sz="2400" spc="-1" strike="noStrike">
                <a:solidFill>
                  <a:srgbClr val="ff0000"/>
                </a:solidFill>
                <a:latin typeface="Verdana"/>
              </a:rPr>
              <a:t>: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  восприятие  учащимися учебного материала, осмысливание связей и отношений в объектах изучения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Verdana"/>
              </a:rPr>
              <a:t>Развивающий аспект</a:t>
            </a:r>
            <a:r>
              <a:rPr b="0" lang="ru-RU" sz="2400" spc="-1" strike="noStrike">
                <a:solidFill>
                  <a:srgbClr val="ff0000"/>
                </a:solidFill>
                <a:latin typeface="Verdana"/>
              </a:rPr>
              <a:t>: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развитие познавательного интереса у учащихся, умения обобщать, анализировать, сравнивать, активизация творческой деятельности учащихся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Verdana"/>
              </a:rPr>
              <a:t>Воспитательный  аспект</a:t>
            </a:r>
            <a:r>
              <a:rPr b="0" lang="ru-RU" sz="2400" spc="-1" strike="noStrike">
                <a:solidFill>
                  <a:srgbClr val="ff0000"/>
                </a:solidFill>
                <a:latin typeface="Verdana"/>
              </a:rPr>
              <a:t>: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воспитание научного мировоззрения, умения четко организовать самостоятельную и групповую работу, воспитание чувства товарищества, взаимопомощи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304560" y="304920"/>
            <a:ext cx="883908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Verdana"/>
              </a:rPr>
              <a:t>Мультимедийные технологии могут быть использованы: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-53352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Для анонсирования темы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br>
              <a:rPr sz="3200"/>
            </a:b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(Тема урока представлена на слайдах, в которых кратко изложены ключевые моменты разбираемого вопроса)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Как сопровождение объяснения учителя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Как информационно-обучающее пособие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4. </a:t>
            </a: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Для контроля знаний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304920" y="0"/>
            <a:ext cx="853416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Варианты использования компьютерных технологий в обучении географии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AutoShape 4"/>
          <p:cNvSpPr/>
          <p:nvPr/>
        </p:nvSpPr>
        <p:spPr>
          <a:xfrm>
            <a:off x="2971800" y="3124080"/>
            <a:ext cx="2160720" cy="1008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ff00"/>
                </a:solidFill>
                <a:latin typeface="Arial"/>
              </a:rPr>
              <a:t>Внеурочная</a:t>
            </a:r>
            <a:br>
              <a:rPr sz="2500"/>
            </a:br>
            <a:r>
              <a:rPr b="1" lang="ru-RU" sz="2500" spc="-1" strike="noStrike">
                <a:solidFill>
                  <a:srgbClr val="00ff00"/>
                </a:solidFill>
                <a:latin typeface="Arial"/>
              </a:rPr>
              <a:t>работа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AutoShape 5"/>
          <p:cNvSpPr/>
          <p:nvPr/>
        </p:nvSpPr>
        <p:spPr>
          <a:xfrm>
            <a:off x="2895480" y="3048120"/>
            <a:ext cx="2762280" cy="882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ff00"/>
                </a:solidFill>
                <a:latin typeface="Arial"/>
              </a:rPr>
              <a:t>Электронные</a:t>
            </a:r>
            <a:br>
              <a:rPr sz="2500"/>
            </a:br>
            <a:r>
              <a:rPr b="1" lang="ru-RU" sz="2500" spc="-1" strike="noStrike">
                <a:solidFill>
                  <a:srgbClr val="00ff00"/>
                </a:solidFill>
                <a:latin typeface="Arial"/>
              </a:rPr>
              <a:t>учебники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AutoShape 6"/>
          <p:cNvSpPr/>
          <p:nvPr/>
        </p:nvSpPr>
        <p:spPr>
          <a:xfrm>
            <a:off x="2971800" y="2971800"/>
            <a:ext cx="3025800" cy="944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ff00"/>
                </a:solidFill>
                <a:latin typeface="Arial"/>
              </a:rPr>
              <a:t>Картографические </a:t>
            </a:r>
            <a:br>
              <a:rPr sz="2500"/>
            </a:br>
            <a:r>
              <a:rPr b="1" lang="ru-RU" sz="2500" spc="-1" strike="noStrike">
                <a:solidFill>
                  <a:srgbClr val="00ff00"/>
                </a:solidFill>
                <a:latin typeface="Arial"/>
              </a:rPr>
              <a:t>проекции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AutoShape 7">
            <a:hlinkClick r:id="rId1"/>
          </p:cNvPr>
          <p:cNvSpPr/>
          <p:nvPr/>
        </p:nvSpPr>
        <p:spPr>
          <a:xfrm>
            <a:off x="3124080" y="3276720"/>
            <a:ext cx="2664000" cy="100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ff00"/>
                </a:solidFill>
                <a:latin typeface="Arial"/>
              </a:rPr>
              <a:t>Презентации </a:t>
            </a:r>
            <a:br>
              <a:rPr sz="2500"/>
            </a:br>
            <a:r>
              <a:rPr b="1" lang="ru-RU" sz="2500" spc="-1" strike="noStrike">
                <a:solidFill>
                  <a:srgbClr val="00ff00"/>
                </a:solidFill>
                <a:latin typeface="Arial"/>
              </a:rPr>
              <a:t>к урокам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AutoShape 8"/>
          <p:cNvSpPr/>
          <p:nvPr/>
        </p:nvSpPr>
        <p:spPr>
          <a:xfrm>
            <a:off x="2819520" y="1905120"/>
            <a:ext cx="3384360" cy="1655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ff00"/>
                </a:solidFill>
                <a:latin typeface="Arial"/>
              </a:rPr>
              <a:t>Защита </a:t>
            </a:r>
            <a:br>
              <a:rPr sz="2500"/>
            </a:br>
            <a:r>
              <a:rPr b="1" lang="ru-RU" sz="2500" spc="-1" strike="noStrike">
                <a:solidFill>
                  <a:srgbClr val="00ff00"/>
                </a:solidFill>
                <a:latin typeface="Arial"/>
              </a:rPr>
              <a:t>исследовательских </a:t>
            </a:r>
            <a:br>
              <a:rPr sz="2500"/>
            </a:br>
            <a:r>
              <a:rPr b="1" lang="ru-RU" sz="2500" spc="-1" strike="noStrike">
                <a:solidFill>
                  <a:srgbClr val="00ff00"/>
                </a:solidFill>
                <a:latin typeface="Arial"/>
              </a:rPr>
              <a:t>и проектных</a:t>
            </a:r>
            <a:br>
              <a:rPr sz="2500"/>
            </a:br>
            <a:r>
              <a:rPr b="1" lang="ru-RU" sz="2500" spc="-1" strike="noStrike">
                <a:solidFill>
                  <a:srgbClr val="00ff00"/>
                </a:solidFill>
                <a:latin typeface="Arial"/>
              </a:rPr>
              <a:t> работ учащихся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AutoShape 9"/>
          <p:cNvSpPr/>
          <p:nvPr/>
        </p:nvSpPr>
        <p:spPr>
          <a:xfrm>
            <a:off x="2819520" y="3657600"/>
            <a:ext cx="3354120" cy="1017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ff00"/>
                </a:solidFill>
                <a:latin typeface="Arial"/>
              </a:rPr>
              <a:t>Интеллектуальные</a:t>
            </a:r>
            <a:br>
              <a:rPr sz="2500"/>
            </a:br>
            <a:r>
              <a:rPr b="1" lang="ru-RU" sz="2500" spc="-1" strike="noStrike">
                <a:solidFill>
                  <a:srgbClr val="00ff00"/>
                </a:solidFill>
                <a:latin typeface="Arial"/>
              </a:rPr>
              <a:t>игры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AutoShape 10"/>
          <p:cNvSpPr/>
          <p:nvPr/>
        </p:nvSpPr>
        <p:spPr>
          <a:xfrm>
            <a:off x="2514600" y="3809880"/>
            <a:ext cx="2951280" cy="1008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ff00"/>
                </a:solidFill>
                <a:latin typeface="Arial"/>
              </a:rPr>
              <a:t>Творческие</a:t>
            </a:r>
            <a:br>
              <a:rPr sz="2500"/>
            </a:br>
            <a:r>
              <a:rPr b="1" lang="ru-RU" sz="2500" spc="-1" strike="noStrike">
                <a:solidFill>
                  <a:srgbClr val="00ff00"/>
                </a:solidFill>
                <a:latin typeface="Arial"/>
              </a:rPr>
              <a:t>работы учащихся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-1.38889E-006 4.33526E-006 L 0.37014 0.00023 E">
                                      <p:cBhvr>
                                        <p:cTn id="9" dur="2000" fill="hold"/>
                                        <p:tgtEl>
                                          <p:spTgt spid="1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-1.38889E-006 -1.96532E-006 L -0.33073 0.2622 E">
                                      <p:cBhvr>
                                        <p:cTn id="14" dur="2000" fill="hold"/>
                                        <p:tgtEl>
                                          <p:spTgt spid="1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8" nodeType="after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4.72222E-006 3.58382E-006 L -0.33056 3.58382E-006 E">
                                      <p:cBhvr>
                                        <p:cTn id="19" dur="2000" fill="hold"/>
                                        <p:tgtEl>
                                          <p:spTgt spid="1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1" nodeType="afterEffect" fill="hold" presetClass="entr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4" nodeType="after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3.05556E-006 -8.67052E-007 L -0.29532 -0.283 E">
                                      <p:cBhvr>
                                        <p:cTn id="25" dur="2000" fill="hold"/>
                                        <p:tgtEl>
                                          <p:spTgt spid="1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9" nodeType="after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3.05556E-006 1.79191E-006 L -0.00382 0.35167 E">
                                      <p:cBhvr>
                                        <p:cTn id="30" dur="2000" fill="hold"/>
                                        <p:tgtEl>
                                          <p:spTgt spid="1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34" nodeType="after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-1.38889E-006 -1.96532E-006 L 0.33872 0.2726 E">
                                      <p:cBhvr>
                                        <p:cTn id="35" dur="2000" fill="hold"/>
                                        <p:tgtEl>
                                          <p:spTgt spid="1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3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40" nodeType="after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-3.33333E-006 -5.78035E-007 L 0.29549 -0.32485 E">
                                      <p:cBhvr>
                                        <p:cTn id="41" dur="2000" fill="hold"/>
                                        <p:tgtEl>
                                          <p:spTgt spid="1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Arial"/>
              </a:rPr>
              <a:t>Варианты использования ИКТ при обучении географии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188" name="Organization Chart 4"/>
          <p:cNvGrpSpPr/>
          <p:nvPr/>
        </p:nvGrpSpPr>
        <p:grpSpPr>
          <a:xfrm>
            <a:off x="457200" y="1713600"/>
            <a:ext cx="8228160" cy="5143680"/>
            <a:chOff x="457200" y="1713600"/>
            <a:chExt cx="8228160" cy="5143680"/>
          </a:xfrm>
        </p:grpSpPr>
        <p:cxnSp>
          <p:nvCxnSpPr>
            <p:cNvPr id="189" name="_s1028"/>
            <p:cNvCxnSpPr>
              <a:stCxn id="190" idx="1"/>
              <a:endCxn id="191" idx="2"/>
            </p:cNvCxnSpPr>
            <p:nvPr/>
          </p:nvCxnSpPr>
          <p:spPr>
            <a:xfrm rot="10800000">
              <a:off x="2925000" y="2580840"/>
              <a:ext cx="823320" cy="37825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92" name="_s1029"/>
            <p:cNvCxnSpPr>
              <a:stCxn id="193" idx="1"/>
              <a:endCxn id="191" idx="2"/>
            </p:cNvCxnSpPr>
            <p:nvPr/>
          </p:nvCxnSpPr>
          <p:spPr>
            <a:xfrm rot="10800000">
              <a:off x="2925000" y="2580840"/>
              <a:ext cx="823320" cy="23569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94" name="_s1030"/>
            <p:cNvCxnSpPr>
              <a:stCxn id="195" idx="1"/>
              <a:endCxn id="191" idx="2"/>
            </p:cNvCxnSpPr>
            <p:nvPr/>
          </p:nvCxnSpPr>
          <p:spPr>
            <a:xfrm rot="10800000">
              <a:off x="2925000" y="2580840"/>
              <a:ext cx="823320" cy="92844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91" name="_s1031"/>
            <p:cNvSpPr/>
            <p:nvPr/>
          </p:nvSpPr>
          <p:spPr>
            <a:xfrm>
              <a:off x="457200" y="1713600"/>
              <a:ext cx="4937040" cy="86760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00ff"/>
                  </a:solidFill>
                  <a:latin typeface="Tahoma"/>
                </a:rPr>
                <a:t>Компьютерные </a:t>
              </a:r>
              <a:endParaRPr b="0" lang="en-US" sz="28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00ff"/>
                  </a:solidFill>
                  <a:latin typeface="Tahoma"/>
                </a:rPr>
                <a:t>технологии</a:t>
              </a:r>
              <a:endParaRPr b="0" lang="en-US" sz="2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5" name="_s1032"/>
            <p:cNvSpPr/>
            <p:nvPr/>
          </p:nvSpPr>
          <p:spPr>
            <a:xfrm>
              <a:off x="3748320" y="3015360"/>
              <a:ext cx="4937040" cy="99144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ffffff"/>
                  </a:solidFill>
                  <a:latin typeface="Tahoma"/>
                </a:rPr>
                <a:t>	</a:t>
              </a:r>
              <a:r>
                <a:rPr b="1" lang="en-US" sz="1600" spc="-1" strike="noStrike" u="sng">
                  <a:solidFill>
                    <a:srgbClr val="ffffff"/>
                  </a:solidFill>
                  <a:uFillTx/>
                  <a:latin typeface="Tahoma"/>
                </a:rPr>
                <a:t>Подготовка учителя:</a:t>
              </a:r>
              <a:endParaRPr b="0" lang="en-US" sz="1600" spc="-1" strike="noStrike">
                <a:solidFill>
                  <a:srgbClr val="ffffff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 u="sng">
                  <a:solidFill>
                    <a:srgbClr val="ffffff"/>
                  </a:solidFill>
                  <a:uFillTx/>
                  <a:latin typeface="Tahoma"/>
                </a:rPr>
                <a:t> </a:t>
              </a:r>
              <a:r>
                <a:rPr b="1" lang="en-US" sz="1600" spc="-1" strike="noStrike" u="sng">
                  <a:solidFill>
                    <a:srgbClr val="ffffff"/>
                  </a:solidFill>
                  <a:uFillTx/>
                  <a:latin typeface="Tahoma"/>
                </a:rPr>
                <a:t>план курса, темы, занятия;</a:t>
              </a:r>
              <a:endParaRPr b="0" lang="en-US" sz="1600" spc="-1" strike="noStrike">
                <a:solidFill>
                  <a:srgbClr val="ffffff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 u="sng">
                  <a:solidFill>
                    <a:srgbClr val="ffffff"/>
                  </a:solidFill>
                  <a:uFillTx/>
                  <a:latin typeface="Tahoma"/>
                </a:rPr>
                <a:t> </a:t>
              </a:r>
              <a:r>
                <a:rPr b="1" lang="en-US" sz="1600" spc="-1" strike="noStrike" u="sng">
                  <a:solidFill>
                    <a:srgbClr val="ffffff"/>
                  </a:solidFill>
                  <a:uFillTx/>
                  <a:latin typeface="Tahoma"/>
                </a:rPr>
                <a:t>содержание занятия (конспект);</a:t>
              </a:r>
              <a:endParaRPr b="0" lang="en-US" sz="1600" spc="-1" strike="noStrike">
                <a:solidFill>
                  <a:srgbClr val="ffffff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 u="sng">
                  <a:solidFill>
                    <a:srgbClr val="ffffff"/>
                  </a:solidFill>
                  <a:uFillTx/>
                  <a:latin typeface="Tahoma"/>
                </a:rPr>
                <a:t> </a:t>
              </a:r>
              <a:r>
                <a:rPr b="0" lang="en-US" sz="1600" spc="-1" strike="noStrike" u="sng">
                  <a:solidFill>
                    <a:srgbClr val="ffffcc"/>
                  </a:solidFill>
                  <a:uFillTx/>
                  <a:latin typeface="Tahoma"/>
                  <a:hlinkClick r:id="rId1"/>
                </a:rPr>
                <a:t>подготовка дидактического материа</a:t>
              </a:r>
              <a:r>
                <a:rPr b="0" lang="en-US" sz="1600" spc="-1" strike="noStrike" u="sng">
                  <a:solidFill>
                    <a:srgbClr val="ffffff"/>
                  </a:solidFill>
                  <a:uFillTx/>
                  <a:latin typeface="Tahoma"/>
                </a:rPr>
                <a:t>ла</a:t>
              </a:r>
              <a:endParaRPr b="0" lang="en-US" sz="16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3" name="_s1033"/>
            <p:cNvSpPr/>
            <p:nvPr/>
          </p:nvSpPr>
          <p:spPr>
            <a:xfrm>
              <a:off x="3748320" y="4440960"/>
              <a:ext cx="4937040" cy="99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ffffff"/>
                  </a:solidFill>
                  <a:latin typeface="Tahoma"/>
                </a:rPr>
                <a:t>	</a:t>
              </a: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Подготовка ученика:</a:t>
              </a:r>
              <a:endParaRPr b="0" lang="en-US" sz="1600" spc="-1" strike="noStrike">
                <a:solidFill>
                  <a:srgbClr val="ffffff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 u="sng">
                  <a:solidFill>
                    <a:srgbClr val="ffffff"/>
                  </a:solidFill>
                  <a:uFillTx/>
                  <a:latin typeface="Tahoma"/>
                </a:rPr>
                <a:t> </a:t>
              </a:r>
              <a:r>
                <a:rPr b="1" lang="en-US" sz="1600" spc="-1" strike="noStrike" u="sng">
                  <a:solidFill>
                    <a:srgbClr val="ffffff"/>
                  </a:solidFill>
                  <a:uFillTx/>
                  <a:latin typeface="Tahoma"/>
                </a:rPr>
                <a:t>домашние задания;</a:t>
              </a:r>
              <a:endParaRPr b="0" lang="en-US" sz="1600" spc="-1" strike="noStrike">
                <a:solidFill>
                  <a:srgbClr val="ffffff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 u="sng">
                  <a:solidFill>
                    <a:srgbClr val="ffffff"/>
                  </a:solidFill>
                  <a:uFillTx/>
                  <a:latin typeface="Tahoma"/>
                </a:rPr>
                <a:t> </a:t>
              </a:r>
              <a:r>
                <a:rPr b="1" lang="en-US" sz="1600" spc="-1" strike="noStrike" u="sng">
                  <a:solidFill>
                    <a:srgbClr val="ffffff"/>
                  </a:solidFill>
                  <a:uFillTx/>
                  <a:latin typeface="Tahoma"/>
                </a:rPr>
                <a:t>творческие задания;</a:t>
              </a:r>
              <a:endParaRPr b="0" lang="en-US" sz="1600" spc="-1" strike="noStrike">
                <a:solidFill>
                  <a:srgbClr val="ffffff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 u="sng">
                  <a:solidFill>
                    <a:srgbClr val="ffffff"/>
                  </a:solidFill>
                  <a:uFillTx/>
                  <a:latin typeface="Tahoma"/>
                </a:rPr>
                <a:t> </a:t>
              </a:r>
              <a:r>
                <a:rPr b="1" lang="en-US" sz="1600" spc="-1" strike="noStrike" u="sng">
                  <a:solidFill>
                    <a:srgbClr val="ffffff"/>
                  </a:solidFill>
                  <a:uFillTx/>
                  <a:latin typeface="Tahoma"/>
                </a:rPr>
                <a:t>подготовка дидактического материала</a:t>
              </a:r>
              <a:endParaRPr b="0" lang="en-US" sz="16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0" name="_s1034"/>
            <p:cNvSpPr/>
            <p:nvPr/>
          </p:nvSpPr>
          <p:spPr>
            <a:xfrm>
              <a:off x="3748320" y="5865840"/>
              <a:ext cx="4937040" cy="99144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ffffff"/>
                  </a:solidFill>
                  <a:latin typeface="Tahoma"/>
                </a:rPr>
                <a:t>	</a:t>
              </a: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Проведение занятий:</a:t>
              </a:r>
              <a:endParaRPr b="0" lang="en-US" sz="1600" spc="-1" strike="noStrike">
                <a:solidFill>
                  <a:srgbClr val="ffffff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buClr>
                  <a:srgbClr val="ffffcc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 u="sng">
                  <a:solidFill>
                    <a:srgbClr val="ffffcc"/>
                  </a:solidFill>
                  <a:uFillTx/>
                  <a:latin typeface="Tahoma"/>
                  <a:hlinkClick r:id="rId2"/>
                </a:rPr>
                <a:t> </a:t>
              </a:r>
              <a:r>
                <a:rPr b="0" lang="en-US" sz="1600" spc="-1" strike="noStrike" u="sng">
                  <a:solidFill>
                    <a:srgbClr val="ffffcc"/>
                  </a:solidFill>
                  <a:uFillTx/>
                  <a:latin typeface="Tahoma"/>
                  <a:hlinkClick r:id="rId3"/>
                </a:rPr>
                <a:t>обучающие программы</a:t>
              </a:r>
              <a:endParaRPr b="0" lang="en-US" sz="1600" spc="-1" strike="noStrike">
                <a:solidFill>
                  <a:srgbClr val="ffffff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 u="sng">
                  <a:solidFill>
                    <a:srgbClr val="ffffff"/>
                  </a:solidFill>
                  <a:uFillTx/>
                  <a:latin typeface="Tahoma"/>
                </a:rPr>
                <a:t> </a:t>
              </a:r>
              <a:r>
                <a:rPr b="0" lang="en-US" sz="1600" spc="-1" strike="noStrike" u="sng">
                  <a:solidFill>
                    <a:srgbClr val="ffffcc"/>
                  </a:solidFill>
                  <a:uFillTx/>
                  <a:latin typeface="Tahoma"/>
                  <a:hlinkClick r:id="rId4"/>
                </a:rPr>
                <a:t>игры</a:t>
              </a:r>
              <a:endParaRPr b="0" lang="en-US" sz="1600" spc="-1" strike="noStrike">
                <a:solidFill>
                  <a:srgbClr val="ffffff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 u="sng">
                  <a:solidFill>
                    <a:srgbClr val="ffffff"/>
                  </a:solidFill>
                  <a:uFillTx/>
                  <a:latin typeface="Tahoma"/>
                </a:rPr>
                <a:t> </a:t>
              </a:r>
              <a:r>
                <a:rPr b="0" lang="en-US" sz="1600" spc="-1" strike="noStrike" u="sng">
                  <a:solidFill>
                    <a:srgbClr val="ffffcc"/>
                  </a:solidFill>
                  <a:uFillTx/>
                  <a:latin typeface="Tahoma"/>
                  <a:hlinkClick r:id="rId5"/>
                </a:rPr>
                <a:t>тесты</a:t>
              </a:r>
              <a:endParaRPr b="0" lang="en-US" sz="16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9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0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77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9" dur="770" fill="hold"/>
                                        <p:tgtEl>
                                          <p:spTgt spid="18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1" dur="77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3" dur="77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EGION</dc:creator>
  <dc:description/>
  <dc:language>en-US</dc:language>
  <cp:lastModifiedBy>LEGION</cp:lastModifiedBy>
  <dcterms:modified xsi:type="dcterms:W3CDTF">2014-12-29T11:31:05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