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4EEC-2FC2-49AA-BDA5-83B9962118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59B5-64D3-4A9C-8F0B-0F05B1F328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новное занятие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чебник стр. 113, выписать в рабочую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A298-45DA-427C-BC19-91A1063ECE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: учебник стр. 110-11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№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F88D-EC1F-4721-AC0F-992987ED75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E131-6060-43A3-A28D-EDFDBCAC0F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пределите по карте полушарий, ка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оря и океаны омывают Афри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йдите на карте реку Нил. В как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падает эта река? Какие еще реки есть в Афри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пределите куда впадает каждая из этих р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называется остров который располо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 востоку от Афр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9A0-4FDD-462C-8D45-385CD75FE6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огодные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а- одна из самых больших и жарких пустынь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о здесь почти безоблачное. Днём поверхность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ается до +80 С. Температура воздуха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до + 50 С. Ночью поверхность Земли и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о охлаждаются. Дожди в Сахаре бывают очень ред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песчаные бури – часто. Во время бурь раскалё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ер переносит тонны пе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71FF-A90A-4B0F-A5E0-8C84D2E72F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обенности растите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8661-5C56-4FB4-AA05-65E1EAA815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обенности живот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6E98-37E0-4EBB-A082-F207607EE7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E83-9060-4AD2-ACE3-2C7E09BE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2D8-F5BF-4548-9A01-D050B7F5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0A2-2846-4090-BA22-E6FE73EF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735-A46F-4F97-B533-19240F22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B27-F54E-49C5-A696-2F8F9E96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D0E-C698-4D66-A13C-6E63B96E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4ED-85C8-4F10-862C-3F476E8C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A10-4B8D-4CA7-9BB5-3FFC41D2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CDB-168D-4471-B4BE-23B179C5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33B-76EC-461F-8EDF-AE0A3B33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DAC-C527-49E6-B7CF-F0606B35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4EF-153B-41C7-BD71-C1FFAB23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2F65-E6D2-4574-B409-D599F432B2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6BPhysicalFeatures - Dese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675440" y="2060640"/>
            <a:ext cx="606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пустыне Афр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802880" y="549360"/>
            <a:ext cx="60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Основное занятие нас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725480" y="2349360"/>
            <a:ext cx="57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бник стр. 113, выписать в рабочую тетра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2349360"/>
            <a:ext cx="813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: учебник стр. 110-11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 №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Животные Африки - Африка 1 - О животных - Фото"/>
          <p:cNvPicPr/>
          <p:nvPr/>
        </p:nvPicPr>
        <p:blipFill>
          <a:blip r:embed="rId1"/>
          <a:stretch/>
        </p:blipFill>
        <p:spPr>
          <a:xfrm>
            <a:off x="250920" y="115920"/>
            <a:ext cx="8388360" cy="62913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Пустыня Сахара Всё о туризме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166760" y="1386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68360" y="1150920"/>
            <a:ext cx="9326520" cy="4054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2"/>
          <p:cNvSpPr/>
          <p:nvPr/>
        </p:nvSpPr>
        <p:spPr>
          <a:xfrm>
            <a:off x="3124080" y="62704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English Learning &amp; Correc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3512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74600" y="1484280"/>
            <a:ext cx="896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е по карте полушарий, ка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ря и океаны омывают Афр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йдите на карте реку Нил. В какое мо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падает эта река? Какие еще реки есть в Афри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е куда впадает каждая из этих р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называется остров который располо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востоку от Афр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203184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32360" y="27468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Погодные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08000" y="170028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хара- одна из самых больших и жарких пустынь пла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бо здесь почти безоблачное. Днём поверхность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ается до +80 С. Температура воздуха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ается до + 50 С. Ночью поверхность Земли и 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 охлаждаются. Дожди в Сахаре бывают очень ре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т песчаные бури – часто. Во время бурь раскалё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ер переносит тонны пе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39640" y="404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09548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Фото цветов - Фото цветов"/>
          <p:cNvPicPr/>
          <p:nvPr/>
        </p:nvPicPr>
        <p:blipFill>
          <a:blip r:embed="rId2"/>
          <a:stretch/>
        </p:blipFill>
        <p:spPr>
          <a:xfrm>
            <a:off x="1763640" y="1341360"/>
            <a:ext cx="2665440" cy="2333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4335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Американские производители одежды бойкотируют узбекский хлопок - Рамблер-Новости"/>
          <p:cNvPicPr/>
          <p:nvPr/>
        </p:nvPicPr>
        <p:blipFill>
          <a:blip r:embed="rId3"/>
          <a:stretch/>
        </p:blipFill>
        <p:spPr>
          <a:xfrm>
            <a:off x="5148360" y="1341360"/>
            <a:ext cx="2809800" cy="2371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311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RUSTF.RU - Журнал о торговом финансировании"/>
          <p:cNvPicPr/>
          <p:nvPr/>
        </p:nvPicPr>
        <p:blipFill>
          <a:blip r:embed="rId4"/>
          <a:stretch/>
        </p:blipFill>
        <p:spPr>
          <a:xfrm>
            <a:off x="2484360" y="4005360"/>
            <a:ext cx="4556160" cy="222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103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100430727_1324064647_20081011191406_img_4051"/>
          <p:cNvPicPr/>
          <p:nvPr/>
        </p:nvPicPr>
        <p:blipFill>
          <a:blip r:embed="rId2"/>
          <a:stretch/>
        </p:blipFill>
        <p:spPr>
          <a:xfrm>
            <a:off x="539640" y="333360"/>
            <a:ext cx="4464000" cy="2976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90384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Еда для качков, здоровая пища - rusbody.com"/>
          <p:cNvPicPr/>
          <p:nvPr/>
        </p:nvPicPr>
        <p:blipFill>
          <a:blip r:embed="rId3"/>
          <a:stretch/>
        </p:blipFill>
        <p:spPr>
          <a:xfrm>
            <a:off x="4067280" y="2997360"/>
            <a:ext cx="4424400" cy="331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Красивый фон для презентации - Все лушие презент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09548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ГОМЕОПАТИЯ. ВЕРБЛЮЖЬЯ КОЛЮЧКА (Alhagi)"/>
          <p:cNvPicPr/>
          <p:nvPr/>
        </p:nvPicPr>
        <p:blipFill>
          <a:blip r:embed="rId3"/>
          <a:stretch/>
        </p:blipFill>
        <p:spPr>
          <a:xfrm>
            <a:off x="108000" y="333360"/>
            <a:ext cx="4392720" cy="291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4335480" y="424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Фото автора Valery+Olga на Яндекс.Фотках - Valery+Olga- я.ру"/>
          <p:cNvPicPr/>
          <p:nvPr/>
        </p:nvPicPr>
        <p:blipFill>
          <a:blip r:embed="rId4"/>
          <a:stretch/>
        </p:blipFill>
        <p:spPr>
          <a:xfrm>
            <a:off x="3924360" y="2852640"/>
            <a:ext cx="4680000" cy="2952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196280" y="33336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Особенности животно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912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Тушканчики"/>
          <p:cNvPicPr/>
          <p:nvPr/>
        </p:nvPicPr>
        <p:blipFill>
          <a:blip r:embed="rId2"/>
          <a:stretch/>
        </p:blipFill>
        <p:spPr>
          <a:xfrm>
            <a:off x="900000" y="981000"/>
            <a:ext cx="3382920" cy="2119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54348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Знание и жизнь Журнал ПАРТНЕР"/>
          <p:cNvPicPr/>
          <p:nvPr/>
        </p:nvPicPr>
        <p:blipFill>
          <a:blip r:embed="rId3"/>
          <a:stretch/>
        </p:blipFill>
        <p:spPr>
          <a:xfrm>
            <a:off x="4932360" y="981000"/>
            <a:ext cx="3456000" cy="2217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4"/>
          <p:cNvSpPr/>
          <p:nvPr/>
        </p:nvSpPr>
        <p:spPr>
          <a:xfrm>
            <a:off x="102384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В распространении нового коронавируса обвинили верблюдов - МедНовости - MedPortal.ru"/>
          <p:cNvPicPr/>
          <p:nvPr/>
        </p:nvPicPr>
        <p:blipFill>
          <a:blip r:embed="rId4"/>
          <a:stretch/>
        </p:blipFill>
        <p:spPr>
          <a:xfrm>
            <a:off x="971640" y="342900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7"/>
          <p:cNvSpPr/>
          <p:nvPr/>
        </p:nvSpPr>
        <p:spPr>
          <a:xfrm>
            <a:off x="484020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Происшествия"/>
          <p:cNvPicPr/>
          <p:nvPr/>
        </p:nvPicPr>
        <p:blipFill>
          <a:blip r:embed="rId5"/>
          <a:stretch/>
        </p:blipFill>
        <p:spPr>
          <a:xfrm>
            <a:off x="4932360" y="3500280"/>
            <a:ext cx="3384720" cy="2430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20:48:07Z</dcterms:created>
  <dc:creator>User</dc:creator>
  <dc:description/>
  <dc:language>en-US</dc:language>
  <cp:lastModifiedBy>LEGION</cp:lastModifiedBy>
  <dcterms:modified xsi:type="dcterms:W3CDTF">2014-12-30T08:16:17Z</dcterms:modified>
  <cp:revision>6</cp:revision>
  <dc:subject/>
  <dc:title>Слайд 1</dc:title>
</cp:coreProperties>
</file>