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8CDF-33DF-47B9-B53C-9D4C9A6062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 пустыне Аф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F9E3-EC52-4211-953B-345CF4BF1D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Основное занятие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Учебник стр. 113, выписать в рабочую тетрад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FBAF-F673-436E-BE4C-047E854B4D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ашнее задание: учебник стр. 110-113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 №4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31BF-6066-4091-B4BA-0CA7435EA8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37B5-F58C-4A44-8B7F-3EB763D4FE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Определите по карте полушарий, ка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моря и океаны омывают Афри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айдите на карте реку Нил. В какое мо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падает эта река? Какие еще реки есть в Афри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Определите куда впадает каждая из этих р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Как называется остров который располож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к востоку от Афри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FB94-F6DC-4788-91AA-9F93B071C3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Погодные усло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хара- одна из самых больших и жарких пустынь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бо здесь почти безоблачное. Днём поверхность Зем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гревается до +80 С. Температура воздуха при эт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ышается до + 50 С. Ночью поверхность Земли и возду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стро охлаждаются. Дожди в Сахаре бывают очень редк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вот песчаные бури – часто. Во время бурь раскалён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тер переносит тонны пе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4FDD-3EE9-4995-BC28-F1312B8411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Особенности растительного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A411-A6D5-4A05-9186-8EFED59B59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Особенности животного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6A82-9315-469D-A4D3-19F59275AB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9ACC-C521-483F-BB66-94D8A3D4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1511-F559-4C50-89E2-073FC58A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B1AE-D7A5-43BA-8067-F0EA83E1B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EF3B-EB9C-4658-B5A4-43BDBBEB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AE89-08CD-48F9-A0D5-67F172B1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B8EE-3ED7-4129-8949-4A8A6C37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8B11-E40D-44B3-818A-BEF15DCC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E302-B61A-4F47-BF40-859F5055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1C8C-BE6C-417D-89EC-2B74F38B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EAD3-16D6-42A6-A96F-CE0A592A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CDDB-DDAA-4E78-8CDA-FDA7613B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071F-1883-412B-9D37-60881640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1B39-C9F1-4C03-8951-D86FB64E2D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6BPhysicalFeatures - Dese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675440" y="2060640"/>
            <a:ext cx="606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В пустыне Афр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1802880" y="549360"/>
            <a:ext cx="609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Times New Roman"/>
              </a:rPr>
              <a:t>Основное занятие насе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725480" y="2349360"/>
            <a:ext cx="573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чебник стр. 113, выписать в рабочую тетрад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250920" y="2349360"/>
            <a:ext cx="813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машнее задание: учебник стр. 110-11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прос №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Животные Африки - Африка 1 - О животных - Фото"/>
          <p:cNvPicPr/>
          <p:nvPr/>
        </p:nvPicPr>
        <p:blipFill>
          <a:blip r:embed="rId1"/>
          <a:stretch/>
        </p:blipFill>
        <p:spPr>
          <a:xfrm>
            <a:off x="250920" y="115920"/>
            <a:ext cx="8388360" cy="629136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9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2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Пустыня Сахара Всё о туризме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166760" y="1386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Заголовок 1" descr=""/>
          <p:cNvPicPr/>
          <p:nvPr/>
        </p:nvPicPr>
        <p:blipFill>
          <a:blip r:embed="rId2"/>
          <a:stretch/>
        </p:blipFill>
        <p:spPr>
          <a:xfrm>
            <a:off x="468360" y="1150920"/>
            <a:ext cx="9326520" cy="40543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2"/>
          <p:cNvSpPr/>
          <p:nvPr/>
        </p:nvSpPr>
        <p:spPr>
          <a:xfrm>
            <a:off x="3124080" y="62704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English Learning &amp; Correc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735120" y="85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174600" y="1484280"/>
            <a:ext cx="8969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пределите по карте полушарий, ка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оря и океаны омывают Афри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йдите на карте реку Нил. В какое мор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падает эта река? Какие еще реки есть в Афри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пределите куда впадает каждая из этих р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ак называется остров который располож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 востоку от Афри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2031840" y="13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232360" y="274680"/>
            <a:ext cx="384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Times New Roman"/>
              </a:rPr>
              <a:t>Погодные усло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108000" y="1700280"/>
            <a:ext cx="885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хара- одна из самых больших и жарких пустынь план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бо здесь почти безоблачное. Днём поверхность Зем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гревается до +80 С. Температура воздуха при э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ается до + 50 С. Ночью поверхность Земли и возд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стро охлаждаются. Дожди в Сахаре бывают очень ред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вот песчаные бури – часто. Во время бурь раскалё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тер переносит тонны пе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539640" y="404640"/>
            <a:ext cx="184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095480" y="222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Фото цветов - Фото цветов"/>
          <p:cNvPicPr/>
          <p:nvPr/>
        </p:nvPicPr>
        <p:blipFill>
          <a:blip r:embed="rId2"/>
          <a:stretch/>
        </p:blipFill>
        <p:spPr>
          <a:xfrm>
            <a:off x="1763640" y="1341360"/>
            <a:ext cx="2665440" cy="23338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9"/>
          <p:cNvSpPr/>
          <p:nvPr/>
        </p:nvSpPr>
        <p:spPr>
          <a:xfrm>
            <a:off x="4335480" y="330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1" descr="Американские производители одежды бойкотируют узбекский хлопок - Рамблер-Новости"/>
          <p:cNvPicPr/>
          <p:nvPr/>
        </p:nvPicPr>
        <p:blipFill>
          <a:blip r:embed="rId3"/>
          <a:stretch/>
        </p:blipFill>
        <p:spPr>
          <a:xfrm>
            <a:off x="5148360" y="1341360"/>
            <a:ext cx="2809800" cy="23716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2"/>
          <p:cNvSpPr/>
          <p:nvPr/>
        </p:nvSpPr>
        <p:spPr>
          <a:xfrm>
            <a:off x="3111480" y="5105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4" descr="RUSTF.RU - Журнал о торговом финансировании"/>
          <p:cNvPicPr/>
          <p:nvPr/>
        </p:nvPicPr>
        <p:blipFill>
          <a:blip r:embed="rId4"/>
          <a:stretch/>
        </p:blipFill>
        <p:spPr>
          <a:xfrm>
            <a:off x="2484360" y="4005360"/>
            <a:ext cx="4556160" cy="22208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2103480" y="330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100430727_1324064647_20081011191406_img_4051"/>
          <p:cNvPicPr/>
          <p:nvPr/>
        </p:nvPicPr>
        <p:blipFill>
          <a:blip r:embed="rId2"/>
          <a:stretch/>
        </p:blipFill>
        <p:spPr>
          <a:xfrm>
            <a:off x="539640" y="333360"/>
            <a:ext cx="4464000" cy="29764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8"/>
          <p:cNvSpPr/>
          <p:nvPr/>
        </p:nvSpPr>
        <p:spPr>
          <a:xfrm>
            <a:off x="3903840" y="4889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Еда для качков, здоровая пища - rusbody.com"/>
          <p:cNvPicPr/>
          <p:nvPr/>
        </p:nvPicPr>
        <p:blipFill>
          <a:blip r:embed="rId3"/>
          <a:stretch/>
        </p:blipFill>
        <p:spPr>
          <a:xfrm>
            <a:off x="4067280" y="2997360"/>
            <a:ext cx="4424400" cy="33192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Красивый фон для презентации - Все лушие презент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109548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ГОМЕОПАТИЯ. ВЕРБЛЮЖЬЯ КОЛЮЧКА (Alhagi)"/>
          <p:cNvPicPr/>
          <p:nvPr/>
        </p:nvPicPr>
        <p:blipFill>
          <a:blip r:embed="rId3"/>
          <a:stretch/>
        </p:blipFill>
        <p:spPr>
          <a:xfrm>
            <a:off x="108000" y="333360"/>
            <a:ext cx="4392720" cy="29178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9"/>
          <p:cNvSpPr/>
          <p:nvPr/>
        </p:nvSpPr>
        <p:spPr>
          <a:xfrm>
            <a:off x="4335480" y="424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Фото автора Valery+Olga на Яндекс.Фотках - Valery+Olga- я.ру"/>
          <p:cNvPicPr/>
          <p:nvPr/>
        </p:nvPicPr>
        <p:blipFill>
          <a:blip r:embed="rId4"/>
          <a:stretch/>
        </p:blipFill>
        <p:spPr>
          <a:xfrm>
            <a:off x="3924360" y="2852640"/>
            <a:ext cx="4680000" cy="29527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1196280" y="333360"/>
            <a:ext cx="653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Times New Roman"/>
              </a:rPr>
              <a:t>Особенности животного м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51912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Тушканчики"/>
          <p:cNvPicPr/>
          <p:nvPr/>
        </p:nvPicPr>
        <p:blipFill>
          <a:blip r:embed="rId2"/>
          <a:stretch/>
        </p:blipFill>
        <p:spPr>
          <a:xfrm>
            <a:off x="900000" y="981000"/>
            <a:ext cx="3382920" cy="21193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543480" y="4168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Знание и жизнь Журнал ПАРТНЕР"/>
          <p:cNvPicPr/>
          <p:nvPr/>
        </p:nvPicPr>
        <p:blipFill>
          <a:blip r:embed="rId3"/>
          <a:stretch/>
        </p:blipFill>
        <p:spPr>
          <a:xfrm>
            <a:off x="4932360" y="981000"/>
            <a:ext cx="3456000" cy="22179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4"/>
          <p:cNvSpPr/>
          <p:nvPr/>
        </p:nvSpPr>
        <p:spPr>
          <a:xfrm>
            <a:off x="1023840" y="4024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В распространении нового коронавируса обвинили верблюдов - МедНовости - MedPortal.ru"/>
          <p:cNvPicPr/>
          <p:nvPr/>
        </p:nvPicPr>
        <p:blipFill>
          <a:blip r:embed="rId4"/>
          <a:stretch/>
        </p:blipFill>
        <p:spPr>
          <a:xfrm>
            <a:off x="971640" y="3429000"/>
            <a:ext cx="3240000" cy="2376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7"/>
          <p:cNvSpPr/>
          <p:nvPr/>
        </p:nvSpPr>
        <p:spPr>
          <a:xfrm>
            <a:off x="4840200" y="40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9" descr="Происшествия"/>
          <p:cNvPicPr/>
          <p:nvPr/>
        </p:nvPicPr>
        <p:blipFill>
          <a:blip r:embed="rId5"/>
          <a:stretch/>
        </p:blipFill>
        <p:spPr>
          <a:xfrm>
            <a:off x="4932360" y="3500280"/>
            <a:ext cx="3384720" cy="24307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9T20:48:07Z</dcterms:created>
  <dc:creator>User</dc:creator>
  <dc:description/>
  <dc:language>en-US</dc:language>
  <cp:lastModifiedBy>LEGION</cp:lastModifiedBy>
  <dcterms:modified xsi:type="dcterms:W3CDTF">2014-12-30T08:16:17Z</dcterms:modified>
  <cp:revision>6</cp:revision>
  <dc:subject/>
  <dc:title>Слайд 1</dc:title>
</cp:coreProperties>
</file>