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E7ED7-D3CA-4B5D-B183-C65E4464827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hyperlink" Target="http://twogalaxy.narod.ru/earth.html" TargetMode="External"/><Relationship Id="rId2" Type="http://schemas.openxmlformats.org/officeDocument/2006/relationships/hyperlink" Target="http://twogalaxy.narod.ru/sun.html" TargetMode="External"/><Relationship Id="rId3" Type="http://schemas.openxmlformats.org/officeDocument/2006/relationships/slide" Target="../slides/slide2.xml"/><Relationship Id="rId4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ПОЛЬЗОВАНИЕ ЭНЕРГИИ СОЛНЦА НА ЗЕМ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Матвеев Юрий, 9 «А» класс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0DD4B-5513-42A1-BE6B-58746FB0F544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од солнечной крышей МИРА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(энергостанции и "солнечные дома"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ссоциация TransOption, объединяющая государ-ственные и частные транспортные компании штата Нью-Джерси, ежегодно организуют среди школьных команд гонки автомобильных моделей, приводимых в движение солнечной энергией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D80C7-F386-47BB-AAEA-3FF3E983E9DE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лнце является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источником жизн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для всего земног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Солнц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то основной источник энергии на земле и первопричина, создавшая большинство других энергетических ресурсов нашей планеты, таких, как запасы каменного угля, нефти, газа, энергии ветра и падающей воды, электрической энергии и т.д. Энергия Солнца, которая в основном выделяется в виде лучистой энергии, так велика, что её трудно даже себе представи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F9010-7A3F-41EF-A345-2F9B0992AED6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Нью-Йорке солнечную энергию используют даже мусорщики. Здесь в двух районах уже полтора года действуют интеллектуальные солнечные контейнеры для мусора - BigBelly. Используя энергию света, преобразованную в электричество кремниевыми фотоэлементами они утрамбовывают слдержимое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76FDF-32E6-443A-AD0F-C1C9D9289E49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точников энергии на Земле существует много, но, судя по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ому, как стремительно растут цены на энергоресурсы, их все равно не хватает. Многие специалисты полагают, что уже к 2020 году топлива потребуется в три с половиной раза больше, чем сегодня. Где же брать энергию?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A24F9-2B17-4371-8D1F-F341882BE761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ейшая технология нанесения металлоксидной пленки на стеклянную подложку позволяет создавать крупные тонкопленочные солнечные модули. В Америке только на один проект - строительство в пустыне Негев (Израиль) солнечной электростанции - выделено 100 миллионов долла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AA117-BC3F-40CB-8CD1-ACAA11A0F927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близи голландского городка Херхюговарда создан экспериментальный район "Город солнца". Крыши домов здесь покрыты солнечными панелями. Дом на снимке вырабатывает до 25 кВт. Общую мощность "Города солнца" планируется довести до 5 МВт. Такие дома становятся автономными от системы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D482D-ADB4-45EE-B2BF-D6C02F37FF20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олнце можно использовать и как источник энергии для транспортных средст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Австралии уже 19 лет проводятся ежегодные гонки на солнечных электромобилях на трассе между городами Дарвин и Аделаида (3000 км). В 1990 году компания Sanyo построила самолет на солнечных батарея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00963-127E-4662-8B67-2AB92A138679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од солнечной крышей МИРА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(энергостанции и "солнечные дома"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фокусированный СВЧ-луч может передавать собранную солнечными батареями энергию на Землю, а может снабжать ею космические корабли. В отличие от солнечного света этот СВЧ-луч при «пробое» атмосферы потеряет не более 2% энергии. Недавно задумку воскресил Дэвид Крисвел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15253-0C8F-4171-B5B0-7E83EB40FECF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д солнечной крышей МИРА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энергостанции и "солнечные дома"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ериканская солнечная установка NSTTF для тепловых испытаний и экспериментов в области энергетики. Одним из старых способов забора солнечной энергии являетяся СЭС, придуманная Бернардом Дюбо. Он предлагал строить в пустынях обширные стеклянные навесы с высокой труб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CE3F5-F082-423A-B9D5-6D9A86F87610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FC73-E343-4922-B462-F05E0FC4D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7B65-393D-4677-B51C-4E1773D6A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400E-F536-4EE0-988D-B4AC289C2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2E18-71A7-4A0F-A01E-3856E5CD4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3005C-7B63-4FE0-AC0C-A757943BA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B2B50-3970-4460-A5CB-1462C6337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D5520-1E63-4DAC-A5BB-8AC4813BF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9CB1A-1535-4D09-AD96-9649EAE61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D1332-1EBC-4F1C-BDC4-A5DF98B2B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B10E9-5970-4FA3-8CB5-E8841FC98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42E46-D666-4EF5-AAD8-D2C94063C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1809-4831-4C7C-ABD7-4D2E9E155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0C7B7-C720-4218-BAF9-96426E3B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0C7EF-D34B-49FC-9C60-81A3EEB5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A4CC4-F8E4-40BB-B829-9D0129E62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7EE75-4E8F-4ABD-B827-59B5185E0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F2C10-6FBD-4C33-96C8-AA5041A64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B585-264A-49EC-9C7E-BFA02A994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EDD6-1073-4D0D-9DB3-0FF21D1AA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F783-31D6-4207-A9B1-A1DD05C97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F81E-4FE5-4F4B-8EC3-311097A7E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EBD9-CDAB-4855-B692-44495FBF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041F-55AE-4003-9451-BFF41CE7C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272C-23D6-4552-9812-A0576677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EE9C2-B817-4C6A-8554-CFBFFD2C464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AA0AC-B08D-4CFA-BD43-92010452BA93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twogalaxy.narod.ru/earth.html" TargetMode="External"/><Relationship Id="rId2" Type="http://schemas.openxmlformats.org/officeDocument/2006/relationships/hyperlink" Target="http://twogalaxy.narod.ru/sun.html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0160" y="2133360"/>
            <a:ext cx="79218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7d47d"/>
                </a:solidFill>
                <a:latin typeface="Arial"/>
              </a:rPr>
              <a:t>ИСПОЛЬЗОВАНИЕ ЭНЕРГИИ СОЛНЦА НА ЗЕМЛЕ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2124000" y="5876640"/>
            <a:ext cx="5640480" cy="7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Матвеев Юрий, 9 «А» класс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advTm="3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54734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7d47d"/>
                </a:solidFill>
                <a:latin typeface="Arial"/>
              </a:rPr>
              <a:t>Под солнечной крышей МИРА </a:t>
            </a:r>
            <a:br>
              <a:rPr sz="1800"/>
            </a:br>
            <a:r>
              <a:rPr b="1" lang="ru-RU" sz="1800" spc="-1" strike="noStrike">
                <a:solidFill>
                  <a:srgbClr val="f7d47d"/>
                </a:solidFill>
                <a:latin typeface="Arial"/>
              </a:rPr>
              <a:t>(энергостанции и "солнечные дома")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539280" y="4723920"/>
            <a:ext cx="682812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Ассоциация TransOption, объединяющая государ-ственные и частные транспортные компании штата Нью-Джерси, ежегодно организуют среди школьных команд гонки автомобильных моделей, приводимых в движение солнечной энергией. 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2" name="Рисунок 9" descr="Солнечные гонки"/>
          <p:cNvPicPr/>
          <p:nvPr/>
        </p:nvPicPr>
        <p:blipFill>
          <a:blip r:embed="rId1"/>
          <a:stretch/>
        </p:blipFill>
        <p:spPr>
          <a:xfrm>
            <a:off x="611280" y="1268280"/>
            <a:ext cx="6769080" cy="324036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advTm="3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77770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Солнце является </a:t>
            </a:r>
            <a:r>
              <a:rPr b="0" lang="ru-RU" sz="3600" spc="-1" strike="noStrike" u="sng">
                <a:solidFill>
                  <a:srgbClr val="f0b854"/>
                </a:solidFill>
                <a:uFillTx/>
                <a:latin typeface="Arial"/>
                <a:hlinkClick r:id="rId1"/>
              </a:rPr>
              <a:t>источником жизни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для всего земного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11280" y="3886200"/>
            <a:ext cx="6756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0b854"/>
                </a:solidFill>
                <a:uFillTx/>
                <a:latin typeface="Arial"/>
                <a:hlinkClick r:id="rId2"/>
              </a:rPr>
              <a:t>Солнце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– это основной источник энергии на земле и первопричина, создавшая большинство других энергетических ресурсов нашей планеты, таких, как запасы каменного угля, нефти, газа, энергии ветра и падающей воды, электрической энергии и т.д. Энергия Солнца, которая в основном выделяется в виде лучистой энергии, так велика, что её трудно даже себе представить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4" name="Рисунок 1" descr="Солнечная энергия"/>
          <p:cNvPicPr/>
          <p:nvPr/>
        </p:nvPicPr>
        <p:blipFill>
          <a:blip r:embed="rId3"/>
          <a:stretch/>
        </p:blipFill>
        <p:spPr>
          <a:xfrm>
            <a:off x="1187280" y="1484280"/>
            <a:ext cx="4586400" cy="2305080"/>
          </a:xfrm>
          <a:prstGeom prst="rect">
            <a:avLst/>
          </a:prstGeom>
          <a:ln w="0">
            <a:noFill/>
          </a:ln>
        </p:spPr>
      </p:pic>
      <p:sp>
        <p:nvSpPr>
          <p:cNvPr id="20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advTm="3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69660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7d47d"/>
                </a:solidFill>
                <a:latin typeface="Arial"/>
              </a:rPr>
              <a:t>В Нью-Йорке солнечную энергию используют даже мусорщики. Здесь в двух районах уже полтора года действуют интеллектуальные солнечные контейнеры для мусора - BigBelly. Используя энергию света, преобразованную в электричество кремниевыми фотоэлементами они утрамбовывают слдержимое.</a:t>
            </a:r>
            <a:r>
              <a:rPr b="0" lang="ru-RU" sz="16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7" name="Рисунок 6" descr="Солнечная энергия"/>
          <p:cNvPicPr/>
          <p:nvPr/>
        </p:nvPicPr>
        <p:blipFill>
          <a:blip r:embed="rId1"/>
          <a:stretch/>
        </p:blipFill>
        <p:spPr>
          <a:xfrm>
            <a:off x="1042920" y="2205000"/>
            <a:ext cx="6265800" cy="3433680"/>
          </a:xfrm>
          <a:prstGeom prst="rect">
            <a:avLst/>
          </a:prstGeom>
          <a:ln w="0">
            <a:noFill/>
          </a:ln>
        </p:spPr>
      </p:pic>
      <p:sp>
        <p:nvSpPr>
          <p:cNvPr id="208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advTm="3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698184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7d47d"/>
                </a:solidFill>
                <a:latin typeface="Arial"/>
              </a:rPr>
              <a:t>Источников энергии на Земле существует много, но, судя по </a:t>
            </a:r>
            <a:br>
              <a:rPr sz="1600"/>
            </a:br>
            <a:r>
              <a:rPr b="1" lang="ru-RU" sz="1600" spc="-1" strike="noStrike">
                <a:solidFill>
                  <a:srgbClr val="f7d47d"/>
                </a:solidFill>
                <a:latin typeface="Arial"/>
              </a:rPr>
              <a:t>тому, как стремительно растут цены на энергоресурсы, их все равно не хватает. Многие специалисты полагают, что уже к 2020 году топлива потребуется в три с половиной раза больше, чем сегодня. Где же брать энергию?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0" name="Рисунок 2" descr="Солнечная станция - США"/>
          <p:cNvPicPr/>
          <p:nvPr/>
        </p:nvPicPr>
        <p:blipFill>
          <a:blip r:embed="rId1"/>
          <a:stretch/>
        </p:blipFill>
        <p:spPr>
          <a:xfrm>
            <a:off x="1116000" y="2276640"/>
            <a:ext cx="6120000" cy="3362040"/>
          </a:xfrm>
          <a:prstGeom prst="rect">
            <a:avLst/>
          </a:prstGeom>
          <a:ln w="0">
            <a:noFill/>
          </a:ln>
        </p:spPr>
      </p:pic>
      <p:sp>
        <p:nvSpPr>
          <p:cNvPr id="21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advTm="3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900000" y="4221000"/>
            <a:ext cx="6467760" cy="14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Новейшая технология нанесения металлоксидной пленки на стеклянную подложку позволяет создавать крупные тонкопленочные солнечные модули. В Америке только на один проект - строительство в пустыне Негев (Израиль) солнечной электростанции - выделено 100 миллионов долларов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3" name="Рисунок 3" descr="Новые солнечные пленки для КОСМОСА"/>
          <p:cNvPicPr/>
          <p:nvPr/>
        </p:nvPicPr>
        <p:blipFill>
          <a:blip r:embed="rId1"/>
          <a:stretch/>
        </p:blipFill>
        <p:spPr>
          <a:xfrm>
            <a:off x="1187280" y="549360"/>
            <a:ext cx="6121440" cy="352728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advTm="3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69660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7d47d"/>
                </a:solidFill>
                <a:latin typeface="Arial"/>
              </a:rPr>
              <a:t>Вблизи голландского городка Херхюговарда создан экспериментальный район "Город солнца". Крыши домов здесь покрыты солнечными панелями. Дом на снимке вырабатывает до 25 кВт. Общую мощность "Города солнца" планируется довести до 5 МВт. Такие дома становятся автономными от системы.</a:t>
            </a:r>
            <a:r>
              <a:rPr b="0" lang="ru-RU" sz="16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6" name="Рисунок 4" descr="Солнечный дом - США"/>
          <p:cNvPicPr/>
          <p:nvPr/>
        </p:nvPicPr>
        <p:blipFill>
          <a:blip r:embed="rId1"/>
          <a:stretch/>
        </p:blipFill>
        <p:spPr>
          <a:xfrm>
            <a:off x="755640" y="2276640"/>
            <a:ext cx="6624720" cy="3409920"/>
          </a:xfrm>
          <a:prstGeom prst="rect">
            <a:avLst/>
          </a:prstGeom>
          <a:ln w="0">
            <a:noFill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advTm="3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69818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7d47d"/>
                </a:solidFill>
                <a:latin typeface="Arial"/>
              </a:rPr>
              <a:t>Солнце можно использовать и как источник энергии для транспортных средств.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39280" y="4365720"/>
            <a:ext cx="6828120" cy="127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В Австралии уже 19 лет проводятся ежегодные гонки на солнечных электромобилях на трассе между городами Дарвин и Аделаида (3000 км). В 1990 году компания Sanyo построила самолет на солнечных батареях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0" name="Рисунок 5" descr="Солнечная машина - Австралия"/>
          <p:cNvPicPr/>
          <p:nvPr/>
        </p:nvPicPr>
        <p:blipFill>
          <a:blip r:embed="rId1"/>
          <a:stretch/>
        </p:blipFill>
        <p:spPr>
          <a:xfrm>
            <a:off x="826920" y="1341360"/>
            <a:ext cx="6337440" cy="287964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advTm="3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52560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7d47d"/>
                </a:solidFill>
                <a:latin typeface="Arial"/>
              </a:rPr>
              <a:t>Под солнечной крышей МИРА </a:t>
            </a:r>
            <a:br>
              <a:rPr sz="1800"/>
            </a:br>
            <a:r>
              <a:rPr b="1" lang="ru-RU" sz="1800" spc="-1" strike="noStrike">
                <a:solidFill>
                  <a:srgbClr val="f7d47d"/>
                </a:solidFill>
                <a:latin typeface="Arial"/>
              </a:rPr>
              <a:t>(энергостанции и "солнечные дома")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611280" y="4508280"/>
            <a:ext cx="675648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Сфокусированный СВЧ-луч может передавать собранную солнечными батареями энергию на Землю, а может снабжать ею космические корабли. В отличие от солнечного света этот СВЧ-луч при «пробое» атмосферы потеряет не более 2% энергии. Недавно задумку воскресил Дэвид Крисвелл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4" name="Рисунок 7" descr="СВЧ-ЛУЧ"/>
          <p:cNvPicPr/>
          <p:nvPr/>
        </p:nvPicPr>
        <p:blipFill>
          <a:blip r:embed="rId1"/>
          <a:stretch/>
        </p:blipFill>
        <p:spPr>
          <a:xfrm>
            <a:off x="684360" y="1557360"/>
            <a:ext cx="6480000" cy="2663640"/>
          </a:xfrm>
          <a:prstGeom prst="rect">
            <a:avLst/>
          </a:prstGeom>
          <a:ln w="0">
            <a:noFill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advTm="3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77770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7d47d"/>
                </a:solidFill>
                <a:latin typeface="Arial"/>
              </a:rPr>
              <a:t>Под солнечной крышей МИРА </a:t>
            </a:r>
            <a:br>
              <a:rPr sz="1800"/>
            </a:br>
            <a:r>
              <a:rPr b="1" lang="ru-RU" sz="1800" spc="-1" strike="noStrike">
                <a:solidFill>
                  <a:srgbClr val="f7d47d"/>
                </a:solidFill>
                <a:latin typeface="Arial"/>
              </a:rPr>
              <a:t>(энергостанции и "солнечные дома")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684000" y="4941720"/>
            <a:ext cx="66834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Американская солнечная установка NSTTF для тепловых испытаний и экспериментов в области энергетики. Одним из старых способов забора солнечной энергии являетяся СЭС, придуманная Бернардом Дюбо. Он предлагал строить в пустынях обширные стеклянные навесы с высокой трубой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8" name="Рисунок 8" descr="Солнечная станция - США"/>
          <p:cNvPicPr/>
          <p:nvPr/>
        </p:nvPicPr>
        <p:blipFill>
          <a:blip r:embed="rId1"/>
          <a:stretch/>
        </p:blipFill>
        <p:spPr>
          <a:xfrm>
            <a:off x="755640" y="1484280"/>
            <a:ext cx="6480360" cy="316872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advTm="3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2:51:31Z</dcterms:created>
  <dc:creator>Матвеев Юра</dc:creator>
  <dc:description/>
  <dc:language>en-US</dc:language>
  <cp:lastModifiedBy>LEGION</cp:lastModifiedBy>
  <dcterms:modified xsi:type="dcterms:W3CDTF">2014-12-30T07:50:47Z</dcterms:modified>
  <cp:revision>10</cp:revision>
  <dc:subject>Использование энергии Солнца на Земле</dc:subject>
  <dc:title>Презентация</dc:title>
</cp:coreProperties>
</file>