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4FD3-927E-4F1E-B7F4-89DCAB5444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СОЛНЦ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веев Юрий, 9 «А»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BA5D-4354-4789-9EA4-29ACBDBA301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8AF2-E4EA-4D12-9ACE-798F7581AF7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являетс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сточником жиз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всего зем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лнц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C035-80F7-4336-A7D0-715E433AA2A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F02D-9BFC-4DD4-8215-16AED7C1FAD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 энергии на Земле существует много, но, судя п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B044-6C92-49B9-B8FB-F3603F9E8F6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C432-532F-466D-A8F5-43F4C2ACABF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D52-DCB9-4C0B-A43E-6BE68301BE0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лнце можно использовать и как источник энергии для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214-F886-4CD2-AA10-043E626585D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6343-C3CB-4E1A-BA2A-EF57F202C2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AF6C-0939-405E-85EC-149D0FF3BFE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F01-3687-41A5-B88F-F336ABB2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043-E9B5-4143-B0BB-8EB1FA1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11C-835C-4ACE-9484-B6081426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E6E-FCDD-47D4-BBD9-C06D3475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C7E-5E45-4583-83D5-D4F4ADA8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A464-C5BA-43D9-9BB3-9070993B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2A18-B6F4-459A-9917-7302E978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A98C-1E0F-4440-8B8F-BB683E02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91BF-DE73-41F6-8DD0-9C577FCF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833-C6B6-45D5-AB9D-8BE80E3C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43E9-5979-4B79-953E-C60DDD8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24B-B8DD-4A2D-8125-F0623B5B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AFA8-CEA1-4DC1-BE2A-99D20EB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9616-030D-4C69-A580-D86B18C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78B5-CE2A-4394-A14C-300F82F7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73C-5F0D-4BA1-BB2A-F4835AF5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31A6-A235-484E-AA1D-ABADBA5E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882-602A-443A-9FE7-C984737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F8D-AF75-4EF5-8D53-6333F532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D05-5312-4E6A-8B3C-0CC890F7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A4B-3327-4297-AF26-EA03E29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D75-D85E-4A06-874F-93D5CA75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490-EECE-437D-B496-02AC863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259-527A-4D8F-B696-FB9E766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BAF2-408C-4A7B-B7AE-BD9175DE43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C453-7B58-49F2-8C0B-50387686E4C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160" y="2133360"/>
            <a:ext cx="792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СПОЛЬЗОВАНИЕ ЭНЕРГИИ СОЛНЦА НА ЗЕМ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5876640"/>
            <a:ext cx="56404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атвеев Юрий, 9 «А»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47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9280" y="4723920"/>
            <a:ext cx="6828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Рисунок 9" descr="Солнечные гонки"/>
          <p:cNvPicPr/>
          <p:nvPr/>
        </p:nvPicPr>
        <p:blipFill>
          <a:blip r:embed="rId1"/>
          <a:stretch/>
        </p:blipFill>
        <p:spPr>
          <a:xfrm>
            <a:off x="611280" y="1268280"/>
            <a:ext cx="6769080" cy="3240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лнце является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источником жизни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для всего земног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675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олнц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1" descr="Солнечная энергия"/>
          <p:cNvPicPr/>
          <p:nvPr/>
        </p:nvPicPr>
        <p:blipFill>
          <a:blip r:embed="rId3"/>
          <a:stretch/>
        </p:blipFill>
        <p:spPr>
          <a:xfrm>
            <a:off x="1187280" y="1484280"/>
            <a:ext cx="4586400" cy="23050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Рисунок 6" descr="Солнечная энергия"/>
          <p:cNvPicPr/>
          <p:nvPr/>
        </p:nvPicPr>
        <p:blipFill>
          <a:blip r:embed="rId1"/>
          <a:stretch/>
        </p:blipFill>
        <p:spPr>
          <a:xfrm>
            <a:off x="1042920" y="2205000"/>
            <a:ext cx="6265800" cy="343368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69818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Источников энергии на Земле существует много, но, судя по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Рисунок 2" descr="Солнечная станция - США"/>
          <p:cNvPicPr/>
          <p:nvPr/>
        </p:nvPicPr>
        <p:blipFill>
          <a:blip r:embed="rId1"/>
          <a:stretch/>
        </p:blipFill>
        <p:spPr>
          <a:xfrm>
            <a:off x="1116000" y="2276640"/>
            <a:ext cx="6120000" cy="3362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00000" y="4221000"/>
            <a:ext cx="646776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3" descr="Новые солнечные пленки для КОСМОСА"/>
          <p:cNvPicPr/>
          <p:nvPr/>
        </p:nvPicPr>
        <p:blipFill>
          <a:blip r:embed="rId1"/>
          <a:stretch/>
        </p:blipFill>
        <p:spPr>
          <a:xfrm>
            <a:off x="1187280" y="549360"/>
            <a:ext cx="612144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Рисунок 4" descr="Солнечный дом - США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34099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лнце можно использовать и как источник энергии для транспортных средст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682812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Рисунок 5" descr="Солнечная машина - Австралия"/>
          <p:cNvPicPr/>
          <p:nvPr/>
        </p:nvPicPr>
        <p:blipFill>
          <a:blip r:embed="rId1"/>
          <a:stretch/>
        </p:blipFill>
        <p:spPr>
          <a:xfrm>
            <a:off x="826920" y="1341360"/>
            <a:ext cx="6337440" cy="2879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25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1280" y="4508280"/>
            <a:ext cx="675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7" descr="СВЧ-ЛУЧ"/>
          <p:cNvPicPr/>
          <p:nvPr/>
        </p:nvPicPr>
        <p:blipFill>
          <a:blip r:embed="rId1"/>
          <a:stretch/>
        </p:blipFill>
        <p:spPr>
          <a:xfrm>
            <a:off x="684360" y="1557360"/>
            <a:ext cx="64800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941720"/>
            <a:ext cx="6683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8" descr="Солнечная станция - США"/>
          <p:cNvPicPr/>
          <p:nvPr/>
        </p:nvPicPr>
        <p:blipFill>
          <a:blip r:embed="rId1"/>
          <a:stretch/>
        </p:blipFill>
        <p:spPr>
          <a:xfrm>
            <a:off x="755640" y="1484280"/>
            <a:ext cx="648036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51:31Z</dcterms:created>
  <dc:creator>Матвеев Юра</dc:creator>
  <dc:description/>
  <dc:language>en-US</dc:language>
  <cp:lastModifiedBy>LEGION</cp:lastModifiedBy>
  <dcterms:modified xsi:type="dcterms:W3CDTF">2014-12-30T07:50:47Z</dcterms:modified>
  <cp:revision>10</cp:revision>
  <dc:subject>Использование энергии Солнца на Земле</dc:subject>
  <dc:title>Презентация</dc:title>
</cp:coreProperties>
</file>