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5C0D-053B-497E-988A-3FED8286AB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СОЛНЦ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веев Юрий, 9 «А»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C92E-1109-425E-9A23-E9A4419B9C2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BB0D-0717-46C1-B1FC-DE1AC91EFED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являетс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сточником жиз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всего зем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лнц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F830-0D28-4016-B207-6137A76B1DD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D3D8-6389-4002-A782-3A8C602A8B2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 энергии на Земле существует много, но, судя п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2974-BF19-47CC-A486-4E5DC176D8A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048D-0B0A-4655-AA0E-98C5D84444D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0527-BCF1-423E-8BC7-23121AF5954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лнце можно использовать и как источник энергии для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75B3-8527-477C-A812-B7253563D12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5B40-8C87-47AC-B0F4-F49ADF25514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59BD-496F-4E28-AC33-A6D389C296D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A05-9600-4567-9385-92E2A5ED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08E-FEA6-4043-8374-740F31D9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349-5459-412F-8B7B-B5EB1B9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70E-DFF3-4522-93C7-691E639D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84B-7C87-4A19-8191-57F97081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A603-AB90-41C4-82ED-6379EA71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60AF-1AFD-4858-A777-005FE42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4C8D-B693-4257-B768-CA75B11C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C87F-5608-434F-A63F-3F209E9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E003-D5FF-41C6-BD6A-AA7B2BF3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0528-FACF-4DAB-A30A-6107066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116-BA34-4EDB-8F0C-60CFCC9D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49C4-09B3-4AD7-BD6F-D41972D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8AB2-BEE4-4FAB-B787-9EA7EB11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A61-E1B1-4C3F-B644-065DF88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119C-A167-41F8-A8A5-37466A98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5A69-DFC7-4A84-B40F-7F9944B5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D93-E458-49BB-B8A0-76946DE9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99D-C59C-43FB-95BE-47B4288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6C4-F8A6-4257-BC29-83087B2D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AA5-E572-4347-B1CE-2D15063E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410-2A2A-4619-A517-3D8B5D6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658-185D-422D-9A19-01036824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252-E2F4-408B-8329-4E4CB4A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93FF-0EBC-49E3-B332-A61843815F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95D2-D55B-446B-8ED2-6F7A49552A5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160" y="2133360"/>
            <a:ext cx="792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СПОЛЬЗОВАНИЕ ЭНЕРГИИ СОЛНЦА НА ЗЕМ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5876640"/>
            <a:ext cx="56404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атвеев Юрий, 9 «А»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47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9280" y="4723920"/>
            <a:ext cx="6828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Рисунок 9" descr="Солнечные гонки"/>
          <p:cNvPicPr/>
          <p:nvPr/>
        </p:nvPicPr>
        <p:blipFill>
          <a:blip r:embed="rId1"/>
          <a:stretch/>
        </p:blipFill>
        <p:spPr>
          <a:xfrm>
            <a:off x="611280" y="1268280"/>
            <a:ext cx="6769080" cy="3240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лнце является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источником жизни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для всего земног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675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олнц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1" descr="Солнечная энергия"/>
          <p:cNvPicPr/>
          <p:nvPr/>
        </p:nvPicPr>
        <p:blipFill>
          <a:blip r:embed="rId3"/>
          <a:stretch/>
        </p:blipFill>
        <p:spPr>
          <a:xfrm>
            <a:off x="1187280" y="1484280"/>
            <a:ext cx="4586400" cy="23050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Рисунок 6" descr="Солнечная энергия"/>
          <p:cNvPicPr/>
          <p:nvPr/>
        </p:nvPicPr>
        <p:blipFill>
          <a:blip r:embed="rId1"/>
          <a:stretch/>
        </p:blipFill>
        <p:spPr>
          <a:xfrm>
            <a:off x="1042920" y="2205000"/>
            <a:ext cx="6265800" cy="343368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69818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Источников энергии на Земле существует много, но, судя по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Рисунок 2" descr="Солнечная станция - США"/>
          <p:cNvPicPr/>
          <p:nvPr/>
        </p:nvPicPr>
        <p:blipFill>
          <a:blip r:embed="rId1"/>
          <a:stretch/>
        </p:blipFill>
        <p:spPr>
          <a:xfrm>
            <a:off x="1116000" y="2276640"/>
            <a:ext cx="6120000" cy="3362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00000" y="4221000"/>
            <a:ext cx="646776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3" descr="Новые солнечные пленки для КОСМОСА"/>
          <p:cNvPicPr/>
          <p:nvPr/>
        </p:nvPicPr>
        <p:blipFill>
          <a:blip r:embed="rId1"/>
          <a:stretch/>
        </p:blipFill>
        <p:spPr>
          <a:xfrm>
            <a:off x="1187280" y="549360"/>
            <a:ext cx="612144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Рисунок 4" descr="Солнечный дом - США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34099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лнце можно использовать и как источник энергии для транспортных средст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682812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Рисунок 5" descr="Солнечная машина - Австралия"/>
          <p:cNvPicPr/>
          <p:nvPr/>
        </p:nvPicPr>
        <p:blipFill>
          <a:blip r:embed="rId1"/>
          <a:stretch/>
        </p:blipFill>
        <p:spPr>
          <a:xfrm>
            <a:off x="826920" y="1341360"/>
            <a:ext cx="6337440" cy="2879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25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1280" y="4508280"/>
            <a:ext cx="675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7" descr="СВЧ-ЛУЧ"/>
          <p:cNvPicPr/>
          <p:nvPr/>
        </p:nvPicPr>
        <p:blipFill>
          <a:blip r:embed="rId1"/>
          <a:stretch/>
        </p:blipFill>
        <p:spPr>
          <a:xfrm>
            <a:off x="684360" y="1557360"/>
            <a:ext cx="64800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941720"/>
            <a:ext cx="6683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8" descr="Солнечная станция - США"/>
          <p:cNvPicPr/>
          <p:nvPr/>
        </p:nvPicPr>
        <p:blipFill>
          <a:blip r:embed="rId1"/>
          <a:stretch/>
        </p:blipFill>
        <p:spPr>
          <a:xfrm>
            <a:off x="755640" y="1484280"/>
            <a:ext cx="648036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51:31Z</dcterms:created>
  <dc:creator>Матвеев Юра</dc:creator>
  <dc:description/>
  <dc:language>en-US</dc:language>
  <cp:lastModifiedBy>LEGION</cp:lastModifiedBy>
  <dcterms:modified xsi:type="dcterms:W3CDTF">2014-12-30T07:50:47Z</dcterms:modified>
  <cp:revision>10</cp:revision>
  <dc:subject>Использование энергии Солнца на Земле</dc:subject>
  <dc:title>Презентация</dc:title>
</cp:coreProperties>
</file>