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B25C-4BCB-44D0-816F-55DA5E4DD1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стория развития металл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ченица 9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Ревина М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44AD-D59B-441B-8A46-CA4E0D2658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C4A3-46E7-4896-9051-CC5D60A737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6A47-AFB8-4058-B045-4EF9B4834D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8A76-0869-4941-A0D6-726D6207FF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1379"/>
                </a:solidFill>
                <a:latin typeface="Calibri"/>
              </a:rPr>
              <a:t>Металлургическая отрасль - вклад в экономику Росс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CE56-4E55-41EB-AC4A-6BD2B739ED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Тенденции развития российской металлу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ffff"/>
                </a:solidFill>
                <a:latin typeface="Calibri"/>
              </a:rPr>
              <a:t>Это: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16ce39"/>
                </a:solidFill>
                <a:latin typeface="Calibri"/>
              </a:rPr>
              <a:t>рост товарной 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ост инвестиц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261379"/>
                </a:solidFill>
                <a:latin typeface="Calibri"/>
              </a:rPr>
              <a:t>рост экспорта металло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охранение достаточно высокого уровня рентабельности производства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66cc"/>
                </a:solidFill>
                <a:latin typeface="Calibri"/>
              </a:rPr>
              <a:t>стабильный рост средней заработной платы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лобализация комп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61E2-A855-46B5-AD99-1CFD85F927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EFA-80AA-4B9C-A018-F465F30C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5B3-97B8-4607-96BF-88E7687D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851-D77F-445A-AA28-9B336C06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B42-C584-4502-9B93-874DCC2F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FE9C-7290-415A-AF5F-EB118719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26D6-2ABA-418C-9706-1B6A12F2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C0B3-84C1-412F-A1C0-9F3CEF1E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16C5-B430-49D2-9FCD-63072DC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583C-925F-4457-A30D-CAC33848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2C69-599C-4467-A46A-9E5261C0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E7E6-8D5F-447A-94C9-782F5DBC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E5E-409A-43D9-A1A0-3F5DB83B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498-FABF-47DA-A4C6-1D06EAC4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01B8-F8F7-4D82-94EB-BAAD7A9B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A0DF-D670-44D2-AD4E-8D5AA7FD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B557-BC3F-402E-BF3F-B72A5308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C319-DE10-4612-843A-816D164F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451-DA05-4FCA-9D9D-929D541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3D5-BA70-40AD-BF2C-88E93769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DC6-C594-49CC-996B-03147526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BCB-555D-4062-9393-62F95A2F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BD4-DCD0-4EA8-8E6C-BB415CBB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B6F-0B7A-487F-A056-02379608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185-0F10-4C71-B704-2CF29293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C3F7-71CE-4E8A-90E8-34180F6DE2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2816-3A2F-4E86-BF06-8239EE6599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66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005c"/>
                </a:solidFill>
                <a:latin typeface="Arial"/>
              </a:rPr>
              <a:t>История развития металлурги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ченица 9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евин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-360"/>
            <a:ext cx="640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40000" y="0"/>
            <a:ext cx="68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-448380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59920"/>
            <a:ext cx="6400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379"/>
                </a:solidFill>
                <a:latin typeface="Arial"/>
              </a:rPr>
              <a:t>Металлургическая отрасль - вклад в экономику России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Тенденции развития российской металлурги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Это: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16ce39"/>
                </a:solidFill>
                <a:latin typeface="Arial"/>
              </a:rPr>
              <a:t>рост товарной 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ост инвестиц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261379"/>
                </a:solidFill>
                <a:latin typeface="Arial"/>
              </a:rPr>
              <a:t>рост экспорта металло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охранение достаточно высокого уровня рентабельности производства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стабильный рост средней заработной платы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глобализация компаний.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8:25:48Z</dcterms:created>
  <dc:creator>Дети</dc:creator>
  <dc:description/>
  <dc:language>en-US</dc:language>
  <cp:lastModifiedBy>LEGION</cp:lastModifiedBy>
  <dcterms:modified xsi:type="dcterms:W3CDTF">2014-12-30T08:22:14Z</dcterms:modified>
  <cp:revision>6</cp:revision>
  <dc:subject/>
  <dc:title>История развития металлургии</dc:title>
</cp:coreProperties>
</file>