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05D7-6732-4E01-9421-BD72AB2A8D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стория развития металл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ченица 9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Ревина М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E83C-D54F-4760-80A9-1760ECEF5D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BFE-B56B-4844-84AD-134FAC21E8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B538-6ABC-4682-8FB3-384CEEBF4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77E9-8AA2-43F2-9E5D-B40EE9E59D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1379"/>
                </a:solidFill>
                <a:latin typeface="Calibri"/>
              </a:rPr>
              <a:t>Металлургическая отрасль - вклад в экономику Росс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87BD-D103-4FD4-842E-175C2A349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Тенденции развития российской металлу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ffff"/>
                </a:solidFill>
                <a:latin typeface="Calibri"/>
              </a:rPr>
              <a:t>Это: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16ce39"/>
                </a:solidFill>
                <a:latin typeface="Calibri"/>
              </a:rPr>
              <a:t>рост товарной 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ост инвестиц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261379"/>
                </a:solidFill>
                <a:latin typeface="Calibri"/>
              </a:rPr>
              <a:t>рост экспорта металло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охранение достаточно высокого уровня рентабельности производства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66cc"/>
                </a:solidFill>
                <a:latin typeface="Calibri"/>
              </a:rPr>
              <a:t>стабильный рост средней заработной платы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лобализация комп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2CDB-EC02-40A1-9BDD-64A60E4EF6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70B-7AF9-4226-9543-170F04ED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D54-8AA5-4B44-AAC9-FAE3ED25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CD1-AC56-44E4-BDF5-3BF972A6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1F8-AAD8-45F6-8716-CB510353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C2AE-5012-4C4F-9430-2E1CA130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5C00-8F9A-4A84-9C99-A37CFD4A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B4B1-AE50-4DDF-AF07-2680C0BD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DC23-6284-4407-B463-CE1CEF43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C99D-0AFB-4321-9B4E-DF67F0C4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1E20-ED63-4D53-9481-0F83AAC4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FE0B-7B15-4F48-A86F-D26015A0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141-8917-4196-8478-32699E76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D254-C025-4332-9B88-0D6E778A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E0A5-1C0B-448D-A3CE-DD96D97F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D192-2CF5-4B5F-A48D-3E314B1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0909-2DC8-4C40-BFDD-A9547D5E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D108-2079-4EF4-83AC-FC3D584F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0AA-AA69-4254-8BE4-D98F5E8A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F82-2908-445F-B0AC-0C45D925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466-0AB9-4F6E-8E7E-EBFB0714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D52-9385-43C5-9439-6F36D49C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A38-1352-48DB-A499-579E5323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089-EB5E-46DA-A385-6F4E6F55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8F1-84CF-4D02-B68E-8A05A46E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3CF9-1B88-496D-9AC8-E864BCAD3A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AA54-A6AB-4A7F-88BB-C482A11B7A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66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c"/>
                </a:solidFill>
                <a:latin typeface="Arial"/>
              </a:rPr>
              <a:t>История развития металлурги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ченица 9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евин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-36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4000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-448380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379"/>
                </a:solidFill>
                <a:latin typeface="Arial"/>
              </a:rPr>
              <a:t>Металлургическая отрасль - вклад в экономику России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Тенденции развития российской металлурги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Это: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16ce39"/>
                </a:solidFill>
                <a:latin typeface="Arial"/>
              </a:rPr>
              <a:t>рост товарной 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ост инвестиц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261379"/>
                </a:solidFill>
                <a:latin typeface="Arial"/>
              </a:rPr>
              <a:t>рост экспорта металло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охранение достаточно высокого уровня рентабельности производства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табильный рост средней заработной платы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глобализация компаний.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8:25:48Z</dcterms:created>
  <dc:creator>Дети</dc:creator>
  <dc:description/>
  <dc:language>en-US</dc:language>
  <cp:lastModifiedBy>LEGION</cp:lastModifiedBy>
  <dcterms:modified xsi:type="dcterms:W3CDTF">2014-12-30T08:22:14Z</dcterms:modified>
  <cp:revision>6</cp:revision>
  <dc:subject/>
  <dc:title>История развития металлургии</dc:title>
</cp:coreProperties>
</file>