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0A34-40C0-4CD7-BCFE-1D6B5646C8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стория развития металл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Ученица 9 «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Ревина М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5385-0FC8-4C62-B3B9-A2F0377E6C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Человек научился получать железо с незапамятных времен. Применение метеоритного железа - первый шаг по пути отказа от бронзы. С этого начался переход от бронзового века к железному. Археологические раскопки древних поселений в центральной части России, на Урале, Украине, в Белоруссии, Закавказье и в ряде других районов показывают, что люди уже 2,5 - 3 тысячелетия тому назад умели получать железо из руд и изготовлять из него оружие и орудия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BA7D-2202-4E94-9037-B1418E02C1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явление в середине XIV в. доменных печей дало возможность  значительного увеличения выпуска металла. Демидовская металлургия знала кричное железо, домны, литейный чугун, прокатное производство. В конце XVIII в. англичане вырвались вперед: появилась тигельная плавка стали. Новая технология предусматривала ведение процесса под битым бутылочным стекло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Нужно было найти замену древесному углю: развитие металлургии привело в свое время к тому, что в Англии и Ирландии леса были практически уничтожены.Там предпринимались попытки выплавлять доменный чугун сперва на каменном угле, которым богата Англия, а потом и на каменноугольном коксе. В конечном счете двести лет тому назад была создана коксовая доменная металлургия. Появление доменной печи и бессемеровского конвертера, которым ознаменовалась новая эра в черной металлургии привело к началу нового периода - "грязной" ста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32A8-ED21-44BA-A452-A672FD0025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 XVI - XVII вв. в России создаются первые металлургические заводы. Они строятся вблизи городов - Тулы, Каширы, Серпухова, в Новгородском крае и т.д.. К концу XVII в. их суммарная производительность достигает 150 тыс. пудов. В начале XVIII в. Российская металлургия развивается еще более быстрыми темпами. При Петре I Урал становится ведущим горнометаллургическим районом России. На Урале возникли крупные металлургические заводы - Каменский, Уктусский, Алапаевский и др.Продолжается строительство предприятий в центральной части страны. Эти заводы впоследствии сыграли большую роль в материальном обеспечении русской армии и флота. Только один Каменский завод с 1702 по 1709 г. выпустил 854 артиллерийских орудия и свыше 27 тыс. пудов снарядов к ним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Усилия металлургов петровской эпохи не пропали даром. Выплавка чугуна и производство железа росли в первой четверти XVIII в. стремительными темпами. По данным академика С.Г. Струмилина, металлургическая промышленность России произвела в 1725 г.19 тыс.т. Производительность английских заводов не превышало в это время 17 тыс.т. Таким образом, за четверть века производство металлов в России увеличилось почти в восемь раз. В области металлургии наша страна вышла в то время на первое место в мире, оставив позади себя Англию, Францию, Германию и д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F727-7067-4E22-A919-3AFCD83A84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1379"/>
                </a:solidFill>
                <a:latin typeface="Calibri"/>
              </a:rPr>
              <a:t>Металлургическая отрасль - вклад в экономику Росс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Стоимостной объем экспорта продукции черной металлургии в 2008 году по сравнению с 2007 годом увеличился на 20% и составил по оценке около 40 млрд. долларов. В структуре экспорта продукции чёрной металлургии основную долю составляют сортовой и листовой прокат (36%) и продукция низкого передела (31%). Основными направлениями экспорта готового проката чёрных металлов являются: Китай (12,2%), США (10,6%), Италия (10,5%), Турция (7%) и Иран (6,3%). Расширению российских экспортных поставок способствует продолжение консолидации металлургических активов. Приобретая предприятия за рубежом (страны Восточной Европы, СНГ и дальнее зарубежье) российские компании расширяют возможности выхода на зарубежные рынки, прежде всего на европейск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B2CC-5D99-432F-ABFB-41D578017D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Тенденции развития российской металлур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ffff"/>
                </a:solidFill>
                <a:latin typeface="Calibri"/>
              </a:rPr>
              <a:t>Это: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16ce39"/>
                </a:solidFill>
                <a:latin typeface="Calibri"/>
              </a:rPr>
              <a:t>рост товарной продукции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ост инвестиц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261379"/>
                </a:solidFill>
                <a:latin typeface="Calibri"/>
              </a:rPr>
              <a:t>рост экспорта металлопродукции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охранение достаточно высокого уровня рентабельности производства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66cc"/>
                </a:solidFill>
                <a:latin typeface="Calibri"/>
              </a:rPr>
              <a:t>стабильный рост средней заработной платы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лобализация комп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D54E-B86F-4967-A8A7-9A820AE0CF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070-CDBC-4452-8675-1FFE59CB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7DF-7492-4B0E-9D9C-131A74B4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235-1189-40AD-BA4F-D3049DF1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7E9-7E08-4CB7-9DAC-55DB3CF0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74CA-71C6-470E-A8AC-DE358B3C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A821-B64F-4F43-B191-7466E373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5247-F0CE-470A-9103-14AEABB2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07A5-7D40-4344-82DA-E1D34C10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9153-4207-48B3-ABAA-E970A344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8E47-2826-4713-B94F-CAA5C1B8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9B64-FB27-4B39-BF19-B15A35BE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FA9-DD14-4F73-BA4C-0AED6A45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F3FC-E78F-4038-8FF7-931A6DB9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61BF-24C4-4638-A0DD-CB8DBA4E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FBD7-4F28-4493-A23D-2519E56C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B418-9596-49FB-B53C-E619AC9C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9AE1-0616-48B2-8E90-973BC7CF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696-6182-4307-9E9B-4099ADF7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05A-842D-47F2-8561-904A5B4D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4A8-2CD1-4F2E-A509-EEB13A5F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3D3-753C-4686-97C5-1A13EA5F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B46-13F1-47A6-9A06-9F871698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70D-9290-48C0-9518-DBFC4F84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EB2-72BD-40B8-9DF6-620CE6DB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592B-2C92-4F20-8CB1-12FFA93ABB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3F9F-FC07-40A7-B294-0795DCA356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66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005c"/>
                </a:solidFill>
                <a:latin typeface="Arial"/>
              </a:rPr>
              <a:t>История развития металлургии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728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Подготов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Ученица 9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Ревина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-360"/>
            <a:ext cx="6400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Человек научился получать железо с незапамятных времен. Применение метеоритного железа - первый шаг по пути отказа от бронзы. С этого начался переход от бронзового века к железному. Археологические раскопки древних поселений в центральной части России, на Урале, Украине, в Белоруссии, Закавказье и в ряде других районов показывают, что люди уже 2,5 - 3 тысячелетия тому назад умели получать железо из руд и изготовлять из него оружие и орудия труда.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40000" y="0"/>
            <a:ext cx="680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оявление в середине XIV в. доменных печей дало возможность  значительного увеличения выпуска металла. Демидовская металлургия знала кричное железо, домны, литейный чугун, прокатное производство. В конце XVIII в. англичане вырвались вперед: появилась тигельная плавка стали. Новая технология предусматривала ведение процесса под битым бутылочным стекл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Нужно было найти замену древесному углю: развитие металлургии привело в свое время к тому, что в Англии и Ирландии леса были практически уничтожены.Там предпринимались попытки выплавлять доменный чугун сперва на каменном угле, которым богата Англия, а потом и на каменноугольном коксе. В конечном счете двести лет тому назад была создана коксовая доменная металлургия. Появление доменной печи и бессемеровского конвертера, которым ознаменовалась новая эра в черной металлургии привело к началу нового периода - "грязной" ст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-4483800"/>
            <a:ext cx="763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259920"/>
            <a:ext cx="6400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В XVI - XVII вв. в России создаются первые металлургические заводы. Они строятся вблизи городов - Тулы, Каширы, Серпухова, в Новгородском крае и т.д.. К концу XVII в. их суммарная производительность достигает 150 тыс. пудов. В начале XVIII в. Российская металлургия развивается еще более быстрыми темпами. При Петре I Урал становится ведущим горнометаллургическим районом России. На Урале возникли крупные металлургические заводы - Каменский, Уктусский, Алапаевский и др.Продолжается строительство предприятий в центральной части страны. Эти заводы впоследствии сыграли большую роль в материальном обеспечении русской армии и флота. Только один Каменский завод с 1702 по 1709 г. выпустил 854 артиллерийских орудия и свыше 27 тыс. пудов снарядов к ним.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Усилия металлургов петровской эпохи не пропали даром. Выплавка чугуна и производство железа росли в первой четверти XVIII в. стремительными темпами. По данным академика С.Г. Струмилина, металлургическая промышленность России произвела в 1725 г.19 тыс.т. Производительность английских заводов не превышало в это время 17 тыс.т. Таким образом, за четверть века производство металлов в России увеличилось почти в восемь раз. В области металлургии наша страна вышла в то время на первое место в мире, оставив позади себя Англию, Францию, Германию и др.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1379"/>
                </a:solidFill>
                <a:latin typeface="Arial"/>
              </a:rPr>
              <a:t>Металлургическая отрасль - вклад в экономику России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Стоимостной объем экспорта продукции черной металлургии в 2008 году по сравнению с 2007 годом увеличился на 20% и составил по оценке около 40 млрд. долларов. В структуре экспорта продукции чёрной металлургии основную долю составляют сортовой и листовой прокат (36%) и продукция низкого передела (31%). Основными направлениями экспорта готового проката чёрных металлов являются: Китай (12,2%), США (10,6%), Италия (10,5%), Турция (7%) и Иран (6,3%). Расширению российских экспортных поставок способствует продолжение консолидации металлургических активов. Приобретая предприятия за рубежом (страны Восточной Европы, СНГ и дальнее зарубежье) российские компании расширяют возможности выхода на зарубежные рынки, прежде всего на европейски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Тенденции развития российской металлургии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412640"/>
            <a:ext cx="6400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Это: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16ce39"/>
                </a:solidFill>
                <a:latin typeface="Arial"/>
              </a:rPr>
              <a:t>рост товарной продукци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ост инвестиций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261379"/>
                </a:solidFill>
                <a:latin typeface="Arial"/>
              </a:rPr>
              <a:t>рост экспорта металлопродукци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сохранение достаточно высокого уровня рентабельности производства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66cc"/>
                </a:solidFill>
                <a:latin typeface="Arial"/>
              </a:rPr>
              <a:t>стабильный рост средней заработной платы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e4005c"/>
                </a:solidFill>
                <a:latin typeface="Arial"/>
              </a:rPr>
              <a:t>глобализация компаний.</a:t>
            </a:r>
            <a:br>
              <a:rPr sz="2800"/>
            </a:br>
            <a:r>
              <a:rPr b="0" lang="ru-RU" sz="2800" spc="-1" strike="noStrike">
                <a:solidFill>
                  <a:srgbClr val="e4005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8:25:48Z</dcterms:created>
  <dc:creator>Дети</dc:creator>
  <dc:description/>
  <dc:language>en-US</dc:language>
  <cp:lastModifiedBy>LEGION</cp:lastModifiedBy>
  <dcterms:modified xsi:type="dcterms:W3CDTF">2014-12-30T08:22:14Z</dcterms:modified>
  <cp:revision>6</cp:revision>
  <dc:subject/>
  <dc:title>История развития металлургии</dc:title>
</cp:coreProperties>
</file>