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B722-60E4-47EA-B0EA-1BFCCB2205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0e7"/>
                </a:solidFill>
                <a:latin typeface="Calibri"/>
              </a:rPr>
              <a:t>РЕСПУБЛИКА Г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0876-2DE9-49E7-930D-2CD6A4A7F6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щадь – 238 305 км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 правления – президентская республ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лица – Аккра (2 млн. 653 тыс. че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еление – 21 029 853 ч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– 88 чел./км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ая единица – се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П – 50 416 млн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BF05-3CEA-49E0-851D-83928F4204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 Джон Атта Милл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5C55-AA7F-44E7-8F93-51D07A0925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0e7"/>
                </a:solidFill>
                <a:latin typeface="Calibri"/>
              </a:rPr>
              <a:t>РЕСПУБЛИКА Г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F302-676E-4930-99B4-C8410343CA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07AD-ED1B-4D19-99AB-63A85AA4A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4198-B342-4032-A465-04D88BFA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74F5-355A-4DF4-810F-C905273E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B602-7C89-47AE-9735-6C5E5991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8B8E-BD83-4738-811C-3267C224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A854-EEF6-443A-A15D-4D42C4FB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E5F3-29F7-41C6-AAAD-2FEE8580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F5D6-DFE6-4C23-813B-AF184965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58CC-8420-4EC6-A8B8-544F6E6E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62F0-16FF-4673-BABD-DA3E492A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F49C-6524-4EF8-96EF-6A73913A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7F8E-FAEA-4D96-BE98-3E6D46DB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A228-0F5F-42B1-956C-A25AFC65B0F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EED3-203E-4C77-8FC1-ADCF25DDB8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Картинка 5 из 4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Файл:Flag of Ghana.svg"/>
          <p:cNvPicPr/>
          <p:nvPr/>
        </p:nvPicPr>
        <p:blipFill>
          <a:blip r:embed="rId2"/>
          <a:stretch/>
        </p:blipFill>
        <p:spPr>
          <a:xfrm>
            <a:off x="-152280" y="96840"/>
            <a:ext cx="2876400" cy="1671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929200" y="0"/>
            <a:ext cx="2951280" cy="22147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7" descr=""/>
          <p:cNvPicPr/>
          <p:nvPr/>
        </p:nvPicPr>
        <p:blipFill>
          <a:blip r:embed="rId4"/>
          <a:stretch/>
        </p:blipFill>
        <p:spPr>
          <a:xfrm>
            <a:off x="1163520" y="2084400"/>
            <a:ext cx="7358040" cy="34624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2700360" y="61650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Картинка 11 из 448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Файл:LocationGhana.svg"/>
          <p:cNvPicPr/>
          <p:nvPr/>
        </p:nvPicPr>
        <p:blipFill>
          <a:blip r:embed="rId2"/>
          <a:stretch/>
        </p:blipFill>
        <p:spPr>
          <a:xfrm>
            <a:off x="4071960" y="4071960"/>
            <a:ext cx="5072040" cy="2786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www.republic-of-ghana.ru/images/4"/>
          <p:cNvPicPr/>
          <p:nvPr/>
        </p:nvPicPr>
        <p:blipFill>
          <a:blip r:embed="rId3"/>
          <a:srcRect l="0" t="0" r="0" b="3125"/>
          <a:stretch/>
        </p:blipFill>
        <p:spPr>
          <a:xfrm>
            <a:off x="0" y="0"/>
            <a:ext cx="4143240" cy="664380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4214880" y="214200"/>
            <a:ext cx="5429160" cy="3385800"/>
          </a:xfrm>
          <a:prstGeom prst="rect">
            <a:avLst/>
          </a:prstGeom>
          <a:solidFill>
            <a:srgbClr val="bfbfb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ощадь – 238 305 км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а правления – президентская республ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олица – Аккра (2 млн. 653 тыс. че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еление – 21 029 853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отность – 88 чел./км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нежная единица – с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ВП – 50 416 млн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Файл:Negroland and Guinea with the European Settlements, 1736.jpg"/>
          <p:cNvPicPr/>
          <p:nvPr/>
        </p:nvPicPr>
        <p:blipFill>
          <a:blip r:embed="rId1"/>
          <a:stretch/>
        </p:blipFill>
        <p:spPr>
          <a:xfrm>
            <a:off x="0" y="0"/>
            <a:ext cx="7620120" cy="567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Картинка 3 из 763"/>
          <p:cNvPicPr/>
          <p:nvPr/>
        </p:nvPicPr>
        <p:blipFill>
          <a:blip r:embed="rId2"/>
          <a:stretch/>
        </p:blipFill>
        <p:spPr>
          <a:xfrm>
            <a:off x="3214800" y="0"/>
            <a:ext cx="59292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2700360" y="61650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Картинка 8 из 2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Картинка 12 из 277"/>
          <p:cNvPicPr/>
          <p:nvPr/>
        </p:nvPicPr>
        <p:blipFill>
          <a:blip r:embed="rId2">
            <a:lum contrast="28000"/>
          </a:blip>
          <a:stretch/>
        </p:blipFill>
        <p:spPr>
          <a:xfrm>
            <a:off x="4067280" y="-9360"/>
            <a:ext cx="5076720" cy="24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Object 7"/>
          <p:cNvGraphicFramePr/>
          <p:nvPr/>
        </p:nvGraphicFramePr>
        <p:xfrm>
          <a:off x="0" y="2637000"/>
          <a:ext cx="4905360" cy="3895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637000"/>
                    <a:ext cx="4905360" cy="38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6"/>
          <p:cNvSpPr/>
          <p:nvPr/>
        </p:nvSpPr>
        <p:spPr>
          <a:xfrm>
            <a:off x="4067280" y="2414520"/>
            <a:ext cx="507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возрастная пирам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916360" y="6446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Картинка 19 из 448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Картинка 3 из 275"/>
          <p:cNvPicPr/>
          <p:nvPr/>
        </p:nvPicPr>
        <p:blipFill>
          <a:blip r:embed="rId2"/>
          <a:stretch/>
        </p:blipFill>
        <p:spPr>
          <a:xfrm>
            <a:off x="0" y="0"/>
            <a:ext cx="5076720" cy="3809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Картинка 1 из 763"/>
          <p:cNvPicPr/>
          <p:nvPr/>
        </p:nvPicPr>
        <p:blipFill>
          <a:blip r:embed="rId3"/>
          <a:stretch/>
        </p:blipFill>
        <p:spPr>
          <a:xfrm>
            <a:off x="4067280" y="3476520"/>
            <a:ext cx="5076720" cy="3381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ttp://www.vzg.ru/prod/prod19.gif"/>
          <p:cNvPicPr/>
          <p:nvPr/>
        </p:nvPicPr>
        <p:blipFill>
          <a:blip r:embed="rId4"/>
          <a:stretch/>
        </p:blipFill>
        <p:spPr>
          <a:xfrm>
            <a:off x="1214280" y="928800"/>
            <a:ext cx="4915080" cy="53053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2700360" y="61650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Картинка 19 из 448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Картинка 10 из 513"/>
          <p:cNvPicPr/>
          <p:nvPr/>
        </p:nvPicPr>
        <p:blipFill>
          <a:blip r:embed="rId2"/>
          <a:stretch/>
        </p:blipFill>
        <p:spPr>
          <a:xfrm>
            <a:off x="142920" y="1500120"/>
            <a:ext cx="3809880" cy="2943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Картинка 4 из 513"/>
          <p:cNvPicPr/>
          <p:nvPr/>
        </p:nvPicPr>
        <p:blipFill>
          <a:blip r:embed="rId3"/>
          <a:stretch/>
        </p:blipFill>
        <p:spPr>
          <a:xfrm>
            <a:off x="4067280" y="3828960"/>
            <a:ext cx="5076720" cy="3029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Картинка 19 из 513"/>
          <p:cNvPicPr/>
          <p:nvPr/>
        </p:nvPicPr>
        <p:blipFill>
          <a:blip r:embed="rId4"/>
          <a:stretch/>
        </p:blipFill>
        <p:spPr>
          <a:xfrm>
            <a:off x="6286680" y="428760"/>
            <a:ext cx="2047680" cy="30193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826920" y="668160"/>
            <a:ext cx="5329440" cy="459720"/>
          </a:xfrm>
          <a:prstGeom prst="rect">
            <a:avLst/>
          </a:prstGeom>
          <a:solidFill>
            <a:srgbClr val="80808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идент Джон Атта Милл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556000" y="63018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Картинка 5 из 4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Файл:Flag of Ghana.svg"/>
          <p:cNvPicPr/>
          <p:nvPr/>
        </p:nvPicPr>
        <p:blipFill>
          <a:blip r:embed="rId2"/>
          <a:stretch/>
        </p:blipFill>
        <p:spPr>
          <a:xfrm>
            <a:off x="-152280" y="96840"/>
            <a:ext cx="2876400" cy="1671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3"/>
          <a:stretch/>
        </p:blipFill>
        <p:spPr>
          <a:xfrm>
            <a:off x="5929200" y="0"/>
            <a:ext cx="2951280" cy="221472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7" descr=""/>
          <p:cNvPicPr/>
          <p:nvPr/>
        </p:nvPicPr>
        <p:blipFill>
          <a:blip r:embed="rId4"/>
          <a:stretch/>
        </p:blipFill>
        <p:spPr>
          <a:xfrm>
            <a:off x="1163520" y="2084400"/>
            <a:ext cx="7358040" cy="3462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8"/>
          <p:cNvSpPr/>
          <p:nvPr/>
        </p:nvSpPr>
        <p:spPr>
          <a:xfrm>
            <a:off x="2700360" y="61650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5:41:29Z</dcterms:created>
  <dc:creator>Admin</dc:creator>
  <dc:description/>
  <dc:language>en-US</dc:language>
  <cp:lastModifiedBy>LEGION</cp:lastModifiedBy>
  <dcterms:modified xsi:type="dcterms:W3CDTF">2014-12-30T08:45:00Z</dcterms:modified>
  <cp:revision>16</cp:revision>
  <dc:subject/>
  <dc:title>Слайд 1</dc:title>
</cp:coreProperties>
</file>