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220A-F671-4D6A-A50F-BF1ADA66E2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Monotype Corsiva"/>
              </a:rPr>
              <a:t>Автор: Воронина 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Monotype Corsiva"/>
              </a:rPr>
              <a:t>Учитель: Миронов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B749-E38B-4379-B78F-1AB36C5160D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Географическое 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находится</a:t>
            </a:r>
            <a:r>
              <a:rPr b="0" lang="ru-RU" sz="16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в Северной Африке. Египет граничит с Ливией, Суданом и Палестиной. Столицей Египта является Ка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682C-3800-4F6B-B6CD-AD1B8C1840D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Рельеф и полезные ископ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в основном равнинная страна. Горы имеются на побережье Красного моря. Большую часть Египта занимает Ливийская пустыня. В Египте находится впадина, которая ниже уровня моря на -133 м. Через Египет проходит Великий Восточно – Африканский раз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068D-B8C9-4226-9EDA-0F889DA4BD2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Клим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находится в субтропическом и тропическом поясах. Там преобладают средиземноморский (на побережье) и пустынный (на большей части) типы клим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6888-D6CB-4FDD-9738-1BF9EFFFC8E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Внутренние 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внутренними водами беден. В основном там пустыни. Самая крупная река Египта Нил. Нил - самая  длинная река мира (6671 км.). Велико значение Нила в хозяйстве стран, по которым он протек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DA91-A5D0-40F0-A873-3B663260A35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Monotype Corsiva"/>
              </a:rPr>
              <a:t>Природная з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ff66"/>
                </a:solidFill>
                <a:latin typeface="Calibri"/>
              </a:rPr>
              <a:t>           </a:t>
            </a:r>
            <a:r>
              <a:rPr b="1" lang="ru-RU" sz="1200" spc="-1" strike="noStrike">
                <a:solidFill>
                  <a:srgbClr val="66ff66"/>
                </a:solidFill>
                <a:latin typeface="Calibri"/>
              </a:rPr>
              <a:t>Египет располагается в природной зоне: жестколистных вечнозеленых лесов и кустарников, пустынь и полупусты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E243-5CE3-4DCF-85D7-EB77465CC0A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878-D143-415E-A885-C8C77FB8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6D09-4525-4DC8-8BD3-CD1E4281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963-4ED3-460F-8307-29698EB7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177-BA13-445B-809A-6D139D9D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CEE7-3D26-4243-B461-8236F08B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277A-8DA1-4789-B2D7-5D8C29EE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6E22-0D7E-48D1-BFB9-4B71AE0E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576A-C3FA-474D-B458-850890DC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CBF4-47B1-434D-9093-378CFCDC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1E5C-E49A-46B8-B0BF-463A6BDC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D2D0-2BF1-4F77-81B7-7B44FC2E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90B-CA1E-43A5-A61F-C4243BBA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FA47-E529-4FB3-B504-E49F404F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CE2E-50E0-4F99-9B8E-443EA5E8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8EA9-000A-45E8-848D-5ECE45D9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37FB-01B4-42FB-9223-95C596EC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2BC2-8DDC-4EC3-AB59-08E86F00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D67-FED5-46F1-9927-7B7E0643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932-6EB7-4368-973E-6F39CD68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D8BB-B775-4689-BB1F-D2DB2550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6BC-F4DB-48C1-91B3-FA166D88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FBE1-598F-4EC9-9896-05BD3A62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304-42C1-4BE9-9A3B-EDAD6304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609-A709-4632-B5AD-146BED01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AFAB-25E7-4283-A438-62812E8F45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3F99-EAE7-484B-BFA6-B82268EBED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579640" y="5660640"/>
            <a:ext cx="327204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Monotype Corsiva"/>
              </a:rPr>
              <a:t>Автор: Воронина 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Monotype Corsiva"/>
              </a:rPr>
              <a:t>Учитель: Миронов В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2050920" y="981000"/>
            <a:ext cx="5400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Природа Егип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29" name="Picture 5" descr="ren1"/>
          <p:cNvPicPr/>
          <p:nvPr/>
        </p:nvPicPr>
        <p:blipFill>
          <a:blip r:embed="rId1"/>
          <a:stretch/>
        </p:blipFill>
        <p:spPr>
          <a:xfrm>
            <a:off x="2268360" y="2637000"/>
            <a:ext cx="4556160" cy="30956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Географическое положени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находится</a:t>
            </a:r>
            <a:r>
              <a:rPr b="0" lang="ru-RU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в Северной Африке. Египет граничит с Ливией, Суданом и Палестиной. Столицей Египта является Каи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rew1"/>
          <p:cNvPicPr/>
          <p:nvPr/>
        </p:nvPicPr>
        <p:blipFill>
          <a:blip r:embed="rId1"/>
          <a:stretch/>
        </p:blipFill>
        <p:spPr>
          <a:xfrm>
            <a:off x="4286160" y="692280"/>
            <a:ext cx="4678560" cy="3450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rec2"/>
          <p:cNvPicPr/>
          <p:nvPr/>
        </p:nvPicPr>
        <p:blipFill>
          <a:blip r:embed="rId2"/>
          <a:stretch/>
        </p:blipFill>
        <p:spPr>
          <a:xfrm>
            <a:off x="179280" y="3429000"/>
            <a:ext cx="503568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Рельеф и полезные ископаемы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в основном равнинная страна. Горы имеются на побережье Красного моря. Большую часть Египта занимает Ливийская пустыня. В Египте находится впадина, которая ниже уровня моря на -133 м. Через Египет проходит Великий Восточно – Африканский раз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pol2"/>
          <p:cNvPicPr/>
          <p:nvPr/>
        </p:nvPicPr>
        <p:blipFill>
          <a:blip r:embed="rId1"/>
          <a:stretch/>
        </p:blipFill>
        <p:spPr>
          <a:xfrm>
            <a:off x="4140360" y="3714840"/>
            <a:ext cx="4824360" cy="3143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nat1"/>
          <p:cNvPicPr/>
          <p:nvPr/>
        </p:nvPicPr>
        <p:blipFill>
          <a:blip r:embed="rId2"/>
          <a:stretch/>
        </p:blipFill>
        <p:spPr>
          <a:xfrm>
            <a:off x="4140360" y="765000"/>
            <a:ext cx="4824360" cy="2951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Клима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403848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находится в субтропическом и тропическом поясах. Там преобладают средиземноморский (на побережье) и пустынный (на большей части) типы клима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rel5"/>
          <p:cNvPicPr/>
          <p:nvPr/>
        </p:nvPicPr>
        <p:blipFill>
          <a:blip r:embed="rId1"/>
          <a:stretch/>
        </p:blipFill>
        <p:spPr>
          <a:xfrm>
            <a:off x="4356000" y="692280"/>
            <a:ext cx="4537080" cy="280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int14"/>
          <p:cNvPicPr/>
          <p:nvPr/>
        </p:nvPicPr>
        <p:blipFill>
          <a:blip r:embed="rId2"/>
          <a:stretch/>
        </p:blipFill>
        <p:spPr>
          <a:xfrm>
            <a:off x="4356000" y="3716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nt13"/>
          <p:cNvPicPr/>
          <p:nvPr/>
        </p:nvPicPr>
        <p:blipFill>
          <a:blip r:embed="rId3"/>
          <a:stretch/>
        </p:blipFill>
        <p:spPr>
          <a:xfrm>
            <a:off x="179280" y="3716280"/>
            <a:ext cx="3961080" cy="2952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Внутренние вод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4038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66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66ff66"/>
                </a:solidFill>
                <a:latin typeface="Times New Roman"/>
              </a:rPr>
              <a:t>Египет внутренними водами беден. В основном там пустыни. Самая крупная река Египта Нил. Нил - самая  длинная река мира (6671 км.). Велико значение Нила в хозяйстве стран, по которым он протека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inn1"/>
          <p:cNvPicPr/>
          <p:nvPr/>
        </p:nvPicPr>
        <p:blipFill>
          <a:blip r:embed="rId1"/>
          <a:stretch/>
        </p:blipFill>
        <p:spPr>
          <a:xfrm>
            <a:off x="4211640" y="907920"/>
            <a:ext cx="4681440" cy="302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nat4"/>
          <p:cNvPicPr/>
          <p:nvPr/>
        </p:nvPicPr>
        <p:blipFill>
          <a:blip r:embed="rId2"/>
          <a:stretch/>
        </p:blipFill>
        <p:spPr>
          <a:xfrm>
            <a:off x="179280" y="3714840"/>
            <a:ext cx="5042160" cy="2954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Monotype Corsiva"/>
              </a:rPr>
              <a:t>Природная зо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27640" y="691920"/>
            <a:ext cx="4403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Египет располагается в природной зоне: жестколистных вечнозеленых лесов и кустарников, пустынь и полупусты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int4"/>
          <p:cNvPicPr/>
          <p:nvPr/>
        </p:nvPicPr>
        <p:blipFill>
          <a:blip r:embed="rId1"/>
          <a:stretch/>
        </p:blipFill>
        <p:spPr>
          <a:xfrm>
            <a:off x="3924360" y="3143160"/>
            <a:ext cx="5006880" cy="3525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min2"/>
          <p:cNvPicPr/>
          <p:nvPr/>
        </p:nvPicPr>
        <p:blipFill>
          <a:blip r:embed="rId2"/>
          <a:stretch/>
        </p:blipFill>
        <p:spPr>
          <a:xfrm>
            <a:off x="179280" y="692280"/>
            <a:ext cx="4105440" cy="33796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9:58:05Z</dcterms:created>
  <dc:creator>Владимир</dc:creator>
  <dc:description/>
  <dc:language>en-US</dc:language>
  <cp:lastModifiedBy>LEGION</cp:lastModifiedBy>
  <dcterms:modified xsi:type="dcterms:W3CDTF">2014-12-30T08:45:50Z</dcterms:modified>
  <cp:revision>11</cp:revision>
  <dc:subject/>
  <dc:title>Слайд 1</dc:title>
</cp:coreProperties>
</file>