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DB32-508A-4B40-9556-2820B5F877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4123-E7A3-461A-B0B6-A3ECEFAD550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</a:t>
            </a: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CEAE-745B-4C9F-ACC5-2D64142658A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F42D-C9A9-42DB-80EC-E2836DCE56F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82D-C83C-4D64-BF59-5A6A516E783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3E32-8AF8-4C76-8410-3B10A867009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ff66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E16B-9E8C-448B-A9D0-C389B310C5C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8A8-3534-47BC-9F9D-B07E0D9F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F3D-41BC-4DB9-948D-5ABEE63E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79E-4090-4558-9482-62381F2A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8A82-8CE3-482A-AFE8-5ABF6494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04F2-F173-4ABF-9F7A-62DE8CD2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B1CB-647A-47A6-8A86-202D9816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F788-B92C-4543-BC10-8D3F0F30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3602-53B6-4285-8041-7B10DDE5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68C6-4510-467C-A5CC-CED0D741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1CA4-1429-4742-85ED-45438E66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490D-B2CD-49AC-BF43-78B1992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CE2-B8A2-48AA-9391-D1E52630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67FD-7890-47EB-BE99-D1A43BB4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107C-0129-44E9-BC5E-3CC01B4C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68F2-F27A-4A2A-9C3C-CCB67F7E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3DB6-E286-4A76-997C-EDAAD8EF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D49B-7EB1-4886-A350-FDB24CBC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DC7-406A-4AD3-9EBC-1C09DEEC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5AB-1A73-4F18-9E68-B2C63CA1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6B8-4EF9-48FA-A85F-51D0F7AE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6FB-E9ED-423B-86BB-EA1C352A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D83-3088-4DA0-887F-2EAEB7AA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BB3-0F34-49F8-BCC6-566C5FB5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B5C-A047-4CFE-868D-EC66255B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AF01-D271-4618-8822-B291000D0F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EC55-1ADA-4B60-924F-561D49A3C1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579640" y="5660640"/>
            <a:ext cx="327204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2050920" y="981000"/>
            <a:ext cx="54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Природа Егип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29" name="Picture 5" descr="ren1"/>
          <p:cNvPicPr/>
          <p:nvPr/>
        </p:nvPicPr>
        <p:blipFill>
          <a:blip r:embed="rId1"/>
          <a:stretch/>
        </p:blipFill>
        <p:spPr>
          <a:xfrm>
            <a:off x="2268360" y="2637000"/>
            <a:ext cx="455616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</a:t>
            </a: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rew1"/>
          <p:cNvPicPr/>
          <p:nvPr/>
        </p:nvPicPr>
        <p:blipFill>
          <a:blip r:embed="rId1"/>
          <a:stretch/>
        </p:blipFill>
        <p:spPr>
          <a:xfrm>
            <a:off x="4286160" y="692280"/>
            <a:ext cx="4678560" cy="3450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rec2"/>
          <p:cNvPicPr/>
          <p:nvPr/>
        </p:nvPicPr>
        <p:blipFill>
          <a:blip r:embed="rId2"/>
          <a:stretch/>
        </p:blipFill>
        <p:spPr>
          <a:xfrm>
            <a:off x="179280" y="3429000"/>
            <a:ext cx="503568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pol2"/>
          <p:cNvPicPr/>
          <p:nvPr/>
        </p:nvPicPr>
        <p:blipFill>
          <a:blip r:embed="rId1"/>
          <a:stretch/>
        </p:blipFill>
        <p:spPr>
          <a:xfrm>
            <a:off x="4140360" y="3714840"/>
            <a:ext cx="4824360" cy="3143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nat1"/>
          <p:cNvPicPr/>
          <p:nvPr/>
        </p:nvPicPr>
        <p:blipFill>
          <a:blip r:embed="rId2"/>
          <a:stretch/>
        </p:blipFill>
        <p:spPr>
          <a:xfrm>
            <a:off x="4140360" y="765000"/>
            <a:ext cx="4824360" cy="2951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rel5"/>
          <p:cNvPicPr/>
          <p:nvPr/>
        </p:nvPicPr>
        <p:blipFill>
          <a:blip r:embed="rId1"/>
          <a:stretch/>
        </p:blipFill>
        <p:spPr>
          <a:xfrm>
            <a:off x="4356000" y="692280"/>
            <a:ext cx="4537080" cy="280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nt14"/>
          <p:cNvPicPr/>
          <p:nvPr/>
        </p:nvPicPr>
        <p:blipFill>
          <a:blip r:embed="rId2"/>
          <a:stretch/>
        </p:blipFill>
        <p:spPr>
          <a:xfrm>
            <a:off x="4356000" y="3716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nt13"/>
          <p:cNvPicPr/>
          <p:nvPr/>
        </p:nvPicPr>
        <p:blipFill>
          <a:blip r:embed="rId3"/>
          <a:stretch/>
        </p:blipFill>
        <p:spPr>
          <a:xfrm>
            <a:off x="179280" y="3716280"/>
            <a:ext cx="3961080" cy="2952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4038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66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inn1"/>
          <p:cNvPicPr/>
          <p:nvPr/>
        </p:nvPicPr>
        <p:blipFill>
          <a:blip r:embed="rId1"/>
          <a:stretch/>
        </p:blipFill>
        <p:spPr>
          <a:xfrm>
            <a:off x="4211640" y="907920"/>
            <a:ext cx="4681440" cy="302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nat4"/>
          <p:cNvPicPr/>
          <p:nvPr/>
        </p:nvPicPr>
        <p:blipFill>
          <a:blip r:embed="rId2"/>
          <a:stretch/>
        </p:blipFill>
        <p:spPr>
          <a:xfrm>
            <a:off x="179280" y="3714840"/>
            <a:ext cx="5042160" cy="2954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27640" y="691920"/>
            <a:ext cx="4403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int4"/>
          <p:cNvPicPr/>
          <p:nvPr/>
        </p:nvPicPr>
        <p:blipFill>
          <a:blip r:embed="rId1"/>
          <a:stretch/>
        </p:blipFill>
        <p:spPr>
          <a:xfrm>
            <a:off x="3924360" y="3143160"/>
            <a:ext cx="50068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min2"/>
          <p:cNvPicPr/>
          <p:nvPr/>
        </p:nvPicPr>
        <p:blipFill>
          <a:blip r:embed="rId2"/>
          <a:stretch/>
        </p:blipFill>
        <p:spPr>
          <a:xfrm>
            <a:off x="179280" y="692280"/>
            <a:ext cx="4105440" cy="33796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9:58:05Z</dcterms:created>
  <dc:creator>Владимир</dc:creator>
  <dc:description/>
  <dc:language>en-US</dc:language>
  <cp:lastModifiedBy>LEGION</cp:lastModifiedBy>
  <dcterms:modified xsi:type="dcterms:W3CDTF">2014-12-30T08:45:50Z</dcterms:modified>
  <cp:revision>11</cp:revision>
  <dc:subject/>
  <dc:title>Слайд 1</dc:title>
</cp:coreProperties>
</file>