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A704-427E-44B8-B7F0-9C50F3D7EE4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EE46-D64E-41A1-93E5-1326FD2105B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</a:t>
            </a: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14D0-C8B4-44E0-B082-D0D5D89D23F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571A-9BD4-4BC1-94F1-F8509127B72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D1CD-8C5C-4FEF-BCB0-BF2B7967C30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1E3B-F1D0-456C-B9F4-E968D92618E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ff66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D222-E627-4278-A25F-56222F5D1D2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40D-DBD8-46AD-AFC0-67DD6E51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D9D-8B26-4658-83B5-3A25E24E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ED4-DA71-410D-BD51-30823DEF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7C5-A2CD-43C2-88C9-E3456BFA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CB19-41EA-429F-A0B6-EA429034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3583-2867-4D92-9CE5-9715B5B3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BD11-040F-4C46-95BD-A84821F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633D-DA69-4796-91A6-D7594EE4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D777-214C-484A-96DE-9F9B1CEE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E5EA-FEF4-4B47-9722-5B311948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D8A9-65C4-4000-9F41-892E167E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085-9C8C-4EA4-A9F5-EE8B2276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D750-B8F3-4ECE-890C-7CF8BD93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97DC-F2AE-4009-BD21-D7779A80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BFBC-9CCC-4577-A330-CBCC0B3F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9A37-EF11-4A63-9A2A-D776139A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BC64-1266-4E4D-AA16-43CBF980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4BF-94DD-4E48-A46B-4C02EE11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E0A-C78A-4BAB-A75C-0E179142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9DC-E5F1-4FED-98F6-7DA0277E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1E2-4405-4934-A8D8-C679C966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DEF-84D6-4DB1-92EC-0F6E0F75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B3D-D76F-4958-BE9E-768A05C8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986-AC11-472D-AABA-51E286AD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F937-D337-4128-B34E-4F044FDA83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CEC1-3BB0-4C68-939F-D477728615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579640" y="5660640"/>
            <a:ext cx="327204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2050920" y="981000"/>
            <a:ext cx="54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Природа Егип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29" name="Picture 5" descr="ren1"/>
          <p:cNvPicPr/>
          <p:nvPr/>
        </p:nvPicPr>
        <p:blipFill>
          <a:blip r:embed="rId1"/>
          <a:stretch/>
        </p:blipFill>
        <p:spPr>
          <a:xfrm>
            <a:off x="2268360" y="2637000"/>
            <a:ext cx="455616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</a:t>
            </a: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rew1"/>
          <p:cNvPicPr/>
          <p:nvPr/>
        </p:nvPicPr>
        <p:blipFill>
          <a:blip r:embed="rId1"/>
          <a:stretch/>
        </p:blipFill>
        <p:spPr>
          <a:xfrm>
            <a:off x="4286160" y="692280"/>
            <a:ext cx="4678560" cy="3450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rec2"/>
          <p:cNvPicPr/>
          <p:nvPr/>
        </p:nvPicPr>
        <p:blipFill>
          <a:blip r:embed="rId2"/>
          <a:stretch/>
        </p:blipFill>
        <p:spPr>
          <a:xfrm>
            <a:off x="179280" y="3429000"/>
            <a:ext cx="50356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pol2"/>
          <p:cNvPicPr/>
          <p:nvPr/>
        </p:nvPicPr>
        <p:blipFill>
          <a:blip r:embed="rId1"/>
          <a:stretch/>
        </p:blipFill>
        <p:spPr>
          <a:xfrm>
            <a:off x="4140360" y="3714840"/>
            <a:ext cx="4824360" cy="3143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nat1"/>
          <p:cNvPicPr/>
          <p:nvPr/>
        </p:nvPicPr>
        <p:blipFill>
          <a:blip r:embed="rId2"/>
          <a:stretch/>
        </p:blipFill>
        <p:spPr>
          <a:xfrm>
            <a:off x="4140360" y="765000"/>
            <a:ext cx="4824360" cy="2951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rel5"/>
          <p:cNvPicPr/>
          <p:nvPr/>
        </p:nvPicPr>
        <p:blipFill>
          <a:blip r:embed="rId1"/>
          <a:stretch/>
        </p:blipFill>
        <p:spPr>
          <a:xfrm>
            <a:off x="4356000" y="692280"/>
            <a:ext cx="4537080" cy="280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nt14"/>
          <p:cNvPicPr/>
          <p:nvPr/>
        </p:nvPicPr>
        <p:blipFill>
          <a:blip r:embed="rId2"/>
          <a:stretch/>
        </p:blipFill>
        <p:spPr>
          <a:xfrm>
            <a:off x="4356000" y="3716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nt13"/>
          <p:cNvPicPr/>
          <p:nvPr/>
        </p:nvPicPr>
        <p:blipFill>
          <a:blip r:embed="rId3"/>
          <a:stretch/>
        </p:blipFill>
        <p:spPr>
          <a:xfrm>
            <a:off x="179280" y="3716280"/>
            <a:ext cx="3961080" cy="2952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4038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66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inn1"/>
          <p:cNvPicPr/>
          <p:nvPr/>
        </p:nvPicPr>
        <p:blipFill>
          <a:blip r:embed="rId1"/>
          <a:stretch/>
        </p:blipFill>
        <p:spPr>
          <a:xfrm>
            <a:off x="4211640" y="907920"/>
            <a:ext cx="4681440" cy="302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nat4"/>
          <p:cNvPicPr/>
          <p:nvPr/>
        </p:nvPicPr>
        <p:blipFill>
          <a:blip r:embed="rId2"/>
          <a:stretch/>
        </p:blipFill>
        <p:spPr>
          <a:xfrm>
            <a:off x="179280" y="3714840"/>
            <a:ext cx="5042160" cy="2954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27640" y="691920"/>
            <a:ext cx="4403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int4"/>
          <p:cNvPicPr/>
          <p:nvPr/>
        </p:nvPicPr>
        <p:blipFill>
          <a:blip r:embed="rId1"/>
          <a:stretch/>
        </p:blipFill>
        <p:spPr>
          <a:xfrm>
            <a:off x="3924360" y="3143160"/>
            <a:ext cx="50068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min2"/>
          <p:cNvPicPr/>
          <p:nvPr/>
        </p:nvPicPr>
        <p:blipFill>
          <a:blip r:embed="rId2"/>
          <a:stretch/>
        </p:blipFill>
        <p:spPr>
          <a:xfrm>
            <a:off x="179280" y="692280"/>
            <a:ext cx="4105440" cy="33796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9:58:05Z</dcterms:created>
  <dc:creator>Владимир</dc:creator>
  <dc:description/>
  <dc:language>en-US</dc:language>
  <cp:lastModifiedBy>LEGION</cp:lastModifiedBy>
  <dcterms:modified xsi:type="dcterms:W3CDTF">2014-12-30T08:45:50Z</dcterms:modified>
  <cp:revision>11</cp:revision>
  <dc:subject/>
  <dc:title>Слайд 1</dc:title>
</cp:coreProperties>
</file>