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010C-ADE6-4AC7-8DEF-CC4DD69BED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Полупустыни  и пустыни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Ро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Авторы: Ермаков А. Пичугина Н.  Сизов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Учитель: Миронов В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EF2D-5FA9-4181-9CB6-D5FEC23DF9EC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Географическое по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Кли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Расти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Живот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Значение полупустынь и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C1AF-024A-4206-A97F-C168B825864C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ccff66"/>
                </a:solidFill>
                <a:latin typeface="Times New Roman"/>
              </a:rPr>
              <a:t>Полупустыни и пустыни расположены в области резко континентального клима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ccff66"/>
                </a:solidFill>
                <a:latin typeface="Times New Roman"/>
              </a:rPr>
              <a:t>Полупустыни и пустыни лежат на прикаспийской низменности.  </a:t>
            </a:r>
            <a:r>
              <a:rPr b="0" lang="ru-RU" sz="1200" spc="-1" strike="noStrike">
                <a:solidFill>
                  <a:srgbClr val="ccff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04E5-EB8F-4E20-BC52-BDB0025A264A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cc00"/>
                </a:solidFill>
                <a:latin typeface="Times New Roman"/>
              </a:rPr>
              <a:t>Полупустыни и пустыни сухой, резко континентальный климат. Это связано с тем, что циклоны здесь крайне редкие гости, зато антициклоны приходят постоянно из глубины Евразии. Зимы полупустынях и пустынях холодные. Лето в полупустынях и пустынях жаркое. </a:t>
            </a: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85C5-6B0A-492C-B431-1A1F0A91A534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Раститель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Полупустынях и пустынях есть растения: вирблюжая колючка, лотос, эфем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E97E-512B-4537-A9DE-84430F6F705E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Животный мир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В полупустынях и пустынях есть животные:  тушканчики, мыши полёвки, змеи, ящерицы, жучки, скорпионы.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6794-F43E-4313-B635-354BD16DAA2D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Значение полупустынь и пустын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33cc33"/>
                </a:solidFill>
                <a:latin typeface="Times New Roman"/>
              </a:rPr>
              <a:t>В полупустынях и пустынях играют очень важною роль в природе в них выращив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33"/>
                </a:solidFill>
                <a:latin typeface="Times New Roman"/>
              </a:rPr>
              <a:t>пшеницу, ячмень, просо, кукурузу, горчицу и др. В них ещё пасут животных: овец, крупный рогатый скот, лошадей и верблюдов.</a:t>
            </a:r>
            <a:r>
              <a:rPr b="0" lang="ru-RU" sz="1200" spc="-1" strike="noStrike">
                <a:solidFill>
                  <a:srgbClr val="33cc33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847F-6114-47D2-A8C0-D5E1702358D7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D3F-0787-4152-B807-6496BB78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26C-D92C-4AE9-ACA3-0E22FC3A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EF0-E0BC-45C4-B9A2-ED14DD72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895-A045-460D-A171-91DB2AAA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C300-4881-47B9-8B92-B6599CD2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52D8-C71A-4936-885D-4D6ED466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4308-F54A-4754-A682-DA771F6D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0B2A-CC69-45E4-89F4-5A2926CA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848B-C148-4B88-AD1F-96322E8C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B60F-127C-4473-96F8-ECD0B8F9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3188-B84F-49C0-AD9D-693DDE2A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977-2143-4997-BD01-C7DA5774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DAF2-DED6-4E4D-ACA6-9BA9CF9B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1256-C6FB-4861-9A53-DB492DFB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90C6-95A7-4956-9255-E9BABD26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3420-B541-430F-99D9-92416FCD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3E7E-AF6D-4DD7-80B5-B0EE629D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307-1482-4C4D-B9F8-8E8E4DA0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48E-4603-42D1-821A-52B5FCED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0C2-8919-407B-A2AE-6547C762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6F3-23DE-4AA0-A3CE-6A2D8408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AB8-972A-4B5F-BD9E-215D15BA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3EF7-A090-47EE-8DA8-CDA2F36E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DF28-88D2-4B38-815E-2CAFB5AB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29E1-E352-44CB-B3F4-1B3A2277E5E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CCBA-F4B7-480F-B59D-CA940FFBC25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D:\География 7\Picts\2_af\ver1.gif"/>
          <p:cNvPicPr/>
          <p:nvPr/>
        </p:nvPicPr>
        <p:blipFill>
          <a:blip r:embed="rId1"/>
          <a:stretch/>
        </p:blipFill>
        <p:spPr>
          <a:xfrm>
            <a:off x="1571760" y="857160"/>
            <a:ext cx="6000480" cy="40719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2960" y="2214720"/>
            <a:ext cx="7772400" cy="86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Полупустыни  и пустыни </a:t>
            </a:r>
            <a:br>
              <a:rPr sz="5400"/>
            </a:b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России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000680" y="5143680"/>
            <a:ext cx="4892400" cy="15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Авторы: Ермаков А. Пичугина Н.  Сизов 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Учитель: Миронов В. 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Содержани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667692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Географическое полож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Клим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Раститель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Животный ми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Значение полупустынь и пустын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D:\География 7\Picts\2_af\rel6.gif"/>
          <p:cNvPicPr/>
          <p:nvPr/>
        </p:nvPicPr>
        <p:blipFill>
          <a:blip r:embed="rId1"/>
          <a:stretch/>
        </p:blipFill>
        <p:spPr>
          <a:xfrm>
            <a:off x="4786200" y="3929040"/>
            <a:ext cx="4143600" cy="2714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Географическое положени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4508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ccff66"/>
                </a:solidFill>
                <a:latin typeface="Times New Roman"/>
              </a:rPr>
              <a:t>Полупустыни и пустыни расположены в области резко континентального клима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ccff66"/>
                </a:solidFill>
                <a:latin typeface="Times New Roman"/>
              </a:rPr>
              <a:t>Полупустыни и пустыни лежат на прикаспийской низменности.  </a:t>
            </a: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4" descr="nat1"/>
          <p:cNvPicPr/>
          <p:nvPr/>
        </p:nvPicPr>
        <p:blipFill>
          <a:blip r:embed="rId1"/>
          <a:stretch/>
        </p:blipFill>
        <p:spPr>
          <a:xfrm>
            <a:off x="214200" y="1143000"/>
            <a:ext cx="4286520" cy="342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nat9"/>
          <p:cNvPicPr/>
          <p:nvPr/>
        </p:nvPicPr>
        <p:blipFill>
          <a:blip r:embed="rId2"/>
          <a:stretch/>
        </p:blipFill>
        <p:spPr>
          <a:xfrm>
            <a:off x="4714920" y="1143000"/>
            <a:ext cx="4214880" cy="3429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Monotype Corsiva"/>
              </a:rPr>
              <a:t>Климат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4857480"/>
            <a:ext cx="822960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2400" spc="-1" strike="noStrike">
                <a:solidFill>
                  <a:srgbClr val="00cc00"/>
                </a:solidFill>
                <a:latin typeface="Times New Roman"/>
              </a:rPr>
              <a:t>Полупустыни и пустыни сухой, резко континентальный климат. Это связано с тем, что циклоны здесь крайне редкие гости, зато антициклоны приходят постоянно из глубины Евразии. Зимы полупустынях и пустынях холодные. Лето в полупустынях и пустынях жаркое. </a:t>
            </a:r>
            <a:r>
              <a:rPr b="0" lang="ru-RU" sz="2400" spc="-1" strike="noStrike">
                <a:solidFill>
                  <a:srgbClr val="cc3300"/>
                </a:solidFill>
                <a:latin typeface="Monotype Corsiv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D:\География 7\Picts\2_af\nat1.gif"/>
          <p:cNvPicPr/>
          <p:nvPr/>
        </p:nvPicPr>
        <p:blipFill>
          <a:blip r:embed="rId1"/>
          <a:stretch/>
        </p:blipFill>
        <p:spPr>
          <a:xfrm>
            <a:off x="2000160" y="1000080"/>
            <a:ext cx="5429520" cy="38577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Растительность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580500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ff0066"/>
                </a:solidFill>
                <a:latin typeface="Times New Roman"/>
              </a:rPr>
              <a:t>Полупустынях и пустынях есть растения: вирблюжая колючка, лотос, эфемеры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4" descr="min2"/>
          <p:cNvPicPr/>
          <p:nvPr/>
        </p:nvPicPr>
        <p:blipFill>
          <a:blip r:embed="rId1"/>
          <a:stretch/>
        </p:blipFill>
        <p:spPr>
          <a:xfrm>
            <a:off x="250920" y="836640"/>
            <a:ext cx="3960720" cy="252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min4"/>
          <p:cNvPicPr/>
          <p:nvPr/>
        </p:nvPicPr>
        <p:blipFill>
          <a:blip r:embed="rId2"/>
          <a:stretch/>
        </p:blipFill>
        <p:spPr>
          <a:xfrm>
            <a:off x="4932360" y="836640"/>
            <a:ext cx="3997440" cy="2521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rel2"/>
          <p:cNvPicPr/>
          <p:nvPr/>
        </p:nvPicPr>
        <p:blipFill>
          <a:blip r:embed="rId3"/>
          <a:stretch/>
        </p:blipFill>
        <p:spPr>
          <a:xfrm>
            <a:off x="250920" y="3429000"/>
            <a:ext cx="3960720" cy="2428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nat6"/>
          <p:cNvPicPr/>
          <p:nvPr/>
        </p:nvPicPr>
        <p:blipFill>
          <a:blip r:embed="rId4"/>
          <a:stretch/>
        </p:blipFill>
        <p:spPr>
          <a:xfrm>
            <a:off x="4932360" y="3429000"/>
            <a:ext cx="3997440" cy="25002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Животный мир</a:t>
            </a:r>
            <a:r>
              <a:rPr b="0" lang="ru-RU" sz="54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В полупустынях и пустынях есть животные:  тушканчики, мыши полёвки, змеи, ящерицы, жучки, скорпионы.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4" descr="dro11"/>
          <p:cNvPicPr/>
          <p:nvPr/>
        </p:nvPicPr>
        <p:blipFill>
          <a:blip r:embed="rId1"/>
          <a:stretch/>
        </p:blipFill>
        <p:spPr>
          <a:xfrm>
            <a:off x="214200" y="1125360"/>
            <a:ext cx="4357800" cy="3946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ro9"/>
          <p:cNvPicPr/>
          <p:nvPr/>
        </p:nvPicPr>
        <p:blipFill>
          <a:blip r:embed="rId2"/>
          <a:stretch/>
        </p:blipFill>
        <p:spPr>
          <a:xfrm>
            <a:off x="4643280" y="1125360"/>
            <a:ext cx="4286520" cy="39466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D:\География 7\Picts\4_as\mon3.gif"/>
          <p:cNvPicPr/>
          <p:nvPr/>
        </p:nvPicPr>
        <p:blipFill>
          <a:blip r:embed="rId1"/>
          <a:stretch/>
        </p:blipFill>
        <p:spPr>
          <a:xfrm>
            <a:off x="2000160" y="3143160"/>
            <a:ext cx="5572080" cy="350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470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Значение полупустынь и пустынь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33cc33"/>
                </a:solidFill>
                <a:latin typeface="Times New Roman"/>
              </a:rPr>
              <a:t>В полупустынях и пустынях играют очень важною роль в природе в них выращивают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cc33"/>
                </a:solidFill>
                <a:latin typeface="Times New Roman"/>
              </a:rPr>
              <a:t>пшеницу, ячмень, просо, кукурузу, горчицу и др. В них ещё пасут животных: овец, крупный рогатый скот, лошадей и верблюдов.</a:t>
            </a:r>
            <a:r>
              <a:rPr b="0" lang="ru-RU" sz="3200" spc="-1" strike="noStrike">
                <a:solidFill>
                  <a:srgbClr val="33cc33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38:17Z</dcterms:created>
  <dc:creator>User</dc:creator>
  <dc:description/>
  <dc:language>en-US</dc:language>
  <cp:lastModifiedBy>LEGION</cp:lastModifiedBy>
  <dcterms:modified xsi:type="dcterms:W3CDTF">2014-12-30T08:46:13Z</dcterms:modified>
  <cp:revision>10</cp:revision>
  <dc:subject/>
  <dc:title>Полупустыни  и пустыни</dc:title>
</cp:coreProperties>
</file>