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74C9-E523-4863-92E8-452298627FE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Авторы: Ермаков А. Пичугина Н.  Сизов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Учитель: Миронов В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2B02-E79B-457E-A050-45222F56DC56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FDA8-352F-4C70-A4E3-DAB187A34E41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C640-B6BE-4789-BB2C-57898338B08E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4EFB-6D1C-49FA-994C-9F419A0097C8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E4C2-BD1C-48C7-A612-D4D194B279E3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7175-738F-4BB0-BA97-47B7F0C3616E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1200" spc="-1" strike="noStrike">
                <a:solidFill>
                  <a:srgbClr val="33cc33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20F2-9315-4BB2-8B6B-B08574D011BC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2F1-1698-4494-A4B8-BCD32D18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AE2-89B9-43D8-9C86-757DD186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07A-49EF-4D6D-A85B-CCDAF7E0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760-956E-4ED9-B503-4C72B9C2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1B77-BA17-4DF2-98FA-B7AD87EE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3939-4594-40A7-92CF-7C77D0E7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E23D-DDC3-4ACC-A7BD-A8EC1A03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3139-46CA-4B86-8BD2-497B3D05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1F23-8D40-45A8-80EF-1291FB82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17E7-9620-4369-AFAA-0B4C46CC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FE68-B5AD-4C7A-806F-BF920CC9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31E-78F3-4124-A0A1-609323BD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417E-0B51-4F64-BC1D-CBE5EB32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7BDB-8121-4183-B37E-23BDC53A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DC52-C349-48A8-A159-1129B801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82FE-922D-4793-B52A-D6278C2A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91A8-6820-415A-9558-B50E1BA3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601-3AA0-4135-AB3F-200924AE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BE1-C8B2-447E-A507-42ABCD18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70C-20C3-4289-BBFA-817904E0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3CB-0FE5-4EFA-A26C-1400F048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3D1-C6FF-4480-9879-A2C00023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BA1-DEE7-498F-98BE-D30FCEFE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D98-8632-4552-ABCE-D55A7827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107E-7C84-42DA-A05C-893D54B56BA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645D-F12A-48BD-9853-351B519385D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:\География 7\Picts\2_af\ver1.gif"/>
          <p:cNvPicPr/>
          <p:nvPr/>
        </p:nvPicPr>
        <p:blipFill>
          <a:blip r:embed="rId1"/>
          <a:stretch/>
        </p:blipFill>
        <p:spPr>
          <a:xfrm>
            <a:off x="1571760" y="857160"/>
            <a:ext cx="6000480" cy="4071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21472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000680" y="5143680"/>
            <a:ext cx="4892400" cy="15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Авторы: Ермаков А. Пичугина Н.  Сизов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Учитель: Миронов В. 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667692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D:\География 7\Picts\2_af\rel6.gif"/>
          <p:cNvPicPr/>
          <p:nvPr/>
        </p:nvPicPr>
        <p:blipFill>
          <a:blip r:embed="rId1"/>
          <a:stretch/>
        </p:blipFill>
        <p:spPr>
          <a:xfrm>
            <a:off x="4786200" y="3929040"/>
            <a:ext cx="4143600" cy="2714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4508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nat1"/>
          <p:cNvPicPr/>
          <p:nvPr/>
        </p:nvPicPr>
        <p:blipFill>
          <a:blip r:embed="rId1"/>
          <a:stretch/>
        </p:blipFill>
        <p:spPr>
          <a:xfrm>
            <a:off x="214200" y="114300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nat9"/>
          <p:cNvPicPr/>
          <p:nvPr/>
        </p:nvPicPr>
        <p:blipFill>
          <a:blip r:embed="rId2"/>
          <a:stretch/>
        </p:blipFill>
        <p:spPr>
          <a:xfrm>
            <a:off x="4714920" y="1143000"/>
            <a:ext cx="4214880" cy="3429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4857480"/>
            <a:ext cx="822960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D:\География 7\Picts\2_af\nat1.gif"/>
          <p:cNvPicPr/>
          <p:nvPr/>
        </p:nvPicPr>
        <p:blipFill>
          <a:blip r:embed="rId1"/>
          <a:stretch/>
        </p:blipFill>
        <p:spPr>
          <a:xfrm>
            <a:off x="2000160" y="1000080"/>
            <a:ext cx="5429520" cy="38577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580500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min2"/>
          <p:cNvPicPr/>
          <p:nvPr/>
        </p:nvPicPr>
        <p:blipFill>
          <a:blip r:embed="rId1"/>
          <a:stretch/>
        </p:blipFill>
        <p:spPr>
          <a:xfrm>
            <a:off x="250920" y="836640"/>
            <a:ext cx="3960720" cy="252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in4"/>
          <p:cNvPicPr/>
          <p:nvPr/>
        </p:nvPicPr>
        <p:blipFill>
          <a:blip r:embed="rId2"/>
          <a:stretch/>
        </p:blipFill>
        <p:spPr>
          <a:xfrm>
            <a:off x="4932360" y="836640"/>
            <a:ext cx="3997440" cy="252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rel2"/>
          <p:cNvPicPr/>
          <p:nvPr/>
        </p:nvPicPr>
        <p:blipFill>
          <a:blip r:embed="rId3"/>
          <a:stretch/>
        </p:blipFill>
        <p:spPr>
          <a:xfrm>
            <a:off x="250920" y="3429000"/>
            <a:ext cx="3960720" cy="242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nat6"/>
          <p:cNvPicPr/>
          <p:nvPr/>
        </p:nvPicPr>
        <p:blipFill>
          <a:blip r:embed="rId4"/>
          <a:stretch/>
        </p:blipFill>
        <p:spPr>
          <a:xfrm>
            <a:off x="4932360" y="3429000"/>
            <a:ext cx="3997440" cy="25002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5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dro11"/>
          <p:cNvPicPr/>
          <p:nvPr/>
        </p:nvPicPr>
        <p:blipFill>
          <a:blip r:embed="rId1"/>
          <a:stretch/>
        </p:blipFill>
        <p:spPr>
          <a:xfrm>
            <a:off x="214200" y="1125360"/>
            <a:ext cx="4357800" cy="394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ro9"/>
          <p:cNvPicPr/>
          <p:nvPr/>
        </p:nvPicPr>
        <p:blipFill>
          <a:blip r:embed="rId2"/>
          <a:stretch/>
        </p:blipFill>
        <p:spPr>
          <a:xfrm>
            <a:off x="4643280" y="1125360"/>
            <a:ext cx="4286520" cy="3946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D:\География 7\Picts\4_as\mon3.gif"/>
          <p:cNvPicPr/>
          <p:nvPr/>
        </p:nvPicPr>
        <p:blipFill>
          <a:blip r:embed="rId1"/>
          <a:stretch/>
        </p:blipFill>
        <p:spPr>
          <a:xfrm>
            <a:off x="2000160" y="3143160"/>
            <a:ext cx="5572080" cy="350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470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3200" spc="-1" strike="noStrike">
                <a:solidFill>
                  <a:srgbClr val="33cc33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38:17Z</dcterms:created>
  <dc:creator>User</dc:creator>
  <dc:description/>
  <dc:language>en-US</dc:language>
  <cp:lastModifiedBy>LEGION</cp:lastModifiedBy>
  <dcterms:modified xsi:type="dcterms:W3CDTF">2014-12-30T08:46:13Z</dcterms:modified>
  <cp:revision>10</cp:revision>
  <dc:subject/>
  <dc:title>Полупустыни  и пустыни</dc:title>
</cp:coreProperties>
</file>