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DD85-FA8A-4958-BB5A-916A74713E5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Полупустыни  и пустыни 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Росс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Авторы: Ермаков А. Пичугина Н.  Сизов 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Учитель: Миронов В.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A488-EC5B-48FC-B44D-0835B351930A}" type="slidenum">
              <a:rPr b="0" lang="uk-UA" sz="1200" spc="-1" strike="noStrike">
                <a:solidFill>
                  <a:srgbClr val="ffffff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Географическое по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Клим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Расти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Животны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Значение полупустынь и пусты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9AE3-DF84-4A3E-8545-C78148157051}" type="slidenum">
              <a:rPr b="0" lang="uk-UA" sz="1200" spc="-1" strike="noStrike">
                <a:solidFill>
                  <a:srgbClr val="ffffff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Географическое полож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ccff66"/>
                </a:solidFill>
                <a:latin typeface="Times New Roman"/>
              </a:rPr>
              <a:t>Полупустыни и пустыни расположены в области резко континентального клима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66"/>
                </a:solidFill>
                <a:latin typeface="Times New Roman"/>
              </a:rPr>
              <a:t>   </a:t>
            </a:r>
            <a:r>
              <a:rPr b="0" i="1" lang="ru-RU" sz="1200" spc="-1" strike="noStrike">
                <a:solidFill>
                  <a:srgbClr val="ccff66"/>
                </a:solidFill>
                <a:latin typeface="Times New Roman"/>
              </a:rPr>
              <a:t>Полупустыни и пустыни лежат на прикаспийской низменности.  </a:t>
            </a:r>
            <a:r>
              <a:rPr b="0" lang="ru-RU" sz="1200" spc="-1" strike="noStrike">
                <a:solidFill>
                  <a:srgbClr val="ccff66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7A25-48CF-4F94-97B8-AD04EB35408D}" type="slidenum">
              <a:rPr b="0" lang="uk-UA" sz="1200" spc="-1" strike="noStrike">
                <a:solidFill>
                  <a:srgbClr val="ffffff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Monotype Corsiva"/>
              </a:rPr>
              <a:t>Клим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cc00"/>
                </a:solidFill>
                <a:latin typeface="Times New Roman"/>
              </a:rPr>
              <a:t>Полупустыни и пустыни сухой, резко континентальный климат. Это связано с тем, что циклоны здесь крайне редкие гости, зато антициклоны приходят постоянно из глубины Евразии. Зимы полупустынях и пустынях холодные. Лето в полупустынях и пустынях жаркое. </a:t>
            </a:r>
            <a:r>
              <a:rPr b="0" lang="ru-RU" sz="1200" spc="-1" strike="noStrike">
                <a:solidFill>
                  <a:srgbClr val="c0504d"/>
                </a:solidFill>
                <a:latin typeface="Monotype Corsiv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7551-6D3A-421A-A37F-B1C883E317B9}" type="slidenum">
              <a:rPr b="0" lang="uk-UA" sz="1200" spc="-1" strike="noStrike">
                <a:solidFill>
                  <a:srgbClr val="ffffff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Растительно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66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0066"/>
                </a:solidFill>
                <a:latin typeface="Times New Roman"/>
              </a:rPr>
              <a:t>Полупустынях и пустынях есть растения: вирблюжая колючка, лотос, эфеме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0E40-4E0A-4B05-9038-45065079AE56}" type="slidenum">
              <a:rPr b="0" lang="uk-UA" sz="1200" spc="-1" strike="noStrike">
                <a:solidFill>
                  <a:srgbClr val="ffffff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Животный мир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ff0066"/>
                </a:solidFill>
                <a:latin typeface="Times New Roman"/>
              </a:rPr>
              <a:t>В полупустынях и пустынях есть животные:  тушканчики, мыши полёвки, змеи, ящерицы, жучки, скорпионы.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A2B0-6DB1-4C39-BE5D-1C0F8B3CFCBA}" type="slidenum">
              <a:rPr b="0" lang="uk-UA" sz="1200" spc="-1" strike="noStrike">
                <a:solidFill>
                  <a:srgbClr val="ffffff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Значение полупустынь и пустынь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33cc33"/>
                </a:solidFill>
                <a:latin typeface="Times New Roman"/>
              </a:rPr>
              <a:t>В полупустынях и пустынях играют очень важною роль в природе в них выращиваю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cc33"/>
                </a:solidFill>
                <a:latin typeface="Times New Roman"/>
              </a:rPr>
              <a:t>пшеницу, ячмень, просо, кукурузу, горчицу и др. В них ещё пасут животных: овец, крупный рогатый скот, лошадей и верблюдов.</a:t>
            </a:r>
            <a:r>
              <a:rPr b="0" lang="ru-RU" sz="1200" spc="-1" strike="noStrike">
                <a:solidFill>
                  <a:srgbClr val="33cc33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31EE-4C56-4663-B9AF-666C7D612500}" type="slidenum">
              <a:rPr b="0" lang="uk-UA" sz="1200" spc="-1" strike="noStrike">
                <a:solidFill>
                  <a:srgbClr val="ffffff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4304-39D5-4219-AAF6-58E509663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3002-F12B-4728-981E-B2DFD1DA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86EC-A1E3-4157-9B0B-5BCE55877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B58B-126E-408E-99BC-525DAFC64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A677-CCC0-4FEF-AD28-F8D03A982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E217-3E22-437E-8582-C3AB6A2D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00DA-84D9-4C88-8093-93BF25D7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2520-E91F-406E-80CF-ADEC9E4F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EB01-300D-4D97-9AF0-5D864E2D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EEF7-F7DC-4A6F-8859-9917480F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56E4-8815-4EEA-B5DD-5A4A0EA5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66BA-9CFE-47B8-AE37-34824632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BE58-3F0E-45BC-A4A4-8228E2B0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E587-C3DA-4730-96B7-1C2C06DB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1737-1019-425A-A77F-072E771D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5B96-E5EA-4C26-8BF4-2869D5DDF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6A78-457A-40C5-9BAF-825435AA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9247-0CC9-4D53-9D86-46D352B3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57AE-D7CE-4621-B123-C6A63A02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94A4-F882-458D-8089-448EFDE5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E101-F6F9-40A2-862F-1FC7EF3C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CA97-96A3-45A2-BF87-7E535B24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858B-7ECD-41C5-B1F5-EC7E5E7E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56D8-1DAA-481B-8585-F52B5F5D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9E0D-6F88-46D9-9518-75C41A68D64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564C-9440-4DDA-B3A5-A12C3A481A67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D:\География 7\Picts\2_af\ver1.gif"/>
          <p:cNvPicPr/>
          <p:nvPr/>
        </p:nvPicPr>
        <p:blipFill>
          <a:blip r:embed="rId1"/>
          <a:stretch/>
        </p:blipFill>
        <p:spPr>
          <a:xfrm>
            <a:off x="1571760" y="857160"/>
            <a:ext cx="6000480" cy="40719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2960" y="2214720"/>
            <a:ext cx="7772400" cy="86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Monotype Corsiva"/>
              </a:rPr>
              <a:t>Полупустыни  и пустыни </a:t>
            </a:r>
            <a:br>
              <a:rPr sz="5400"/>
            </a:br>
            <a:r>
              <a:rPr b="0" lang="ru-RU" sz="5400" spc="-1" strike="noStrike">
                <a:solidFill>
                  <a:srgbClr val="0000ff"/>
                </a:solidFill>
                <a:latin typeface="Monotype Corsiva"/>
              </a:rPr>
              <a:t>России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000680" y="5143680"/>
            <a:ext cx="4892400" cy="152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Авторы: Ермаков А. Пичугина Н.  Сизов 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Учитель: Миронов В. 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Monotype Corsiva"/>
              </a:rPr>
              <a:t>Содержание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667692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Географическое полож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Клима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Растительнос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Животный ми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Значение полупустынь и пустын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4" descr="D:\География 7\Picts\2_af\rel6.gif"/>
          <p:cNvPicPr/>
          <p:nvPr/>
        </p:nvPicPr>
        <p:blipFill>
          <a:blip r:embed="rId1"/>
          <a:stretch/>
        </p:blipFill>
        <p:spPr>
          <a:xfrm>
            <a:off x="4786200" y="3929040"/>
            <a:ext cx="4143600" cy="271476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Monotype Corsiva"/>
              </a:rPr>
              <a:t>Географическое положение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4508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i="1" lang="ru-RU" sz="3200" spc="-1" strike="noStrike">
                <a:solidFill>
                  <a:srgbClr val="ccff66"/>
                </a:solidFill>
                <a:latin typeface="Times New Roman"/>
              </a:rPr>
              <a:t>Полупустыни и пустыни расположены в области резко континентального климат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66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ccff66"/>
                </a:solidFill>
                <a:latin typeface="Times New Roman"/>
              </a:rPr>
              <a:t>Полупустыни и пустыни лежат на прикаспийской низменности.  </a:t>
            </a:r>
            <a:r>
              <a:rPr b="0" lang="ru-RU" sz="3200" spc="-1" strike="noStrike">
                <a:solidFill>
                  <a:srgbClr val="ccff66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4" descr="nat1"/>
          <p:cNvPicPr/>
          <p:nvPr/>
        </p:nvPicPr>
        <p:blipFill>
          <a:blip r:embed="rId1"/>
          <a:stretch/>
        </p:blipFill>
        <p:spPr>
          <a:xfrm>
            <a:off x="214200" y="1143000"/>
            <a:ext cx="4286520" cy="3429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nat9"/>
          <p:cNvPicPr/>
          <p:nvPr/>
        </p:nvPicPr>
        <p:blipFill>
          <a:blip r:embed="rId2"/>
          <a:stretch/>
        </p:blipFill>
        <p:spPr>
          <a:xfrm>
            <a:off x="4714920" y="1143000"/>
            <a:ext cx="4214880" cy="34290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ff"/>
                </a:solidFill>
                <a:latin typeface="Monotype Corsiva"/>
              </a:rPr>
              <a:t>Климат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4857480"/>
            <a:ext cx="8229600" cy="17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i="1" lang="ru-RU" sz="2400" spc="-1" strike="noStrike">
                <a:solidFill>
                  <a:srgbClr val="00cc00"/>
                </a:solidFill>
                <a:latin typeface="Times New Roman"/>
              </a:rPr>
              <a:t>Полупустыни и пустыни сухой, резко континентальный климат. Это связано с тем, что циклоны здесь крайне редкие гости, зато антициклоны приходят постоянно из глубины Евразии. Зимы полупустынях и пустынях холодные. Лето в полупустынях и пустынях жаркое. </a:t>
            </a:r>
            <a:r>
              <a:rPr b="0" lang="ru-RU" sz="2400" spc="-1" strike="noStrike">
                <a:solidFill>
                  <a:srgbClr val="cc3300"/>
                </a:solidFill>
                <a:latin typeface="Monotype Corsiv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Picture 4" descr="D:\География 7\Picts\2_af\nat1.gif"/>
          <p:cNvPicPr/>
          <p:nvPr/>
        </p:nvPicPr>
        <p:blipFill>
          <a:blip r:embed="rId1"/>
          <a:stretch/>
        </p:blipFill>
        <p:spPr>
          <a:xfrm>
            <a:off x="2000160" y="1000080"/>
            <a:ext cx="5429520" cy="385776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Monotype Corsiva"/>
              </a:rPr>
              <a:t>Растительность 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5805000"/>
            <a:ext cx="8229600" cy="9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66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ff0066"/>
                </a:solidFill>
                <a:latin typeface="Times New Roman"/>
              </a:rPr>
              <a:t>Полупустынях и пустынях есть растения: вирблюжая колючка, лотос, эфемеры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4" descr="min2"/>
          <p:cNvPicPr/>
          <p:nvPr/>
        </p:nvPicPr>
        <p:blipFill>
          <a:blip r:embed="rId1"/>
          <a:stretch/>
        </p:blipFill>
        <p:spPr>
          <a:xfrm>
            <a:off x="250920" y="836640"/>
            <a:ext cx="3960720" cy="2521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min4"/>
          <p:cNvPicPr/>
          <p:nvPr/>
        </p:nvPicPr>
        <p:blipFill>
          <a:blip r:embed="rId2"/>
          <a:stretch/>
        </p:blipFill>
        <p:spPr>
          <a:xfrm>
            <a:off x="4932360" y="836640"/>
            <a:ext cx="3997440" cy="2521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rel2"/>
          <p:cNvPicPr/>
          <p:nvPr/>
        </p:nvPicPr>
        <p:blipFill>
          <a:blip r:embed="rId3"/>
          <a:stretch/>
        </p:blipFill>
        <p:spPr>
          <a:xfrm>
            <a:off x="250920" y="3429000"/>
            <a:ext cx="3960720" cy="2428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nat6"/>
          <p:cNvPicPr/>
          <p:nvPr/>
        </p:nvPicPr>
        <p:blipFill>
          <a:blip r:embed="rId4"/>
          <a:stretch/>
        </p:blipFill>
        <p:spPr>
          <a:xfrm>
            <a:off x="4932360" y="3429000"/>
            <a:ext cx="3997440" cy="250020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Monotype Corsiva"/>
              </a:rPr>
              <a:t>Животный мир</a:t>
            </a:r>
            <a:r>
              <a:rPr b="0" lang="ru-RU" sz="5400" spc="-1" strike="noStrike">
                <a:solidFill>
                  <a:srgbClr val="ffff99"/>
                </a:solidFill>
                <a:latin typeface="Monotype Corsiva"/>
              </a:rPr>
              <a:t> 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5013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   </a:t>
            </a:r>
            <a:r>
              <a:rPr b="0" i="1" lang="ru-RU" sz="3200" spc="-1" strike="noStrike">
                <a:solidFill>
                  <a:srgbClr val="ff0066"/>
                </a:solidFill>
                <a:latin typeface="Times New Roman"/>
              </a:rPr>
              <a:t>В полупустынях и пустынях есть животные:  тушканчики, мыши полёвки, змеи, ящерицы, жучки, скорпионы.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Picture 4" descr="dro11"/>
          <p:cNvPicPr/>
          <p:nvPr/>
        </p:nvPicPr>
        <p:blipFill>
          <a:blip r:embed="rId1"/>
          <a:stretch/>
        </p:blipFill>
        <p:spPr>
          <a:xfrm>
            <a:off x="214200" y="1125360"/>
            <a:ext cx="4357800" cy="39466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dro9"/>
          <p:cNvPicPr/>
          <p:nvPr/>
        </p:nvPicPr>
        <p:blipFill>
          <a:blip r:embed="rId2"/>
          <a:stretch/>
        </p:blipFill>
        <p:spPr>
          <a:xfrm>
            <a:off x="4643280" y="1125360"/>
            <a:ext cx="4286520" cy="394668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D:\География 7\Picts\4_as\mon3.gif"/>
          <p:cNvPicPr/>
          <p:nvPr/>
        </p:nvPicPr>
        <p:blipFill>
          <a:blip r:embed="rId1"/>
          <a:stretch/>
        </p:blipFill>
        <p:spPr>
          <a:xfrm>
            <a:off x="2000160" y="3143160"/>
            <a:ext cx="5572080" cy="3500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44704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Monotype Corsiva"/>
              </a:rPr>
              <a:t>Значение полупустынь и пустынь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33cc33"/>
                </a:solidFill>
                <a:latin typeface="Times New Roman"/>
              </a:rPr>
              <a:t>В полупустынях и пустынях играют очень важною роль в природе в них выращивают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cc33"/>
                </a:solidFill>
                <a:latin typeface="Times New Roman"/>
              </a:rPr>
              <a:t>пшеницу, ячмень, просо, кукурузу, горчицу и др. В них ещё пасут животных: овец, крупный рогатый скот, лошадей и верблюдов.</a:t>
            </a:r>
            <a:r>
              <a:rPr b="0" lang="ru-RU" sz="3200" spc="-1" strike="noStrike">
                <a:solidFill>
                  <a:srgbClr val="33cc33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05:38:17Z</dcterms:created>
  <dc:creator>User</dc:creator>
  <dc:description/>
  <dc:language>en-US</dc:language>
  <cp:lastModifiedBy>LEGION</cp:lastModifiedBy>
  <dcterms:modified xsi:type="dcterms:W3CDTF">2014-12-30T08:46:13Z</dcterms:modified>
  <cp:revision>10</cp:revision>
  <dc:subject/>
  <dc:title>Полупустыни  и пустыни</dc:title>
</cp:coreProperties>
</file>