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2719A-95E6-4CB0-A17E-572A5C2D7E30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еографическое положение Евраз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У «СОШ №2 г. Нариманов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итель географ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кибо Т. 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CC995-E17B-4981-81D7-F433209D923B}" type="slidenum">
              <a:rPr b="0" lang="uk-U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и уро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знакомить учащихся с представлением о Евраз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яснить влияние размеров на природные особен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звать имена путешественников и исследователей континент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C995F-72F8-4141-AE98-9D19BA8D82B8}" type="slidenum">
              <a:rPr b="0" lang="uk-U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ие сведение о Евраз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самый большой по площади материк (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S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4 млн. к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вразия делится на две части света ( Европа и Азия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мывается материк всеми океан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ая высокая гора в мире Джомолунгма – 8848 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72028-3987-4910-AD85-26C1838439C7}" type="slidenum">
              <a:rPr b="0" lang="uk-U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ктическая рабо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контурной карте подписать океаны, которые омывают Еврази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йти географические координаты край них точек матери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в.  мыс Челюски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юж.   мыс Пиа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п.   мыс Р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с.   мыс Дежне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355BC-D598-43E5-8778-00D76F390411}" type="slidenum">
              <a:rPr b="0" lang="uk-U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следователи Евраз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2E6C7-CD2C-463A-B891-CFE2BD87F766}" type="slidenum">
              <a:rPr b="0" lang="uk-U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D0C84-A6F3-4857-8498-1AF0BB7004BE}" type="slidenum">
              <a:rPr b="0" lang="uk-U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авните географическое положение Евразии и Австрал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97A1A-E5A8-4AF1-B15A-587DE1C00227}" type="slidenum">
              <a:rPr b="0" lang="uk-U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ашняя рабо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§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59 учебни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полнительный материал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льп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имала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рпа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иб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66CE4-FC7B-4D43-BA1B-C32162D3489B}" type="slidenum">
              <a:rPr b="0" lang="uk-U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FE7BD-BFF2-44BD-A171-B4777313D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E2448-F450-41C2-977E-76FB1C61C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0532F-E089-4A97-BB18-9448EF4AD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94503-949E-427B-8BDE-DB5BEC4D2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15B40-5A7A-4753-B708-AC73E2003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284E3-BC46-41C7-9C00-EA9F1CAD8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4B3CE-7CDB-42EE-864A-2DBA68CE4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BDB30-BBAF-4584-AAB8-88CC4E18A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D0BAE-7F1D-4929-A9D9-E83C417CB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888A9-269E-4899-BA54-5D29F0A9A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803CF-1961-4E23-BF5C-1A043FA8E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91CF4-FC6D-4E69-AE23-6146CD812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3368D-B825-42F6-8618-FC618C5D8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F99A3-BF15-4A8D-9408-2CB81073F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CD72B-19D3-4137-8FB1-E5E276906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73D4D-9B6C-4C82-8769-02DB832CC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0FB13-DE8C-4802-B639-9EC4BDFE9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BC2C1-BCA4-4F32-8F96-33678381F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5E412-4E71-4927-A59B-18EA27D1B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5484C-0692-40D4-A3D0-212D67F60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9783A-DC20-44B1-A0AE-B388140FB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F90B9-A906-4904-B8F0-53957CD20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6FAEC-CDD2-4435-BCD7-0BF072036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D66E3-DEEC-4D93-9FB2-87C4B3028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4f45"/>
            </a:gs>
            <a:gs pos="100000">
              <a:srgbClr val="757868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Group 3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Freeform 5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grpSp>
              <p:nvGrpSpPr>
                <p:cNvPr id="4" name="Group 6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Freeform 7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6" name="Freeform 8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7" name="Freeform 9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grpSp>
                <p:nvGrpSpPr>
                  <p:cNvPr id="8" name="Group 10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Freeform 11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p:txBody>
                </p:sp>
                <p:grpSp>
                  <p:nvGrpSpPr>
                    <p:cNvPr id="10" name="Group 12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Freeform 13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endParaRPr>
                      </a:p>
                    </p:txBody>
                  </p:sp>
                  <p:grpSp>
                    <p:nvGrpSpPr>
                      <p:cNvPr id="12" name="Group 14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Line 15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4" name="Line 16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5" name="Line 17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6" name="Line 18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7" name="Line 19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" name="Line 20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" name="Line 21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" name="Line 22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1" name="Line 23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2" name="Line 24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" name="Line 25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" name="Line 26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" name="Line 27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6" name="Line 28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7" name="Line 29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8" name="Line 30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9" name="Line 31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0" name="Line 32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1" name="Line 33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2" name="Line 34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3" name="Line 35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4" name="Line 36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5" name="Line 37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6" name="Line 38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7" name="Line 39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8" name="Line 40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9" name="Line 41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0" name="Line 42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1" name="Line 43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2" name="Line 44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3" name="Line 45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4" name="Line 46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5" name="Line 47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6" name="Line 48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7" name="Line 49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8" name="Freeform 50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grpSp>
                      <p:nvGrpSpPr>
                        <p:cNvPr id="49" name="Group 51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Oval 52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1" name="Oval 53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2" name="Oval 54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3" name="Oval 55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4" name="Oval 56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5" name="Oval 57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6" name="Oval 58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7" name="Oval 59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8" name="Oval 60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9" name="Oval 61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60" name="Oval 62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61" name="Oval 63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Line 64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3" name="Line 65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4" name="Line 66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5" name="Line 67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6" name="Line 68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7" name="Line 69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8" name="Line 70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9" name="Line 71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0" name="Line 72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1" name="Line 73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2" name="Line 74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3" name="Line 75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4" name="Line 76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5" name="Line 77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6" name="Line 78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7" name="Line 79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8" name="Line 80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9" name="Line 81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0" name="Line 82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1" name="Line 83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2" name="Line 84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3" name="Line 85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4" name="Line 86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5" name="Line 87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6" name="Line 88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7" name="Line 89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8" name="Line 90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9" name="Line 91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0" name="Line 92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1" name="Line 93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2" name="Line 94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3" name="Line 95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4" name="Line 96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5" name="Line 97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6" name="Line 98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7" name="Line 99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Group 100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Line 101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00" name="Line 102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grpSp>
              <p:nvGrpSpPr>
                <p:cNvPr id="101" name="Group 103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Line 104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4" name="Line 106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5" name="Line 107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6" name="Line 108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7" name="Line 109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8" name="Line 110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9" name="Line 111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10" name="Line 112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</p:grpSp>
        </p:grpSp>
        <p:grpSp>
          <p:nvGrpSpPr>
            <p:cNvPr id="111" name="Group 113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Freeform 114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3" name="Freeform 115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4" name="Rectangle 116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5" name="Rectangle 117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6" name="Rectangle 118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7" name="Rectangle 119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grpSp>
            <p:nvGrpSpPr>
              <p:cNvPr id="118" name="Group 120"/>
              <p:cNvGrpSpPr/>
              <p:nvPr/>
            </p:nvGrpSpPr>
            <p:grpSpPr>
              <a:xfrm>
                <a:off x="4752720" y="2104920"/>
                <a:ext cx="493920" cy="494280"/>
                <a:chOff x="4752720" y="2104920"/>
                <a:chExt cx="493920" cy="494280"/>
              </a:xfrm>
            </p:grpSpPr>
            <p:sp>
              <p:nvSpPr>
                <p:cNvPr id="119" name="Oval 121"/>
                <p:cNvSpPr/>
                <p:nvPr/>
              </p:nvSpPr>
              <p:spPr>
                <a:xfrm rot="2828400">
                  <a:off x="4768560" y="2330640"/>
                  <a:ext cx="315720" cy="181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20" name="Freeform 122"/>
                <p:cNvSpPr/>
                <p:nvPr/>
              </p:nvSpPr>
              <p:spPr>
                <a:xfrm>
                  <a:off x="4866840" y="2226960"/>
                  <a:ext cx="254160" cy="24732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21" name="Freeform 123"/>
                <p:cNvSpPr/>
                <p:nvPr/>
              </p:nvSpPr>
              <p:spPr>
                <a:xfrm>
                  <a:off x="4949640" y="2217960"/>
                  <a:ext cx="182520" cy="17316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22" name="Freeform 124"/>
                <p:cNvSpPr/>
                <p:nvPr/>
              </p:nvSpPr>
              <p:spPr>
                <a:xfrm>
                  <a:off x="5014800" y="2112480"/>
                  <a:ext cx="227160" cy="22284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23" name="Freeform 125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C4C08-5F3B-47CE-B399-25500BBCA95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4f45"/>
            </a:gs>
            <a:gs pos="100000">
              <a:srgbClr val="757868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Group 2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Group 3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Group 4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Freeform 5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grpSp>
              <p:nvGrpSpPr>
                <p:cNvPr id="169" name="Group 6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Freeform 7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71" name="Freeform 8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72" name="Freeform 9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grpSp>
                <p:nvGrpSpPr>
                  <p:cNvPr id="173" name="Group 10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Freeform 11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p:txBody>
                </p:sp>
                <p:grpSp>
                  <p:nvGrpSpPr>
                    <p:cNvPr id="175" name="Group 12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Freeform 13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endParaRPr>
                      </a:p>
                    </p:txBody>
                  </p:sp>
                  <p:grpSp>
                    <p:nvGrpSpPr>
                      <p:cNvPr id="177" name="Group 14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Line 15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79" name="Line 16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0" name="Line 17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1" name="Line 18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2" name="Line 19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3" name="Line 20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4" name="Line 21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5" name="Line 22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6" name="Line 23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7" name="Line 24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8" name="Line 25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9" name="Line 26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0" name="Line 27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1" name="Line 28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2" name="Line 29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3" name="Line 30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4" name="Line 31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5" name="Line 32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6" name="Line 33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7" name="Line 34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8" name="Line 35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9" name="Line 36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0" name="Line 37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1" name="Line 38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2" name="Line 39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3" name="Line 40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4" name="Line 41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5" name="Line 42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6" name="Line 43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7" name="Line 44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8" name="Line 45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9" name="Line 46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10" name="Line 47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11" name="Line 48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12" name="Line 49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13" name="Freeform 50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grpSp>
                      <p:nvGrpSpPr>
                        <p:cNvPr id="214" name="Group 51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Oval 52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16" name="Oval 53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17" name="Oval 54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18" name="Oval 55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19" name="Oval 56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0" name="Oval 57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1" name="Oval 58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2" name="Oval 59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3" name="Oval 60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4" name="Oval 61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5" name="Oval 62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6" name="Oval 63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Line 64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28" name="Line 65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29" name="Line 66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0" name="Line 67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1" name="Line 68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2" name="Line 69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3" name="Line 70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4" name="Line 71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5" name="Line 72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6" name="Line 73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7" name="Line 74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8" name="Line 75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9" name="Line 76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0" name="Line 77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1" name="Line 78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2" name="Line 79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3" name="Line 80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4" name="Line 81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5" name="Line 82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6" name="Line 83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7" name="Line 84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8" name="Line 85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9" name="Line 86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0" name="Line 87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1" name="Line 88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2" name="Line 89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3" name="Line 90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4" name="Line 91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5" name="Line 92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6" name="Line 93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7" name="Line 94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8" name="Line 95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9" name="Line 96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60" name="Line 97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61" name="Line 98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62" name="Line 99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Group 100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Line 101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65" name="Line 102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grpSp>
              <p:nvGrpSpPr>
                <p:cNvPr id="266" name="Group 103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Line 104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68" name="Freeform 105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69" name="Line 106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0" name="Line 107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1" name="Line 108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2" name="Line 109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3" name="Line 110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4" name="Line 111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5" name="Line 112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</p:grpSp>
        </p:grpSp>
        <p:grpSp>
          <p:nvGrpSpPr>
            <p:cNvPr id="276" name="Group 113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Freeform 114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8" name="Freeform 115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9" name="Rectangle 116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0" name="Rectangle 117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1" name="Rectangle 118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2" name="Rectangle 119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grpSp>
            <p:nvGrpSpPr>
              <p:cNvPr id="283" name="Group 120"/>
              <p:cNvGrpSpPr/>
              <p:nvPr/>
            </p:nvGrpSpPr>
            <p:grpSpPr>
              <a:xfrm>
                <a:off x="4728960" y="2141280"/>
                <a:ext cx="493920" cy="494280"/>
                <a:chOff x="4728960" y="2141280"/>
                <a:chExt cx="493920" cy="494280"/>
              </a:xfrm>
            </p:grpSpPr>
            <p:sp>
              <p:nvSpPr>
                <p:cNvPr id="284" name="Oval 121"/>
                <p:cNvSpPr/>
                <p:nvPr/>
              </p:nvSpPr>
              <p:spPr>
                <a:xfrm rot="2828400">
                  <a:off x="4744800" y="2367000"/>
                  <a:ext cx="315720" cy="181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85" name="Freeform 122"/>
                <p:cNvSpPr/>
                <p:nvPr/>
              </p:nvSpPr>
              <p:spPr>
                <a:xfrm>
                  <a:off x="4843080" y="2263320"/>
                  <a:ext cx="254160" cy="24732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86" name="Freeform 123"/>
                <p:cNvSpPr/>
                <p:nvPr/>
              </p:nvSpPr>
              <p:spPr>
                <a:xfrm>
                  <a:off x="4925880" y="2254320"/>
                  <a:ext cx="182520" cy="17316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87" name="Freeform 124"/>
                <p:cNvSpPr/>
                <p:nvPr/>
              </p:nvSpPr>
              <p:spPr>
                <a:xfrm>
                  <a:off x="4991040" y="2148840"/>
                  <a:ext cx="227160" cy="22284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88" name="Freeform 125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6196A-C53A-4D46-B31B-3E91E949B6F6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100" spc="-1" strike="noStrike">
                <a:solidFill>
                  <a:srgbClr val="c4c3aa"/>
                </a:solidFill>
                <a:latin typeface="Arial"/>
              </a:rPr>
              <a:t>Географическое положение Евразии.</a:t>
            </a: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2916360" y="4508280"/>
            <a:ext cx="5976720" cy="113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МОУ «СОШ №2 г. Нариманов»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Учитель географии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Скибо Т. А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4c3aa"/>
                </a:solidFill>
                <a:latin typeface="Arial"/>
              </a:rPr>
              <a:t>Цели урока.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знакомить учащихся с представлением о Евразии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ъяснить влияние размеров на природные особенности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звать имена путешественников и исследователей континента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4c3aa"/>
                </a:solidFill>
                <a:latin typeface="Arial"/>
              </a:rPr>
              <a:t>Общие сведение о Евразии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Это самый большой по площади материк (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S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4 млн. км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²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вразия делится на две части света ( Европа и Азия)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мывается материк всеми океанами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амая высокая гора в мире Джомолунгма – 8848 м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4c3aa"/>
                </a:solidFill>
                <a:latin typeface="Arial"/>
              </a:rPr>
              <a:t>Практическая работа.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контурной карте подписать океаны, которые омывают Евразию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йти географические координаты край них точек материка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в.  мыс Челюски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юж.   мыс Пиа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п.   мыс Рок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с.   мыс Дежнев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48" name="Picture 4" descr="1worldmap-thumb"/>
          <p:cNvPicPr/>
          <p:nvPr/>
        </p:nvPicPr>
        <p:blipFill>
          <a:blip r:embed="rId1"/>
          <a:stretch/>
        </p:blipFill>
        <p:spPr>
          <a:xfrm>
            <a:off x="5796000" y="4149720"/>
            <a:ext cx="2278080" cy="1511280"/>
          </a:xfrm>
          <a:prstGeom prst="rect">
            <a:avLst/>
          </a:prstGeom>
          <a:ln w="0">
            <a:noFill/>
          </a:ln>
        </p:spPr>
      </p:pic>
      <p:sp>
        <p:nvSpPr>
          <p:cNvPr id="3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4c3aa"/>
                </a:solidFill>
                <a:latin typeface="Arial"/>
              </a:rPr>
              <a:t>Исследователи Евразии.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pic>
        <p:nvPicPr>
          <p:cNvPr id="351" name="Picture 3" descr=""/>
          <p:cNvPicPr/>
          <p:nvPr/>
        </p:nvPicPr>
        <p:blipFill>
          <a:blip r:embed="rId1"/>
          <a:stretch/>
        </p:blipFill>
        <p:spPr>
          <a:xfrm>
            <a:off x="457200" y="2276640"/>
            <a:ext cx="3610080" cy="360036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4" descr=""/>
          <p:cNvPicPr/>
          <p:nvPr/>
        </p:nvPicPr>
        <p:blipFill>
          <a:blip r:embed="rId2"/>
          <a:stretch/>
        </p:blipFill>
        <p:spPr>
          <a:xfrm>
            <a:off x="5508720" y="2205000"/>
            <a:ext cx="3166920" cy="3600360"/>
          </a:xfrm>
          <a:prstGeom prst="rect">
            <a:avLst/>
          </a:prstGeom>
          <a:ln w="0">
            <a:noFill/>
          </a:ln>
        </p:spPr>
      </p:pic>
      <p:sp>
        <p:nvSpPr>
          <p:cNvPr id="353" name="Text Box 5"/>
          <p:cNvSpPr/>
          <p:nvPr/>
        </p:nvSpPr>
        <p:spPr>
          <a:xfrm>
            <a:off x="539640" y="1773360"/>
            <a:ext cx="374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Семенов-Тан-Шанский П.П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4" name="Text Box 6"/>
          <p:cNvSpPr/>
          <p:nvPr/>
        </p:nvSpPr>
        <p:spPr>
          <a:xfrm>
            <a:off x="5580000" y="170028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Пржевальский Н.М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Picture 3" descr=""/>
          <p:cNvPicPr/>
          <p:nvPr/>
        </p:nvPicPr>
        <p:blipFill>
          <a:blip r:embed="rId1"/>
          <a:stretch/>
        </p:blipFill>
        <p:spPr>
          <a:xfrm>
            <a:off x="539640" y="1628640"/>
            <a:ext cx="3117960" cy="453096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4" descr=""/>
          <p:cNvPicPr/>
          <p:nvPr/>
        </p:nvPicPr>
        <p:blipFill>
          <a:blip r:embed="rId2"/>
          <a:stretch/>
        </p:blipFill>
        <p:spPr>
          <a:xfrm>
            <a:off x="5435640" y="1700280"/>
            <a:ext cx="3024000" cy="4321080"/>
          </a:xfrm>
          <a:prstGeom prst="rect">
            <a:avLst/>
          </a:prstGeom>
          <a:ln w="0">
            <a:noFill/>
          </a:ln>
        </p:spPr>
      </p:pic>
      <p:sp>
        <p:nvSpPr>
          <p:cNvPr id="358" name="Text Box 5"/>
          <p:cNvSpPr/>
          <p:nvPr/>
        </p:nvSpPr>
        <p:spPr>
          <a:xfrm>
            <a:off x="755640" y="765000"/>
            <a:ext cx="331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Козлов П.К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9" name="Text Box 6"/>
          <p:cNvSpPr/>
          <p:nvPr/>
        </p:nvSpPr>
        <p:spPr>
          <a:xfrm>
            <a:off x="5580000" y="76500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Обручев В.А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4c3aa"/>
                </a:solidFill>
                <a:latin typeface="Arial"/>
              </a:rPr>
              <a:t>Сравните географическое положение Евразии и Австралии</a:t>
            </a:r>
            <a:endParaRPr b="0" lang="en-US" sz="4000" spc="-1" strike="noStrike">
              <a:solidFill>
                <a:srgbClr val="c4c3aa"/>
              </a:solidFill>
              <a:latin typeface="Arial"/>
            </a:endParaRPr>
          </a:p>
        </p:txBody>
      </p:sp>
      <p:graphicFrame>
        <p:nvGraphicFramePr>
          <p:cNvPr id="362" name=""/>
          <p:cNvGraphicFramePr/>
          <p:nvPr/>
        </p:nvGraphicFramePr>
        <p:xfrm>
          <a:off x="457200" y="1600200"/>
          <a:ext cx="8229600" cy="5257800"/>
        </p:xfrm>
        <a:graphic>
          <a:graphicData uri="http://schemas.openxmlformats.org/drawingml/2006/table">
            <a:tbl>
              <a:tblPr/>
              <a:tblGrid>
                <a:gridCol w="4114800"/>
                <a:gridCol w="1871640"/>
                <a:gridCol w="2243160"/>
              </a:tblGrid>
              <a:tr h="9064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Черты сравнени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Еврази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Австрали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548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Как расположен материк по поношению к экватору, нулевому меридиану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5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Какие океаны омывают материк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64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В каких климатических поясах расположен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Относительно других материко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4c3aa"/>
                </a:solidFill>
                <a:latin typeface="Arial"/>
              </a:rPr>
              <a:t>Домашняя работа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§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59 учебни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полнительный материал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   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ьп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   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имала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   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рпат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   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ибет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66" name="Picture 5" descr=""/>
          <p:cNvPicPr/>
          <p:nvPr/>
        </p:nvPicPr>
        <p:blipFill>
          <a:blip r:embed="rId1"/>
          <a:stretch/>
        </p:blipFill>
        <p:spPr>
          <a:xfrm>
            <a:off x="4716360" y="3068640"/>
            <a:ext cx="2082960" cy="2160720"/>
          </a:xfrm>
          <a:prstGeom prst="rect">
            <a:avLst/>
          </a:prstGeom>
          <a:ln w="0">
            <a:noFill/>
          </a:ln>
        </p:spPr>
      </p:pic>
      <p:sp>
        <p:nvSpPr>
          <p:cNvPr id="3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6T14:11:00Z</dcterms:created>
  <dc:creator>Admin</dc:creator>
  <dc:description/>
  <dc:language>en-US</dc:language>
  <cp:lastModifiedBy>LEGION</cp:lastModifiedBy>
  <dcterms:modified xsi:type="dcterms:W3CDTF">2014-12-30T09:35:25Z</dcterms:modified>
  <cp:revision>6</cp:revision>
  <dc:subject/>
  <dc:title>Географическое положение Евразии.</dc:title>
</cp:coreProperties>
</file>