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1B83-AC96-4258-9EDC-FACB15082D3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ое положение Евр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СОШ №2 г. Нариман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географ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ибо Т.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D660-70A7-4386-AFCA-EC0D2688CD9A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учащихся с представлением о Евр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влияние размеров на природные особ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ть имена путешественников и исследователей контин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A525-9320-4110-BD87-FEBB0A8FF1BC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сведение о Евр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амый большой по площади материк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4 млн. к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азия делится на две части света ( Европа и Аз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мывается материк всеми океа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высокая гора в мире Джомолунгма – 8848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5F48-D8FF-4209-81DF-1544487D65B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онтурной карте подписать океаны, которые омывают Евраз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географические координаты край них точек матер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.  мыс Челюс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.   мыс Пи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.   мыс 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.   мыс Дежн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86DA-C80C-4CC6-AC87-356E4199411F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и Евр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715B-B55F-4638-84EC-0C4054470DBA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2219-D548-4558-98F8-7279CB6F5E74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 географическое положение Евразии и Австрал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6017-2313-4E82-8510-6F4D6E350B0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я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59 учеб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й матери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мала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п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б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42AE-6429-43BF-8D5F-0D5ABA2E420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0441-51E3-4AC8-95A8-680655DA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5689-5721-425E-8019-7333D5DD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C155-0436-48C3-8666-5DF9406D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6B5C-DE2A-4D43-9CF4-EAE3A211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C890-234C-474A-9161-BE5C0E7C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7748-AE4E-49F3-B70C-91CFC5F6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7047-6F1A-400E-B4D0-B18C52DD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0541-DC1E-4EEC-A85F-6648EC4D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4302-7670-4640-9E4C-F78515C7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DBA7-1948-4B57-9029-8945F36B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024C-1492-4F81-AF1C-07A474FF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F26C-3087-46BC-A88A-5BA548AE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A94D-D1B1-4359-A460-35D33234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D1B8-AB2D-4ACA-AEF2-8383512E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199A-5D14-4560-9FDA-5E3D78F3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94B8-2F39-4F0B-94B2-2ABC4D82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A97A-5F7E-496B-ADEF-215757B7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0E12-78E2-4942-B80C-A4EE881D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92D8-75ED-4032-9C46-E57E7ECC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9A67-E881-4162-B61E-E0A15627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9D00-C3F5-415B-9DBB-4E56F6F8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3254-BBC3-42C6-B869-891FAE21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3D27-140D-4E7B-80F2-50B8A868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77CE-627A-42FD-A895-DF454D00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1989-882C-451F-A9B3-5A3D3BF56C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16EF-620A-4E9F-AF30-18B0E04AEFC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c4c3aa"/>
                </a:solidFill>
                <a:latin typeface="Arial"/>
              </a:rPr>
              <a:t>Географическое положение Евразии.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916360" y="4508280"/>
            <a:ext cx="597672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ОУ «СОШ №2 г. Нариманов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итель географ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кибо Т. 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Цели урока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комить учащихся с представлением о Евраз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ъяснить влияние размеров на природные особен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вать имена путешественников и исследователей континен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Общие сведение о Евразии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самый большой по площади материк (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4 млн. к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²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вразия делится на две части света ( Европа и Азия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ается материк всеми океан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ая высокая гора в мире Джомолунгма – 8848 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Практическая работа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нтурной карте подписать океаны, которые омывают Еврази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ти географические координаты край них точек материк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в.  мыс Челюск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ж.   мыс Пиа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.   мыс Ро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.   мыс Дежне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8" name="Picture 4" descr="1worldmap-thumb"/>
          <p:cNvPicPr/>
          <p:nvPr/>
        </p:nvPicPr>
        <p:blipFill>
          <a:blip r:embed="rId1"/>
          <a:stretch/>
        </p:blipFill>
        <p:spPr>
          <a:xfrm>
            <a:off x="5796000" y="4149720"/>
            <a:ext cx="2278080" cy="151128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Исследователи Евразии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457200" y="2276640"/>
            <a:ext cx="3610080" cy="3600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5508720" y="2205000"/>
            <a:ext cx="3166920" cy="36003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"/>
          <p:cNvSpPr/>
          <p:nvPr/>
        </p:nvSpPr>
        <p:spPr>
          <a:xfrm>
            <a:off x="539640" y="1773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еменов-Тан-Шанский П.П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5580000" y="170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жевальский Н.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3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117960" cy="45309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3024000" cy="432108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5"/>
          <p:cNvSpPr/>
          <p:nvPr/>
        </p:nvSpPr>
        <p:spPr>
          <a:xfrm>
            <a:off x="755640" y="765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злов П.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5580000" y="765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ручев В.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Сравните географическое положение Евразии и Австралии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1600200"/>
          <a:ext cx="8229600" cy="5257800"/>
        </p:xfrm>
        <a:graphic>
          <a:graphicData uri="http://schemas.openxmlformats.org/drawingml/2006/table">
            <a:tbl>
              <a:tblPr/>
              <a:tblGrid>
                <a:gridCol w="4114800"/>
                <a:gridCol w="1871640"/>
                <a:gridCol w="2243160"/>
              </a:tblGrid>
              <a:tr h="9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ерты сравн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враз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встрал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 расположен материк по поношению к экватору, нулевому меридиану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ие океаны омывают материк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каких климатических поясах располож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носительно других материк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59 учебни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полнительный материа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ьп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мала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рпа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б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4716360" y="3068640"/>
            <a:ext cx="2082960" cy="2160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4:11:00Z</dcterms:created>
  <dc:creator>Admin</dc:creator>
  <dc:description/>
  <dc:language>en-US</dc:language>
  <cp:lastModifiedBy>LEGION</cp:lastModifiedBy>
  <dcterms:modified xsi:type="dcterms:W3CDTF">2014-12-30T09:35:25Z</dcterms:modified>
  <cp:revision>6</cp:revision>
  <dc:subject/>
  <dc:title>Географическое положение Евразии.</dc:title>
</cp:coreProperties>
</file>