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7A81-B02A-4F08-86BE-470F451F0D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е положение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№2 г. Нарима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бо Т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8246-5E6B-486B-8A77-6313FB01A3B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представлением о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влияние размеров на природные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имена путешественников и исследователей контин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153C-55F3-41FF-894B-75FCEE5EBC6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е о Ев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большой по площади материк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 млн.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азия делится на две части света ( Европа и Аз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ывается материк всеми океа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высокая гора в мире Джомолунгма – 8848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ECBE-DF32-486C-AEDD-2097C595F22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нтурной карте подписать океаны, которые омывают Ев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географические координаты край них точек матер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.  мыс Челюс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.   мыс Пи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.   мыс 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.   мыс Деж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73F5-A96E-4C06-81ED-60E23713011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и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96FC-67CC-4D8E-9687-9E1679737A0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CF99-BDD7-415B-A89A-C1D5078F51F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 географическое положение Евразии и Австр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3B71-79AF-4F9F-BCC6-CDF8EE44F01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59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ала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п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б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81F5-B356-4AF2-8A68-C86073D827A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575-9661-42F9-9C83-B5C339F2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FEB-068F-417A-9890-DADC5986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8CD-A145-4CFA-8A2B-81F76AC7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EE0-812D-4A8A-BD14-C3FF76BC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A34F-A613-4571-B757-83575782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1F0E-F7CA-4DA4-8E3D-79374AD9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75AD-810D-4EE8-974D-C96E4891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52B4-6BAB-46A5-AB64-B6F1612F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ACEC-57B2-4E48-98CA-E4AD5CE2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2185-FD62-4C70-8B74-28AA3D00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645D-0B71-4A19-9A19-27044C8A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6DB-FAFC-4497-A4DF-D19F326F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4A12-A8E8-4F35-9A9F-DCA7B569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4F8D-E37C-43B4-8208-0FB2014A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8115-B227-4F14-93F5-2482F48A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80F6-FD1C-40F8-9808-E37566E1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362E-8E98-4846-9878-2945BAFD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021-6860-4630-B9BB-E990BADA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350-EB0B-41D1-9BC3-6BC55F1C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1F9-DC4F-49A4-82B9-AC78CA64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D20-C515-4B21-B2C7-036BF8C9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C01-B8CD-4E95-9032-F4731ACE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7F9-D5E4-40B5-88C2-AD1A2673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0EF-2EC4-4682-802A-574A568F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6030-CD1D-4EFE-8EF9-AE4D87736E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6CDD-2FB1-4111-B192-8AE25FC79A8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c4c3aa"/>
                </a:solidFill>
                <a:latin typeface="Arial"/>
              </a:rPr>
              <a:t>Географическое положение Евразии.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916360" y="4508280"/>
            <a:ext cx="597672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У «СОШ №2 г. Нариманов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ибо Т.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Цели урок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 учащихся с представлением о Евраз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яснить влияние размеров на природные особен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вать имена путешественников и исследователей континен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Общие сведение о Евраз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самый большой по площади материк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4 млн.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разия делится на две части света ( Европа и Азия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ается материк всеми океан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ая высокая гора в мире Джомолунгма – 8848 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Практическая работ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нтурной карте подписать океаны, которые омывают Еврази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географические координаты край них точек материк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в.  мыс Челюск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ж.   мыс Пиа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.   мыс Ро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.   мыс Дежне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Picture 4" descr="1worldmap-thumb"/>
          <p:cNvPicPr/>
          <p:nvPr/>
        </p:nvPicPr>
        <p:blipFill>
          <a:blip r:embed="rId1"/>
          <a:stretch/>
        </p:blipFill>
        <p:spPr>
          <a:xfrm>
            <a:off x="5796000" y="4149720"/>
            <a:ext cx="2278080" cy="15112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Исследователи Евразии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610080" cy="3600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508720" y="2205000"/>
            <a:ext cx="3166920" cy="3600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"/>
          <p:cNvSpPr/>
          <p:nvPr/>
        </p:nvSpPr>
        <p:spPr>
          <a:xfrm>
            <a:off x="539640" y="1773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менов-Тан-Шанский П.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558000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жевальский Н.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117960" cy="4530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024000" cy="43210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755640" y="76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злов П.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5580000" y="76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учев В.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Сравните географическое положение Евразии и Австрали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600200"/>
          <a:ext cx="8229600" cy="5257800"/>
        </p:xfrm>
        <a:graphic>
          <a:graphicData uri="http://schemas.openxmlformats.org/drawingml/2006/table">
            <a:tbl>
              <a:tblPr/>
              <a:tblGrid>
                <a:gridCol w="4114800"/>
                <a:gridCol w="1871640"/>
                <a:gridCol w="2243160"/>
              </a:tblGrid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ерты сравн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враз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расположен материк по поношению к экватору, нулевому меридиан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ие океаны омывают материк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аких климатических поясах располож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носительно других материк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59 учебн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ительный материа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ь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ала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рпа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б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2082960" cy="2160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11:00Z</dcterms:created>
  <dc:creator>Admin</dc:creator>
  <dc:description/>
  <dc:language>en-US</dc:language>
  <cp:lastModifiedBy>LEGION</cp:lastModifiedBy>
  <dcterms:modified xsi:type="dcterms:W3CDTF">2014-12-30T09:35:25Z</dcterms:modified>
  <cp:revision>6</cp:revision>
  <dc:subject/>
  <dc:title>Географическое положение Евразии.</dc:title>
</cp:coreProperties>
</file>