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F968-028B-4A2C-B69D-1084D0FDBC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раститель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DEC6-B1FB-433D-96D9-868B8FCE2279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 трав семейства бромелиевых. 5 видов, в тропической Америке. Сочные, крупные (изредка до 15 кг), кисло-сладкие, ароматные соплодия съедобны. Культивируют с древности, главным образом в тропиках. Из листьев некоторых ананасов получают волок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62C5-7170-49BE-881A-86AC5BFAB725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сная и коричневая древесина махагониевого, саппанового и ряда других тропических деревьев, часто также называемых красным деревом. Очень прочная, с красивой текстурой древесина хорошо полируется и издавна используется для изготовления высококачественной мебели. Иногда красным деревом называется древесина тисса, черной ольхи и секвой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91CC-7DF5-4F8C-97ED-15487CC72BA1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 вечнозеленых деревьев семейства молочайных. Св. 10 видов, в тропической Америке. Гевея бразильская — основной источник натурального каучука (путем подсочки с 1 дерева получают 3-7,5 кг каучука в год). Культивируется в тропическ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06EA-D062-4CD4-A976-620EE71F376D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лодов этого дерева индейцы готовили напиток, который называли «Тео брома», т.е. напиток богов, дающий человеку силу, мудрость, смелость, энергию. Европейцы добавили к этому напитку сливки и сахар, получив при этом вкуснейшее лаком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C380-A5A4-40FA-B1A5-90578A4A44A1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клубненосные виды травянистых растений рода паслен семейства пасленовых. Для пищевых, кормовых и технических целей в Южной Америке выращивают картофель андийский и картофель европейский, или чилийский, или клубненосный— как однолетнее растение, в странах с умеренным клима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08D4-3F16-4AE8-BFF6-A934C3D84961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545A-3D5C-4511-B0EA-9A1ABAE3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A186-066D-4887-AF2C-22A1C9BF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0BFD-418D-42E4-BE7D-F6952590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4097-7722-4A7B-BA51-748FA12E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E78B-51A7-4258-AC96-C590BAAD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DFE8-561E-4A7B-AC6A-5FF567F9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900C-A1B4-4CD8-8CE9-33884620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D3D4-7BFD-426E-A3A5-6C37DEE9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40F1-63EE-44D5-9A15-976667B1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E0FE-F7B1-4073-8549-8A4D9F59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D99E-8583-4F57-A0F3-729AB4A8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3588-4472-49CD-83F5-A77C9F6C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9DBE-AC04-4D74-B991-31BD53B1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C675-2D02-41FE-8400-BDDDA56F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111D-7D4E-4D10-9EF4-7DE421B3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774F-4477-4F9B-9467-F37BC4E6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62A2-CED3-40D7-B09C-2A428E42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AEE-84EE-462D-A877-8A03CE87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91B-F28C-4AA0-A022-EAFA4FAD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572-7C7A-465D-B9CB-A9040392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CC10-642A-4F40-8740-91729490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29FD-6BA9-41ED-9A88-E1725E42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0A4C-2A03-462B-93E2-DB49ADD2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A8A8-D8FE-4E14-A355-55215823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C658-DB7C-491C-AF63-0FE964FB200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57EB-5C9E-4D2A-AC8F-13E3CDD6E511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4"/>
          <p:cNvSpPr txBox="1"/>
          <p:nvPr/>
        </p:nvSpPr>
        <p:spPr>
          <a:xfrm rot="696000">
            <a:off x="-25200" y="1743120"/>
            <a:ext cx="9144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9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тительный мир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c731e0a8f490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a00059i"/>
          <p:cNvPicPr/>
          <p:nvPr/>
        </p:nvPicPr>
        <p:blipFill>
          <a:blip r:embed="rId1"/>
          <a:stretch/>
        </p:blipFill>
        <p:spPr>
          <a:xfrm>
            <a:off x="0" y="1628640"/>
            <a:ext cx="4699080" cy="52293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-324360" y="-360"/>
            <a:ext cx="770436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од трав семейства бромелиевых. 5 видов, в тропической Америке. Сочные, крупные (изредка до 15 кг), кисло-сладкие, ароматные соплодия съедобны. Культивируют с древности, главным образом в тропиках. Из листьев некоторых ананасов получают волокно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Picture 4" descr="0122_102"/>
          <p:cNvPicPr/>
          <p:nvPr/>
        </p:nvPicPr>
        <p:blipFill>
          <a:blip r:embed="rId2"/>
          <a:stretch/>
        </p:blipFill>
        <p:spPr>
          <a:xfrm>
            <a:off x="5024520" y="1700280"/>
            <a:ext cx="4119480" cy="5157720"/>
          </a:xfrm>
          <a:prstGeom prst="rect">
            <a:avLst/>
          </a:prstGeom>
          <a:ln w="0">
            <a:noFill/>
          </a:ln>
        </p:spPr>
      </p:pic>
      <p:sp>
        <p:nvSpPr>
          <p:cNvPr id="224" name="Line 7"/>
          <p:cNvSpPr/>
          <p:nvPr/>
        </p:nvSpPr>
        <p:spPr>
          <a:xfrm flipH="1">
            <a:off x="2484000" y="3357720"/>
            <a:ext cx="237492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4859280" y="3357720"/>
            <a:ext cx="1513080" cy="358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6084720" y="1125360"/>
            <a:ext cx="2232360" cy="1152720"/>
          </a:xfrm>
          <a:prstGeom prst="cloudCallout">
            <a:avLst>
              <a:gd name="adj1" fmla="val -104837"/>
              <a:gd name="adj2" fmla="val 144212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АНАНА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110127"/>
          <p:cNvPicPr/>
          <p:nvPr/>
        </p:nvPicPr>
        <p:blipFill>
          <a:blip r:embed="rId1"/>
          <a:stretch/>
        </p:blipFill>
        <p:spPr>
          <a:xfrm>
            <a:off x="684360" y="92160"/>
            <a:ext cx="7200720" cy="67658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-468720" y="4292640"/>
            <a:ext cx="842508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расная и коричневая древесина махагониевого, саппанового и ряда других тропических деревьев, часто также называемых красным деревом. Очень прочная, с красивой текстурой древесина хорошо полируется и издавна используется для изготовления высококачественной мебели. Иногда красным деревом называется древесина тисса, черной ольхи и секвой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7054920" y="2781360"/>
            <a:ext cx="2089080" cy="1008000"/>
          </a:xfrm>
          <a:prstGeom prst="cloudCallout">
            <a:avLst>
              <a:gd name="adj1" fmla="val -137310"/>
              <a:gd name="adj2" fmla="val 39291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расное дерев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каучуконос гевея,"/>
          <p:cNvPicPr/>
          <p:nvPr/>
        </p:nvPicPr>
        <p:blipFill>
          <a:blip r:embed="rId1"/>
          <a:stretch/>
        </p:blipFill>
        <p:spPr>
          <a:xfrm>
            <a:off x="2771640" y="1484280"/>
            <a:ext cx="4137120" cy="53737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24360" y="-360"/>
            <a:ext cx="6696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од вечнозеленых деревьев семейства молочайных. Св. 10 видов, в тропической Америке. Гевея бразильская — основной источник натурального каучука (путем подсочки с 1 дерева получают 3-7,5 кг каучука в год). Культивируется в тропических странах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7020000" y="1268280"/>
            <a:ext cx="1727280" cy="1008360"/>
          </a:xfrm>
          <a:prstGeom prst="cloudCallout">
            <a:avLst>
              <a:gd name="adj1" fmla="val -129046"/>
              <a:gd name="adj2" fmla="val 160708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геве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k_301i"/>
          <p:cNvPicPr/>
          <p:nvPr/>
        </p:nvPicPr>
        <p:blipFill>
          <a:blip r:embed="rId1"/>
          <a:stretch/>
        </p:blipFill>
        <p:spPr>
          <a:xfrm>
            <a:off x="2571840" y="1055520"/>
            <a:ext cx="5211720" cy="58024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-396720" y="0"/>
            <a:ext cx="954072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з плодов этого дерева индейцы готовили напиток, который называли «Тео брома», т.е. напиток богов, дающий человеку силу, мудрость, смелость, энергию. Европейцы добавили к этому напитку сливки и сахар, получив при этом вкуснейшее лакомство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7164360" y="2205000"/>
            <a:ext cx="1728720" cy="1152720"/>
          </a:xfrm>
          <a:prstGeom prst="cloudCallout">
            <a:avLst>
              <a:gd name="adj1" fmla="val -197842"/>
              <a:gd name="adj2" fmla="val 71902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ака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ло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k_522i"/>
          <p:cNvPicPr/>
          <p:nvPr/>
        </p:nvPicPr>
        <p:blipFill>
          <a:blip r:embed="rId1"/>
          <a:stretch/>
        </p:blipFill>
        <p:spPr>
          <a:xfrm>
            <a:off x="2050920" y="260280"/>
            <a:ext cx="5927760" cy="6597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-324360" y="0"/>
            <a:ext cx="741708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ноголетние клубненосные виды травянистых растений рода паслен семейства пасленовых. Для пищевых, кормовых и технических целей в Южной Америке выращивают картофель андийский и картофель европейский, или чилийский, или клубненосный— как однолетнее растение, в странах с умеренным климато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5500800" y="3429000"/>
            <a:ext cx="3643200" cy="936720"/>
          </a:xfrm>
          <a:prstGeom prst="cloudCallout">
            <a:avLst>
              <a:gd name="adj1" fmla="val -64981"/>
              <a:gd name="adj2" fmla="val -138134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артофельны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ор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0_6710_87b45fc7_M"/>
          <p:cNvPicPr/>
          <p:nvPr/>
        </p:nvPicPr>
        <p:blipFill>
          <a:blip r:embed="rId1"/>
          <a:stretch/>
        </p:blipFill>
        <p:spPr>
          <a:xfrm>
            <a:off x="468360" y="333360"/>
            <a:ext cx="8316720" cy="62373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275px-Calathea_lancifolia_-_rattlesnake_plant_-_from-DC1"/>
          <p:cNvPicPr/>
          <p:nvPr/>
        </p:nvPicPr>
        <p:blipFill>
          <a:blip r:embed="rId1"/>
          <a:stretch/>
        </p:blipFill>
        <p:spPr>
          <a:xfrm>
            <a:off x="684360" y="0"/>
            <a:ext cx="7451640" cy="68263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agave%20attenuata"/>
          <p:cNvPicPr/>
          <p:nvPr/>
        </p:nvPicPr>
        <p:blipFill>
          <a:blip r:embed="rId1"/>
          <a:stretch/>
        </p:blipFill>
        <p:spPr>
          <a:xfrm>
            <a:off x="250920" y="0"/>
            <a:ext cx="453852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Nik"/>
          <p:cNvPicPr/>
          <p:nvPr/>
        </p:nvPicPr>
        <p:blipFill>
          <a:blip r:embed="rId2"/>
          <a:stretch/>
        </p:blipFill>
        <p:spPr>
          <a:xfrm>
            <a:off x="6188040" y="189000"/>
            <a:ext cx="2955960" cy="360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gallery_preview"/>
          <p:cNvPicPr/>
          <p:nvPr/>
        </p:nvPicPr>
        <p:blipFill>
          <a:blip r:embed="rId3"/>
          <a:stretch/>
        </p:blipFill>
        <p:spPr>
          <a:xfrm>
            <a:off x="5219640" y="391464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7:23:34Z</dcterms:created>
  <dc:creator>БОТАНИК</dc:creator>
  <dc:description/>
  <dc:language>en-US</dc:language>
  <cp:lastModifiedBy>LEGION</cp:lastModifiedBy>
  <dcterms:modified xsi:type="dcterms:W3CDTF">2014-12-30T10:34:29Z</dcterms:modified>
  <cp:revision>16</cp:revision>
  <dc:subject/>
  <dc:title>Слайд 1</dc:title>
</cp:coreProperties>
</file>