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BC5B-6B18-4870-8FC8-78D67FBCC9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12 июня 2008 года  объя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7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C722-2ED0-42C7-ADED-050DE0CAA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Мамаев Кург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Родина-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F900-D25E-4CC9-8C37-78BBCB794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Гора Эльбр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A646-4E30-4C3D-9E22-D85902DDE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амида Хеопса (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ячие сады” Семирамиды (Вавилон, V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Зевса в Олимпии (Греция, 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м Артемиды в Эфесе (Грец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карнасский мавзолей (Кар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к на острове Фарос (Александрия, 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сс Родосский (остров Родос, III век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8250-2AD1-43DE-9E3F-750288B225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Новые 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я китайская стена (Кита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зей (Рим, Ита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чу-Пикчу (Пер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а (Иорда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-Махал (Агра, Инд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Христо-Искупителя (Рио-де-Жанейро, Брази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чен-Ица (Юкатан, Мекс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BC63-161A-4461-9CA9-ED9F58E447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о Байкал (Иркутская область, Буря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й ансамбль в Петергофе (Санкт-Петербу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ина гейзеров (Камчатский кра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й памятник Столбы выветривания (республика Ко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р Василия Блаженного (Моск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аев Курган и Родина-Мать (Волгоград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 Эльбрус (Кабардино-Балкария, Карачаево-Черкес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629-3E3B-4211-84EF-00671FAF49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Озеро Байк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9610-77DA-4DD4-BA23-C9562EF37B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ворцовый ансамбль в Петергоф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1388-4327-40AA-8DCC-B4DE773315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олина гейзеров на Камчат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180F-E735-4C54-8EE0-541FB57622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риродный памятник Столбы выветривания в Ко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DFC9-ABF7-4D8F-A807-6542709104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обор Василия Блаженного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A191-12B6-497C-AACB-64D386B392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891-45B2-4851-B36C-9B1AD0E6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434-50B7-4494-8EC6-36D9B97E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6B9-ACF3-4BEE-A5F4-5DCD7319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21A-327F-412C-80B1-55847892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5ABD-87D9-4E1F-87A8-AA006424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7087-2F8A-4655-B76D-65337CFE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8612-F161-4652-970A-7E30EA36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24A2-BA34-4630-AE99-C8C05EF4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A792-0130-4792-941A-70162FCE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03B6-6DC7-4970-BFF4-6A7256D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C6A5-2F86-49EE-8762-BBC070F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A76-D918-442E-A738-E17F7BA4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5B62-D433-4824-85C7-8AC649F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2DDE-77D0-40D6-9627-6246EA0D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183C-074F-4AF7-BC35-FF1E679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1AF0-2284-4654-99B4-E439E5E8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1668-19A4-47F1-A5DF-A36C948B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D51-D227-46D2-B5DB-560E91FD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B02-8FA8-45E1-8BAA-D1C41C0A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467-4D0E-431C-B5F1-B6136EBD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7DA-D15F-4028-8FDB-0ACC1BD8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18A-CBEC-4CB2-ACC4-34A29A4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536-9243-4D54-8F42-3AB254E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CE4-6A28-4370-9E65-1D1696FD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BC8E-D8D4-49A1-A2E4-66CCAEF2E8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B78D-2BEB-4E29-B70F-D8A827A4BB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2 июня 2008 года  объявле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7 чудес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3078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маев Кург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Родина-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маев курган 2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5015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ора 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эльбрус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50468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амида Хеопса (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ячие сады” Семирамиды (Вавилон, V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я Зевса в Олимпии (Греция, 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 Артемиды в Эфесе (Грец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икарнасский мавзолей (Кар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як на острове Фарос (Александрия, 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сс Родосский (остров Родос, III век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овые 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китайская стена (Кита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зей (Рим, Ита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чу-Пикчу (Пер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а (Иорда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дж-Махал (Агра, Инд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уя Христо-Искупителя (Рио-де-Жанейро, Брази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чен-Ица (Юкатан, Мекс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еро Байкал (Иркутская область, Буря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цовый ансамбль в Петергофе (Санкт-Петербур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ина гейзеров (Камчатский кра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памятник Столбы выветривания (республика Ко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ор Василия Блаженного (Моск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ев Курган и Родина-Мать (Волгоград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 Эльбрус (Кабардино-Балкария, Карачаево-Черке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зеро Байка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Байкал2"/>
          <p:cNvPicPr/>
          <p:nvPr/>
        </p:nvPicPr>
        <p:blipFill>
          <a:blip r:embed="rId1"/>
          <a:stretch/>
        </p:blipFill>
        <p:spPr>
          <a:xfrm>
            <a:off x="4211640" y="1341360"/>
            <a:ext cx="432900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байкал 3"/>
          <p:cNvPicPr/>
          <p:nvPr/>
        </p:nvPicPr>
        <p:blipFill>
          <a:blip r:embed="rId2"/>
          <a:stretch/>
        </p:blipFill>
        <p:spPr>
          <a:xfrm>
            <a:off x="468360" y="3716280"/>
            <a:ext cx="4248000" cy="27702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ворцовый ансамбль в Петергоф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4500720" y="3816360"/>
            <a:ext cx="4065480" cy="240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олина гейзеров на Камчат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олина гейзеров 2"/>
          <p:cNvPicPr/>
          <p:nvPr/>
        </p:nvPicPr>
        <p:blipFill>
          <a:blip r:embed="rId1"/>
          <a:stretch/>
        </p:blipFill>
        <p:spPr>
          <a:xfrm>
            <a:off x="4356000" y="3500280"/>
            <a:ext cx="4318200" cy="28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долина гейзеров"/>
          <p:cNvPicPr/>
          <p:nvPr/>
        </p:nvPicPr>
        <p:blipFill>
          <a:blip r:embed="rId2"/>
          <a:stretch/>
        </p:blipFill>
        <p:spPr>
          <a:xfrm>
            <a:off x="395280" y="1557360"/>
            <a:ext cx="4317840" cy="3243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родный памятник Столбы выветривания в Ко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столбы выветривания 3"/>
          <p:cNvPicPr/>
          <p:nvPr/>
        </p:nvPicPr>
        <p:blipFill>
          <a:blip r:embed="rId1"/>
          <a:stretch/>
        </p:blipFill>
        <p:spPr>
          <a:xfrm>
            <a:off x="395280" y="1700280"/>
            <a:ext cx="3390840" cy="485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столбы выветривания 2"/>
          <p:cNvPicPr/>
          <p:nvPr/>
        </p:nvPicPr>
        <p:blipFill>
          <a:blip r:embed="rId2"/>
          <a:stretch/>
        </p:blipFill>
        <p:spPr>
          <a:xfrm>
            <a:off x="3924360" y="1700280"/>
            <a:ext cx="4833720" cy="4859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бор Василия Блаженного в Моск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собор василия"/>
          <p:cNvPicPr/>
          <p:nvPr/>
        </p:nvPicPr>
        <p:blipFill>
          <a:blip r:embed="rId1"/>
          <a:stretch/>
        </p:blipFill>
        <p:spPr>
          <a:xfrm>
            <a:off x="5796000" y="1557360"/>
            <a:ext cx="3110040" cy="468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С"/>
          <p:cNvPicPr/>
          <p:nvPr/>
        </p:nvPicPr>
        <p:blipFill>
          <a:blip r:embed="rId2"/>
          <a:stretch/>
        </p:blipFill>
        <p:spPr>
          <a:xfrm>
            <a:off x="324000" y="1557360"/>
            <a:ext cx="5325840" cy="4678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16:41Z</dcterms:created>
  <dc:creator>pavel</dc:creator>
  <dc:description/>
  <dc:language>en-US</dc:language>
  <cp:lastModifiedBy>LEGION</cp:lastModifiedBy>
  <dcterms:modified xsi:type="dcterms:W3CDTF">2014-12-30T09:38:10Z</dcterms:modified>
  <cp:revision>11</cp:revision>
  <dc:subject/>
  <dc:title>Семь чудес России</dc:title>
</cp:coreProperties>
</file>