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7220-6EDA-48D1-8ED4-AC395B0818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12 июня 2008 года  объя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7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8B71-E2A8-4856-A8DC-0C8E2F1758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Мамаев Кург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и Родина-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69D4-4C97-42AA-A22A-4046853B6B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Гора Эльбр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7F07-0155-40E6-8F4D-350CB2B885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амида Хеопса (Египет, II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сячие сады” Семирамиды (Вавилон, V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я Зевса в Олимпии (Греция, 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м Артемиды в Эфесе (Греция, I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карнасский мавзолей (Кария, IV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к на острове Фарос (Александрия, Египет, III век до н.э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сс Родосский (остров Родос, III век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9D90-135D-4C5C-9CBB-D22F5C58E1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Новые семь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ая китайская стена (Кита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зей (Рим, Итал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чу-Пикчу (Пер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а (Иорда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-Махал (Агра, Инд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я Христо-Искупителя (Рио-де-Жанейро, Бразил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чен-Ица (Юкатан, Мекс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6914-BC48-4344-B819-7EC9CA0733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емь чудес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еро Байкал (Иркутская область, Буря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й ансамбль в Петергофе (Санкт-Петербу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ина гейзеров (Камчатский кра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й памятник Столбы выветривания (республика Ко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р Василия Блаженного (Моск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аев Курган и Родина-Мать (Волгоградская обла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 Эльбрус (Кабардино-Балкария, Карачаево-Черкес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8BBC-21FD-4D8A-9ED1-C2E119F811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Озеро Байк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73B1-75FB-4E9B-BAB3-FDE4D6F899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Дворцовый ансамбль в Петергоф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6B0B-2302-4028-9139-C00AB4A894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Долина гейзеров на Камчат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6279-C342-4F2C-837F-250A4AAA0C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Природный памятник Столбы выветривания в Ко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E6D9-545A-4EEE-9A37-DA35BE371A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Собор Василия Блаженного в Моск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FB7B-8ABE-4590-90A9-7D43676F7D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E4D-ED93-4EB1-83DB-0D6D02E2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023-DCB4-47B8-8964-2D598981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B28-95AA-475E-A477-3B7729F5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156-2066-4D40-BE97-7F6435F6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3F0A-BE81-4755-A592-BFD99A7D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C098-12D7-4498-B3C1-707C3597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CCCB-C4F7-4B58-8AE1-4AE54EF6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1AF4-8686-42BC-9ACE-985C1A40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8527-ABC7-4B57-B804-34EDD3C4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D5EE-F56D-451A-9350-22900B8E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269A-7E20-4E09-8434-75E9C31D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856-227A-4FA6-BEE3-3AE0F4E3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4B8D-EC68-4DDE-996B-D7100BE1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3C8E-34EE-4512-9EB7-A4905669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54D6-B6B2-4411-8862-357CA678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466C-B4B8-4F7C-A404-FD85D13A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10BB-ECFD-4423-8A9C-23AA74CA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CEA-560E-4122-AB4A-986B3A14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751-1D34-4BCA-B78D-B3A38C92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B9D-39E8-43F5-860C-D0FADE2E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A13F-491E-4BE1-8DB1-25179204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26C-BB84-4AED-8C89-EF47875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59C-B3CE-4A66-ABE7-765AD5E2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F84-BA06-4FA0-BA57-5F698ED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F38F-E350-4A6D-B12F-937E1FE613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E654-3AA4-4040-BE35-1F77B29CEB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Семь чудес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640" y="4723920"/>
            <a:ext cx="806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2 июня 2008 года  объявле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7 чудес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064720" cy="3078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Мамаев Курга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и Родина-м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маев курган 2"/>
          <p:cNvPicPr/>
          <p:nvPr/>
        </p:nvPicPr>
        <p:blipFill>
          <a:blip r:embed="rId1"/>
          <a:stretch/>
        </p:blipFill>
        <p:spPr>
          <a:xfrm>
            <a:off x="826920" y="1341360"/>
            <a:ext cx="7561440" cy="50151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Гора Эльбр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эльбрус"/>
          <p:cNvPicPr/>
          <p:nvPr/>
        </p:nvPicPr>
        <p:blipFill>
          <a:blip r:embed="rId1"/>
          <a:stretch/>
        </p:blipFill>
        <p:spPr>
          <a:xfrm>
            <a:off x="900000" y="1268280"/>
            <a:ext cx="7272360" cy="50468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емь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рамида Хеопса (Египет, II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сячие сады” Семирамиды (Вавилон, V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я Зевса в Олимпии (Греция, 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м Артемиды в Эфесе (Греция, I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икарнасский мавзолей (Кария, IV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як на острове Фарос (Александрия, Египет, III век до н.э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осс Родосский (остров Родос, III век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Новые семь чудес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ая китайская стена (Кита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зей (Рим, Итал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чу-Пикчу (Перу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а (Иордан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дж-Махал (Агра, Инд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уя Христо-Искупителя (Рио-де-Жанейро, Бразил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чен-Ица (Юкатан, Мекси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емь чудес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еро Байкал (Иркутская область, Бурят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орцовый ансамбль в Петергофе (Санкт-Петербур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ина гейзеров (Камчатский кра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ый памятник Столбы выветривания (республика Ко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ор Василия Блаженного (Моск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ев Курган и Родина-Мать (Волгоградская обла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а Эльбрус (Кабардино-Балкария, Карачаево-Черке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зеро Байка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Байкал2"/>
          <p:cNvPicPr/>
          <p:nvPr/>
        </p:nvPicPr>
        <p:blipFill>
          <a:blip r:embed="rId1"/>
          <a:stretch/>
        </p:blipFill>
        <p:spPr>
          <a:xfrm>
            <a:off x="4211640" y="1341360"/>
            <a:ext cx="4329000" cy="294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байкал 3"/>
          <p:cNvPicPr/>
          <p:nvPr/>
        </p:nvPicPr>
        <p:blipFill>
          <a:blip r:embed="rId2"/>
          <a:stretch/>
        </p:blipFill>
        <p:spPr>
          <a:xfrm>
            <a:off x="468360" y="3716280"/>
            <a:ext cx="4248000" cy="27702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ворцовый ансамбль в Петергоф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4500720" y="3816360"/>
            <a:ext cx="4065480" cy="2408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олина гейзеров на Камчат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долина гейзеров 2"/>
          <p:cNvPicPr/>
          <p:nvPr/>
        </p:nvPicPr>
        <p:blipFill>
          <a:blip r:embed="rId1"/>
          <a:stretch/>
        </p:blipFill>
        <p:spPr>
          <a:xfrm>
            <a:off x="4356000" y="3500280"/>
            <a:ext cx="4318200" cy="286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долина гейзеров"/>
          <p:cNvPicPr/>
          <p:nvPr/>
        </p:nvPicPr>
        <p:blipFill>
          <a:blip r:embed="rId2"/>
          <a:stretch/>
        </p:blipFill>
        <p:spPr>
          <a:xfrm>
            <a:off x="395280" y="1557360"/>
            <a:ext cx="4317840" cy="3243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иродный памятник Столбы выветривания в Ко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столбы выветривания 3"/>
          <p:cNvPicPr/>
          <p:nvPr/>
        </p:nvPicPr>
        <p:blipFill>
          <a:blip r:embed="rId1"/>
          <a:stretch/>
        </p:blipFill>
        <p:spPr>
          <a:xfrm>
            <a:off x="395280" y="1700280"/>
            <a:ext cx="3390840" cy="4857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столбы выветривания 2"/>
          <p:cNvPicPr/>
          <p:nvPr/>
        </p:nvPicPr>
        <p:blipFill>
          <a:blip r:embed="rId2"/>
          <a:stretch/>
        </p:blipFill>
        <p:spPr>
          <a:xfrm>
            <a:off x="3924360" y="1700280"/>
            <a:ext cx="4833720" cy="4859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обор Василия Блаженного в Моск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собор василия"/>
          <p:cNvPicPr/>
          <p:nvPr/>
        </p:nvPicPr>
        <p:blipFill>
          <a:blip r:embed="rId1"/>
          <a:stretch/>
        </p:blipFill>
        <p:spPr>
          <a:xfrm>
            <a:off x="5796000" y="1557360"/>
            <a:ext cx="3110040" cy="4681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С"/>
          <p:cNvPicPr/>
          <p:nvPr/>
        </p:nvPicPr>
        <p:blipFill>
          <a:blip r:embed="rId2"/>
          <a:stretch/>
        </p:blipFill>
        <p:spPr>
          <a:xfrm>
            <a:off x="324000" y="1557360"/>
            <a:ext cx="5325840" cy="4678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2:16:41Z</dcterms:created>
  <dc:creator>pavel</dc:creator>
  <dc:description/>
  <dc:language>en-US</dc:language>
  <cp:lastModifiedBy>LEGION</cp:lastModifiedBy>
  <dcterms:modified xsi:type="dcterms:W3CDTF">2014-12-30T09:38:10Z</dcterms:modified>
  <cp:revision>11</cp:revision>
  <dc:subject/>
  <dc:title>Семь чудес России</dc:title>
</cp:coreProperties>
</file>