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5FB-188E-4DAD-912B-0A8CF19165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12 июня 2008 года  объя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7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E550-10A4-4DF1-A92F-23BB93B94D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Мамаев Кург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Родина-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7FED-AE7C-4E41-BBDC-CE365F4B85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Гора Эльбр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0030-9F79-4460-8064-4D55AD7A0C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амида Хеопса (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ячие сады” Семирамиды (Вавилон, V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Зевса в Олимпии (Греция, 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м Артемиды в Эфесе (Грец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карнасский мавзолей (Кар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к на острове Фарос (Александрия, 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сс Родосский (остров Родос, III век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716-2B81-4A6A-AC5A-9C77FE2BE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Новые 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я китайская стена (Кита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зей (Рим, Ита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чу-Пикчу (Пер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а (Иорд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-Махал (Агра, Инд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Христо-Искупителя (Рио-де-Жанейро, Брази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чен-Ица (Юкатан, Мекс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100C-4290-4E57-9281-6C9993D55E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о Байкал (Иркутская область, Буря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ансамбль в Петергофе (Санкт-Петербу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ина гейзеров (Камчатский кра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й памятник Столбы выветривания (республика Ко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р Василия Блаженного (Моск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ев Курган и Родина-Мать (Волгоград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 Эльбрус (Кабардино-Балкария, Карачаево-Черкес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DB0-5CD1-4F0C-8504-0F18873D0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Озеро Байк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FE01-F6F3-4FC6-A47F-4BA3C7DF21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ворцовый ансамбль в Петергоф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993-6647-48A7-975E-EDC89B124A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олина гейзеров на Камчат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3479-D45C-44B1-82F7-8EF7627B4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риродный памятник Столбы выветривания в Ко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82C7-0325-4CAE-9BE8-D9315D5599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обор Василия Блаженного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F299-E601-4A2B-AB8D-8F7866661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C5E-1D47-43A5-A226-8D894915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484-A745-4B1A-BC66-B257BA7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3BC-C80B-4F75-BD43-C6A184CF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950-B911-4FA1-820E-68E7D48F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0CDE-F546-4629-B139-1502C1B6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A1D-DDAE-45D3-9448-E047FCED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4C0E-6617-495E-9971-21FD1D5B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3F9D-5026-43BD-92C6-8C24F897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0DFA-5631-42B8-8120-D68276A9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17CA-969C-493A-BC50-B48DC7A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A75C-B0BF-449E-8A72-CEDB9A7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060-5E5B-4C19-8248-17C1E92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CB71-6D33-4538-AAAD-BDC45CA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C1C0-789C-46C0-A1BF-590C6E2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5F7-E52A-4F3B-9BC2-3CD690FE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E1B7-74B7-43FB-A3B2-6195E973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11EC-D1C7-4E77-8338-C17736B0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5C4-BB62-4014-81C6-4ED10894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893-C0D6-41E4-8FB1-DF27E877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185-F14C-4E96-B65C-2EBB2341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84C-99E6-48A2-B913-7AF3063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D09-4C1D-4B5D-9416-1EEE19B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95C-F75E-4F3E-8F30-F73F4C95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E9D-660D-4539-8CD3-7EE11A7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79FA-B4EA-4A8C-9466-47B302ED96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901-5B59-41ED-9BA9-22DCF10B7C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2 июня 2008 года  объявл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7 чудес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078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маев Кург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Родина-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маев курган 2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5015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а 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эльбрус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50468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амида Хеопса (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ячие сады” Семирамиды (Вавилон, V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в Олимпии (Греция, 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Артемиды в Эфесе (Грец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икарнасский мавзолей (Кар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як на острове Фарос (Александрия, 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с Родосский (остров Родос, III век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овые 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китайская стена (Кита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зей (Рим, Ита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чу-Пикчу (Пер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а (Иорд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дж-Махал (Агра, Инд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я Христо-Искупителя (Рио-де-Жанейро, Брази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чен-Ица (Юкатан, Мекс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о Байкал (Иркутская область, Буря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цовый ансамбль в Петергофе (Санкт-Петербур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ина гейзеров (Камчатский кр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памятник Столбы выветривания (республика Ко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р Василия Блаженного (Моск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ев Курган и Родина-Мать (Волгоград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 Эльбрус (Кабардино-Балкария, Карачаево-Черке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зеро Байка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Байкал2"/>
          <p:cNvPicPr/>
          <p:nvPr/>
        </p:nvPicPr>
        <p:blipFill>
          <a:blip r:embed="rId1"/>
          <a:stretch/>
        </p:blipFill>
        <p:spPr>
          <a:xfrm>
            <a:off x="4211640" y="1341360"/>
            <a:ext cx="432900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байкал 3"/>
          <p:cNvPicPr/>
          <p:nvPr/>
        </p:nvPicPr>
        <p:blipFill>
          <a:blip r:embed="rId2"/>
          <a:stretch/>
        </p:blipFill>
        <p:spPr>
          <a:xfrm>
            <a:off x="468360" y="3716280"/>
            <a:ext cx="4248000" cy="27702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ворцовый ансамбль в Петергоф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4500720" y="3816360"/>
            <a:ext cx="4065480" cy="240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лина гейзеров на Камчат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56000" y="3500280"/>
            <a:ext cx="4318200" cy="28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395280" y="1557360"/>
            <a:ext cx="4317840" cy="3243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родный памятник Столбы выветривания в Ко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столбы выветривания 3"/>
          <p:cNvPicPr/>
          <p:nvPr/>
        </p:nvPicPr>
        <p:blipFill>
          <a:blip r:embed="rId1"/>
          <a:stretch/>
        </p:blipFill>
        <p:spPr>
          <a:xfrm>
            <a:off x="395280" y="1700280"/>
            <a:ext cx="3390840" cy="48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толбы выветривания 2"/>
          <p:cNvPicPr/>
          <p:nvPr/>
        </p:nvPicPr>
        <p:blipFill>
          <a:blip r:embed="rId2"/>
          <a:stretch/>
        </p:blipFill>
        <p:spPr>
          <a:xfrm>
            <a:off x="3924360" y="1700280"/>
            <a:ext cx="4833720" cy="4859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бор Василия Блаженного в Моск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собор василия"/>
          <p:cNvPicPr/>
          <p:nvPr/>
        </p:nvPicPr>
        <p:blipFill>
          <a:blip r:embed="rId1"/>
          <a:stretch/>
        </p:blipFill>
        <p:spPr>
          <a:xfrm>
            <a:off x="5796000" y="1557360"/>
            <a:ext cx="3110040" cy="46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С"/>
          <p:cNvPicPr/>
          <p:nvPr/>
        </p:nvPicPr>
        <p:blipFill>
          <a:blip r:embed="rId2"/>
          <a:stretch/>
        </p:blipFill>
        <p:spPr>
          <a:xfrm>
            <a:off x="324000" y="1557360"/>
            <a:ext cx="5325840" cy="4678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LEGION</cp:lastModifiedBy>
  <dcterms:modified xsi:type="dcterms:W3CDTF">2014-12-30T09:38:10Z</dcterms:modified>
  <cp:revision>11</cp:revision>
  <dc:subject/>
  <dc:title>Семь чудес России</dc:title>
</cp:coreProperties>
</file>