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13.png" ContentType="image/png"/>
  <Override PartName="/ppt/media/image10.gif" ContentType="image/gif"/>
  <Override PartName="/ppt/media/image5.gif" ContentType="image/gif"/>
  <Override PartName="/ppt/media/image6.gif" ContentType="image/gif"/>
  <Override PartName="/ppt/media/image17.wmf" ContentType="image/x-wmf"/>
  <Override PartName="/ppt/media/image11.gif" ContentType="image/gif"/>
  <Override PartName="/ppt/media/image21.gif" ContentType="image/gif"/>
  <Override PartName="/ppt/media/image14.png" ContentType="image/png"/>
  <Override PartName="/ppt/media/image26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8.gif" ContentType="image/gif"/>
  <Override PartName="/ppt/media/image9.gif" ContentType="image/gif"/>
  <Override PartName="/ppt/media/image31.png" ContentType="image/png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7B1C-7F40-45D9-8FFC-3B625B4B2F7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Bookman Old Style"/>
              </a:rPr>
              <a:t>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F031-B63D-412C-B240-1E0249B3D7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кеана затруднено суровыми климатически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2770-1DE4-413C-91B4-E3E1C28EC0B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ывучий осколок льда в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E426-C120-48A7-933B-D483003542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течений в Атлантическом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54EC-89BD-4595-815F-0D210F61BF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иллюстрации, расскажите о роли океанов в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1DF9-67FD-4167-B981-E6F6B7D0D9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ы это значи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0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DB63-AAC0-4AA5-9E7B-BE1FF6BE1A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еса из чуд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лив Дрей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гальский за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нно-Атлантический хреб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чение Западных в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гассово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ненное кольц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 Гренла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D29D-8099-4EC2-9AE4-DA44E1DA8B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меня”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°с.ш. и 65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°с.ш и 2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° ю.ш. и 75°з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°с.ш. и 30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AA1-00BC-42BF-97E3-512C605782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ошибки Ю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8A28-7312-44B4-8D69-F3A802BD68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0A56-1CCB-43C4-BA3A-1DE8E177E7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рской 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1680-42E3-4865-BB8E-2B880BC6A8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все 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02A2-09F4-4971-B763-E29B365C42D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57FB-1A84-4275-97AB-091DB20829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лантиче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F824-DD66-40DB-B52E-9DBFFCA6B0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й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BD1A-F1DD-450B-9FAA-759541456D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Ледовитый океан. 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1911-9CC4-4C46-8517-F68D024350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е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C573-D95F-4707-9703-DF5F6ED0DE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расположена знаменитая Марианская впад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1A08-5C4D-4696-AB08-7DD7D9A382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93A-AFE7-4E89-9668-5860D68A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9EC-4448-48E9-A6DA-D644CBEF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0DF-ECD9-4F3E-AE77-D18F28BB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3BE-719F-4E72-9176-8462F171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F85E-E12B-4DEA-A10D-B11BB9C6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3473-3E0A-4F56-A493-13424B82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8C4C-D33B-40C8-8E5E-3447B767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EF05-CD32-4428-9E58-3A79B619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CE23-25E4-4F88-8193-EDD3862E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93F1-1C50-4F73-8680-7206778F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C2D0-0D50-4F27-965A-92F495FD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EA6-5C6A-46B2-BF28-340DA828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6632-59C0-4C39-A084-52563E9F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7629-75AB-4C72-A74A-056222F2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14CB-1A01-4BA7-B18B-8FFDEAE4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8DE3-8588-4DD7-98CC-F6FA42D5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1242-B51E-43C1-8642-3B6CE32F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FAA67-97AB-47B9-BD5B-B77B5E5D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CA1F9-EA27-4B72-95FC-1470F9B7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4BF58-82C4-4797-A8E2-70F1D8DA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12445-3E59-4544-AD9E-AA8E9CC5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634FA-6789-49B8-8743-AFB3046B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E72-E8E3-4947-BAAD-E2921CBA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F97DF-95FE-4EEB-8E67-D8C9781B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477A4-9B1C-4CD7-B3BC-427A47CD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49087-DEDC-4AD9-AA24-2D453ABB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30B8D-9387-4F95-A426-92B1662A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859B0-BE4A-472C-8A94-35657687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E1781-3E21-42ED-9D48-88DAE6B5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F0D05-7836-4A1E-80BA-2DDEEDBB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6E8-84C9-464A-B475-619FE1FB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DF2-4B63-479B-9E54-1E24C5CF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E64-109E-4815-95F2-821D94C3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0D0-4D2A-4249-ADDF-0E438337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A53-3E40-4CC4-BFCF-9D6DE1F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BDD-8459-4249-AFD5-4071D10D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60FA-A2DC-44DA-A2CF-0407CC0A3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0E2A-26E0-4B0B-A1FE-8521A23F3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8A25-BBFD-4BF7-A20B-4D70D0625F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gif"/><Relationship Id="rId5" Type="http://schemas.openxmlformats.org/officeDocument/2006/relationships/slide" Target="slide10.xml"/><Relationship Id="rId6" Type="http://schemas.openxmlformats.org/officeDocument/2006/relationships/image" Target="../media/image5.gif"/><Relationship Id="rId7" Type="http://schemas.openxmlformats.org/officeDocument/2006/relationships/slide" Target="slide16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7.gif"/><Relationship Id="rId11" Type="http://schemas.openxmlformats.org/officeDocument/2006/relationships/slide" Target="slide12.xml"/><Relationship Id="rId12" Type="http://schemas.openxmlformats.org/officeDocument/2006/relationships/image" Target="../media/image8.gif"/><Relationship Id="rId13" Type="http://schemas.openxmlformats.org/officeDocument/2006/relationships/slide" Target="slide19.xml"/><Relationship Id="rId14" Type="http://schemas.openxmlformats.org/officeDocument/2006/relationships/image" Target="../media/image9.gif"/><Relationship Id="rId15" Type="http://schemas.openxmlformats.org/officeDocument/2006/relationships/slide" Target="slide9.xml"/><Relationship Id="rId16" Type="http://schemas.openxmlformats.org/officeDocument/2006/relationships/image" Target="../media/image10.gif"/><Relationship Id="rId17" Type="http://schemas.openxmlformats.org/officeDocument/2006/relationships/slide" Target="slide11.xml"/><Relationship Id="rId18" Type="http://schemas.openxmlformats.org/officeDocument/2006/relationships/image" Target="../media/image11.gif"/><Relationship Id="rId19" Type="http://schemas.openxmlformats.org/officeDocument/2006/relationships/slide" Target="slide7.xml"/><Relationship Id="rId20" Type="http://schemas.openxmlformats.org/officeDocument/2006/relationships/image" Target="../media/image12.gif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5.xml"/><Relationship Id="rId26" Type="http://schemas.openxmlformats.org/officeDocument/2006/relationships/image" Target="../media/image15.gif"/><Relationship Id="rId27" Type="http://schemas.openxmlformats.org/officeDocument/2006/relationships/slide" Target="slide3.xml"/><Relationship Id="rId28" Type="http://schemas.openxmlformats.org/officeDocument/2006/relationships/image" Target="../media/image16.png"/><Relationship Id="rId29" Type="http://schemas.openxmlformats.org/officeDocument/2006/relationships/slide" Target="slide17.xml"/><Relationship Id="rId30" Type="http://schemas.openxmlformats.org/officeDocument/2006/relationships/image" Target="../media/image17.wmf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slide" Target="slide5.xml"/><Relationship Id="rId49" Type="http://schemas.openxmlformats.org/officeDocument/2006/relationships/image" Target="../media/image21.gif"/><Relationship Id="rId50" Type="http://schemas.openxmlformats.org/officeDocument/2006/relationships/slide" Target="slide5.xml"/><Relationship Id="rId51" Type="http://schemas.openxmlformats.org/officeDocument/2006/relationships/slide" Target="slide6.xml"/><Relationship Id="rId52" Type="http://schemas.openxmlformats.org/officeDocument/2006/relationships/slide" Target="slide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187280" y="260280"/>
            <a:ext cx="64803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тем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403280" y="285264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кеаны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океана затруднено суровыми климатическими услов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ывучий осколок льда в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но из течений в Атлантическом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ллюстрации, расскажите о роли океанов в жизн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Рисунок13"/>
          <p:cNvPicPr/>
          <p:nvPr/>
        </p:nvPicPr>
        <p:blipFill>
          <a:blip r:embed="rId1"/>
          <a:stretch/>
        </p:blipFill>
        <p:spPr>
          <a:xfrm rot="283200">
            <a:off x="4876560" y="1066320"/>
            <a:ext cx="39718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Рисунок13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Рисунок13"/>
          <p:cNvPicPr/>
          <p:nvPr/>
        </p:nvPicPr>
        <p:blipFill>
          <a:blip r:embed="rId3"/>
          <a:stretch/>
        </p:blipFill>
        <p:spPr>
          <a:xfrm>
            <a:off x="4648320" y="3352680"/>
            <a:ext cx="420984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Рисунок13"/>
          <p:cNvPicPr/>
          <p:nvPr/>
        </p:nvPicPr>
        <p:blipFill>
          <a:blip r:embed="rId4"/>
          <a:stretch/>
        </p:blipFill>
        <p:spPr>
          <a:xfrm>
            <a:off x="685800" y="3809880"/>
            <a:ext cx="3581280" cy="26067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5493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1022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2da04ccf1eae7bcbb0de257a6fc54a82"/>
          <p:cNvPicPr/>
          <p:nvPr/>
        </p:nvPicPr>
        <p:blipFill>
          <a:blip r:embed="rId1"/>
          <a:stretch/>
        </p:blipFill>
        <p:spPr>
          <a:xfrm>
            <a:off x="3780000" y="5300640"/>
            <a:ext cx="11523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еса из чуд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ив Др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нно-Атлантический хреб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Западных в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гассово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нное коль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1globemaps-med"/>
          <p:cNvPicPr/>
          <p:nvPr/>
        </p:nvPicPr>
        <p:blipFill>
          <a:blip r:embed="rId1"/>
          <a:stretch/>
        </p:blipFill>
        <p:spPr>
          <a:xfrm>
            <a:off x="6630840" y="907920"/>
            <a:ext cx="2513160" cy="1879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меня”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°с.ш. и 65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°с.ш и 2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1° ю.ш. и 75°з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°с.ш. и 30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russa"/>
          <p:cNvPicPr/>
          <p:nvPr/>
        </p:nvPicPr>
        <p:blipFill>
          <a:blip r:embed="rId1"/>
          <a:stretch/>
        </p:blipFill>
        <p:spPr>
          <a:xfrm>
            <a:off x="4716360" y="1989000"/>
            <a:ext cx="3340080" cy="213840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и ЮН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67104"/>
          <p:cNvPicPr/>
          <p:nvPr/>
        </p:nvPicPr>
        <p:blipFill>
          <a:blip r:embed="rId1"/>
          <a:stretch/>
        </p:blipFill>
        <p:spPr>
          <a:xfrm>
            <a:off x="3851280" y="1413000"/>
            <a:ext cx="1460520" cy="19429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eep"/>
          <p:cNvPicPr/>
          <p:nvPr/>
        </p:nvPicPr>
        <p:blipFill>
          <a:blip r:embed="rId1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0"/>
          <p:cNvSpPr txBox="1"/>
          <p:nvPr/>
        </p:nvSpPr>
        <p:spPr>
          <a:xfrm>
            <a:off x="179280" y="0"/>
            <a:ext cx="51134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й бо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907920"/>
          <a:ext cx="7920000" cy="5329440"/>
        </p:xfrm>
        <a:graphic>
          <a:graphicData uri="http://schemas.openxmlformats.org/drawingml/2006/table">
            <a:tbl>
              <a:tblPr/>
              <a:tblGrid>
                <a:gridCol w="1571400"/>
                <a:gridCol w="1646280"/>
                <a:gridCol w="1497240"/>
                <a:gridCol w="1571400"/>
                <a:gridCol w="1633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14" descr="2da04ccf1eae7bcbb0de257a6fc54a8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3357720"/>
            <a:ext cx="115236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5b16d9a0e82bd3af282108e72e4e7d6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0000" y="32130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7" descr="490fb9057c4a4fa46373edc7d5d69c6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68360" y="3213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8" descr="c9111ff395497bcc62fd5f53a9aa4ba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24000" y="429264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9" descr="f956d4ffc91140eacef1651621b13289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08720" y="5229360"/>
            <a:ext cx="1138320" cy="70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0" descr="237d14c7cc898b80f14413849218998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2144400">
            <a:off x="4140000" y="5229360"/>
            <a:ext cx="63324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1" descr="8450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65164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3" descr="ca4da12183cd7fa9166113dd88ae14a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651640" y="4005360"/>
            <a:ext cx="752400" cy="110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4" descr="062b4eccddea3a0e76c1cda9e2d0f075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948360" y="5311800"/>
            <a:ext cx="1152720" cy="66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0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64360" y="414972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3" descr="1globemaps-med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40000" y="5445000"/>
            <a:ext cx="857160" cy="64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4" descr="59df5bf31a7614ecf632d265575e0b26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7236000" y="3284640"/>
            <a:ext cx="7714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6" descr="dr_fish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1989000"/>
            <a:ext cx="1087560" cy="90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7" descr="штурвал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195640" y="2060640"/>
            <a:ext cx="855360" cy="930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38"/>
          <p:cNvSpPr txBox="1"/>
          <p:nvPr/>
        </p:nvSpPr>
        <p:spPr>
          <a:xfrm>
            <a:off x="755640" y="198900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40"/>
          <p:cNvSpPr txBox="1"/>
          <p:nvPr/>
        </p:nvSpPr>
        <p:spPr>
          <a:xfrm>
            <a:off x="826920" y="2997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41"/>
          <p:cNvSpPr txBox="1"/>
          <p:nvPr/>
        </p:nvSpPr>
        <p:spPr>
          <a:xfrm>
            <a:off x="826920" y="4005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42"/>
          <p:cNvSpPr txBox="1"/>
          <p:nvPr/>
        </p:nvSpPr>
        <p:spPr>
          <a:xfrm>
            <a:off x="900000" y="479736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43"/>
          <p:cNvSpPr txBox="1"/>
          <p:nvPr/>
        </p:nvSpPr>
        <p:spPr>
          <a:xfrm>
            <a:off x="2195640" y="112536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46"/>
          <p:cNvSpPr txBox="1"/>
          <p:nvPr/>
        </p:nvSpPr>
        <p:spPr>
          <a:xfrm>
            <a:off x="363528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47"/>
          <p:cNvSpPr txBox="1"/>
          <p:nvPr/>
        </p:nvSpPr>
        <p:spPr>
          <a:xfrm>
            <a:off x="500364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8"/>
          <p:cNvSpPr txBox="1"/>
          <p:nvPr/>
        </p:nvSpPr>
        <p:spPr>
          <a:xfrm>
            <a:off x="6516720" y="119700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151" descr="item_2393"/>
          <p:cNvPicPr/>
          <p:nvPr/>
        </p:nvPicPr>
        <p:blipFill>
          <a:blip r:embed="rId47"/>
          <a:stretch/>
        </p:blipFill>
        <p:spPr>
          <a:xfrm>
            <a:off x="3851280" y="4292640"/>
            <a:ext cx="115092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3" descr="08764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7093080" y="2060640"/>
            <a:ext cx="1009440" cy="9046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4">
            <a:hlinkClick r:id="rId50" action="ppaction://hlinksldjump"/>
          </p:cNvPr>
          <p:cNvSpPr/>
          <p:nvPr/>
        </p:nvSpPr>
        <p:spPr>
          <a:xfrm>
            <a:off x="6804000" y="1989000"/>
            <a:ext cx="1513080" cy="1008360"/>
          </a:xfrm>
          <a:custGeom>
            <a:avLst/>
            <a:gdLst>
              <a:gd name="textAreaLeft" fmla="*/ 65160 w 1513080"/>
              <a:gd name="textAreaRight" fmla="*/ 1447920 w 151308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2408" h="21600">
                <a:moveTo>
                  <a:pt x="0" y="0"/>
                </a:moveTo>
                <a:lnTo>
                  <a:pt x="32408" y="0"/>
                </a:lnTo>
                <a:lnTo>
                  <a:pt x="32408" y="21600"/>
                </a:lnTo>
                <a:lnTo>
                  <a:pt x="0" y="21600"/>
                </a:lnTo>
                <a:close/>
              </a:path>
              <a:path fill="lightenLess" w="32408" h="21600">
                <a:moveTo>
                  <a:pt x="0" y="0"/>
                </a:moveTo>
                <a:lnTo>
                  <a:pt x="32408" y="0"/>
                </a:lnTo>
                <a:lnTo>
                  <a:pt x="31008" y="1400"/>
                </a:lnTo>
                <a:lnTo>
                  <a:pt x="1400" y="1400"/>
                </a:lnTo>
                <a:close/>
              </a:path>
              <a:path fill="darken" w="32408" h="21600">
                <a:moveTo>
                  <a:pt x="32408" y="0"/>
                </a:moveTo>
                <a:lnTo>
                  <a:pt x="32408" y="21600"/>
                </a:lnTo>
                <a:lnTo>
                  <a:pt x="31008" y="20200"/>
                </a:lnTo>
                <a:lnTo>
                  <a:pt x="31008" y="1400"/>
                </a:lnTo>
                <a:close/>
              </a:path>
              <a:path fill="darkenLess" w="32408" h="21600">
                <a:moveTo>
                  <a:pt x="3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8" y="20200"/>
                </a:lnTo>
                <a:close/>
              </a:path>
              <a:path fill="lighten" w="3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55">
            <a:hlinkClick r:id="rId51" action="ppaction://hlinksldjump"/>
          </p:cNvPr>
          <p:cNvSpPr/>
          <p:nvPr/>
        </p:nvSpPr>
        <p:spPr>
          <a:xfrm>
            <a:off x="6877080" y="3068640"/>
            <a:ext cx="1366920" cy="936720"/>
          </a:xfrm>
          <a:custGeom>
            <a:avLst/>
            <a:gdLst>
              <a:gd name="textAreaLeft" fmla="*/ 60480 w 1366920"/>
              <a:gd name="textAreaRight" fmla="*/ 1306440 w 1366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16" h="21600">
                <a:moveTo>
                  <a:pt x="0" y="0"/>
                </a:moveTo>
                <a:lnTo>
                  <a:pt x="31516" y="0"/>
                </a:lnTo>
                <a:lnTo>
                  <a:pt x="31516" y="21600"/>
                </a:lnTo>
                <a:lnTo>
                  <a:pt x="0" y="21600"/>
                </a:lnTo>
                <a:close/>
              </a:path>
              <a:path fill="lightenLess" w="31516" h="21600">
                <a:moveTo>
                  <a:pt x="0" y="0"/>
                </a:moveTo>
                <a:lnTo>
                  <a:pt x="31516" y="0"/>
                </a:lnTo>
                <a:lnTo>
                  <a:pt x="30116" y="1400"/>
                </a:lnTo>
                <a:lnTo>
                  <a:pt x="1400" y="1400"/>
                </a:lnTo>
                <a:close/>
              </a:path>
              <a:path fill="darken" w="31516" h="21600">
                <a:moveTo>
                  <a:pt x="31516" y="0"/>
                </a:moveTo>
                <a:lnTo>
                  <a:pt x="31516" y="21600"/>
                </a:lnTo>
                <a:lnTo>
                  <a:pt x="30116" y="20200"/>
                </a:lnTo>
                <a:lnTo>
                  <a:pt x="30116" y="1400"/>
                </a:lnTo>
                <a:close/>
              </a:path>
              <a:path fill="darkenLess" w="31516" h="21600">
                <a:moveTo>
                  <a:pt x="31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16" y="20200"/>
                </a:lnTo>
                <a:close/>
              </a:path>
              <a:path fill="lighten" w="31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56">
            <a:hlinkClick r:id="rId52" action="ppaction://hlinksldjump"/>
          </p:cNvPr>
          <p:cNvSpPr/>
          <p:nvPr/>
        </p:nvSpPr>
        <p:spPr>
          <a:xfrm>
            <a:off x="6948360" y="4149720"/>
            <a:ext cx="1295640" cy="934920"/>
          </a:xfrm>
          <a:custGeom>
            <a:avLst/>
            <a:gdLst>
              <a:gd name="textAreaLeft" fmla="*/ 60480 w 1295640"/>
              <a:gd name="textAreaRight" fmla="*/ 1235160 w 1295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931" h="21600">
                <a:moveTo>
                  <a:pt x="0" y="0"/>
                </a:moveTo>
                <a:lnTo>
                  <a:pt x="29931" y="0"/>
                </a:lnTo>
                <a:lnTo>
                  <a:pt x="29931" y="21600"/>
                </a:lnTo>
                <a:lnTo>
                  <a:pt x="0" y="21600"/>
                </a:lnTo>
                <a:close/>
              </a:path>
              <a:path fill="lightenLess" w="29931" h="21600">
                <a:moveTo>
                  <a:pt x="0" y="0"/>
                </a:moveTo>
                <a:lnTo>
                  <a:pt x="29931" y="0"/>
                </a:lnTo>
                <a:lnTo>
                  <a:pt x="28531" y="1400"/>
                </a:lnTo>
                <a:lnTo>
                  <a:pt x="1400" y="1400"/>
                </a:lnTo>
                <a:close/>
              </a:path>
              <a:path fill="darken" w="29931" h="21600">
                <a:moveTo>
                  <a:pt x="29931" y="0"/>
                </a:moveTo>
                <a:lnTo>
                  <a:pt x="29931" y="21600"/>
                </a:lnTo>
                <a:lnTo>
                  <a:pt x="28531" y="20200"/>
                </a:lnTo>
                <a:lnTo>
                  <a:pt x="28531" y="1400"/>
                </a:lnTo>
                <a:close/>
              </a:path>
              <a:path fill="darkenLess" w="29931" h="21600">
                <a:moveTo>
                  <a:pt x="29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1" y="20200"/>
                </a:lnTo>
                <a:close/>
              </a:path>
              <a:path fill="lighten" w="29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и покажите все оке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карта пол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48816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dr_fish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1268280"/>
            <a:ext cx="1087560" cy="9064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Рисунок4"/>
          <p:cNvPicPr/>
          <p:nvPr/>
        </p:nvPicPr>
        <p:blipFill>
          <a:blip r:embed="rId1"/>
          <a:stretch/>
        </p:blipFill>
        <p:spPr>
          <a:xfrm>
            <a:off x="900000" y="836640"/>
            <a:ext cx="7086600" cy="5330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1637280" y="61610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океа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item_2393"/>
          <p:cNvPicPr/>
          <p:nvPr/>
        </p:nvPicPr>
        <p:blipFill>
          <a:blip r:embed="rId3"/>
          <a:stretch/>
        </p:blipFill>
        <p:spPr>
          <a:xfrm>
            <a:off x="7451640" y="0"/>
            <a:ext cx="1150920" cy="6523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Рисунок5"/>
          <p:cNvPicPr/>
          <p:nvPr/>
        </p:nvPicPr>
        <p:blipFill>
          <a:blip r:embed="rId1"/>
          <a:stretch/>
        </p:blipFill>
        <p:spPr>
          <a:xfrm>
            <a:off x="1066680" y="1027080"/>
            <a:ext cx="7467840" cy="5830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08764"/>
          <p:cNvPicPr/>
          <p:nvPr/>
        </p:nvPicPr>
        <p:blipFill>
          <a:blip r:embed="rId3"/>
          <a:stretch/>
        </p:blipFill>
        <p:spPr>
          <a:xfrm>
            <a:off x="7812000" y="0"/>
            <a:ext cx="1009800" cy="9050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й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Рисунок6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53258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Ледовитый океан. 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Рисунок7"/>
          <p:cNvPicPr/>
          <p:nvPr/>
        </p:nvPicPr>
        <p:blipFill>
          <a:blip r:embed="rId1"/>
          <a:stretch/>
        </p:blipFill>
        <p:spPr>
          <a:xfrm>
            <a:off x="1066680" y="1219320"/>
            <a:ext cx="6477120" cy="5413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24720" y="333360"/>
            <a:ext cx="936720" cy="8650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c9111ff395497bcc62fd5f53a9aa4ba0"/>
          <p:cNvPicPr/>
          <p:nvPr/>
        </p:nvPicPr>
        <p:blipFill>
          <a:blip r:embed="rId1"/>
          <a:stretch/>
        </p:blipFill>
        <p:spPr>
          <a:xfrm>
            <a:off x="6732720" y="404640"/>
            <a:ext cx="1368360" cy="79884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ем расположена знаменитая Марианская впад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4:56:41Z</dcterms:created>
  <dc:creator>Svetlana</dc:creator>
  <dc:description/>
  <dc:language>en-US</dc:language>
  <cp:lastModifiedBy>LEGION</cp:lastModifiedBy>
  <dcterms:modified xsi:type="dcterms:W3CDTF">2014-12-30T09:40:55Z</dcterms:modified>
  <cp:revision>7</cp:revision>
  <dc:subject/>
  <dc:title>Слайд 1</dc:title>
</cp:coreProperties>
</file>