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7.jpeg" ContentType="image/jpeg"/>
  <Override PartName="/ppt/media/image23.jpeg" ContentType="image/jpeg"/>
  <Override PartName="/ppt/media/image13.png" ContentType="image/png"/>
  <Override PartName="/ppt/media/image10.gif" ContentType="image/gif"/>
  <Override PartName="/ppt/media/image5.gif" ContentType="image/gif"/>
  <Override PartName="/ppt/media/image6.gif" ContentType="image/gif"/>
  <Override PartName="/ppt/media/image17.wmf" ContentType="image/x-wmf"/>
  <Override PartName="/ppt/media/image11.gif" ContentType="image/gif"/>
  <Override PartName="/ppt/media/image21.gif" ContentType="image/gif"/>
  <Override PartName="/ppt/media/image14.png" ContentType="image/png"/>
  <Override PartName="/ppt/media/image26.jpeg" ContentType="image/jpeg"/>
  <Override PartName="/ppt/media/image24.jpeg" ContentType="image/jpeg"/>
  <Override PartName="/ppt/media/image12.gif" ContentType="image/gif"/>
  <Override PartName="/ppt/media/image30.jpeg" ContentType="image/jpeg"/>
  <Override PartName="/ppt/media/image8.gif" ContentType="image/gif"/>
  <Override PartName="/ppt/media/image9.gif" ContentType="image/gif"/>
  <Override PartName="/ppt/media/image31.png" ContentType="image/png"/>
  <Override PartName="/ppt/media/image34.gif" ContentType="image/gif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16.png" ContentType="image/pn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F6C0-F18E-4D90-AA06-01AC98E5F4C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Bookman Old Style"/>
              </a:rPr>
              <a:t>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78CB-AE09-4A05-AB1C-4BF95A0A5E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кеана затруднено суровыми климатически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49DE-F690-4331-BBB8-AF003713B8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ывучий осколок льда в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56B0-14D7-4410-9555-A5030B93E7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течений в Атлантическом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6C0B-A457-4F0E-A98B-169CEDF422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иллюстрации, расскажите о роли океанов в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7753-0D12-462C-A33D-D641967C28E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ы это значи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02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40F7-5035-42D4-A85C-265DB19A54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еса из чуд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лив Дрей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гальский за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нно-Атлантический хреб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чение Западных в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гассово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ненное кольц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в Гренла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2DB9-A5D2-464A-93FC-D104D6B691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меня”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°с.ш. и 65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°с.ш и 2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° ю.ш. и 75°з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°с.ш. и 30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B574-8356-48EC-B50B-A611668628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 ошибки Ю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BFDB-9D94-476A-8A76-F9AE3DD4660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AF8B-55B9-4DC8-A30A-B5B11EB1E3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рской 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D04A-F140-488D-8EA3-0B48CBC142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все 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C6A8-8E24-4ABD-A3F2-3F6C3E60A5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2073-B1B4-426D-9B50-10CCBEA3FA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лантиче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EF58-16E6-43A4-9C7D-EFD2A8A263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й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26E5-B633-4C7D-90EF-F12E0E3C76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Ледовитый океан. 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2D0A-FE21-4345-9629-28C8F25191A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ье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9048-48DF-4FDE-9E20-0105C24D65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расположена знаменитая Марианская впад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68C9-E870-440B-8085-C38A1F381A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E5C-6EC8-418F-BAF8-DC760170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F00-AE86-4817-8C72-20CDA494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D0C-2475-4AF3-9A2D-DD3C6C01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AE8-ECC0-4055-BF73-DE37E644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4041-B247-4FA4-A572-8EFCB9A8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EEF9-FBE2-4A42-9784-8DAC63E4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E0BE-6DA1-493E-A91B-3A99C064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2806-3A7F-44A4-B94F-2127D463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895A-6501-48AE-BBF3-0E95AE24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3D30-590B-4174-B3F2-CBA06443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3069-88DE-44C8-B5DC-BE09E285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87D-1E22-4043-9FB8-918B2B31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D4C3-4914-4D68-A1F5-6202E997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EECD-7B8D-4D47-B825-2091A6C8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E0F1-4871-4F8F-B943-D751F523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66F5-A172-46B3-8E7C-711A8EC7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1CA1-2121-4542-B7F0-2C895D6F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FE71C-24C7-4281-B979-0725C26C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A2CB0-782B-4D9D-B9BF-1F525268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33569-051E-4C7A-91BD-DCE0379D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3B274-390F-4587-946D-728E5CBA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7017B-AB37-4C00-AF8D-877D163D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FDAA-5A57-4EB0-AF6D-B1797A45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DB414-2F8D-46E9-9A43-E3C6026E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C87EB-AACC-4F68-B4F7-AD7B3C7C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B7A88-D07A-421F-892F-E72CBE26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7286E-764D-449E-B31F-535A9F09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6C4C4-9968-451A-A262-1EBAC563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0398C-7D51-4A33-A542-74C66F0C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3A42E-8F8C-47FB-B470-B969C7A4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6B5-3558-498F-9799-3DA1BAD7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494-1514-4BFC-8E59-FFA71BB4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632-130A-497E-B1B9-27FC1F63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8B4-6EBC-4D87-BAD7-2F293F0C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250-DE89-4CDB-AC4E-C55B2EB1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9F0-8C40-4EE1-B1D2-01CC7793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D404-9301-47AA-AE1A-042196541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0CFA-1E3A-42A4-9B20-C7F8D3BEF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B06D-548B-4264-B7F4-33F1D59480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4.gif"/><Relationship Id="rId5" Type="http://schemas.openxmlformats.org/officeDocument/2006/relationships/slide" Target="slide10.xml"/><Relationship Id="rId6" Type="http://schemas.openxmlformats.org/officeDocument/2006/relationships/image" Target="../media/image5.gif"/><Relationship Id="rId7" Type="http://schemas.openxmlformats.org/officeDocument/2006/relationships/slide" Target="slide16.xml"/><Relationship Id="rId8" Type="http://schemas.openxmlformats.org/officeDocument/2006/relationships/image" Target="../media/image6.gif"/><Relationship Id="rId9" Type="http://schemas.openxmlformats.org/officeDocument/2006/relationships/slide" Target="slide8.xml"/><Relationship Id="rId10" Type="http://schemas.openxmlformats.org/officeDocument/2006/relationships/image" Target="../media/image7.gif"/><Relationship Id="rId11" Type="http://schemas.openxmlformats.org/officeDocument/2006/relationships/slide" Target="slide12.xml"/><Relationship Id="rId12" Type="http://schemas.openxmlformats.org/officeDocument/2006/relationships/image" Target="../media/image8.gif"/><Relationship Id="rId13" Type="http://schemas.openxmlformats.org/officeDocument/2006/relationships/slide" Target="slide19.xml"/><Relationship Id="rId14" Type="http://schemas.openxmlformats.org/officeDocument/2006/relationships/image" Target="../media/image9.gif"/><Relationship Id="rId15" Type="http://schemas.openxmlformats.org/officeDocument/2006/relationships/slide" Target="slide9.xml"/><Relationship Id="rId16" Type="http://schemas.openxmlformats.org/officeDocument/2006/relationships/image" Target="../media/image10.gif"/><Relationship Id="rId17" Type="http://schemas.openxmlformats.org/officeDocument/2006/relationships/slide" Target="slide11.xml"/><Relationship Id="rId18" Type="http://schemas.openxmlformats.org/officeDocument/2006/relationships/image" Target="../media/image11.gif"/><Relationship Id="rId19" Type="http://schemas.openxmlformats.org/officeDocument/2006/relationships/slide" Target="slide7.xml"/><Relationship Id="rId20" Type="http://schemas.openxmlformats.org/officeDocument/2006/relationships/image" Target="../media/image12.gif"/><Relationship Id="rId21" Type="http://schemas.openxmlformats.org/officeDocument/2006/relationships/slide" Target="slide14.xml"/><Relationship Id="rId22" Type="http://schemas.openxmlformats.org/officeDocument/2006/relationships/image" Target="../media/image13.png"/><Relationship Id="rId23" Type="http://schemas.openxmlformats.org/officeDocument/2006/relationships/slide" Target="slide15.xml"/><Relationship Id="rId24" Type="http://schemas.openxmlformats.org/officeDocument/2006/relationships/image" Target="../media/image14.png"/><Relationship Id="rId25" Type="http://schemas.openxmlformats.org/officeDocument/2006/relationships/slide" Target="slide5.xml"/><Relationship Id="rId26" Type="http://schemas.openxmlformats.org/officeDocument/2006/relationships/image" Target="../media/image15.gif"/><Relationship Id="rId27" Type="http://schemas.openxmlformats.org/officeDocument/2006/relationships/slide" Target="slide3.xml"/><Relationship Id="rId28" Type="http://schemas.openxmlformats.org/officeDocument/2006/relationships/image" Target="../media/image16.png"/><Relationship Id="rId29" Type="http://schemas.openxmlformats.org/officeDocument/2006/relationships/slide" Target="slide17.xml"/><Relationship Id="rId30" Type="http://schemas.openxmlformats.org/officeDocument/2006/relationships/image" Target="../media/image17.wmf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9.png"/><Relationship Id="rId46" Type="http://schemas.openxmlformats.org/officeDocument/2006/relationships/image" Target="../media/image19.png"/><Relationship Id="rId47" Type="http://schemas.openxmlformats.org/officeDocument/2006/relationships/image" Target="../media/image20.png"/><Relationship Id="rId48" Type="http://schemas.openxmlformats.org/officeDocument/2006/relationships/slide" Target="slide5.xml"/><Relationship Id="rId49" Type="http://schemas.openxmlformats.org/officeDocument/2006/relationships/image" Target="../media/image21.gif"/><Relationship Id="rId50" Type="http://schemas.openxmlformats.org/officeDocument/2006/relationships/slide" Target="slide5.xml"/><Relationship Id="rId51" Type="http://schemas.openxmlformats.org/officeDocument/2006/relationships/slide" Target="slide6.xml"/><Relationship Id="rId52" Type="http://schemas.openxmlformats.org/officeDocument/2006/relationships/slide" Target="slide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187280" y="260280"/>
            <a:ext cx="64803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общ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теме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1403280" y="2852640"/>
            <a:ext cx="62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Океаны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учение океана затруднено суровыми климатическими услов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ывучий осколок льда в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но из течений в Атлантическом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иллюстрации, расскажите о роли океанов в жизн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Рисунок13"/>
          <p:cNvPicPr/>
          <p:nvPr/>
        </p:nvPicPr>
        <p:blipFill>
          <a:blip r:embed="rId1"/>
          <a:stretch/>
        </p:blipFill>
        <p:spPr>
          <a:xfrm rot="283200">
            <a:off x="4876560" y="1066320"/>
            <a:ext cx="3971880" cy="320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Рисунок13"/>
          <p:cNvPicPr/>
          <p:nvPr/>
        </p:nvPicPr>
        <p:blipFill>
          <a:blip r:embed="rId2"/>
          <a:stretch/>
        </p:blipFill>
        <p:spPr>
          <a:xfrm>
            <a:off x="457200" y="121932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Рисунок13"/>
          <p:cNvPicPr/>
          <p:nvPr/>
        </p:nvPicPr>
        <p:blipFill>
          <a:blip r:embed="rId3"/>
          <a:stretch/>
        </p:blipFill>
        <p:spPr>
          <a:xfrm>
            <a:off x="4648320" y="3352680"/>
            <a:ext cx="4209840" cy="3200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Рисунок13"/>
          <p:cNvPicPr/>
          <p:nvPr/>
        </p:nvPicPr>
        <p:blipFill>
          <a:blip r:embed="rId4"/>
          <a:stretch/>
        </p:blipFill>
        <p:spPr>
          <a:xfrm>
            <a:off x="685800" y="3809880"/>
            <a:ext cx="3581280" cy="26067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54936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бы это значи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1022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2da04ccf1eae7bcbb0de257a6fc54a82"/>
          <p:cNvPicPr/>
          <p:nvPr/>
        </p:nvPicPr>
        <p:blipFill>
          <a:blip r:embed="rId1"/>
          <a:stretch/>
        </p:blipFill>
        <p:spPr>
          <a:xfrm>
            <a:off x="3780000" y="5300640"/>
            <a:ext cx="1152360" cy="52380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удеса из чуд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е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лив Дрей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нгальский за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нно-Атлантический хреб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Западных вет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гассово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ненное кольц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ов Гренла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1globemaps-med"/>
          <p:cNvPicPr/>
          <p:nvPr/>
        </p:nvPicPr>
        <p:blipFill>
          <a:blip r:embed="rId1"/>
          <a:stretch/>
        </p:blipFill>
        <p:spPr>
          <a:xfrm>
            <a:off x="6630840" y="907920"/>
            <a:ext cx="2513160" cy="1879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йди меня”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°с.ш. и 65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°с.ш и 2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1° ю.ш. и 75°з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°с.ш. и 30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russa"/>
          <p:cNvPicPr/>
          <p:nvPr/>
        </p:nvPicPr>
        <p:blipFill>
          <a:blip r:embed="rId1"/>
          <a:stretch/>
        </p:blipFill>
        <p:spPr>
          <a:xfrm>
            <a:off x="4716360" y="1989000"/>
            <a:ext cx="3340080" cy="213840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ошибки ЮН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167104"/>
          <p:cNvPicPr/>
          <p:nvPr/>
        </p:nvPicPr>
        <p:blipFill>
          <a:blip r:embed="rId1"/>
          <a:stretch/>
        </p:blipFill>
        <p:spPr>
          <a:xfrm>
            <a:off x="3851280" y="1413000"/>
            <a:ext cx="1460520" cy="19429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eep"/>
          <p:cNvPicPr/>
          <p:nvPr/>
        </p:nvPicPr>
        <p:blipFill>
          <a:blip r:embed="rId1"/>
          <a:stretch/>
        </p:blipFill>
        <p:spPr>
          <a:xfrm>
            <a:off x="4095720" y="2881440"/>
            <a:ext cx="952560" cy="10951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0"/>
          <p:cNvSpPr txBox="1"/>
          <p:nvPr/>
        </p:nvSpPr>
        <p:spPr>
          <a:xfrm>
            <a:off x="179280" y="0"/>
            <a:ext cx="51134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ской бо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907920"/>
          <a:ext cx="7920000" cy="5329440"/>
        </p:xfrm>
        <a:graphic>
          <a:graphicData uri="http://schemas.openxmlformats.org/drawingml/2006/table">
            <a:tbl>
              <a:tblPr/>
              <a:tblGrid>
                <a:gridCol w="1571400"/>
                <a:gridCol w="1646280"/>
                <a:gridCol w="1497240"/>
                <a:gridCol w="1571400"/>
                <a:gridCol w="163368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114" descr="2da04ccf1eae7bcbb0de257a6fc54a8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24360" y="3357720"/>
            <a:ext cx="1152360" cy="52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5" descr="5b16d9a0e82bd3af282108e72e4e7d68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0000" y="3213000"/>
            <a:ext cx="114300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7" descr="490fb9057c4a4fa46373edc7d5d69c6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68360" y="3213000"/>
            <a:ext cx="952560" cy="75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8" descr="c9111ff395497bcc62fd5f53a9aa4ba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24000" y="4292640"/>
            <a:ext cx="1368360" cy="79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9" descr="f956d4ffc91140eacef1651621b13289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08720" y="5229360"/>
            <a:ext cx="1138320" cy="703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0" descr="237d14c7cc898b80f144138492189986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 rot="2144400">
            <a:off x="4140000" y="5229360"/>
            <a:ext cx="633240" cy="106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1" descr="84502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651640" y="213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3" descr="ca4da12183cd7fa9166113dd88ae14ad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651640" y="4005360"/>
            <a:ext cx="752400" cy="1104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4" descr="062b4eccddea3a0e76c1cda9e2d0f075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948360" y="5311800"/>
            <a:ext cx="1152720" cy="66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0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164360" y="414972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3" descr="1globemaps-med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2340000" y="5445000"/>
            <a:ext cx="857160" cy="641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4" descr="59df5bf31a7614ecf632d265575e0b26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7236000" y="3284640"/>
            <a:ext cx="771480" cy="495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6" descr="dr_fish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3851280" y="1989000"/>
            <a:ext cx="1087560" cy="906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7" descr="штурвал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2195640" y="2060640"/>
            <a:ext cx="855360" cy="9302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38"/>
          <p:cNvSpPr txBox="1"/>
          <p:nvPr/>
        </p:nvSpPr>
        <p:spPr>
          <a:xfrm>
            <a:off x="755640" y="198900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40"/>
          <p:cNvSpPr txBox="1"/>
          <p:nvPr/>
        </p:nvSpPr>
        <p:spPr>
          <a:xfrm>
            <a:off x="826920" y="2997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41"/>
          <p:cNvSpPr txBox="1"/>
          <p:nvPr/>
        </p:nvSpPr>
        <p:spPr>
          <a:xfrm>
            <a:off x="826920" y="4005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142"/>
          <p:cNvSpPr txBox="1"/>
          <p:nvPr/>
        </p:nvSpPr>
        <p:spPr>
          <a:xfrm>
            <a:off x="900000" y="479736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3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143"/>
          <p:cNvSpPr txBox="1"/>
          <p:nvPr/>
        </p:nvSpPr>
        <p:spPr>
          <a:xfrm>
            <a:off x="2195640" y="112536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146"/>
          <p:cNvSpPr txBox="1"/>
          <p:nvPr/>
        </p:nvSpPr>
        <p:spPr>
          <a:xfrm>
            <a:off x="363528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</a:t>
            </a:r>
            <a:endParaRPr b="0" lang="en-US" sz="1800" spc="1" strike="noStrike">
              <a:ln w="0">
                <a:noFill/>
              </a:ln>
              <a:blipFill rotWithShape="0">
                <a:blip r:embed="rId4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47"/>
          <p:cNvSpPr txBox="1"/>
          <p:nvPr/>
        </p:nvSpPr>
        <p:spPr>
          <a:xfrm>
            <a:off x="500364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blipFill rotWithShape="0">
                <a:blip r:embed="rId4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48"/>
          <p:cNvSpPr txBox="1"/>
          <p:nvPr/>
        </p:nvSpPr>
        <p:spPr>
          <a:xfrm>
            <a:off x="6516720" y="119700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0">
                <a:noFill/>
              </a:ln>
              <a:blipFill rotWithShape="0">
                <a:blip r:embed="rId4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Picture 151" descr="item_2393"/>
          <p:cNvPicPr/>
          <p:nvPr/>
        </p:nvPicPr>
        <p:blipFill>
          <a:blip r:embed="rId47"/>
          <a:stretch/>
        </p:blipFill>
        <p:spPr>
          <a:xfrm>
            <a:off x="3851280" y="4292640"/>
            <a:ext cx="1150920" cy="65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3" descr="08764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7093080" y="2060640"/>
            <a:ext cx="1009440" cy="9046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54">
            <a:hlinkClick r:id="rId50" action="ppaction://hlinksldjump"/>
          </p:cNvPr>
          <p:cNvSpPr/>
          <p:nvPr/>
        </p:nvSpPr>
        <p:spPr>
          <a:xfrm>
            <a:off x="6804000" y="1989000"/>
            <a:ext cx="1513080" cy="1008360"/>
          </a:xfrm>
          <a:custGeom>
            <a:avLst/>
            <a:gdLst>
              <a:gd name="textAreaLeft" fmla="*/ 65160 w 1513080"/>
              <a:gd name="textAreaRight" fmla="*/ 1447920 w 151308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32408" h="21600">
                <a:moveTo>
                  <a:pt x="0" y="0"/>
                </a:moveTo>
                <a:lnTo>
                  <a:pt x="32408" y="0"/>
                </a:lnTo>
                <a:lnTo>
                  <a:pt x="32408" y="21600"/>
                </a:lnTo>
                <a:lnTo>
                  <a:pt x="0" y="21600"/>
                </a:lnTo>
                <a:close/>
              </a:path>
              <a:path fill="lightenLess" w="32408" h="21600">
                <a:moveTo>
                  <a:pt x="0" y="0"/>
                </a:moveTo>
                <a:lnTo>
                  <a:pt x="32408" y="0"/>
                </a:lnTo>
                <a:lnTo>
                  <a:pt x="31008" y="1400"/>
                </a:lnTo>
                <a:lnTo>
                  <a:pt x="1400" y="1400"/>
                </a:lnTo>
                <a:close/>
              </a:path>
              <a:path fill="darken" w="32408" h="21600">
                <a:moveTo>
                  <a:pt x="32408" y="0"/>
                </a:moveTo>
                <a:lnTo>
                  <a:pt x="32408" y="21600"/>
                </a:lnTo>
                <a:lnTo>
                  <a:pt x="31008" y="20200"/>
                </a:lnTo>
                <a:lnTo>
                  <a:pt x="31008" y="1400"/>
                </a:lnTo>
                <a:close/>
              </a:path>
              <a:path fill="darkenLess" w="32408" h="21600">
                <a:moveTo>
                  <a:pt x="3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8" y="20200"/>
                </a:lnTo>
                <a:close/>
              </a:path>
              <a:path fill="lighten" w="3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55">
            <a:hlinkClick r:id="rId51" action="ppaction://hlinksldjump"/>
          </p:cNvPr>
          <p:cNvSpPr/>
          <p:nvPr/>
        </p:nvSpPr>
        <p:spPr>
          <a:xfrm>
            <a:off x="6877080" y="3068640"/>
            <a:ext cx="1366920" cy="936720"/>
          </a:xfrm>
          <a:custGeom>
            <a:avLst/>
            <a:gdLst>
              <a:gd name="textAreaLeft" fmla="*/ 60480 w 1366920"/>
              <a:gd name="textAreaRight" fmla="*/ 1306440 w 13669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16" h="21600">
                <a:moveTo>
                  <a:pt x="0" y="0"/>
                </a:moveTo>
                <a:lnTo>
                  <a:pt x="31516" y="0"/>
                </a:lnTo>
                <a:lnTo>
                  <a:pt x="31516" y="21600"/>
                </a:lnTo>
                <a:lnTo>
                  <a:pt x="0" y="21600"/>
                </a:lnTo>
                <a:close/>
              </a:path>
              <a:path fill="lightenLess" w="31516" h="21600">
                <a:moveTo>
                  <a:pt x="0" y="0"/>
                </a:moveTo>
                <a:lnTo>
                  <a:pt x="31516" y="0"/>
                </a:lnTo>
                <a:lnTo>
                  <a:pt x="30116" y="1400"/>
                </a:lnTo>
                <a:lnTo>
                  <a:pt x="1400" y="1400"/>
                </a:lnTo>
                <a:close/>
              </a:path>
              <a:path fill="darken" w="31516" h="21600">
                <a:moveTo>
                  <a:pt x="31516" y="0"/>
                </a:moveTo>
                <a:lnTo>
                  <a:pt x="31516" y="21600"/>
                </a:lnTo>
                <a:lnTo>
                  <a:pt x="30116" y="20200"/>
                </a:lnTo>
                <a:lnTo>
                  <a:pt x="30116" y="1400"/>
                </a:lnTo>
                <a:close/>
              </a:path>
              <a:path fill="darkenLess" w="31516" h="21600">
                <a:moveTo>
                  <a:pt x="31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16" y="20200"/>
                </a:lnTo>
                <a:close/>
              </a:path>
              <a:path fill="lighten" w="31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56">
            <a:hlinkClick r:id="rId52" action="ppaction://hlinksldjump"/>
          </p:cNvPr>
          <p:cNvSpPr/>
          <p:nvPr/>
        </p:nvSpPr>
        <p:spPr>
          <a:xfrm>
            <a:off x="6948360" y="4149720"/>
            <a:ext cx="1295640" cy="934920"/>
          </a:xfrm>
          <a:custGeom>
            <a:avLst/>
            <a:gdLst>
              <a:gd name="textAreaLeft" fmla="*/ 60480 w 1295640"/>
              <a:gd name="textAreaRight" fmla="*/ 1235160 w 1295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9931" h="21600">
                <a:moveTo>
                  <a:pt x="0" y="0"/>
                </a:moveTo>
                <a:lnTo>
                  <a:pt x="29931" y="0"/>
                </a:lnTo>
                <a:lnTo>
                  <a:pt x="29931" y="21600"/>
                </a:lnTo>
                <a:lnTo>
                  <a:pt x="0" y="21600"/>
                </a:lnTo>
                <a:close/>
              </a:path>
              <a:path fill="lightenLess" w="29931" h="21600">
                <a:moveTo>
                  <a:pt x="0" y="0"/>
                </a:moveTo>
                <a:lnTo>
                  <a:pt x="29931" y="0"/>
                </a:lnTo>
                <a:lnTo>
                  <a:pt x="28531" y="1400"/>
                </a:lnTo>
                <a:lnTo>
                  <a:pt x="1400" y="1400"/>
                </a:lnTo>
                <a:close/>
              </a:path>
              <a:path fill="darken" w="29931" h="21600">
                <a:moveTo>
                  <a:pt x="29931" y="0"/>
                </a:moveTo>
                <a:lnTo>
                  <a:pt x="29931" y="21600"/>
                </a:lnTo>
                <a:lnTo>
                  <a:pt x="28531" y="20200"/>
                </a:lnTo>
                <a:lnTo>
                  <a:pt x="28531" y="1400"/>
                </a:lnTo>
                <a:close/>
              </a:path>
              <a:path fill="darkenLess" w="29931" h="21600">
                <a:moveTo>
                  <a:pt x="29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31" y="20200"/>
                </a:lnTo>
                <a:close/>
              </a:path>
              <a:path fill="lighten" w="29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и покажите все оке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карта пол"/>
          <p:cNvPicPr/>
          <p:nvPr/>
        </p:nvPicPr>
        <p:blipFill>
          <a:blip r:embed="rId1"/>
          <a:stretch/>
        </p:blipFill>
        <p:spPr>
          <a:xfrm>
            <a:off x="0" y="1295280"/>
            <a:ext cx="8991720" cy="48816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dr_fish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1268280"/>
            <a:ext cx="1087560" cy="9064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137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Рисунок4"/>
          <p:cNvPicPr/>
          <p:nvPr/>
        </p:nvPicPr>
        <p:blipFill>
          <a:blip r:embed="rId1"/>
          <a:stretch/>
        </p:blipFill>
        <p:spPr>
          <a:xfrm>
            <a:off x="900000" y="836640"/>
            <a:ext cx="7086600" cy="5330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1637280" y="61610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хий океа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7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0" descr="item_2393"/>
          <p:cNvPicPr/>
          <p:nvPr/>
        </p:nvPicPr>
        <p:blipFill>
          <a:blip r:embed="rId3"/>
          <a:stretch/>
        </p:blipFill>
        <p:spPr>
          <a:xfrm>
            <a:off x="7451640" y="0"/>
            <a:ext cx="1150920" cy="6523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лантиче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Рисунок5"/>
          <p:cNvPicPr/>
          <p:nvPr/>
        </p:nvPicPr>
        <p:blipFill>
          <a:blip r:embed="rId1"/>
          <a:stretch/>
        </p:blipFill>
        <p:spPr>
          <a:xfrm>
            <a:off x="1066680" y="1027080"/>
            <a:ext cx="7467840" cy="58309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08764"/>
          <p:cNvPicPr/>
          <p:nvPr/>
        </p:nvPicPr>
        <p:blipFill>
          <a:blip r:embed="rId3"/>
          <a:stretch/>
        </p:blipFill>
        <p:spPr>
          <a:xfrm>
            <a:off x="7812000" y="0"/>
            <a:ext cx="1009800" cy="9050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й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Рисунок6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53258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Ледовитый океан. 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Рисунок7"/>
          <p:cNvPicPr/>
          <p:nvPr/>
        </p:nvPicPr>
        <p:blipFill>
          <a:blip r:embed="rId1"/>
          <a:stretch/>
        </p:blipFill>
        <p:spPr>
          <a:xfrm>
            <a:off x="1066680" y="1219320"/>
            <a:ext cx="6477120" cy="54133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24720" y="333360"/>
            <a:ext cx="936720" cy="8650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лье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c9111ff395497bcc62fd5f53a9aa4ba0"/>
          <p:cNvPicPr/>
          <p:nvPr/>
        </p:nvPicPr>
        <p:blipFill>
          <a:blip r:embed="rId1"/>
          <a:stretch/>
        </p:blipFill>
        <p:spPr>
          <a:xfrm>
            <a:off x="6732720" y="404640"/>
            <a:ext cx="1368360" cy="79884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ем расположена знаменитая Марианская впад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4:56:41Z</dcterms:created>
  <dc:creator>Svetlana</dc:creator>
  <dc:description/>
  <dc:language>en-US</dc:language>
  <cp:lastModifiedBy>LEGION</cp:lastModifiedBy>
  <dcterms:modified xsi:type="dcterms:W3CDTF">2014-12-30T09:40:55Z</dcterms:modified>
  <cp:revision>7</cp:revision>
  <dc:subject/>
  <dc:title>Слайд 1</dc:title>
</cp:coreProperties>
</file>