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7.jpeg" ContentType="image/jpeg"/>
  <Override PartName="/ppt/media/image23.jpeg" ContentType="image/jpeg"/>
  <Override PartName="/ppt/media/image13.png" ContentType="image/png"/>
  <Override PartName="/ppt/media/image10.gif" ContentType="image/gif"/>
  <Override PartName="/ppt/media/image5.gif" ContentType="image/gif"/>
  <Override PartName="/ppt/media/image6.gif" ContentType="image/gif"/>
  <Override PartName="/ppt/media/image17.wmf" ContentType="image/x-wmf"/>
  <Override PartName="/ppt/media/image11.gif" ContentType="image/gif"/>
  <Override PartName="/ppt/media/image21.gif" ContentType="image/gif"/>
  <Override PartName="/ppt/media/image14.png" ContentType="image/png"/>
  <Override PartName="/ppt/media/image26.jpeg" ContentType="image/jpeg"/>
  <Override PartName="/ppt/media/image24.jpeg" ContentType="image/jpeg"/>
  <Override PartName="/ppt/media/image12.gif" ContentType="image/gif"/>
  <Override PartName="/ppt/media/image30.jpeg" ContentType="image/jpeg"/>
  <Override PartName="/ppt/media/image8.gif" ContentType="image/gif"/>
  <Override PartName="/ppt/media/image9.gif" ContentType="image/gif"/>
  <Override PartName="/ppt/media/image31.png" ContentType="image/png"/>
  <Override PartName="/ppt/media/image34.gif" ContentType="image/gif"/>
  <Override PartName="/ppt/media/image33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28.jpeg" ContentType="image/jpeg"/>
  <Override PartName="/ppt/media/image16.png" ContentType="image/png"/>
  <Override PartName="/ppt/media/image1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8DDC-52BD-4D1B-AB00-347B6F551D3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Bookman Old Style"/>
              </a:rPr>
              <a:t>Оке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7612-7072-42FF-8FC9-61E9A2F8424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океана затруднено суровыми климатическими услов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4522-AEFC-466F-BE90-E6942DB88B7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ывучий осколок льда в оке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A258-2D23-4CDF-A27C-139900A3B4E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из течений в Атлантическом оке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14A0-880A-4803-BED9-AD8D7C66501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иллюстрации, расскажите о роли океанов в жизн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17E9-99BC-4E9F-8144-C80256587D4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бы это значил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02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3379-761E-43BB-8561-2C5DAB38244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деса из чуд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ое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лив Дрей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гальский зал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нно-Атлантический хреб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чение Западных вет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гассово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ненное кольц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в Гренлан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D324-C2E8-43B4-BAA6-825C393A774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меня”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°с.ш. и 65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°с.ш и 2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° ю.ш. и 75°з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°с.ш. и 30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1B35-CE7D-4099-A0CA-57D1603571B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 ошибки ЮН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15F0-A0B5-4523-A68D-658113A54F2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7613-FE3F-4255-B67E-9CB776EE57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рской 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2811-2D62-451F-A4FB-1C388CFD98E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все оке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B364-05F7-4DCC-A5CD-25E1430B26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DC6D-1599-4561-A943-F50BBC8E611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лантический океан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95DA-FF5F-47D2-9E60-7EB5FDD0188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йский океан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материки, омываемые океа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B1BF-D402-4F4B-9091-1F20CD1EB75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ерный Ледовитый океан. 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1762-1C94-4E9A-B0F9-39920BB76CD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лье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кватории Тихого океана обнаружено большое количество желобов. Как вы можете объяснить этот фак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58CE-9BED-4364-8AE9-48A35FA23DE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м расположена знаменитая Марианская впад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9880-C205-4286-9A3D-773E8BAB0D8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A751-15F1-4F45-A359-26F60666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334-2FAB-4E03-A0FE-E3DA5B93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2EE-D6F5-4650-8A97-1541001E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7BB-173F-4B24-8348-4D8D1E40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5C39-CFCB-4761-9D81-9C866576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E626-80E0-4B25-9076-74FD37B5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672B-717D-46C6-93E6-39D3B0DF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6198-70A8-4113-8B5B-D7ECB78B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54DF-ABF1-48E0-BDEB-4360BBFE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E297-9C0D-4077-A7FD-EE141461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C042-32E1-4C42-98BF-E42ACE7E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8D83-0BE5-4D6F-BDAA-D8A430FF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8177-217E-4C59-9FE1-F747E5AC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E94C-CEF5-4156-BC9B-CF0217D4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FE21-9BE4-44F2-8FDC-E86D6784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91F6-ECCD-4EB0-B771-3E96D08A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B92F-CD56-43AF-BC3C-F561304A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5C0B5-145A-41A6-AECE-30BA2E6B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4D10A-192A-4C61-99F9-53F5FE93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CCAE9-2B9A-4BA5-9C0C-E9E93E4E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1A577-AEAF-4386-879D-BA21636C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850DC-9975-4413-998F-172C02BE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57A1-E33A-4BEB-9BD5-35A969FF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4E82B-7F7E-4DA7-8251-E5957028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26E4B-A48E-474D-AAA5-EB4A70E1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023B5-B541-46C8-B612-9AA1E271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32684-A467-4BF1-BB8A-EEBD1FB4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7B5FA-75C3-48FD-B683-F48A7061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525A33-EB3E-443C-A088-B7A0A178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CF3B0-3953-4201-9C45-DE7D35EB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82C-6E24-4E3D-BF70-2B444167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033A-463F-47BD-9B4B-EF80E7FA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789A-2534-426D-928C-306C02F4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7D9-71F4-4729-9EF4-A10CAFE7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E623-D2EE-477A-ACAB-220C03ED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0C2-8959-455E-8353-C052F347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737C-1D2F-45CB-8448-CDD5F3ED37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94E6-EA87-4CC8-B55C-D5EB3FFE00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FB74-23A0-4B5D-8CCD-A8937A55714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14.xml"/><Relationship Id="rId4" Type="http://schemas.openxmlformats.org/officeDocument/2006/relationships/image" Target="../media/image4.gif"/><Relationship Id="rId5" Type="http://schemas.openxmlformats.org/officeDocument/2006/relationships/slide" Target="slide10.xml"/><Relationship Id="rId6" Type="http://schemas.openxmlformats.org/officeDocument/2006/relationships/image" Target="../media/image5.gif"/><Relationship Id="rId7" Type="http://schemas.openxmlformats.org/officeDocument/2006/relationships/slide" Target="slide16.xml"/><Relationship Id="rId8" Type="http://schemas.openxmlformats.org/officeDocument/2006/relationships/image" Target="../media/image6.gif"/><Relationship Id="rId9" Type="http://schemas.openxmlformats.org/officeDocument/2006/relationships/slide" Target="slide8.xml"/><Relationship Id="rId10" Type="http://schemas.openxmlformats.org/officeDocument/2006/relationships/image" Target="../media/image7.gif"/><Relationship Id="rId11" Type="http://schemas.openxmlformats.org/officeDocument/2006/relationships/slide" Target="slide12.xml"/><Relationship Id="rId12" Type="http://schemas.openxmlformats.org/officeDocument/2006/relationships/image" Target="../media/image8.gif"/><Relationship Id="rId13" Type="http://schemas.openxmlformats.org/officeDocument/2006/relationships/slide" Target="slide19.xml"/><Relationship Id="rId14" Type="http://schemas.openxmlformats.org/officeDocument/2006/relationships/image" Target="../media/image9.gif"/><Relationship Id="rId15" Type="http://schemas.openxmlformats.org/officeDocument/2006/relationships/slide" Target="slide9.xml"/><Relationship Id="rId16" Type="http://schemas.openxmlformats.org/officeDocument/2006/relationships/image" Target="../media/image10.gif"/><Relationship Id="rId17" Type="http://schemas.openxmlformats.org/officeDocument/2006/relationships/slide" Target="slide11.xml"/><Relationship Id="rId18" Type="http://schemas.openxmlformats.org/officeDocument/2006/relationships/image" Target="../media/image11.gif"/><Relationship Id="rId19" Type="http://schemas.openxmlformats.org/officeDocument/2006/relationships/slide" Target="slide7.xml"/><Relationship Id="rId20" Type="http://schemas.openxmlformats.org/officeDocument/2006/relationships/image" Target="../media/image12.gif"/><Relationship Id="rId21" Type="http://schemas.openxmlformats.org/officeDocument/2006/relationships/slide" Target="slide14.xml"/><Relationship Id="rId22" Type="http://schemas.openxmlformats.org/officeDocument/2006/relationships/image" Target="../media/image13.png"/><Relationship Id="rId23" Type="http://schemas.openxmlformats.org/officeDocument/2006/relationships/slide" Target="slide15.xml"/><Relationship Id="rId24" Type="http://schemas.openxmlformats.org/officeDocument/2006/relationships/image" Target="../media/image14.png"/><Relationship Id="rId25" Type="http://schemas.openxmlformats.org/officeDocument/2006/relationships/slide" Target="slide5.xml"/><Relationship Id="rId26" Type="http://schemas.openxmlformats.org/officeDocument/2006/relationships/image" Target="../media/image15.gif"/><Relationship Id="rId27" Type="http://schemas.openxmlformats.org/officeDocument/2006/relationships/slide" Target="slide3.xml"/><Relationship Id="rId28" Type="http://schemas.openxmlformats.org/officeDocument/2006/relationships/image" Target="../media/image16.png"/><Relationship Id="rId29" Type="http://schemas.openxmlformats.org/officeDocument/2006/relationships/slide" Target="slide17.xml"/><Relationship Id="rId30" Type="http://schemas.openxmlformats.org/officeDocument/2006/relationships/image" Target="../media/image17.wmf"/><Relationship Id="rId31" Type="http://schemas.openxmlformats.org/officeDocument/2006/relationships/image" Target="../media/image18.png"/><Relationship Id="rId32" Type="http://schemas.openxmlformats.org/officeDocument/2006/relationships/image" Target="../media/image18.png"/><Relationship Id="rId33" Type="http://schemas.openxmlformats.org/officeDocument/2006/relationships/image" Target="../media/image18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18.png"/><Relationship Id="rId37" Type="http://schemas.openxmlformats.org/officeDocument/2006/relationships/image" Target="../media/image18.png"/><Relationship Id="rId38" Type="http://schemas.openxmlformats.org/officeDocument/2006/relationships/image" Target="../media/image18.png"/><Relationship Id="rId39" Type="http://schemas.openxmlformats.org/officeDocument/2006/relationships/image" Target="../media/image19.png"/><Relationship Id="rId40" Type="http://schemas.openxmlformats.org/officeDocument/2006/relationships/image" Target="../media/image19.png"/><Relationship Id="rId41" Type="http://schemas.openxmlformats.org/officeDocument/2006/relationships/image" Target="../media/image19.png"/><Relationship Id="rId42" Type="http://schemas.openxmlformats.org/officeDocument/2006/relationships/image" Target="../media/image19.png"/><Relationship Id="rId43" Type="http://schemas.openxmlformats.org/officeDocument/2006/relationships/image" Target="../media/image19.png"/><Relationship Id="rId44" Type="http://schemas.openxmlformats.org/officeDocument/2006/relationships/image" Target="../media/image19.png"/><Relationship Id="rId45" Type="http://schemas.openxmlformats.org/officeDocument/2006/relationships/image" Target="../media/image19.png"/><Relationship Id="rId46" Type="http://schemas.openxmlformats.org/officeDocument/2006/relationships/image" Target="../media/image19.png"/><Relationship Id="rId47" Type="http://schemas.openxmlformats.org/officeDocument/2006/relationships/image" Target="../media/image20.png"/><Relationship Id="rId48" Type="http://schemas.openxmlformats.org/officeDocument/2006/relationships/slide" Target="slide5.xml"/><Relationship Id="rId49" Type="http://schemas.openxmlformats.org/officeDocument/2006/relationships/image" Target="../media/image21.gif"/><Relationship Id="rId50" Type="http://schemas.openxmlformats.org/officeDocument/2006/relationships/slide" Target="slide5.xml"/><Relationship Id="rId51" Type="http://schemas.openxmlformats.org/officeDocument/2006/relationships/slide" Target="slide6.xml"/><Relationship Id="rId52" Type="http://schemas.openxmlformats.org/officeDocument/2006/relationships/slide" Target="slide7.xml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.xml"/><Relationship Id="rId3" Type="http://schemas.openxmlformats.org/officeDocument/2006/relationships/slide" Target="slide14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1187280" y="260280"/>
            <a:ext cx="648036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общ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 теме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1403280" y="2852640"/>
            <a:ext cx="626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Океаны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учение океана затруднено суровыми климатическими услови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ывучий осколок льда в океа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дно из течений в Атлантическом океа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иллюстрации, расскажите о роли океанов в жизн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Рисунок13"/>
          <p:cNvPicPr/>
          <p:nvPr/>
        </p:nvPicPr>
        <p:blipFill>
          <a:blip r:embed="rId1"/>
          <a:stretch/>
        </p:blipFill>
        <p:spPr>
          <a:xfrm rot="283200">
            <a:off x="4876560" y="1066320"/>
            <a:ext cx="3971880" cy="3200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Рисунок13"/>
          <p:cNvPicPr/>
          <p:nvPr/>
        </p:nvPicPr>
        <p:blipFill>
          <a:blip r:embed="rId2"/>
          <a:stretch/>
        </p:blipFill>
        <p:spPr>
          <a:xfrm>
            <a:off x="457200" y="1219320"/>
            <a:ext cx="4267080" cy="2743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Рисунок13"/>
          <p:cNvPicPr/>
          <p:nvPr/>
        </p:nvPicPr>
        <p:blipFill>
          <a:blip r:embed="rId3"/>
          <a:stretch/>
        </p:blipFill>
        <p:spPr>
          <a:xfrm>
            <a:off x="4648320" y="3352680"/>
            <a:ext cx="4209840" cy="3200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Рисунок13"/>
          <p:cNvPicPr/>
          <p:nvPr/>
        </p:nvPicPr>
        <p:blipFill>
          <a:blip r:embed="rId4"/>
          <a:stretch/>
        </p:blipFill>
        <p:spPr>
          <a:xfrm>
            <a:off x="685800" y="3809880"/>
            <a:ext cx="3581280" cy="260676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7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54936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то бы это значил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11022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2da04ccf1eae7bcbb0de257a6fc54a82"/>
          <p:cNvPicPr/>
          <p:nvPr/>
        </p:nvPicPr>
        <p:blipFill>
          <a:blip r:embed="rId1"/>
          <a:stretch/>
        </p:blipFill>
        <p:spPr>
          <a:xfrm>
            <a:off x="3780000" y="5300640"/>
            <a:ext cx="1152360" cy="52380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удеса из чуд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ное мо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лив Дрей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нгальский за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инно-Атлантический хреб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чение Западных вет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гассово мо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ненное кольц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ров Гренлан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1globemaps-med"/>
          <p:cNvPicPr/>
          <p:nvPr/>
        </p:nvPicPr>
        <p:blipFill>
          <a:blip r:embed="rId1"/>
          <a:stretch/>
        </p:blipFill>
        <p:spPr>
          <a:xfrm>
            <a:off x="6630840" y="907920"/>
            <a:ext cx="2513160" cy="18795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йди меня”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°с.ш. и 65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°с.ш и 2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1° ю.ш. и 75°з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5°с.ш. и 30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russa"/>
          <p:cNvPicPr/>
          <p:nvPr/>
        </p:nvPicPr>
        <p:blipFill>
          <a:blip r:embed="rId1"/>
          <a:stretch/>
        </p:blipFill>
        <p:spPr>
          <a:xfrm>
            <a:off x="4716360" y="1989000"/>
            <a:ext cx="3340080" cy="213840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 ошибки ЮН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167104"/>
          <p:cNvPicPr/>
          <p:nvPr/>
        </p:nvPicPr>
        <p:blipFill>
          <a:blip r:embed="rId1"/>
          <a:stretch/>
        </p:blipFill>
        <p:spPr>
          <a:xfrm>
            <a:off x="3851280" y="1413000"/>
            <a:ext cx="1460520" cy="194292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4" descr="eep"/>
          <p:cNvPicPr/>
          <p:nvPr/>
        </p:nvPicPr>
        <p:blipFill>
          <a:blip r:embed="rId1"/>
          <a:stretch/>
        </p:blipFill>
        <p:spPr>
          <a:xfrm>
            <a:off x="4095720" y="2881440"/>
            <a:ext cx="952560" cy="10951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0"/>
          <p:cNvSpPr txBox="1"/>
          <p:nvPr/>
        </p:nvSpPr>
        <p:spPr>
          <a:xfrm>
            <a:off x="179280" y="0"/>
            <a:ext cx="51134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рской бо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907920"/>
          <a:ext cx="7920000" cy="5329440"/>
        </p:xfrm>
        <a:graphic>
          <a:graphicData uri="http://schemas.openxmlformats.org/drawingml/2006/table">
            <a:tbl>
              <a:tblPr/>
              <a:tblGrid>
                <a:gridCol w="1571400"/>
                <a:gridCol w="1646280"/>
                <a:gridCol w="1497240"/>
                <a:gridCol w="1571400"/>
                <a:gridCol w="1633680"/>
              </a:tblGrid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114" descr="2da04ccf1eae7bcbb0de257a6fc54a8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24360" y="3357720"/>
            <a:ext cx="1152360" cy="523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5" descr="5b16d9a0e82bd3af282108e72e4e7d68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580000" y="3213000"/>
            <a:ext cx="1143000" cy="476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7" descr="490fb9057c4a4fa46373edc7d5d69c6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268360" y="3213000"/>
            <a:ext cx="952560" cy="75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8" descr="c9111ff395497bcc62fd5f53a9aa4ba0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124000" y="4292640"/>
            <a:ext cx="1368360" cy="798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9" descr="f956d4ffc91140eacef1651621b13289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508720" y="5229360"/>
            <a:ext cx="1138320" cy="703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0" descr="237d14c7cc898b80f144138492189986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 rot="2144400">
            <a:off x="4140000" y="5229360"/>
            <a:ext cx="633240" cy="1068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1" descr="84502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5651640" y="2133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3" descr="ca4da12183cd7fa9166113dd88ae14ad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651640" y="4005360"/>
            <a:ext cx="752400" cy="1104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4" descr="062b4eccddea3a0e76c1cda9e2d0f075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948360" y="5311800"/>
            <a:ext cx="1152720" cy="66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0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164360" y="4149720"/>
            <a:ext cx="936720" cy="865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3" descr="1globemaps-med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2340000" y="5445000"/>
            <a:ext cx="857160" cy="641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4" descr="59df5bf31a7614ecf632d265575e0b26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7236000" y="3284640"/>
            <a:ext cx="771480" cy="495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6" descr="dr_fish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3851280" y="1989000"/>
            <a:ext cx="1087560" cy="906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7" descr="штурвал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2195640" y="2060640"/>
            <a:ext cx="855360" cy="930240"/>
          </a:xfrm>
          <a:prstGeom prst="rect">
            <a:avLst/>
          </a:prstGeom>
          <a:ln w="0">
            <a:noFill/>
          </a:ln>
        </p:spPr>
      </p:pic>
      <p:sp>
        <p:nvSpPr>
          <p:cNvPr id="150" name="WordArt 138"/>
          <p:cNvSpPr txBox="1"/>
          <p:nvPr/>
        </p:nvSpPr>
        <p:spPr>
          <a:xfrm>
            <a:off x="755640" y="1989000"/>
            <a:ext cx="64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140"/>
          <p:cNvSpPr txBox="1"/>
          <p:nvPr/>
        </p:nvSpPr>
        <p:spPr>
          <a:xfrm>
            <a:off x="826920" y="2997360"/>
            <a:ext cx="6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141"/>
          <p:cNvSpPr txBox="1"/>
          <p:nvPr/>
        </p:nvSpPr>
        <p:spPr>
          <a:xfrm>
            <a:off x="826920" y="4005360"/>
            <a:ext cx="6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142"/>
          <p:cNvSpPr txBox="1"/>
          <p:nvPr/>
        </p:nvSpPr>
        <p:spPr>
          <a:xfrm>
            <a:off x="900000" y="4797360"/>
            <a:ext cx="64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3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143"/>
          <p:cNvSpPr txBox="1"/>
          <p:nvPr/>
        </p:nvSpPr>
        <p:spPr>
          <a:xfrm>
            <a:off x="2195640" y="1125360"/>
            <a:ext cx="28872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146"/>
          <p:cNvSpPr txBox="1"/>
          <p:nvPr/>
        </p:nvSpPr>
        <p:spPr>
          <a:xfrm>
            <a:off x="3635280" y="1197000"/>
            <a:ext cx="28908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</a:t>
            </a:r>
            <a:endParaRPr b="0" lang="en-US" sz="1800" spc="1" strike="noStrike">
              <a:ln w="0">
                <a:noFill/>
              </a:ln>
              <a:blipFill rotWithShape="0">
                <a:blip r:embed="rId4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147"/>
          <p:cNvSpPr txBox="1"/>
          <p:nvPr/>
        </p:nvSpPr>
        <p:spPr>
          <a:xfrm>
            <a:off x="5003640" y="1197000"/>
            <a:ext cx="28908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0">
                <a:noFill/>
              </a:ln>
              <a:blipFill rotWithShape="0">
                <a:blip r:embed="rId4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148"/>
          <p:cNvSpPr txBox="1"/>
          <p:nvPr/>
        </p:nvSpPr>
        <p:spPr>
          <a:xfrm>
            <a:off x="6516720" y="1197000"/>
            <a:ext cx="28872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0">
                <a:noFill/>
              </a:ln>
              <a:blipFill rotWithShape="0">
                <a:blip r:embed="rId4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Picture 151" descr="item_2393"/>
          <p:cNvPicPr/>
          <p:nvPr/>
        </p:nvPicPr>
        <p:blipFill>
          <a:blip r:embed="rId47"/>
          <a:stretch/>
        </p:blipFill>
        <p:spPr>
          <a:xfrm>
            <a:off x="3851280" y="4292640"/>
            <a:ext cx="1150920" cy="652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3" descr="08764">
            <a:hlinkClick r:id="rId48" action="ppaction://hlinksldjump"/>
          </p:cNvPr>
          <p:cNvPicPr/>
          <p:nvPr/>
        </p:nvPicPr>
        <p:blipFill>
          <a:blip r:embed="rId49"/>
          <a:stretch/>
        </p:blipFill>
        <p:spPr>
          <a:xfrm>
            <a:off x="7093080" y="2060640"/>
            <a:ext cx="1009440" cy="9046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54">
            <a:hlinkClick r:id="rId50" action="ppaction://hlinksldjump"/>
          </p:cNvPr>
          <p:cNvSpPr/>
          <p:nvPr/>
        </p:nvSpPr>
        <p:spPr>
          <a:xfrm>
            <a:off x="6804000" y="1989000"/>
            <a:ext cx="1513080" cy="1008360"/>
          </a:xfrm>
          <a:custGeom>
            <a:avLst/>
            <a:gdLst>
              <a:gd name="textAreaLeft" fmla="*/ 65160 w 1513080"/>
              <a:gd name="textAreaRight" fmla="*/ 1447920 w 151308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32408" h="21600">
                <a:moveTo>
                  <a:pt x="0" y="0"/>
                </a:moveTo>
                <a:lnTo>
                  <a:pt x="32408" y="0"/>
                </a:lnTo>
                <a:lnTo>
                  <a:pt x="32408" y="21600"/>
                </a:lnTo>
                <a:lnTo>
                  <a:pt x="0" y="21600"/>
                </a:lnTo>
                <a:close/>
              </a:path>
              <a:path fill="lightenLess" w="32408" h="21600">
                <a:moveTo>
                  <a:pt x="0" y="0"/>
                </a:moveTo>
                <a:lnTo>
                  <a:pt x="32408" y="0"/>
                </a:lnTo>
                <a:lnTo>
                  <a:pt x="31008" y="1400"/>
                </a:lnTo>
                <a:lnTo>
                  <a:pt x="1400" y="1400"/>
                </a:lnTo>
                <a:close/>
              </a:path>
              <a:path fill="darken" w="32408" h="21600">
                <a:moveTo>
                  <a:pt x="32408" y="0"/>
                </a:moveTo>
                <a:lnTo>
                  <a:pt x="32408" y="21600"/>
                </a:lnTo>
                <a:lnTo>
                  <a:pt x="31008" y="20200"/>
                </a:lnTo>
                <a:lnTo>
                  <a:pt x="31008" y="1400"/>
                </a:lnTo>
                <a:close/>
              </a:path>
              <a:path fill="darkenLess" w="32408" h="21600">
                <a:moveTo>
                  <a:pt x="3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8" y="20200"/>
                </a:lnTo>
                <a:close/>
              </a:path>
              <a:path fill="lighten" w="3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155">
            <a:hlinkClick r:id="rId51" action="ppaction://hlinksldjump"/>
          </p:cNvPr>
          <p:cNvSpPr/>
          <p:nvPr/>
        </p:nvSpPr>
        <p:spPr>
          <a:xfrm>
            <a:off x="6877080" y="3068640"/>
            <a:ext cx="1366920" cy="936720"/>
          </a:xfrm>
          <a:custGeom>
            <a:avLst/>
            <a:gdLst>
              <a:gd name="textAreaLeft" fmla="*/ 60480 w 1366920"/>
              <a:gd name="textAreaRight" fmla="*/ 1306440 w 13669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16" h="21600">
                <a:moveTo>
                  <a:pt x="0" y="0"/>
                </a:moveTo>
                <a:lnTo>
                  <a:pt x="31516" y="0"/>
                </a:lnTo>
                <a:lnTo>
                  <a:pt x="31516" y="21600"/>
                </a:lnTo>
                <a:lnTo>
                  <a:pt x="0" y="21600"/>
                </a:lnTo>
                <a:close/>
              </a:path>
              <a:path fill="lightenLess" w="31516" h="21600">
                <a:moveTo>
                  <a:pt x="0" y="0"/>
                </a:moveTo>
                <a:lnTo>
                  <a:pt x="31516" y="0"/>
                </a:lnTo>
                <a:lnTo>
                  <a:pt x="30116" y="1400"/>
                </a:lnTo>
                <a:lnTo>
                  <a:pt x="1400" y="1400"/>
                </a:lnTo>
                <a:close/>
              </a:path>
              <a:path fill="darken" w="31516" h="21600">
                <a:moveTo>
                  <a:pt x="31516" y="0"/>
                </a:moveTo>
                <a:lnTo>
                  <a:pt x="31516" y="21600"/>
                </a:lnTo>
                <a:lnTo>
                  <a:pt x="30116" y="20200"/>
                </a:lnTo>
                <a:lnTo>
                  <a:pt x="30116" y="1400"/>
                </a:lnTo>
                <a:close/>
              </a:path>
              <a:path fill="darkenLess" w="31516" h="21600">
                <a:moveTo>
                  <a:pt x="31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16" y="20200"/>
                </a:lnTo>
                <a:close/>
              </a:path>
              <a:path fill="lighten" w="31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156">
            <a:hlinkClick r:id="rId52" action="ppaction://hlinksldjump"/>
          </p:cNvPr>
          <p:cNvSpPr/>
          <p:nvPr/>
        </p:nvSpPr>
        <p:spPr>
          <a:xfrm>
            <a:off x="6948360" y="4149720"/>
            <a:ext cx="1295640" cy="934920"/>
          </a:xfrm>
          <a:custGeom>
            <a:avLst/>
            <a:gdLst>
              <a:gd name="textAreaLeft" fmla="*/ 60480 w 1295640"/>
              <a:gd name="textAreaRight" fmla="*/ 1235160 w 129564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9931" h="21600">
                <a:moveTo>
                  <a:pt x="0" y="0"/>
                </a:moveTo>
                <a:lnTo>
                  <a:pt x="29931" y="0"/>
                </a:lnTo>
                <a:lnTo>
                  <a:pt x="29931" y="21600"/>
                </a:lnTo>
                <a:lnTo>
                  <a:pt x="0" y="21600"/>
                </a:lnTo>
                <a:close/>
              </a:path>
              <a:path fill="lightenLess" w="29931" h="21600">
                <a:moveTo>
                  <a:pt x="0" y="0"/>
                </a:moveTo>
                <a:lnTo>
                  <a:pt x="29931" y="0"/>
                </a:lnTo>
                <a:lnTo>
                  <a:pt x="28531" y="1400"/>
                </a:lnTo>
                <a:lnTo>
                  <a:pt x="1400" y="1400"/>
                </a:lnTo>
                <a:close/>
              </a:path>
              <a:path fill="darken" w="29931" h="21600">
                <a:moveTo>
                  <a:pt x="29931" y="0"/>
                </a:moveTo>
                <a:lnTo>
                  <a:pt x="29931" y="21600"/>
                </a:lnTo>
                <a:lnTo>
                  <a:pt x="28531" y="20200"/>
                </a:lnTo>
                <a:lnTo>
                  <a:pt x="28531" y="1400"/>
                </a:lnTo>
                <a:close/>
              </a:path>
              <a:path fill="darkenLess" w="29931" h="21600">
                <a:moveTo>
                  <a:pt x="29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31" y="20200"/>
                </a:lnTo>
                <a:close/>
              </a:path>
              <a:path fill="lighten" w="29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овите и покажите все оке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3" descr="карта пол"/>
          <p:cNvPicPr/>
          <p:nvPr/>
        </p:nvPicPr>
        <p:blipFill>
          <a:blip r:embed="rId1"/>
          <a:stretch/>
        </p:blipFill>
        <p:spPr>
          <a:xfrm>
            <a:off x="0" y="1295280"/>
            <a:ext cx="8991720" cy="48816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5" descr="dr_fish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51280" y="1268280"/>
            <a:ext cx="1087560" cy="9064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137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Рисунок4"/>
          <p:cNvPicPr/>
          <p:nvPr/>
        </p:nvPicPr>
        <p:blipFill>
          <a:blip r:embed="rId1"/>
          <a:stretch/>
        </p:blipFill>
        <p:spPr>
          <a:xfrm>
            <a:off x="900000" y="836640"/>
            <a:ext cx="7086600" cy="5330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1637280" y="616104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ихий океа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7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10" descr="item_2393"/>
          <p:cNvPicPr/>
          <p:nvPr/>
        </p:nvPicPr>
        <p:blipFill>
          <a:blip r:embed="rId3"/>
          <a:stretch/>
        </p:blipFill>
        <p:spPr>
          <a:xfrm>
            <a:off x="7451640" y="0"/>
            <a:ext cx="1150920" cy="6523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лантический океан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Рисунок5"/>
          <p:cNvPicPr/>
          <p:nvPr/>
        </p:nvPicPr>
        <p:blipFill>
          <a:blip r:embed="rId1"/>
          <a:stretch/>
        </p:blipFill>
        <p:spPr>
          <a:xfrm>
            <a:off x="1066680" y="1027080"/>
            <a:ext cx="7467840" cy="583092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5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6" descr="08764"/>
          <p:cNvPicPr/>
          <p:nvPr/>
        </p:nvPicPr>
        <p:blipFill>
          <a:blip r:embed="rId3"/>
          <a:stretch/>
        </p:blipFill>
        <p:spPr>
          <a:xfrm>
            <a:off x="7812000" y="0"/>
            <a:ext cx="1009800" cy="90504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йский океан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 покажите материки, омываемые океа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Рисунок6"/>
          <p:cNvPicPr/>
          <p:nvPr/>
        </p:nvPicPr>
        <p:blipFill>
          <a:blip r:embed="rId1"/>
          <a:stretch/>
        </p:blipFill>
        <p:spPr>
          <a:xfrm>
            <a:off x="990720" y="1219320"/>
            <a:ext cx="7086600" cy="53258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5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верный Ледовитый океан. 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Рисунок7"/>
          <p:cNvPicPr/>
          <p:nvPr/>
        </p:nvPicPr>
        <p:blipFill>
          <a:blip r:embed="rId1"/>
          <a:stretch/>
        </p:blipFill>
        <p:spPr>
          <a:xfrm>
            <a:off x="1066680" y="1219320"/>
            <a:ext cx="6477120" cy="541332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24720" y="333360"/>
            <a:ext cx="936720" cy="86508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лье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кватории Тихого океана обнаружено большое количество желобов. Как вы можете объяснить этот фак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c9111ff395497bcc62fd5f53a9aa4ba0"/>
          <p:cNvPicPr/>
          <p:nvPr/>
        </p:nvPicPr>
        <p:blipFill>
          <a:blip r:embed="rId1"/>
          <a:stretch/>
        </p:blipFill>
        <p:spPr>
          <a:xfrm>
            <a:off x="6732720" y="404640"/>
            <a:ext cx="1368360" cy="79884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нем расположена знаменитая Марианская впад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4:56:41Z</dcterms:created>
  <dc:creator>Svetlana</dc:creator>
  <dc:description/>
  <dc:language>en-US</dc:language>
  <cp:lastModifiedBy>LEGION</cp:lastModifiedBy>
  <dcterms:modified xsi:type="dcterms:W3CDTF">2014-12-30T09:40:55Z</dcterms:modified>
  <cp:revision>7</cp:revision>
  <dc:subject/>
  <dc:title>Слайд 1</dc:title>
</cp:coreProperties>
</file>