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jpeg" ContentType="image/jpeg"/>
  <Override PartName="/ppt/media/image23.jpeg" ContentType="image/jpeg"/>
  <Override PartName="/ppt/media/image13.png" ContentType="image/png"/>
  <Override PartName="/ppt/media/image10.gif" ContentType="image/gif"/>
  <Override PartName="/ppt/media/image5.gif" ContentType="image/gif"/>
  <Override PartName="/ppt/media/image6.gif" ContentType="image/gif"/>
  <Override PartName="/ppt/media/image17.wmf" ContentType="image/x-wmf"/>
  <Override PartName="/ppt/media/image11.gif" ContentType="image/gif"/>
  <Override PartName="/ppt/media/image21.gif" ContentType="image/gif"/>
  <Override PartName="/ppt/media/image14.png" ContentType="image/png"/>
  <Override PartName="/ppt/media/image26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8.gif" ContentType="image/gif"/>
  <Override PartName="/ppt/media/image9.gif" ContentType="image/gif"/>
  <Override PartName="/ppt/media/image31.png" ContentType="image/png"/>
  <Override PartName="/ppt/media/image34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E4B3-7C29-4EE9-A22F-C2B4A975275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Bookman Old Style"/>
              </a:rPr>
              <a:t>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F19E-D6EC-423D-BDBE-17575A8A1B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кеана затруднено суровыми климатически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373B-A87D-4667-8972-63EE00ED9D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ывучий осколок льда в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ACBE-B579-4CC0-AA6B-CCCE77A386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течений в Атлантическом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7589-32BC-406B-BEBD-4FECB98F87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иллюстрации, расскажите о роли океанов в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1065-0494-49BC-AB30-7DEAB05D3C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ы это значи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0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18A0-1817-4915-879D-0BC6E6EED1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еса из чуд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лив Дрей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гальский за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нно-Атлантический хреб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чение Западных в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гассово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ненное кольц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 Гренла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5A79-BD1F-4AFF-A635-D983649622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меня”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°с.ш. и 65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°с.ш и 2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° ю.ш. и 75°з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°с.ш. и 30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1B49-EC24-40E5-9AF0-6DA74F21CD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 ошибки Ю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A0F5-A63A-4601-952D-E8CC9EAF00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73B6-CF1F-4D49-A44F-929DCC7519B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рской 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392-2841-4C6F-BC80-842435FED8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все 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718F-E4C0-4ABE-8B1F-02FA85FE93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B066-4884-4D2F-94B7-13C2363F7A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лантиче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6589-FE27-4356-B6B1-3C064F0C98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й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3A60-0AC2-48FF-AFAB-A25C8AE5F2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Ледовитый океан. 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E53B-AA90-49D1-B201-FC73CEFA8D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ье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EC88-0E6A-4FC6-97E5-07CE611401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расположена знаменитая Марианская впад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02D2-A9D6-4D99-8588-525FB6384D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DE1-B392-467C-A365-97589002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FF9-1C8C-4C53-8582-C769CBF2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653-F03E-45B7-A21B-6CA4E496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5C3-584B-4421-AF47-F9A8F6C5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BD59-5092-4D03-A32A-CE1D86C1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931F-09A8-4097-A974-8A001BD9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1CA1-44E8-48D9-944D-26D8EF47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2DAD-29FE-4E44-B053-7D4348F7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B974-F133-463D-9F77-CD5F1AA4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37D1-B7B5-42BD-8538-471176A3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D6FD-D74B-4D13-87D6-39FD609D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1AD-A897-4BA3-8F39-5AE7B621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2E30-F229-45C3-9788-4B788E32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456F-F95D-4372-8AEF-A7B2E5BF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A0F0-196B-4D80-8143-CB2A5828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79C1-2A2C-49F4-8A0D-FE4D49D0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BA29-67B8-4881-BADE-6735AE60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3997E-82FA-46BF-A407-3D21DD21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5B156-16F5-4378-8A91-F30F3725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C1BA8-4BED-46A4-860B-3CF3172F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4B785-CCA9-4F8C-A058-C0C14181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04C6A-51CB-4506-80CE-510FD6ED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0D1-5D8E-4A4E-B6E7-E00DB97D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9E912-6AA0-477F-A7AD-0639F792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45BB2-F825-4129-8DAC-07C63CBB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5DBA3-362C-4EA2-BC40-BE6811A1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27253-55D2-4BD9-9619-0578E5D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14DE0-65AB-4421-91E1-AE541C30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98563-B441-4F8C-8C5B-1B46B903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FDF54-D097-446C-8960-A17C47D8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486-EE30-465E-BEC2-3876122D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66B-F05C-4B8E-81B2-ED219BF0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B0B-F218-4254-8C5C-F20B075D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895-BF1E-4BC9-B752-50444131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782-5818-4999-B699-FA3210F4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7E3-188D-4BD1-8871-54D01FCA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6C67-2B38-48B1-BBAE-D80E8729E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F7D3-4954-4AC6-ACE1-A06EC950DD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83E5-34C0-4250-839B-308551CDEC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gif"/><Relationship Id="rId5" Type="http://schemas.openxmlformats.org/officeDocument/2006/relationships/slide" Target="slide10.xml"/><Relationship Id="rId6" Type="http://schemas.openxmlformats.org/officeDocument/2006/relationships/image" Target="../media/image5.gif"/><Relationship Id="rId7" Type="http://schemas.openxmlformats.org/officeDocument/2006/relationships/slide" Target="slide16.xml"/><Relationship Id="rId8" Type="http://schemas.openxmlformats.org/officeDocument/2006/relationships/image" Target="../media/image6.gif"/><Relationship Id="rId9" Type="http://schemas.openxmlformats.org/officeDocument/2006/relationships/slide" Target="slide8.xml"/><Relationship Id="rId10" Type="http://schemas.openxmlformats.org/officeDocument/2006/relationships/image" Target="../media/image7.gif"/><Relationship Id="rId11" Type="http://schemas.openxmlformats.org/officeDocument/2006/relationships/slide" Target="slide12.xml"/><Relationship Id="rId12" Type="http://schemas.openxmlformats.org/officeDocument/2006/relationships/image" Target="../media/image8.gif"/><Relationship Id="rId13" Type="http://schemas.openxmlformats.org/officeDocument/2006/relationships/slide" Target="slide19.xml"/><Relationship Id="rId14" Type="http://schemas.openxmlformats.org/officeDocument/2006/relationships/image" Target="../media/image9.gif"/><Relationship Id="rId15" Type="http://schemas.openxmlformats.org/officeDocument/2006/relationships/slide" Target="slide9.xml"/><Relationship Id="rId16" Type="http://schemas.openxmlformats.org/officeDocument/2006/relationships/image" Target="../media/image10.gif"/><Relationship Id="rId17" Type="http://schemas.openxmlformats.org/officeDocument/2006/relationships/slide" Target="slide11.xml"/><Relationship Id="rId18" Type="http://schemas.openxmlformats.org/officeDocument/2006/relationships/image" Target="../media/image11.gif"/><Relationship Id="rId19" Type="http://schemas.openxmlformats.org/officeDocument/2006/relationships/slide" Target="slide7.xml"/><Relationship Id="rId20" Type="http://schemas.openxmlformats.org/officeDocument/2006/relationships/image" Target="../media/image12.gif"/><Relationship Id="rId21" Type="http://schemas.openxmlformats.org/officeDocument/2006/relationships/slide" Target="slide14.xml"/><Relationship Id="rId22" Type="http://schemas.openxmlformats.org/officeDocument/2006/relationships/image" Target="../media/image13.png"/><Relationship Id="rId23" Type="http://schemas.openxmlformats.org/officeDocument/2006/relationships/slide" Target="slide15.xml"/><Relationship Id="rId24" Type="http://schemas.openxmlformats.org/officeDocument/2006/relationships/image" Target="../media/image14.png"/><Relationship Id="rId25" Type="http://schemas.openxmlformats.org/officeDocument/2006/relationships/slide" Target="slide5.xml"/><Relationship Id="rId26" Type="http://schemas.openxmlformats.org/officeDocument/2006/relationships/image" Target="../media/image15.gif"/><Relationship Id="rId27" Type="http://schemas.openxmlformats.org/officeDocument/2006/relationships/slide" Target="slide3.xml"/><Relationship Id="rId28" Type="http://schemas.openxmlformats.org/officeDocument/2006/relationships/image" Target="../media/image16.png"/><Relationship Id="rId29" Type="http://schemas.openxmlformats.org/officeDocument/2006/relationships/slide" Target="slide17.xml"/><Relationship Id="rId30" Type="http://schemas.openxmlformats.org/officeDocument/2006/relationships/image" Target="../media/image17.wmf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slide" Target="slide5.xml"/><Relationship Id="rId49" Type="http://schemas.openxmlformats.org/officeDocument/2006/relationships/image" Target="../media/image21.gif"/><Relationship Id="rId50" Type="http://schemas.openxmlformats.org/officeDocument/2006/relationships/slide" Target="slide5.xml"/><Relationship Id="rId51" Type="http://schemas.openxmlformats.org/officeDocument/2006/relationships/slide" Target="slide6.xml"/><Relationship Id="rId52" Type="http://schemas.openxmlformats.org/officeDocument/2006/relationships/slide" Target="slide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187280" y="260280"/>
            <a:ext cx="64803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бщ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теме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403280" y="285264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кеаны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учение океана затруднено суровыми климатическими услов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ывучий осколок льда в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но из течений в Атлантическом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иллюстрации, расскажите о роли океанов в жизн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Рисунок13"/>
          <p:cNvPicPr/>
          <p:nvPr/>
        </p:nvPicPr>
        <p:blipFill>
          <a:blip r:embed="rId1"/>
          <a:stretch/>
        </p:blipFill>
        <p:spPr>
          <a:xfrm rot="283200">
            <a:off x="4876560" y="1066320"/>
            <a:ext cx="39718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Рисунок13"/>
          <p:cNvPicPr/>
          <p:nvPr/>
        </p:nvPicPr>
        <p:blipFill>
          <a:blip r:embed="rId2"/>
          <a:stretch/>
        </p:blipFill>
        <p:spPr>
          <a:xfrm>
            <a:off x="457200" y="121932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Рисунок13"/>
          <p:cNvPicPr/>
          <p:nvPr/>
        </p:nvPicPr>
        <p:blipFill>
          <a:blip r:embed="rId3"/>
          <a:stretch/>
        </p:blipFill>
        <p:spPr>
          <a:xfrm>
            <a:off x="4648320" y="3352680"/>
            <a:ext cx="4209840" cy="3200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Рисунок13"/>
          <p:cNvPicPr/>
          <p:nvPr/>
        </p:nvPicPr>
        <p:blipFill>
          <a:blip r:embed="rId4"/>
          <a:stretch/>
        </p:blipFill>
        <p:spPr>
          <a:xfrm>
            <a:off x="685800" y="3809880"/>
            <a:ext cx="3581280" cy="26067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5493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бы это значи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1022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2da04ccf1eae7bcbb0de257a6fc54a82"/>
          <p:cNvPicPr/>
          <p:nvPr/>
        </p:nvPicPr>
        <p:blipFill>
          <a:blip r:embed="rId1"/>
          <a:stretch/>
        </p:blipFill>
        <p:spPr>
          <a:xfrm>
            <a:off x="3780000" y="5300640"/>
            <a:ext cx="1152360" cy="5238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удеса из чуд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е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ив Дре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нгальский за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нно-Атлантический хреб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Западных ве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гассово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ненное кольц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в Грен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1globemaps-med"/>
          <p:cNvPicPr/>
          <p:nvPr/>
        </p:nvPicPr>
        <p:blipFill>
          <a:blip r:embed="rId1"/>
          <a:stretch/>
        </p:blipFill>
        <p:spPr>
          <a:xfrm>
            <a:off x="6630840" y="907920"/>
            <a:ext cx="2513160" cy="1879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меня”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°с.ш. и 65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°с.ш и 2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1° ю.ш. и 75°з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°с.ш. и 30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russa"/>
          <p:cNvPicPr/>
          <p:nvPr/>
        </p:nvPicPr>
        <p:blipFill>
          <a:blip r:embed="rId1"/>
          <a:stretch/>
        </p:blipFill>
        <p:spPr>
          <a:xfrm>
            <a:off x="4716360" y="1989000"/>
            <a:ext cx="3340080" cy="213840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и ЮН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167104"/>
          <p:cNvPicPr/>
          <p:nvPr/>
        </p:nvPicPr>
        <p:blipFill>
          <a:blip r:embed="rId1"/>
          <a:stretch/>
        </p:blipFill>
        <p:spPr>
          <a:xfrm>
            <a:off x="3851280" y="1413000"/>
            <a:ext cx="1460520" cy="19429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eep"/>
          <p:cNvPicPr/>
          <p:nvPr/>
        </p:nvPicPr>
        <p:blipFill>
          <a:blip r:embed="rId1"/>
          <a:stretch/>
        </p:blipFill>
        <p:spPr>
          <a:xfrm>
            <a:off x="4095720" y="2881440"/>
            <a:ext cx="952560" cy="10951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0"/>
          <p:cNvSpPr txBox="1"/>
          <p:nvPr/>
        </p:nvSpPr>
        <p:spPr>
          <a:xfrm>
            <a:off x="179280" y="0"/>
            <a:ext cx="51134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ской бо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907920"/>
          <a:ext cx="7920000" cy="5329440"/>
        </p:xfrm>
        <a:graphic>
          <a:graphicData uri="http://schemas.openxmlformats.org/drawingml/2006/table">
            <a:tbl>
              <a:tblPr/>
              <a:tblGrid>
                <a:gridCol w="1571400"/>
                <a:gridCol w="1646280"/>
                <a:gridCol w="1497240"/>
                <a:gridCol w="1571400"/>
                <a:gridCol w="163368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114" descr="2da04ccf1eae7bcbb0de257a6fc54a8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24360" y="3357720"/>
            <a:ext cx="1152360" cy="52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5" descr="5b16d9a0e82bd3af282108e72e4e7d6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0000" y="3213000"/>
            <a:ext cx="114300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7" descr="490fb9057c4a4fa46373edc7d5d69c6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68360" y="321300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8" descr="c9111ff395497bcc62fd5f53a9aa4ba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24000" y="4292640"/>
            <a:ext cx="1368360" cy="79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9" descr="f956d4ffc91140eacef1651621b13289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08720" y="5229360"/>
            <a:ext cx="1138320" cy="703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0" descr="237d14c7cc898b80f14413849218998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 rot="2144400">
            <a:off x="4140000" y="5229360"/>
            <a:ext cx="633240" cy="106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1" descr="84502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65164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3" descr="ca4da12183cd7fa9166113dd88ae14ad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651640" y="4005360"/>
            <a:ext cx="752400" cy="1104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4" descr="062b4eccddea3a0e76c1cda9e2d0f075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948360" y="5311800"/>
            <a:ext cx="1152720" cy="66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0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164360" y="414972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3" descr="1globemaps-med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340000" y="5445000"/>
            <a:ext cx="857160" cy="641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4" descr="59df5bf31a7614ecf632d265575e0b26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7236000" y="3284640"/>
            <a:ext cx="77148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6" descr="dr_fish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3851280" y="1989000"/>
            <a:ext cx="1087560" cy="90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7" descr="штурвал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2195640" y="2060640"/>
            <a:ext cx="855360" cy="9302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38"/>
          <p:cNvSpPr txBox="1"/>
          <p:nvPr/>
        </p:nvSpPr>
        <p:spPr>
          <a:xfrm>
            <a:off x="755640" y="198900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40"/>
          <p:cNvSpPr txBox="1"/>
          <p:nvPr/>
        </p:nvSpPr>
        <p:spPr>
          <a:xfrm>
            <a:off x="826920" y="2997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41"/>
          <p:cNvSpPr txBox="1"/>
          <p:nvPr/>
        </p:nvSpPr>
        <p:spPr>
          <a:xfrm>
            <a:off x="826920" y="4005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42"/>
          <p:cNvSpPr txBox="1"/>
          <p:nvPr/>
        </p:nvSpPr>
        <p:spPr>
          <a:xfrm>
            <a:off x="900000" y="479736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43"/>
          <p:cNvSpPr txBox="1"/>
          <p:nvPr/>
        </p:nvSpPr>
        <p:spPr>
          <a:xfrm>
            <a:off x="2195640" y="112536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146"/>
          <p:cNvSpPr txBox="1"/>
          <p:nvPr/>
        </p:nvSpPr>
        <p:spPr>
          <a:xfrm>
            <a:off x="363528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47"/>
          <p:cNvSpPr txBox="1"/>
          <p:nvPr/>
        </p:nvSpPr>
        <p:spPr>
          <a:xfrm>
            <a:off x="500364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8"/>
          <p:cNvSpPr txBox="1"/>
          <p:nvPr/>
        </p:nvSpPr>
        <p:spPr>
          <a:xfrm>
            <a:off x="6516720" y="119700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0">
                <a:noFill/>
              </a:ln>
              <a:blipFill rotWithShape="0">
                <a:blip r:embed="rId4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151" descr="item_2393"/>
          <p:cNvPicPr/>
          <p:nvPr/>
        </p:nvPicPr>
        <p:blipFill>
          <a:blip r:embed="rId47"/>
          <a:stretch/>
        </p:blipFill>
        <p:spPr>
          <a:xfrm>
            <a:off x="3851280" y="4292640"/>
            <a:ext cx="1150920" cy="65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3" descr="08764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7093080" y="2060640"/>
            <a:ext cx="1009440" cy="9046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54">
            <a:hlinkClick r:id="rId50" action="ppaction://hlinksldjump"/>
          </p:cNvPr>
          <p:cNvSpPr/>
          <p:nvPr/>
        </p:nvSpPr>
        <p:spPr>
          <a:xfrm>
            <a:off x="6804000" y="1989000"/>
            <a:ext cx="1513080" cy="1008360"/>
          </a:xfrm>
          <a:custGeom>
            <a:avLst/>
            <a:gdLst>
              <a:gd name="textAreaLeft" fmla="*/ 65160 w 1513080"/>
              <a:gd name="textAreaRight" fmla="*/ 1447920 w 151308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2408" h="21600">
                <a:moveTo>
                  <a:pt x="0" y="0"/>
                </a:moveTo>
                <a:lnTo>
                  <a:pt x="32408" y="0"/>
                </a:lnTo>
                <a:lnTo>
                  <a:pt x="32408" y="21600"/>
                </a:lnTo>
                <a:lnTo>
                  <a:pt x="0" y="21600"/>
                </a:lnTo>
                <a:close/>
              </a:path>
              <a:path fill="lightenLess" w="32408" h="21600">
                <a:moveTo>
                  <a:pt x="0" y="0"/>
                </a:moveTo>
                <a:lnTo>
                  <a:pt x="32408" y="0"/>
                </a:lnTo>
                <a:lnTo>
                  <a:pt x="31008" y="1400"/>
                </a:lnTo>
                <a:lnTo>
                  <a:pt x="1400" y="1400"/>
                </a:lnTo>
                <a:close/>
              </a:path>
              <a:path fill="darken" w="32408" h="21600">
                <a:moveTo>
                  <a:pt x="32408" y="0"/>
                </a:moveTo>
                <a:lnTo>
                  <a:pt x="32408" y="21600"/>
                </a:lnTo>
                <a:lnTo>
                  <a:pt x="31008" y="20200"/>
                </a:lnTo>
                <a:lnTo>
                  <a:pt x="31008" y="1400"/>
                </a:lnTo>
                <a:close/>
              </a:path>
              <a:path fill="darkenLess" w="32408" h="21600">
                <a:moveTo>
                  <a:pt x="3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8" y="20200"/>
                </a:lnTo>
                <a:close/>
              </a:path>
              <a:path fill="lighten" w="3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55">
            <a:hlinkClick r:id="rId51" action="ppaction://hlinksldjump"/>
          </p:cNvPr>
          <p:cNvSpPr/>
          <p:nvPr/>
        </p:nvSpPr>
        <p:spPr>
          <a:xfrm>
            <a:off x="6877080" y="3068640"/>
            <a:ext cx="1366920" cy="936720"/>
          </a:xfrm>
          <a:custGeom>
            <a:avLst/>
            <a:gdLst>
              <a:gd name="textAreaLeft" fmla="*/ 60480 w 1366920"/>
              <a:gd name="textAreaRight" fmla="*/ 1306440 w 1366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16" h="21600">
                <a:moveTo>
                  <a:pt x="0" y="0"/>
                </a:moveTo>
                <a:lnTo>
                  <a:pt x="31516" y="0"/>
                </a:lnTo>
                <a:lnTo>
                  <a:pt x="31516" y="21600"/>
                </a:lnTo>
                <a:lnTo>
                  <a:pt x="0" y="21600"/>
                </a:lnTo>
                <a:close/>
              </a:path>
              <a:path fill="lightenLess" w="31516" h="21600">
                <a:moveTo>
                  <a:pt x="0" y="0"/>
                </a:moveTo>
                <a:lnTo>
                  <a:pt x="31516" y="0"/>
                </a:lnTo>
                <a:lnTo>
                  <a:pt x="30116" y="1400"/>
                </a:lnTo>
                <a:lnTo>
                  <a:pt x="1400" y="1400"/>
                </a:lnTo>
                <a:close/>
              </a:path>
              <a:path fill="darken" w="31516" h="21600">
                <a:moveTo>
                  <a:pt x="31516" y="0"/>
                </a:moveTo>
                <a:lnTo>
                  <a:pt x="31516" y="21600"/>
                </a:lnTo>
                <a:lnTo>
                  <a:pt x="30116" y="20200"/>
                </a:lnTo>
                <a:lnTo>
                  <a:pt x="30116" y="1400"/>
                </a:lnTo>
                <a:close/>
              </a:path>
              <a:path fill="darkenLess" w="31516" h="21600">
                <a:moveTo>
                  <a:pt x="31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16" y="20200"/>
                </a:lnTo>
                <a:close/>
              </a:path>
              <a:path fill="lighten" w="31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56">
            <a:hlinkClick r:id="rId52" action="ppaction://hlinksldjump"/>
          </p:cNvPr>
          <p:cNvSpPr/>
          <p:nvPr/>
        </p:nvSpPr>
        <p:spPr>
          <a:xfrm>
            <a:off x="6948360" y="4149720"/>
            <a:ext cx="1295640" cy="934920"/>
          </a:xfrm>
          <a:custGeom>
            <a:avLst/>
            <a:gdLst>
              <a:gd name="textAreaLeft" fmla="*/ 60480 w 1295640"/>
              <a:gd name="textAreaRight" fmla="*/ 1235160 w 1295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9931" h="21600">
                <a:moveTo>
                  <a:pt x="0" y="0"/>
                </a:moveTo>
                <a:lnTo>
                  <a:pt x="29931" y="0"/>
                </a:lnTo>
                <a:lnTo>
                  <a:pt x="29931" y="21600"/>
                </a:lnTo>
                <a:lnTo>
                  <a:pt x="0" y="21600"/>
                </a:lnTo>
                <a:close/>
              </a:path>
              <a:path fill="lightenLess" w="29931" h="21600">
                <a:moveTo>
                  <a:pt x="0" y="0"/>
                </a:moveTo>
                <a:lnTo>
                  <a:pt x="29931" y="0"/>
                </a:lnTo>
                <a:lnTo>
                  <a:pt x="28531" y="1400"/>
                </a:lnTo>
                <a:lnTo>
                  <a:pt x="1400" y="1400"/>
                </a:lnTo>
                <a:close/>
              </a:path>
              <a:path fill="darken" w="29931" h="21600">
                <a:moveTo>
                  <a:pt x="29931" y="0"/>
                </a:moveTo>
                <a:lnTo>
                  <a:pt x="29931" y="21600"/>
                </a:lnTo>
                <a:lnTo>
                  <a:pt x="28531" y="20200"/>
                </a:lnTo>
                <a:lnTo>
                  <a:pt x="28531" y="1400"/>
                </a:lnTo>
                <a:close/>
              </a:path>
              <a:path fill="darkenLess" w="29931" h="21600">
                <a:moveTo>
                  <a:pt x="29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1" y="20200"/>
                </a:lnTo>
                <a:close/>
              </a:path>
              <a:path fill="lighten" w="29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и покажите все оке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карта пол"/>
          <p:cNvPicPr/>
          <p:nvPr/>
        </p:nvPicPr>
        <p:blipFill>
          <a:blip r:embed="rId1"/>
          <a:stretch/>
        </p:blipFill>
        <p:spPr>
          <a:xfrm>
            <a:off x="0" y="1295280"/>
            <a:ext cx="8991720" cy="48816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dr_fish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1268280"/>
            <a:ext cx="1087560" cy="9064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Рисунок4"/>
          <p:cNvPicPr/>
          <p:nvPr/>
        </p:nvPicPr>
        <p:blipFill>
          <a:blip r:embed="rId1"/>
          <a:stretch/>
        </p:blipFill>
        <p:spPr>
          <a:xfrm>
            <a:off x="900000" y="836640"/>
            <a:ext cx="7086600" cy="5330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1637280" y="61610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ий океа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7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0" descr="item_2393"/>
          <p:cNvPicPr/>
          <p:nvPr/>
        </p:nvPicPr>
        <p:blipFill>
          <a:blip r:embed="rId3"/>
          <a:stretch/>
        </p:blipFill>
        <p:spPr>
          <a:xfrm>
            <a:off x="7451640" y="0"/>
            <a:ext cx="1150920" cy="6523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нтиче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Рисунок5"/>
          <p:cNvPicPr/>
          <p:nvPr/>
        </p:nvPicPr>
        <p:blipFill>
          <a:blip r:embed="rId1"/>
          <a:stretch/>
        </p:blipFill>
        <p:spPr>
          <a:xfrm>
            <a:off x="1066680" y="1027080"/>
            <a:ext cx="7467840" cy="5830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08764"/>
          <p:cNvPicPr/>
          <p:nvPr/>
        </p:nvPicPr>
        <p:blipFill>
          <a:blip r:embed="rId3"/>
          <a:stretch/>
        </p:blipFill>
        <p:spPr>
          <a:xfrm>
            <a:off x="7812000" y="0"/>
            <a:ext cx="1009800" cy="9050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й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Рисунок6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53258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Ледовитый океан. 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Рисунок7"/>
          <p:cNvPicPr/>
          <p:nvPr/>
        </p:nvPicPr>
        <p:blipFill>
          <a:blip r:embed="rId1"/>
          <a:stretch/>
        </p:blipFill>
        <p:spPr>
          <a:xfrm>
            <a:off x="1066680" y="1219320"/>
            <a:ext cx="6477120" cy="54133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24720" y="333360"/>
            <a:ext cx="936720" cy="8650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лье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c9111ff395497bcc62fd5f53a9aa4ba0"/>
          <p:cNvPicPr/>
          <p:nvPr/>
        </p:nvPicPr>
        <p:blipFill>
          <a:blip r:embed="rId1"/>
          <a:stretch/>
        </p:blipFill>
        <p:spPr>
          <a:xfrm>
            <a:off x="6732720" y="404640"/>
            <a:ext cx="1368360" cy="79884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ем расположена знаменитая Марианская впад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4:56:41Z</dcterms:created>
  <dc:creator>Svetlana</dc:creator>
  <dc:description/>
  <dc:language>en-US</dc:language>
  <cp:lastModifiedBy>LEGION</cp:lastModifiedBy>
  <dcterms:modified xsi:type="dcterms:W3CDTF">2014-12-30T09:40:55Z</dcterms:modified>
  <cp:revision>7</cp:revision>
  <dc:subject/>
  <dc:title>Слайд 1</dc:title>
</cp:coreProperties>
</file>