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29.gif" ContentType="image/gif"/>
  <Override PartName="/ppt/media/image13.png" ContentType="image/png"/>
  <Override PartName="/ppt/media/image8.png" ContentType="image/png"/>
  <Override PartName="/ppt/media/image28.gif" ContentType="image/gif"/>
  <Override PartName="/ppt/media/image6.jpeg" ContentType="image/jpeg"/>
  <Override PartName="/ppt/media/image10.png" ContentType="image/png"/>
  <Override PartName="/ppt/media/image4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7.gif" ContentType="image/gif"/>
  <Override PartName="/ppt/media/image24.png" ContentType="image/png"/>
  <Override PartName="/ppt/media/image23.jpeg" ContentType="image/jpeg"/>
  <Override PartName="/ppt/media/image3.gif" ContentType="image/gif"/>
  <Override PartName="/ppt/media/image21.png" ContentType="image/png"/>
  <Override PartName="/ppt/media/image18.png" ContentType="image/png"/>
  <Override PartName="/ppt/media/image26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5A90-815C-4273-B64D-6B7C9B33EE3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hyperlink" Target="http://belkamfish.com/i/kama.jpg" TargetMode="External"/><Relationship Id="rId2" Type="http://schemas.openxmlformats.org/officeDocument/2006/relationships/hyperlink" Target="http://slovari.yandex.ru/dict/bse/article/00061/08700.htm" TargetMode="External"/><Relationship Id="rId3" Type="http://schemas.openxmlformats.org/officeDocument/2006/relationships/hyperlink" Target="http://slovari.yandex.ru/dict/bse/article/00056/73100.htm?text=&#1055;&#1072;&#1074;&#1086;&#1076;&#1086;&#1082;%20-%20&#1101;&#1090;&#1086;&amp;stpar1=1.1.1" TargetMode="External"/><Relationship Id="rId4" Type="http://schemas.openxmlformats.org/officeDocument/2006/relationships/hyperlink" Target="http://slovari.yandex.ru/dict/bse/article/00046/79300.htm" TargetMode="External"/><Relationship Id="rId5" Type="http://schemas.openxmlformats.org/officeDocument/2006/relationships/hyperlink" Target="http://www.trip-guide.ru/img/341/1641.jpg" TargetMode="External"/><Relationship Id="rId6" Type="http://schemas.openxmlformats.org/officeDocument/2006/relationships/hyperlink" Target="http://images.google.ru/imgres?imgurl=http://www.ecosystema.ru/07referats/slovgeo/img/798.jpg&amp;imgrefurl=http://www.ecosystema.ru/07referats/slovgeo/798.htm&amp;usg=__f5rUtTQi8T-QFDmcsGiXq3I8F00=&amp;h=321&amp;w=600&amp;sz=19&amp;hl=ru&amp;start=4&amp;sig2=barBE1UpYs6Q8HjOWmLa7g&amp;tbnid" TargetMode="External"/><Relationship Id="rId7" Type="http://schemas.openxmlformats.org/officeDocument/2006/relationships/hyperlink" Target="http://ru.wikipedia.org/wiki/&#1060;&#1072;&#1081;&#1083;:SonghuaRiver_ASTER_20020401.jpg" TargetMode="External"/><Relationship Id="rId8" Type="http://schemas.openxmlformats.org/officeDocument/2006/relationships/hyperlink" Target="http://ru.wikipedia.org/wiki/&#1060;&#1072;&#1081;&#1083;:SonghuaRiver_ASTER_20020401.jpg" TargetMode="External"/><Relationship Id="rId9" Type="http://schemas.openxmlformats.org/officeDocument/2006/relationships/hyperlink" Target="http://ru.wikipedia.org/wiki/&#1060;&#1072;&#1081;&#1083;:SonghuaRiver_ASTER_20020401.jpg" TargetMode="External"/><Relationship Id="rId10" Type="http://schemas.openxmlformats.org/officeDocument/2006/relationships/slide" Target="../slides/slide18.xml"/><Relationship Id="rId11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31FF-43BC-4612-805C-328576FF516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Режим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еннее таяние снега на равнина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нее таяние снега и ледников в гора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ильные дожди в определённый сезон года (летние муссо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ОЛОВОДЬ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ежегодно повторяющееся в один и тот же сезон года относительно длительное и значительное увеличение водности реки, вызывающее подъём её уров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0D22-2502-476B-8240-FE21C65CBE3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вод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ое таяние снега при оттепели, ледн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ильные дожд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уски воды из водохранилищ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АВОД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сравнительно кратковременное и непериодическое поднятие уровня воды в реке, т.е. случается в любое время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6E19-FACD-41E3-9F2D-7D4BD8175D4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Режим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хая по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озная по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ность реки поддерживается главным образом грунтовым пит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МЕЖЕН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сезонное стояние низких (меженных) уровней воды в ре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E236-8C36-4E70-8FA1-3ECDA56EE0A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Равнинные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48E4-6947-4BEA-9119-F0436FA2051E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илистое рус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тарица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озеро на пойме или на нижней надпойменной террасе — участок реки, отчленившийся от основного ру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Меанд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повторяющиеся на большом протяжении долины реки изгибы ее ру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0A8B-3177-4F17-A10F-9EACDB00241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ные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BB6A-1D0F-4473-B665-9460D3FCE5F1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оги – выходы твёрдых пород, пересекающие русло и нагромождения кам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5F31-B6F0-4254-90C5-54E2F3E1DD5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ьте на контурной кар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A606-FFDE-4AFC-95EF-5452EB9D211D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мые источники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belkamfish.com/i/kama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советская энциклопедия (Яндекс-словари -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lovari.yandex.ru/dict/bse/article/00061/08700.ht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slovari.yandex.ru/dict/bse/article/00056/73100.htm?text=%D0%9F%D0%B0%D0%B2%D0%BE%D0%B4%D0%BE%D0%BA%20-%20%D1%8D%D1%82%D0%BE&amp;stpar1=1.1.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slovari.yandex.ru/dict/bse/article/00046/79300.ht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ний Новгород, река Волга – фото Александра Медведева -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trip-guide.ru/img/341/164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ий словарь -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images.google.ru/imgres?imgurl=http://www.ecosystema.ru/07referats/slovgeo/img/798.jpg&amp;imgrefurl=http://www.ecosystema.ru/07referats/slovgeo/798.htm&amp;usg=__f5rUtTQi8T-QFDmcsGiXq3I8F00=&amp;h=321&amp;w=600&amp;sz=19&amp;hl=ru&amp;start=4&amp;sig2=barBE1UpYs6Q8HjOWmLa7g&amp;tbnid=DC0wuDGGIDwsLM:&amp;tbnh=72&amp;tbnw=135&amp;prev=/images%3Fq%3D%25D0%25A1%25D1%2582%25D0%25B0%25D1%2580%25D0%25B8%25D1%2586%25D0%25B0%26hl%3Dru%26sa%3DG%26newwindow%3D1&amp;ei=QTQNSvTBK8GL_Qaqg4CaB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ru.wikipedia.org/wiki/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Файл: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SonghuaRiver_ASTER_2002040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google.ru/imgres?imgurl=http://www.panoramio.com/photos/original/3390091.jpg&amp;imgrefurl=http://www.panoramio.com/photo/3390091&amp;usg=__1iqHd-ZHawegk1T-X3xkD0cw59c=&amp;h=464&amp;w=700&amp;sz=128&amp;hl=ru&amp;start=37&amp;sig2=0EICTqzTduY09rrHhdMTNg&amp;tbnid=zefi0x4T_QrNLM:&amp;tbnh=93&amp;tbnw=140&amp;prev=/images%3Fq%3D%25D0%259C%25D0%25B5%25D0%25B0%25D0%25BD%25D0%25B4%25D1%2580%25D1%258B%2B%25D0%25BD%25D0%25B0%2B%25D1%2580%25D0%25B5%25D0%25BA%25D0%25B5%26ndsp%3D18%26hl%3Dru%26sa%3DN%26start%3D36%26newwindow%3D1&amp;ei=0zcNSrDhPMiB_AaZ4dzGB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ая энциклопедия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rgo.ru/geography/fiz_geography/slovar/meandr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g.travel.ru/images2/2006/08/object93210/280806-13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tourism.ru/docs/report/cycle/54/111/614/img/norway-08_021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ochiexplorer.ru/images/kichmai/33/800x600/kichmai5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3CA0-8FB3-4A70-BF40-922C9B44A7A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Что такое р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ка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– водный поток, текущий в выработанном им углублении, называемом – русло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0354-645E-4ED2-96A9-E7C6D58C87B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Профиль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1833-4FA2-4D6B-8337-7FE48C347C5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аздел и речной басс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аздел – это линия раздела речных бассей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ссейн реки – это площадь суши, с которой стекает вода к главной реке и ее прито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BFA5-3BAC-49B0-A226-E938A595013D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Зависимость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25FE-BD5D-4E71-9B5A-DB2E8A533AB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Питание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9C9A-0AC0-4522-BC6C-0441A83F966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Питание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4A37-37F0-43A7-A3E9-70BC5237BB6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Питание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C933-97A9-4605-B54D-D29CB02CB67D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4f1e3"/>
                </a:solidFill>
                <a:latin typeface="Calibri"/>
              </a:rPr>
              <a:t>Питание ре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8E04-86D8-427B-BB5D-6B5E5B9AE6A5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B1D3-9E83-48AC-BEA2-E8316E2E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1E80-FEA8-4B96-85BA-09298287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CD54-E330-48A9-B096-036C14676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FE58-9961-4B18-8059-2A0AB63C6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8155-9C1F-4435-85C1-419CDA4B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522D-C825-451A-8C6B-8194C962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3C88-538D-4200-8C9D-880F7F31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E52F-45C0-403B-8C12-C32778D7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7BD1-AFEB-481C-8E6B-4E25699B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6153-B29C-4656-920A-2BAD201C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B686-4AE1-4A8F-BC89-56E3EA21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688A-774F-4D5E-B26E-8FC53EC8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FA8A-5982-44E8-AD66-95650001EAAE}" type="slidenum">
              <a:rPr b="1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" Target="slide5.xml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8.gif"/><Relationship Id="rId10" Type="http://schemas.openxmlformats.org/officeDocument/2006/relationships/image" Target="../media/image28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belkamfish.com/i/kama.jpg" TargetMode="External"/><Relationship Id="rId2" Type="http://schemas.openxmlformats.org/officeDocument/2006/relationships/hyperlink" Target="http://slovari.yandex.ru/dict/bse/article/00061/08700.htm" TargetMode="External"/><Relationship Id="rId3" Type="http://schemas.openxmlformats.org/officeDocument/2006/relationships/hyperlink" Target="http://slovari.yandex.ru/dict/bse/article/00056/73100.htm?text=&#1055;&#1072;&#1074;&#1086;&#1076;&#1086;&#1082;%20-%20&#1101;&#1090;&#1086;&amp;stpar1=1.1.1" TargetMode="External"/><Relationship Id="rId4" Type="http://schemas.openxmlformats.org/officeDocument/2006/relationships/hyperlink" Target="http://slovari.yandex.ru/dict/bse/article/00046/79300.htm" TargetMode="External"/><Relationship Id="rId5" Type="http://schemas.openxmlformats.org/officeDocument/2006/relationships/hyperlink" Target="http://www.trip-guide.ru/img/341/1641.jpg" TargetMode="External"/><Relationship Id="rId6" Type="http://schemas.openxmlformats.org/officeDocument/2006/relationships/hyperlink" Target="http://images.google.ru/imgres?imgurl=http://www.ecosystema.ru/07referats/slovgeo/img/798.jpg&amp;imgrefurl=http://www.ecosystema.ru/07referats/slovgeo/798.htm&amp;usg=__f5rUtTQi8T-QFDmcsGiXq3I8F00=&amp;h=321&amp;w=600&amp;sz=19&amp;hl=ru&amp;start=4&amp;sig2=barBE1UpYs6Q8HjOWmLa7g&amp;tbnid" TargetMode="External"/><Relationship Id="rId7" Type="http://schemas.openxmlformats.org/officeDocument/2006/relationships/hyperlink" Target="http://ru.wikipedia.org/wiki/&#1060;&#1072;&#1081;&#1083;:SonghuaRiver_ASTER_20020401.jpg" TargetMode="External"/><Relationship Id="rId8" Type="http://schemas.openxmlformats.org/officeDocument/2006/relationships/hyperlink" Target="http://ru.wikipedia.org/wiki/&#1060;&#1072;&#1081;&#1083;:SonghuaRiver_ASTER_20020401.jpg" TargetMode="External"/><Relationship Id="rId9" Type="http://schemas.openxmlformats.org/officeDocument/2006/relationships/hyperlink" Target="http://ru.wikipedia.org/wiki/&#1060;&#1072;&#1081;&#1083;:SonghuaRiver_ASTER_20020401.jpg" TargetMode="External"/><Relationship Id="rId10" Type="http://schemas.openxmlformats.org/officeDocument/2006/relationships/hyperlink" Target="http://images.google.ru/imgres?imgurl=http://www.panoramio.com/photos/original/3390091.jpg&amp;imgrefurl=http://www.panoramio.com/photo/3390091&amp;usg=__1iqHd-ZHawegk1T-X3xkD0cw59c=&amp;h=464&amp;w=700&amp;sz=128&amp;hl=ru&amp;start=37&amp;sig2=0EICTqzTduY09rrHhdMTNg&amp;tbnid=zefi0x4T_QrNL" TargetMode="External"/><Relationship Id="rId11" Type="http://schemas.openxmlformats.org/officeDocument/2006/relationships/hyperlink" Target="file:///1%2580%25D0%25B5%25D0%25BA%25D0%25B5%26ndsp%3D18%26hl%3Dru%26sa%3DN%26start%3D36%26newwindow%3D1&amp;ei=0zcNSrDhPMiB_AaZ4dzGBA" TargetMode="External"/><Relationship Id="rId12" Type="http://schemas.openxmlformats.org/officeDocument/2006/relationships/hyperlink" Target="http://rgo.ru/geography/fiz_geography/slovar/meandr1" TargetMode="External"/><Relationship Id="rId13" Type="http://schemas.openxmlformats.org/officeDocument/2006/relationships/hyperlink" Target="http://img.travel.ru/images2/2006/08/object93210/280806-13.jpg" TargetMode="External"/><Relationship Id="rId14" Type="http://schemas.openxmlformats.org/officeDocument/2006/relationships/hyperlink" Target="http://www.tourism.ru/docs/report/cycle/54/111/614/img/norway-08_021.jpg" TargetMode="External"/><Relationship Id="rId15" Type="http://schemas.openxmlformats.org/officeDocument/2006/relationships/hyperlink" Target="http://www.sochiexplorer.ru/images/kichmai/33/800x600/kichmai5.jpg" TargetMode="External"/><Relationship Id="rId16" Type="http://schemas.openxmlformats.org/officeDocument/2006/relationships/image" Target="../media/image29.gi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755640" y="981000"/>
            <a:ext cx="7777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КИ</a:t>
            </a:r>
            <a:endParaRPr b="1" lang="en-US" sz="32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357200" y="5214960"/>
            <a:ext cx="64008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Кугут И.А., учитель географии 1 категории МОУ СОШ №32 «Эврика-развитие» г. Волжског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5" name="Прямоугольник 24" descr=""/>
          <p:cNvPicPr/>
          <p:nvPr/>
        </p:nvPicPr>
        <p:blipFill>
          <a:blip r:embed="rId2"/>
          <a:stretch/>
        </p:blipFill>
        <p:spPr>
          <a:xfrm>
            <a:off x="1736640" y="19080"/>
            <a:ext cx="4896000" cy="1523880"/>
          </a:xfrm>
          <a:prstGeom prst="rect">
            <a:avLst/>
          </a:prstGeom>
          <a:ln w="0">
            <a:noFill/>
          </a:ln>
        </p:spPr>
      </p:pic>
      <p:sp>
        <p:nvSpPr>
          <p:cNvPr id="276" name="Полилиния 37"/>
          <p:cNvSpPr/>
          <p:nvPr/>
        </p:nvSpPr>
        <p:spPr>
          <a:xfrm>
            <a:off x="2868480" y="4743360"/>
            <a:ext cx="1671840" cy="1373400"/>
          </a:xfrm>
          <a:custGeom>
            <a:avLst/>
            <a:gdLst/>
            <a:ahLst/>
            <a:rect l="l" t="t" r="r" b="b"/>
            <a:pathLst>
              <a:path w="1671997" h="1372821">
                <a:moveTo>
                  <a:pt x="158507" y="1662"/>
                </a:moveTo>
                <a:lnTo>
                  <a:pt x="1183266" y="17427"/>
                </a:lnTo>
                <a:cubicBezTo>
                  <a:pt x="1346261" y="17427"/>
                  <a:pt x="1509002" y="1662"/>
                  <a:pt x="1671997" y="1662"/>
                </a:cubicBezTo>
                <a:cubicBezTo>
                  <a:pt x="1666742" y="17427"/>
                  <a:pt x="1658963" y="32566"/>
                  <a:pt x="1656231" y="48958"/>
                </a:cubicBezTo>
                <a:cubicBezTo>
                  <a:pt x="1648408" y="95898"/>
                  <a:pt x="1656729" y="146125"/>
                  <a:pt x="1640466" y="190848"/>
                </a:cubicBezTo>
                <a:cubicBezTo>
                  <a:pt x="1632035" y="214033"/>
                  <a:pt x="1564930" y="231792"/>
                  <a:pt x="1545873" y="238144"/>
                </a:cubicBezTo>
                <a:cubicBezTo>
                  <a:pt x="1530107" y="248654"/>
                  <a:pt x="1510413" y="254879"/>
                  <a:pt x="1498576" y="269675"/>
                </a:cubicBezTo>
                <a:cubicBezTo>
                  <a:pt x="1488195" y="282652"/>
                  <a:pt x="1490243" y="302108"/>
                  <a:pt x="1482811" y="316972"/>
                </a:cubicBezTo>
                <a:cubicBezTo>
                  <a:pt x="1474337" y="333920"/>
                  <a:pt x="1458975" y="346954"/>
                  <a:pt x="1451280" y="364269"/>
                </a:cubicBezTo>
                <a:cubicBezTo>
                  <a:pt x="1437781" y="394641"/>
                  <a:pt x="1430259" y="427331"/>
                  <a:pt x="1419749" y="458862"/>
                </a:cubicBezTo>
                <a:lnTo>
                  <a:pt x="1356687" y="648048"/>
                </a:lnTo>
                <a:lnTo>
                  <a:pt x="1325156" y="742641"/>
                </a:lnTo>
                <a:cubicBezTo>
                  <a:pt x="1319901" y="758407"/>
                  <a:pt x="1318608" y="776111"/>
                  <a:pt x="1309390" y="789938"/>
                </a:cubicBezTo>
                <a:lnTo>
                  <a:pt x="1277859" y="837234"/>
                </a:lnTo>
                <a:lnTo>
                  <a:pt x="1230562" y="979124"/>
                </a:lnTo>
                <a:cubicBezTo>
                  <a:pt x="1225307" y="994889"/>
                  <a:pt x="1224015" y="1012593"/>
                  <a:pt x="1214797" y="1026420"/>
                </a:cubicBezTo>
                <a:cubicBezTo>
                  <a:pt x="1193776" y="1057951"/>
                  <a:pt x="1163719" y="1085062"/>
                  <a:pt x="1151735" y="1121013"/>
                </a:cubicBezTo>
                <a:cubicBezTo>
                  <a:pt x="1129977" y="1186286"/>
                  <a:pt x="1145187" y="1154483"/>
                  <a:pt x="1104438" y="1215607"/>
                </a:cubicBezTo>
                <a:cubicBezTo>
                  <a:pt x="1099183" y="1231372"/>
                  <a:pt x="1096105" y="1248039"/>
                  <a:pt x="1088673" y="1262903"/>
                </a:cubicBezTo>
                <a:cubicBezTo>
                  <a:pt x="1033715" y="1372821"/>
                  <a:pt x="1007970" y="1306688"/>
                  <a:pt x="836425" y="1294434"/>
                </a:cubicBezTo>
                <a:cubicBezTo>
                  <a:pt x="820659" y="1289179"/>
                  <a:pt x="800879" y="1290420"/>
                  <a:pt x="789128" y="1278669"/>
                </a:cubicBezTo>
                <a:cubicBezTo>
                  <a:pt x="777377" y="1266918"/>
                  <a:pt x="780794" y="1246236"/>
                  <a:pt x="773362" y="1231372"/>
                </a:cubicBezTo>
                <a:cubicBezTo>
                  <a:pt x="764888" y="1214424"/>
                  <a:pt x="752341" y="1199841"/>
                  <a:pt x="741831" y="1184075"/>
                </a:cubicBezTo>
                <a:cubicBezTo>
                  <a:pt x="696456" y="1047951"/>
                  <a:pt x="702452" y="1108931"/>
                  <a:pt x="726066" y="931827"/>
                </a:cubicBezTo>
                <a:cubicBezTo>
                  <a:pt x="729607" y="905266"/>
                  <a:pt x="734781" y="878852"/>
                  <a:pt x="741831" y="853000"/>
                </a:cubicBezTo>
                <a:cubicBezTo>
                  <a:pt x="750576" y="820935"/>
                  <a:pt x="773362" y="758407"/>
                  <a:pt x="773362" y="758407"/>
                </a:cubicBezTo>
                <a:cubicBezTo>
                  <a:pt x="740875" y="563476"/>
                  <a:pt x="774270" y="686325"/>
                  <a:pt x="741831" y="726875"/>
                </a:cubicBezTo>
                <a:cubicBezTo>
                  <a:pt x="731450" y="739852"/>
                  <a:pt x="710300" y="737386"/>
                  <a:pt x="694535" y="742641"/>
                </a:cubicBezTo>
                <a:cubicBezTo>
                  <a:pt x="632282" y="721889"/>
                  <a:pt x="663857" y="726875"/>
                  <a:pt x="599942" y="726875"/>
                </a:cubicBezTo>
                <a:cubicBezTo>
                  <a:pt x="626218" y="789937"/>
                  <a:pt x="636092" y="862715"/>
                  <a:pt x="678769" y="916062"/>
                </a:cubicBezTo>
                <a:cubicBezTo>
                  <a:pt x="690606" y="930858"/>
                  <a:pt x="723386" y="903288"/>
                  <a:pt x="726066" y="884531"/>
                </a:cubicBezTo>
                <a:cubicBezTo>
                  <a:pt x="735015" y="821886"/>
                  <a:pt x="720703" y="757764"/>
                  <a:pt x="710300" y="695344"/>
                </a:cubicBezTo>
                <a:cubicBezTo>
                  <a:pt x="704836" y="662560"/>
                  <a:pt x="706423" y="619187"/>
                  <a:pt x="678769" y="600751"/>
                </a:cubicBezTo>
                <a:lnTo>
                  <a:pt x="631473" y="569220"/>
                </a:lnTo>
                <a:lnTo>
                  <a:pt x="584176" y="427331"/>
                </a:lnTo>
                <a:cubicBezTo>
                  <a:pt x="578921" y="411565"/>
                  <a:pt x="577629" y="393861"/>
                  <a:pt x="568411" y="380034"/>
                </a:cubicBezTo>
                <a:cubicBezTo>
                  <a:pt x="557901" y="364269"/>
                  <a:pt x="544575" y="350053"/>
                  <a:pt x="536880" y="332738"/>
                </a:cubicBezTo>
                <a:cubicBezTo>
                  <a:pt x="523381" y="302366"/>
                  <a:pt x="515860" y="269675"/>
                  <a:pt x="505349" y="238144"/>
                </a:cubicBezTo>
                <a:cubicBezTo>
                  <a:pt x="500094" y="222379"/>
                  <a:pt x="498801" y="204675"/>
                  <a:pt x="489583" y="190848"/>
                </a:cubicBezTo>
                <a:lnTo>
                  <a:pt x="458052" y="143551"/>
                </a:lnTo>
                <a:cubicBezTo>
                  <a:pt x="452797" y="127786"/>
                  <a:pt x="455810" y="105914"/>
                  <a:pt x="442287" y="96255"/>
                </a:cubicBezTo>
                <a:cubicBezTo>
                  <a:pt x="381020" y="52493"/>
                  <a:pt x="203063" y="52671"/>
                  <a:pt x="158507" y="48958"/>
                </a:cubicBezTo>
                <a:lnTo>
                  <a:pt x="63914" y="17427"/>
                </a:lnTo>
                <a:cubicBezTo>
                  <a:pt x="11633" y="0"/>
                  <a:pt x="0" y="1662"/>
                  <a:pt x="32383" y="1662"/>
                </a:cubicBezTo>
              </a:path>
            </a:pathLst>
          </a:custGeom>
          <a:solidFill>
            <a:srgbClr val="33ccff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85"/>
          <p:cNvGrpSpPr/>
          <p:nvPr/>
        </p:nvGrpSpPr>
        <p:grpSpPr>
          <a:xfrm>
            <a:off x="4643280" y="3786120"/>
            <a:ext cx="1009440" cy="646200"/>
            <a:chOff x="4643280" y="3786120"/>
            <a:chExt cx="1009440" cy="646200"/>
          </a:xfrm>
        </p:grpSpPr>
        <p:sp>
          <p:nvSpPr>
            <p:cNvPr id="278" name="Oval 76"/>
            <p:cNvSpPr/>
            <p:nvPr/>
          </p:nvSpPr>
          <p:spPr>
            <a:xfrm>
              <a:off x="5074920" y="3857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77"/>
            <p:cNvSpPr/>
            <p:nvPr/>
          </p:nvSpPr>
          <p:spPr>
            <a:xfrm>
              <a:off x="5290920" y="4073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78"/>
            <p:cNvSpPr/>
            <p:nvPr/>
          </p:nvSpPr>
          <p:spPr>
            <a:xfrm>
              <a:off x="4787640" y="39304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79"/>
            <p:cNvSpPr/>
            <p:nvPr/>
          </p:nvSpPr>
          <p:spPr>
            <a:xfrm>
              <a:off x="5364000" y="3857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80"/>
            <p:cNvSpPr/>
            <p:nvPr/>
          </p:nvSpPr>
          <p:spPr>
            <a:xfrm>
              <a:off x="5003640" y="41464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81"/>
            <p:cNvSpPr/>
            <p:nvPr/>
          </p:nvSpPr>
          <p:spPr>
            <a:xfrm>
              <a:off x="4643280" y="4073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82"/>
            <p:cNvSpPr/>
            <p:nvPr/>
          </p:nvSpPr>
          <p:spPr>
            <a:xfrm>
              <a:off x="4714560" y="4289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83"/>
            <p:cNvSpPr/>
            <p:nvPr/>
          </p:nvSpPr>
          <p:spPr>
            <a:xfrm>
              <a:off x="5580000" y="3786120"/>
              <a:ext cx="7272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Полилиния 32"/>
          <p:cNvSpPr/>
          <p:nvPr/>
        </p:nvSpPr>
        <p:spPr>
          <a:xfrm flipH="1">
            <a:off x="5286240" y="3357720"/>
            <a:ext cx="1643040" cy="571320"/>
          </a:xfrm>
          <a:custGeom>
            <a:avLst/>
            <a:gdLst/>
            <a:ahLst/>
            <a:rect l="l" t="t" r="r" b="b"/>
            <a:pathLst>
              <a:path w="1954924" h="842137">
                <a:moveTo>
                  <a:pt x="157655" y="132689"/>
                </a:moveTo>
                <a:cubicBezTo>
                  <a:pt x="173421" y="122179"/>
                  <a:pt x="187637" y="108853"/>
                  <a:pt x="204952" y="101158"/>
                </a:cubicBezTo>
                <a:cubicBezTo>
                  <a:pt x="270414" y="72064"/>
                  <a:pt x="310936" y="67349"/>
                  <a:pt x="378373" y="53861"/>
                </a:cubicBezTo>
                <a:cubicBezTo>
                  <a:pt x="399394" y="43351"/>
                  <a:pt x="419833" y="31588"/>
                  <a:pt x="441435" y="22330"/>
                </a:cubicBezTo>
                <a:cubicBezTo>
                  <a:pt x="456709" y="15784"/>
                  <a:pt x="472113" y="6565"/>
                  <a:pt x="488731" y="6565"/>
                </a:cubicBezTo>
                <a:cubicBezTo>
                  <a:pt x="709511" y="6565"/>
                  <a:pt x="930166" y="17075"/>
                  <a:pt x="1150883" y="22330"/>
                </a:cubicBezTo>
                <a:cubicBezTo>
                  <a:pt x="1268313" y="100616"/>
                  <a:pt x="1124087" y="0"/>
                  <a:pt x="1245476" y="101158"/>
                </a:cubicBezTo>
                <a:cubicBezTo>
                  <a:pt x="1260032" y="113288"/>
                  <a:pt x="1274035" y="129878"/>
                  <a:pt x="1292773" y="132689"/>
                </a:cubicBezTo>
                <a:cubicBezTo>
                  <a:pt x="1381275" y="145964"/>
                  <a:pt x="1471448" y="143199"/>
                  <a:pt x="1560786" y="148454"/>
                </a:cubicBezTo>
                <a:cubicBezTo>
                  <a:pt x="1644034" y="176204"/>
                  <a:pt x="1594255" y="155001"/>
                  <a:pt x="1702676" y="227282"/>
                </a:cubicBezTo>
                <a:lnTo>
                  <a:pt x="1749973" y="258813"/>
                </a:lnTo>
                <a:lnTo>
                  <a:pt x="1797269" y="290344"/>
                </a:lnTo>
                <a:cubicBezTo>
                  <a:pt x="1819829" y="358024"/>
                  <a:pt x="1825535" y="390005"/>
                  <a:pt x="1860331" y="447999"/>
                </a:cubicBezTo>
                <a:cubicBezTo>
                  <a:pt x="1879828" y="480494"/>
                  <a:pt x="1911409" y="506641"/>
                  <a:pt x="1923393" y="542592"/>
                </a:cubicBezTo>
                <a:lnTo>
                  <a:pt x="1954924" y="637185"/>
                </a:lnTo>
                <a:cubicBezTo>
                  <a:pt x="1949669" y="673971"/>
                  <a:pt x="1949837" y="711951"/>
                  <a:pt x="1939159" y="747544"/>
                </a:cubicBezTo>
                <a:cubicBezTo>
                  <a:pt x="1915794" y="825428"/>
                  <a:pt x="1852355" y="802753"/>
                  <a:pt x="1781504" y="826371"/>
                </a:cubicBezTo>
                <a:lnTo>
                  <a:pt x="1734207" y="842137"/>
                </a:lnTo>
                <a:cubicBezTo>
                  <a:pt x="1718442" y="831627"/>
                  <a:pt x="1705438" y="814576"/>
                  <a:pt x="1686911" y="810606"/>
                </a:cubicBezTo>
                <a:cubicBezTo>
                  <a:pt x="1430299" y="755617"/>
                  <a:pt x="1596494" y="823210"/>
                  <a:pt x="1434662" y="779075"/>
                </a:cubicBezTo>
                <a:cubicBezTo>
                  <a:pt x="1402597" y="770330"/>
                  <a:pt x="1373049" y="751667"/>
                  <a:pt x="1340069" y="747544"/>
                </a:cubicBezTo>
                <a:cubicBezTo>
                  <a:pt x="1298028" y="742289"/>
                  <a:pt x="1255737" y="738743"/>
                  <a:pt x="1213945" y="731778"/>
                </a:cubicBezTo>
                <a:cubicBezTo>
                  <a:pt x="1154791" y="721919"/>
                  <a:pt x="1156076" y="715244"/>
                  <a:pt x="1103586" y="700247"/>
                </a:cubicBezTo>
                <a:cubicBezTo>
                  <a:pt x="1082752" y="694294"/>
                  <a:pt x="1061676" y="689182"/>
                  <a:pt x="1040524" y="684482"/>
                </a:cubicBezTo>
                <a:cubicBezTo>
                  <a:pt x="1014366" y="678669"/>
                  <a:pt x="987363" y="676416"/>
                  <a:pt x="961697" y="668716"/>
                </a:cubicBezTo>
                <a:cubicBezTo>
                  <a:pt x="849612" y="635090"/>
                  <a:pt x="914825" y="630794"/>
                  <a:pt x="788276" y="621420"/>
                </a:cubicBezTo>
                <a:cubicBezTo>
                  <a:pt x="678094" y="613258"/>
                  <a:pt x="567559" y="610909"/>
                  <a:pt x="457200" y="605654"/>
                </a:cubicBezTo>
                <a:cubicBezTo>
                  <a:pt x="298233" y="552666"/>
                  <a:pt x="544827" y="633519"/>
                  <a:pt x="346842" y="574123"/>
                </a:cubicBezTo>
                <a:cubicBezTo>
                  <a:pt x="315007" y="564572"/>
                  <a:pt x="283780" y="553102"/>
                  <a:pt x="252249" y="542592"/>
                </a:cubicBezTo>
                <a:lnTo>
                  <a:pt x="204952" y="526827"/>
                </a:lnTo>
                <a:lnTo>
                  <a:pt x="157655" y="511061"/>
                </a:lnTo>
                <a:cubicBezTo>
                  <a:pt x="141890" y="495296"/>
                  <a:pt x="122726" y="482316"/>
                  <a:pt x="110359" y="463765"/>
                </a:cubicBezTo>
                <a:cubicBezTo>
                  <a:pt x="101141" y="449938"/>
                  <a:pt x="102025" y="431332"/>
                  <a:pt x="94593" y="416468"/>
                </a:cubicBezTo>
                <a:cubicBezTo>
                  <a:pt x="86119" y="399520"/>
                  <a:pt x="73572" y="384937"/>
                  <a:pt x="63062" y="369171"/>
                </a:cubicBezTo>
                <a:cubicBezTo>
                  <a:pt x="26276" y="258812"/>
                  <a:pt x="0" y="285088"/>
                  <a:pt x="78828" y="258813"/>
                </a:cubicBezTo>
                <a:cubicBezTo>
                  <a:pt x="154257" y="145669"/>
                  <a:pt x="115094" y="191016"/>
                  <a:pt x="189186" y="116923"/>
                </a:cubicBezTo>
                <a:cubicBezTo>
                  <a:pt x="207302" y="62576"/>
                  <a:pt x="193202" y="81378"/>
                  <a:pt x="220717" y="53861"/>
                </a:cubicBezTo>
              </a:path>
            </a:pathLst>
          </a:custGeom>
          <a:solidFill>
            <a:srgbClr val="00b0f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олилиния 33"/>
          <p:cNvSpPr/>
          <p:nvPr/>
        </p:nvSpPr>
        <p:spPr>
          <a:xfrm>
            <a:off x="500040" y="357120"/>
            <a:ext cx="1071720" cy="3198960"/>
          </a:xfrm>
          <a:custGeom>
            <a:avLst/>
            <a:gdLst/>
            <a:ahLst/>
            <a:rect l="l" t="t" r="r" b="b"/>
            <a:pathLst>
              <a:path w="1954924" h="842137">
                <a:moveTo>
                  <a:pt x="157655" y="132689"/>
                </a:moveTo>
                <a:cubicBezTo>
                  <a:pt x="173421" y="122179"/>
                  <a:pt x="187637" y="108853"/>
                  <a:pt x="204952" y="101158"/>
                </a:cubicBezTo>
                <a:cubicBezTo>
                  <a:pt x="270414" y="72064"/>
                  <a:pt x="310936" y="67349"/>
                  <a:pt x="378373" y="53861"/>
                </a:cubicBezTo>
                <a:cubicBezTo>
                  <a:pt x="399394" y="43351"/>
                  <a:pt x="419833" y="31588"/>
                  <a:pt x="441435" y="22330"/>
                </a:cubicBezTo>
                <a:cubicBezTo>
                  <a:pt x="456709" y="15784"/>
                  <a:pt x="472113" y="6565"/>
                  <a:pt x="488731" y="6565"/>
                </a:cubicBezTo>
                <a:cubicBezTo>
                  <a:pt x="709511" y="6565"/>
                  <a:pt x="930166" y="17075"/>
                  <a:pt x="1150883" y="22330"/>
                </a:cubicBezTo>
                <a:cubicBezTo>
                  <a:pt x="1268313" y="100616"/>
                  <a:pt x="1124087" y="0"/>
                  <a:pt x="1245476" y="101158"/>
                </a:cubicBezTo>
                <a:cubicBezTo>
                  <a:pt x="1260032" y="113288"/>
                  <a:pt x="1274035" y="129878"/>
                  <a:pt x="1292773" y="132689"/>
                </a:cubicBezTo>
                <a:cubicBezTo>
                  <a:pt x="1381275" y="145964"/>
                  <a:pt x="1471448" y="143199"/>
                  <a:pt x="1560786" y="148454"/>
                </a:cubicBezTo>
                <a:cubicBezTo>
                  <a:pt x="1644034" y="176204"/>
                  <a:pt x="1594255" y="155001"/>
                  <a:pt x="1702676" y="227282"/>
                </a:cubicBezTo>
                <a:lnTo>
                  <a:pt x="1749973" y="258813"/>
                </a:lnTo>
                <a:lnTo>
                  <a:pt x="1797269" y="290344"/>
                </a:lnTo>
                <a:cubicBezTo>
                  <a:pt x="1819829" y="358024"/>
                  <a:pt x="1825535" y="390005"/>
                  <a:pt x="1860331" y="447999"/>
                </a:cubicBezTo>
                <a:cubicBezTo>
                  <a:pt x="1879828" y="480494"/>
                  <a:pt x="1911409" y="506641"/>
                  <a:pt x="1923393" y="542592"/>
                </a:cubicBezTo>
                <a:lnTo>
                  <a:pt x="1954924" y="637185"/>
                </a:lnTo>
                <a:cubicBezTo>
                  <a:pt x="1949669" y="673971"/>
                  <a:pt x="1949837" y="711951"/>
                  <a:pt x="1939159" y="747544"/>
                </a:cubicBezTo>
                <a:cubicBezTo>
                  <a:pt x="1915794" y="825428"/>
                  <a:pt x="1852355" y="802753"/>
                  <a:pt x="1781504" y="826371"/>
                </a:cubicBezTo>
                <a:lnTo>
                  <a:pt x="1734207" y="842137"/>
                </a:lnTo>
                <a:cubicBezTo>
                  <a:pt x="1718442" y="831627"/>
                  <a:pt x="1705438" y="814576"/>
                  <a:pt x="1686911" y="810606"/>
                </a:cubicBezTo>
                <a:cubicBezTo>
                  <a:pt x="1430299" y="755617"/>
                  <a:pt x="1596494" y="823210"/>
                  <a:pt x="1434662" y="779075"/>
                </a:cubicBezTo>
                <a:cubicBezTo>
                  <a:pt x="1402597" y="770330"/>
                  <a:pt x="1373049" y="751667"/>
                  <a:pt x="1340069" y="747544"/>
                </a:cubicBezTo>
                <a:cubicBezTo>
                  <a:pt x="1298028" y="742289"/>
                  <a:pt x="1255737" y="738743"/>
                  <a:pt x="1213945" y="731778"/>
                </a:cubicBezTo>
                <a:cubicBezTo>
                  <a:pt x="1154791" y="721919"/>
                  <a:pt x="1156076" y="715244"/>
                  <a:pt x="1103586" y="700247"/>
                </a:cubicBezTo>
                <a:cubicBezTo>
                  <a:pt x="1082752" y="694294"/>
                  <a:pt x="1061676" y="689182"/>
                  <a:pt x="1040524" y="684482"/>
                </a:cubicBezTo>
                <a:cubicBezTo>
                  <a:pt x="1014366" y="678669"/>
                  <a:pt x="987363" y="676416"/>
                  <a:pt x="961697" y="668716"/>
                </a:cubicBezTo>
                <a:cubicBezTo>
                  <a:pt x="849612" y="635090"/>
                  <a:pt x="914825" y="630794"/>
                  <a:pt x="788276" y="621420"/>
                </a:cubicBezTo>
                <a:cubicBezTo>
                  <a:pt x="678094" y="613258"/>
                  <a:pt x="567559" y="610909"/>
                  <a:pt x="457200" y="605654"/>
                </a:cubicBezTo>
                <a:cubicBezTo>
                  <a:pt x="298233" y="552666"/>
                  <a:pt x="544827" y="633519"/>
                  <a:pt x="346842" y="574123"/>
                </a:cubicBezTo>
                <a:cubicBezTo>
                  <a:pt x="315007" y="564572"/>
                  <a:pt x="283780" y="553102"/>
                  <a:pt x="252249" y="542592"/>
                </a:cubicBezTo>
                <a:lnTo>
                  <a:pt x="204952" y="526827"/>
                </a:lnTo>
                <a:lnTo>
                  <a:pt x="157655" y="511061"/>
                </a:lnTo>
                <a:cubicBezTo>
                  <a:pt x="141890" y="495296"/>
                  <a:pt x="122726" y="482316"/>
                  <a:pt x="110359" y="463765"/>
                </a:cubicBezTo>
                <a:cubicBezTo>
                  <a:pt x="101141" y="449938"/>
                  <a:pt x="102025" y="431332"/>
                  <a:pt x="94593" y="416468"/>
                </a:cubicBezTo>
                <a:cubicBezTo>
                  <a:pt x="86119" y="399520"/>
                  <a:pt x="73572" y="384937"/>
                  <a:pt x="63062" y="369171"/>
                </a:cubicBezTo>
                <a:cubicBezTo>
                  <a:pt x="26276" y="258812"/>
                  <a:pt x="0" y="285088"/>
                  <a:pt x="78828" y="258813"/>
                </a:cubicBezTo>
                <a:cubicBezTo>
                  <a:pt x="154257" y="145669"/>
                  <a:pt x="115094" y="191016"/>
                  <a:pt x="189186" y="116923"/>
                </a:cubicBezTo>
                <a:cubicBezTo>
                  <a:pt x="207302" y="62576"/>
                  <a:pt x="193202" y="81378"/>
                  <a:pt x="220717" y="53861"/>
                </a:cubicBezTo>
              </a:path>
            </a:pathLst>
          </a:custGeom>
          <a:solidFill>
            <a:srgbClr val="00b0f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85"/>
          <p:cNvGrpSpPr/>
          <p:nvPr/>
        </p:nvGrpSpPr>
        <p:grpSpPr>
          <a:xfrm>
            <a:off x="1473840" y="3114720"/>
            <a:ext cx="1099800" cy="676080"/>
            <a:chOff x="1473840" y="3114720"/>
            <a:chExt cx="1099800" cy="676080"/>
          </a:xfrm>
        </p:grpSpPr>
        <p:sp>
          <p:nvSpPr>
            <p:cNvPr id="289" name="Oval 76"/>
            <p:cNvSpPr/>
            <p:nvPr/>
          </p:nvSpPr>
          <p:spPr>
            <a:xfrm rot="2980200">
              <a:off x="2077560" y="33066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77"/>
            <p:cNvSpPr/>
            <p:nvPr/>
          </p:nvSpPr>
          <p:spPr>
            <a:xfrm rot="2980200">
              <a:off x="2052720" y="361116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78"/>
            <p:cNvSpPr/>
            <p:nvPr/>
          </p:nvSpPr>
          <p:spPr>
            <a:xfrm rot="2980200">
              <a:off x="1836000" y="31348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79"/>
            <p:cNvSpPr/>
            <p:nvPr/>
          </p:nvSpPr>
          <p:spPr>
            <a:xfrm rot="2980200">
              <a:off x="2264760" y="352692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80"/>
            <p:cNvSpPr/>
            <p:nvPr/>
          </p:nvSpPr>
          <p:spPr>
            <a:xfrm rot="2980200">
              <a:off x="1811160" y="343944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81"/>
            <p:cNvSpPr/>
            <p:nvPr/>
          </p:nvSpPr>
          <p:spPr>
            <a:xfrm rot="2980200">
              <a:off x="1633680" y="311724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82"/>
            <p:cNvSpPr/>
            <p:nvPr/>
          </p:nvSpPr>
          <p:spPr>
            <a:xfrm rot="2980200">
              <a:off x="1515240" y="331164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83"/>
            <p:cNvSpPr/>
            <p:nvPr/>
          </p:nvSpPr>
          <p:spPr>
            <a:xfrm rot="2980200">
              <a:off x="2459160" y="3645000"/>
              <a:ext cx="7272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Box 48"/>
          <p:cNvSpPr/>
          <p:nvPr/>
        </p:nvSpPr>
        <p:spPr>
          <a:xfrm>
            <a:off x="2214720" y="1000080"/>
            <a:ext cx="58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оводь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49"/>
          <p:cNvSpPr/>
          <p:nvPr/>
        </p:nvSpPr>
        <p:spPr>
          <a:xfrm>
            <a:off x="1928880" y="1428840"/>
            <a:ext cx="700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ы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сеннее таяние снега на равнинах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тнее таяние снега и ледников в горах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ильные дожди в определённый сезон года (летние муссоны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50"/>
          <p:cNvSpPr/>
          <p:nvPr/>
        </p:nvSpPr>
        <p:spPr>
          <a:xfrm>
            <a:off x="0" y="52880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ПОЛОВОДЬ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ежегодно повторяющееся в один и тот же сезон года относительно длительное и значительное увеличение водности реки, вызывающее подъём её уровн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nodeType="clickEffect" fill="hold">
                      <p:stCondLst>
                        <p:cond delay="0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59259E-006 C -0.00694 0.00463 -0.01493 0.00949 -0.01979 0.01435 C -0.02274 0.01736 -0.02569 0.0206 -0.02969 0.02385 C -0.03559 0.02847 -0.04253 0.03334 -0.0493 0.0382 C -0.05226 0.04051 -0.0592 0.04537 -0.0592 0.0456 C -0.0651 0.07917 -0.05816 0.10695 -0.11823 0.13635 E">
                                      <p:cBhvr>
                                        <p:cTn id="1098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81481E-006 C 0.01042 0.00741 0.02257 0.01482 0.03004 0.02223 C 0.03455 0.02686 0.03906 0.03172 0.04514 0.03658 C 0.05417 0.04399 0.06476 0.05139 0.07535 0.0588 C 0.07986 0.0625 0.09045 0.06991 0.09045 0.07038 C 0.09948 0.122 0.08889 0.16459 0.18108 0.20996 E">
                                      <p:cBhvr>
                                        <p:cTn id="1108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7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8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9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1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nodeType="afterEffect" fill="hold">
                            <p:stCondLst>
                              <p:cond delay="10900"/>
                            </p:stCondLst>
                            <p:childTnLst>
                              <p:par>
                                <p:cTn id="1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7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1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1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11900"/>
                            </p:stCondLst>
                            <p:childTnLst>
                              <p:par>
                                <p:cTn id="1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11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9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Прямоугольник 24" descr=""/>
          <p:cNvPicPr/>
          <p:nvPr/>
        </p:nvPicPr>
        <p:blipFill>
          <a:blip r:embed="rId2"/>
          <a:stretch/>
        </p:blipFill>
        <p:spPr>
          <a:xfrm>
            <a:off x="1736640" y="19080"/>
            <a:ext cx="4896000" cy="1523880"/>
          </a:xfrm>
          <a:prstGeom prst="rect">
            <a:avLst/>
          </a:prstGeom>
          <a:ln w="0">
            <a:noFill/>
          </a:ln>
        </p:spPr>
      </p:pic>
      <p:sp>
        <p:nvSpPr>
          <p:cNvPr id="303" name="Полилиния 37"/>
          <p:cNvSpPr/>
          <p:nvPr/>
        </p:nvSpPr>
        <p:spPr>
          <a:xfrm>
            <a:off x="2868480" y="4743360"/>
            <a:ext cx="1671840" cy="1373400"/>
          </a:xfrm>
          <a:custGeom>
            <a:avLst/>
            <a:gdLst/>
            <a:ahLst/>
            <a:rect l="l" t="t" r="r" b="b"/>
            <a:pathLst>
              <a:path w="1671997" h="1372821">
                <a:moveTo>
                  <a:pt x="158507" y="1662"/>
                </a:moveTo>
                <a:lnTo>
                  <a:pt x="1183266" y="17427"/>
                </a:lnTo>
                <a:cubicBezTo>
                  <a:pt x="1346261" y="17427"/>
                  <a:pt x="1509002" y="1662"/>
                  <a:pt x="1671997" y="1662"/>
                </a:cubicBezTo>
                <a:cubicBezTo>
                  <a:pt x="1666742" y="17427"/>
                  <a:pt x="1658963" y="32566"/>
                  <a:pt x="1656231" y="48958"/>
                </a:cubicBezTo>
                <a:cubicBezTo>
                  <a:pt x="1648408" y="95898"/>
                  <a:pt x="1656729" y="146125"/>
                  <a:pt x="1640466" y="190848"/>
                </a:cubicBezTo>
                <a:cubicBezTo>
                  <a:pt x="1632035" y="214033"/>
                  <a:pt x="1564930" y="231792"/>
                  <a:pt x="1545873" y="238144"/>
                </a:cubicBezTo>
                <a:cubicBezTo>
                  <a:pt x="1530107" y="248654"/>
                  <a:pt x="1510413" y="254879"/>
                  <a:pt x="1498576" y="269675"/>
                </a:cubicBezTo>
                <a:cubicBezTo>
                  <a:pt x="1488195" y="282652"/>
                  <a:pt x="1490243" y="302108"/>
                  <a:pt x="1482811" y="316972"/>
                </a:cubicBezTo>
                <a:cubicBezTo>
                  <a:pt x="1474337" y="333920"/>
                  <a:pt x="1458975" y="346954"/>
                  <a:pt x="1451280" y="364269"/>
                </a:cubicBezTo>
                <a:cubicBezTo>
                  <a:pt x="1437781" y="394641"/>
                  <a:pt x="1430259" y="427331"/>
                  <a:pt x="1419749" y="458862"/>
                </a:cubicBezTo>
                <a:lnTo>
                  <a:pt x="1356687" y="648048"/>
                </a:lnTo>
                <a:lnTo>
                  <a:pt x="1325156" y="742641"/>
                </a:lnTo>
                <a:cubicBezTo>
                  <a:pt x="1319901" y="758407"/>
                  <a:pt x="1318608" y="776111"/>
                  <a:pt x="1309390" y="789938"/>
                </a:cubicBezTo>
                <a:lnTo>
                  <a:pt x="1277859" y="837234"/>
                </a:lnTo>
                <a:lnTo>
                  <a:pt x="1230562" y="979124"/>
                </a:lnTo>
                <a:cubicBezTo>
                  <a:pt x="1225307" y="994889"/>
                  <a:pt x="1224015" y="1012593"/>
                  <a:pt x="1214797" y="1026420"/>
                </a:cubicBezTo>
                <a:cubicBezTo>
                  <a:pt x="1193776" y="1057951"/>
                  <a:pt x="1163719" y="1085062"/>
                  <a:pt x="1151735" y="1121013"/>
                </a:cubicBezTo>
                <a:cubicBezTo>
                  <a:pt x="1129977" y="1186286"/>
                  <a:pt x="1145187" y="1154483"/>
                  <a:pt x="1104438" y="1215607"/>
                </a:cubicBezTo>
                <a:cubicBezTo>
                  <a:pt x="1099183" y="1231372"/>
                  <a:pt x="1096105" y="1248039"/>
                  <a:pt x="1088673" y="1262903"/>
                </a:cubicBezTo>
                <a:cubicBezTo>
                  <a:pt x="1033715" y="1372821"/>
                  <a:pt x="1007970" y="1306688"/>
                  <a:pt x="836425" y="1294434"/>
                </a:cubicBezTo>
                <a:cubicBezTo>
                  <a:pt x="820659" y="1289179"/>
                  <a:pt x="800879" y="1290420"/>
                  <a:pt x="789128" y="1278669"/>
                </a:cubicBezTo>
                <a:cubicBezTo>
                  <a:pt x="777377" y="1266918"/>
                  <a:pt x="780794" y="1246236"/>
                  <a:pt x="773362" y="1231372"/>
                </a:cubicBezTo>
                <a:cubicBezTo>
                  <a:pt x="764888" y="1214424"/>
                  <a:pt x="752341" y="1199841"/>
                  <a:pt x="741831" y="1184075"/>
                </a:cubicBezTo>
                <a:cubicBezTo>
                  <a:pt x="696456" y="1047951"/>
                  <a:pt x="702452" y="1108931"/>
                  <a:pt x="726066" y="931827"/>
                </a:cubicBezTo>
                <a:cubicBezTo>
                  <a:pt x="729607" y="905266"/>
                  <a:pt x="734781" y="878852"/>
                  <a:pt x="741831" y="853000"/>
                </a:cubicBezTo>
                <a:cubicBezTo>
                  <a:pt x="750576" y="820935"/>
                  <a:pt x="773362" y="758407"/>
                  <a:pt x="773362" y="758407"/>
                </a:cubicBezTo>
                <a:cubicBezTo>
                  <a:pt x="740875" y="563476"/>
                  <a:pt x="774270" y="686325"/>
                  <a:pt x="741831" y="726875"/>
                </a:cubicBezTo>
                <a:cubicBezTo>
                  <a:pt x="731450" y="739852"/>
                  <a:pt x="710300" y="737386"/>
                  <a:pt x="694535" y="742641"/>
                </a:cubicBezTo>
                <a:cubicBezTo>
                  <a:pt x="632282" y="721889"/>
                  <a:pt x="663857" y="726875"/>
                  <a:pt x="599942" y="726875"/>
                </a:cubicBezTo>
                <a:cubicBezTo>
                  <a:pt x="626218" y="789937"/>
                  <a:pt x="636092" y="862715"/>
                  <a:pt x="678769" y="916062"/>
                </a:cubicBezTo>
                <a:cubicBezTo>
                  <a:pt x="690606" y="930858"/>
                  <a:pt x="723386" y="903288"/>
                  <a:pt x="726066" y="884531"/>
                </a:cubicBezTo>
                <a:cubicBezTo>
                  <a:pt x="735015" y="821886"/>
                  <a:pt x="720703" y="757764"/>
                  <a:pt x="710300" y="695344"/>
                </a:cubicBezTo>
                <a:cubicBezTo>
                  <a:pt x="704836" y="662560"/>
                  <a:pt x="706423" y="619187"/>
                  <a:pt x="678769" y="600751"/>
                </a:cubicBezTo>
                <a:lnTo>
                  <a:pt x="631473" y="569220"/>
                </a:lnTo>
                <a:lnTo>
                  <a:pt x="584176" y="427331"/>
                </a:lnTo>
                <a:cubicBezTo>
                  <a:pt x="578921" y="411565"/>
                  <a:pt x="577629" y="393861"/>
                  <a:pt x="568411" y="380034"/>
                </a:cubicBezTo>
                <a:cubicBezTo>
                  <a:pt x="557901" y="364269"/>
                  <a:pt x="544575" y="350053"/>
                  <a:pt x="536880" y="332738"/>
                </a:cubicBezTo>
                <a:cubicBezTo>
                  <a:pt x="523381" y="302366"/>
                  <a:pt x="515860" y="269675"/>
                  <a:pt x="505349" y="238144"/>
                </a:cubicBezTo>
                <a:cubicBezTo>
                  <a:pt x="500094" y="222379"/>
                  <a:pt x="498801" y="204675"/>
                  <a:pt x="489583" y="190848"/>
                </a:cubicBezTo>
                <a:lnTo>
                  <a:pt x="458052" y="143551"/>
                </a:lnTo>
                <a:cubicBezTo>
                  <a:pt x="452797" y="127786"/>
                  <a:pt x="455810" y="105914"/>
                  <a:pt x="442287" y="96255"/>
                </a:cubicBezTo>
                <a:cubicBezTo>
                  <a:pt x="381020" y="52493"/>
                  <a:pt x="203063" y="52671"/>
                  <a:pt x="158507" y="48958"/>
                </a:cubicBezTo>
                <a:lnTo>
                  <a:pt x="63914" y="17427"/>
                </a:lnTo>
                <a:cubicBezTo>
                  <a:pt x="11633" y="0"/>
                  <a:pt x="0" y="1662"/>
                  <a:pt x="32383" y="1662"/>
                </a:cubicBezTo>
              </a:path>
            </a:pathLst>
          </a:custGeom>
          <a:solidFill>
            <a:srgbClr val="33ccff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78"/>
          <p:cNvSpPr/>
          <p:nvPr/>
        </p:nvSpPr>
        <p:spPr>
          <a:xfrm>
            <a:off x="2214720" y="1071720"/>
            <a:ext cx="58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вод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79"/>
          <p:cNvSpPr/>
          <p:nvPr/>
        </p:nvSpPr>
        <p:spPr>
          <a:xfrm>
            <a:off x="1714680" y="1571760"/>
            <a:ext cx="7000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ы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ыстрое таяние снега при оттепели, ледников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ильные дожди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пуски воды из водохранилищ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Овал 110"/>
          <p:cNvSpPr/>
          <p:nvPr/>
        </p:nvSpPr>
        <p:spPr>
          <a:xfrm>
            <a:off x="1857240" y="178596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Овал 111"/>
          <p:cNvSpPr/>
          <p:nvPr/>
        </p:nvSpPr>
        <p:spPr>
          <a:xfrm>
            <a:off x="2428920" y="17859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Овал 112"/>
          <p:cNvSpPr/>
          <p:nvPr/>
        </p:nvSpPr>
        <p:spPr>
          <a:xfrm>
            <a:off x="2928960" y="17859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Овал 113"/>
          <p:cNvSpPr/>
          <p:nvPr/>
        </p:nvSpPr>
        <p:spPr>
          <a:xfrm>
            <a:off x="2286000" y="235728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Овал 114"/>
          <p:cNvSpPr/>
          <p:nvPr/>
        </p:nvSpPr>
        <p:spPr>
          <a:xfrm>
            <a:off x="2857680" y="235728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Овал 115"/>
          <p:cNvSpPr/>
          <p:nvPr/>
        </p:nvSpPr>
        <p:spPr>
          <a:xfrm>
            <a:off x="3357720" y="235728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25"/>
          <p:cNvSpPr/>
          <p:nvPr/>
        </p:nvSpPr>
        <p:spPr>
          <a:xfrm>
            <a:off x="2571840" y="30002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26"/>
          <p:cNvSpPr/>
          <p:nvPr/>
        </p:nvSpPr>
        <p:spPr>
          <a:xfrm>
            <a:off x="3143160" y="300024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Овал 127"/>
          <p:cNvSpPr/>
          <p:nvPr/>
        </p:nvSpPr>
        <p:spPr>
          <a:xfrm>
            <a:off x="3643200" y="300024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Овал 128"/>
          <p:cNvSpPr/>
          <p:nvPr/>
        </p:nvSpPr>
        <p:spPr>
          <a:xfrm>
            <a:off x="3000240" y="364320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Овал 129"/>
          <p:cNvSpPr/>
          <p:nvPr/>
        </p:nvSpPr>
        <p:spPr>
          <a:xfrm>
            <a:off x="3571920" y="364320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Овал 130"/>
          <p:cNvSpPr/>
          <p:nvPr/>
        </p:nvSpPr>
        <p:spPr>
          <a:xfrm>
            <a:off x="4071960" y="364320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Овал 131"/>
          <p:cNvSpPr/>
          <p:nvPr/>
        </p:nvSpPr>
        <p:spPr>
          <a:xfrm>
            <a:off x="3643200" y="457200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Овал 132"/>
          <p:cNvSpPr/>
          <p:nvPr/>
        </p:nvSpPr>
        <p:spPr>
          <a:xfrm>
            <a:off x="4214880" y="457200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Овал 133"/>
          <p:cNvSpPr/>
          <p:nvPr/>
        </p:nvSpPr>
        <p:spPr>
          <a:xfrm>
            <a:off x="4714920" y="457200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олилиния 137"/>
          <p:cNvSpPr/>
          <p:nvPr/>
        </p:nvSpPr>
        <p:spPr>
          <a:xfrm>
            <a:off x="0" y="1000080"/>
            <a:ext cx="1428840" cy="606600"/>
          </a:xfrm>
          <a:custGeom>
            <a:avLst/>
            <a:gdLst/>
            <a:ahLst/>
            <a:rect l="l" t="t" r="r" b="b"/>
            <a:pathLst>
              <a:path w="2770331" h="677917">
                <a:moveTo>
                  <a:pt x="176092" y="63062"/>
                </a:moveTo>
                <a:lnTo>
                  <a:pt x="317982" y="15766"/>
                </a:lnTo>
                <a:lnTo>
                  <a:pt x="365279" y="0"/>
                </a:lnTo>
                <a:cubicBezTo>
                  <a:pt x="438851" y="5255"/>
                  <a:pt x="513052" y="4824"/>
                  <a:pt x="585996" y="15766"/>
                </a:cubicBezTo>
                <a:cubicBezTo>
                  <a:pt x="625397" y="21676"/>
                  <a:pt x="684536" y="52225"/>
                  <a:pt x="727885" y="63062"/>
                </a:cubicBezTo>
                <a:cubicBezTo>
                  <a:pt x="748906" y="68317"/>
                  <a:pt x="770194" y="72602"/>
                  <a:pt x="790948" y="78828"/>
                </a:cubicBezTo>
                <a:cubicBezTo>
                  <a:pt x="822783" y="88379"/>
                  <a:pt x="885541" y="110359"/>
                  <a:pt x="885541" y="110359"/>
                </a:cubicBezTo>
                <a:cubicBezTo>
                  <a:pt x="911817" y="105104"/>
                  <a:pt x="938516" y="101644"/>
                  <a:pt x="964368" y="94593"/>
                </a:cubicBezTo>
                <a:cubicBezTo>
                  <a:pt x="996433" y="85848"/>
                  <a:pt x="1058961" y="63062"/>
                  <a:pt x="1058961" y="63062"/>
                </a:cubicBezTo>
                <a:cubicBezTo>
                  <a:pt x="1127278" y="68317"/>
                  <a:pt x="1195923" y="70329"/>
                  <a:pt x="1263913" y="78828"/>
                </a:cubicBezTo>
                <a:cubicBezTo>
                  <a:pt x="1280403" y="80889"/>
                  <a:pt x="1295231" y="90028"/>
                  <a:pt x="1311210" y="94593"/>
                </a:cubicBezTo>
                <a:cubicBezTo>
                  <a:pt x="1332044" y="100546"/>
                  <a:pt x="1353518" y="104133"/>
                  <a:pt x="1374272" y="110359"/>
                </a:cubicBezTo>
                <a:cubicBezTo>
                  <a:pt x="1406107" y="119910"/>
                  <a:pt x="1437334" y="131380"/>
                  <a:pt x="1468865" y="141890"/>
                </a:cubicBezTo>
                <a:lnTo>
                  <a:pt x="1516161" y="157655"/>
                </a:lnTo>
                <a:cubicBezTo>
                  <a:pt x="1531927" y="168165"/>
                  <a:pt x="1546143" y="181491"/>
                  <a:pt x="1563458" y="189186"/>
                </a:cubicBezTo>
                <a:cubicBezTo>
                  <a:pt x="1593830" y="202685"/>
                  <a:pt x="1658051" y="220717"/>
                  <a:pt x="1658051" y="220717"/>
                </a:cubicBezTo>
                <a:cubicBezTo>
                  <a:pt x="1784175" y="215462"/>
                  <a:pt x="1910962" y="218892"/>
                  <a:pt x="2036423" y="204952"/>
                </a:cubicBezTo>
                <a:cubicBezTo>
                  <a:pt x="2055255" y="202860"/>
                  <a:pt x="2066773" y="181895"/>
                  <a:pt x="2083720" y="173421"/>
                </a:cubicBezTo>
                <a:cubicBezTo>
                  <a:pt x="2106343" y="162109"/>
                  <a:pt x="2173867" y="146943"/>
                  <a:pt x="2194079" y="141890"/>
                </a:cubicBezTo>
                <a:cubicBezTo>
                  <a:pt x="2294673" y="148596"/>
                  <a:pt x="2408253" y="145838"/>
                  <a:pt x="2509389" y="173421"/>
                </a:cubicBezTo>
                <a:cubicBezTo>
                  <a:pt x="2541454" y="182166"/>
                  <a:pt x="2574254" y="190088"/>
                  <a:pt x="2603982" y="204952"/>
                </a:cubicBezTo>
                <a:cubicBezTo>
                  <a:pt x="2681908" y="243915"/>
                  <a:pt x="2644748" y="229051"/>
                  <a:pt x="2714341" y="252248"/>
                </a:cubicBezTo>
                <a:cubicBezTo>
                  <a:pt x="2736231" y="317918"/>
                  <a:pt x="2770331" y="371041"/>
                  <a:pt x="2730106" y="441435"/>
                </a:cubicBezTo>
                <a:cubicBezTo>
                  <a:pt x="2721861" y="455864"/>
                  <a:pt x="2698575" y="451945"/>
                  <a:pt x="2682810" y="457200"/>
                </a:cubicBezTo>
                <a:cubicBezTo>
                  <a:pt x="2672300" y="472966"/>
                  <a:pt x="2667347" y="494455"/>
                  <a:pt x="2651279" y="504497"/>
                </a:cubicBezTo>
                <a:cubicBezTo>
                  <a:pt x="2623094" y="522113"/>
                  <a:pt x="2556685" y="536028"/>
                  <a:pt x="2556685" y="536028"/>
                </a:cubicBezTo>
                <a:cubicBezTo>
                  <a:pt x="2546175" y="551793"/>
                  <a:pt x="2532849" y="566009"/>
                  <a:pt x="2525154" y="583324"/>
                </a:cubicBezTo>
                <a:cubicBezTo>
                  <a:pt x="2511655" y="613696"/>
                  <a:pt x="2493623" y="677917"/>
                  <a:pt x="2493623" y="677917"/>
                </a:cubicBezTo>
                <a:cubicBezTo>
                  <a:pt x="2425306" y="672662"/>
                  <a:pt x="2356662" y="670651"/>
                  <a:pt x="2288672" y="662152"/>
                </a:cubicBezTo>
                <a:cubicBezTo>
                  <a:pt x="2272182" y="660091"/>
                  <a:pt x="2257800" y="648913"/>
                  <a:pt x="2241375" y="646386"/>
                </a:cubicBezTo>
                <a:cubicBezTo>
                  <a:pt x="2189175" y="638355"/>
                  <a:pt x="2136272" y="635876"/>
                  <a:pt x="2083720" y="630621"/>
                </a:cubicBezTo>
                <a:lnTo>
                  <a:pt x="1941830" y="583324"/>
                </a:lnTo>
                <a:lnTo>
                  <a:pt x="1894534" y="567559"/>
                </a:lnTo>
                <a:cubicBezTo>
                  <a:pt x="1873513" y="572814"/>
                  <a:pt x="1849501" y="571305"/>
                  <a:pt x="1831472" y="583324"/>
                </a:cubicBezTo>
                <a:cubicBezTo>
                  <a:pt x="1815706" y="593834"/>
                  <a:pt x="1816009" y="620579"/>
                  <a:pt x="1799941" y="630621"/>
                </a:cubicBezTo>
                <a:cubicBezTo>
                  <a:pt x="1771756" y="648236"/>
                  <a:pt x="1736879" y="651642"/>
                  <a:pt x="1705348" y="662152"/>
                </a:cubicBezTo>
                <a:lnTo>
                  <a:pt x="1658051" y="677917"/>
                </a:lnTo>
                <a:cubicBezTo>
                  <a:pt x="1537182" y="672662"/>
                  <a:pt x="1415785" y="674601"/>
                  <a:pt x="1295444" y="662152"/>
                </a:cubicBezTo>
                <a:cubicBezTo>
                  <a:pt x="1295439" y="662152"/>
                  <a:pt x="1177204" y="622738"/>
                  <a:pt x="1153554" y="614855"/>
                </a:cubicBezTo>
                <a:lnTo>
                  <a:pt x="1106258" y="599090"/>
                </a:lnTo>
                <a:cubicBezTo>
                  <a:pt x="953858" y="604345"/>
                  <a:pt x="801269" y="605630"/>
                  <a:pt x="649058" y="614855"/>
                </a:cubicBezTo>
                <a:cubicBezTo>
                  <a:pt x="627430" y="616166"/>
                  <a:pt x="607314" y="626745"/>
                  <a:pt x="585996" y="630621"/>
                </a:cubicBezTo>
                <a:cubicBezTo>
                  <a:pt x="549436" y="637268"/>
                  <a:pt x="512423" y="641131"/>
                  <a:pt x="475637" y="646386"/>
                </a:cubicBezTo>
                <a:cubicBezTo>
                  <a:pt x="467339" y="644726"/>
                  <a:pt x="348595" y="622278"/>
                  <a:pt x="333748" y="614855"/>
                </a:cubicBezTo>
                <a:cubicBezTo>
                  <a:pt x="320453" y="608208"/>
                  <a:pt x="314962" y="590971"/>
                  <a:pt x="302216" y="583324"/>
                </a:cubicBezTo>
                <a:cubicBezTo>
                  <a:pt x="287966" y="574774"/>
                  <a:pt x="270685" y="572814"/>
                  <a:pt x="254920" y="567559"/>
                </a:cubicBezTo>
                <a:cubicBezTo>
                  <a:pt x="239154" y="557049"/>
                  <a:pt x="220100" y="550288"/>
                  <a:pt x="207623" y="536028"/>
                </a:cubicBezTo>
                <a:cubicBezTo>
                  <a:pt x="78869" y="388882"/>
                  <a:pt x="203682" y="480850"/>
                  <a:pt x="97265" y="409904"/>
                </a:cubicBezTo>
                <a:cubicBezTo>
                  <a:pt x="92010" y="394138"/>
                  <a:pt x="91880" y="375584"/>
                  <a:pt x="81499" y="362607"/>
                </a:cubicBezTo>
                <a:cubicBezTo>
                  <a:pt x="0" y="260733"/>
                  <a:pt x="58066" y="402662"/>
                  <a:pt x="18437" y="283779"/>
                </a:cubicBezTo>
                <a:cubicBezTo>
                  <a:pt x="23692" y="231227"/>
                  <a:pt x="7592" y="171743"/>
                  <a:pt x="34203" y="126124"/>
                </a:cubicBezTo>
                <a:cubicBezTo>
                  <a:pt x="34204" y="126123"/>
                  <a:pt x="152443" y="86711"/>
                  <a:pt x="176092" y="78828"/>
                </a:cubicBezTo>
                <a:cubicBezTo>
                  <a:pt x="228374" y="61401"/>
                  <a:pt x="223389" y="79680"/>
                  <a:pt x="176092" y="63062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138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ПАВОДО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сравнительно кратковременное и непериодическое поднятие уровня воды в реке, т.е. случается в любое время г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nodeType="clickEffect" fill="hold">
                      <p:stCondLst>
                        <p:cond delay="0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33333E-006 C 0.05173 -0.00115 0.06128 0.00047 0.09705 -0.00648 C 0.12969 -0.00578 0.16007 -0.00416 0.19219 -0.00162 C 0.2026 -3.33333000000009E-006 0.22118 0.00533 0.23264 0.00533 E">
                                      <p:cBhvr>
                                        <p:cTn id="1159" dur="3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08" dur="3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10" dur="3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12" dur="3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14" dur="3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16" dur="3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18" dur="3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20" dur="3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22" dur="3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24" dur="3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26" dur="3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28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30" dur="3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32" dur="3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34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1236" dur="3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2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0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4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8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5" name="Улыбающееся лицо 29"/>
          <p:cNvSpPr/>
          <p:nvPr/>
        </p:nvSpPr>
        <p:spPr>
          <a:xfrm>
            <a:off x="857160" y="642960"/>
            <a:ext cx="1714680" cy="1500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ая соединительная линия 73"/>
          <p:cNvSpPr/>
          <p:nvPr/>
        </p:nvSpPr>
        <p:spPr>
          <a:xfrm>
            <a:off x="1642320" y="0"/>
            <a:ext cx="7164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74"/>
          <p:cNvSpPr/>
          <p:nvPr/>
        </p:nvSpPr>
        <p:spPr>
          <a:xfrm flipH="1">
            <a:off x="2357280" y="0"/>
            <a:ext cx="28584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75"/>
          <p:cNvSpPr/>
          <p:nvPr/>
        </p:nvSpPr>
        <p:spPr>
          <a:xfrm>
            <a:off x="642240" y="428760"/>
            <a:ext cx="571320" cy="5713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76"/>
          <p:cNvSpPr/>
          <p:nvPr/>
        </p:nvSpPr>
        <p:spPr>
          <a:xfrm>
            <a:off x="1714680" y="2143080"/>
            <a:ext cx="7128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ая соединительная линия 77"/>
          <p:cNvSpPr/>
          <p:nvPr/>
        </p:nvSpPr>
        <p:spPr>
          <a:xfrm flipH="1">
            <a:off x="785880" y="2071800"/>
            <a:ext cx="28584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83"/>
          <p:cNvSpPr/>
          <p:nvPr/>
        </p:nvSpPr>
        <p:spPr>
          <a:xfrm>
            <a:off x="2286000" y="1928880"/>
            <a:ext cx="571680" cy="5713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84"/>
          <p:cNvSpPr/>
          <p:nvPr/>
        </p:nvSpPr>
        <p:spPr>
          <a:xfrm>
            <a:off x="2571840" y="1357200"/>
            <a:ext cx="64296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85"/>
          <p:cNvSpPr/>
          <p:nvPr/>
        </p:nvSpPr>
        <p:spPr>
          <a:xfrm flipH="1">
            <a:off x="356760" y="1356480"/>
            <a:ext cx="714600" cy="71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Прямоугольник 102" descr=""/>
          <p:cNvPicPr/>
          <p:nvPr/>
        </p:nvPicPr>
        <p:blipFill>
          <a:blip r:embed="rId2"/>
          <a:stretch/>
        </p:blipFill>
        <p:spPr>
          <a:xfrm>
            <a:off x="2951280" y="231840"/>
            <a:ext cx="4894200" cy="1523880"/>
          </a:xfrm>
          <a:prstGeom prst="rect">
            <a:avLst/>
          </a:prstGeom>
          <a:ln w="0">
            <a:noFill/>
          </a:ln>
        </p:spPr>
      </p:pic>
      <p:pic>
        <p:nvPicPr>
          <p:cNvPr id="335" name="Прямоугольник 136" descr=""/>
          <p:cNvPicPr/>
          <p:nvPr/>
        </p:nvPicPr>
        <p:blipFill>
          <a:blip r:embed="rId3"/>
          <a:stretch/>
        </p:blipFill>
        <p:spPr>
          <a:xfrm>
            <a:off x="2951280" y="231840"/>
            <a:ext cx="4894200" cy="15238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" descr=""/>
          <p:cNvPicPr/>
          <p:nvPr/>
        </p:nvPicPr>
        <p:blipFill>
          <a:blip r:embed="rId4"/>
          <a:stretch/>
        </p:blipFill>
        <p:spPr>
          <a:xfrm>
            <a:off x="0" y="95400"/>
            <a:ext cx="9105840" cy="6762600"/>
          </a:xfrm>
          <a:prstGeom prst="rect">
            <a:avLst/>
          </a:prstGeom>
          <a:ln w="0">
            <a:noFill/>
          </a:ln>
        </p:spPr>
      </p:pic>
      <p:sp>
        <p:nvSpPr>
          <p:cNvPr id="337" name="Улыбающееся лицо 28"/>
          <p:cNvSpPr/>
          <p:nvPr/>
        </p:nvSpPr>
        <p:spPr>
          <a:xfrm>
            <a:off x="4214880" y="642960"/>
            <a:ext cx="1714320" cy="1500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ая соединительная линия 30"/>
          <p:cNvSpPr/>
          <p:nvPr/>
        </p:nvSpPr>
        <p:spPr>
          <a:xfrm>
            <a:off x="5000760" y="0"/>
            <a:ext cx="7128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ая соединительная линия 31"/>
          <p:cNvSpPr/>
          <p:nvPr/>
        </p:nvSpPr>
        <p:spPr>
          <a:xfrm flipH="1">
            <a:off x="5715000" y="0"/>
            <a:ext cx="28584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ая соединительная линия 32"/>
          <p:cNvSpPr/>
          <p:nvPr/>
        </p:nvSpPr>
        <p:spPr>
          <a:xfrm>
            <a:off x="3999960" y="428760"/>
            <a:ext cx="571320" cy="5713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ая соединительная линия 33"/>
          <p:cNvSpPr/>
          <p:nvPr/>
        </p:nvSpPr>
        <p:spPr>
          <a:xfrm>
            <a:off x="5071320" y="2143080"/>
            <a:ext cx="7164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ая соединительная линия 34"/>
          <p:cNvSpPr/>
          <p:nvPr/>
        </p:nvSpPr>
        <p:spPr>
          <a:xfrm flipH="1">
            <a:off x="4143240" y="2071800"/>
            <a:ext cx="285840" cy="785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ая соединительная линия 35"/>
          <p:cNvSpPr/>
          <p:nvPr/>
        </p:nvSpPr>
        <p:spPr>
          <a:xfrm>
            <a:off x="5643000" y="1928880"/>
            <a:ext cx="571320" cy="5713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ая соединительная линия 36"/>
          <p:cNvSpPr/>
          <p:nvPr/>
        </p:nvSpPr>
        <p:spPr>
          <a:xfrm>
            <a:off x="5929200" y="1357200"/>
            <a:ext cx="64296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ая соединительная линия 37"/>
          <p:cNvSpPr/>
          <p:nvPr/>
        </p:nvSpPr>
        <p:spPr>
          <a:xfrm flipH="1">
            <a:off x="3714840" y="1356480"/>
            <a:ext cx="714240" cy="71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Управляющая кнопка: в начало 39">
            <a:hlinkClick r:id="rId5" action="ppaction://hlinksldjump"/>
          </p:cNvPr>
          <p:cNvSpPr/>
          <p:nvPr/>
        </p:nvSpPr>
        <p:spPr>
          <a:xfrm>
            <a:off x="8429760" y="62150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8498" y="10800"/>
                </a:moveTo>
                <a:lnTo>
                  <a:pt x="19003" y="3794"/>
                </a:lnTo>
                <a:lnTo>
                  <a:pt x="19003" y="17806"/>
                </a:lnTo>
                <a:close/>
              </a:path>
              <a:path fill="darken" w="23993" h="21600">
                <a:moveTo>
                  <a:pt x="4990" y="3794"/>
                </a:moveTo>
                <a:lnTo>
                  <a:pt x="6653" y="3794"/>
                </a:lnTo>
                <a:lnTo>
                  <a:pt x="6653" y="17806"/>
                </a:lnTo>
                <a:lnTo>
                  <a:pt x="499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Прямоугольник 42" descr=""/>
          <p:cNvPicPr/>
          <p:nvPr/>
        </p:nvPicPr>
        <p:blipFill>
          <a:blip r:embed="rId6"/>
          <a:stretch/>
        </p:blipFill>
        <p:spPr>
          <a:xfrm>
            <a:off x="3024360" y="304920"/>
            <a:ext cx="4894200" cy="1523880"/>
          </a:xfrm>
          <a:prstGeom prst="rect">
            <a:avLst/>
          </a:prstGeom>
          <a:ln w="0">
            <a:noFill/>
          </a:ln>
        </p:spPr>
      </p:pic>
      <p:sp>
        <p:nvSpPr>
          <p:cNvPr id="348" name="TextBox 43"/>
          <p:cNvSpPr/>
          <p:nvPr/>
        </p:nvSpPr>
        <p:spPr>
          <a:xfrm>
            <a:off x="1785960" y="2571840"/>
            <a:ext cx="40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ен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44"/>
          <p:cNvSpPr/>
          <p:nvPr/>
        </p:nvSpPr>
        <p:spPr>
          <a:xfrm>
            <a:off x="1857240" y="3214800"/>
            <a:ext cx="542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хая пог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озная пого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дность реки поддерживается главным образом грунтовым питани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45"/>
          <p:cNvSpPr/>
          <p:nvPr/>
        </p:nvSpPr>
        <p:spPr>
          <a:xfrm>
            <a:off x="285840" y="602784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МЕЖЕ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сезонное стояние низких (меженных) уровней воды в реках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nodeType="clickEffect" fill="hold">
                      <p:stCondLst>
                        <p:cond delay="0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2" dur="1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33" dur="1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34" dur="1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1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42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43" dur="1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0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51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52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9" dur="1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60" dur="1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61" dur="1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8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69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70" dur="1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7" dur="1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78" dur="1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79" dur="1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6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87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88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8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5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396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397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0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4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405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406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14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16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18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20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24 -0.09375 L 0.28524 -0.09375 E">
                                      <p:cBhvr>
                                        <p:cTn id="1422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24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26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28" dur="2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30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6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9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70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1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3" dur="250" autoRev="1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74" dur="250" autoRev="1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5" dur="250" autoRev="1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7" dur="250" autoRev="1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78" dur="250" autoRev="1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79" dur="250" autoRev="1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1" dur="250" autoRev="1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82" dur="250" autoRev="1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3" dur="250" autoRev="1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5" dur="250" autoRev="1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86" dur="250" autoRev="1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7" dur="250" autoRev="1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9" dur="250" autoRev="1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90" dur="250" autoRev="1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1" dur="250" autoRev="1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3" dur="250" autoRev="1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94" dur="250" autoRev="1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5" dur="250" autoRev="1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7" dur="250" autoRev="1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98" dur="250" autoRev="1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9" dur="250" autoRev="1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1" dur="250" autoRev="1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02" dur="250" autoRev="1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03" dur="250" autoRev="1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0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25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27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29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26 0.00023 L 0.22274 0.00023 E">
                                      <p:cBhvr>
                                        <p:cTn id="1531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33" dur="2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35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37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39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541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8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2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6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0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4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Прямоугольник 3" descr=""/>
          <p:cNvPicPr/>
          <p:nvPr/>
        </p:nvPicPr>
        <p:blipFill>
          <a:blip r:embed="rId1"/>
          <a:stretch/>
        </p:blipFill>
        <p:spPr>
          <a:xfrm>
            <a:off x="1109520" y="231840"/>
            <a:ext cx="6546960" cy="15238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"/>
          <p:cNvPicPr/>
          <p:nvPr/>
        </p:nvPicPr>
        <p:blipFill>
          <a:blip r:embed="rId2"/>
          <a:stretch/>
        </p:blipFill>
        <p:spPr>
          <a:xfrm>
            <a:off x="2786040" y="1714680"/>
            <a:ext cx="3413160" cy="2000160"/>
          </a:xfrm>
          <a:prstGeom prst="rect">
            <a:avLst/>
          </a:prstGeom>
          <a:ln w="0">
            <a:noFill/>
          </a:ln>
        </p:spPr>
      </p:pic>
      <p:sp>
        <p:nvSpPr>
          <p:cNvPr id="354" name="TextBox 5"/>
          <p:cNvSpPr/>
          <p:nvPr/>
        </p:nvSpPr>
        <p:spPr>
          <a:xfrm>
            <a:off x="3500280" y="128592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а Волг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Схема 6" descr=""/>
          <p:cNvPicPr/>
          <p:nvPr/>
        </p:nvPicPr>
        <p:blipFill>
          <a:blip r:embed="rId3"/>
          <a:stretch/>
        </p:blipFill>
        <p:spPr>
          <a:xfrm>
            <a:off x="414360" y="3584520"/>
            <a:ext cx="8028000" cy="320040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642960" y="1357200"/>
            <a:ext cx="8059680" cy="50007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вилистое русл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Стрелка вниз 5"/>
          <p:cNvSpPr/>
          <p:nvPr/>
        </p:nvSpPr>
        <p:spPr>
          <a:xfrm>
            <a:off x="2143080" y="357192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6"/>
          <p:cNvSpPr/>
          <p:nvPr/>
        </p:nvSpPr>
        <p:spPr>
          <a:xfrm>
            <a:off x="857160" y="1785960"/>
            <a:ext cx="557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тарица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озеро на пойме или на нижней надпойменной террасе — участок реки, отчленившийся от основного рус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Стрелка вниз 7"/>
          <p:cNvSpPr/>
          <p:nvPr/>
        </p:nvSpPr>
        <p:spPr>
          <a:xfrm>
            <a:off x="3357720" y="2928960"/>
            <a:ext cx="357120" cy="9777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8"/>
          <p:cNvSpPr/>
          <p:nvPr/>
        </p:nvSpPr>
        <p:spPr>
          <a:xfrm>
            <a:off x="3071880" y="4071960"/>
            <a:ext cx="47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еандр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повторяющиеся на большом протяжении долины реки изгибы ее рус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Управляющая кнопка: в начало 9">
            <a:hlinkClick r:id="rId2" action="ppaction://hlinksldjump"/>
          </p:cNvPr>
          <p:cNvSpPr/>
          <p:nvPr/>
        </p:nvSpPr>
        <p:spPr>
          <a:xfrm>
            <a:off x="8429760" y="62150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8498" y="10800"/>
                </a:moveTo>
                <a:lnTo>
                  <a:pt x="19003" y="3794"/>
                </a:lnTo>
                <a:lnTo>
                  <a:pt x="19003" y="17806"/>
                </a:lnTo>
                <a:close/>
              </a:path>
              <a:path fill="darken" w="23993" h="21600">
                <a:moveTo>
                  <a:pt x="4990" y="3794"/>
                </a:moveTo>
                <a:lnTo>
                  <a:pt x="6653" y="3794"/>
                </a:lnTo>
                <a:lnTo>
                  <a:pt x="6653" y="17806"/>
                </a:lnTo>
                <a:lnTo>
                  <a:pt x="499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5" dur="indefinite" restart="never" nodeType="tmRoot">
          <p:childTnLst>
            <p:seq>
              <p:cTn id="1586" dur="indefinite" nodeType="mainSeq">
                <p:childTnLst>
                  <p:par>
                    <p:cTn id="1587" nodeType="clickEffect" fill="hold">
                      <p:stCondLst>
                        <p:cond delay="0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223 -0.00741 0.04306 -0.02014 0.06546 -0.02755 C 0.06997 -0.02685 0.07483 -0.02732 0.07917 -0.02523 C 0.08299 -0.02338 0.0856 -0.01806 0.08959 -0.0162 C 0.09132 -0.01551 0.09306 -0.01458 0.0948 -0.01389 C 0.09792 -0.00162 0.09549 -0.00903 0.1033 0.00694 C 0.10521 0.01088 0.10556 0.01597 0.10678 0.0206 C 0.1073 0.02292 0.10851 0.02755 0.10851 0.02755 C 0.10782 0.0375 0.11025 0.05023 0.10504 0.05741 C 0.10382 0.05903 0.10157 0.05856 0.1 0.05972 C 0.0856 0.0706 0.07066 0.08495 0.0533 0.08495 E">
                                      <p:cBhvr>
                                        <p:cTn id="1594" dur="1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8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9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0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nodeType="clickEffect" fill="hold">
                      <p:stCondLst>
                        <p:cond delay="indefinite"/>
                      </p:stCondLst>
                      <p:childTnLst>
                        <p:par>
                          <p:cTn id="1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95 -0.01157 0.00572 -0.02291 0.00868 -0.03449 C 0.01007 -0.03981 0.01163 -0.04629 0.01562 -0.04814 C 0.0243 -0.05208 0.03281 -0.05578 0.04149 -0.05972 C 0.04496 -0.06134 0.05173 -0.06435 0.05173 -0.06435 C 0.0684 -0.06365 0.08507 -0.06342 0.10173 -0.06203 C 0.10364 -0.0618 0.10572 -0.06134 0.10694 -0.05972 C 0.10902 -0.05694 0.1151 -0.03449 0.11562 -0.03217 C 0.11614 -0.02986 0.11736 -0.02523 0.11736 -0.02523 C 0.11788 -0.01921 0.11822 -0.01296 0.11909 -0.00694 C 0.11944 -0.00462 0.11927 -0.00138 0.12066 0 C 0.12517 0.0044 0.13107 0.00463 0.13628 0.00695 C 0.13802 0.00764 0.14149 0.00926 0.14149 0.00926 C 0.15138 0.00741 0.15972 0.00417 0.16909 0 C 0.17257 -0.00162 0.17934 -0.00462 0.17934 -0.00462 C 0.18142 -0.01296 0.1802 -0.00925 0.18281 -0.01597 E">
                                      <p:cBhvr>
                                        <p:cTn id="1613" dur="1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7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8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9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nodeType="clickEffect" fill="hold">
                      <p:stCondLst>
                        <p:cond delay="indefinite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орные ре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214200" y="2000160"/>
            <a:ext cx="3394080" cy="3714840"/>
          </a:xfrm>
          <a:prstGeom prst="rect">
            <a:avLst/>
          </a:prstGeom>
          <a:ln w="0">
            <a:noFill/>
          </a:ln>
        </p:spPr>
      </p:pic>
      <p:pic>
        <p:nvPicPr>
          <p:cNvPr id="367" name="Схема 4" descr=""/>
          <p:cNvPicPr/>
          <p:nvPr/>
        </p:nvPicPr>
        <p:blipFill>
          <a:blip r:embed="rId2"/>
          <a:stretch/>
        </p:blipFill>
        <p:spPr>
          <a:xfrm>
            <a:off x="3657600" y="1779480"/>
            <a:ext cx="5499000" cy="430380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-360" y="1357200"/>
            <a:ext cx="414324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роги – выходы твёрдых пород, пересекающие русло и нагромождения камн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0" y="3857760"/>
            <a:ext cx="3998880" cy="24987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2"/>
          <p:cNvSpPr/>
          <p:nvPr/>
        </p:nvSpPr>
        <p:spPr>
          <a:xfrm>
            <a:off x="5572080" y="428760"/>
            <a:ext cx="3214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допады – падение воды с высокого уступ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2"/>
          <a:stretch/>
        </p:blipFill>
        <p:spPr>
          <a:xfrm>
            <a:off x="4786200" y="3786120"/>
            <a:ext cx="4071960" cy="2563920"/>
          </a:xfrm>
          <a:prstGeom prst="rect">
            <a:avLst/>
          </a:prstGeom>
          <a:ln w="0">
            <a:noFill/>
          </a:ln>
        </p:spPr>
      </p:pic>
      <p:pic>
        <p:nvPicPr>
          <p:cNvPr id="373" name="Прямоугольник 6" descr=""/>
          <p:cNvPicPr/>
          <p:nvPr/>
        </p:nvPicPr>
        <p:blipFill>
          <a:blip r:embed="rId3"/>
          <a:stretch/>
        </p:blipFill>
        <p:spPr>
          <a:xfrm>
            <a:off x="963720" y="92160"/>
            <a:ext cx="7673760" cy="1523880"/>
          </a:xfrm>
          <a:prstGeom prst="rect">
            <a:avLst/>
          </a:prstGeom>
          <a:ln w="0">
            <a:noFill/>
          </a:ln>
        </p:spPr>
      </p:pic>
      <p:sp>
        <p:nvSpPr>
          <p:cNvPr id="374" name="Управляющая кнопка: в начало 7">
            <a:hlinkClick r:id="rId4" action="ppaction://hlinksldjump"/>
          </p:cNvPr>
          <p:cNvSpPr/>
          <p:nvPr/>
        </p:nvSpPr>
        <p:spPr>
          <a:xfrm>
            <a:off x="8429760" y="62150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8498" y="10800"/>
                </a:moveTo>
                <a:lnTo>
                  <a:pt x="19003" y="3794"/>
                </a:lnTo>
                <a:lnTo>
                  <a:pt x="19003" y="17806"/>
                </a:lnTo>
                <a:close/>
              </a:path>
              <a:path fill="darken" w="23993" h="21600">
                <a:moveTo>
                  <a:pt x="4990" y="3794"/>
                </a:moveTo>
                <a:lnTo>
                  <a:pt x="6653" y="3794"/>
                </a:lnTo>
                <a:lnTo>
                  <a:pt x="6653" y="17806"/>
                </a:lnTo>
                <a:lnTo>
                  <a:pt x="499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означьте на контурной кар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6715080" y="785880"/>
            <a:ext cx="2071800" cy="691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"/>
          <p:cNvPicPr/>
          <p:nvPr/>
        </p:nvPicPr>
        <p:blipFill>
          <a:blip r:embed="rId3"/>
          <a:stretch/>
        </p:blipFill>
        <p:spPr>
          <a:xfrm>
            <a:off x="5214960" y="5715000"/>
            <a:ext cx="1585800" cy="747720"/>
          </a:xfrm>
          <a:prstGeom prst="rect">
            <a:avLst/>
          </a:prstGeom>
          <a:ln w="0">
            <a:noFill/>
          </a:ln>
        </p:spPr>
      </p:pic>
      <p:sp>
        <p:nvSpPr>
          <p:cNvPr id="380" name="TextBox 15"/>
          <p:cNvSpPr/>
          <p:nvPr/>
        </p:nvSpPr>
        <p:spPr>
          <a:xfrm>
            <a:off x="1143000" y="2428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ссисип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5" descr=""/>
          <p:cNvPicPr/>
          <p:nvPr/>
        </p:nvPicPr>
        <p:blipFill>
          <a:blip r:embed="rId4"/>
          <a:stretch/>
        </p:blipFill>
        <p:spPr>
          <a:xfrm>
            <a:off x="6000840" y="785880"/>
            <a:ext cx="482400" cy="868320"/>
          </a:xfrm>
          <a:prstGeom prst="rect">
            <a:avLst/>
          </a:prstGeom>
          <a:ln w="0">
            <a:noFill/>
          </a:ln>
        </p:spPr>
      </p:pic>
      <p:sp>
        <p:nvSpPr>
          <p:cNvPr id="382" name="Прямоугольник 15"/>
          <p:cNvSpPr/>
          <p:nvPr/>
        </p:nvSpPr>
        <p:spPr>
          <a:xfrm>
            <a:off x="5650200" y="164304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н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5" descr=""/>
          <p:cNvPicPr/>
          <p:nvPr/>
        </p:nvPicPr>
        <p:blipFill>
          <a:blip r:embed="rId5"/>
          <a:stretch/>
        </p:blipFill>
        <p:spPr>
          <a:xfrm>
            <a:off x="6500880" y="1571760"/>
            <a:ext cx="482400" cy="868320"/>
          </a:xfrm>
          <a:prstGeom prst="rect">
            <a:avLst/>
          </a:prstGeom>
          <a:ln w="0">
            <a:noFill/>
          </a:ln>
        </p:spPr>
      </p:pic>
      <p:sp>
        <p:nvSpPr>
          <p:cNvPr id="384" name="Прямоугольник 17"/>
          <p:cNvSpPr/>
          <p:nvPr/>
        </p:nvSpPr>
        <p:spPr>
          <a:xfrm>
            <a:off x="5718960" y="242892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15" descr=""/>
          <p:cNvPicPr/>
          <p:nvPr/>
        </p:nvPicPr>
        <p:blipFill>
          <a:blip r:embed="rId6"/>
          <a:stretch/>
        </p:blipFill>
        <p:spPr>
          <a:xfrm>
            <a:off x="5643720" y="1571760"/>
            <a:ext cx="482400" cy="86832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оугольник 19"/>
          <p:cNvSpPr/>
          <p:nvPr/>
        </p:nvSpPr>
        <p:spPr>
          <a:xfrm>
            <a:off x="4789800" y="2286000"/>
            <a:ext cx="10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лг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5" descr=""/>
          <p:cNvPicPr/>
          <p:nvPr/>
        </p:nvPicPr>
        <p:blipFill>
          <a:blip r:embed="rId7"/>
          <a:stretch/>
        </p:blipFill>
        <p:spPr>
          <a:xfrm>
            <a:off x="4857840" y="2071800"/>
            <a:ext cx="482400" cy="868320"/>
          </a:xfrm>
          <a:prstGeom prst="rect">
            <a:avLst/>
          </a:prstGeom>
          <a:ln w="0">
            <a:noFill/>
          </a:ln>
        </p:spPr>
      </p:pic>
      <p:sp>
        <p:nvSpPr>
          <p:cNvPr id="388" name="Прямоугольник 24"/>
          <p:cNvSpPr/>
          <p:nvPr/>
        </p:nvSpPr>
        <p:spPr>
          <a:xfrm>
            <a:off x="4363200" y="414324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15" descr=""/>
          <p:cNvPicPr/>
          <p:nvPr/>
        </p:nvPicPr>
        <p:blipFill>
          <a:blip r:embed="rId8"/>
          <a:stretch/>
        </p:blipFill>
        <p:spPr>
          <a:xfrm>
            <a:off x="4429080" y="3357720"/>
            <a:ext cx="482760" cy="868320"/>
          </a:xfrm>
          <a:prstGeom prst="rect">
            <a:avLst/>
          </a:prstGeom>
          <a:ln w="0">
            <a:noFill/>
          </a:ln>
        </p:spPr>
      </p:pic>
      <p:sp>
        <p:nvSpPr>
          <p:cNvPr id="390" name="Прямоугольник 26"/>
          <p:cNvSpPr/>
          <p:nvPr/>
        </p:nvSpPr>
        <p:spPr>
          <a:xfrm>
            <a:off x="1577520" y="471492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мазон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15" descr=""/>
          <p:cNvPicPr/>
          <p:nvPr/>
        </p:nvPicPr>
        <p:blipFill>
          <a:blip r:embed="rId9"/>
          <a:stretch/>
        </p:blipFill>
        <p:spPr>
          <a:xfrm>
            <a:off x="2000160" y="4286160"/>
            <a:ext cx="482760" cy="8683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5" descr=""/>
          <p:cNvPicPr/>
          <p:nvPr/>
        </p:nvPicPr>
        <p:blipFill>
          <a:blip r:embed="rId10"/>
          <a:stretch/>
        </p:blipFill>
        <p:spPr>
          <a:xfrm>
            <a:off x="1428840" y="2643120"/>
            <a:ext cx="482400" cy="86832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6" dur="indefinite" restart="never" nodeType="tmRoot">
          <p:childTnLst>
            <p:seq>
              <p:cTn id="1627" dur="indefinite" nodeType="mainSeq">
                <p:childTnLst>
                  <p:par>
                    <p:cTn id="1628" nodeType="clickEffect" fill="hold">
                      <p:stCondLst>
                        <p:cond delay="0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5.92593E-006 C 0.00469 0.01805 -0.00226 -0.00325 0.00677 0.00902 C 0.00972 0.01296 0.01146 0.01828 0.01371 0.02291 C 0.01476 0.02499 0.01736 0.02407 0.01892 0.02523 C 0.02552 0.03009 0.03785 0.03888 0.04305 0.04583 C 0.0493 0.05416 0.05069 0.06921 0.0533 0.08032 C 0.05382 0.08726 0.05503 0.10092 0.05503 0.10092 E">
                                      <p:cBhvr>
                                        <p:cTn id="1643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nodeType="clickEffect" fill="hold">
                      <p:stCondLst>
                        <p:cond delay="indefinite"/>
                      </p:stCondLst>
                      <p:childTnLst>
                        <p:par>
                          <p:cTn id="1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81481E-006 C -0.00399 0.00416 -0.00833 0.00879 -0.01319 0.01319 C -0.01423 0.01435 -0.01736 0.01759 -0.021 0.01805 C -0.0276 0.01875 -0.03472 0.01875 -0.04132 0.01875 C -0.05833 0.01921 -0.07569 0.01944 -0.09253 0.01967 C -0.11163 0.02129 -0.09791 0.02152 -0.08993 0.02152 E">
                                      <p:cBhvr>
                                        <p:cTn id="1658" dur="2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nodeType="clickEffect" fill="hold">
                      <p:stCondLst>
                        <p:cond delay="indefinite"/>
                      </p:stCondLst>
                      <p:childTnLst>
                        <p:par>
                          <p:cTn id="1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C -0.00243 0.00602 -0.00035 0.01713 -0.00487 0.02083 C -0.01216 0.02685 -0.02344 0.02847 -0.03299 0.03125 C -0.03837 0.03264 -0.04688 0.0338 -0.05174 0.03634 C -0.05487 0.03819 -0.06094 0.04167 -0.06094 0.0419 C -0.06198 0.04305 -0.06285 0.04444 -0.06407 0.04537 C -0.06546 0.04653 -0.06754 0.04699 -0.06875 0.04815 C -0.06997 0.04907 -0.06962 0.05092 -0.07032 0.05208 C -0.07223 0.05486 -0.07657 0.05995 -0.07657 0.06018 E">
                                      <p:cBhvr>
                                        <p:cTn id="1673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nodeType="clickEffect" fill="hold">
                      <p:stCondLst>
                        <p:cond delay="indefinite"/>
                      </p:stCondLst>
                      <p:childTnLst>
                        <p:par>
                          <p:cTn id="1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5.92593E-006 C -0.00399 0.02222 -0.00781 0.04097 -0.01719 0.05972 C -0.01944 0.06435 -0.02187 0.06898 -0.02413 0.0736 C -0.02535 0.07592 -0.0276 0.08032 -0.0276 0.08032 C -0.0316 0.09722 -0.0283 0.09073 -0.03611 0.10115 C -0.03837 0.11365 -0.04167 0.12569 -0.04479 0.13796 C -0.04948 0.15624 -0.04357 0.13286 -0.04826 0.15161 C -0.04878 0.15393 -0.05 0.15856 -0.05 0.15856 C -0.05156 0.17962 -0.05 0.18958 -0.05 0.21134 E">
                                      <p:cBhvr>
                                        <p:cTn id="1688" dur="2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nodeType="clickEffect" fill="hold">
                      <p:stCondLst>
                        <p:cond delay="indefinite"/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7 C -0.02101 0.01296 -0.04184 0.01968 -0.06545 0.02732 C -0.07865 0.03125 -0.08559 0.03681 -0.09983 0.03681 C -0.14045 0.0375 -0.18142 0.03819 -0.22205 0.03843 C -0.22552 0.03982 -0.22865 0.04074 -0.23212 0.0419 C -0.23403 0.04213 -0.23733 0.04329 -0.23733 0.04352 C -0.23924 0.04491 -0.24115 0.04607 -0.24271 0.04815 C -0.24774 0.05556 -0.23958 0.05162 -0.24931 0.05463 C -0.25469 0.06227 -0.25208 0.05787 -0.25625 0.06898 C -0.25677 0.0706 -0.25747 0.07222 -0.25799 0.07384 C -0.25851 0.07546 -0.25955 0.08079 -0.25955 0.07894 C -0.25955 0.07824 -0.25955 0.07755 -0.25955 0.07708 E">
                                      <p:cBhvr>
                                        <p:cTn id="1703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08 -0.05833 C 0.01163 -0.08078 -0.00278 -0.09028 -0.01111 -0.10648 C -0.01545 -0.12384 -0.02569 -0.13148 -0.03698 -0.14097 C -0.03906 -0.14282 -0.0401 -0.14606 -0.04218 -0.14791 C -0.04548 -0.15069 -0.0493 -0.15208 -0.0526 -0.15486 C -0.06979 -0.1912 -0.05087 -0.23912 -0.05087 -0.27893 E">
                                      <p:cBhvr>
                                        <p:cTn id="1718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nodeType="clickEffect" fill="hold">
                      <p:stCondLst>
                        <p:cond delay="indefinite"/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59259E-006 C 0.02431 0.00741 0.05 0.04491 0.07084 0.06505 C 0.10122 0.09468 0.13247 0.12361 0.16406 0.15139 C 0.16684 0.15417 0.16823 0.15926 0.17101 0.16204 C 0.17361 0.16459 0.17691 0.16482 0.17952 0.1669 C 0.18889 0.17454 0.19861 0.18635 0.20712 0.19584 C 0.20886 0.19769 0.21042 0.19977 0.2125 0.20116 C 0.21597 0.20371 0.21979 0.20533 0.22292 0.2088 C 0.229 0.21505 0.23403 0.22338 0.24011 0.22986 C 0.24879 0.23843 0.25747 0.24537 0.26615 0.25347 C 0.27778 0.26435 0.26788 0.25926 0.27969 0.26389 C 0.28646 0.27037 0.29306 0.27408 0.30087 0.27709 C 0.30781 0.28403 0.31441 0.28843 0.32153 0.29514 C 0.32917 0.31273 0.33073 0.33542 0.33525 0.35533 C 0.33854 0.37014 0.34219 0.38472 0.34566 0.39977 C 0.35104 0.42292 0.34566 0.44838 0.34566 0.47315 E">
                                      <p:cBhvr>
                                        <p:cTn id="1733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спользуемые источники информ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belkamfish.com/i/kama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Большая советская энциклопедия (Яндекс-словари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slovari.yandex.ru/dict/bse/article/00061/08700.htm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slovari.yandex.ru/dict/bse/article/00056/73100.htm?text=%D0%9F%D0%B0%D0%B2%D0%BE%D0%B4%D0%BE%D0%BA%20-%20%D1%8D%D1%82%D0%BE&amp;stpar1=1.1.1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slovari.yandex.ru/dict/bse/article/00046/79300.htm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Нижний Новгород, река Волга – фото Александра Медведева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trip-guide.ru/img/341/1641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еографический словарь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images.google.ru/imgres?imgurl=http://www.ecosystema.ru/07referats/slovgeo/img/798.jpg&amp;imgrefurl=http://www.ecosystema.ru/07referats/slovgeo/798.htm&amp;usg=__f5rUtTQi8T-QFDmcsGiXq3I8F00=&amp;h=321&amp;w=600&amp;sz=19&amp;hl=ru&amp;start=4&amp;sig2=barBE1UpYs6Q8HjOWmLa7g&amp;tbnid=DC0wuDGGIDwsLM:&amp;tbnh=72&amp;tbnw=135&amp;prev=/images%3Fq%3D%25D0%25A1%25D1%2582%25D0%25B0%25D1%2580%25D0%25B8%25D1%2586%25D0%25B0%26hl%3Dru%26sa%3DG%26newwindow%3D1&amp;ei=QTQNSvTBK8GL_Qaqg4CaBA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ru.wikipedia.org/wiki/</a:t>
            </a:r>
            <a:r>
              <a:rPr b="0" lang="ru-RU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Файл: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SonghuaRiver_ASTER_20020401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images.google.ru/imgres?imgurl=http://www.panoramio.com/photos/original/3390091.jpg&amp;imgrefurl=http://www.panoramio.com/photo/3390091&amp;usg=__1iqHd-ZHawegk1T-X3xkD0cw59c=&amp;h=464&amp;w=700&amp;sz=128&amp;hl=ru&amp;start=37&amp;sig2=0EICTqzTduY09rrHhdMTNg&amp;tbnid=zefi0x4T_QrNLM:&amp;tbnh=93&amp;tbnw=140&amp;prev=/images%3Fq%3D%25D0%259C%25D0%25B5%25D0%25B0%25D0%25BD%25D0%25B4%25D1%2580%25D1%258B%2B%25D0%25BD%25D0%25B0%2B%25D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1%2580%25D0%25B5%25D0%25BA%25D0%25B5%26ndsp%3D18%26hl%3Dru%26sa%3DN%26start%3D36%26newwindow%3D1&amp;ei=0zcNSrDhPMiB_AaZ4dzGBA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Географическая энциклопедия -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rgo.ru/geography/fiz_geography/slovar/meandr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img.travel.ru/images2/2006/08/object93210/280806-13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www.tourism.ru/docs/report/cycle/54/111/614/img/norway-08_021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www.sochiexplorer.ru/images/kichmai/33/800x600/kichmai5.jp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6"/>
          <a:stretch/>
        </p:blipFill>
        <p:spPr>
          <a:xfrm>
            <a:off x="144360" y="144360"/>
            <a:ext cx="1352520" cy="100008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2" descr=""/>
          <p:cNvPicPr/>
          <p:nvPr/>
        </p:nvPicPr>
        <p:blipFill>
          <a:blip r:embed="rId1"/>
          <a:stretch/>
        </p:blipFill>
        <p:spPr>
          <a:xfrm>
            <a:off x="1457280" y="231840"/>
            <a:ext cx="6321600" cy="15238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500040" y="114300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Река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одный поток, текущий в выработанном им углублении, называемом – русло ре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олилиния 10"/>
          <p:cNvSpPr/>
          <p:nvPr/>
        </p:nvSpPr>
        <p:spPr>
          <a:xfrm>
            <a:off x="-271440" y="4114800"/>
            <a:ext cx="3130560" cy="2994120"/>
          </a:xfrm>
          <a:custGeom>
            <a:avLst/>
            <a:gdLst/>
            <a:ahLst/>
            <a:rect l="l" t="t" r="r" b="b"/>
            <a:pathLst>
              <a:path w="3130496" h="2993673">
                <a:moveTo>
                  <a:pt x="284799" y="0"/>
                </a:moveTo>
                <a:cubicBezTo>
                  <a:pt x="0" y="854375"/>
                  <a:pt x="257089" y="1801043"/>
                  <a:pt x="257089" y="2701636"/>
                </a:cubicBezTo>
                <a:cubicBezTo>
                  <a:pt x="257089" y="2725184"/>
                  <a:pt x="270944" y="2770909"/>
                  <a:pt x="270944" y="2770909"/>
                </a:cubicBezTo>
                <a:cubicBezTo>
                  <a:pt x="370606" y="2804131"/>
                  <a:pt x="246142" y="2763822"/>
                  <a:pt x="367926" y="2798618"/>
                </a:cubicBezTo>
                <a:cubicBezTo>
                  <a:pt x="381968" y="2802630"/>
                  <a:pt x="395321" y="2808931"/>
                  <a:pt x="409489" y="2812473"/>
                </a:cubicBezTo>
                <a:cubicBezTo>
                  <a:pt x="432334" y="2818184"/>
                  <a:pt x="455917" y="2820616"/>
                  <a:pt x="478762" y="2826327"/>
                </a:cubicBezTo>
                <a:cubicBezTo>
                  <a:pt x="492930" y="2829869"/>
                  <a:pt x="506284" y="2836170"/>
                  <a:pt x="520326" y="2840182"/>
                </a:cubicBezTo>
                <a:cubicBezTo>
                  <a:pt x="538635" y="2845413"/>
                  <a:pt x="557435" y="2848805"/>
                  <a:pt x="575744" y="2854036"/>
                </a:cubicBezTo>
                <a:cubicBezTo>
                  <a:pt x="589786" y="2858048"/>
                  <a:pt x="602939" y="2865279"/>
                  <a:pt x="617308" y="2867891"/>
                </a:cubicBezTo>
                <a:cubicBezTo>
                  <a:pt x="653940" y="2874551"/>
                  <a:pt x="691199" y="2877127"/>
                  <a:pt x="728144" y="2881745"/>
                </a:cubicBezTo>
                <a:cubicBezTo>
                  <a:pt x="828754" y="2848210"/>
                  <a:pt x="747221" y="2871653"/>
                  <a:pt x="949817" y="2854036"/>
                </a:cubicBezTo>
                <a:cubicBezTo>
                  <a:pt x="996055" y="2850015"/>
                  <a:pt x="1042180" y="2844800"/>
                  <a:pt x="1088362" y="2840182"/>
                </a:cubicBezTo>
                <a:cubicBezTo>
                  <a:pt x="1102217" y="2835564"/>
                  <a:pt x="1118522" y="2835450"/>
                  <a:pt x="1129926" y="2826327"/>
                </a:cubicBezTo>
                <a:cubicBezTo>
                  <a:pt x="1159866" y="2802376"/>
                  <a:pt x="1176877" y="2727037"/>
                  <a:pt x="1185344" y="2701636"/>
                </a:cubicBezTo>
                <a:lnTo>
                  <a:pt x="1171489" y="2743200"/>
                </a:lnTo>
                <a:lnTo>
                  <a:pt x="1157635" y="2784764"/>
                </a:lnTo>
                <a:cubicBezTo>
                  <a:pt x="1209860" y="2993673"/>
                  <a:pt x="1150198" y="2830591"/>
                  <a:pt x="1642544" y="2854036"/>
                </a:cubicBezTo>
                <a:cubicBezTo>
                  <a:pt x="1679735" y="2855807"/>
                  <a:pt x="1716435" y="2863273"/>
                  <a:pt x="1753380" y="2867891"/>
                </a:cubicBezTo>
                <a:cubicBezTo>
                  <a:pt x="2012291" y="2830903"/>
                  <a:pt x="1729425" y="2867703"/>
                  <a:pt x="2279853" y="2840182"/>
                </a:cubicBezTo>
                <a:cubicBezTo>
                  <a:pt x="2599880" y="2824181"/>
                  <a:pt x="2266723" y="2834272"/>
                  <a:pt x="2473817" y="2812473"/>
                </a:cubicBezTo>
                <a:cubicBezTo>
                  <a:pt x="2538280" y="2805687"/>
                  <a:pt x="2603126" y="2803236"/>
                  <a:pt x="2667780" y="2798618"/>
                </a:cubicBezTo>
                <a:cubicBezTo>
                  <a:pt x="2832772" y="2743623"/>
                  <a:pt x="2651564" y="2799699"/>
                  <a:pt x="3083417" y="2770909"/>
                </a:cubicBezTo>
                <a:cubicBezTo>
                  <a:pt x="3097988" y="2769938"/>
                  <a:pt x="3124980" y="2757055"/>
                  <a:pt x="3124980" y="2757055"/>
                </a:cubicBezTo>
                <a:cubicBezTo>
                  <a:pt x="3061577" y="2661949"/>
                  <a:pt x="3130496" y="2779121"/>
                  <a:pt x="3083417" y="2590800"/>
                </a:cubicBezTo>
                <a:cubicBezTo>
                  <a:pt x="3079379" y="2574646"/>
                  <a:pt x="3064944" y="2563091"/>
                  <a:pt x="3055708" y="2549236"/>
                </a:cubicBezTo>
                <a:cubicBezTo>
                  <a:pt x="3025710" y="2429249"/>
                  <a:pt x="3062444" y="2559151"/>
                  <a:pt x="3014144" y="2438400"/>
                </a:cubicBezTo>
                <a:cubicBezTo>
                  <a:pt x="3003296" y="2411281"/>
                  <a:pt x="2999497" y="2381397"/>
                  <a:pt x="2986435" y="2355273"/>
                </a:cubicBezTo>
                <a:cubicBezTo>
                  <a:pt x="2977199" y="2336800"/>
                  <a:pt x="2966862" y="2318838"/>
                  <a:pt x="2958726" y="2299855"/>
                </a:cubicBezTo>
                <a:cubicBezTo>
                  <a:pt x="2952973" y="2286432"/>
                  <a:pt x="2952117" y="2270971"/>
                  <a:pt x="2944871" y="2258291"/>
                </a:cubicBezTo>
                <a:cubicBezTo>
                  <a:pt x="2933415" y="2238243"/>
                  <a:pt x="2917162" y="2221346"/>
                  <a:pt x="2903308" y="2202873"/>
                </a:cubicBezTo>
                <a:cubicBezTo>
                  <a:pt x="2868484" y="2098404"/>
                  <a:pt x="2915458" y="2227172"/>
                  <a:pt x="2861744" y="2119745"/>
                </a:cubicBezTo>
                <a:cubicBezTo>
                  <a:pt x="2855213" y="2106683"/>
                  <a:pt x="2858216" y="2088508"/>
                  <a:pt x="2847889" y="2078182"/>
                </a:cubicBezTo>
                <a:cubicBezTo>
                  <a:pt x="2824341" y="2054634"/>
                  <a:pt x="2764762" y="2022764"/>
                  <a:pt x="2764762" y="2022764"/>
                </a:cubicBezTo>
                <a:cubicBezTo>
                  <a:pt x="2713489" y="1920215"/>
                  <a:pt x="2765700" y="2010034"/>
                  <a:pt x="2695489" y="1925782"/>
                </a:cubicBezTo>
                <a:cubicBezTo>
                  <a:pt x="2684829" y="1912990"/>
                  <a:pt x="2680782" y="1894620"/>
                  <a:pt x="2667780" y="1884218"/>
                </a:cubicBezTo>
                <a:cubicBezTo>
                  <a:pt x="2656376" y="1875095"/>
                  <a:pt x="2640071" y="1874982"/>
                  <a:pt x="2626217" y="1870364"/>
                </a:cubicBezTo>
                <a:lnTo>
                  <a:pt x="2543089" y="1814945"/>
                </a:lnTo>
                <a:cubicBezTo>
                  <a:pt x="2529235" y="1805709"/>
                  <a:pt x="2514847" y="1797226"/>
                  <a:pt x="2501526" y="1787236"/>
                </a:cubicBezTo>
                <a:cubicBezTo>
                  <a:pt x="2477736" y="1769394"/>
                  <a:pt x="2432907" y="1734171"/>
                  <a:pt x="2404544" y="1717964"/>
                </a:cubicBezTo>
                <a:cubicBezTo>
                  <a:pt x="2386612" y="1707717"/>
                  <a:pt x="2366836" y="1700881"/>
                  <a:pt x="2349126" y="1690255"/>
                </a:cubicBezTo>
                <a:cubicBezTo>
                  <a:pt x="2320570" y="1673121"/>
                  <a:pt x="2295786" y="1649729"/>
                  <a:pt x="2265999" y="1634836"/>
                </a:cubicBezTo>
                <a:cubicBezTo>
                  <a:pt x="2197518" y="1600596"/>
                  <a:pt x="2230174" y="1613658"/>
                  <a:pt x="2169017" y="1593273"/>
                </a:cubicBezTo>
                <a:cubicBezTo>
                  <a:pt x="2089607" y="1474156"/>
                  <a:pt x="2195345" y="1614335"/>
                  <a:pt x="2099744" y="1537855"/>
                </a:cubicBezTo>
                <a:cubicBezTo>
                  <a:pt x="2086742" y="1527453"/>
                  <a:pt x="2082695" y="1509083"/>
                  <a:pt x="2072035" y="1496291"/>
                </a:cubicBezTo>
                <a:cubicBezTo>
                  <a:pt x="2059492" y="1481239"/>
                  <a:pt x="2043222" y="1469603"/>
                  <a:pt x="2030471" y="1454727"/>
                </a:cubicBezTo>
                <a:cubicBezTo>
                  <a:pt x="2015444" y="1437195"/>
                  <a:pt x="2005236" y="1415637"/>
                  <a:pt x="1988908" y="1399309"/>
                </a:cubicBezTo>
                <a:cubicBezTo>
                  <a:pt x="1962051" y="1372452"/>
                  <a:pt x="1939584" y="1369013"/>
                  <a:pt x="1905780" y="1357745"/>
                </a:cubicBezTo>
                <a:cubicBezTo>
                  <a:pt x="1891926" y="1343891"/>
                  <a:pt x="1880519" y="1327050"/>
                  <a:pt x="1864217" y="1316182"/>
                </a:cubicBezTo>
                <a:cubicBezTo>
                  <a:pt x="1743911" y="1235978"/>
                  <a:pt x="1913685" y="1393356"/>
                  <a:pt x="1781089" y="1260764"/>
                </a:cubicBezTo>
                <a:cubicBezTo>
                  <a:pt x="1759819" y="1196951"/>
                  <a:pt x="1764212" y="1189475"/>
                  <a:pt x="1684108" y="1136073"/>
                </a:cubicBezTo>
                <a:lnTo>
                  <a:pt x="1600980" y="1080655"/>
                </a:lnTo>
                <a:cubicBezTo>
                  <a:pt x="1575580" y="1004452"/>
                  <a:pt x="1602388" y="1072726"/>
                  <a:pt x="1559417" y="997527"/>
                </a:cubicBezTo>
                <a:cubicBezTo>
                  <a:pt x="1549170" y="979595"/>
                  <a:pt x="1544786" y="958094"/>
                  <a:pt x="1531708" y="942109"/>
                </a:cubicBezTo>
                <a:cubicBezTo>
                  <a:pt x="1502758" y="906725"/>
                  <a:pt x="1467053" y="877454"/>
                  <a:pt x="1434726" y="845127"/>
                </a:cubicBezTo>
                <a:cubicBezTo>
                  <a:pt x="1420871" y="831273"/>
                  <a:pt x="1410687" y="812326"/>
                  <a:pt x="1393162" y="803564"/>
                </a:cubicBezTo>
                <a:cubicBezTo>
                  <a:pt x="1359281" y="786624"/>
                  <a:pt x="1325556" y="772626"/>
                  <a:pt x="1296180" y="748145"/>
                </a:cubicBezTo>
                <a:cubicBezTo>
                  <a:pt x="1281128" y="735602"/>
                  <a:pt x="1270560" y="717970"/>
                  <a:pt x="1254617" y="706582"/>
                </a:cubicBezTo>
                <a:cubicBezTo>
                  <a:pt x="1237811" y="694578"/>
                  <a:pt x="1216005" y="690877"/>
                  <a:pt x="1199199" y="678873"/>
                </a:cubicBezTo>
                <a:cubicBezTo>
                  <a:pt x="1108392" y="614011"/>
                  <a:pt x="1205229" y="653173"/>
                  <a:pt x="1116071" y="623455"/>
                </a:cubicBezTo>
                <a:cubicBezTo>
                  <a:pt x="1020793" y="559935"/>
                  <a:pt x="1064537" y="578567"/>
                  <a:pt x="991380" y="554182"/>
                </a:cubicBezTo>
                <a:cubicBezTo>
                  <a:pt x="928716" y="460186"/>
                  <a:pt x="959510" y="494604"/>
                  <a:pt x="908253" y="443345"/>
                </a:cubicBezTo>
                <a:cubicBezTo>
                  <a:pt x="873431" y="338877"/>
                  <a:pt x="920404" y="467647"/>
                  <a:pt x="866689" y="360218"/>
                </a:cubicBezTo>
                <a:cubicBezTo>
                  <a:pt x="860158" y="347156"/>
                  <a:pt x="860348" y="331178"/>
                  <a:pt x="852835" y="318655"/>
                </a:cubicBezTo>
                <a:cubicBezTo>
                  <a:pt x="846115" y="307454"/>
                  <a:pt x="833286" y="301145"/>
                  <a:pt x="825126" y="290945"/>
                </a:cubicBezTo>
                <a:cubicBezTo>
                  <a:pt x="787458" y="243859"/>
                  <a:pt x="808121" y="248471"/>
                  <a:pt x="755853" y="207818"/>
                </a:cubicBezTo>
                <a:cubicBezTo>
                  <a:pt x="729566" y="187372"/>
                  <a:pt x="704319" y="162931"/>
                  <a:pt x="672726" y="152400"/>
                </a:cubicBezTo>
                <a:lnTo>
                  <a:pt x="589599" y="124691"/>
                </a:lnTo>
                <a:cubicBezTo>
                  <a:pt x="515181" y="75080"/>
                  <a:pt x="528916" y="73706"/>
                  <a:pt x="464908" y="55418"/>
                </a:cubicBezTo>
                <a:cubicBezTo>
                  <a:pt x="446599" y="50187"/>
                  <a:pt x="427727" y="47035"/>
                  <a:pt x="409489" y="41564"/>
                </a:cubicBezTo>
                <a:cubicBezTo>
                  <a:pt x="381513" y="33171"/>
                  <a:pt x="354071" y="23091"/>
                  <a:pt x="326362" y="13855"/>
                </a:cubicBezTo>
                <a:cubicBezTo>
                  <a:pt x="312508" y="9237"/>
                  <a:pt x="299403" y="0"/>
                  <a:pt x="284799" y="0"/>
                </a:cubicBezTo>
                <a:lnTo>
                  <a:pt x="284799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Скругленная соединительная линия 12"/>
          <p:cNvCxnSpPr>
            <a:endCxn id="54" idx="46"/>
          </p:cNvCxnSpPr>
          <p:nvPr/>
        </p:nvCxnSpPr>
        <p:spPr>
          <a:xfrm flipV="1" rot="10800000">
            <a:off x="1634400" y="2142000"/>
            <a:ext cx="4866480" cy="3329640"/>
          </a:xfrm>
          <a:prstGeom prst="curvedConnector5">
            <a:avLst>
              <a:gd name="adj1" fmla="val 49996"/>
              <a:gd name="adj2" fmla="val 50000"/>
              <a:gd name="adj3" fmla="val 49996"/>
            </a:avLst>
          </a:prstGeom>
          <a:ln w="28440">
            <a:solidFill>
              <a:srgbClr val="996633"/>
            </a:solidFill>
            <a:miter/>
          </a:ln>
        </p:spPr>
      </p:cxnSp>
      <p:cxnSp>
        <p:nvCxnSpPr>
          <p:cNvPr id="56" name="Скругленная соединительная линия 14"/>
          <p:cNvCxnSpPr>
            <a:endCxn id="54" idx="43"/>
          </p:cNvCxnSpPr>
          <p:nvPr/>
        </p:nvCxnSpPr>
        <p:spPr>
          <a:xfrm flipV="1" rot="10800000">
            <a:off x="1801080" y="2356920"/>
            <a:ext cx="4770720" cy="3255120"/>
          </a:xfrm>
          <a:prstGeom prst="curvedConnector5">
            <a:avLst>
              <a:gd name="adj1" fmla="val 49996"/>
              <a:gd name="adj2" fmla="val 49994"/>
              <a:gd name="adj3" fmla="val 49996"/>
            </a:avLst>
          </a:prstGeom>
          <a:ln w="28440">
            <a:solidFill>
              <a:srgbClr val="996633"/>
            </a:solidFill>
            <a:miter/>
          </a:ln>
        </p:spPr>
      </p:cxnSp>
      <p:sp>
        <p:nvSpPr>
          <p:cNvPr id="57" name="TextBox 15"/>
          <p:cNvSpPr/>
          <p:nvPr/>
        </p:nvSpPr>
        <p:spPr>
          <a:xfrm>
            <a:off x="3714840" y="2786040"/>
            <a:ext cx="121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Скругленная соединительная линия 16"/>
          <p:cNvCxnSpPr/>
          <p:nvPr/>
        </p:nvCxnSpPr>
        <p:spPr>
          <a:xfrm flipV="1" rot="10800000">
            <a:off x="1499400" y="2214360"/>
            <a:ext cx="5215680" cy="3358080"/>
          </a:xfrm>
          <a:prstGeom prst="curvedConnector5">
            <a:avLst>
              <a:gd name="adj1" fmla="val 49996"/>
              <a:gd name="adj2" fmla="val 49994"/>
              <a:gd name="adj3" fmla="val 49996"/>
            </a:avLst>
          </a:prstGeom>
          <a:ln w="76320">
            <a:solidFill>
              <a:srgbClr val="4a7ebb"/>
            </a:solidFill>
            <a:miter/>
          </a:ln>
        </p:spPr>
      </p:cxnSp>
      <p:sp>
        <p:nvSpPr>
          <p:cNvPr id="59" name="TextBox 22"/>
          <p:cNvSpPr/>
          <p:nvPr/>
        </p:nvSpPr>
        <p:spPr>
          <a:xfrm>
            <a:off x="5357880" y="28576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Прямая со стрелкой 24"/>
          <p:cNvCxnSpPr>
            <a:stCxn id="59" idx="1"/>
          </p:cNvCxnSpPr>
          <p:nvPr/>
        </p:nvCxnSpPr>
        <p:spPr>
          <a:xfrm flipH="1" flipV="1">
            <a:off x="5000400" y="2785680"/>
            <a:ext cx="357840" cy="3024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1" name="Прямая со стрелкой 27"/>
          <p:cNvCxnSpPr/>
          <p:nvPr/>
        </p:nvCxnSpPr>
        <p:spPr>
          <a:xfrm flipH="1">
            <a:off x="3285360" y="4642200"/>
            <a:ext cx="500760" cy="358200"/>
          </a:xfrm>
          <a:prstGeom prst="straightConnector1">
            <a:avLst/>
          </a:prstGeom>
          <a:ln w="57240">
            <a:solidFill>
              <a:srgbClr val="10253f"/>
            </a:solidFill>
            <a:miter/>
            <a:tailEnd len="med" type="arrow" w="med"/>
          </a:ln>
        </p:spPr>
      </p:cxnSp>
      <p:sp>
        <p:nvSpPr>
          <p:cNvPr id="62" name="Стрелка вниз 28"/>
          <p:cNvSpPr/>
          <p:nvPr/>
        </p:nvSpPr>
        <p:spPr>
          <a:xfrm>
            <a:off x="6286680" y="1643040"/>
            <a:ext cx="357120" cy="50004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29"/>
          <p:cNvSpPr/>
          <p:nvPr/>
        </p:nvSpPr>
        <p:spPr>
          <a:xfrm>
            <a:off x="6715080" y="214308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0"/>
          <p:cNvSpPr/>
          <p:nvPr/>
        </p:nvSpPr>
        <p:spPr>
          <a:xfrm>
            <a:off x="7000920" y="20718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31"/>
          <p:cNvSpPr/>
          <p:nvPr/>
        </p:nvSpPr>
        <p:spPr>
          <a:xfrm>
            <a:off x="1571760" y="5500800"/>
            <a:ext cx="285480" cy="285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2"/>
          <p:cNvSpPr/>
          <p:nvPr/>
        </p:nvSpPr>
        <p:spPr>
          <a:xfrm>
            <a:off x="1857240" y="542916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ь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3"/>
          <p:cNvSpPr/>
          <p:nvPr/>
        </p:nvSpPr>
        <p:spPr>
          <a:xfrm>
            <a:off x="3714840" y="492912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ление теч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35"/>
          <p:cNvSpPr/>
          <p:nvPr/>
        </p:nvSpPr>
        <p:spPr>
          <a:xfrm>
            <a:off x="8500320" y="1857240"/>
            <a:ext cx="71640" cy="5002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7"/>
          <p:cNvSpPr/>
          <p:nvPr/>
        </p:nvSpPr>
        <p:spPr>
          <a:xfrm>
            <a:off x="3000240" y="607212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чему река имеет течение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39"/>
          <p:cNvSpPr/>
          <p:nvPr/>
        </p:nvSpPr>
        <p:spPr>
          <a:xfrm flipV="1">
            <a:off x="7000920" y="2286000"/>
            <a:ext cx="1571760" cy="1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40"/>
          <p:cNvSpPr/>
          <p:nvPr/>
        </p:nvSpPr>
        <p:spPr>
          <a:xfrm flipV="1">
            <a:off x="1428840" y="5571720"/>
            <a:ext cx="714384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3"/>
          <p:cNvSpPr/>
          <p:nvPr/>
        </p:nvSpPr>
        <p:spPr>
          <a:xfrm>
            <a:off x="7786800" y="2214720"/>
            <a:ext cx="1357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ка – 300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ь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- 0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Скругленная соединительная линия 45"/>
          <p:cNvCxnSpPr/>
          <p:nvPr/>
        </p:nvCxnSpPr>
        <p:spPr>
          <a:xfrm rot="5400000">
            <a:off x="2428200" y="3214440"/>
            <a:ext cx="2715480" cy="28656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57240">
            <a:solidFill>
              <a:srgbClr val="4a7ebb"/>
            </a:solidFill>
            <a:miter/>
          </a:ln>
        </p:spPr>
      </p:cxnSp>
      <p:cxnSp>
        <p:nvCxnSpPr>
          <p:cNvPr id="74" name="Скругленная соединительная линия 47"/>
          <p:cNvCxnSpPr/>
          <p:nvPr/>
        </p:nvCxnSpPr>
        <p:spPr>
          <a:xfrm flipV="1" rot="10800000">
            <a:off x="4214160" y="3357360"/>
            <a:ext cx="3215520" cy="714960"/>
          </a:xfrm>
          <a:prstGeom prst="curvedConnector5">
            <a:avLst>
              <a:gd name="adj1" fmla="val 49994"/>
              <a:gd name="adj2" fmla="val 49974"/>
              <a:gd name="adj3" fmla="val 49994"/>
            </a:avLst>
          </a:prstGeom>
          <a:ln w="57240">
            <a:solidFill>
              <a:srgbClr val="4a7ebb"/>
            </a:solidFill>
            <a:miter/>
          </a:ln>
        </p:spPr>
      </p:cxnSp>
      <p:sp>
        <p:nvSpPr>
          <p:cNvPr id="75" name="TextBox 48"/>
          <p:cNvSpPr/>
          <p:nvPr/>
        </p:nvSpPr>
        <p:spPr>
          <a:xfrm>
            <a:off x="1857240" y="257184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то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Прямая со стрелкой 50"/>
          <p:cNvCxnSpPr/>
          <p:nvPr/>
        </p:nvCxnSpPr>
        <p:spPr>
          <a:xfrm flipV="1">
            <a:off x="3286080" y="2428200"/>
            <a:ext cx="643320" cy="4294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7" name="Прямая со стрелкой 51"/>
          <p:cNvCxnSpPr/>
          <p:nvPr/>
        </p:nvCxnSpPr>
        <p:spPr>
          <a:xfrm>
            <a:off x="3286080" y="2857320"/>
            <a:ext cx="2224800" cy="1152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8" name="TextBox 56"/>
          <p:cNvSpPr/>
          <p:nvPr/>
        </p:nvSpPr>
        <p:spPr>
          <a:xfrm>
            <a:off x="3143160" y="5786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определить какой приток правый, а какой левый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3286080" y="3357720"/>
            <a:ext cx="952560" cy="1143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59"/>
          <p:cNvSpPr/>
          <p:nvPr/>
        </p:nvSpPr>
        <p:spPr>
          <a:xfrm>
            <a:off x="2571840" y="185724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ый прит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0"/>
          <p:cNvSpPr/>
          <p:nvPr/>
        </p:nvSpPr>
        <p:spPr>
          <a:xfrm>
            <a:off x="6000840" y="350028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вый прито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низ 61"/>
          <p:cNvSpPr/>
          <p:nvPr/>
        </p:nvSpPr>
        <p:spPr>
          <a:xfrm>
            <a:off x="6143760" y="1571760"/>
            <a:ext cx="500040" cy="5713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лево 62"/>
          <p:cNvSpPr/>
          <p:nvPr/>
        </p:nvSpPr>
        <p:spPr>
          <a:xfrm>
            <a:off x="3929040" y="1857240"/>
            <a:ext cx="500040" cy="28584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низ 63"/>
          <p:cNvSpPr/>
          <p:nvPr/>
        </p:nvSpPr>
        <p:spPr>
          <a:xfrm>
            <a:off x="7429680" y="2857680"/>
            <a:ext cx="214200" cy="428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5"/>
          <p:cNvSpPr/>
          <p:nvPr/>
        </p:nvSpPr>
        <p:spPr>
          <a:xfrm>
            <a:off x="3786120" y="450072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а+притоки= речная систем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9 -0.00834 C -0.0184 -0.01737 -0.02534 -0.00556 -0.04114 0.00069 C -0.05191 0.01064 -0.06666 0.01365 -0.07899 0.01921 C -0.10052 0.0287 -0.12187 0.04074 -0.14444 0.04444 C -0.16006 0.05138 -0.17552 0.05833 -0.19114 0.06527 C -0.1993 0.06898 -0.20312 0.08194 -0.21006 0.08819 C -0.21284 0.0993 -0.21545 0.1074 -0.22378 0.11111 C -0.22708 0.12453 -0.22291 0.11226 -0.23072 0.12268 C -0.24166 0.13726 -0.22621 0.12291 -0.23941 0.13402 C -0.24045 0.13634 -0.24131 0.13912 -0.2427 0.14097 C -0.24409 0.14305 -0.24652 0.14351 -0.24791 0.1456 C -0.24913 0.14745 -0.24878 0.15046 -0.24965 0.15254 C -0.25173 0.1574 -0.2552 0.16111 -0.25659 0.16643 C -0.25885 0.17569 -0.26128 0.18472 -0.26354 0.19398 C -0.26736 0.20902 -0.26718 0.2287 -0.27378 0.24213 C -0.27604 0.24676 -0.27934 0.25069 -0.28072 0.25601 C -0.28125 0.25833 -0.28159 0.26088 -0.28246 0.26296 C -0.29166 0.28495 -0.2875 0.26851 -0.29114 0.28356 C -0.29444 0.29745 -0.29791 0.31111 -0.30138 0.325 C -0.30208 0.32777 -0.30364 0.33796 -0.30486 0.34097 C -0.30694 0.34583 -0.31041 0.34953 -0.3118 0.35486 C -0.31302 0.35949 -0.31232 0.36574 -0.31527 0.36851 C -0.33177 0.38356 -0.31822 0.37314 -0.3618 0.37546 C -0.36527 0.37708 -0.36857 0.37847 -0.37204 0.38009 C -0.37604 0.38194 -0.37673 0.38935 -0.37899 0.39398 C -0.3802 0.39629 -0.38263 0.39676 -0.3842 0.39861 C -0.38611 0.40069 -0.38732 0.4037 -0.38941 0.40532 C -0.39253 0.40763 -0.39965 0.40995 -0.39965 0.41018 C -0.40364 0.41805 -0.40659 0.42083 -0.41354 0.42384 C -0.41527 0.42546 -0.41736 0.42638 -0.41857 0.42847 C -0.41961 0.43032 -0.41892 0.43379 -0.42031 0.43518 C -0.42326 0.43796 -0.42725 0.43819 -0.43072 0.43981 C -0.43888 0.44351 -0.44652 0.44676 -0.45486 0.44907 C -0.47691 0.44745 -0.48802 0.44398 -0.50833 0.44676 C -0.51614 0.45717 -0.51128 0.45277 -0.52378 0.45833 C -0.52552 0.45902 -0.52899 0.46064 -0.52899 0.46088 C -0.53506 0.46851 -0.53211 0.46597 -0.53767 0.46967 E">
                                      <p:cBhvr>
                                        <p:cTn id="8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5 -0.00416 -0.01649 -0.00393 -0.05521 0 C -0.06215 0.0007 -0.06962 0.00996 -0.07587 0.01366 C -0.09774 0.02639 -0.12187 0.03218 -0.14323 0.04607 C -0.14705 0.04861 -0.14948 0.04746 -0.15347 0.05047 C -0.15694 0.05324 -0.15972 0.05787 -0.16371 0.05972 C -0.17257 0.06366 -0.1816 0.07014 -0.18958 0.07593 C -0.20989 0.09074 -0.19028 0.08056 -0.21024 0.08959 C -0.22326 0.09537 -0.22899 0.11459 -0.23958 0.12408 C -0.24184 0.13334 -0.24392 0.13727 -0.25 0.14259 C -0.25104 0.14491 -0.25191 0.14746 -0.2533 0.14931 C -0.25469 0.15116 -0.25712 0.15185 -0.25851 0.15394 C -0.25972 0.15579 -0.2592 0.1588 -0.26024 0.16088 C -0.26389 0.16806 -0.26875 0.17431 -0.27239 0.18148 C -0.27274 0.18218 -0.27899 0.19445 -0.27917 0.19537 C -0.27969 0.19769 -0.27969 0.20047 -0.2809 0.20232 C -0.28229 0.2044 -0.28437 0.20533 -0.28611 0.20695 C -0.29184 0.22986 -0.29844 0.25255 -0.3033 0.27593 C -0.30833 0.3 -0.31354 0.32639 -0.32413 0.34699 C -0.33003 0.37084 -0.32396 0.35278 -0.33264 0.36783 C -0.34219 0.38426 -0.33507 0.3794 -0.34479 0.3838 C -0.35486 0.40417 -0.34149 0.38009 -0.3533 0.39306 C -0.35486 0.39491 -0.35503 0.39861 -0.35677 0.4 C -0.36979 0.41088 -0.39861 0.41459 -0.41198 0.41597 C -0.41545 0.41759 -0.41892 0.41898 -0.42239 0.4206 C -0.42413 0.4213 -0.4276 0.42292 -0.4276 0.42292 C -0.44184 0.43588 -0.43489 0.42824 -0.44826 0.44607 C -0.44965 0.44792 -0.45017 0.45116 -0.45173 0.45278 C -0.45312 0.45417 -0.45521 0.45394 -0.45677 0.45509 C -0.46215 0.45926 -0.46632 0.4669 -0.47239 0.46898 C -0.4809 0.47199 -0.47691 0.47037 -0.48437 0.47361 C -0.49601 0.46852 -0.48351 0.47547 -0.49305 0.46435 C -0.49618 0.46065 -0.5033 0.45509 -0.5033 0.45509 C -0.52239 0.45764 -0.52292 0.45556 -0.53785 0.46898 C -0.53941 0.47037 -0.54149 0.47014 -0.54305 0.4713 C -0.5467 0.47384 -0.5533 0.48033 -0.5533 0.48033 E">
                                      <p:cBhvr>
                                        <p:cTn id="192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25 0.00926 0.00468 0.01852 0.00677 0.02778 C 0.00625 0.05995 0.00659 0.09213 0.0052 0.1243 C 0.00468 0.13634 -0.00191 0.15 -0.00521 0.16111 C -0.0066 0.16551 -0.00868 0.17477 -0.00868 0.17477 C -0.00973 0.23935 -0.00521 0.26643 -0.01736 0.31504 C -0.01875 0.33866 -0.02066 0.3625 -0.02066 0.38634 E">
                                      <p:cBhvr>
                                        <p:cTn id="202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573 0.0007 -0.01146 0.00093 -0.01719 0.00232 C -0.02257 0.0037 -0.02726 0.0088 -0.03264 0.00903 C -0.05625 0.00972 -0.07969 0.01065 -0.1033 0.01134 C -0.12969 0.02315 -0.15643 0.03171 -0.18264 0.04352 C -0.19132 0.04745 -0.19983 0.05116 -0.20851 0.05509 C -0.21198 0.05671 -0.21893 0.05972 -0.21893 0.05972 C -0.23646 0.0831 -0.2625 0.08727 -0.28612 0.08958 C -0.29532 0.09213 -0.30487 0.09259 -0.31372 0.09653 C -0.32657 0.09468 -0.33872 0.0912 -0.35 0.10116 C -0.35191 0.10949 -0.35 0.10903 -0.35504 0.10556 E">
                                      <p:cBhvr>
                                        <p:cTn id="212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Прямоугольник 24" descr=""/>
          <p:cNvPicPr/>
          <p:nvPr/>
        </p:nvPicPr>
        <p:blipFill>
          <a:blip r:embed="rId2"/>
          <a:stretch/>
        </p:blipFill>
        <p:spPr>
          <a:xfrm>
            <a:off x="1743120" y="19080"/>
            <a:ext cx="5877000" cy="1523880"/>
          </a:xfrm>
          <a:prstGeom prst="rect">
            <a:avLst/>
          </a:prstGeom>
          <a:ln w="0">
            <a:noFill/>
          </a:ln>
        </p:spPr>
      </p:pic>
      <p:sp>
        <p:nvSpPr>
          <p:cNvPr id="89" name="Двойная стрелка влево/вправо 25"/>
          <p:cNvSpPr/>
          <p:nvPr/>
        </p:nvSpPr>
        <p:spPr>
          <a:xfrm>
            <a:off x="1357200" y="2928960"/>
            <a:ext cx="7786800" cy="285840"/>
          </a:xfrm>
          <a:prstGeom prst="leftRightArrow">
            <a:avLst>
              <a:gd name="adj1" fmla="val 50000"/>
              <a:gd name="adj2" fmla="val 49943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6"/>
          <p:cNvSpPr/>
          <p:nvPr/>
        </p:nvSpPr>
        <p:spPr>
          <a:xfrm>
            <a:off x="3571920" y="25718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чная долин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9"/>
          <p:cNvSpPr/>
          <p:nvPr/>
        </p:nvSpPr>
        <p:spPr>
          <a:xfrm>
            <a:off x="5214960" y="2286000"/>
            <a:ext cx="2881440" cy="398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ечные террас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0"/>
          <p:cNvSpPr/>
          <p:nvPr/>
        </p:nvSpPr>
        <p:spPr>
          <a:xfrm flipV="1" rot="21441000">
            <a:off x="716040" y="1382760"/>
            <a:ext cx="1096920" cy="81000"/>
          </a:xfrm>
          <a:prstGeom prst="leftArrow">
            <a:avLst>
              <a:gd name="adj1" fmla="val 50000"/>
              <a:gd name="adj2" fmla="val 27322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1"/>
          <p:cNvSpPr/>
          <p:nvPr/>
        </p:nvSpPr>
        <p:spPr>
          <a:xfrm flipV="1" rot="16744200">
            <a:off x="4208040" y="3646080"/>
            <a:ext cx="2014560" cy="109440"/>
          </a:xfrm>
          <a:prstGeom prst="leftArrow">
            <a:avLst>
              <a:gd name="adj1" fmla="val 50000"/>
              <a:gd name="adj2" fmla="val 236149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1857240" y="1214280"/>
            <a:ext cx="22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клон долин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4"/>
          <p:cNvSpPr/>
          <p:nvPr/>
        </p:nvSpPr>
        <p:spPr>
          <a:xfrm rot="3670800">
            <a:off x="5163840" y="3197160"/>
            <a:ext cx="1143000" cy="69840"/>
          </a:xfrm>
          <a:prstGeom prst="rightArrow">
            <a:avLst>
              <a:gd name="adj1" fmla="val 50000"/>
              <a:gd name="adj2" fmla="val 409149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Двойная стрелка влево/вправо 35"/>
          <p:cNvSpPr/>
          <p:nvPr/>
        </p:nvSpPr>
        <p:spPr>
          <a:xfrm>
            <a:off x="2786040" y="4572000"/>
            <a:ext cx="1928880" cy="214200"/>
          </a:xfrm>
          <a:prstGeom prst="leftRightArrow">
            <a:avLst>
              <a:gd name="adj1" fmla="val 50000"/>
              <a:gd name="adj2" fmla="val 50028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6"/>
          <p:cNvSpPr/>
          <p:nvPr/>
        </p:nvSpPr>
        <p:spPr>
          <a:xfrm>
            <a:off x="2357280" y="4071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йма ре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олилиния 37"/>
          <p:cNvSpPr/>
          <p:nvPr/>
        </p:nvSpPr>
        <p:spPr>
          <a:xfrm>
            <a:off x="2868480" y="4743360"/>
            <a:ext cx="1671840" cy="1373400"/>
          </a:xfrm>
          <a:custGeom>
            <a:avLst/>
            <a:gdLst/>
            <a:ahLst/>
            <a:rect l="l" t="t" r="r" b="b"/>
            <a:pathLst>
              <a:path w="1671997" h="1372821">
                <a:moveTo>
                  <a:pt x="158507" y="1662"/>
                </a:moveTo>
                <a:lnTo>
                  <a:pt x="1183266" y="17427"/>
                </a:lnTo>
                <a:cubicBezTo>
                  <a:pt x="1346261" y="17427"/>
                  <a:pt x="1509002" y="1662"/>
                  <a:pt x="1671997" y="1662"/>
                </a:cubicBezTo>
                <a:cubicBezTo>
                  <a:pt x="1666742" y="17427"/>
                  <a:pt x="1658963" y="32566"/>
                  <a:pt x="1656231" y="48958"/>
                </a:cubicBezTo>
                <a:cubicBezTo>
                  <a:pt x="1648408" y="95898"/>
                  <a:pt x="1656729" y="146125"/>
                  <a:pt x="1640466" y="190848"/>
                </a:cubicBezTo>
                <a:cubicBezTo>
                  <a:pt x="1632035" y="214033"/>
                  <a:pt x="1564930" y="231792"/>
                  <a:pt x="1545873" y="238144"/>
                </a:cubicBezTo>
                <a:cubicBezTo>
                  <a:pt x="1530107" y="248654"/>
                  <a:pt x="1510413" y="254879"/>
                  <a:pt x="1498576" y="269675"/>
                </a:cubicBezTo>
                <a:cubicBezTo>
                  <a:pt x="1488195" y="282652"/>
                  <a:pt x="1490243" y="302108"/>
                  <a:pt x="1482811" y="316972"/>
                </a:cubicBezTo>
                <a:cubicBezTo>
                  <a:pt x="1474337" y="333920"/>
                  <a:pt x="1458975" y="346954"/>
                  <a:pt x="1451280" y="364269"/>
                </a:cubicBezTo>
                <a:cubicBezTo>
                  <a:pt x="1437781" y="394641"/>
                  <a:pt x="1430259" y="427331"/>
                  <a:pt x="1419749" y="458862"/>
                </a:cubicBezTo>
                <a:lnTo>
                  <a:pt x="1356687" y="648048"/>
                </a:lnTo>
                <a:lnTo>
                  <a:pt x="1325156" y="742641"/>
                </a:lnTo>
                <a:cubicBezTo>
                  <a:pt x="1319901" y="758407"/>
                  <a:pt x="1318608" y="776111"/>
                  <a:pt x="1309390" y="789938"/>
                </a:cubicBezTo>
                <a:lnTo>
                  <a:pt x="1277859" y="837234"/>
                </a:lnTo>
                <a:lnTo>
                  <a:pt x="1230562" y="979124"/>
                </a:lnTo>
                <a:cubicBezTo>
                  <a:pt x="1225307" y="994889"/>
                  <a:pt x="1224015" y="1012593"/>
                  <a:pt x="1214797" y="1026420"/>
                </a:cubicBezTo>
                <a:cubicBezTo>
                  <a:pt x="1193776" y="1057951"/>
                  <a:pt x="1163719" y="1085062"/>
                  <a:pt x="1151735" y="1121013"/>
                </a:cubicBezTo>
                <a:cubicBezTo>
                  <a:pt x="1129977" y="1186286"/>
                  <a:pt x="1145187" y="1154483"/>
                  <a:pt x="1104438" y="1215607"/>
                </a:cubicBezTo>
                <a:cubicBezTo>
                  <a:pt x="1099183" y="1231372"/>
                  <a:pt x="1096105" y="1248039"/>
                  <a:pt x="1088673" y="1262903"/>
                </a:cubicBezTo>
                <a:cubicBezTo>
                  <a:pt x="1033715" y="1372821"/>
                  <a:pt x="1007970" y="1306688"/>
                  <a:pt x="836425" y="1294434"/>
                </a:cubicBezTo>
                <a:cubicBezTo>
                  <a:pt x="820659" y="1289179"/>
                  <a:pt x="800879" y="1290420"/>
                  <a:pt x="789128" y="1278669"/>
                </a:cubicBezTo>
                <a:cubicBezTo>
                  <a:pt x="777377" y="1266918"/>
                  <a:pt x="780794" y="1246236"/>
                  <a:pt x="773362" y="1231372"/>
                </a:cubicBezTo>
                <a:cubicBezTo>
                  <a:pt x="764888" y="1214424"/>
                  <a:pt x="752341" y="1199841"/>
                  <a:pt x="741831" y="1184075"/>
                </a:cubicBezTo>
                <a:cubicBezTo>
                  <a:pt x="696456" y="1047951"/>
                  <a:pt x="702452" y="1108931"/>
                  <a:pt x="726066" y="931827"/>
                </a:cubicBezTo>
                <a:cubicBezTo>
                  <a:pt x="729607" y="905266"/>
                  <a:pt x="734781" y="878852"/>
                  <a:pt x="741831" y="853000"/>
                </a:cubicBezTo>
                <a:cubicBezTo>
                  <a:pt x="750576" y="820935"/>
                  <a:pt x="773362" y="758407"/>
                  <a:pt x="773362" y="758407"/>
                </a:cubicBezTo>
                <a:cubicBezTo>
                  <a:pt x="740875" y="563476"/>
                  <a:pt x="774270" y="686325"/>
                  <a:pt x="741831" y="726875"/>
                </a:cubicBezTo>
                <a:cubicBezTo>
                  <a:pt x="731450" y="739852"/>
                  <a:pt x="710300" y="737386"/>
                  <a:pt x="694535" y="742641"/>
                </a:cubicBezTo>
                <a:cubicBezTo>
                  <a:pt x="632282" y="721889"/>
                  <a:pt x="663857" y="726875"/>
                  <a:pt x="599942" y="726875"/>
                </a:cubicBezTo>
                <a:cubicBezTo>
                  <a:pt x="626218" y="789937"/>
                  <a:pt x="636092" y="862715"/>
                  <a:pt x="678769" y="916062"/>
                </a:cubicBezTo>
                <a:cubicBezTo>
                  <a:pt x="690606" y="930858"/>
                  <a:pt x="723386" y="903288"/>
                  <a:pt x="726066" y="884531"/>
                </a:cubicBezTo>
                <a:cubicBezTo>
                  <a:pt x="735015" y="821886"/>
                  <a:pt x="720703" y="757764"/>
                  <a:pt x="710300" y="695344"/>
                </a:cubicBezTo>
                <a:cubicBezTo>
                  <a:pt x="704836" y="662560"/>
                  <a:pt x="706423" y="619187"/>
                  <a:pt x="678769" y="600751"/>
                </a:cubicBezTo>
                <a:lnTo>
                  <a:pt x="631473" y="569220"/>
                </a:lnTo>
                <a:lnTo>
                  <a:pt x="584176" y="427331"/>
                </a:lnTo>
                <a:cubicBezTo>
                  <a:pt x="578921" y="411565"/>
                  <a:pt x="577629" y="393861"/>
                  <a:pt x="568411" y="380034"/>
                </a:cubicBezTo>
                <a:cubicBezTo>
                  <a:pt x="557901" y="364269"/>
                  <a:pt x="544575" y="350053"/>
                  <a:pt x="536880" y="332738"/>
                </a:cubicBezTo>
                <a:cubicBezTo>
                  <a:pt x="523381" y="302366"/>
                  <a:pt x="515860" y="269675"/>
                  <a:pt x="505349" y="238144"/>
                </a:cubicBezTo>
                <a:cubicBezTo>
                  <a:pt x="500094" y="222379"/>
                  <a:pt x="498801" y="204675"/>
                  <a:pt x="489583" y="190848"/>
                </a:cubicBezTo>
                <a:lnTo>
                  <a:pt x="458052" y="143551"/>
                </a:lnTo>
                <a:cubicBezTo>
                  <a:pt x="452797" y="127786"/>
                  <a:pt x="455810" y="105914"/>
                  <a:pt x="442287" y="96255"/>
                </a:cubicBezTo>
                <a:cubicBezTo>
                  <a:pt x="381020" y="52493"/>
                  <a:pt x="203063" y="52671"/>
                  <a:pt x="158507" y="48958"/>
                </a:cubicBezTo>
                <a:lnTo>
                  <a:pt x="63914" y="17427"/>
                </a:lnTo>
                <a:cubicBezTo>
                  <a:pt x="11633" y="0"/>
                  <a:pt x="0" y="1662"/>
                  <a:pt x="32383" y="1662"/>
                </a:cubicBezTo>
              </a:path>
            </a:pathLst>
          </a:custGeom>
          <a:solidFill>
            <a:srgbClr val="33ccff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трелка вниз 38"/>
          <p:cNvSpPr/>
          <p:nvPr/>
        </p:nvSpPr>
        <p:spPr>
          <a:xfrm>
            <a:off x="3357720" y="4643280"/>
            <a:ext cx="214200" cy="428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9"/>
          <p:cNvSpPr/>
          <p:nvPr/>
        </p:nvSpPr>
        <p:spPr>
          <a:xfrm>
            <a:off x="2714760" y="5786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ло ре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52 0.01065 0.00052 0.02153 0.00174 0.03217 C 0.00278 0.04074 0.00642 0.05116 0.00851 0.05972 C 0.01198 0.07454 0.01389 0.09074 0.01719 0.10579 C 0.02135 0.125 0.02413 0.14259 0.03958 0.14954 C 0.04531 0.14884 0.05174 0.15069 0.05694 0.14722 C 0.06372 0.14259 0.06684 0.12083 0.06892 0.11273 C 0.075 0.08842 0.06545 0.12454 0.07413 0.09884 C 0.07778 0.08796 0.08004 0.07569 0.08281 0.06435 C 0.0849 0.05579 0.08576 0.04444 0.08958 0.0368 C 0.09358 0.02893 0.09653 0.02106 0.09653 0.01157 E">
                                      <p:cBhvr>
                                        <p:cTn id="247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дораздел и речной бассей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0" y="1857240"/>
            <a:ext cx="5572080" cy="41436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5786280" y="1785960"/>
            <a:ext cx="307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дораздел – это линия раздела речных бассейно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ссейн реки – это площадь суши, с которой стекает вода к главной реке и ее притока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олилиния 11"/>
          <p:cNvSpPr/>
          <p:nvPr/>
        </p:nvSpPr>
        <p:spPr>
          <a:xfrm>
            <a:off x="1565280" y="2685960"/>
            <a:ext cx="1825560" cy="2340000"/>
          </a:xfrm>
          <a:custGeom>
            <a:avLst/>
            <a:gdLst>
              <a:gd name="textAreaLeft" fmla="*/ 0 w 1825560"/>
              <a:gd name="textAreaRight" fmla="*/ 1825920 w 1825560"/>
              <a:gd name="textAreaTop" fmla="*/ 0 h 2340000"/>
              <a:gd name="textAreaBottom" fmla="*/ 2340360 h 2340000"/>
            </a:gdLst>
            <a:ahLst/>
            <a:rect l="textAreaLeft" t="textAreaTop" r="textAreaRight" b="textAreaBottom"/>
            <a:pathLst>
              <a:path w="1825037" h="2338681">
                <a:moveTo>
                  <a:pt x="94074" y="0"/>
                </a:moveTo>
                <a:cubicBezTo>
                  <a:pt x="47037" y="268111"/>
                  <a:pt x="0" y="536222"/>
                  <a:pt x="184385" y="891822"/>
                </a:cubicBezTo>
                <a:cubicBezTo>
                  <a:pt x="368770" y="1247422"/>
                  <a:pt x="933215" y="1928519"/>
                  <a:pt x="1200385" y="2133600"/>
                </a:cubicBezTo>
                <a:cubicBezTo>
                  <a:pt x="1467555" y="2338681"/>
                  <a:pt x="1749777" y="2223911"/>
                  <a:pt x="1787407" y="2122311"/>
                </a:cubicBezTo>
                <a:cubicBezTo>
                  <a:pt x="1825037" y="2020711"/>
                  <a:pt x="1623718" y="1858904"/>
                  <a:pt x="1426163" y="1524000"/>
                </a:cubicBezTo>
                <a:cubicBezTo>
                  <a:pt x="1228608" y="1189096"/>
                  <a:pt x="760119" y="366888"/>
                  <a:pt x="602074" y="11288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олилиния 12"/>
          <p:cNvSpPr/>
          <p:nvPr/>
        </p:nvSpPr>
        <p:spPr>
          <a:xfrm>
            <a:off x="2359080" y="2065320"/>
            <a:ext cx="1584360" cy="255096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2550960"/>
              <a:gd name="textAreaBottom" fmla="*/ 2551320 h 2550960"/>
            </a:gdLst>
            <a:ahLst/>
            <a:rect l="textAreaLeft" t="textAreaTop" r="textAreaRight" b="textAreaBottom"/>
            <a:pathLst>
              <a:path w="1584207" h="2551289">
                <a:moveTo>
                  <a:pt x="0" y="0"/>
                </a:moveTo>
                <a:cubicBezTo>
                  <a:pt x="596429" y="442148"/>
                  <a:pt x="1192859" y="884296"/>
                  <a:pt x="1388533" y="1174044"/>
                </a:cubicBezTo>
                <a:cubicBezTo>
                  <a:pt x="1584207" y="1463792"/>
                  <a:pt x="1174044" y="1586089"/>
                  <a:pt x="1174044" y="1738489"/>
                </a:cubicBezTo>
                <a:cubicBezTo>
                  <a:pt x="1174044" y="1890889"/>
                  <a:pt x="1429925" y="1952977"/>
                  <a:pt x="1388533" y="2088444"/>
                </a:cubicBezTo>
                <a:cubicBezTo>
                  <a:pt x="1347141" y="2223911"/>
                  <a:pt x="925689" y="2551289"/>
                  <a:pt x="925689" y="255128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олилиния 13"/>
          <p:cNvSpPr/>
          <p:nvPr/>
        </p:nvSpPr>
        <p:spPr>
          <a:xfrm>
            <a:off x="3657600" y="2100240"/>
            <a:ext cx="1216080" cy="1932120"/>
          </a:xfrm>
          <a:custGeom>
            <a:avLst/>
            <a:gdLst>
              <a:gd name="textAreaLeft" fmla="*/ 0 w 1216080"/>
              <a:gd name="textAreaRight" fmla="*/ 1216440 w 1216080"/>
              <a:gd name="textAreaTop" fmla="*/ 0 h 1932120"/>
              <a:gd name="textAreaBottom" fmla="*/ 1932480 h 1932120"/>
            </a:gdLst>
            <a:ahLst/>
            <a:rect l="textAreaLeft" t="textAreaTop" r="textAreaRight" b="textAreaBottom"/>
            <a:pathLst>
              <a:path w="1215437" h="1932282">
                <a:moveTo>
                  <a:pt x="790222" y="0"/>
                </a:moveTo>
                <a:cubicBezTo>
                  <a:pt x="1002829" y="330200"/>
                  <a:pt x="1215437" y="660400"/>
                  <a:pt x="1196622" y="959556"/>
                </a:cubicBezTo>
                <a:cubicBezTo>
                  <a:pt x="1177807" y="1258712"/>
                  <a:pt x="767644" y="1657586"/>
                  <a:pt x="677333" y="1794934"/>
                </a:cubicBezTo>
                <a:cubicBezTo>
                  <a:pt x="587022" y="1932282"/>
                  <a:pt x="737541" y="1806223"/>
                  <a:pt x="654756" y="1783645"/>
                </a:cubicBezTo>
                <a:cubicBezTo>
                  <a:pt x="571971" y="1761067"/>
                  <a:pt x="289748" y="1635008"/>
                  <a:pt x="180622" y="1659467"/>
                </a:cubicBezTo>
                <a:cubicBezTo>
                  <a:pt x="71496" y="1683926"/>
                  <a:pt x="35748" y="1887126"/>
                  <a:pt x="0" y="19304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Прямая со стрелкой 15"/>
          <p:cNvCxnSpPr/>
          <p:nvPr/>
        </p:nvCxnSpPr>
        <p:spPr>
          <a:xfrm flipH="1" flipV="1">
            <a:off x="4357080" y="3142440"/>
            <a:ext cx="1500840" cy="1715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Прямая со стрелкой 17"/>
          <p:cNvCxnSpPr/>
          <p:nvPr/>
        </p:nvCxnSpPr>
        <p:spPr>
          <a:xfrm flipH="1" flipV="1">
            <a:off x="3142440" y="3499560"/>
            <a:ext cx="2715480" cy="1358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Прямая со стрелкой 19"/>
          <p:cNvCxnSpPr/>
          <p:nvPr/>
        </p:nvCxnSpPr>
        <p:spPr>
          <a:xfrm flipH="1" flipV="1">
            <a:off x="2714040" y="4357080"/>
            <a:ext cx="3143880" cy="500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TextBox 20"/>
          <p:cNvSpPr/>
          <p:nvPr/>
        </p:nvSpPr>
        <p:spPr>
          <a:xfrm>
            <a:off x="3429000" y="242892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ссейн Лен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1"/>
          <p:cNvSpPr/>
          <p:nvPr/>
        </p:nvSpPr>
        <p:spPr>
          <a:xfrm>
            <a:off x="2357280" y="278604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ссейн Енисе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2"/>
          <p:cNvSpPr/>
          <p:nvPr/>
        </p:nvSpPr>
        <p:spPr>
          <a:xfrm>
            <a:off x="1785960" y="350028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ссейн Об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Содержимое 4" descr=""/>
          <p:cNvPicPr/>
          <p:nvPr/>
        </p:nvPicPr>
        <p:blipFill>
          <a:blip r:embed="rId1"/>
          <a:stretch/>
        </p:blipFill>
        <p:spPr>
          <a:xfrm>
            <a:off x="457200" y="1494000"/>
            <a:ext cx="8229600" cy="464472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3" descr=""/>
          <p:cNvPicPr/>
          <p:nvPr/>
        </p:nvPicPr>
        <p:blipFill>
          <a:blip r:embed="rId2"/>
          <a:stretch/>
        </p:blipFill>
        <p:spPr>
          <a:xfrm>
            <a:off x="963720" y="231840"/>
            <a:ext cx="717372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17" name="Горизонтальный свиток 5"/>
          <p:cNvGrpSpPr/>
          <p:nvPr/>
        </p:nvGrpSpPr>
        <p:grpSpPr>
          <a:xfrm>
            <a:off x="2200320" y="6205680"/>
            <a:ext cx="5456160" cy="664920"/>
            <a:chOff x="2200320" y="6205680"/>
            <a:chExt cx="5456160" cy="664920"/>
          </a:xfrm>
        </p:grpSpPr>
        <p:pic>
          <p:nvPicPr>
            <p:cNvPr id="118" name="Горизонтальный свиток 5" descr=""/>
            <p:cNvPicPr/>
            <p:nvPr/>
          </p:nvPicPr>
          <p:blipFill>
            <a:blip r:embed="rId3"/>
            <a:stretch/>
          </p:blipFill>
          <p:spPr>
            <a:xfrm>
              <a:off x="2200320" y="6205680"/>
              <a:ext cx="545616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2295360" y="6296040"/>
              <a:ext cx="530892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ff"/>
                  </a:solidFill>
                  <a:uFillTx/>
                  <a:latin typeface="Calibri"/>
                  <a:hlinkClick r:id="rId4" action="ppaction://hlinksldjump"/>
                </a:rPr>
                <a:t>Практическая работ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7" descr=""/>
          <p:cNvPicPr/>
          <p:nvPr/>
        </p:nvPicPr>
        <p:blipFill>
          <a:blip r:embed="rId2"/>
          <a:stretch/>
        </p:blipFill>
        <p:spPr>
          <a:xfrm>
            <a:off x="390600" y="-195120"/>
            <a:ext cx="5516640" cy="1523880"/>
          </a:xfrm>
          <a:prstGeom prst="rect">
            <a:avLst/>
          </a:prstGeom>
          <a:ln w="0">
            <a:noFill/>
          </a:ln>
        </p:spPr>
      </p:pic>
      <p:sp>
        <p:nvSpPr>
          <p:cNvPr id="123" name="Полилиния 8"/>
          <p:cNvSpPr/>
          <p:nvPr/>
        </p:nvSpPr>
        <p:spPr>
          <a:xfrm>
            <a:off x="214200" y="1000080"/>
            <a:ext cx="2770200" cy="677880"/>
          </a:xfrm>
          <a:custGeom>
            <a:avLst/>
            <a:gdLst/>
            <a:ahLst/>
            <a:rect l="l" t="t" r="r" b="b"/>
            <a:pathLst>
              <a:path w="2770331" h="677917">
                <a:moveTo>
                  <a:pt x="176092" y="63062"/>
                </a:moveTo>
                <a:lnTo>
                  <a:pt x="317982" y="15766"/>
                </a:lnTo>
                <a:lnTo>
                  <a:pt x="365279" y="0"/>
                </a:lnTo>
                <a:cubicBezTo>
                  <a:pt x="438851" y="5255"/>
                  <a:pt x="513052" y="4824"/>
                  <a:pt x="585996" y="15766"/>
                </a:cubicBezTo>
                <a:cubicBezTo>
                  <a:pt x="625397" y="21676"/>
                  <a:pt x="684536" y="52225"/>
                  <a:pt x="727885" y="63062"/>
                </a:cubicBezTo>
                <a:cubicBezTo>
                  <a:pt x="748906" y="68317"/>
                  <a:pt x="770194" y="72602"/>
                  <a:pt x="790948" y="78828"/>
                </a:cubicBezTo>
                <a:cubicBezTo>
                  <a:pt x="822783" y="88379"/>
                  <a:pt x="885541" y="110359"/>
                  <a:pt x="885541" y="110359"/>
                </a:cubicBezTo>
                <a:cubicBezTo>
                  <a:pt x="911817" y="105104"/>
                  <a:pt x="938516" y="101644"/>
                  <a:pt x="964368" y="94593"/>
                </a:cubicBezTo>
                <a:cubicBezTo>
                  <a:pt x="996433" y="85848"/>
                  <a:pt x="1058961" y="63062"/>
                  <a:pt x="1058961" y="63062"/>
                </a:cubicBezTo>
                <a:cubicBezTo>
                  <a:pt x="1127278" y="68317"/>
                  <a:pt x="1195923" y="70329"/>
                  <a:pt x="1263913" y="78828"/>
                </a:cubicBezTo>
                <a:cubicBezTo>
                  <a:pt x="1280403" y="80889"/>
                  <a:pt x="1295231" y="90028"/>
                  <a:pt x="1311210" y="94593"/>
                </a:cubicBezTo>
                <a:cubicBezTo>
                  <a:pt x="1332044" y="100546"/>
                  <a:pt x="1353518" y="104133"/>
                  <a:pt x="1374272" y="110359"/>
                </a:cubicBezTo>
                <a:cubicBezTo>
                  <a:pt x="1406107" y="119910"/>
                  <a:pt x="1437334" y="131380"/>
                  <a:pt x="1468865" y="141890"/>
                </a:cubicBezTo>
                <a:lnTo>
                  <a:pt x="1516161" y="157655"/>
                </a:lnTo>
                <a:cubicBezTo>
                  <a:pt x="1531927" y="168165"/>
                  <a:pt x="1546143" y="181491"/>
                  <a:pt x="1563458" y="189186"/>
                </a:cubicBezTo>
                <a:cubicBezTo>
                  <a:pt x="1593830" y="202685"/>
                  <a:pt x="1658051" y="220717"/>
                  <a:pt x="1658051" y="220717"/>
                </a:cubicBezTo>
                <a:cubicBezTo>
                  <a:pt x="1784175" y="215462"/>
                  <a:pt x="1910962" y="218892"/>
                  <a:pt x="2036423" y="204952"/>
                </a:cubicBezTo>
                <a:cubicBezTo>
                  <a:pt x="2055255" y="202860"/>
                  <a:pt x="2066773" y="181895"/>
                  <a:pt x="2083720" y="173421"/>
                </a:cubicBezTo>
                <a:cubicBezTo>
                  <a:pt x="2106343" y="162109"/>
                  <a:pt x="2173867" y="146943"/>
                  <a:pt x="2194079" y="141890"/>
                </a:cubicBezTo>
                <a:cubicBezTo>
                  <a:pt x="2294673" y="148596"/>
                  <a:pt x="2408253" y="145838"/>
                  <a:pt x="2509389" y="173421"/>
                </a:cubicBezTo>
                <a:cubicBezTo>
                  <a:pt x="2541454" y="182166"/>
                  <a:pt x="2574254" y="190088"/>
                  <a:pt x="2603982" y="204952"/>
                </a:cubicBezTo>
                <a:cubicBezTo>
                  <a:pt x="2681908" y="243915"/>
                  <a:pt x="2644748" y="229051"/>
                  <a:pt x="2714341" y="252248"/>
                </a:cubicBezTo>
                <a:cubicBezTo>
                  <a:pt x="2736231" y="317918"/>
                  <a:pt x="2770331" y="371041"/>
                  <a:pt x="2730106" y="441435"/>
                </a:cubicBezTo>
                <a:cubicBezTo>
                  <a:pt x="2721861" y="455864"/>
                  <a:pt x="2698575" y="451945"/>
                  <a:pt x="2682810" y="457200"/>
                </a:cubicBezTo>
                <a:cubicBezTo>
                  <a:pt x="2672300" y="472966"/>
                  <a:pt x="2667347" y="494455"/>
                  <a:pt x="2651279" y="504497"/>
                </a:cubicBezTo>
                <a:cubicBezTo>
                  <a:pt x="2623094" y="522113"/>
                  <a:pt x="2556685" y="536028"/>
                  <a:pt x="2556685" y="536028"/>
                </a:cubicBezTo>
                <a:cubicBezTo>
                  <a:pt x="2546175" y="551793"/>
                  <a:pt x="2532849" y="566009"/>
                  <a:pt x="2525154" y="583324"/>
                </a:cubicBezTo>
                <a:cubicBezTo>
                  <a:pt x="2511655" y="613696"/>
                  <a:pt x="2493623" y="677917"/>
                  <a:pt x="2493623" y="677917"/>
                </a:cubicBezTo>
                <a:cubicBezTo>
                  <a:pt x="2425306" y="672662"/>
                  <a:pt x="2356662" y="670651"/>
                  <a:pt x="2288672" y="662152"/>
                </a:cubicBezTo>
                <a:cubicBezTo>
                  <a:pt x="2272182" y="660091"/>
                  <a:pt x="2257800" y="648913"/>
                  <a:pt x="2241375" y="646386"/>
                </a:cubicBezTo>
                <a:cubicBezTo>
                  <a:pt x="2189175" y="638355"/>
                  <a:pt x="2136272" y="635876"/>
                  <a:pt x="2083720" y="630621"/>
                </a:cubicBezTo>
                <a:lnTo>
                  <a:pt x="1941830" y="583324"/>
                </a:lnTo>
                <a:lnTo>
                  <a:pt x="1894534" y="567559"/>
                </a:lnTo>
                <a:cubicBezTo>
                  <a:pt x="1873513" y="572814"/>
                  <a:pt x="1849501" y="571305"/>
                  <a:pt x="1831472" y="583324"/>
                </a:cubicBezTo>
                <a:cubicBezTo>
                  <a:pt x="1815706" y="593834"/>
                  <a:pt x="1816009" y="620579"/>
                  <a:pt x="1799941" y="630621"/>
                </a:cubicBezTo>
                <a:cubicBezTo>
                  <a:pt x="1771756" y="648236"/>
                  <a:pt x="1736879" y="651642"/>
                  <a:pt x="1705348" y="662152"/>
                </a:cubicBezTo>
                <a:lnTo>
                  <a:pt x="1658051" y="677917"/>
                </a:lnTo>
                <a:cubicBezTo>
                  <a:pt x="1537182" y="672662"/>
                  <a:pt x="1415785" y="674601"/>
                  <a:pt x="1295444" y="662152"/>
                </a:cubicBezTo>
                <a:cubicBezTo>
                  <a:pt x="1295439" y="662152"/>
                  <a:pt x="1177204" y="622738"/>
                  <a:pt x="1153554" y="614855"/>
                </a:cubicBezTo>
                <a:lnTo>
                  <a:pt x="1106258" y="599090"/>
                </a:lnTo>
                <a:cubicBezTo>
                  <a:pt x="953858" y="604345"/>
                  <a:pt x="801269" y="605630"/>
                  <a:pt x="649058" y="614855"/>
                </a:cubicBezTo>
                <a:cubicBezTo>
                  <a:pt x="627430" y="616166"/>
                  <a:pt x="607314" y="626745"/>
                  <a:pt x="585996" y="630621"/>
                </a:cubicBezTo>
                <a:cubicBezTo>
                  <a:pt x="549436" y="637268"/>
                  <a:pt x="512423" y="641131"/>
                  <a:pt x="475637" y="646386"/>
                </a:cubicBezTo>
                <a:cubicBezTo>
                  <a:pt x="467339" y="644726"/>
                  <a:pt x="348595" y="622278"/>
                  <a:pt x="333748" y="614855"/>
                </a:cubicBezTo>
                <a:cubicBezTo>
                  <a:pt x="320453" y="608208"/>
                  <a:pt x="314962" y="590971"/>
                  <a:pt x="302216" y="583324"/>
                </a:cubicBezTo>
                <a:cubicBezTo>
                  <a:pt x="287966" y="574774"/>
                  <a:pt x="270685" y="572814"/>
                  <a:pt x="254920" y="567559"/>
                </a:cubicBezTo>
                <a:cubicBezTo>
                  <a:pt x="239154" y="557049"/>
                  <a:pt x="220100" y="550288"/>
                  <a:pt x="207623" y="536028"/>
                </a:cubicBezTo>
                <a:cubicBezTo>
                  <a:pt x="78869" y="388882"/>
                  <a:pt x="203682" y="480850"/>
                  <a:pt x="97265" y="409904"/>
                </a:cubicBezTo>
                <a:cubicBezTo>
                  <a:pt x="92010" y="394138"/>
                  <a:pt x="91880" y="375584"/>
                  <a:pt x="81499" y="362607"/>
                </a:cubicBezTo>
                <a:cubicBezTo>
                  <a:pt x="0" y="260733"/>
                  <a:pt x="58066" y="402662"/>
                  <a:pt x="18437" y="283779"/>
                </a:cubicBezTo>
                <a:cubicBezTo>
                  <a:pt x="23692" y="231227"/>
                  <a:pt x="7592" y="171743"/>
                  <a:pt x="34203" y="126124"/>
                </a:cubicBezTo>
                <a:cubicBezTo>
                  <a:pt x="34204" y="126123"/>
                  <a:pt x="152443" y="86711"/>
                  <a:pt x="176092" y="78828"/>
                </a:cubicBezTo>
                <a:cubicBezTo>
                  <a:pt x="228374" y="61401"/>
                  <a:pt x="223389" y="79680"/>
                  <a:pt x="176092" y="63062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9"/>
          <p:cNvSpPr/>
          <p:nvPr/>
        </p:nvSpPr>
        <p:spPr>
          <a:xfrm>
            <a:off x="3643200" y="178596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10"/>
          <p:cNvSpPr/>
          <p:nvPr/>
        </p:nvSpPr>
        <p:spPr>
          <a:xfrm>
            <a:off x="4214880" y="17859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11"/>
          <p:cNvSpPr/>
          <p:nvPr/>
        </p:nvSpPr>
        <p:spPr>
          <a:xfrm>
            <a:off x="4714920" y="17859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13"/>
          <p:cNvSpPr/>
          <p:nvPr/>
        </p:nvSpPr>
        <p:spPr>
          <a:xfrm>
            <a:off x="3795840" y="19382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14"/>
          <p:cNvSpPr/>
          <p:nvPr/>
        </p:nvSpPr>
        <p:spPr>
          <a:xfrm>
            <a:off x="4367160" y="19382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15"/>
          <p:cNvSpPr/>
          <p:nvPr/>
        </p:nvSpPr>
        <p:spPr>
          <a:xfrm>
            <a:off x="4867200" y="193824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16"/>
          <p:cNvSpPr/>
          <p:nvPr/>
        </p:nvSpPr>
        <p:spPr>
          <a:xfrm>
            <a:off x="3948120" y="20908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17"/>
          <p:cNvSpPr/>
          <p:nvPr/>
        </p:nvSpPr>
        <p:spPr>
          <a:xfrm>
            <a:off x="4519440" y="2090880"/>
            <a:ext cx="21456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18"/>
          <p:cNvSpPr/>
          <p:nvPr/>
        </p:nvSpPr>
        <p:spPr>
          <a:xfrm>
            <a:off x="5019840" y="20908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19"/>
          <p:cNvSpPr/>
          <p:nvPr/>
        </p:nvSpPr>
        <p:spPr>
          <a:xfrm>
            <a:off x="4100400" y="224316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20"/>
          <p:cNvSpPr/>
          <p:nvPr/>
        </p:nvSpPr>
        <p:spPr>
          <a:xfrm>
            <a:off x="4672080" y="22431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21"/>
          <p:cNvSpPr/>
          <p:nvPr/>
        </p:nvSpPr>
        <p:spPr>
          <a:xfrm>
            <a:off x="5172120" y="22431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22"/>
          <p:cNvSpPr/>
          <p:nvPr/>
        </p:nvSpPr>
        <p:spPr>
          <a:xfrm>
            <a:off x="4253040" y="23954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23"/>
          <p:cNvSpPr/>
          <p:nvPr/>
        </p:nvSpPr>
        <p:spPr>
          <a:xfrm>
            <a:off x="4824360" y="23954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24"/>
          <p:cNvSpPr/>
          <p:nvPr/>
        </p:nvSpPr>
        <p:spPr>
          <a:xfrm>
            <a:off x="5324400" y="239544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25"/>
          <p:cNvSpPr/>
          <p:nvPr/>
        </p:nvSpPr>
        <p:spPr>
          <a:xfrm>
            <a:off x="4405320" y="25480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26"/>
          <p:cNvSpPr/>
          <p:nvPr/>
        </p:nvSpPr>
        <p:spPr>
          <a:xfrm>
            <a:off x="4976640" y="2548080"/>
            <a:ext cx="21456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27"/>
          <p:cNvSpPr/>
          <p:nvPr/>
        </p:nvSpPr>
        <p:spPr>
          <a:xfrm>
            <a:off x="5477040" y="25480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олилиния 28"/>
          <p:cNvSpPr/>
          <p:nvPr/>
        </p:nvSpPr>
        <p:spPr>
          <a:xfrm>
            <a:off x="6858000" y="1908000"/>
            <a:ext cx="1812960" cy="819360"/>
          </a:xfrm>
          <a:custGeom>
            <a:avLst/>
            <a:gdLst/>
            <a:ahLst/>
            <a:rect l="l" t="t" r="r" b="b"/>
            <a:pathLst>
              <a:path w="1813034" h="819806">
                <a:moveTo>
                  <a:pt x="1813034" y="0"/>
                </a:moveTo>
                <a:cubicBezTo>
                  <a:pt x="1751446" y="184765"/>
                  <a:pt x="1806670" y="289"/>
                  <a:pt x="1765738" y="204951"/>
                </a:cubicBezTo>
                <a:cubicBezTo>
                  <a:pt x="1762479" y="221247"/>
                  <a:pt x="1761723" y="240497"/>
                  <a:pt x="1749972" y="252248"/>
                </a:cubicBezTo>
                <a:cubicBezTo>
                  <a:pt x="1738221" y="263999"/>
                  <a:pt x="1718441" y="262758"/>
                  <a:pt x="1702676" y="268013"/>
                </a:cubicBezTo>
                <a:cubicBezTo>
                  <a:pt x="1686910" y="278523"/>
                  <a:pt x="1674069" y="296429"/>
                  <a:pt x="1655379" y="299544"/>
                </a:cubicBezTo>
                <a:cubicBezTo>
                  <a:pt x="1638987" y="302276"/>
                  <a:pt x="1624599" y="285614"/>
                  <a:pt x="1608083" y="283779"/>
                </a:cubicBezTo>
                <a:cubicBezTo>
                  <a:pt x="1576745" y="280297"/>
                  <a:pt x="1545021" y="283779"/>
                  <a:pt x="1513490" y="283779"/>
                </a:cubicBezTo>
                <a:cubicBezTo>
                  <a:pt x="1345324" y="315310"/>
                  <a:pt x="1170335" y="321428"/>
                  <a:pt x="1008993" y="378372"/>
                </a:cubicBezTo>
                <a:cubicBezTo>
                  <a:pt x="977651" y="389434"/>
                  <a:pt x="987972" y="441434"/>
                  <a:pt x="977462" y="472965"/>
                </a:cubicBezTo>
                <a:lnTo>
                  <a:pt x="914400" y="662151"/>
                </a:lnTo>
                <a:lnTo>
                  <a:pt x="898634" y="709448"/>
                </a:lnTo>
                <a:cubicBezTo>
                  <a:pt x="893379" y="725213"/>
                  <a:pt x="896696" y="747526"/>
                  <a:pt x="882869" y="756744"/>
                </a:cubicBezTo>
                <a:cubicBezTo>
                  <a:pt x="867103" y="767254"/>
                  <a:pt x="852887" y="780580"/>
                  <a:pt x="835572" y="788275"/>
                </a:cubicBezTo>
                <a:cubicBezTo>
                  <a:pt x="805200" y="801774"/>
                  <a:pt x="740979" y="819806"/>
                  <a:pt x="740979" y="819806"/>
                </a:cubicBezTo>
                <a:cubicBezTo>
                  <a:pt x="609600" y="814551"/>
                  <a:pt x="478325" y="804041"/>
                  <a:pt x="346841" y="804041"/>
                </a:cubicBezTo>
                <a:cubicBezTo>
                  <a:pt x="231108" y="804041"/>
                  <a:pt x="0" y="819806"/>
                  <a:pt x="0" y="81980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олилиния 29"/>
          <p:cNvSpPr/>
          <p:nvPr/>
        </p:nvSpPr>
        <p:spPr>
          <a:xfrm>
            <a:off x="6573960" y="1039680"/>
            <a:ext cx="1719000" cy="2301840"/>
          </a:xfrm>
          <a:custGeom>
            <a:avLst/>
            <a:gdLst/>
            <a:ahLst/>
            <a:rect l="l" t="t" r="r" b="b"/>
            <a:pathLst>
              <a:path w="1718441" h="2301766">
                <a:moveTo>
                  <a:pt x="1718441" y="0"/>
                </a:moveTo>
                <a:cubicBezTo>
                  <a:pt x="1707931" y="15766"/>
                  <a:pt x="1702978" y="37255"/>
                  <a:pt x="1686910" y="47297"/>
                </a:cubicBezTo>
                <a:cubicBezTo>
                  <a:pt x="1661320" y="63291"/>
                  <a:pt x="1566176" y="85363"/>
                  <a:pt x="1529255" y="94593"/>
                </a:cubicBezTo>
                <a:cubicBezTo>
                  <a:pt x="1524000" y="120869"/>
                  <a:pt x="1522898" y="148331"/>
                  <a:pt x="1513489" y="173421"/>
                </a:cubicBezTo>
                <a:cubicBezTo>
                  <a:pt x="1506836" y="191162"/>
                  <a:pt x="1486943" y="202437"/>
                  <a:pt x="1481958" y="220717"/>
                </a:cubicBezTo>
                <a:cubicBezTo>
                  <a:pt x="1470810" y="261593"/>
                  <a:pt x="1475070" y="305414"/>
                  <a:pt x="1466193" y="346842"/>
                </a:cubicBezTo>
                <a:cubicBezTo>
                  <a:pt x="1459229" y="379341"/>
                  <a:pt x="1445172" y="409904"/>
                  <a:pt x="1434662" y="441435"/>
                </a:cubicBezTo>
                <a:cubicBezTo>
                  <a:pt x="1429407" y="457200"/>
                  <a:pt x="1432723" y="479513"/>
                  <a:pt x="1418896" y="488731"/>
                </a:cubicBezTo>
                <a:lnTo>
                  <a:pt x="1277007" y="583324"/>
                </a:lnTo>
                <a:lnTo>
                  <a:pt x="1229710" y="614855"/>
                </a:lnTo>
                <a:cubicBezTo>
                  <a:pt x="1185052" y="748836"/>
                  <a:pt x="1247335" y="585481"/>
                  <a:pt x="1182413" y="693683"/>
                </a:cubicBezTo>
                <a:cubicBezTo>
                  <a:pt x="1173863" y="707933"/>
                  <a:pt x="1174080" y="726115"/>
                  <a:pt x="1166648" y="740979"/>
                </a:cubicBezTo>
                <a:cubicBezTo>
                  <a:pt x="1158174" y="757927"/>
                  <a:pt x="1142812" y="770961"/>
                  <a:pt x="1135117" y="788276"/>
                </a:cubicBezTo>
                <a:cubicBezTo>
                  <a:pt x="1121618" y="818648"/>
                  <a:pt x="1114096" y="851338"/>
                  <a:pt x="1103586" y="882869"/>
                </a:cubicBezTo>
                <a:lnTo>
                  <a:pt x="1087820" y="930166"/>
                </a:lnTo>
                <a:cubicBezTo>
                  <a:pt x="1082565" y="945931"/>
                  <a:pt x="1081273" y="963635"/>
                  <a:pt x="1072055" y="977462"/>
                </a:cubicBezTo>
                <a:cubicBezTo>
                  <a:pt x="1061545" y="993228"/>
                  <a:pt x="1048998" y="1007812"/>
                  <a:pt x="1040524" y="1024759"/>
                </a:cubicBezTo>
                <a:cubicBezTo>
                  <a:pt x="1012350" y="1081106"/>
                  <a:pt x="1039551" y="1124178"/>
                  <a:pt x="930165" y="1135117"/>
                </a:cubicBezTo>
                <a:lnTo>
                  <a:pt x="772510" y="1150883"/>
                </a:lnTo>
                <a:cubicBezTo>
                  <a:pt x="613521" y="1203877"/>
                  <a:pt x="860162" y="1123010"/>
                  <a:pt x="662151" y="1182414"/>
                </a:cubicBezTo>
                <a:cubicBezTo>
                  <a:pt x="630316" y="1191965"/>
                  <a:pt x="599089" y="1203435"/>
                  <a:pt x="567558" y="1213945"/>
                </a:cubicBezTo>
                <a:lnTo>
                  <a:pt x="520262" y="1229710"/>
                </a:lnTo>
                <a:lnTo>
                  <a:pt x="472965" y="1245476"/>
                </a:lnTo>
                <a:lnTo>
                  <a:pt x="425669" y="1261242"/>
                </a:lnTo>
                <a:cubicBezTo>
                  <a:pt x="368168" y="1433737"/>
                  <a:pt x="464483" y="1177066"/>
                  <a:pt x="362607" y="1340069"/>
                </a:cubicBezTo>
                <a:cubicBezTo>
                  <a:pt x="344992" y="1368254"/>
                  <a:pt x="341586" y="1403131"/>
                  <a:pt x="331076" y="1434662"/>
                </a:cubicBezTo>
                <a:cubicBezTo>
                  <a:pt x="325821" y="1450428"/>
                  <a:pt x="324528" y="1468132"/>
                  <a:pt x="315310" y="1481959"/>
                </a:cubicBezTo>
                <a:cubicBezTo>
                  <a:pt x="304800" y="1497724"/>
                  <a:pt x="291474" y="1511940"/>
                  <a:pt x="283779" y="1529255"/>
                </a:cubicBezTo>
                <a:cubicBezTo>
                  <a:pt x="270280" y="1559627"/>
                  <a:pt x="262758" y="1592317"/>
                  <a:pt x="252248" y="1623848"/>
                </a:cubicBezTo>
                <a:lnTo>
                  <a:pt x="220717" y="1718442"/>
                </a:lnTo>
                <a:lnTo>
                  <a:pt x="110358" y="2049517"/>
                </a:lnTo>
                <a:lnTo>
                  <a:pt x="78827" y="2144110"/>
                </a:lnTo>
                <a:cubicBezTo>
                  <a:pt x="78825" y="2144115"/>
                  <a:pt x="47299" y="2238700"/>
                  <a:pt x="47296" y="2238704"/>
                </a:cubicBezTo>
                <a:cubicBezTo>
                  <a:pt x="11642" y="2292184"/>
                  <a:pt x="29163" y="2272602"/>
                  <a:pt x="0" y="230176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олилиния 30"/>
          <p:cNvSpPr/>
          <p:nvPr/>
        </p:nvSpPr>
        <p:spPr>
          <a:xfrm>
            <a:off x="2602080" y="2995560"/>
            <a:ext cx="6368760" cy="1749600"/>
          </a:xfrm>
          <a:custGeom>
            <a:avLst/>
            <a:gdLst/>
            <a:ahLst/>
            <a:rect l="l" t="t" r="r" b="b"/>
            <a:pathLst>
              <a:path w="6369269" h="1749973">
                <a:moveTo>
                  <a:pt x="6369269" y="0"/>
                </a:moveTo>
                <a:cubicBezTo>
                  <a:pt x="6134993" y="78092"/>
                  <a:pt x="6307891" y="30345"/>
                  <a:pt x="5833242" y="47297"/>
                </a:cubicBezTo>
                <a:cubicBezTo>
                  <a:pt x="5737938" y="71122"/>
                  <a:pt x="5790732" y="56211"/>
                  <a:pt x="5675587" y="94593"/>
                </a:cubicBezTo>
                <a:lnTo>
                  <a:pt x="5628290" y="110359"/>
                </a:lnTo>
                <a:cubicBezTo>
                  <a:pt x="5597271" y="141377"/>
                  <a:pt x="5526330" y="218500"/>
                  <a:pt x="5486400" y="220718"/>
                </a:cubicBezTo>
                <a:cubicBezTo>
                  <a:pt x="5128975" y="240574"/>
                  <a:pt x="5297119" y="229733"/>
                  <a:pt x="4981904" y="252249"/>
                </a:cubicBezTo>
                <a:cubicBezTo>
                  <a:pt x="4602576" y="328112"/>
                  <a:pt x="5113603" y="230781"/>
                  <a:pt x="4035973" y="283780"/>
                </a:cubicBezTo>
                <a:cubicBezTo>
                  <a:pt x="4002777" y="285413"/>
                  <a:pt x="3972911" y="304801"/>
                  <a:pt x="3941380" y="315311"/>
                </a:cubicBezTo>
                <a:lnTo>
                  <a:pt x="3846787" y="346842"/>
                </a:lnTo>
                <a:cubicBezTo>
                  <a:pt x="3831021" y="352097"/>
                  <a:pt x="3816059" y="361332"/>
                  <a:pt x="3799490" y="362607"/>
                </a:cubicBezTo>
                <a:lnTo>
                  <a:pt x="3594538" y="378373"/>
                </a:lnTo>
                <a:cubicBezTo>
                  <a:pt x="3578773" y="383628"/>
                  <a:pt x="3558993" y="382387"/>
                  <a:pt x="3547242" y="394138"/>
                </a:cubicBezTo>
                <a:cubicBezTo>
                  <a:pt x="3520446" y="420934"/>
                  <a:pt x="3510976" y="461935"/>
                  <a:pt x="3484180" y="488731"/>
                </a:cubicBezTo>
                <a:lnTo>
                  <a:pt x="3436883" y="536028"/>
                </a:lnTo>
                <a:cubicBezTo>
                  <a:pt x="3431628" y="551793"/>
                  <a:pt x="3429188" y="568797"/>
                  <a:pt x="3421118" y="583324"/>
                </a:cubicBezTo>
                <a:cubicBezTo>
                  <a:pt x="3376550" y="663548"/>
                  <a:pt x="3374365" y="661610"/>
                  <a:pt x="3326524" y="709449"/>
                </a:cubicBezTo>
                <a:cubicBezTo>
                  <a:pt x="3321269" y="725214"/>
                  <a:pt x="3324282" y="747086"/>
                  <a:pt x="3310759" y="756745"/>
                </a:cubicBezTo>
                <a:cubicBezTo>
                  <a:pt x="3283713" y="776063"/>
                  <a:pt x="3216166" y="788276"/>
                  <a:pt x="3216166" y="788276"/>
                </a:cubicBezTo>
                <a:cubicBezTo>
                  <a:pt x="3192255" y="804217"/>
                  <a:pt x="3154207" y="835573"/>
                  <a:pt x="3121573" y="835573"/>
                </a:cubicBezTo>
                <a:cubicBezTo>
                  <a:pt x="3104954" y="835573"/>
                  <a:pt x="3090042" y="825062"/>
                  <a:pt x="3074276" y="819807"/>
                </a:cubicBezTo>
                <a:cubicBezTo>
                  <a:pt x="2885090" y="825062"/>
                  <a:pt x="2695447" y="821418"/>
                  <a:pt x="2506718" y="835573"/>
                </a:cubicBezTo>
                <a:cubicBezTo>
                  <a:pt x="2434172" y="841014"/>
                  <a:pt x="2457864" y="871191"/>
                  <a:pt x="2412124" y="898635"/>
                </a:cubicBezTo>
                <a:cubicBezTo>
                  <a:pt x="2397874" y="907185"/>
                  <a:pt x="2380593" y="909145"/>
                  <a:pt x="2364828" y="914400"/>
                </a:cubicBezTo>
                <a:cubicBezTo>
                  <a:pt x="2333297" y="935421"/>
                  <a:pt x="2291256" y="945931"/>
                  <a:pt x="2270235" y="977462"/>
                </a:cubicBezTo>
                <a:cubicBezTo>
                  <a:pt x="2229486" y="1038586"/>
                  <a:pt x="2256680" y="1018767"/>
                  <a:pt x="2191407" y="1040524"/>
                </a:cubicBezTo>
                <a:cubicBezTo>
                  <a:pt x="2065281" y="1124609"/>
                  <a:pt x="2217686" y="1014246"/>
                  <a:pt x="2112580" y="1119352"/>
                </a:cubicBezTo>
                <a:cubicBezTo>
                  <a:pt x="2099182" y="1132750"/>
                  <a:pt x="2081049" y="1140373"/>
                  <a:pt x="2065283" y="1150883"/>
                </a:cubicBezTo>
                <a:cubicBezTo>
                  <a:pt x="2002484" y="1245083"/>
                  <a:pt x="2071067" y="1163180"/>
                  <a:pt x="1986456" y="1213945"/>
                </a:cubicBezTo>
                <a:cubicBezTo>
                  <a:pt x="1973710" y="1221592"/>
                  <a:pt x="1966531" y="1236191"/>
                  <a:pt x="1954924" y="1245476"/>
                </a:cubicBezTo>
                <a:cubicBezTo>
                  <a:pt x="1940128" y="1257312"/>
                  <a:pt x="1924575" y="1268533"/>
                  <a:pt x="1907628" y="1277007"/>
                </a:cubicBezTo>
                <a:cubicBezTo>
                  <a:pt x="1777085" y="1342279"/>
                  <a:pt x="1948577" y="1233942"/>
                  <a:pt x="1813035" y="1324304"/>
                </a:cubicBezTo>
                <a:cubicBezTo>
                  <a:pt x="1802525" y="1340069"/>
                  <a:pt x="1797572" y="1361558"/>
                  <a:pt x="1781504" y="1371600"/>
                </a:cubicBezTo>
                <a:cubicBezTo>
                  <a:pt x="1753319" y="1389215"/>
                  <a:pt x="1686911" y="1403131"/>
                  <a:pt x="1686911" y="1403131"/>
                </a:cubicBezTo>
                <a:cubicBezTo>
                  <a:pt x="1676401" y="1418897"/>
                  <a:pt x="1672328" y="1441954"/>
                  <a:pt x="1655380" y="1450428"/>
                </a:cubicBezTo>
                <a:cubicBezTo>
                  <a:pt x="1626789" y="1464724"/>
                  <a:pt x="1591992" y="1459259"/>
                  <a:pt x="1560787" y="1466193"/>
                </a:cubicBezTo>
                <a:cubicBezTo>
                  <a:pt x="1544564" y="1469798"/>
                  <a:pt x="1529256" y="1476704"/>
                  <a:pt x="1513490" y="1481959"/>
                </a:cubicBezTo>
                <a:cubicBezTo>
                  <a:pt x="1355835" y="1476704"/>
                  <a:pt x="1197722" y="1479293"/>
                  <a:pt x="1040524" y="1466193"/>
                </a:cubicBezTo>
                <a:cubicBezTo>
                  <a:pt x="1007402" y="1463433"/>
                  <a:pt x="977462" y="1445172"/>
                  <a:pt x="945931" y="1434662"/>
                </a:cubicBezTo>
                <a:lnTo>
                  <a:pt x="898635" y="1418897"/>
                </a:lnTo>
                <a:cubicBezTo>
                  <a:pt x="756745" y="1424152"/>
                  <a:pt x="614638" y="1425217"/>
                  <a:pt x="472966" y="1434662"/>
                </a:cubicBezTo>
                <a:cubicBezTo>
                  <a:pt x="427242" y="1437710"/>
                  <a:pt x="417208" y="1462541"/>
                  <a:pt x="378373" y="1481959"/>
                </a:cubicBezTo>
                <a:cubicBezTo>
                  <a:pt x="342340" y="1499975"/>
                  <a:pt x="288219" y="1504497"/>
                  <a:pt x="252249" y="1513490"/>
                </a:cubicBezTo>
                <a:cubicBezTo>
                  <a:pt x="236127" y="1517521"/>
                  <a:pt x="220718" y="1524000"/>
                  <a:pt x="204952" y="1529255"/>
                </a:cubicBezTo>
                <a:cubicBezTo>
                  <a:pt x="165327" y="1648135"/>
                  <a:pt x="223387" y="1506212"/>
                  <a:pt x="141890" y="1608083"/>
                </a:cubicBezTo>
                <a:cubicBezTo>
                  <a:pt x="80738" y="1684522"/>
                  <a:pt x="182019" y="1636749"/>
                  <a:pt x="78828" y="1671145"/>
                </a:cubicBezTo>
                <a:cubicBezTo>
                  <a:pt x="63062" y="1681655"/>
                  <a:pt x="44929" y="1689278"/>
                  <a:pt x="31531" y="1702676"/>
                </a:cubicBezTo>
                <a:cubicBezTo>
                  <a:pt x="18133" y="1716074"/>
                  <a:pt x="0" y="1749973"/>
                  <a:pt x="0" y="1749973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олилиния 32"/>
          <p:cNvSpPr/>
          <p:nvPr/>
        </p:nvSpPr>
        <p:spPr>
          <a:xfrm>
            <a:off x="5565600" y="3973680"/>
            <a:ext cx="2963880" cy="1653840"/>
          </a:xfrm>
          <a:custGeom>
            <a:avLst/>
            <a:gdLst/>
            <a:ahLst/>
            <a:rect l="l" t="t" r="r" b="b"/>
            <a:pathLst>
              <a:path w="2965192" h="1655380">
                <a:moveTo>
                  <a:pt x="0" y="0"/>
                </a:moveTo>
                <a:cubicBezTo>
                  <a:pt x="3987" y="121"/>
                  <a:pt x="702119" y="17409"/>
                  <a:pt x="819806" y="31531"/>
                </a:cubicBezTo>
                <a:cubicBezTo>
                  <a:pt x="852806" y="35491"/>
                  <a:pt x="882869" y="52551"/>
                  <a:pt x="914400" y="63062"/>
                </a:cubicBezTo>
                <a:cubicBezTo>
                  <a:pt x="930165" y="68317"/>
                  <a:pt x="947869" y="69610"/>
                  <a:pt x="961696" y="78828"/>
                </a:cubicBezTo>
                <a:cubicBezTo>
                  <a:pt x="977462" y="89338"/>
                  <a:pt x="991678" y="102664"/>
                  <a:pt x="1008993" y="110359"/>
                </a:cubicBezTo>
                <a:cubicBezTo>
                  <a:pt x="1039365" y="123858"/>
                  <a:pt x="1072055" y="131380"/>
                  <a:pt x="1103586" y="141890"/>
                </a:cubicBezTo>
                <a:cubicBezTo>
                  <a:pt x="1119351" y="147145"/>
                  <a:pt x="1137055" y="148438"/>
                  <a:pt x="1150882" y="157656"/>
                </a:cubicBezTo>
                <a:cubicBezTo>
                  <a:pt x="1166648" y="168166"/>
                  <a:pt x="1180864" y="181492"/>
                  <a:pt x="1198179" y="189187"/>
                </a:cubicBezTo>
                <a:cubicBezTo>
                  <a:pt x="1367032" y="264233"/>
                  <a:pt x="1233030" y="180890"/>
                  <a:pt x="1340069" y="252249"/>
                </a:cubicBezTo>
                <a:cubicBezTo>
                  <a:pt x="1350579" y="268014"/>
                  <a:pt x="1355532" y="289503"/>
                  <a:pt x="1371600" y="299545"/>
                </a:cubicBezTo>
                <a:cubicBezTo>
                  <a:pt x="1399785" y="317160"/>
                  <a:pt x="1466193" y="331076"/>
                  <a:pt x="1466193" y="331076"/>
                </a:cubicBezTo>
                <a:cubicBezTo>
                  <a:pt x="1541144" y="381044"/>
                  <a:pt x="1495513" y="356615"/>
                  <a:pt x="1608082" y="394138"/>
                </a:cubicBezTo>
                <a:cubicBezTo>
                  <a:pt x="1623848" y="399393"/>
                  <a:pt x="1641552" y="400686"/>
                  <a:pt x="1655379" y="409904"/>
                </a:cubicBezTo>
                <a:cubicBezTo>
                  <a:pt x="1671144" y="420414"/>
                  <a:pt x="1685360" y="433740"/>
                  <a:pt x="1702675" y="441435"/>
                </a:cubicBezTo>
                <a:cubicBezTo>
                  <a:pt x="1733047" y="454934"/>
                  <a:pt x="1797269" y="472966"/>
                  <a:pt x="1797269" y="472966"/>
                </a:cubicBezTo>
                <a:cubicBezTo>
                  <a:pt x="1855529" y="560355"/>
                  <a:pt x="1795467" y="491234"/>
                  <a:pt x="1876096" y="536028"/>
                </a:cubicBezTo>
                <a:cubicBezTo>
                  <a:pt x="1909223" y="554432"/>
                  <a:pt x="1934738" y="587106"/>
                  <a:pt x="1970689" y="599090"/>
                </a:cubicBezTo>
                <a:lnTo>
                  <a:pt x="2065282" y="630621"/>
                </a:lnTo>
                <a:cubicBezTo>
                  <a:pt x="2075792" y="646387"/>
                  <a:pt x="2082017" y="666081"/>
                  <a:pt x="2096813" y="677918"/>
                </a:cubicBezTo>
                <a:cubicBezTo>
                  <a:pt x="2109790" y="688299"/>
                  <a:pt x="2129246" y="686251"/>
                  <a:pt x="2144110" y="693683"/>
                </a:cubicBezTo>
                <a:cubicBezTo>
                  <a:pt x="2161057" y="702157"/>
                  <a:pt x="2174459" y="716740"/>
                  <a:pt x="2191406" y="725214"/>
                </a:cubicBezTo>
                <a:cubicBezTo>
                  <a:pt x="2206270" y="732646"/>
                  <a:pt x="2223839" y="733548"/>
                  <a:pt x="2238703" y="740980"/>
                </a:cubicBezTo>
                <a:cubicBezTo>
                  <a:pt x="2341868" y="792562"/>
                  <a:pt x="2228692" y="750071"/>
                  <a:pt x="2333296" y="819807"/>
                </a:cubicBezTo>
                <a:cubicBezTo>
                  <a:pt x="2347123" y="829025"/>
                  <a:pt x="2365729" y="828141"/>
                  <a:pt x="2380593" y="835573"/>
                </a:cubicBezTo>
                <a:cubicBezTo>
                  <a:pt x="2397540" y="844047"/>
                  <a:pt x="2412124" y="856594"/>
                  <a:pt x="2427889" y="867104"/>
                </a:cubicBezTo>
                <a:cubicBezTo>
                  <a:pt x="2438399" y="882869"/>
                  <a:pt x="2445160" y="901923"/>
                  <a:pt x="2459420" y="914400"/>
                </a:cubicBezTo>
                <a:cubicBezTo>
                  <a:pt x="2487939" y="939354"/>
                  <a:pt x="2518062" y="965478"/>
                  <a:pt x="2554013" y="977462"/>
                </a:cubicBezTo>
                <a:lnTo>
                  <a:pt x="2648606" y="1008993"/>
                </a:lnTo>
                <a:cubicBezTo>
                  <a:pt x="2664372" y="1014248"/>
                  <a:pt x="2682076" y="1015541"/>
                  <a:pt x="2695903" y="1024759"/>
                </a:cubicBezTo>
                <a:lnTo>
                  <a:pt x="2743200" y="1056290"/>
                </a:lnTo>
                <a:cubicBezTo>
                  <a:pt x="2793167" y="1131241"/>
                  <a:pt x="2768740" y="1085612"/>
                  <a:pt x="2806262" y="1198180"/>
                </a:cubicBezTo>
                <a:cubicBezTo>
                  <a:pt x="2811517" y="1213945"/>
                  <a:pt x="2812809" y="1231649"/>
                  <a:pt x="2822027" y="1245476"/>
                </a:cubicBezTo>
                <a:cubicBezTo>
                  <a:pt x="2832537" y="1261242"/>
                  <a:pt x="2845863" y="1275458"/>
                  <a:pt x="2853558" y="1292773"/>
                </a:cubicBezTo>
                <a:cubicBezTo>
                  <a:pt x="2867057" y="1323145"/>
                  <a:pt x="2874579" y="1355835"/>
                  <a:pt x="2885089" y="1387366"/>
                </a:cubicBezTo>
                <a:lnTo>
                  <a:pt x="2916620" y="1481959"/>
                </a:lnTo>
                <a:cubicBezTo>
                  <a:pt x="2916623" y="1481969"/>
                  <a:pt x="2948148" y="1576541"/>
                  <a:pt x="2948151" y="1576552"/>
                </a:cubicBezTo>
                <a:cubicBezTo>
                  <a:pt x="2965192" y="1644712"/>
                  <a:pt x="2963917" y="1617946"/>
                  <a:pt x="2963917" y="165538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33"/>
          <p:cNvSpPr/>
          <p:nvPr/>
        </p:nvSpPr>
        <p:spPr>
          <a:xfrm>
            <a:off x="7610400" y="4619520"/>
            <a:ext cx="227160" cy="1717920"/>
          </a:xfrm>
          <a:custGeom>
            <a:avLst/>
            <a:gdLst/>
            <a:ahLst/>
            <a:rect l="l" t="t" r="r" b="b"/>
            <a:pathLst>
              <a:path w="226531" h="1718441">
                <a:moveTo>
                  <a:pt x="225089" y="1718441"/>
                </a:moveTo>
                <a:cubicBezTo>
                  <a:pt x="219834" y="1676400"/>
                  <a:pt x="226531" y="1631034"/>
                  <a:pt x="209324" y="1592317"/>
                </a:cubicBezTo>
                <a:cubicBezTo>
                  <a:pt x="202575" y="1577131"/>
                  <a:pt x="171686" y="1590074"/>
                  <a:pt x="162027" y="1576551"/>
                </a:cubicBezTo>
                <a:cubicBezTo>
                  <a:pt x="142709" y="1549505"/>
                  <a:pt x="141006" y="1513489"/>
                  <a:pt x="130496" y="1481958"/>
                </a:cubicBezTo>
                <a:lnTo>
                  <a:pt x="98965" y="1387365"/>
                </a:lnTo>
                <a:lnTo>
                  <a:pt x="83199" y="1324303"/>
                </a:lnTo>
                <a:cubicBezTo>
                  <a:pt x="77944" y="1051034"/>
                  <a:pt x="77366" y="777635"/>
                  <a:pt x="67434" y="504496"/>
                </a:cubicBezTo>
                <a:cubicBezTo>
                  <a:pt x="66830" y="487889"/>
                  <a:pt x="56233" y="473179"/>
                  <a:pt x="51668" y="457200"/>
                </a:cubicBezTo>
                <a:cubicBezTo>
                  <a:pt x="20514" y="348162"/>
                  <a:pt x="49903" y="432608"/>
                  <a:pt x="20137" y="283779"/>
                </a:cubicBezTo>
                <a:cubicBezTo>
                  <a:pt x="16878" y="267483"/>
                  <a:pt x="5294" y="253075"/>
                  <a:pt x="4372" y="236482"/>
                </a:cubicBezTo>
                <a:cubicBezTo>
                  <a:pt x="0" y="157776"/>
                  <a:pt x="4372" y="78827"/>
                  <a:pt x="4372" y="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олилиния 34"/>
          <p:cNvSpPr/>
          <p:nvPr/>
        </p:nvSpPr>
        <p:spPr>
          <a:xfrm>
            <a:off x="4043520" y="2989440"/>
            <a:ext cx="4916160" cy="1536480"/>
          </a:xfrm>
          <a:custGeom>
            <a:avLst/>
            <a:gdLst/>
            <a:ahLst/>
            <a:rect l="l" t="t" r="r" b="b"/>
            <a:pathLst>
              <a:path w="4916193" h="1537302">
                <a:moveTo>
                  <a:pt x="4910938" y="6184"/>
                </a:moveTo>
                <a:cubicBezTo>
                  <a:pt x="4916193" y="6184"/>
                  <a:pt x="4836787" y="13594"/>
                  <a:pt x="4800579" y="21950"/>
                </a:cubicBezTo>
                <a:cubicBezTo>
                  <a:pt x="4768194" y="29424"/>
                  <a:pt x="4737517" y="42971"/>
                  <a:pt x="4705986" y="53481"/>
                </a:cubicBezTo>
                <a:lnTo>
                  <a:pt x="4658690" y="69246"/>
                </a:lnTo>
                <a:cubicBezTo>
                  <a:pt x="4642924" y="74501"/>
                  <a:pt x="4627785" y="82280"/>
                  <a:pt x="4611393" y="85012"/>
                </a:cubicBezTo>
                <a:cubicBezTo>
                  <a:pt x="4459544" y="110319"/>
                  <a:pt x="4548635" y="97883"/>
                  <a:pt x="4343379" y="116543"/>
                </a:cubicBezTo>
                <a:cubicBezTo>
                  <a:pt x="4236910" y="152032"/>
                  <a:pt x="4367965" y="111080"/>
                  <a:pt x="4201490" y="148074"/>
                </a:cubicBezTo>
                <a:cubicBezTo>
                  <a:pt x="4185267" y="151679"/>
                  <a:pt x="4169959" y="158584"/>
                  <a:pt x="4154193" y="163839"/>
                </a:cubicBezTo>
                <a:cubicBezTo>
                  <a:pt x="4138427" y="174349"/>
                  <a:pt x="4121692" y="183533"/>
                  <a:pt x="4106896" y="195370"/>
                </a:cubicBezTo>
                <a:cubicBezTo>
                  <a:pt x="4095289" y="204656"/>
                  <a:pt x="4088111" y="219254"/>
                  <a:pt x="4075365" y="226902"/>
                </a:cubicBezTo>
                <a:cubicBezTo>
                  <a:pt x="4061115" y="235452"/>
                  <a:pt x="4044364" y="239408"/>
                  <a:pt x="4028069" y="242667"/>
                </a:cubicBezTo>
                <a:cubicBezTo>
                  <a:pt x="3948146" y="258652"/>
                  <a:pt x="3817417" y="267550"/>
                  <a:pt x="3744290" y="274198"/>
                </a:cubicBezTo>
                <a:lnTo>
                  <a:pt x="3649696" y="305729"/>
                </a:lnTo>
                <a:cubicBezTo>
                  <a:pt x="3452745" y="371380"/>
                  <a:pt x="3619082" y="320939"/>
                  <a:pt x="3129434" y="337260"/>
                </a:cubicBezTo>
                <a:cubicBezTo>
                  <a:pt x="3054877" y="342231"/>
                  <a:pt x="2892455" y="345267"/>
                  <a:pt x="2798358" y="368791"/>
                </a:cubicBezTo>
                <a:cubicBezTo>
                  <a:pt x="2687415" y="396526"/>
                  <a:pt x="2723108" y="408230"/>
                  <a:pt x="2609172" y="416088"/>
                </a:cubicBezTo>
                <a:cubicBezTo>
                  <a:pt x="2488476" y="424412"/>
                  <a:pt x="2367434" y="426598"/>
                  <a:pt x="2246565" y="431853"/>
                </a:cubicBezTo>
                <a:cubicBezTo>
                  <a:pt x="2225544" y="437108"/>
                  <a:pt x="2204257" y="441393"/>
                  <a:pt x="2183503" y="447619"/>
                </a:cubicBezTo>
                <a:cubicBezTo>
                  <a:pt x="2151668" y="457170"/>
                  <a:pt x="2088910" y="479150"/>
                  <a:pt x="2088910" y="479150"/>
                </a:cubicBezTo>
                <a:lnTo>
                  <a:pt x="1931255" y="715633"/>
                </a:lnTo>
                <a:cubicBezTo>
                  <a:pt x="1920745" y="731398"/>
                  <a:pt x="1917699" y="756937"/>
                  <a:pt x="1899724" y="762929"/>
                </a:cubicBezTo>
                <a:cubicBezTo>
                  <a:pt x="1756221" y="810764"/>
                  <a:pt x="1982858" y="737390"/>
                  <a:pt x="1773600" y="794460"/>
                </a:cubicBezTo>
                <a:cubicBezTo>
                  <a:pt x="1741535" y="803205"/>
                  <a:pt x="1710538" y="815481"/>
                  <a:pt x="1679007" y="825991"/>
                </a:cubicBezTo>
                <a:lnTo>
                  <a:pt x="1584414" y="857522"/>
                </a:lnTo>
                <a:cubicBezTo>
                  <a:pt x="1568648" y="862777"/>
                  <a:pt x="1550944" y="864070"/>
                  <a:pt x="1537117" y="873288"/>
                </a:cubicBezTo>
                <a:cubicBezTo>
                  <a:pt x="1521352" y="883798"/>
                  <a:pt x="1508101" y="899834"/>
                  <a:pt x="1489821" y="904819"/>
                </a:cubicBezTo>
                <a:cubicBezTo>
                  <a:pt x="1448945" y="915967"/>
                  <a:pt x="1405738" y="915329"/>
                  <a:pt x="1363696" y="920584"/>
                </a:cubicBezTo>
                <a:cubicBezTo>
                  <a:pt x="1186335" y="964924"/>
                  <a:pt x="1280692" y="947803"/>
                  <a:pt x="1079917" y="967881"/>
                </a:cubicBezTo>
                <a:cubicBezTo>
                  <a:pt x="961042" y="1007505"/>
                  <a:pt x="1107567" y="954055"/>
                  <a:pt x="985324" y="1015177"/>
                </a:cubicBezTo>
                <a:cubicBezTo>
                  <a:pt x="854785" y="1080447"/>
                  <a:pt x="1026268" y="972115"/>
                  <a:pt x="890731" y="1062474"/>
                </a:cubicBezTo>
                <a:cubicBezTo>
                  <a:pt x="848688" y="1188599"/>
                  <a:pt x="911752" y="1041451"/>
                  <a:pt x="827669" y="1125536"/>
                </a:cubicBezTo>
                <a:cubicBezTo>
                  <a:pt x="815918" y="1137287"/>
                  <a:pt x="822284" y="1159856"/>
                  <a:pt x="811903" y="1172833"/>
                </a:cubicBezTo>
                <a:cubicBezTo>
                  <a:pt x="800067" y="1187629"/>
                  <a:pt x="780372" y="1193854"/>
                  <a:pt x="764607" y="1204364"/>
                </a:cubicBezTo>
                <a:cubicBezTo>
                  <a:pt x="754097" y="1220129"/>
                  <a:pt x="748841" y="1241150"/>
                  <a:pt x="733076" y="1251660"/>
                </a:cubicBezTo>
                <a:cubicBezTo>
                  <a:pt x="717395" y="1262114"/>
                  <a:pt x="575736" y="1283138"/>
                  <a:pt x="575421" y="1283191"/>
                </a:cubicBezTo>
                <a:cubicBezTo>
                  <a:pt x="559655" y="1288446"/>
                  <a:pt x="544157" y="1294584"/>
                  <a:pt x="528124" y="1298957"/>
                </a:cubicBezTo>
                <a:cubicBezTo>
                  <a:pt x="332516" y="1352305"/>
                  <a:pt x="463575" y="1309964"/>
                  <a:pt x="354703" y="1346253"/>
                </a:cubicBezTo>
                <a:cubicBezTo>
                  <a:pt x="338938" y="1356763"/>
                  <a:pt x="319243" y="1362988"/>
                  <a:pt x="307407" y="1377784"/>
                </a:cubicBezTo>
                <a:cubicBezTo>
                  <a:pt x="246257" y="1454222"/>
                  <a:pt x="347535" y="1406450"/>
                  <a:pt x="244345" y="1440846"/>
                </a:cubicBezTo>
                <a:cubicBezTo>
                  <a:pt x="239090" y="1456612"/>
                  <a:pt x="242102" y="1478484"/>
                  <a:pt x="228579" y="1488143"/>
                </a:cubicBezTo>
                <a:cubicBezTo>
                  <a:pt x="201533" y="1507461"/>
                  <a:pt x="133986" y="1519674"/>
                  <a:pt x="133986" y="1519674"/>
                </a:cubicBezTo>
                <a:cubicBezTo>
                  <a:pt x="0" y="1475010"/>
                  <a:pt x="163368" y="1537302"/>
                  <a:pt x="55158" y="1472377"/>
                </a:cubicBezTo>
                <a:cubicBezTo>
                  <a:pt x="40908" y="1463827"/>
                  <a:pt x="23627" y="1461867"/>
                  <a:pt x="7862" y="1456612"/>
                </a:cubicBezTo>
                <a:cubicBezTo>
                  <a:pt x="23627" y="1446102"/>
                  <a:pt x="37009" y="1430526"/>
                  <a:pt x="55158" y="1425081"/>
                </a:cubicBezTo>
                <a:cubicBezTo>
                  <a:pt x="90751" y="1414403"/>
                  <a:pt x="129079" y="1416603"/>
                  <a:pt x="165517" y="1409315"/>
                </a:cubicBezTo>
                <a:cubicBezTo>
                  <a:pt x="181813" y="1406056"/>
                  <a:pt x="197048" y="1398805"/>
                  <a:pt x="212814" y="1393550"/>
                </a:cubicBezTo>
                <a:cubicBezTo>
                  <a:pt x="228579" y="1383040"/>
                  <a:pt x="243163" y="1370493"/>
                  <a:pt x="260110" y="1362019"/>
                </a:cubicBezTo>
                <a:cubicBezTo>
                  <a:pt x="390653" y="1296747"/>
                  <a:pt x="219161" y="1405084"/>
                  <a:pt x="354703" y="1314722"/>
                </a:cubicBezTo>
                <a:cubicBezTo>
                  <a:pt x="365213" y="1298957"/>
                  <a:pt x="371438" y="1279262"/>
                  <a:pt x="386234" y="1267426"/>
                </a:cubicBezTo>
                <a:cubicBezTo>
                  <a:pt x="399211" y="1257045"/>
                  <a:pt x="418667" y="1259092"/>
                  <a:pt x="433531" y="1251660"/>
                </a:cubicBezTo>
                <a:cubicBezTo>
                  <a:pt x="450478" y="1243186"/>
                  <a:pt x="465062" y="1230639"/>
                  <a:pt x="480827" y="1220129"/>
                </a:cubicBezTo>
                <a:cubicBezTo>
                  <a:pt x="501000" y="1189870"/>
                  <a:pt x="542653" y="1120693"/>
                  <a:pt x="575421" y="1109770"/>
                </a:cubicBezTo>
                <a:lnTo>
                  <a:pt x="622717" y="1094005"/>
                </a:lnTo>
                <a:cubicBezTo>
                  <a:pt x="697670" y="1044037"/>
                  <a:pt x="652037" y="1068467"/>
                  <a:pt x="764607" y="1030943"/>
                </a:cubicBezTo>
                <a:lnTo>
                  <a:pt x="811903" y="1015177"/>
                </a:lnTo>
                <a:lnTo>
                  <a:pt x="859200" y="999412"/>
                </a:lnTo>
                <a:cubicBezTo>
                  <a:pt x="967620" y="927132"/>
                  <a:pt x="917842" y="948334"/>
                  <a:pt x="1001090" y="920584"/>
                </a:cubicBezTo>
                <a:cubicBezTo>
                  <a:pt x="1011600" y="904819"/>
                  <a:pt x="1016553" y="883330"/>
                  <a:pt x="1032621" y="873288"/>
                </a:cubicBezTo>
                <a:cubicBezTo>
                  <a:pt x="1125531" y="815220"/>
                  <a:pt x="1384442" y="828218"/>
                  <a:pt x="1426758" y="825991"/>
                </a:cubicBezTo>
                <a:cubicBezTo>
                  <a:pt x="1534875" y="789954"/>
                  <a:pt x="1400681" y="832510"/>
                  <a:pt x="1552883" y="794460"/>
                </a:cubicBezTo>
                <a:cubicBezTo>
                  <a:pt x="1569005" y="790430"/>
                  <a:pt x="1584200" y="783260"/>
                  <a:pt x="1600179" y="778695"/>
                </a:cubicBezTo>
                <a:cubicBezTo>
                  <a:pt x="1621013" y="772742"/>
                  <a:pt x="1642487" y="769155"/>
                  <a:pt x="1663241" y="762929"/>
                </a:cubicBezTo>
                <a:cubicBezTo>
                  <a:pt x="1695076" y="753378"/>
                  <a:pt x="1730179" y="749834"/>
                  <a:pt x="1757834" y="731398"/>
                </a:cubicBezTo>
                <a:lnTo>
                  <a:pt x="1852427" y="668336"/>
                </a:lnTo>
                <a:lnTo>
                  <a:pt x="1899724" y="636805"/>
                </a:lnTo>
                <a:cubicBezTo>
                  <a:pt x="1927474" y="553557"/>
                  <a:pt x="1901662" y="598727"/>
                  <a:pt x="2010083" y="526446"/>
                </a:cubicBezTo>
                <a:lnTo>
                  <a:pt x="2199269" y="400322"/>
                </a:lnTo>
                <a:cubicBezTo>
                  <a:pt x="2215034" y="389812"/>
                  <a:pt x="2228590" y="374783"/>
                  <a:pt x="2246565" y="368791"/>
                </a:cubicBezTo>
                <a:lnTo>
                  <a:pt x="2341158" y="337260"/>
                </a:lnTo>
                <a:cubicBezTo>
                  <a:pt x="2351669" y="326750"/>
                  <a:pt x="2359395" y="312376"/>
                  <a:pt x="2372690" y="305729"/>
                </a:cubicBezTo>
                <a:cubicBezTo>
                  <a:pt x="2392070" y="296039"/>
                  <a:pt x="2414918" y="295917"/>
                  <a:pt x="2435752" y="289964"/>
                </a:cubicBezTo>
                <a:cubicBezTo>
                  <a:pt x="2535803" y="261378"/>
                  <a:pt x="2423511" y="282145"/>
                  <a:pt x="2577641" y="258433"/>
                </a:cubicBezTo>
                <a:cubicBezTo>
                  <a:pt x="2614369" y="252783"/>
                  <a:pt x="2650860" y="243885"/>
                  <a:pt x="2688000" y="242667"/>
                </a:cubicBezTo>
                <a:cubicBezTo>
                  <a:pt x="2971676" y="233366"/>
                  <a:pt x="3255559" y="232157"/>
                  <a:pt x="3539338" y="226902"/>
                </a:cubicBezTo>
                <a:lnTo>
                  <a:pt x="3696993" y="195370"/>
                </a:lnTo>
                <a:cubicBezTo>
                  <a:pt x="3723269" y="190115"/>
                  <a:pt x="3749077" y="181277"/>
                  <a:pt x="3775821" y="179605"/>
                </a:cubicBezTo>
                <a:lnTo>
                  <a:pt x="4028069" y="163839"/>
                </a:lnTo>
                <a:lnTo>
                  <a:pt x="4217255" y="100777"/>
                </a:lnTo>
                <a:lnTo>
                  <a:pt x="4264552" y="85012"/>
                </a:lnTo>
                <a:cubicBezTo>
                  <a:pt x="4280317" y="79757"/>
                  <a:pt x="4295552" y="72505"/>
                  <a:pt x="4311848" y="69246"/>
                </a:cubicBezTo>
                <a:lnTo>
                  <a:pt x="4390676" y="53481"/>
                </a:lnTo>
                <a:cubicBezTo>
                  <a:pt x="4422126" y="47763"/>
                  <a:pt x="4453413" y="40370"/>
                  <a:pt x="4485269" y="37715"/>
                </a:cubicBezTo>
                <a:cubicBezTo>
                  <a:pt x="4579681" y="29847"/>
                  <a:pt x="4674455" y="27205"/>
                  <a:pt x="4769048" y="21950"/>
                </a:cubicBezTo>
                <a:cubicBezTo>
                  <a:pt x="4878795" y="0"/>
                  <a:pt x="4905683" y="6184"/>
                  <a:pt x="4910938" y="618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5"/>
          <p:cNvSpPr/>
          <p:nvPr/>
        </p:nvSpPr>
        <p:spPr>
          <a:xfrm>
            <a:off x="5429160" y="63579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ждевое пит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116 C 0.06892 -0.00232 0.08159 -0.0007 0.12916 -0.00741 C 0.17257 -0.00671 0.21302 -0.00509 0.2559 -0.00278 C 0.26979 -0.00116 0.29427 0.0037 0.30972 0.0037 E">
                                      <p:cBhvr>
                                        <p:cTn id="372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30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32" dur="3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34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36" dur="3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38" dur="3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40" dur="3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42" dur="3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44" dur="3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46" dur="3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48" dur="3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50" dur="3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52" dur="3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54" dur="3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56" dur="3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58" dur="3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60" dur="3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62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464" dur="3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7" descr=""/>
          <p:cNvPicPr/>
          <p:nvPr/>
        </p:nvPicPr>
        <p:blipFill>
          <a:blip r:embed="rId2"/>
          <a:stretch/>
        </p:blipFill>
        <p:spPr>
          <a:xfrm>
            <a:off x="390600" y="-195120"/>
            <a:ext cx="5516640" cy="1523880"/>
          </a:xfrm>
          <a:prstGeom prst="rect">
            <a:avLst/>
          </a:prstGeom>
          <a:ln w="0">
            <a:noFill/>
          </a:ln>
        </p:spPr>
      </p:pic>
      <p:sp>
        <p:nvSpPr>
          <p:cNvPr id="152" name="Полилиния 8"/>
          <p:cNvSpPr/>
          <p:nvPr/>
        </p:nvSpPr>
        <p:spPr>
          <a:xfrm>
            <a:off x="139680" y="977760"/>
            <a:ext cx="2770200" cy="677880"/>
          </a:xfrm>
          <a:custGeom>
            <a:avLst/>
            <a:gdLst/>
            <a:ahLst/>
            <a:rect l="l" t="t" r="r" b="b"/>
            <a:pathLst>
              <a:path w="2770331" h="677917">
                <a:moveTo>
                  <a:pt x="176092" y="63062"/>
                </a:moveTo>
                <a:lnTo>
                  <a:pt x="317982" y="15766"/>
                </a:lnTo>
                <a:lnTo>
                  <a:pt x="365279" y="0"/>
                </a:lnTo>
                <a:cubicBezTo>
                  <a:pt x="438851" y="5255"/>
                  <a:pt x="513052" y="4824"/>
                  <a:pt x="585996" y="15766"/>
                </a:cubicBezTo>
                <a:cubicBezTo>
                  <a:pt x="625397" y="21676"/>
                  <a:pt x="684536" y="52225"/>
                  <a:pt x="727885" y="63062"/>
                </a:cubicBezTo>
                <a:cubicBezTo>
                  <a:pt x="748906" y="68317"/>
                  <a:pt x="770194" y="72602"/>
                  <a:pt x="790948" y="78828"/>
                </a:cubicBezTo>
                <a:cubicBezTo>
                  <a:pt x="822783" y="88379"/>
                  <a:pt x="885541" y="110359"/>
                  <a:pt x="885541" y="110359"/>
                </a:cubicBezTo>
                <a:cubicBezTo>
                  <a:pt x="911817" y="105104"/>
                  <a:pt x="938516" y="101644"/>
                  <a:pt x="964368" y="94593"/>
                </a:cubicBezTo>
                <a:cubicBezTo>
                  <a:pt x="996433" y="85848"/>
                  <a:pt x="1058961" y="63062"/>
                  <a:pt x="1058961" y="63062"/>
                </a:cubicBezTo>
                <a:cubicBezTo>
                  <a:pt x="1127278" y="68317"/>
                  <a:pt x="1195923" y="70329"/>
                  <a:pt x="1263913" y="78828"/>
                </a:cubicBezTo>
                <a:cubicBezTo>
                  <a:pt x="1280403" y="80889"/>
                  <a:pt x="1295231" y="90028"/>
                  <a:pt x="1311210" y="94593"/>
                </a:cubicBezTo>
                <a:cubicBezTo>
                  <a:pt x="1332044" y="100546"/>
                  <a:pt x="1353518" y="104133"/>
                  <a:pt x="1374272" y="110359"/>
                </a:cubicBezTo>
                <a:cubicBezTo>
                  <a:pt x="1406107" y="119910"/>
                  <a:pt x="1437334" y="131380"/>
                  <a:pt x="1468865" y="141890"/>
                </a:cubicBezTo>
                <a:lnTo>
                  <a:pt x="1516161" y="157655"/>
                </a:lnTo>
                <a:cubicBezTo>
                  <a:pt x="1531927" y="168165"/>
                  <a:pt x="1546143" y="181491"/>
                  <a:pt x="1563458" y="189186"/>
                </a:cubicBezTo>
                <a:cubicBezTo>
                  <a:pt x="1593830" y="202685"/>
                  <a:pt x="1658051" y="220717"/>
                  <a:pt x="1658051" y="220717"/>
                </a:cubicBezTo>
                <a:cubicBezTo>
                  <a:pt x="1784175" y="215462"/>
                  <a:pt x="1910962" y="218892"/>
                  <a:pt x="2036423" y="204952"/>
                </a:cubicBezTo>
                <a:cubicBezTo>
                  <a:pt x="2055255" y="202860"/>
                  <a:pt x="2066773" y="181895"/>
                  <a:pt x="2083720" y="173421"/>
                </a:cubicBezTo>
                <a:cubicBezTo>
                  <a:pt x="2106343" y="162109"/>
                  <a:pt x="2173867" y="146943"/>
                  <a:pt x="2194079" y="141890"/>
                </a:cubicBezTo>
                <a:cubicBezTo>
                  <a:pt x="2294673" y="148596"/>
                  <a:pt x="2408253" y="145838"/>
                  <a:pt x="2509389" y="173421"/>
                </a:cubicBezTo>
                <a:cubicBezTo>
                  <a:pt x="2541454" y="182166"/>
                  <a:pt x="2574254" y="190088"/>
                  <a:pt x="2603982" y="204952"/>
                </a:cubicBezTo>
                <a:cubicBezTo>
                  <a:pt x="2681908" y="243915"/>
                  <a:pt x="2644748" y="229051"/>
                  <a:pt x="2714341" y="252248"/>
                </a:cubicBezTo>
                <a:cubicBezTo>
                  <a:pt x="2736231" y="317918"/>
                  <a:pt x="2770331" y="371041"/>
                  <a:pt x="2730106" y="441435"/>
                </a:cubicBezTo>
                <a:cubicBezTo>
                  <a:pt x="2721861" y="455864"/>
                  <a:pt x="2698575" y="451945"/>
                  <a:pt x="2682810" y="457200"/>
                </a:cubicBezTo>
                <a:cubicBezTo>
                  <a:pt x="2672300" y="472966"/>
                  <a:pt x="2667347" y="494455"/>
                  <a:pt x="2651279" y="504497"/>
                </a:cubicBezTo>
                <a:cubicBezTo>
                  <a:pt x="2623094" y="522113"/>
                  <a:pt x="2556685" y="536028"/>
                  <a:pt x="2556685" y="536028"/>
                </a:cubicBezTo>
                <a:cubicBezTo>
                  <a:pt x="2546175" y="551793"/>
                  <a:pt x="2532849" y="566009"/>
                  <a:pt x="2525154" y="583324"/>
                </a:cubicBezTo>
                <a:cubicBezTo>
                  <a:pt x="2511655" y="613696"/>
                  <a:pt x="2493623" y="677917"/>
                  <a:pt x="2493623" y="677917"/>
                </a:cubicBezTo>
                <a:cubicBezTo>
                  <a:pt x="2425306" y="672662"/>
                  <a:pt x="2356662" y="670651"/>
                  <a:pt x="2288672" y="662152"/>
                </a:cubicBezTo>
                <a:cubicBezTo>
                  <a:pt x="2272182" y="660091"/>
                  <a:pt x="2257800" y="648913"/>
                  <a:pt x="2241375" y="646386"/>
                </a:cubicBezTo>
                <a:cubicBezTo>
                  <a:pt x="2189175" y="638355"/>
                  <a:pt x="2136272" y="635876"/>
                  <a:pt x="2083720" y="630621"/>
                </a:cubicBezTo>
                <a:lnTo>
                  <a:pt x="1941830" y="583324"/>
                </a:lnTo>
                <a:lnTo>
                  <a:pt x="1894534" y="567559"/>
                </a:lnTo>
                <a:cubicBezTo>
                  <a:pt x="1873513" y="572814"/>
                  <a:pt x="1849501" y="571305"/>
                  <a:pt x="1831472" y="583324"/>
                </a:cubicBezTo>
                <a:cubicBezTo>
                  <a:pt x="1815706" y="593834"/>
                  <a:pt x="1816009" y="620579"/>
                  <a:pt x="1799941" y="630621"/>
                </a:cubicBezTo>
                <a:cubicBezTo>
                  <a:pt x="1771756" y="648236"/>
                  <a:pt x="1736879" y="651642"/>
                  <a:pt x="1705348" y="662152"/>
                </a:cubicBezTo>
                <a:lnTo>
                  <a:pt x="1658051" y="677917"/>
                </a:lnTo>
                <a:cubicBezTo>
                  <a:pt x="1537182" y="672662"/>
                  <a:pt x="1415785" y="674601"/>
                  <a:pt x="1295444" y="662152"/>
                </a:cubicBezTo>
                <a:cubicBezTo>
                  <a:pt x="1295439" y="662152"/>
                  <a:pt x="1177204" y="622738"/>
                  <a:pt x="1153554" y="614855"/>
                </a:cubicBezTo>
                <a:lnTo>
                  <a:pt x="1106258" y="599090"/>
                </a:lnTo>
                <a:cubicBezTo>
                  <a:pt x="953858" y="604345"/>
                  <a:pt x="801269" y="605630"/>
                  <a:pt x="649058" y="614855"/>
                </a:cubicBezTo>
                <a:cubicBezTo>
                  <a:pt x="627430" y="616166"/>
                  <a:pt x="607314" y="626745"/>
                  <a:pt x="585996" y="630621"/>
                </a:cubicBezTo>
                <a:cubicBezTo>
                  <a:pt x="549436" y="637268"/>
                  <a:pt x="512423" y="641131"/>
                  <a:pt x="475637" y="646386"/>
                </a:cubicBezTo>
                <a:cubicBezTo>
                  <a:pt x="467339" y="644726"/>
                  <a:pt x="348595" y="622278"/>
                  <a:pt x="333748" y="614855"/>
                </a:cubicBezTo>
                <a:cubicBezTo>
                  <a:pt x="320453" y="608208"/>
                  <a:pt x="314962" y="590971"/>
                  <a:pt x="302216" y="583324"/>
                </a:cubicBezTo>
                <a:cubicBezTo>
                  <a:pt x="287966" y="574774"/>
                  <a:pt x="270685" y="572814"/>
                  <a:pt x="254920" y="567559"/>
                </a:cubicBezTo>
                <a:cubicBezTo>
                  <a:pt x="239154" y="557049"/>
                  <a:pt x="220100" y="550288"/>
                  <a:pt x="207623" y="536028"/>
                </a:cubicBezTo>
                <a:cubicBezTo>
                  <a:pt x="78869" y="388882"/>
                  <a:pt x="203682" y="480850"/>
                  <a:pt x="97265" y="409904"/>
                </a:cubicBezTo>
                <a:cubicBezTo>
                  <a:pt x="92010" y="394138"/>
                  <a:pt x="91880" y="375584"/>
                  <a:pt x="81499" y="362607"/>
                </a:cubicBezTo>
                <a:cubicBezTo>
                  <a:pt x="0" y="260733"/>
                  <a:pt x="58066" y="402662"/>
                  <a:pt x="18437" y="283779"/>
                </a:cubicBezTo>
                <a:cubicBezTo>
                  <a:pt x="23692" y="231227"/>
                  <a:pt x="7592" y="171743"/>
                  <a:pt x="34203" y="126124"/>
                </a:cubicBezTo>
                <a:cubicBezTo>
                  <a:pt x="34204" y="126123"/>
                  <a:pt x="152443" y="86711"/>
                  <a:pt x="176092" y="78828"/>
                </a:cubicBezTo>
                <a:cubicBezTo>
                  <a:pt x="228374" y="61401"/>
                  <a:pt x="223389" y="79680"/>
                  <a:pt x="176092" y="63062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5"/>
          <p:cNvSpPr/>
          <p:nvPr/>
        </p:nvSpPr>
        <p:spPr>
          <a:xfrm>
            <a:off x="5429160" y="63579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еговое пит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Умножение 36"/>
          <p:cNvSpPr/>
          <p:nvPr/>
        </p:nvSpPr>
        <p:spPr>
          <a:xfrm>
            <a:off x="4143240" y="164304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Умножение 37"/>
          <p:cNvSpPr/>
          <p:nvPr/>
        </p:nvSpPr>
        <p:spPr>
          <a:xfrm>
            <a:off x="4857840" y="164304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Умножение 38"/>
          <p:cNvSpPr/>
          <p:nvPr/>
        </p:nvSpPr>
        <p:spPr>
          <a:xfrm>
            <a:off x="5786280" y="235728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Умножение 39"/>
          <p:cNvSpPr/>
          <p:nvPr/>
        </p:nvSpPr>
        <p:spPr>
          <a:xfrm>
            <a:off x="4357800" y="235728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Умножение 40"/>
          <p:cNvSpPr/>
          <p:nvPr/>
        </p:nvSpPr>
        <p:spPr>
          <a:xfrm>
            <a:off x="5072040" y="235728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Умножение 41"/>
          <p:cNvSpPr/>
          <p:nvPr/>
        </p:nvSpPr>
        <p:spPr>
          <a:xfrm>
            <a:off x="6072120" y="300024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Умножение 42"/>
          <p:cNvSpPr/>
          <p:nvPr/>
        </p:nvSpPr>
        <p:spPr>
          <a:xfrm>
            <a:off x="4643280" y="300024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Умножение 43"/>
          <p:cNvSpPr/>
          <p:nvPr/>
        </p:nvSpPr>
        <p:spPr>
          <a:xfrm>
            <a:off x="5357880" y="300024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44"/>
          <p:cNvSpPr/>
          <p:nvPr/>
        </p:nvSpPr>
        <p:spPr>
          <a:xfrm>
            <a:off x="1643040" y="1214280"/>
            <a:ext cx="5594400" cy="3043440"/>
          </a:xfrm>
          <a:custGeom>
            <a:avLst/>
            <a:gdLst/>
            <a:ahLst/>
            <a:rect l="l" t="t" r="r" b="b"/>
            <a:pathLst>
              <a:path w="5593677" h="3042745">
                <a:moveTo>
                  <a:pt x="64777" y="2538248"/>
                </a:moveTo>
                <a:cubicBezTo>
                  <a:pt x="70032" y="2535621"/>
                  <a:pt x="87834" y="2507899"/>
                  <a:pt x="96308" y="2490952"/>
                </a:cubicBezTo>
                <a:cubicBezTo>
                  <a:pt x="115444" y="2452680"/>
                  <a:pt x="117044" y="2404409"/>
                  <a:pt x="127839" y="2364828"/>
                </a:cubicBezTo>
                <a:cubicBezTo>
                  <a:pt x="136584" y="2332763"/>
                  <a:pt x="135868" y="2293737"/>
                  <a:pt x="159370" y="2270235"/>
                </a:cubicBezTo>
                <a:lnTo>
                  <a:pt x="206667" y="2222938"/>
                </a:lnTo>
                <a:cubicBezTo>
                  <a:pt x="211922" y="2207172"/>
                  <a:pt x="212051" y="2188618"/>
                  <a:pt x="222432" y="2175641"/>
                </a:cubicBezTo>
                <a:cubicBezTo>
                  <a:pt x="244659" y="2147858"/>
                  <a:pt x="285868" y="2138730"/>
                  <a:pt x="317025" y="2128345"/>
                </a:cubicBezTo>
                <a:cubicBezTo>
                  <a:pt x="332791" y="2117835"/>
                  <a:pt x="347007" y="2104509"/>
                  <a:pt x="364322" y="2096814"/>
                </a:cubicBezTo>
                <a:cubicBezTo>
                  <a:pt x="459889" y="2054340"/>
                  <a:pt x="454361" y="2071550"/>
                  <a:pt x="553508" y="2049517"/>
                </a:cubicBezTo>
                <a:cubicBezTo>
                  <a:pt x="569731" y="2045912"/>
                  <a:pt x="584269" y="2035406"/>
                  <a:pt x="600805" y="2033752"/>
                </a:cubicBezTo>
                <a:cubicBezTo>
                  <a:pt x="689853" y="2024847"/>
                  <a:pt x="779500" y="2023568"/>
                  <a:pt x="868818" y="2017986"/>
                </a:cubicBezTo>
                <a:lnTo>
                  <a:pt x="1105301" y="2002221"/>
                </a:lnTo>
                <a:cubicBezTo>
                  <a:pt x="1136832" y="1991711"/>
                  <a:pt x="1172239" y="1989126"/>
                  <a:pt x="1199894" y="1970690"/>
                </a:cubicBezTo>
                <a:cubicBezTo>
                  <a:pt x="1215660" y="1960180"/>
                  <a:pt x="1229876" y="1946854"/>
                  <a:pt x="1247191" y="1939159"/>
                </a:cubicBezTo>
                <a:cubicBezTo>
                  <a:pt x="1277563" y="1925660"/>
                  <a:pt x="1310253" y="1918138"/>
                  <a:pt x="1341784" y="1907628"/>
                </a:cubicBezTo>
                <a:lnTo>
                  <a:pt x="1389081" y="1891862"/>
                </a:lnTo>
                <a:cubicBezTo>
                  <a:pt x="1404846" y="1886607"/>
                  <a:pt x="1420255" y="1880127"/>
                  <a:pt x="1436377" y="1876097"/>
                </a:cubicBezTo>
                <a:lnTo>
                  <a:pt x="1562501" y="1844566"/>
                </a:lnTo>
                <a:cubicBezTo>
                  <a:pt x="1691506" y="1780064"/>
                  <a:pt x="1559834" y="1840200"/>
                  <a:pt x="1688625" y="1797269"/>
                </a:cubicBezTo>
                <a:cubicBezTo>
                  <a:pt x="1947483" y="1710982"/>
                  <a:pt x="1610755" y="1816618"/>
                  <a:pt x="1830515" y="1734207"/>
                </a:cubicBezTo>
                <a:cubicBezTo>
                  <a:pt x="1850803" y="1726599"/>
                  <a:pt x="1872556" y="1723696"/>
                  <a:pt x="1893577" y="1718441"/>
                </a:cubicBezTo>
                <a:cubicBezTo>
                  <a:pt x="1909343" y="1707931"/>
                  <a:pt x="1923559" y="1694605"/>
                  <a:pt x="1940874" y="1686910"/>
                </a:cubicBezTo>
                <a:cubicBezTo>
                  <a:pt x="2097571" y="1617267"/>
                  <a:pt x="2282292" y="1636392"/>
                  <a:pt x="2445370" y="1623848"/>
                </a:cubicBezTo>
                <a:cubicBezTo>
                  <a:pt x="2461136" y="1618593"/>
                  <a:pt x="2478140" y="1616154"/>
                  <a:pt x="2492667" y="1608083"/>
                </a:cubicBezTo>
                <a:cubicBezTo>
                  <a:pt x="2525794" y="1589679"/>
                  <a:pt x="2551309" y="1557005"/>
                  <a:pt x="2587260" y="1545021"/>
                </a:cubicBezTo>
                <a:lnTo>
                  <a:pt x="2681853" y="1513490"/>
                </a:lnTo>
                <a:cubicBezTo>
                  <a:pt x="2697619" y="1508235"/>
                  <a:pt x="2713028" y="1501754"/>
                  <a:pt x="2729150" y="1497724"/>
                </a:cubicBezTo>
                <a:cubicBezTo>
                  <a:pt x="2750171" y="1492469"/>
                  <a:pt x="2771378" y="1487912"/>
                  <a:pt x="2792212" y="1481959"/>
                </a:cubicBezTo>
                <a:cubicBezTo>
                  <a:pt x="2808191" y="1477394"/>
                  <a:pt x="2823386" y="1470224"/>
                  <a:pt x="2839508" y="1466193"/>
                </a:cubicBezTo>
                <a:cubicBezTo>
                  <a:pt x="2865504" y="1459694"/>
                  <a:pt x="2892060" y="1455683"/>
                  <a:pt x="2918336" y="1450428"/>
                </a:cubicBezTo>
                <a:cubicBezTo>
                  <a:pt x="2934101" y="1434662"/>
                  <a:pt x="2947081" y="1415498"/>
                  <a:pt x="2965632" y="1403131"/>
                </a:cubicBezTo>
                <a:cubicBezTo>
                  <a:pt x="2979459" y="1393913"/>
                  <a:pt x="2998500" y="1395611"/>
                  <a:pt x="3012929" y="1387366"/>
                </a:cubicBezTo>
                <a:cubicBezTo>
                  <a:pt x="3035743" y="1374330"/>
                  <a:pt x="3054465" y="1355137"/>
                  <a:pt x="3075991" y="1340069"/>
                </a:cubicBezTo>
                <a:cubicBezTo>
                  <a:pt x="3107036" y="1318337"/>
                  <a:pt x="3143788" y="1303803"/>
                  <a:pt x="3170584" y="1277007"/>
                </a:cubicBezTo>
                <a:cubicBezTo>
                  <a:pt x="3207370" y="1240221"/>
                  <a:pt x="3252085" y="1209934"/>
                  <a:pt x="3280943" y="1166648"/>
                </a:cubicBezTo>
                <a:cubicBezTo>
                  <a:pt x="3291453" y="1150883"/>
                  <a:pt x="3299076" y="1132750"/>
                  <a:pt x="3312474" y="1119352"/>
                </a:cubicBezTo>
                <a:cubicBezTo>
                  <a:pt x="3336268" y="1095558"/>
                  <a:pt x="3367507" y="1080084"/>
                  <a:pt x="3391301" y="1056290"/>
                </a:cubicBezTo>
                <a:cubicBezTo>
                  <a:pt x="3476493" y="971098"/>
                  <a:pt x="3425135" y="993937"/>
                  <a:pt x="3501660" y="930166"/>
                </a:cubicBezTo>
                <a:cubicBezTo>
                  <a:pt x="3585341" y="860432"/>
                  <a:pt x="3517280" y="946099"/>
                  <a:pt x="3612018" y="835572"/>
                </a:cubicBezTo>
                <a:cubicBezTo>
                  <a:pt x="3624349" y="821186"/>
                  <a:pt x="3630962" y="802438"/>
                  <a:pt x="3643550" y="788276"/>
                </a:cubicBezTo>
                <a:cubicBezTo>
                  <a:pt x="3673175" y="754948"/>
                  <a:pt x="3713408" y="730785"/>
                  <a:pt x="3738143" y="693683"/>
                </a:cubicBezTo>
                <a:lnTo>
                  <a:pt x="3832736" y="551793"/>
                </a:lnTo>
                <a:cubicBezTo>
                  <a:pt x="3843246" y="536028"/>
                  <a:pt x="3850869" y="517895"/>
                  <a:pt x="3864267" y="504497"/>
                </a:cubicBezTo>
                <a:lnTo>
                  <a:pt x="3911563" y="457200"/>
                </a:lnTo>
                <a:cubicBezTo>
                  <a:pt x="3931087" y="398630"/>
                  <a:pt x="3920658" y="416090"/>
                  <a:pt x="3958860" y="362607"/>
                </a:cubicBezTo>
                <a:cubicBezTo>
                  <a:pt x="3974132" y="341225"/>
                  <a:pt x="3986206" y="316645"/>
                  <a:pt x="4006156" y="299545"/>
                </a:cubicBezTo>
                <a:cubicBezTo>
                  <a:pt x="4024000" y="284250"/>
                  <a:pt x="4049663" y="281050"/>
                  <a:pt x="4069218" y="268014"/>
                </a:cubicBezTo>
                <a:cubicBezTo>
                  <a:pt x="4081586" y="259769"/>
                  <a:pt x="4087455" y="243130"/>
                  <a:pt x="4100750" y="236483"/>
                </a:cubicBezTo>
                <a:cubicBezTo>
                  <a:pt x="4120130" y="226793"/>
                  <a:pt x="4143524" y="228325"/>
                  <a:pt x="4163812" y="220717"/>
                </a:cubicBezTo>
                <a:cubicBezTo>
                  <a:pt x="4192797" y="209848"/>
                  <a:pt x="4239184" y="176753"/>
                  <a:pt x="4274170" y="173421"/>
                </a:cubicBezTo>
                <a:cubicBezTo>
                  <a:pt x="4368482" y="164439"/>
                  <a:pt x="4463357" y="162910"/>
                  <a:pt x="4557950" y="157655"/>
                </a:cubicBezTo>
                <a:cubicBezTo>
                  <a:pt x="4573715" y="147145"/>
                  <a:pt x="4588299" y="134598"/>
                  <a:pt x="4605246" y="126124"/>
                </a:cubicBezTo>
                <a:cubicBezTo>
                  <a:pt x="4626309" y="115593"/>
                  <a:pt x="4697427" y="98633"/>
                  <a:pt x="4715605" y="94593"/>
                </a:cubicBezTo>
                <a:cubicBezTo>
                  <a:pt x="4818434" y="71742"/>
                  <a:pt x="4839049" y="71945"/>
                  <a:pt x="4967853" y="63062"/>
                </a:cubicBezTo>
                <a:cubicBezTo>
                  <a:pt x="5062367" y="56544"/>
                  <a:pt x="5157039" y="52552"/>
                  <a:pt x="5251632" y="47297"/>
                </a:cubicBezTo>
                <a:cubicBezTo>
                  <a:pt x="5405427" y="8847"/>
                  <a:pt x="5213388" y="55796"/>
                  <a:pt x="5393522" y="15766"/>
                </a:cubicBezTo>
                <a:cubicBezTo>
                  <a:pt x="5414674" y="11066"/>
                  <a:pt x="5435563" y="5255"/>
                  <a:pt x="5456584" y="0"/>
                </a:cubicBezTo>
                <a:cubicBezTo>
                  <a:pt x="5486285" y="29701"/>
                  <a:pt x="5517853" y="55085"/>
                  <a:pt x="5535412" y="94593"/>
                </a:cubicBezTo>
                <a:cubicBezTo>
                  <a:pt x="5548911" y="124965"/>
                  <a:pt x="5556433" y="157655"/>
                  <a:pt x="5566943" y="189186"/>
                </a:cubicBezTo>
                <a:lnTo>
                  <a:pt x="5582708" y="236483"/>
                </a:lnTo>
                <a:cubicBezTo>
                  <a:pt x="5577453" y="310055"/>
                  <a:pt x="5593677" y="388456"/>
                  <a:pt x="5566943" y="457200"/>
                </a:cubicBezTo>
                <a:cubicBezTo>
                  <a:pt x="5553208" y="492519"/>
                  <a:pt x="5472350" y="520262"/>
                  <a:pt x="5472350" y="520262"/>
                </a:cubicBezTo>
                <a:cubicBezTo>
                  <a:pt x="5381988" y="655802"/>
                  <a:pt x="5490321" y="484318"/>
                  <a:pt x="5425053" y="614855"/>
                </a:cubicBezTo>
                <a:cubicBezTo>
                  <a:pt x="5416579" y="631803"/>
                  <a:pt x="5401996" y="645205"/>
                  <a:pt x="5393522" y="662152"/>
                </a:cubicBezTo>
                <a:cubicBezTo>
                  <a:pt x="5357971" y="733253"/>
                  <a:pt x="5402700" y="688974"/>
                  <a:pt x="5346225" y="756745"/>
                </a:cubicBezTo>
                <a:cubicBezTo>
                  <a:pt x="5290049" y="824157"/>
                  <a:pt x="5313640" y="785965"/>
                  <a:pt x="5251632" y="835572"/>
                </a:cubicBezTo>
                <a:cubicBezTo>
                  <a:pt x="5139302" y="925437"/>
                  <a:pt x="5318386" y="801580"/>
                  <a:pt x="5172805" y="898635"/>
                </a:cubicBezTo>
                <a:lnTo>
                  <a:pt x="5109743" y="993228"/>
                </a:lnTo>
                <a:lnTo>
                  <a:pt x="5078212" y="1040524"/>
                </a:lnTo>
                <a:cubicBezTo>
                  <a:pt x="5077939" y="1041614"/>
                  <a:pt x="5030228" y="1246163"/>
                  <a:pt x="5015150" y="1261241"/>
                </a:cubicBezTo>
                <a:lnTo>
                  <a:pt x="4983618" y="1292772"/>
                </a:lnTo>
                <a:cubicBezTo>
                  <a:pt x="4973108" y="1324303"/>
                  <a:pt x="4970524" y="1359711"/>
                  <a:pt x="4952087" y="1387366"/>
                </a:cubicBezTo>
                <a:cubicBezTo>
                  <a:pt x="4931066" y="1418897"/>
                  <a:pt x="4920556" y="1460938"/>
                  <a:pt x="4889025" y="1481959"/>
                </a:cubicBezTo>
                <a:cubicBezTo>
                  <a:pt x="4841527" y="1513625"/>
                  <a:pt x="4834673" y="1521019"/>
                  <a:pt x="4778667" y="1545021"/>
                </a:cubicBezTo>
                <a:cubicBezTo>
                  <a:pt x="4763392" y="1551567"/>
                  <a:pt x="4747136" y="1555531"/>
                  <a:pt x="4731370" y="1560786"/>
                </a:cubicBezTo>
                <a:cubicBezTo>
                  <a:pt x="4715605" y="1571296"/>
                  <a:pt x="4701490" y="1584853"/>
                  <a:pt x="4684074" y="1592317"/>
                </a:cubicBezTo>
                <a:cubicBezTo>
                  <a:pt x="4664158" y="1600852"/>
                  <a:pt x="4641846" y="1602130"/>
                  <a:pt x="4621012" y="1608083"/>
                </a:cubicBezTo>
                <a:cubicBezTo>
                  <a:pt x="4605033" y="1612648"/>
                  <a:pt x="4589694" y="1619283"/>
                  <a:pt x="4573715" y="1623848"/>
                </a:cubicBezTo>
                <a:cubicBezTo>
                  <a:pt x="4552881" y="1629801"/>
                  <a:pt x="4530941" y="1632006"/>
                  <a:pt x="4510653" y="1639614"/>
                </a:cubicBezTo>
                <a:cubicBezTo>
                  <a:pt x="4345779" y="1701442"/>
                  <a:pt x="4546389" y="1646446"/>
                  <a:pt x="4384529" y="1686910"/>
                </a:cubicBezTo>
                <a:cubicBezTo>
                  <a:pt x="4368763" y="1697420"/>
                  <a:pt x="4354179" y="1709967"/>
                  <a:pt x="4337232" y="1718441"/>
                </a:cubicBezTo>
                <a:cubicBezTo>
                  <a:pt x="4322368" y="1725873"/>
                  <a:pt x="4305969" y="1729834"/>
                  <a:pt x="4289936" y="1734207"/>
                </a:cubicBezTo>
                <a:cubicBezTo>
                  <a:pt x="4248128" y="1745609"/>
                  <a:pt x="4204923" y="1752034"/>
                  <a:pt x="4163812" y="1765738"/>
                </a:cubicBezTo>
                <a:cubicBezTo>
                  <a:pt x="4126322" y="1778235"/>
                  <a:pt x="4093050" y="1790670"/>
                  <a:pt x="4053453" y="1797269"/>
                </a:cubicBezTo>
                <a:cubicBezTo>
                  <a:pt x="3980145" y="1809487"/>
                  <a:pt x="3904836" y="1810774"/>
                  <a:pt x="3832736" y="1828800"/>
                </a:cubicBezTo>
                <a:cubicBezTo>
                  <a:pt x="3738663" y="1852319"/>
                  <a:pt x="3791047" y="1841004"/>
                  <a:pt x="3675081" y="1860331"/>
                </a:cubicBezTo>
                <a:cubicBezTo>
                  <a:pt x="3654060" y="1870841"/>
                  <a:pt x="3633620" y="1882604"/>
                  <a:pt x="3612018" y="1891862"/>
                </a:cubicBezTo>
                <a:cubicBezTo>
                  <a:pt x="3596743" y="1898408"/>
                  <a:pt x="3579586" y="1900196"/>
                  <a:pt x="3564722" y="1907628"/>
                </a:cubicBezTo>
                <a:cubicBezTo>
                  <a:pt x="3545531" y="1917224"/>
                  <a:pt x="3463290" y="1978420"/>
                  <a:pt x="3454363" y="1986455"/>
                </a:cubicBezTo>
                <a:cubicBezTo>
                  <a:pt x="3249955" y="2170421"/>
                  <a:pt x="3425474" y="2011662"/>
                  <a:pt x="3328239" y="2128345"/>
                </a:cubicBezTo>
                <a:cubicBezTo>
                  <a:pt x="3313966" y="2145473"/>
                  <a:pt x="3294631" y="2158042"/>
                  <a:pt x="3280943" y="2175641"/>
                </a:cubicBezTo>
                <a:cubicBezTo>
                  <a:pt x="3257677" y="2205554"/>
                  <a:pt x="3249412" y="2249214"/>
                  <a:pt x="3217881" y="2270235"/>
                </a:cubicBezTo>
                <a:lnTo>
                  <a:pt x="3123287" y="2333297"/>
                </a:lnTo>
                <a:lnTo>
                  <a:pt x="3028694" y="2396359"/>
                </a:lnTo>
                <a:cubicBezTo>
                  <a:pt x="3012929" y="2406869"/>
                  <a:pt x="2994796" y="2414492"/>
                  <a:pt x="2981398" y="2427890"/>
                </a:cubicBezTo>
                <a:cubicBezTo>
                  <a:pt x="2965632" y="2443655"/>
                  <a:pt x="2954398" y="2465960"/>
                  <a:pt x="2934101" y="2475186"/>
                </a:cubicBezTo>
                <a:cubicBezTo>
                  <a:pt x="2894650" y="2493118"/>
                  <a:pt x="2807977" y="2506717"/>
                  <a:pt x="2807977" y="2506717"/>
                </a:cubicBezTo>
                <a:cubicBezTo>
                  <a:pt x="2792212" y="2517227"/>
                  <a:pt x="2777315" y="2529175"/>
                  <a:pt x="2760681" y="2538248"/>
                </a:cubicBezTo>
                <a:cubicBezTo>
                  <a:pt x="2719416" y="2560756"/>
                  <a:pt x="2680156" y="2589910"/>
                  <a:pt x="2634556" y="2601310"/>
                </a:cubicBezTo>
                <a:cubicBezTo>
                  <a:pt x="2352032" y="2671943"/>
                  <a:pt x="2593138" y="2616069"/>
                  <a:pt x="1893577" y="2648607"/>
                </a:cubicBezTo>
                <a:cubicBezTo>
                  <a:pt x="1721098" y="2706099"/>
                  <a:pt x="1982347" y="2614408"/>
                  <a:pt x="1798984" y="2695904"/>
                </a:cubicBezTo>
                <a:cubicBezTo>
                  <a:pt x="1768612" y="2709403"/>
                  <a:pt x="1732046" y="2708999"/>
                  <a:pt x="1704391" y="2727435"/>
                </a:cubicBezTo>
                <a:cubicBezTo>
                  <a:pt x="1590243" y="2803533"/>
                  <a:pt x="1643693" y="2773550"/>
                  <a:pt x="1546736" y="2822028"/>
                </a:cubicBezTo>
                <a:cubicBezTo>
                  <a:pt x="1515732" y="2868533"/>
                  <a:pt x="1513429" y="2878686"/>
                  <a:pt x="1467908" y="2916621"/>
                </a:cubicBezTo>
                <a:cubicBezTo>
                  <a:pt x="1414440" y="2961178"/>
                  <a:pt x="1431873" y="2938821"/>
                  <a:pt x="1373315" y="2963917"/>
                </a:cubicBezTo>
                <a:cubicBezTo>
                  <a:pt x="1351713" y="2973175"/>
                  <a:pt x="1332074" y="2986720"/>
                  <a:pt x="1310253" y="2995448"/>
                </a:cubicBezTo>
                <a:cubicBezTo>
                  <a:pt x="1279394" y="3007792"/>
                  <a:pt x="1247191" y="3016469"/>
                  <a:pt x="1215660" y="3026979"/>
                </a:cubicBezTo>
                <a:lnTo>
                  <a:pt x="1168363" y="3042745"/>
                </a:lnTo>
                <a:cubicBezTo>
                  <a:pt x="1073770" y="3032235"/>
                  <a:pt x="978464" y="3026861"/>
                  <a:pt x="884584" y="3011214"/>
                </a:cubicBezTo>
                <a:cubicBezTo>
                  <a:pt x="851800" y="3005750"/>
                  <a:pt x="821522" y="2990193"/>
                  <a:pt x="789991" y="2979683"/>
                </a:cubicBezTo>
                <a:lnTo>
                  <a:pt x="742694" y="2963917"/>
                </a:lnTo>
                <a:cubicBezTo>
                  <a:pt x="726929" y="2948152"/>
                  <a:pt x="714888" y="2927449"/>
                  <a:pt x="695398" y="2916621"/>
                </a:cubicBezTo>
                <a:cubicBezTo>
                  <a:pt x="666344" y="2900480"/>
                  <a:pt x="634027" y="2886067"/>
                  <a:pt x="600805" y="2885090"/>
                </a:cubicBezTo>
                <a:lnTo>
                  <a:pt x="64777" y="2869324"/>
                </a:lnTo>
                <a:cubicBezTo>
                  <a:pt x="58620" y="2857010"/>
                  <a:pt x="17481" y="2782164"/>
                  <a:pt x="17481" y="2758966"/>
                </a:cubicBezTo>
                <a:cubicBezTo>
                  <a:pt x="17481" y="2599997"/>
                  <a:pt x="0" y="2593085"/>
                  <a:pt x="64777" y="2506717"/>
                </a:cubicBezTo>
                <a:cubicBezTo>
                  <a:pt x="69236" y="2500771"/>
                  <a:pt x="59522" y="2540875"/>
                  <a:pt x="64777" y="2538248"/>
                </a:cubicBezTo>
                <a:close/>
              </a:path>
            </a:pathLst>
          </a:custGeom>
          <a:solidFill>
            <a:srgbClr val="00b0f0"/>
          </a:solidFill>
          <a:ln w="255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олилиния 45"/>
          <p:cNvSpPr/>
          <p:nvPr/>
        </p:nvSpPr>
        <p:spPr>
          <a:xfrm>
            <a:off x="7078680" y="3666960"/>
            <a:ext cx="1954080" cy="841680"/>
          </a:xfrm>
          <a:custGeom>
            <a:avLst/>
            <a:gdLst/>
            <a:ahLst/>
            <a:rect l="l" t="t" r="r" b="b"/>
            <a:pathLst>
              <a:path w="1954924" h="842137">
                <a:moveTo>
                  <a:pt x="157655" y="132689"/>
                </a:moveTo>
                <a:cubicBezTo>
                  <a:pt x="173421" y="122179"/>
                  <a:pt x="187637" y="108853"/>
                  <a:pt x="204952" y="101158"/>
                </a:cubicBezTo>
                <a:cubicBezTo>
                  <a:pt x="270414" y="72064"/>
                  <a:pt x="310936" y="67349"/>
                  <a:pt x="378373" y="53861"/>
                </a:cubicBezTo>
                <a:cubicBezTo>
                  <a:pt x="399394" y="43351"/>
                  <a:pt x="419833" y="31588"/>
                  <a:pt x="441435" y="22330"/>
                </a:cubicBezTo>
                <a:cubicBezTo>
                  <a:pt x="456709" y="15784"/>
                  <a:pt x="472113" y="6565"/>
                  <a:pt x="488731" y="6565"/>
                </a:cubicBezTo>
                <a:cubicBezTo>
                  <a:pt x="709511" y="6565"/>
                  <a:pt x="930166" y="17075"/>
                  <a:pt x="1150883" y="22330"/>
                </a:cubicBezTo>
                <a:cubicBezTo>
                  <a:pt x="1268313" y="100616"/>
                  <a:pt x="1124087" y="0"/>
                  <a:pt x="1245476" y="101158"/>
                </a:cubicBezTo>
                <a:cubicBezTo>
                  <a:pt x="1260032" y="113288"/>
                  <a:pt x="1274035" y="129878"/>
                  <a:pt x="1292773" y="132689"/>
                </a:cubicBezTo>
                <a:cubicBezTo>
                  <a:pt x="1381275" y="145964"/>
                  <a:pt x="1471448" y="143199"/>
                  <a:pt x="1560786" y="148454"/>
                </a:cubicBezTo>
                <a:cubicBezTo>
                  <a:pt x="1644034" y="176204"/>
                  <a:pt x="1594255" y="155001"/>
                  <a:pt x="1702676" y="227282"/>
                </a:cubicBezTo>
                <a:lnTo>
                  <a:pt x="1749973" y="258813"/>
                </a:lnTo>
                <a:lnTo>
                  <a:pt x="1797269" y="290344"/>
                </a:lnTo>
                <a:cubicBezTo>
                  <a:pt x="1819829" y="358024"/>
                  <a:pt x="1825535" y="390005"/>
                  <a:pt x="1860331" y="447999"/>
                </a:cubicBezTo>
                <a:cubicBezTo>
                  <a:pt x="1879828" y="480494"/>
                  <a:pt x="1911409" y="506641"/>
                  <a:pt x="1923393" y="542592"/>
                </a:cubicBezTo>
                <a:lnTo>
                  <a:pt x="1954924" y="637185"/>
                </a:lnTo>
                <a:cubicBezTo>
                  <a:pt x="1949669" y="673971"/>
                  <a:pt x="1949837" y="711951"/>
                  <a:pt x="1939159" y="747544"/>
                </a:cubicBezTo>
                <a:cubicBezTo>
                  <a:pt x="1915794" y="825428"/>
                  <a:pt x="1852355" y="802753"/>
                  <a:pt x="1781504" y="826371"/>
                </a:cubicBezTo>
                <a:lnTo>
                  <a:pt x="1734207" y="842137"/>
                </a:lnTo>
                <a:cubicBezTo>
                  <a:pt x="1718442" y="831627"/>
                  <a:pt x="1705438" y="814576"/>
                  <a:pt x="1686911" y="810606"/>
                </a:cubicBezTo>
                <a:cubicBezTo>
                  <a:pt x="1430299" y="755617"/>
                  <a:pt x="1596494" y="823210"/>
                  <a:pt x="1434662" y="779075"/>
                </a:cubicBezTo>
                <a:cubicBezTo>
                  <a:pt x="1402597" y="770330"/>
                  <a:pt x="1373049" y="751667"/>
                  <a:pt x="1340069" y="747544"/>
                </a:cubicBezTo>
                <a:cubicBezTo>
                  <a:pt x="1298028" y="742289"/>
                  <a:pt x="1255737" y="738743"/>
                  <a:pt x="1213945" y="731778"/>
                </a:cubicBezTo>
                <a:cubicBezTo>
                  <a:pt x="1154791" y="721919"/>
                  <a:pt x="1156076" y="715244"/>
                  <a:pt x="1103586" y="700247"/>
                </a:cubicBezTo>
                <a:cubicBezTo>
                  <a:pt x="1082752" y="694294"/>
                  <a:pt x="1061676" y="689182"/>
                  <a:pt x="1040524" y="684482"/>
                </a:cubicBezTo>
                <a:cubicBezTo>
                  <a:pt x="1014366" y="678669"/>
                  <a:pt x="987363" y="676416"/>
                  <a:pt x="961697" y="668716"/>
                </a:cubicBezTo>
                <a:cubicBezTo>
                  <a:pt x="849612" y="635090"/>
                  <a:pt x="914825" y="630794"/>
                  <a:pt x="788276" y="621420"/>
                </a:cubicBezTo>
                <a:cubicBezTo>
                  <a:pt x="678094" y="613258"/>
                  <a:pt x="567559" y="610909"/>
                  <a:pt x="457200" y="605654"/>
                </a:cubicBezTo>
                <a:cubicBezTo>
                  <a:pt x="298233" y="552666"/>
                  <a:pt x="544827" y="633519"/>
                  <a:pt x="346842" y="574123"/>
                </a:cubicBezTo>
                <a:cubicBezTo>
                  <a:pt x="315007" y="564572"/>
                  <a:pt x="283780" y="553102"/>
                  <a:pt x="252249" y="542592"/>
                </a:cubicBezTo>
                <a:lnTo>
                  <a:pt x="204952" y="526827"/>
                </a:lnTo>
                <a:lnTo>
                  <a:pt x="157655" y="511061"/>
                </a:lnTo>
                <a:cubicBezTo>
                  <a:pt x="141890" y="495296"/>
                  <a:pt x="122726" y="482316"/>
                  <a:pt x="110359" y="463765"/>
                </a:cubicBezTo>
                <a:cubicBezTo>
                  <a:pt x="101141" y="449938"/>
                  <a:pt x="102025" y="431332"/>
                  <a:pt x="94593" y="416468"/>
                </a:cubicBezTo>
                <a:cubicBezTo>
                  <a:pt x="86119" y="399520"/>
                  <a:pt x="73572" y="384937"/>
                  <a:pt x="63062" y="369171"/>
                </a:cubicBezTo>
                <a:cubicBezTo>
                  <a:pt x="26276" y="258812"/>
                  <a:pt x="0" y="285088"/>
                  <a:pt x="78828" y="258813"/>
                </a:cubicBezTo>
                <a:cubicBezTo>
                  <a:pt x="154257" y="145669"/>
                  <a:pt x="115094" y="191016"/>
                  <a:pt x="189186" y="116923"/>
                </a:cubicBezTo>
                <a:cubicBezTo>
                  <a:pt x="207302" y="62576"/>
                  <a:pt x="193202" y="81378"/>
                  <a:pt x="220717" y="53861"/>
                </a:cubicBezTo>
              </a:path>
            </a:pathLst>
          </a:custGeom>
          <a:solidFill>
            <a:srgbClr val="00b0f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олилиния 46"/>
          <p:cNvSpPr/>
          <p:nvPr/>
        </p:nvSpPr>
        <p:spPr>
          <a:xfrm>
            <a:off x="4857840" y="4500720"/>
            <a:ext cx="1954080" cy="841320"/>
          </a:xfrm>
          <a:custGeom>
            <a:avLst/>
            <a:gdLst/>
            <a:ahLst/>
            <a:rect l="l" t="t" r="r" b="b"/>
            <a:pathLst>
              <a:path w="1954924" h="842137">
                <a:moveTo>
                  <a:pt x="157655" y="132689"/>
                </a:moveTo>
                <a:cubicBezTo>
                  <a:pt x="173421" y="122179"/>
                  <a:pt x="187637" y="108853"/>
                  <a:pt x="204952" y="101158"/>
                </a:cubicBezTo>
                <a:cubicBezTo>
                  <a:pt x="270414" y="72064"/>
                  <a:pt x="310936" y="67349"/>
                  <a:pt x="378373" y="53861"/>
                </a:cubicBezTo>
                <a:cubicBezTo>
                  <a:pt x="399394" y="43351"/>
                  <a:pt x="419833" y="31588"/>
                  <a:pt x="441435" y="22330"/>
                </a:cubicBezTo>
                <a:cubicBezTo>
                  <a:pt x="456709" y="15784"/>
                  <a:pt x="472113" y="6565"/>
                  <a:pt x="488731" y="6565"/>
                </a:cubicBezTo>
                <a:cubicBezTo>
                  <a:pt x="709511" y="6565"/>
                  <a:pt x="930166" y="17075"/>
                  <a:pt x="1150883" y="22330"/>
                </a:cubicBezTo>
                <a:cubicBezTo>
                  <a:pt x="1268313" y="100616"/>
                  <a:pt x="1124087" y="0"/>
                  <a:pt x="1245476" y="101158"/>
                </a:cubicBezTo>
                <a:cubicBezTo>
                  <a:pt x="1260032" y="113288"/>
                  <a:pt x="1274035" y="129878"/>
                  <a:pt x="1292773" y="132689"/>
                </a:cubicBezTo>
                <a:cubicBezTo>
                  <a:pt x="1381275" y="145964"/>
                  <a:pt x="1471448" y="143199"/>
                  <a:pt x="1560786" y="148454"/>
                </a:cubicBezTo>
                <a:cubicBezTo>
                  <a:pt x="1644034" y="176204"/>
                  <a:pt x="1594255" y="155001"/>
                  <a:pt x="1702676" y="227282"/>
                </a:cubicBezTo>
                <a:lnTo>
                  <a:pt x="1749973" y="258813"/>
                </a:lnTo>
                <a:lnTo>
                  <a:pt x="1797269" y="290344"/>
                </a:lnTo>
                <a:cubicBezTo>
                  <a:pt x="1819829" y="358024"/>
                  <a:pt x="1825535" y="390005"/>
                  <a:pt x="1860331" y="447999"/>
                </a:cubicBezTo>
                <a:cubicBezTo>
                  <a:pt x="1879828" y="480494"/>
                  <a:pt x="1911409" y="506641"/>
                  <a:pt x="1923393" y="542592"/>
                </a:cubicBezTo>
                <a:lnTo>
                  <a:pt x="1954924" y="637185"/>
                </a:lnTo>
                <a:cubicBezTo>
                  <a:pt x="1949669" y="673971"/>
                  <a:pt x="1949837" y="711951"/>
                  <a:pt x="1939159" y="747544"/>
                </a:cubicBezTo>
                <a:cubicBezTo>
                  <a:pt x="1915794" y="825428"/>
                  <a:pt x="1852355" y="802753"/>
                  <a:pt x="1781504" y="826371"/>
                </a:cubicBezTo>
                <a:lnTo>
                  <a:pt x="1734207" y="842137"/>
                </a:lnTo>
                <a:cubicBezTo>
                  <a:pt x="1718442" y="831627"/>
                  <a:pt x="1705438" y="814576"/>
                  <a:pt x="1686911" y="810606"/>
                </a:cubicBezTo>
                <a:cubicBezTo>
                  <a:pt x="1430299" y="755617"/>
                  <a:pt x="1596494" y="823210"/>
                  <a:pt x="1434662" y="779075"/>
                </a:cubicBezTo>
                <a:cubicBezTo>
                  <a:pt x="1402597" y="770330"/>
                  <a:pt x="1373049" y="751667"/>
                  <a:pt x="1340069" y="747544"/>
                </a:cubicBezTo>
                <a:cubicBezTo>
                  <a:pt x="1298028" y="742289"/>
                  <a:pt x="1255737" y="738743"/>
                  <a:pt x="1213945" y="731778"/>
                </a:cubicBezTo>
                <a:cubicBezTo>
                  <a:pt x="1154791" y="721919"/>
                  <a:pt x="1156076" y="715244"/>
                  <a:pt x="1103586" y="700247"/>
                </a:cubicBezTo>
                <a:cubicBezTo>
                  <a:pt x="1082752" y="694294"/>
                  <a:pt x="1061676" y="689182"/>
                  <a:pt x="1040524" y="684482"/>
                </a:cubicBezTo>
                <a:cubicBezTo>
                  <a:pt x="1014366" y="678669"/>
                  <a:pt x="987363" y="676416"/>
                  <a:pt x="961697" y="668716"/>
                </a:cubicBezTo>
                <a:cubicBezTo>
                  <a:pt x="849612" y="635090"/>
                  <a:pt x="914825" y="630794"/>
                  <a:pt x="788276" y="621420"/>
                </a:cubicBezTo>
                <a:cubicBezTo>
                  <a:pt x="678094" y="613258"/>
                  <a:pt x="567559" y="610909"/>
                  <a:pt x="457200" y="605654"/>
                </a:cubicBezTo>
                <a:cubicBezTo>
                  <a:pt x="298233" y="552666"/>
                  <a:pt x="544827" y="633519"/>
                  <a:pt x="346842" y="574123"/>
                </a:cubicBezTo>
                <a:cubicBezTo>
                  <a:pt x="315007" y="564572"/>
                  <a:pt x="283780" y="553102"/>
                  <a:pt x="252249" y="542592"/>
                </a:cubicBezTo>
                <a:lnTo>
                  <a:pt x="204952" y="526827"/>
                </a:lnTo>
                <a:lnTo>
                  <a:pt x="157655" y="511061"/>
                </a:lnTo>
                <a:cubicBezTo>
                  <a:pt x="141890" y="495296"/>
                  <a:pt x="122726" y="482316"/>
                  <a:pt x="110359" y="463765"/>
                </a:cubicBezTo>
                <a:cubicBezTo>
                  <a:pt x="101141" y="449938"/>
                  <a:pt x="102025" y="431332"/>
                  <a:pt x="94593" y="416468"/>
                </a:cubicBezTo>
                <a:cubicBezTo>
                  <a:pt x="86119" y="399520"/>
                  <a:pt x="73572" y="384937"/>
                  <a:pt x="63062" y="369171"/>
                </a:cubicBezTo>
                <a:cubicBezTo>
                  <a:pt x="26276" y="258812"/>
                  <a:pt x="0" y="285088"/>
                  <a:pt x="78828" y="258813"/>
                </a:cubicBezTo>
                <a:cubicBezTo>
                  <a:pt x="154257" y="145669"/>
                  <a:pt x="115094" y="191016"/>
                  <a:pt x="189186" y="116923"/>
                </a:cubicBezTo>
                <a:cubicBezTo>
                  <a:pt x="207302" y="62576"/>
                  <a:pt x="193202" y="81378"/>
                  <a:pt x="220717" y="53861"/>
                </a:cubicBezTo>
              </a:path>
            </a:pathLst>
          </a:custGeom>
          <a:solidFill>
            <a:srgbClr val="00b0f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олилиния 61"/>
          <p:cNvSpPr/>
          <p:nvPr/>
        </p:nvSpPr>
        <p:spPr>
          <a:xfrm>
            <a:off x="6858000" y="1908000"/>
            <a:ext cx="1812960" cy="819360"/>
          </a:xfrm>
          <a:custGeom>
            <a:avLst/>
            <a:gdLst/>
            <a:ahLst/>
            <a:rect l="l" t="t" r="r" b="b"/>
            <a:pathLst>
              <a:path w="1813034" h="819806">
                <a:moveTo>
                  <a:pt x="1813034" y="0"/>
                </a:moveTo>
                <a:cubicBezTo>
                  <a:pt x="1751446" y="184765"/>
                  <a:pt x="1806670" y="289"/>
                  <a:pt x="1765738" y="204951"/>
                </a:cubicBezTo>
                <a:cubicBezTo>
                  <a:pt x="1762479" y="221247"/>
                  <a:pt x="1761723" y="240497"/>
                  <a:pt x="1749972" y="252248"/>
                </a:cubicBezTo>
                <a:cubicBezTo>
                  <a:pt x="1738221" y="263999"/>
                  <a:pt x="1718441" y="262758"/>
                  <a:pt x="1702676" y="268013"/>
                </a:cubicBezTo>
                <a:cubicBezTo>
                  <a:pt x="1686910" y="278523"/>
                  <a:pt x="1674069" y="296429"/>
                  <a:pt x="1655379" y="299544"/>
                </a:cubicBezTo>
                <a:cubicBezTo>
                  <a:pt x="1638987" y="302276"/>
                  <a:pt x="1624599" y="285614"/>
                  <a:pt x="1608083" y="283779"/>
                </a:cubicBezTo>
                <a:cubicBezTo>
                  <a:pt x="1576745" y="280297"/>
                  <a:pt x="1545021" y="283779"/>
                  <a:pt x="1513490" y="283779"/>
                </a:cubicBezTo>
                <a:cubicBezTo>
                  <a:pt x="1345324" y="315310"/>
                  <a:pt x="1170335" y="321428"/>
                  <a:pt x="1008993" y="378372"/>
                </a:cubicBezTo>
                <a:cubicBezTo>
                  <a:pt x="977651" y="389434"/>
                  <a:pt x="987972" y="441434"/>
                  <a:pt x="977462" y="472965"/>
                </a:cubicBezTo>
                <a:lnTo>
                  <a:pt x="914400" y="662151"/>
                </a:lnTo>
                <a:lnTo>
                  <a:pt x="898634" y="709448"/>
                </a:lnTo>
                <a:cubicBezTo>
                  <a:pt x="893379" y="725213"/>
                  <a:pt x="896696" y="747526"/>
                  <a:pt x="882869" y="756744"/>
                </a:cubicBezTo>
                <a:cubicBezTo>
                  <a:pt x="867103" y="767254"/>
                  <a:pt x="852887" y="780580"/>
                  <a:pt x="835572" y="788275"/>
                </a:cubicBezTo>
                <a:cubicBezTo>
                  <a:pt x="805200" y="801774"/>
                  <a:pt x="740979" y="819806"/>
                  <a:pt x="740979" y="819806"/>
                </a:cubicBezTo>
                <a:cubicBezTo>
                  <a:pt x="609600" y="814551"/>
                  <a:pt x="478325" y="804041"/>
                  <a:pt x="346841" y="804041"/>
                </a:cubicBezTo>
                <a:cubicBezTo>
                  <a:pt x="231108" y="804041"/>
                  <a:pt x="0" y="819806"/>
                  <a:pt x="0" y="81980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олилиния 62"/>
          <p:cNvSpPr/>
          <p:nvPr/>
        </p:nvSpPr>
        <p:spPr>
          <a:xfrm>
            <a:off x="6573960" y="1039680"/>
            <a:ext cx="1719000" cy="2301840"/>
          </a:xfrm>
          <a:custGeom>
            <a:avLst/>
            <a:gdLst/>
            <a:ahLst/>
            <a:rect l="l" t="t" r="r" b="b"/>
            <a:pathLst>
              <a:path w="1718441" h="2301766">
                <a:moveTo>
                  <a:pt x="1718441" y="0"/>
                </a:moveTo>
                <a:cubicBezTo>
                  <a:pt x="1707931" y="15766"/>
                  <a:pt x="1702978" y="37255"/>
                  <a:pt x="1686910" y="47297"/>
                </a:cubicBezTo>
                <a:cubicBezTo>
                  <a:pt x="1661320" y="63291"/>
                  <a:pt x="1566176" y="85363"/>
                  <a:pt x="1529255" y="94593"/>
                </a:cubicBezTo>
                <a:cubicBezTo>
                  <a:pt x="1524000" y="120869"/>
                  <a:pt x="1522898" y="148331"/>
                  <a:pt x="1513489" y="173421"/>
                </a:cubicBezTo>
                <a:cubicBezTo>
                  <a:pt x="1506836" y="191162"/>
                  <a:pt x="1486943" y="202437"/>
                  <a:pt x="1481958" y="220717"/>
                </a:cubicBezTo>
                <a:cubicBezTo>
                  <a:pt x="1470810" y="261593"/>
                  <a:pt x="1475070" y="305414"/>
                  <a:pt x="1466193" y="346842"/>
                </a:cubicBezTo>
                <a:cubicBezTo>
                  <a:pt x="1459229" y="379341"/>
                  <a:pt x="1445172" y="409904"/>
                  <a:pt x="1434662" y="441435"/>
                </a:cubicBezTo>
                <a:cubicBezTo>
                  <a:pt x="1429407" y="457200"/>
                  <a:pt x="1432723" y="479513"/>
                  <a:pt x="1418896" y="488731"/>
                </a:cubicBezTo>
                <a:lnTo>
                  <a:pt x="1277007" y="583324"/>
                </a:lnTo>
                <a:lnTo>
                  <a:pt x="1229710" y="614855"/>
                </a:lnTo>
                <a:cubicBezTo>
                  <a:pt x="1185052" y="748836"/>
                  <a:pt x="1247335" y="585481"/>
                  <a:pt x="1182413" y="693683"/>
                </a:cubicBezTo>
                <a:cubicBezTo>
                  <a:pt x="1173863" y="707933"/>
                  <a:pt x="1174080" y="726115"/>
                  <a:pt x="1166648" y="740979"/>
                </a:cubicBezTo>
                <a:cubicBezTo>
                  <a:pt x="1158174" y="757927"/>
                  <a:pt x="1142812" y="770961"/>
                  <a:pt x="1135117" y="788276"/>
                </a:cubicBezTo>
                <a:cubicBezTo>
                  <a:pt x="1121618" y="818648"/>
                  <a:pt x="1114096" y="851338"/>
                  <a:pt x="1103586" y="882869"/>
                </a:cubicBezTo>
                <a:lnTo>
                  <a:pt x="1087820" y="930166"/>
                </a:lnTo>
                <a:cubicBezTo>
                  <a:pt x="1082565" y="945931"/>
                  <a:pt x="1081273" y="963635"/>
                  <a:pt x="1072055" y="977462"/>
                </a:cubicBezTo>
                <a:cubicBezTo>
                  <a:pt x="1061545" y="993228"/>
                  <a:pt x="1048998" y="1007812"/>
                  <a:pt x="1040524" y="1024759"/>
                </a:cubicBezTo>
                <a:cubicBezTo>
                  <a:pt x="1012350" y="1081106"/>
                  <a:pt x="1039551" y="1124178"/>
                  <a:pt x="930165" y="1135117"/>
                </a:cubicBezTo>
                <a:lnTo>
                  <a:pt x="772510" y="1150883"/>
                </a:lnTo>
                <a:cubicBezTo>
                  <a:pt x="613521" y="1203877"/>
                  <a:pt x="860162" y="1123010"/>
                  <a:pt x="662151" y="1182414"/>
                </a:cubicBezTo>
                <a:cubicBezTo>
                  <a:pt x="630316" y="1191965"/>
                  <a:pt x="599089" y="1203435"/>
                  <a:pt x="567558" y="1213945"/>
                </a:cubicBezTo>
                <a:lnTo>
                  <a:pt x="520262" y="1229710"/>
                </a:lnTo>
                <a:lnTo>
                  <a:pt x="472965" y="1245476"/>
                </a:lnTo>
                <a:lnTo>
                  <a:pt x="425669" y="1261242"/>
                </a:lnTo>
                <a:cubicBezTo>
                  <a:pt x="368168" y="1433737"/>
                  <a:pt x="464483" y="1177066"/>
                  <a:pt x="362607" y="1340069"/>
                </a:cubicBezTo>
                <a:cubicBezTo>
                  <a:pt x="344992" y="1368254"/>
                  <a:pt x="341586" y="1403131"/>
                  <a:pt x="331076" y="1434662"/>
                </a:cubicBezTo>
                <a:cubicBezTo>
                  <a:pt x="325821" y="1450428"/>
                  <a:pt x="324528" y="1468132"/>
                  <a:pt x="315310" y="1481959"/>
                </a:cubicBezTo>
                <a:cubicBezTo>
                  <a:pt x="304800" y="1497724"/>
                  <a:pt x="291474" y="1511940"/>
                  <a:pt x="283779" y="1529255"/>
                </a:cubicBezTo>
                <a:cubicBezTo>
                  <a:pt x="270280" y="1559627"/>
                  <a:pt x="262758" y="1592317"/>
                  <a:pt x="252248" y="1623848"/>
                </a:cubicBezTo>
                <a:lnTo>
                  <a:pt x="220717" y="1718442"/>
                </a:lnTo>
                <a:lnTo>
                  <a:pt x="110358" y="2049517"/>
                </a:lnTo>
                <a:lnTo>
                  <a:pt x="78827" y="2144110"/>
                </a:lnTo>
                <a:cubicBezTo>
                  <a:pt x="78825" y="2144115"/>
                  <a:pt x="47299" y="2238700"/>
                  <a:pt x="47296" y="2238704"/>
                </a:cubicBezTo>
                <a:cubicBezTo>
                  <a:pt x="11642" y="2292184"/>
                  <a:pt x="29163" y="2272602"/>
                  <a:pt x="0" y="230176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олилиния 63"/>
          <p:cNvSpPr/>
          <p:nvPr/>
        </p:nvSpPr>
        <p:spPr>
          <a:xfrm>
            <a:off x="2602080" y="2995560"/>
            <a:ext cx="6368760" cy="1749600"/>
          </a:xfrm>
          <a:custGeom>
            <a:avLst/>
            <a:gdLst/>
            <a:ahLst/>
            <a:rect l="l" t="t" r="r" b="b"/>
            <a:pathLst>
              <a:path w="6369269" h="1749973">
                <a:moveTo>
                  <a:pt x="6369269" y="0"/>
                </a:moveTo>
                <a:cubicBezTo>
                  <a:pt x="6134993" y="78092"/>
                  <a:pt x="6307891" y="30345"/>
                  <a:pt x="5833242" y="47297"/>
                </a:cubicBezTo>
                <a:cubicBezTo>
                  <a:pt x="5737938" y="71122"/>
                  <a:pt x="5790732" y="56211"/>
                  <a:pt x="5675587" y="94593"/>
                </a:cubicBezTo>
                <a:lnTo>
                  <a:pt x="5628290" y="110359"/>
                </a:lnTo>
                <a:cubicBezTo>
                  <a:pt x="5597271" y="141377"/>
                  <a:pt x="5526330" y="218500"/>
                  <a:pt x="5486400" y="220718"/>
                </a:cubicBezTo>
                <a:cubicBezTo>
                  <a:pt x="5128975" y="240574"/>
                  <a:pt x="5297119" y="229733"/>
                  <a:pt x="4981904" y="252249"/>
                </a:cubicBezTo>
                <a:cubicBezTo>
                  <a:pt x="4602576" y="328112"/>
                  <a:pt x="5113603" y="230781"/>
                  <a:pt x="4035973" y="283780"/>
                </a:cubicBezTo>
                <a:cubicBezTo>
                  <a:pt x="4002777" y="285413"/>
                  <a:pt x="3972911" y="304801"/>
                  <a:pt x="3941380" y="315311"/>
                </a:cubicBezTo>
                <a:lnTo>
                  <a:pt x="3846787" y="346842"/>
                </a:lnTo>
                <a:cubicBezTo>
                  <a:pt x="3831021" y="352097"/>
                  <a:pt x="3816059" y="361332"/>
                  <a:pt x="3799490" y="362607"/>
                </a:cubicBezTo>
                <a:lnTo>
                  <a:pt x="3594538" y="378373"/>
                </a:lnTo>
                <a:cubicBezTo>
                  <a:pt x="3578773" y="383628"/>
                  <a:pt x="3558993" y="382387"/>
                  <a:pt x="3547242" y="394138"/>
                </a:cubicBezTo>
                <a:cubicBezTo>
                  <a:pt x="3520446" y="420934"/>
                  <a:pt x="3510976" y="461935"/>
                  <a:pt x="3484180" y="488731"/>
                </a:cubicBezTo>
                <a:lnTo>
                  <a:pt x="3436883" y="536028"/>
                </a:lnTo>
                <a:cubicBezTo>
                  <a:pt x="3431628" y="551793"/>
                  <a:pt x="3429188" y="568797"/>
                  <a:pt x="3421118" y="583324"/>
                </a:cubicBezTo>
                <a:cubicBezTo>
                  <a:pt x="3376550" y="663548"/>
                  <a:pt x="3374365" y="661610"/>
                  <a:pt x="3326524" y="709449"/>
                </a:cubicBezTo>
                <a:cubicBezTo>
                  <a:pt x="3321269" y="725214"/>
                  <a:pt x="3324282" y="747086"/>
                  <a:pt x="3310759" y="756745"/>
                </a:cubicBezTo>
                <a:cubicBezTo>
                  <a:pt x="3283713" y="776063"/>
                  <a:pt x="3216166" y="788276"/>
                  <a:pt x="3216166" y="788276"/>
                </a:cubicBezTo>
                <a:cubicBezTo>
                  <a:pt x="3192255" y="804217"/>
                  <a:pt x="3154207" y="835573"/>
                  <a:pt x="3121573" y="835573"/>
                </a:cubicBezTo>
                <a:cubicBezTo>
                  <a:pt x="3104954" y="835573"/>
                  <a:pt x="3090042" y="825062"/>
                  <a:pt x="3074276" y="819807"/>
                </a:cubicBezTo>
                <a:cubicBezTo>
                  <a:pt x="2885090" y="825062"/>
                  <a:pt x="2695447" y="821418"/>
                  <a:pt x="2506718" y="835573"/>
                </a:cubicBezTo>
                <a:cubicBezTo>
                  <a:pt x="2434172" y="841014"/>
                  <a:pt x="2457864" y="871191"/>
                  <a:pt x="2412124" y="898635"/>
                </a:cubicBezTo>
                <a:cubicBezTo>
                  <a:pt x="2397874" y="907185"/>
                  <a:pt x="2380593" y="909145"/>
                  <a:pt x="2364828" y="914400"/>
                </a:cubicBezTo>
                <a:cubicBezTo>
                  <a:pt x="2333297" y="935421"/>
                  <a:pt x="2291256" y="945931"/>
                  <a:pt x="2270235" y="977462"/>
                </a:cubicBezTo>
                <a:cubicBezTo>
                  <a:pt x="2229486" y="1038586"/>
                  <a:pt x="2256680" y="1018767"/>
                  <a:pt x="2191407" y="1040524"/>
                </a:cubicBezTo>
                <a:cubicBezTo>
                  <a:pt x="2065281" y="1124609"/>
                  <a:pt x="2217686" y="1014246"/>
                  <a:pt x="2112580" y="1119352"/>
                </a:cubicBezTo>
                <a:cubicBezTo>
                  <a:pt x="2099182" y="1132750"/>
                  <a:pt x="2081049" y="1140373"/>
                  <a:pt x="2065283" y="1150883"/>
                </a:cubicBezTo>
                <a:cubicBezTo>
                  <a:pt x="2002484" y="1245083"/>
                  <a:pt x="2071067" y="1163180"/>
                  <a:pt x="1986456" y="1213945"/>
                </a:cubicBezTo>
                <a:cubicBezTo>
                  <a:pt x="1973710" y="1221592"/>
                  <a:pt x="1966531" y="1236191"/>
                  <a:pt x="1954924" y="1245476"/>
                </a:cubicBezTo>
                <a:cubicBezTo>
                  <a:pt x="1940128" y="1257312"/>
                  <a:pt x="1924575" y="1268533"/>
                  <a:pt x="1907628" y="1277007"/>
                </a:cubicBezTo>
                <a:cubicBezTo>
                  <a:pt x="1777085" y="1342279"/>
                  <a:pt x="1948577" y="1233942"/>
                  <a:pt x="1813035" y="1324304"/>
                </a:cubicBezTo>
                <a:cubicBezTo>
                  <a:pt x="1802525" y="1340069"/>
                  <a:pt x="1797572" y="1361558"/>
                  <a:pt x="1781504" y="1371600"/>
                </a:cubicBezTo>
                <a:cubicBezTo>
                  <a:pt x="1753319" y="1389215"/>
                  <a:pt x="1686911" y="1403131"/>
                  <a:pt x="1686911" y="1403131"/>
                </a:cubicBezTo>
                <a:cubicBezTo>
                  <a:pt x="1676401" y="1418897"/>
                  <a:pt x="1672328" y="1441954"/>
                  <a:pt x="1655380" y="1450428"/>
                </a:cubicBezTo>
                <a:cubicBezTo>
                  <a:pt x="1626789" y="1464724"/>
                  <a:pt x="1591992" y="1459259"/>
                  <a:pt x="1560787" y="1466193"/>
                </a:cubicBezTo>
                <a:cubicBezTo>
                  <a:pt x="1544564" y="1469798"/>
                  <a:pt x="1529256" y="1476704"/>
                  <a:pt x="1513490" y="1481959"/>
                </a:cubicBezTo>
                <a:cubicBezTo>
                  <a:pt x="1355835" y="1476704"/>
                  <a:pt x="1197722" y="1479293"/>
                  <a:pt x="1040524" y="1466193"/>
                </a:cubicBezTo>
                <a:cubicBezTo>
                  <a:pt x="1007402" y="1463433"/>
                  <a:pt x="977462" y="1445172"/>
                  <a:pt x="945931" y="1434662"/>
                </a:cubicBezTo>
                <a:lnTo>
                  <a:pt x="898635" y="1418897"/>
                </a:lnTo>
                <a:cubicBezTo>
                  <a:pt x="756745" y="1424152"/>
                  <a:pt x="614638" y="1425217"/>
                  <a:pt x="472966" y="1434662"/>
                </a:cubicBezTo>
                <a:cubicBezTo>
                  <a:pt x="427242" y="1437710"/>
                  <a:pt x="417208" y="1462541"/>
                  <a:pt x="378373" y="1481959"/>
                </a:cubicBezTo>
                <a:cubicBezTo>
                  <a:pt x="342340" y="1499975"/>
                  <a:pt x="288219" y="1504497"/>
                  <a:pt x="252249" y="1513490"/>
                </a:cubicBezTo>
                <a:cubicBezTo>
                  <a:pt x="236127" y="1517521"/>
                  <a:pt x="220718" y="1524000"/>
                  <a:pt x="204952" y="1529255"/>
                </a:cubicBezTo>
                <a:cubicBezTo>
                  <a:pt x="165327" y="1648135"/>
                  <a:pt x="223387" y="1506212"/>
                  <a:pt x="141890" y="1608083"/>
                </a:cubicBezTo>
                <a:cubicBezTo>
                  <a:pt x="80738" y="1684522"/>
                  <a:pt x="182019" y="1636749"/>
                  <a:pt x="78828" y="1671145"/>
                </a:cubicBezTo>
                <a:cubicBezTo>
                  <a:pt x="63062" y="1681655"/>
                  <a:pt x="44929" y="1689278"/>
                  <a:pt x="31531" y="1702676"/>
                </a:cubicBezTo>
                <a:cubicBezTo>
                  <a:pt x="18133" y="1716074"/>
                  <a:pt x="0" y="1749973"/>
                  <a:pt x="0" y="1749973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олилиния 64"/>
          <p:cNvSpPr/>
          <p:nvPr/>
        </p:nvSpPr>
        <p:spPr>
          <a:xfrm>
            <a:off x="5565600" y="3973680"/>
            <a:ext cx="2963880" cy="1653840"/>
          </a:xfrm>
          <a:custGeom>
            <a:avLst/>
            <a:gdLst/>
            <a:ahLst/>
            <a:rect l="l" t="t" r="r" b="b"/>
            <a:pathLst>
              <a:path w="2965192" h="1655380">
                <a:moveTo>
                  <a:pt x="0" y="0"/>
                </a:moveTo>
                <a:cubicBezTo>
                  <a:pt x="3987" y="121"/>
                  <a:pt x="702119" y="17409"/>
                  <a:pt x="819806" y="31531"/>
                </a:cubicBezTo>
                <a:cubicBezTo>
                  <a:pt x="852806" y="35491"/>
                  <a:pt x="882869" y="52551"/>
                  <a:pt x="914400" y="63062"/>
                </a:cubicBezTo>
                <a:cubicBezTo>
                  <a:pt x="930165" y="68317"/>
                  <a:pt x="947869" y="69610"/>
                  <a:pt x="961696" y="78828"/>
                </a:cubicBezTo>
                <a:cubicBezTo>
                  <a:pt x="977462" y="89338"/>
                  <a:pt x="991678" y="102664"/>
                  <a:pt x="1008993" y="110359"/>
                </a:cubicBezTo>
                <a:cubicBezTo>
                  <a:pt x="1039365" y="123858"/>
                  <a:pt x="1072055" y="131380"/>
                  <a:pt x="1103586" y="141890"/>
                </a:cubicBezTo>
                <a:cubicBezTo>
                  <a:pt x="1119351" y="147145"/>
                  <a:pt x="1137055" y="148438"/>
                  <a:pt x="1150882" y="157656"/>
                </a:cubicBezTo>
                <a:cubicBezTo>
                  <a:pt x="1166648" y="168166"/>
                  <a:pt x="1180864" y="181492"/>
                  <a:pt x="1198179" y="189187"/>
                </a:cubicBezTo>
                <a:cubicBezTo>
                  <a:pt x="1367032" y="264233"/>
                  <a:pt x="1233030" y="180890"/>
                  <a:pt x="1340069" y="252249"/>
                </a:cubicBezTo>
                <a:cubicBezTo>
                  <a:pt x="1350579" y="268014"/>
                  <a:pt x="1355532" y="289503"/>
                  <a:pt x="1371600" y="299545"/>
                </a:cubicBezTo>
                <a:cubicBezTo>
                  <a:pt x="1399785" y="317160"/>
                  <a:pt x="1466193" y="331076"/>
                  <a:pt x="1466193" y="331076"/>
                </a:cubicBezTo>
                <a:cubicBezTo>
                  <a:pt x="1541144" y="381044"/>
                  <a:pt x="1495513" y="356615"/>
                  <a:pt x="1608082" y="394138"/>
                </a:cubicBezTo>
                <a:cubicBezTo>
                  <a:pt x="1623848" y="399393"/>
                  <a:pt x="1641552" y="400686"/>
                  <a:pt x="1655379" y="409904"/>
                </a:cubicBezTo>
                <a:cubicBezTo>
                  <a:pt x="1671144" y="420414"/>
                  <a:pt x="1685360" y="433740"/>
                  <a:pt x="1702675" y="441435"/>
                </a:cubicBezTo>
                <a:cubicBezTo>
                  <a:pt x="1733047" y="454934"/>
                  <a:pt x="1797269" y="472966"/>
                  <a:pt x="1797269" y="472966"/>
                </a:cubicBezTo>
                <a:cubicBezTo>
                  <a:pt x="1855529" y="560355"/>
                  <a:pt x="1795467" y="491234"/>
                  <a:pt x="1876096" y="536028"/>
                </a:cubicBezTo>
                <a:cubicBezTo>
                  <a:pt x="1909223" y="554432"/>
                  <a:pt x="1934738" y="587106"/>
                  <a:pt x="1970689" y="599090"/>
                </a:cubicBezTo>
                <a:lnTo>
                  <a:pt x="2065282" y="630621"/>
                </a:lnTo>
                <a:cubicBezTo>
                  <a:pt x="2075792" y="646387"/>
                  <a:pt x="2082017" y="666081"/>
                  <a:pt x="2096813" y="677918"/>
                </a:cubicBezTo>
                <a:cubicBezTo>
                  <a:pt x="2109790" y="688299"/>
                  <a:pt x="2129246" y="686251"/>
                  <a:pt x="2144110" y="693683"/>
                </a:cubicBezTo>
                <a:cubicBezTo>
                  <a:pt x="2161057" y="702157"/>
                  <a:pt x="2174459" y="716740"/>
                  <a:pt x="2191406" y="725214"/>
                </a:cubicBezTo>
                <a:cubicBezTo>
                  <a:pt x="2206270" y="732646"/>
                  <a:pt x="2223839" y="733548"/>
                  <a:pt x="2238703" y="740980"/>
                </a:cubicBezTo>
                <a:cubicBezTo>
                  <a:pt x="2341868" y="792562"/>
                  <a:pt x="2228692" y="750071"/>
                  <a:pt x="2333296" y="819807"/>
                </a:cubicBezTo>
                <a:cubicBezTo>
                  <a:pt x="2347123" y="829025"/>
                  <a:pt x="2365729" y="828141"/>
                  <a:pt x="2380593" y="835573"/>
                </a:cubicBezTo>
                <a:cubicBezTo>
                  <a:pt x="2397540" y="844047"/>
                  <a:pt x="2412124" y="856594"/>
                  <a:pt x="2427889" y="867104"/>
                </a:cubicBezTo>
                <a:cubicBezTo>
                  <a:pt x="2438399" y="882869"/>
                  <a:pt x="2445160" y="901923"/>
                  <a:pt x="2459420" y="914400"/>
                </a:cubicBezTo>
                <a:cubicBezTo>
                  <a:pt x="2487939" y="939354"/>
                  <a:pt x="2518062" y="965478"/>
                  <a:pt x="2554013" y="977462"/>
                </a:cubicBezTo>
                <a:lnTo>
                  <a:pt x="2648606" y="1008993"/>
                </a:lnTo>
                <a:cubicBezTo>
                  <a:pt x="2664372" y="1014248"/>
                  <a:pt x="2682076" y="1015541"/>
                  <a:pt x="2695903" y="1024759"/>
                </a:cubicBezTo>
                <a:lnTo>
                  <a:pt x="2743200" y="1056290"/>
                </a:lnTo>
                <a:cubicBezTo>
                  <a:pt x="2793167" y="1131241"/>
                  <a:pt x="2768740" y="1085612"/>
                  <a:pt x="2806262" y="1198180"/>
                </a:cubicBezTo>
                <a:cubicBezTo>
                  <a:pt x="2811517" y="1213945"/>
                  <a:pt x="2812809" y="1231649"/>
                  <a:pt x="2822027" y="1245476"/>
                </a:cubicBezTo>
                <a:cubicBezTo>
                  <a:pt x="2832537" y="1261242"/>
                  <a:pt x="2845863" y="1275458"/>
                  <a:pt x="2853558" y="1292773"/>
                </a:cubicBezTo>
                <a:cubicBezTo>
                  <a:pt x="2867057" y="1323145"/>
                  <a:pt x="2874579" y="1355835"/>
                  <a:pt x="2885089" y="1387366"/>
                </a:cubicBezTo>
                <a:lnTo>
                  <a:pt x="2916620" y="1481959"/>
                </a:lnTo>
                <a:cubicBezTo>
                  <a:pt x="2916623" y="1481969"/>
                  <a:pt x="2948148" y="1576541"/>
                  <a:pt x="2948151" y="1576552"/>
                </a:cubicBezTo>
                <a:cubicBezTo>
                  <a:pt x="2965192" y="1644712"/>
                  <a:pt x="2963917" y="1617946"/>
                  <a:pt x="2963917" y="165538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олилиния 65"/>
          <p:cNvSpPr/>
          <p:nvPr/>
        </p:nvSpPr>
        <p:spPr>
          <a:xfrm>
            <a:off x="7643880" y="4643280"/>
            <a:ext cx="226800" cy="1717920"/>
          </a:xfrm>
          <a:custGeom>
            <a:avLst/>
            <a:gdLst/>
            <a:ahLst/>
            <a:rect l="l" t="t" r="r" b="b"/>
            <a:pathLst>
              <a:path w="226531" h="1718441">
                <a:moveTo>
                  <a:pt x="225089" y="1718441"/>
                </a:moveTo>
                <a:cubicBezTo>
                  <a:pt x="219834" y="1676400"/>
                  <a:pt x="226531" y="1631034"/>
                  <a:pt x="209324" y="1592317"/>
                </a:cubicBezTo>
                <a:cubicBezTo>
                  <a:pt x="202575" y="1577131"/>
                  <a:pt x="171686" y="1590074"/>
                  <a:pt x="162027" y="1576551"/>
                </a:cubicBezTo>
                <a:cubicBezTo>
                  <a:pt x="142709" y="1549505"/>
                  <a:pt x="141006" y="1513489"/>
                  <a:pt x="130496" y="1481958"/>
                </a:cubicBezTo>
                <a:lnTo>
                  <a:pt x="98965" y="1387365"/>
                </a:lnTo>
                <a:lnTo>
                  <a:pt x="83199" y="1324303"/>
                </a:lnTo>
                <a:cubicBezTo>
                  <a:pt x="77944" y="1051034"/>
                  <a:pt x="77366" y="777635"/>
                  <a:pt x="67434" y="504496"/>
                </a:cubicBezTo>
                <a:cubicBezTo>
                  <a:pt x="66830" y="487889"/>
                  <a:pt x="56233" y="473179"/>
                  <a:pt x="51668" y="457200"/>
                </a:cubicBezTo>
                <a:cubicBezTo>
                  <a:pt x="20514" y="348162"/>
                  <a:pt x="49903" y="432608"/>
                  <a:pt x="20137" y="283779"/>
                </a:cubicBezTo>
                <a:cubicBezTo>
                  <a:pt x="16878" y="267483"/>
                  <a:pt x="5294" y="253075"/>
                  <a:pt x="4372" y="236482"/>
                </a:cubicBezTo>
                <a:cubicBezTo>
                  <a:pt x="0" y="157776"/>
                  <a:pt x="4372" y="78827"/>
                  <a:pt x="4372" y="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олилиния 66"/>
          <p:cNvSpPr/>
          <p:nvPr/>
        </p:nvSpPr>
        <p:spPr>
          <a:xfrm>
            <a:off x="4043520" y="2989440"/>
            <a:ext cx="4916160" cy="1536480"/>
          </a:xfrm>
          <a:custGeom>
            <a:avLst/>
            <a:gdLst/>
            <a:ahLst/>
            <a:rect l="l" t="t" r="r" b="b"/>
            <a:pathLst>
              <a:path w="4916193" h="1537302">
                <a:moveTo>
                  <a:pt x="4910938" y="6184"/>
                </a:moveTo>
                <a:cubicBezTo>
                  <a:pt x="4916193" y="6184"/>
                  <a:pt x="4836787" y="13594"/>
                  <a:pt x="4800579" y="21950"/>
                </a:cubicBezTo>
                <a:cubicBezTo>
                  <a:pt x="4768194" y="29424"/>
                  <a:pt x="4737517" y="42971"/>
                  <a:pt x="4705986" y="53481"/>
                </a:cubicBezTo>
                <a:lnTo>
                  <a:pt x="4658690" y="69246"/>
                </a:lnTo>
                <a:cubicBezTo>
                  <a:pt x="4642924" y="74501"/>
                  <a:pt x="4627785" y="82280"/>
                  <a:pt x="4611393" y="85012"/>
                </a:cubicBezTo>
                <a:cubicBezTo>
                  <a:pt x="4459544" y="110319"/>
                  <a:pt x="4548635" y="97883"/>
                  <a:pt x="4343379" y="116543"/>
                </a:cubicBezTo>
                <a:cubicBezTo>
                  <a:pt x="4236910" y="152032"/>
                  <a:pt x="4367965" y="111080"/>
                  <a:pt x="4201490" y="148074"/>
                </a:cubicBezTo>
                <a:cubicBezTo>
                  <a:pt x="4185267" y="151679"/>
                  <a:pt x="4169959" y="158584"/>
                  <a:pt x="4154193" y="163839"/>
                </a:cubicBezTo>
                <a:cubicBezTo>
                  <a:pt x="4138427" y="174349"/>
                  <a:pt x="4121692" y="183533"/>
                  <a:pt x="4106896" y="195370"/>
                </a:cubicBezTo>
                <a:cubicBezTo>
                  <a:pt x="4095289" y="204656"/>
                  <a:pt x="4088111" y="219254"/>
                  <a:pt x="4075365" y="226902"/>
                </a:cubicBezTo>
                <a:cubicBezTo>
                  <a:pt x="4061115" y="235452"/>
                  <a:pt x="4044364" y="239408"/>
                  <a:pt x="4028069" y="242667"/>
                </a:cubicBezTo>
                <a:cubicBezTo>
                  <a:pt x="3948146" y="258652"/>
                  <a:pt x="3817417" y="267550"/>
                  <a:pt x="3744290" y="274198"/>
                </a:cubicBezTo>
                <a:lnTo>
                  <a:pt x="3649696" y="305729"/>
                </a:lnTo>
                <a:cubicBezTo>
                  <a:pt x="3452745" y="371380"/>
                  <a:pt x="3619082" y="320939"/>
                  <a:pt x="3129434" y="337260"/>
                </a:cubicBezTo>
                <a:cubicBezTo>
                  <a:pt x="3054877" y="342231"/>
                  <a:pt x="2892455" y="345267"/>
                  <a:pt x="2798358" y="368791"/>
                </a:cubicBezTo>
                <a:cubicBezTo>
                  <a:pt x="2687415" y="396526"/>
                  <a:pt x="2723108" y="408230"/>
                  <a:pt x="2609172" y="416088"/>
                </a:cubicBezTo>
                <a:cubicBezTo>
                  <a:pt x="2488476" y="424412"/>
                  <a:pt x="2367434" y="426598"/>
                  <a:pt x="2246565" y="431853"/>
                </a:cubicBezTo>
                <a:cubicBezTo>
                  <a:pt x="2225544" y="437108"/>
                  <a:pt x="2204257" y="441393"/>
                  <a:pt x="2183503" y="447619"/>
                </a:cubicBezTo>
                <a:cubicBezTo>
                  <a:pt x="2151668" y="457170"/>
                  <a:pt x="2088910" y="479150"/>
                  <a:pt x="2088910" y="479150"/>
                </a:cubicBezTo>
                <a:lnTo>
                  <a:pt x="1931255" y="715633"/>
                </a:lnTo>
                <a:cubicBezTo>
                  <a:pt x="1920745" y="731398"/>
                  <a:pt x="1917699" y="756937"/>
                  <a:pt x="1899724" y="762929"/>
                </a:cubicBezTo>
                <a:cubicBezTo>
                  <a:pt x="1756221" y="810764"/>
                  <a:pt x="1982858" y="737390"/>
                  <a:pt x="1773600" y="794460"/>
                </a:cubicBezTo>
                <a:cubicBezTo>
                  <a:pt x="1741535" y="803205"/>
                  <a:pt x="1710538" y="815481"/>
                  <a:pt x="1679007" y="825991"/>
                </a:cubicBezTo>
                <a:lnTo>
                  <a:pt x="1584414" y="857522"/>
                </a:lnTo>
                <a:cubicBezTo>
                  <a:pt x="1568648" y="862777"/>
                  <a:pt x="1550944" y="864070"/>
                  <a:pt x="1537117" y="873288"/>
                </a:cubicBezTo>
                <a:cubicBezTo>
                  <a:pt x="1521352" y="883798"/>
                  <a:pt x="1508101" y="899834"/>
                  <a:pt x="1489821" y="904819"/>
                </a:cubicBezTo>
                <a:cubicBezTo>
                  <a:pt x="1448945" y="915967"/>
                  <a:pt x="1405738" y="915329"/>
                  <a:pt x="1363696" y="920584"/>
                </a:cubicBezTo>
                <a:cubicBezTo>
                  <a:pt x="1186335" y="964924"/>
                  <a:pt x="1280692" y="947803"/>
                  <a:pt x="1079917" y="967881"/>
                </a:cubicBezTo>
                <a:cubicBezTo>
                  <a:pt x="961042" y="1007505"/>
                  <a:pt x="1107567" y="954055"/>
                  <a:pt x="985324" y="1015177"/>
                </a:cubicBezTo>
                <a:cubicBezTo>
                  <a:pt x="854785" y="1080447"/>
                  <a:pt x="1026268" y="972115"/>
                  <a:pt x="890731" y="1062474"/>
                </a:cubicBezTo>
                <a:cubicBezTo>
                  <a:pt x="848688" y="1188599"/>
                  <a:pt x="911752" y="1041451"/>
                  <a:pt x="827669" y="1125536"/>
                </a:cubicBezTo>
                <a:cubicBezTo>
                  <a:pt x="815918" y="1137287"/>
                  <a:pt x="822284" y="1159856"/>
                  <a:pt x="811903" y="1172833"/>
                </a:cubicBezTo>
                <a:cubicBezTo>
                  <a:pt x="800067" y="1187629"/>
                  <a:pt x="780372" y="1193854"/>
                  <a:pt x="764607" y="1204364"/>
                </a:cubicBezTo>
                <a:cubicBezTo>
                  <a:pt x="754097" y="1220129"/>
                  <a:pt x="748841" y="1241150"/>
                  <a:pt x="733076" y="1251660"/>
                </a:cubicBezTo>
                <a:cubicBezTo>
                  <a:pt x="717395" y="1262114"/>
                  <a:pt x="575736" y="1283138"/>
                  <a:pt x="575421" y="1283191"/>
                </a:cubicBezTo>
                <a:cubicBezTo>
                  <a:pt x="559655" y="1288446"/>
                  <a:pt x="544157" y="1294584"/>
                  <a:pt x="528124" y="1298957"/>
                </a:cubicBezTo>
                <a:cubicBezTo>
                  <a:pt x="332516" y="1352305"/>
                  <a:pt x="463575" y="1309964"/>
                  <a:pt x="354703" y="1346253"/>
                </a:cubicBezTo>
                <a:cubicBezTo>
                  <a:pt x="338938" y="1356763"/>
                  <a:pt x="319243" y="1362988"/>
                  <a:pt x="307407" y="1377784"/>
                </a:cubicBezTo>
                <a:cubicBezTo>
                  <a:pt x="246257" y="1454222"/>
                  <a:pt x="347535" y="1406450"/>
                  <a:pt x="244345" y="1440846"/>
                </a:cubicBezTo>
                <a:cubicBezTo>
                  <a:pt x="239090" y="1456612"/>
                  <a:pt x="242102" y="1478484"/>
                  <a:pt x="228579" y="1488143"/>
                </a:cubicBezTo>
                <a:cubicBezTo>
                  <a:pt x="201533" y="1507461"/>
                  <a:pt x="133986" y="1519674"/>
                  <a:pt x="133986" y="1519674"/>
                </a:cubicBezTo>
                <a:cubicBezTo>
                  <a:pt x="0" y="1475010"/>
                  <a:pt x="163368" y="1537302"/>
                  <a:pt x="55158" y="1472377"/>
                </a:cubicBezTo>
                <a:cubicBezTo>
                  <a:pt x="40908" y="1463827"/>
                  <a:pt x="23627" y="1461867"/>
                  <a:pt x="7862" y="1456612"/>
                </a:cubicBezTo>
                <a:cubicBezTo>
                  <a:pt x="23627" y="1446102"/>
                  <a:pt x="37009" y="1430526"/>
                  <a:pt x="55158" y="1425081"/>
                </a:cubicBezTo>
                <a:cubicBezTo>
                  <a:pt x="90751" y="1414403"/>
                  <a:pt x="129079" y="1416603"/>
                  <a:pt x="165517" y="1409315"/>
                </a:cubicBezTo>
                <a:cubicBezTo>
                  <a:pt x="181813" y="1406056"/>
                  <a:pt x="197048" y="1398805"/>
                  <a:pt x="212814" y="1393550"/>
                </a:cubicBezTo>
                <a:cubicBezTo>
                  <a:pt x="228579" y="1383040"/>
                  <a:pt x="243163" y="1370493"/>
                  <a:pt x="260110" y="1362019"/>
                </a:cubicBezTo>
                <a:cubicBezTo>
                  <a:pt x="390653" y="1296747"/>
                  <a:pt x="219161" y="1405084"/>
                  <a:pt x="354703" y="1314722"/>
                </a:cubicBezTo>
                <a:cubicBezTo>
                  <a:pt x="365213" y="1298957"/>
                  <a:pt x="371438" y="1279262"/>
                  <a:pt x="386234" y="1267426"/>
                </a:cubicBezTo>
                <a:cubicBezTo>
                  <a:pt x="399211" y="1257045"/>
                  <a:pt x="418667" y="1259092"/>
                  <a:pt x="433531" y="1251660"/>
                </a:cubicBezTo>
                <a:cubicBezTo>
                  <a:pt x="450478" y="1243186"/>
                  <a:pt x="465062" y="1230639"/>
                  <a:pt x="480827" y="1220129"/>
                </a:cubicBezTo>
                <a:cubicBezTo>
                  <a:pt x="501000" y="1189870"/>
                  <a:pt x="542653" y="1120693"/>
                  <a:pt x="575421" y="1109770"/>
                </a:cubicBezTo>
                <a:lnTo>
                  <a:pt x="622717" y="1094005"/>
                </a:lnTo>
                <a:cubicBezTo>
                  <a:pt x="697670" y="1044037"/>
                  <a:pt x="652037" y="1068467"/>
                  <a:pt x="764607" y="1030943"/>
                </a:cubicBezTo>
                <a:lnTo>
                  <a:pt x="811903" y="1015177"/>
                </a:lnTo>
                <a:lnTo>
                  <a:pt x="859200" y="999412"/>
                </a:lnTo>
                <a:cubicBezTo>
                  <a:pt x="967620" y="927132"/>
                  <a:pt x="917842" y="948334"/>
                  <a:pt x="1001090" y="920584"/>
                </a:cubicBezTo>
                <a:cubicBezTo>
                  <a:pt x="1011600" y="904819"/>
                  <a:pt x="1016553" y="883330"/>
                  <a:pt x="1032621" y="873288"/>
                </a:cubicBezTo>
                <a:cubicBezTo>
                  <a:pt x="1125531" y="815220"/>
                  <a:pt x="1384442" y="828218"/>
                  <a:pt x="1426758" y="825991"/>
                </a:cubicBezTo>
                <a:cubicBezTo>
                  <a:pt x="1534875" y="789954"/>
                  <a:pt x="1400681" y="832510"/>
                  <a:pt x="1552883" y="794460"/>
                </a:cubicBezTo>
                <a:cubicBezTo>
                  <a:pt x="1569005" y="790430"/>
                  <a:pt x="1584200" y="783260"/>
                  <a:pt x="1600179" y="778695"/>
                </a:cubicBezTo>
                <a:cubicBezTo>
                  <a:pt x="1621013" y="772742"/>
                  <a:pt x="1642487" y="769155"/>
                  <a:pt x="1663241" y="762929"/>
                </a:cubicBezTo>
                <a:cubicBezTo>
                  <a:pt x="1695076" y="753378"/>
                  <a:pt x="1730179" y="749834"/>
                  <a:pt x="1757834" y="731398"/>
                </a:cubicBezTo>
                <a:lnTo>
                  <a:pt x="1852427" y="668336"/>
                </a:lnTo>
                <a:lnTo>
                  <a:pt x="1899724" y="636805"/>
                </a:lnTo>
                <a:cubicBezTo>
                  <a:pt x="1927474" y="553557"/>
                  <a:pt x="1901662" y="598727"/>
                  <a:pt x="2010083" y="526446"/>
                </a:cubicBezTo>
                <a:lnTo>
                  <a:pt x="2199269" y="400322"/>
                </a:lnTo>
                <a:cubicBezTo>
                  <a:pt x="2215034" y="389812"/>
                  <a:pt x="2228590" y="374783"/>
                  <a:pt x="2246565" y="368791"/>
                </a:cubicBezTo>
                <a:lnTo>
                  <a:pt x="2341158" y="337260"/>
                </a:lnTo>
                <a:cubicBezTo>
                  <a:pt x="2351669" y="326750"/>
                  <a:pt x="2359395" y="312376"/>
                  <a:pt x="2372690" y="305729"/>
                </a:cubicBezTo>
                <a:cubicBezTo>
                  <a:pt x="2392070" y="296039"/>
                  <a:pt x="2414918" y="295917"/>
                  <a:pt x="2435752" y="289964"/>
                </a:cubicBezTo>
                <a:cubicBezTo>
                  <a:pt x="2535803" y="261378"/>
                  <a:pt x="2423511" y="282145"/>
                  <a:pt x="2577641" y="258433"/>
                </a:cubicBezTo>
                <a:cubicBezTo>
                  <a:pt x="2614369" y="252783"/>
                  <a:pt x="2650860" y="243885"/>
                  <a:pt x="2688000" y="242667"/>
                </a:cubicBezTo>
                <a:cubicBezTo>
                  <a:pt x="2971676" y="233366"/>
                  <a:pt x="3255559" y="232157"/>
                  <a:pt x="3539338" y="226902"/>
                </a:cubicBezTo>
                <a:lnTo>
                  <a:pt x="3696993" y="195370"/>
                </a:lnTo>
                <a:cubicBezTo>
                  <a:pt x="3723269" y="190115"/>
                  <a:pt x="3749077" y="181277"/>
                  <a:pt x="3775821" y="179605"/>
                </a:cubicBezTo>
                <a:lnTo>
                  <a:pt x="4028069" y="163839"/>
                </a:lnTo>
                <a:lnTo>
                  <a:pt x="4217255" y="100777"/>
                </a:lnTo>
                <a:lnTo>
                  <a:pt x="4264552" y="85012"/>
                </a:lnTo>
                <a:cubicBezTo>
                  <a:pt x="4280317" y="79757"/>
                  <a:pt x="4295552" y="72505"/>
                  <a:pt x="4311848" y="69246"/>
                </a:cubicBezTo>
                <a:lnTo>
                  <a:pt x="4390676" y="53481"/>
                </a:lnTo>
                <a:cubicBezTo>
                  <a:pt x="4422126" y="47763"/>
                  <a:pt x="4453413" y="40370"/>
                  <a:pt x="4485269" y="37715"/>
                </a:cubicBezTo>
                <a:cubicBezTo>
                  <a:pt x="4579681" y="29847"/>
                  <a:pt x="4674455" y="27205"/>
                  <a:pt x="4769048" y="21950"/>
                </a:cubicBezTo>
                <a:cubicBezTo>
                  <a:pt x="4878795" y="0"/>
                  <a:pt x="4905683" y="6184"/>
                  <a:pt x="4910938" y="618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85"/>
          <p:cNvGrpSpPr/>
          <p:nvPr/>
        </p:nvGrpSpPr>
        <p:grpSpPr>
          <a:xfrm>
            <a:off x="5143680" y="2714760"/>
            <a:ext cx="1009440" cy="645480"/>
            <a:chOff x="5143680" y="2714760"/>
            <a:chExt cx="1009440" cy="645480"/>
          </a:xfrm>
        </p:grpSpPr>
        <p:sp>
          <p:nvSpPr>
            <p:cNvPr id="172" name="Oval 76"/>
            <p:cNvSpPr/>
            <p:nvPr/>
          </p:nvSpPr>
          <p:spPr>
            <a:xfrm>
              <a:off x="5575320" y="2785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77"/>
            <p:cNvSpPr/>
            <p:nvPr/>
          </p:nvSpPr>
          <p:spPr>
            <a:xfrm>
              <a:off x="5791320" y="3001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78"/>
            <p:cNvSpPr/>
            <p:nvPr/>
          </p:nvSpPr>
          <p:spPr>
            <a:xfrm>
              <a:off x="5288040" y="285876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79"/>
            <p:cNvSpPr/>
            <p:nvPr/>
          </p:nvSpPr>
          <p:spPr>
            <a:xfrm>
              <a:off x="5864400" y="2785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80"/>
            <p:cNvSpPr/>
            <p:nvPr/>
          </p:nvSpPr>
          <p:spPr>
            <a:xfrm>
              <a:off x="5504040" y="307476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81"/>
            <p:cNvSpPr/>
            <p:nvPr/>
          </p:nvSpPr>
          <p:spPr>
            <a:xfrm>
              <a:off x="5143680" y="3001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82"/>
            <p:cNvSpPr/>
            <p:nvPr/>
          </p:nvSpPr>
          <p:spPr>
            <a:xfrm>
              <a:off x="5214960" y="3217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83"/>
            <p:cNvSpPr/>
            <p:nvPr/>
          </p:nvSpPr>
          <p:spPr>
            <a:xfrm>
              <a:off x="6080400" y="2714760"/>
              <a:ext cx="7272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85"/>
          <p:cNvGrpSpPr/>
          <p:nvPr/>
        </p:nvGrpSpPr>
        <p:grpSpPr>
          <a:xfrm>
            <a:off x="6072120" y="3786120"/>
            <a:ext cx="1009440" cy="646200"/>
            <a:chOff x="6072120" y="3786120"/>
            <a:chExt cx="1009440" cy="646200"/>
          </a:xfrm>
        </p:grpSpPr>
        <p:sp>
          <p:nvSpPr>
            <p:cNvPr id="181" name="Oval 76"/>
            <p:cNvSpPr/>
            <p:nvPr/>
          </p:nvSpPr>
          <p:spPr>
            <a:xfrm>
              <a:off x="6503760" y="3857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77"/>
            <p:cNvSpPr/>
            <p:nvPr/>
          </p:nvSpPr>
          <p:spPr>
            <a:xfrm>
              <a:off x="6719760" y="4073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78"/>
            <p:cNvSpPr/>
            <p:nvPr/>
          </p:nvSpPr>
          <p:spPr>
            <a:xfrm>
              <a:off x="6216480" y="39304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79"/>
            <p:cNvSpPr/>
            <p:nvPr/>
          </p:nvSpPr>
          <p:spPr>
            <a:xfrm>
              <a:off x="6792840" y="3857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80"/>
            <p:cNvSpPr/>
            <p:nvPr/>
          </p:nvSpPr>
          <p:spPr>
            <a:xfrm>
              <a:off x="6432480" y="41464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81"/>
            <p:cNvSpPr/>
            <p:nvPr/>
          </p:nvSpPr>
          <p:spPr>
            <a:xfrm>
              <a:off x="6072120" y="4073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82"/>
            <p:cNvSpPr/>
            <p:nvPr/>
          </p:nvSpPr>
          <p:spPr>
            <a:xfrm>
              <a:off x="6143400" y="4289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83"/>
            <p:cNvSpPr/>
            <p:nvPr/>
          </p:nvSpPr>
          <p:spPr>
            <a:xfrm>
              <a:off x="7008840" y="3786120"/>
              <a:ext cx="7272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Умножение 86"/>
          <p:cNvSpPr/>
          <p:nvPr/>
        </p:nvSpPr>
        <p:spPr>
          <a:xfrm>
            <a:off x="5572080" y="1714680"/>
            <a:ext cx="428760" cy="42840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116 C 0.06892 -0.00232 0.08159 -0.0007 0.12916 -0.00741 C 0.17257 -0.00671 0.21302 -0.00509 0.2559 -0.00278 C 0.26979 -0.00116 0.29427 0.0037 0.30972 0.0037 E">
                                      <p:cBhvr>
                                        <p:cTn id="539" dur="3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70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7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7037E-006 C -0.00086 0.00764 -0.00295 0.01504 -0.00347 0.02291 C -0.00503 0.04467 -0.0033 0.06273 -0.0085 0.08264 C -0.00746 0.10393 -0.00972 0.13055 -3.05556E-006 0.1493 C 0.00348 0.16296 0.00677 0.17384 0.00868 0.18842 C 0.00712 0.20833 -0.00121 0.24676 0.01736 0.25509 C 0.02361 0.25231 0.02153 0.25069 0.02414 0.2574 E">
                                      <p:cBhvr>
                                        <p:cTn id="574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76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78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80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82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84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586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2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7.77778E-006 C 0.00121 0.00464 0.0026 0.00927 0.00347 0.0139 C 0.00399 0.0169 0.00451 0.01991 0.0052 0.02292 C 0.00625 0.02755 0.00746 0.03218 0.00868 0.03681 C 0.0092 0.03913 0.01041 0.04376 0.01041 0.04376 C 0.01145 0.07616 0.01024 0.10278 0.02083 0.13102 E">
                                      <p:cBhvr>
                                        <p:cTn id="635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07407E-006 C 0.00781 -0.03125 0.00816 -0.07407 -0.01042 -0.09884 E">
                                      <p:cBhvr>
                                        <p:cTn id="637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3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7" descr=""/>
          <p:cNvPicPr/>
          <p:nvPr/>
        </p:nvPicPr>
        <p:blipFill>
          <a:blip r:embed="rId2"/>
          <a:stretch/>
        </p:blipFill>
        <p:spPr>
          <a:xfrm>
            <a:off x="390600" y="-195120"/>
            <a:ext cx="5516640" cy="1523880"/>
          </a:xfrm>
          <a:prstGeom prst="rect">
            <a:avLst/>
          </a:prstGeom>
          <a:ln w="0">
            <a:noFill/>
          </a:ln>
        </p:spPr>
      </p:pic>
      <p:sp>
        <p:nvSpPr>
          <p:cNvPr id="193" name="Полилиния 28"/>
          <p:cNvSpPr/>
          <p:nvPr/>
        </p:nvSpPr>
        <p:spPr>
          <a:xfrm>
            <a:off x="6858000" y="1908000"/>
            <a:ext cx="1812960" cy="819360"/>
          </a:xfrm>
          <a:custGeom>
            <a:avLst/>
            <a:gdLst/>
            <a:ahLst/>
            <a:rect l="l" t="t" r="r" b="b"/>
            <a:pathLst>
              <a:path w="1813034" h="819806">
                <a:moveTo>
                  <a:pt x="1813034" y="0"/>
                </a:moveTo>
                <a:cubicBezTo>
                  <a:pt x="1751446" y="184765"/>
                  <a:pt x="1806670" y="289"/>
                  <a:pt x="1765738" y="204951"/>
                </a:cubicBezTo>
                <a:cubicBezTo>
                  <a:pt x="1762479" y="221247"/>
                  <a:pt x="1761723" y="240497"/>
                  <a:pt x="1749972" y="252248"/>
                </a:cubicBezTo>
                <a:cubicBezTo>
                  <a:pt x="1738221" y="263999"/>
                  <a:pt x="1718441" y="262758"/>
                  <a:pt x="1702676" y="268013"/>
                </a:cubicBezTo>
                <a:cubicBezTo>
                  <a:pt x="1686910" y="278523"/>
                  <a:pt x="1674069" y="296429"/>
                  <a:pt x="1655379" y="299544"/>
                </a:cubicBezTo>
                <a:cubicBezTo>
                  <a:pt x="1638987" y="302276"/>
                  <a:pt x="1624599" y="285614"/>
                  <a:pt x="1608083" y="283779"/>
                </a:cubicBezTo>
                <a:cubicBezTo>
                  <a:pt x="1576745" y="280297"/>
                  <a:pt x="1545021" y="283779"/>
                  <a:pt x="1513490" y="283779"/>
                </a:cubicBezTo>
                <a:cubicBezTo>
                  <a:pt x="1345324" y="315310"/>
                  <a:pt x="1170335" y="321428"/>
                  <a:pt x="1008993" y="378372"/>
                </a:cubicBezTo>
                <a:cubicBezTo>
                  <a:pt x="977651" y="389434"/>
                  <a:pt x="987972" y="441434"/>
                  <a:pt x="977462" y="472965"/>
                </a:cubicBezTo>
                <a:lnTo>
                  <a:pt x="914400" y="662151"/>
                </a:lnTo>
                <a:lnTo>
                  <a:pt x="898634" y="709448"/>
                </a:lnTo>
                <a:cubicBezTo>
                  <a:pt x="893379" y="725213"/>
                  <a:pt x="896696" y="747526"/>
                  <a:pt x="882869" y="756744"/>
                </a:cubicBezTo>
                <a:cubicBezTo>
                  <a:pt x="867103" y="767254"/>
                  <a:pt x="852887" y="780580"/>
                  <a:pt x="835572" y="788275"/>
                </a:cubicBezTo>
                <a:cubicBezTo>
                  <a:pt x="805200" y="801774"/>
                  <a:pt x="740979" y="819806"/>
                  <a:pt x="740979" y="819806"/>
                </a:cubicBezTo>
                <a:cubicBezTo>
                  <a:pt x="609600" y="814551"/>
                  <a:pt x="478325" y="804041"/>
                  <a:pt x="346841" y="804041"/>
                </a:cubicBezTo>
                <a:cubicBezTo>
                  <a:pt x="231108" y="804041"/>
                  <a:pt x="0" y="819806"/>
                  <a:pt x="0" y="81980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олилиния 29"/>
          <p:cNvSpPr/>
          <p:nvPr/>
        </p:nvSpPr>
        <p:spPr>
          <a:xfrm>
            <a:off x="6573960" y="1039680"/>
            <a:ext cx="1719000" cy="2301840"/>
          </a:xfrm>
          <a:custGeom>
            <a:avLst/>
            <a:gdLst/>
            <a:ahLst/>
            <a:rect l="l" t="t" r="r" b="b"/>
            <a:pathLst>
              <a:path w="1718441" h="2301766">
                <a:moveTo>
                  <a:pt x="1718441" y="0"/>
                </a:moveTo>
                <a:cubicBezTo>
                  <a:pt x="1707931" y="15766"/>
                  <a:pt x="1702978" y="37255"/>
                  <a:pt x="1686910" y="47297"/>
                </a:cubicBezTo>
                <a:cubicBezTo>
                  <a:pt x="1661320" y="63291"/>
                  <a:pt x="1566176" y="85363"/>
                  <a:pt x="1529255" y="94593"/>
                </a:cubicBezTo>
                <a:cubicBezTo>
                  <a:pt x="1524000" y="120869"/>
                  <a:pt x="1522898" y="148331"/>
                  <a:pt x="1513489" y="173421"/>
                </a:cubicBezTo>
                <a:cubicBezTo>
                  <a:pt x="1506836" y="191162"/>
                  <a:pt x="1486943" y="202437"/>
                  <a:pt x="1481958" y="220717"/>
                </a:cubicBezTo>
                <a:cubicBezTo>
                  <a:pt x="1470810" y="261593"/>
                  <a:pt x="1475070" y="305414"/>
                  <a:pt x="1466193" y="346842"/>
                </a:cubicBezTo>
                <a:cubicBezTo>
                  <a:pt x="1459229" y="379341"/>
                  <a:pt x="1445172" y="409904"/>
                  <a:pt x="1434662" y="441435"/>
                </a:cubicBezTo>
                <a:cubicBezTo>
                  <a:pt x="1429407" y="457200"/>
                  <a:pt x="1432723" y="479513"/>
                  <a:pt x="1418896" y="488731"/>
                </a:cubicBezTo>
                <a:lnTo>
                  <a:pt x="1277007" y="583324"/>
                </a:lnTo>
                <a:lnTo>
                  <a:pt x="1229710" y="614855"/>
                </a:lnTo>
                <a:cubicBezTo>
                  <a:pt x="1185052" y="748836"/>
                  <a:pt x="1247335" y="585481"/>
                  <a:pt x="1182413" y="693683"/>
                </a:cubicBezTo>
                <a:cubicBezTo>
                  <a:pt x="1173863" y="707933"/>
                  <a:pt x="1174080" y="726115"/>
                  <a:pt x="1166648" y="740979"/>
                </a:cubicBezTo>
                <a:cubicBezTo>
                  <a:pt x="1158174" y="757927"/>
                  <a:pt x="1142812" y="770961"/>
                  <a:pt x="1135117" y="788276"/>
                </a:cubicBezTo>
                <a:cubicBezTo>
                  <a:pt x="1121618" y="818648"/>
                  <a:pt x="1114096" y="851338"/>
                  <a:pt x="1103586" y="882869"/>
                </a:cubicBezTo>
                <a:lnTo>
                  <a:pt x="1087820" y="930166"/>
                </a:lnTo>
                <a:cubicBezTo>
                  <a:pt x="1082565" y="945931"/>
                  <a:pt x="1081273" y="963635"/>
                  <a:pt x="1072055" y="977462"/>
                </a:cubicBezTo>
                <a:cubicBezTo>
                  <a:pt x="1061545" y="993228"/>
                  <a:pt x="1048998" y="1007812"/>
                  <a:pt x="1040524" y="1024759"/>
                </a:cubicBezTo>
                <a:cubicBezTo>
                  <a:pt x="1012350" y="1081106"/>
                  <a:pt x="1039551" y="1124178"/>
                  <a:pt x="930165" y="1135117"/>
                </a:cubicBezTo>
                <a:lnTo>
                  <a:pt x="772510" y="1150883"/>
                </a:lnTo>
                <a:cubicBezTo>
                  <a:pt x="613521" y="1203877"/>
                  <a:pt x="860162" y="1123010"/>
                  <a:pt x="662151" y="1182414"/>
                </a:cubicBezTo>
                <a:cubicBezTo>
                  <a:pt x="630316" y="1191965"/>
                  <a:pt x="599089" y="1203435"/>
                  <a:pt x="567558" y="1213945"/>
                </a:cubicBezTo>
                <a:lnTo>
                  <a:pt x="520262" y="1229710"/>
                </a:lnTo>
                <a:lnTo>
                  <a:pt x="472965" y="1245476"/>
                </a:lnTo>
                <a:lnTo>
                  <a:pt x="425669" y="1261242"/>
                </a:lnTo>
                <a:cubicBezTo>
                  <a:pt x="368168" y="1433737"/>
                  <a:pt x="464483" y="1177066"/>
                  <a:pt x="362607" y="1340069"/>
                </a:cubicBezTo>
                <a:cubicBezTo>
                  <a:pt x="344992" y="1368254"/>
                  <a:pt x="341586" y="1403131"/>
                  <a:pt x="331076" y="1434662"/>
                </a:cubicBezTo>
                <a:cubicBezTo>
                  <a:pt x="325821" y="1450428"/>
                  <a:pt x="324528" y="1468132"/>
                  <a:pt x="315310" y="1481959"/>
                </a:cubicBezTo>
                <a:cubicBezTo>
                  <a:pt x="304800" y="1497724"/>
                  <a:pt x="291474" y="1511940"/>
                  <a:pt x="283779" y="1529255"/>
                </a:cubicBezTo>
                <a:cubicBezTo>
                  <a:pt x="270280" y="1559627"/>
                  <a:pt x="262758" y="1592317"/>
                  <a:pt x="252248" y="1623848"/>
                </a:cubicBezTo>
                <a:lnTo>
                  <a:pt x="220717" y="1718442"/>
                </a:lnTo>
                <a:lnTo>
                  <a:pt x="110358" y="2049517"/>
                </a:lnTo>
                <a:lnTo>
                  <a:pt x="78827" y="2144110"/>
                </a:lnTo>
                <a:cubicBezTo>
                  <a:pt x="78825" y="2144115"/>
                  <a:pt x="47299" y="2238700"/>
                  <a:pt x="47296" y="2238704"/>
                </a:cubicBezTo>
                <a:cubicBezTo>
                  <a:pt x="11642" y="2292184"/>
                  <a:pt x="29163" y="2272602"/>
                  <a:pt x="0" y="230176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олилиния 30"/>
          <p:cNvSpPr/>
          <p:nvPr/>
        </p:nvSpPr>
        <p:spPr>
          <a:xfrm>
            <a:off x="2602080" y="2995560"/>
            <a:ext cx="6368760" cy="1749600"/>
          </a:xfrm>
          <a:custGeom>
            <a:avLst/>
            <a:gdLst/>
            <a:ahLst/>
            <a:rect l="l" t="t" r="r" b="b"/>
            <a:pathLst>
              <a:path w="6369269" h="1749973">
                <a:moveTo>
                  <a:pt x="6369269" y="0"/>
                </a:moveTo>
                <a:cubicBezTo>
                  <a:pt x="6134993" y="78092"/>
                  <a:pt x="6307891" y="30345"/>
                  <a:pt x="5833242" y="47297"/>
                </a:cubicBezTo>
                <a:cubicBezTo>
                  <a:pt x="5737938" y="71122"/>
                  <a:pt x="5790732" y="56211"/>
                  <a:pt x="5675587" y="94593"/>
                </a:cubicBezTo>
                <a:lnTo>
                  <a:pt x="5628290" y="110359"/>
                </a:lnTo>
                <a:cubicBezTo>
                  <a:pt x="5597271" y="141377"/>
                  <a:pt x="5526330" y="218500"/>
                  <a:pt x="5486400" y="220718"/>
                </a:cubicBezTo>
                <a:cubicBezTo>
                  <a:pt x="5128975" y="240574"/>
                  <a:pt x="5297119" y="229733"/>
                  <a:pt x="4981904" y="252249"/>
                </a:cubicBezTo>
                <a:cubicBezTo>
                  <a:pt x="4602576" y="328112"/>
                  <a:pt x="5113603" y="230781"/>
                  <a:pt x="4035973" y="283780"/>
                </a:cubicBezTo>
                <a:cubicBezTo>
                  <a:pt x="4002777" y="285413"/>
                  <a:pt x="3972911" y="304801"/>
                  <a:pt x="3941380" y="315311"/>
                </a:cubicBezTo>
                <a:lnTo>
                  <a:pt x="3846787" y="346842"/>
                </a:lnTo>
                <a:cubicBezTo>
                  <a:pt x="3831021" y="352097"/>
                  <a:pt x="3816059" y="361332"/>
                  <a:pt x="3799490" y="362607"/>
                </a:cubicBezTo>
                <a:lnTo>
                  <a:pt x="3594538" y="378373"/>
                </a:lnTo>
                <a:cubicBezTo>
                  <a:pt x="3578773" y="383628"/>
                  <a:pt x="3558993" y="382387"/>
                  <a:pt x="3547242" y="394138"/>
                </a:cubicBezTo>
                <a:cubicBezTo>
                  <a:pt x="3520446" y="420934"/>
                  <a:pt x="3510976" y="461935"/>
                  <a:pt x="3484180" y="488731"/>
                </a:cubicBezTo>
                <a:lnTo>
                  <a:pt x="3436883" y="536028"/>
                </a:lnTo>
                <a:cubicBezTo>
                  <a:pt x="3431628" y="551793"/>
                  <a:pt x="3429188" y="568797"/>
                  <a:pt x="3421118" y="583324"/>
                </a:cubicBezTo>
                <a:cubicBezTo>
                  <a:pt x="3376550" y="663548"/>
                  <a:pt x="3374365" y="661610"/>
                  <a:pt x="3326524" y="709449"/>
                </a:cubicBezTo>
                <a:cubicBezTo>
                  <a:pt x="3321269" y="725214"/>
                  <a:pt x="3324282" y="747086"/>
                  <a:pt x="3310759" y="756745"/>
                </a:cubicBezTo>
                <a:cubicBezTo>
                  <a:pt x="3283713" y="776063"/>
                  <a:pt x="3216166" y="788276"/>
                  <a:pt x="3216166" y="788276"/>
                </a:cubicBezTo>
                <a:cubicBezTo>
                  <a:pt x="3192255" y="804217"/>
                  <a:pt x="3154207" y="835573"/>
                  <a:pt x="3121573" y="835573"/>
                </a:cubicBezTo>
                <a:cubicBezTo>
                  <a:pt x="3104954" y="835573"/>
                  <a:pt x="3090042" y="825062"/>
                  <a:pt x="3074276" y="819807"/>
                </a:cubicBezTo>
                <a:cubicBezTo>
                  <a:pt x="2885090" y="825062"/>
                  <a:pt x="2695447" y="821418"/>
                  <a:pt x="2506718" y="835573"/>
                </a:cubicBezTo>
                <a:cubicBezTo>
                  <a:pt x="2434172" y="841014"/>
                  <a:pt x="2457864" y="871191"/>
                  <a:pt x="2412124" y="898635"/>
                </a:cubicBezTo>
                <a:cubicBezTo>
                  <a:pt x="2397874" y="907185"/>
                  <a:pt x="2380593" y="909145"/>
                  <a:pt x="2364828" y="914400"/>
                </a:cubicBezTo>
                <a:cubicBezTo>
                  <a:pt x="2333297" y="935421"/>
                  <a:pt x="2291256" y="945931"/>
                  <a:pt x="2270235" y="977462"/>
                </a:cubicBezTo>
                <a:cubicBezTo>
                  <a:pt x="2229486" y="1038586"/>
                  <a:pt x="2256680" y="1018767"/>
                  <a:pt x="2191407" y="1040524"/>
                </a:cubicBezTo>
                <a:cubicBezTo>
                  <a:pt x="2065281" y="1124609"/>
                  <a:pt x="2217686" y="1014246"/>
                  <a:pt x="2112580" y="1119352"/>
                </a:cubicBezTo>
                <a:cubicBezTo>
                  <a:pt x="2099182" y="1132750"/>
                  <a:pt x="2081049" y="1140373"/>
                  <a:pt x="2065283" y="1150883"/>
                </a:cubicBezTo>
                <a:cubicBezTo>
                  <a:pt x="2002484" y="1245083"/>
                  <a:pt x="2071067" y="1163180"/>
                  <a:pt x="1986456" y="1213945"/>
                </a:cubicBezTo>
                <a:cubicBezTo>
                  <a:pt x="1973710" y="1221592"/>
                  <a:pt x="1966531" y="1236191"/>
                  <a:pt x="1954924" y="1245476"/>
                </a:cubicBezTo>
                <a:cubicBezTo>
                  <a:pt x="1940128" y="1257312"/>
                  <a:pt x="1924575" y="1268533"/>
                  <a:pt x="1907628" y="1277007"/>
                </a:cubicBezTo>
                <a:cubicBezTo>
                  <a:pt x="1777085" y="1342279"/>
                  <a:pt x="1948577" y="1233942"/>
                  <a:pt x="1813035" y="1324304"/>
                </a:cubicBezTo>
                <a:cubicBezTo>
                  <a:pt x="1802525" y="1340069"/>
                  <a:pt x="1797572" y="1361558"/>
                  <a:pt x="1781504" y="1371600"/>
                </a:cubicBezTo>
                <a:cubicBezTo>
                  <a:pt x="1753319" y="1389215"/>
                  <a:pt x="1686911" y="1403131"/>
                  <a:pt x="1686911" y="1403131"/>
                </a:cubicBezTo>
                <a:cubicBezTo>
                  <a:pt x="1676401" y="1418897"/>
                  <a:pt x="1672328" y="1441954"/>
                  <a:pt x="1655380" y="1450428"/>
                </a:cubicBezTo>
                <a:cubicBezTo>
                  <a:pt x="1626789" y="1464724"/>
                  <a:pt x="1591992" y="1459259"/>
                  <a:pt x="1560787" y="1466193"/>
                </a:cubicBezTo>
                <a:cubicBezTo>
                  <a:pt x="1544564" y="1469798"/>
                  <a:pt x="1529256" y="1476704"/>
                  <a:pt x="1513490" y="1481959"/>
                </a:cubicBezTo>
                <a:cubicBezTo>
                  <a:pt x="1355835" y="1476704"/>
                  <a:pt x="1197722" y="1479293"/>
                  <a:pt x="1040524" y="1466193"/>
                </a:cubicBezTo>
                <a:cubicBezTo>
                  <a:pt x="1007402" y="1463433"/>
                  <a:pt x="977462" y="1445172"/>
                  <a:pt x="945931" y="1434662"/>
                </a:cubicBezTo>
                <a:lnTo>
                  <a:pt x="898635" y="1418897"/>
                </a:lnTo>
                <a:cubicBezTo>
                  <a:pt x="756745" y="1424152"/>
                  <a:pt x="614638" y="1425217"/>
                  <a:pt x="472966" y="1434662"/>
                </a:cubicBezTo>
                <a:cubicBezTo>
                  <a:pt x="427242" y="1437710"/>
                  <a:pt x="417208" y="1462541"/>
                  <a:pt x="378373" y="1481959"/>
                </a:cubicBezTo>
                <a:cubicBezTo>
                  <a:pt x="342340" y="1499975"/>
                  <a:pt x="288219" y="1504497"/>
                  <a:pt x="252249" y="1513490"/>
                </a:cubicBezTo>
                <a:cubicBezTo>
                  <a:pt x="236127" y="1517521"/>
                  <a:pt x="220718" y="1524000"/>
                  <a:pt x="204952" y="1529255"/>
                </a:cubicBezTo>
                <a:cubicBezTo>
                  <a:pt x="165327" y="1648135"/>
                  <a:pt x="223387" y="1506212"/>
                  <a:pt x="141890" y="1608083"/>
                </a:cubicBezTo>
                <a:cubicBezTo>
                  <a:pt x="80738" y="1684522"/>
                  <a:pt x="182019" y="1636749"/>
                  <a:pt x="78828" y="1671145"/>
                </a:cubicBezTo>
                <a:cubicBezTo>
                  <a:pt x="63062" y="1681655"/>
                  <a:pt x="44929" y="1689278"/>
                  <a:pt x="31531" y="1702676"/>
                </a:cubicBezTo>
                <a:cubicBezTo>
                  <a:pt x="18133" y="1716074"/>
                  <a:pt x="0" y="1749973"/>
                  <a:pt x="0" y="1749973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32"/>
          <p:cNvSpPr/>
          <p:nvPr/>
        </p:nvSpPr>
        <p:spPr>
          <a:xfrm>
            <a:off x="5565600" y="3973680"/>
            <a:ext cx="2963880" cy="1653840"/>
          </a:xfrm>
          <a:custGeom>
            <a:avLst/>
            <a:gdLst/>
            <a:ahLst/>
            <a:rect l="l" t="t" r="r" b="b"/>
            <a:pathLst>
              <a:path w="2965192" h="1655380">
                <a:moveTo>
                  <a:pt x="0" y="0"/>
                </a:moveTo>
                <a:cubicBezTo>
                  <a:pt x="3987" y="121"/>
                  <a:pt x="702119" y="17409"/>
                  <a:pt x="819806" y="31531"/>
                </a:cubicBezTo>
                <a:cubicBezTo>
                  <a:pt x="852806" y="35491"/>
                  <a:pt x="882869" y="52551"/>
                  <a:pt x="914400" y="63062"/>
                </a:cubicBezTo>
                <a:cubicBezTo>
                  <a:pt x="930165" y="68317"/>
                  <a:pt x="947869" y="69610"/>
                  <a:pt x="961696" y="78828"/>
                </a:cubicBezTo>
                <a:cubicBezTo>
                  <a:pt x="977462" y="89338"/>
                  <a:pt x="991678" y="102664"/>
                  <a:pt x="1008993" y="110359"/>
                </a:cubicBezTo>
                <a:cubicBezTo>
                  <a:pt x="1039365" y="123858"/>
                  <a:pt x="1072055" y="131380"/>
                  <a:pt x="1103586" y="141890"/>
                </a:cubicBezTo>
                <a:cubicBezTo>
                  <a:pt x="1119351" y="147145"/>
                  <a:pt x="1137055" y="148438"/>
                  <a:pt x="1150882" y="157656"/>
                </a:cubicBezTo>
                <a:cubicBezTo>
                  <a:pt x="1166648" y="168166"/>
                  <a:pt x="1180864" y="181492"/>
                  <a:pt x="1198179" y="189187"/>
                </a:cubicBezTo>
                <a:cubicBezTo>
                  <a:pt x="1367032" y="264233"/>
                  <a:pt x="1233030" y="180890"/>
                  <a:pt x="1340069" y="252249"/>
                </a:cubicBezTo>
                <a:cubicBezTo>
                  <a:pt x="1350579" y="268014"/>
                  <a:pt x="1355532" y="289503"/>
                  <a:pt x="1371600" y="299545"/>
                </a:cubicBezTo>
                <a:cubicBezTo>
                  <a:pt x="1399785" y="317160"/>
                  <a:pt x="1466193" y="331076"/>
                  <a:pt x="1466193" y="331076"/>
                </a:cubicBezTo>
                <a:cubicBezTo>
                  <a:pt x="1541144" y="381044"/>
                  <a:pt x="1495513" y="356615"/>
                  <a:pt x="1608082" y="394138"/>
                </a:cubicBezTo>
                <a:cubicBezTo>
                  <a:pt x="1623848" y="399393"/>
                  <a:pt x="1641552" y="400686"/>
                  <a:pt x="1655379" y="409904"/>
                </a:cubicBezTo>
                <a:cubicBezTo>
                  <a:pt x="1671144" y="420414"/>
                  <a:pt x="1685360" y="433740"/>
                  <a:pt x="1702675" y="441435"/>
                </a:cubicBezTo>
                <a:cubicBezTo>
                  <a:pt x="1733047" y="454934"/>
                  <a:pt x="1797269" y="472966"/>
                  <a:pt x="1797269" y="472966"/>
                </a:cubicBezTo>
                <a:cubicBezTo>
                  <a:pt x="1855529" y="560355"/>
                  <a:pt x="1795467" y="491234"/>
                  <a:pt x="1876096" y="536028"/>
                </a:cubicBezTo>
                <a:cubicBezTo>
                  <a:pt x="1909223" y="554432"/>
                  <a:pt x="1934738" y="587106"/>
                  <a:pt x="1970689" y="599090"/>
                </a:cubicBezTo>
                <a:lnTo>
                  <a:pt x="2065282" y="630621"/>
                </a:lnTo>
                <a:cubicBezTo>
                  <a:pt x="2075792" y="646387"/>
                  <a:pt x="2082017" y="666081"/>
                  <a:pt x="2096813" y="677918"/>
                </a:cubicBezTo>
                <a:cubicBezTo>
                  <a:pt x="2109790" y="688299"/>
                  <a:pt x="2129246" y="686251"/>
                  <a:pt x="2144110" y="693683"/>
                </a:cubicBezTo>
                <a:cubicBezTo>
                  <a:pt x="2161057" y="702157"/>
                  <a:pt x="2174459" y="716740"/>
                  <a:pt x="2191406" y="725214"/>
                </a:cubicBezTo>
                <a:cubicBezTo>
                  <a:pt x="2206270" y="732646"/>
                  <a:pt x="2223839" y="733548"/>
                  <a:pt x="2238703" y="740980"/>
                </a:cubicBezTo>
                <a:cubicBezTo>
                  <a:pt x="2341868" y="792562"/>
                  <a:pt x="2228692" y="750071"/>
                  <a:pt x="2333296" y="819807"/>
                </a:cubicBezTo>
                <a:cubicBezTo>
                  <a:pt x="2347123" y="829025"/>
                  <a:pt x="2365729" y="828141"/>
                  <a:pt x="2380593" y="835573"/>
                </a:cubicBezTo>
                <a:cubicBezTo>
                  <a:pt x="2397540" y="844047"/>
                  <a:pt x="2412124" y="856594"/>
                  <a:pt x="2427889" y="867104"/>
                </a:cubicBezTo>
                <a:cubicBezTo>
                  <a:pt x="2438399" y="882869"/>
                  <a:pt x="2445160" y="901923"/>
                  <a:pt x="2459420" y="914400"/>
                </a:cubicBezTo>
                <a:cubicBezTo>
                  <a:pt x="2487939" y="939354"/>
                  <a:pt x="2518062" y="965478"/>
                  <a:pt x="2554013" y="977462"/>
                </a:cubicBezTo>
                <a:lnTo>
                  <a:pt x="2648606" y="1008993"/>
                </a:lnTo>
                <a:cubicBezTo>
                  <a:pt x="2664372" y="1014248"/>
                  <a:pt x="2682076" y="1015541"/>
                  <a:pt x="2695903" y="1024759"/>
                </a:cubicBezTo>
                <a:lnTo>
                  <a:pt x="2743200" y="1056290"/>
                </a:lnTo>
                <a:cubicBezTo>
                  <a:pt x="2793167" y="1131241"/>
                  <a:pt x="2768740" y="1085612"/>
                  <a:pt x="2806262" y="1198180"/>
                </a:cubicBezTo>
                <a:cubicBezTo>
                  <a:pt x="2811517" y="1213945"/>
                  <a:pt x="2812809" y="1231649"/>
                  <a:pt x="2822027" y="1245476"/>
                </a:cubicBezTo>
                <a:cubicBezTo>
                  <a:pt x="2832537" y="1261242"/>
                  <a:pt x="2845863" y="1275458"/>
                  <a:pt x="2853558" y="1292773"/>
                </a:cubicBezTo>
                <a:cubicBezTo>
                  <a:pt x="2867057" y="1323145"/>
                  <a:pt x="2874579" y="1355835"/>
                  <a:pt x="2885089" y="1387366"/>
                </a:cubicBezTo>
                <a:lnTo>
                  <a:pt x="2916620" y="1481959"/>
                </a:lnTo>
                <a:cubicBezTo>
                  <a:pt x="2916623" y="1481969"/>
                  <a:pt x="2948148" y="1576541"/>
                  <a:pt x="2948151" y="1576552"/>
                </a:cubicBezTo>
                <a:cubicBezTo>
                  <a:pt x="2965192" y="1644712"/>
                  <a:pt x="2963917" y="1617946"/>
                  <a:pt x="2963917" y="165538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олилиния 33"/>
          <p:cNvSpPr/>
          <p:nvPr/>
        </p:nvSpPr>
        <p:spPr>
          <a:xfrm>
            <a:off x="7610400" y="4619520"/>
            <a:ext cx="227160" cy="1717920"/>
          </a:xfrm>
          <a:custGeom>
            <a:avLst/>
            <a:gdLst/>
            <a:ahLst/>
            <a:rect l="l" t="t" r="r" b="b"/>
            <a:pathLst>
              <a:path w="226531" h="1718441">
                <a:moveTo>
                  <a:pt x="225089" y="1718441"/>
                </a:moveTo>
                <a:cubicBezTo>
                  <a:pt x="219834" y="1676400"/>
                  <a:pt x="226531" y="1631034"/>
                  <a:pt x="209324" y="1592317"/>
                </a:cubicBezTo>
                <a:cubicBezTo>
                  <a:pt x="202575" y="1577131"/>
                  <a:pt x="171686" y="1590074"/>
                  <a:pt x="162027" y="1576551"/>
                </a:cubicBezTo>
                <a:cubicBezTo>
                  <a:pt x="142709" y="1549505"/>
                  <a:pt x="141006" y="1513489"/>
                  <a:pt x="130496" y="1481958"/>
                </a:cubicBezTo>
                <a:lnTo>
                  <a:pt x="98965" y="1387365"/>
                </a:lnTo>
                <a:lnTo>
                  <a:pt x="83199" y="1324303"/>
                </a:lnTo>
                <a:cubicBezTo>
                  <a:pt x="77944" y="1051034"/>
                  <a:pt x="77366" y="777635"/>
                  <a:pt x="67434" y="504496"/>
                </a:cubicBezTo>
                <a:cubicBezTo>
                  <a:pt x="66830" y="487889"/>
                  <a:pt x="56233" y="473179"/>
                  <a:pt x="51668" y="457200"/>
                </a:cubicBezTo>
                <a:cubicBezTo>
                  <a:pt x="20514" y="348162"/>
                  <a:pt x="49903" y="432608"/>
                  <a:pt x="20137" y="283779"/>
                </a:cubicBezTo>
                <a:cubicBezTo>
                  <a:pt x="16878" y="267483"/>
                  <a:pt x="5294" y="253075"/>
                  <a:pt x="4372" y="236482"/>
                </a:cubicBezTo>
                <a:cubicBezTo>
                  <a:pt x="0" y="157776"/>
                  <a:pt x="4372" y="78827"/>
                  <a:pt x="4372" y="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олилиния 34"/>
          <p:cNvSpPr/>
          <p:nvPr/>
        </p:nvSpPr>
        <p:spPr>
          <a:xfrm>
            <a:off x="4043520" y="2989440"/>
            <a:ext cx="4916160" cy="1536480"/>
          </a:xfrm>
          <a:custGeom>
            <a:avLst/>
            <a:gdLst/>
            <a:ahLst/>
            <a:rect l="l" t="t" r="r" b="b"/>
            <a:pathLst>
              <a:path w="4916193" h="1537302">
                <a:moveTo>
                  <a:pt x="4910938" y="6184"/>
                </a:moveTo>
                <a:cubicBezTo>
                  <a:pt x="4916193" y="6184"/>
                  <a:pt x="4836787" y="13594"/>
                  <a:pt x="4800579" y="21950"/>
                </a:cubicBezTo>
                <a:cubicBezTo>
                  <a:pt x="4768194" y="29424"/>
                  <a:pt x="4737517" y="42971"/>
                  <a:pt x="4705986" y="53481"/>
                </a:cubicBezTo>
                <a:lnTo>
                  <a:pt x="4658690" y="69246"/>
                </a:lnTo>
                <a:cubicBezTo>
                  <a:pt x="4642924" y="74501"/>
                  <a:pt x="4627785" y="82280"/>
                  <a:pt x="4611393" y="85012"/>
                </a:cubicBezTo>
                <a:cubicBezTo>
                  <a:pt x="4459544" y="110319"/>
                  <a:pt x="4548635" y="97883"/>
                  <a:pt x="4343379" y="116543"/>
                </a:cubicBezTo>
                <a:cubicBezTo>
                  <a:pt x="4236910" y="152032"/>
                  <a:pt x="4367965" y="111080"/>
                  <a:pt x="4201490" y="148074"/>
                </a:cubicBezTo>
                <a:cubicBezTo>
                  <a:pt x="4185267" y="151679"/>
                  <a:pt x="4169959" y="158584"/>
                  <a:pt x="4154193" y="163839"/>
                </a:cubicBezTo>
                <a:cubicBezTo>
                  <a:pt x="4138427" y="174349"/>
                  <a:pt x="4121692" y="183533"/>
                  <a:pt x="4106896" y="195370"/>
                </a:cubicBezTo>
                <a:cubicBezTo>
                  <a:pt x="4095289" y="204656"/>
                  <a:pt x="4088111" y="219254"/>
                  <a:pt x="4075365" y="226902"/>
                </a:cubicBezTo>
                <a:cubicBezTo>
                  <a:pt x="4061115" y="235452"/>
                  <a:pt x="4044364" y="239408"/>
                  <a:pt x="4028069" y="242667"/>
                </a:cubicBezTo>
                <a:cubicBezTo>
                  <a:pt x="3948146" y="258652"/>
                  <a:pt x="3817417" y="267550"/>
                  <a:pt x="3744290" y="274198"/>
                </a:cubicBezTo>
                <a:lnTo>
                  <a:pt x="3649696" y="305729"/>
                </a:lnTo>
                <a:cubicBezTo>
                  <a:pt x="3452745" y="371380"/>
                  <a:pt x="3619082" y="320939"/>
                  <a:pt x="3129434" y="337260"/>
                </a:cubicBezTo>
                <a:cubicBezTo>
                  <a:pt x="3054877" y="342231"/>
                  <a:pt x="2892455" y="345267"/>
                  <a:pt x="2798358" y="368791"/>
                </a:cubicBezTo>
                <a:cubicBezTo>
                  <a:pt x="2687415" y="396526"/>
                  <a:pt x="2723108" y="408230"/>
                  <a:pt x="2609172" y="416088"/>
                </a:cubicBezTo>
                <a:cubicBezTo>
                  <a:pt x="2488476" y="424412"/>
                  <a:pt x="2367434" y="426598"/>
                  <a:pt x="2246565" y="431853"/>
                </a:cubicBezTo>
                <a:cubicBezTo>
                  <a:pt x="2225544" y="437108"/>
                  <a:pt x="2204257" y="441393"/>
                  <a:pt x="2183503" y="447619"/>
                </a:cubicBezTo>
                <a:cubicBezTo>
                  <a:pt x="2151668" y="457170"/>
                  <a:pt x="2088910" y="479150"/>
                  <a:pt x="2088910" y="479150"/>
                </a:cubicBezTo>
                <a:lnTo>
                  <a:pt x="1931255" y="715633"/>
                </a:lnTo>
                <a:cubicBezTo>
                  <a:pt x="1920745" y="731398"/>
                  <a:pt x="1917699" y="756937"/>
                  <a:pt x="1899724" y="762929"/>
                </a:cubicBezTo>
                <a:cubicBezTo>
                  <a:pt x="1756221" y="810764"/>
                  <a:pt x="1982858" y="737390"/>
                  <a:pt x="1773600" y="794460"/>
                </a:cubicBezTo>
                <a:cubicBezTo>
                  <a:pt x="1741535" y="803205"/>
                  <a:pt x="1710538" y="815481"/>
                  <a:pt x="1679007" y="825991"/>
                </a:cubicBezTo>
                <a:lnTo>
                  <a:pt x="1584414" y="857522"/>
                </a:lnTo>
                <a:cubicBezTo>
                  <a:pt x="1568648" y="862777"/>
                  <a:pt x="1550944" y="864070"/>
                  <a:pt x="1537117" y="873288"/>
                </a:cubicBezTo>
                <a:cubicBezTo>
                  <a:pt x="1521352" y="883798"/>
                  <a:pt x="1508101" y="899834"/>
                  <a:pt x="1489821" y="904819"/>
                </a:cubicBezTo>
                <a:cubicBezTo>
                  <a:pt x="1448945" y="915967"/>
                  <a:pt x="1405738" y="915329"/>
                  <a:pt x="1363696" y="920584"/>
                </a:cubicBezTo>
                <a:cubicBezTo>
                  <a:pt x="1186335" y="964924"/>
                  <a:pt x="1280692" y="947803"/>
                  <a:pt x="1079917" y="967881"/>
                </a:cubicBezTo>
                <a:cubicBezTo>
                  <a:pt x="961042" y="1007505"/>
                  <a:pt x="1107567" y="954055"/>
                  <a:pt x="985324" y="1015177"/>
                </a:cubicBezTo>
                <a:cubicBezTo>
                  <a:pt x="854785" y="1080447"/>
                  <a:pt x="1026268" y="972115"/>
                  <a:pt x="890731" y="1062474"/>
                </a:cubicBezTo>
                <a:cubicBezTo>
                  <a:pt x="848688" y="1188599"/>
                  <a:pt x="911752" y="1041451"/>
                  <a:pt x="827669" y="1125536"/>
                </a:cubicBezTo>
                <a:cubicBezTo>
                  <a:pt x="815918" y="1137287"/>
                  <a:pt x="822284" y="1159856"/>
                  <a:pt x="811903" y="1172833"/>
                </a:cubicBezTo>
                <a:cubicBezTo>
                  <a:pt x="800067" y="1187629"/>
                  <a:pt x="780372" y="1193854"/>
                  <a:pt x="764607" y="1204364"/>
                </a:cubicBezTo>
                <a:cubicBezTo>
                  <a:pt x="754097" y="1220129"/>
                  <a:pt x="748841" y="1241150"/>
                  <a:pt x="733076" y="1251660"/>
                </a:cubicBezTo>
                <a:cubicBezTo>
                  <a:pt x="717395" y="1262114"/>
                  <a:pt x="575736" y="1283138"/>
                  <a:pt x="575421" y="1283191"/>
                </a:cubicBezTo>
                <a:cubicBezTo>
                  <a:pt x="559655" y="1288446"/>
                  <a:pt x="544157" y="1294584"/>
                  <a:pt x="528124" y="1298957"/>
                </a:cubicBezTo>
                <a:cubicBezTo>
                  <a:pt x="332516" y="1352305"/>
                  <a:pt x="463575" y="1309964"/>
                  <a:pt x="354703" y="1346253"/>
                </a:cubicBezTo>
                <a:cubicBezTo>
                  <a:pt x="338938" y="1356763"/>
                  <a:pt x="319243" y="1362988"/>
                  <a:pt x="307407" y="1377784"/>
                </a:cubicBezTo>
                <a:cubicBezTo>
                  <a:pt x="246257" y="1454222"/>
                  <a:pt x="347535" y="1406450"/>
                  <a:pt x="244345" y="1440846"/>
                </a:cubicBezTo>
                <a:cubicBezTo>
                  <a:pt x="239090" y="1456612"/>
                  <a:pt x="242102" y="1478484"/>
                  <a:pt x="228579" y="1488143"/>
                </a:cubicBezTo>
                <a:cubicBezTo>
                  <a:pt x="201533" y="1507461"/>
                  <a:pt x="133986" y="1519674"/>
                  <a:pt x="133986" y="1519674"/>
                </a:cubicBezTo>
                <a:cubicBezTo>
                  <a:pt x="0" y="1475010"/>
                  <a:pt x="163368" y="1537302"/>
                  <a:pt x="55158" y="1472377"/>
                </a:cubicBezTo>
                <a:cubicBezTo>
                  <a:pt x="40908" y="1463827"/>
                  <a:pt x="23627" y="1461867"/>
                  <a:pt x="7862" y="1456612"/>
                </a:cubicBezTo>
                <a:cubicBezTo>
                  <a:pt x="23627" y="1446102"/>
                  <a:pt x="37009" y="1430526"/>
                  <a:pt x="55158" y="1425081"/>
                </a:cubicBezTo>
                <a:cubicBezTo>
                  <a:pt x="90751" y="1414403"/>
                  <a:pt x="129079" y="1416603"/>
                  <a:pt x="165517" y="1409315"/>
                </a:cubicBezTo>
                <a:cubicBezTo>
                  <a:pt x="181813" y="1406056"/>
                  <a:pt x="197048" y="1398805"/>
                  <a:pt x="212814" y="1393550"/>
                </a:cubicBezTo>
                <a:cubicBezTo>
                  <a:pt x="228579" y="1383040"/>
                  <a:pt x="243163" y="1370493"/>
                  <a:pt x="260110" y="1362019"/>
                </a:cubicBezTo>
                <a:cubicBezTo>
                  <a:pt x="390653" y="1296747"/>
                  <a:pt x="219161" y="1405084"/>
                  <a:pt x="354703" y="1314722"/>
                </a:cubicBezTo>
                <a:cubicBezTo>
                  <a:pt x="365213" y="1298957"/>
                  <a:pt x="371438" y="1279262"/>
                  <a:pt x="386234" y="1267426"/>
                </a:cubicBezTo>
                <a:cubicBezTo>
                  <a:pt x="399211" y="1257045"/>
                  <a:pt x="418667" y="1259092"/>
                  <a:pt x="433531" y="1251660"/>
                </a:cubicBezTo>
                <a:cubicBezTo>
                  <a:pt x="450478" y="1243186"/>
                  <a:pt x="465062" y="1230639"/>
                  <a:pt x="480827" y="1220129"/>
                </a:cubicBezTo>
                <a:cubicBezTo>
                  <a:pt x="501000" y="1189870"/>
                  <a:pt x="542653" y="1120693"/>
                  <a:pt x="575421" y="1109770"/>
                </a:cubicBezTo>
                <a:lnTo>
                  <a:pt x="622717" y="1094005"/>
                </a:lnTo>
                <a:cubicBezTo>
                  <a:pt x="697670" y="1044037"/>
                  <a:pt x="652037" y="1068467"/>
                  <a:pt x="764607" y="1030943"/>
                </a:cubicBezTo>
                <a:lnTo>
                  <a:pt x="811903" y="1015177"/>
                </a:lnTo>
                <a:lnTo>
                  <a:pt x="859200" y="999412"/>
                </a:lnTo>
                <a:cubicBezTo>
                  <a:pt x="967620" y="927132"/>
                  <a:pt x="917842" y="948334"/>
                  <a:pt x="1001090" y="920584"/>
                </a:cubicBezTo>
                <a:cubicBezTo>
                  <a:pt x="1011600" y="904819"/>
                  <a:pt x="1016553" y="883330"/>
                  <a:pt x="1032621" y="873288"/>
                </a:cubicBezTo>
                <a:cubicBezTo>
                  <a:pt x="1125531" y="815220"/>
                  <a:pt x="1384442" y="828218"/>
                  <a:pt x="1426758" y="825991"/>
                </a:cubicBezTo>
                <a:cubicBezTo>
                  <a:pt x="1534875" y="789954"/>
                  <a:pt x="1400681" y="832510"/>
                  <a:pt x="1552883" y="794460"/>
                </a:cubicBezTo>
                <a:cubicBezTo>
                  <a:pt x="1569005" y="790430"/>
                  <a:pt x="1584200" y="783260"/>
                  <a:pt x="1600179" y="778695"/>
                </a:cubicBezTo>
                <a:cubicBezTo>
                  <a:pt x="1621013" y="772742"/>
                  <a:pt x="1642487" y="769155"/>
                  <a:pt x="1663241" y="762929"/>
                </a:cubicBezTo>
                <a:cubicBezTo>
                  <a:pt x="1695076" y="753378"/>
                  <a:pt x="1730179" y="749834"/>
                  <a:pt x="1757834" y="731398"/>
                </a:cubicBezTo>
                <a:lnTo>
                  <a:pt x="1852427" y="668336"/>
                </a:lnTo>
                <a:lnTo>
                  <a:pt x="1899724" y="636805"/>
                </a:lnTo>
                <a:cubicBezTo>
                  <a:pt x="1927474" y="553557"/>
                  <a:pt x="1901662" y="598727"/>
                  <a:pt x="2010083" y="526446"/>
                </a:cubicBezTo>
                <a:lnTo>
                  <a:pt x="2199269" y="400322"/>
                </a:lnTo>
                <a:cubicBezTo>
                  <a:pt x="2215034" y="389812"/>
                  <a:pt x="2228590" y="374783"/>
                  <a:pt x="2246565" y="368791"/>
                </a:cubicBezTo>
                <a:lnTo>
                  <a:pt x="2341158" y="337260"/>
                </a:lnTo>
                <a:cubicBezTo>
                  <a:pt x="2351669" y="326750"/>
                  <a:pt x="2359395" y="312376"/>
                  <a:pt x="2372690" y="305729"/>
                </a:cubicBezTo>
                <a:cubicBezTo>
                  <a:pt x="2392070" y="296039"/>
                  <a:pt x="2414918" y="295917"/>
                  <a:pt x="2435752" y="289964"/>
                </a:cubicBezTo>
                <a:cubicBezTo>
                  <a:pt x="2535803" y="261378"/>
                  <a:pt x="2423511" y="282145"/>
                  <a:pt x="2577641" y="258433"/>
                </a:cubicBezTo>
                <a:cubicBezTo>
                  <a:pt x="2614369" y="252783"/>
                  <a:pt x="2650860" y="243885"/>
                  <a:pt x="2688000" y="242667"/>
                </a:cubicBezTo>
                <a:cubicBezTo>
                  <a:pt x="2971676" y="233366"/>
                  <a:pt x="3255559" y="232157"/>
                  <a:pt x="3539338" y="226902"/>
                </a:cubicBezTo>
                <a:lnTo>
                  <a:pt x="3696993" y="195370"/>
                </a:lnTo>
                <a:cubicBezTo>
                  <a:pt x="3723269" y="190115"/>
                  <a:pt x="3749077" y="181277"/>
                  <a:pt x="3775821" y="179605"/>
                </a:cubicBezTo>
                <a:lnTo>
                  <a:pt x="4028069" y="163839"/>
                </a:lnTo>
                <a:lnTo>
                  <a:pt x="4217255" y="100777"/>
                </a:lnTo>
                <a:lnTo>
                  <a:pt x="4264552" y="85012"/>
                </a:lnTo>
                <a:cubicBezTo>
                  <a:pt x="4280317" y="79757"/>
                  <a:pt x="4295552" y="72505"/>
                  <a:pt x="4311848" y="69246"/>
                </a:cubicBezTo>
                <a:lnTo>
                  <a:pt x="4390676" y="53481"/>
                </a:lnTo>
                <a:cubicBezTo>
                  <a:pt x="4422126" y="47763"/>
                  <a:pt x="4453413" y="40370"/>
                  <a:pt x="4485269" y="37715"/>
                </a:cubicBezTo>
                <a:cubicBezTo>
                  <a:pt x="4579681" y="29847"/>
                  <a:pt x="4674455" y="27205"/>
                  <a:pt x="4769048" y="21950"/>
                </a:cubicBezTo>
                <a:cubicBezTo>
                  <a:pt x="4878795" y="0"/>
                  <a:pt x="4905683" y="6184"/>
                  <a:pt x="4910938" y="618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трелка вверх 31"/>
          <p:cNvSpPr/>
          <p:nvPr/>
        </p:nvSpPr>
        <p:spPr>
          <a:xfrm>
            <a:off x="4786200" y="4643280"/>
            <a:ext cx="214560" cy="785880"/>
          </a:xfrm>
          <a:prstGeom prst="upArrow">
            <a:avLst>
              <a:gd name="adj1" fmla="val 50000"/>
              <a:gd name="adj2" fmla="val 49939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трелка вверх 36"/>
          <p:cNvSpPr/>
          <p:nvPr/>
        </p:nvSpPr>
        <p:spPr>
          <a:xfrm>
            <a:off x="5857920" y="4143240"/>
            <a:ext cx="214200" cy="785880"/>
          </a:xfrm>
          <a:prstGeom prst="up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трелка вверх 37"/>
          <p:cNvSpPr/>
          <p:nvPr/>
        </p:nvSpPr>
        <p:spPr>
          <a:xfrm>
            <a:off x="6643800" y="3357720"/>
            <a:ext cx="214200" cy="7855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Скругленная соединительная линия 40"/>
          <p:cNvCxnSpPr/>
          <p:nvPr/>
        </p:nvCxnSpPr>
        <p:spPr>
          <a:xfrm flipH="1" rot="16200000">
            <a:off x="6643800" y="4143240"/>
            <a:ext cx="1643760" cy="1357920"/>
          </a:xfrm>
          <a:prstGeom prst="curvedConnector5">
            <a:avLst>
              <a:gd name="adj1" fmla="val 49989"/>
              <a:gd name="adj2" fmla="val 49986"/>
              <a:gd name="adj3" fmla="val 49989"/>
            </a:avLst>
          </a:prstGeom>
          <a:ln w="76320">
            <a:solidFill>
              <a:srgbClr val="002060"/>
            </a:solidFill>
            <a:prstDash val="lgDash"/>
            <a:miter/>
          </a:ln>
        </p:spPr>
      </p:cxnSp>
      <p:cxnSp>
        <p:nvCxnSpPr>
          <p:cNvPr id="203" name="Скругленная соединительная линия 41"/>
          <p:cNvCxnSpPr/>
          <p:nvPr/>
        </p:nvCxnSpPr>
        <p:spPr>
          <a:xfrm flipH="1" rot="16200000">
            <a:off x="5785560" y="4928760"/>
            <a:ext cx="1643760" cy="135828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2060"/>
            </a:solidFill>
            <a:prstDash val="lgDash"/>
            <a:miter/>
          </a:ln>
        </p:spPr>
      </p:cxnSp>
      <p:cxnSp>
        <p:nvCxnSpPr>
          <p:cNvPr id="204" name="Скругленная соединительная линия 42"/>
          <p:cNvCxnSpPr/>
          <p:nvPr/>
        </p:nvCxnSpPr>
        <p:spPr>
          <a:xfrm flipH="1" rot="16200000">
            <a:off x="4785480" y="5357520"/>
            <a:ext cx="1643760" cy="135828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2060"/>
            </a:solidFill>
            <a:prstDash val="lgDash"/>
            <a:miter/>
          </a:ln>
        </p:spPr>
      </p:cxnSp>
      <p:sp>
        <p:nvSpPr>
          <p:cNvPr id="205" name="TextBox 43"/>
          <p:cNvSpPr/>
          <p:nvPr/>
        </p:nvSpPr>
        <p:spPr>
          <a:xfrm>
            <a:off x="5429160" y="578628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унтовые вод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5"/>
          <p:cNvSpPr/>
          <p:nvPr/>
        </p:nvSpPr>
        <p:spPr>
          <a:xfrm>
            <a:off x="5572080" y="639612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унтовое пит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78 -0.01458 0.00798 -0.02893 0.01024 -0.04351 C 0.01146 -0.05185 0.01163 -0.06064 0.01371 -0.06875 C 0.0158 -0.07731 0.02187 -0.08009 0.0276 -0.08264 C 0.03524 -0.09884 0.05434 -0.09606 0.06719 -0.09884 C 0.07101 -0.09861 0.11215 -0.1 0.12917 -0.09421 C 0.1408 -0.09027 0.15503 -0.07801 0.16719 -0.07801 E">
                                      <p:cBhvr>
                                        <p:cTn id="707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78 -0.01458 0.00798 -0.02893 0.01024 -0.04351 C 0.01146 -0.05185 0.01163 -0.06064 0.01371 -0.06875 C 0.0158 -0.07731 0.02187 -0.08009 0.0276 -0.08264 C 0.03524 -0.09884 0.05434 -0.09606 0.06719 -0.09884 C 0.07101 -0.09861 0.11215 -0.1 0.12917 -0.09421 C 0.1408 -0.09027 0.15503 -0.07801 0.16719 -0.07801 E">
                                      <p:cBhvr>
                                        <p:cTn id="709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78 -0.01458 0.00798 -0.02893 0.01024 -0.04351 C 0.01146 -0.05185 0.01163 -0.06064 0.01371 -0.06875 C 0.0158 -0.07731 0.02187 -0.08009 0.0276 -0.08264 C 0.03524 -0.09884 0.05434 -0.09606 0.06719 -0.09884 C 0.07101 -0.09861 0.11215 -0.1 0.12917 -0.09421 C 0.1408 -0.09027 0.15503 -0.07801 0.16719 -0.07801 E">
                                      <p:cBhvr>
                                        <p:cTn id="711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5 0.00521 -0.02431 0.00677 -0.03681 C 0.00903 -0.05486 0.00938 -0.07222 0.01372 -0.08958 C 0.0158 -0.09792 0.02275 -0.10139 0.02761 -0.10579 C 0.02934 -0.10741 0.03264 -0.11042 0.03264 -0.11042 C 0.03386 -0.11505 0.03403 -0.12014 0.03611 -0.12407 C 0.03733 -0.12639 0.03872 -0.12847 0.03959 -0.13102 C 0.04115 -0.13542 0.04097 -0.14074 0.04306 -0.14468 C 0.04427 -0.14699 0.04566 -0.14907 0.04653 -0.15162 C 0.0474 -0.1537 0.04705 -0.15694 0.04827 -0.15857 C 0.04948 -0.16019 0.05174 -0.16019 0.05347 -0.16088 C 0.06667 -0.17292 0.07882 -0.18079 0.09479 -0.1838 C 0.09653 -0.18449 0.09879 -0.18426 0.1 -0.18611 C 0.10521 -0.19444 0.10556 -0.20903 0.11025 -0.21829 C 0.11615 -0.24954 0.10903 -0.23634 0.14306 -0.23912 C 0.15382 -0.24398 0.15868 -0.25 0.16545 -0.26204 C 0.16841 -0.27361 0.17118 -0.28495 0.17413 -0.29653 C 0.175 -0.30023 0.17431 -0.30486 0.17587 -0.3081 C 0.17691 -0.31019 0.17934 -0.30926 0.18091 -0.31042 C 0.18681 -0.31435 0.19271 -0.31921 0.19827 -0.32407 C 0.20052 -0.3287 0.20104 -0.33611 0.20504 -0.33796 C 0.20677 -0.33866 0.21025 -0.34028 0.21025 -0.34028 E">
                                      <p:cBhvr>
                                        <p:cTn id="713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5 0.00521 -0.02431 0.00677 -0.03681 C 0.00903 -0.05486 0.00938 -0.07222 0.01372 -0.08958 C 0.0158 -0.09792 0.02275 -0.10139 0.02761 -0.10579 C 0.02934 -0.10741 0.03264 -0.11042 0.03264 -0.11042 C 0.03386 -0.11505 0.03403 -0.12014 0.03611 -0.12407 C 0.03733 -0.12639 0.03872 -0.12847 0.03959 -0.13102 C 0.04115 -0.13542 0.04097 -0.14074 0.04306 -0.14468 C 0.04427 -0.14699 0.04566 -0.14907 0.04653 -0.15162 C 0.0474 -0.1537 0.04705 -0.15694 0.04827 -0.15857 C 0.04948 -0.16019 0.05174 -0.16019 0.05347 -0.16088 C 0.06667 -0.17292 0.07882 -0.18079 0.09479 -0.1838 C 0.09653 -0.18449 0.09879 -0.18426 0.1 -0.18611 C 0.10521 -0.19444 0.10556 -0.20903 0.11025 -0.21829 C 0.11615 -0.24954 0.10903 -0.23634 0.14306 -0.23912 C 0.15382 -0.24398 0.15868 -0.25 0.16545 -0.26204 C 0.16841 -0.27361 0.17118 -0.28495 0.17413 -0.29653 C 0.175 -0.30023 0.17431 -0.30486 0.17587 -0.3081 C 0.17691 -0.31019 0.17934 -0.30926 0.18091 -0.31042 C 0.18681 -0.31435 0.19271 -0.31921 0.19827 -0.32407 C 0.20052 -0.3287 0.20104 -0.33611 0.20504 -0.33796 C 0.20677 -0.33866 0.21025 -0.34028 0.21025 -0.34028 E">
                                      <p:cBhvr>
                                        <p:cTn id="715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5 0.00521 -0.02431 0.00677 -0.03681 C 0.00903 -0.05486 0.00938 -0.07222 0.01372 -0.08958 C 0.0158 -0.09792 0.02275 -0.10139 0.02761 -0.10579 C 0.02934 -0.10741 0.03264 -0.11042 0.03264 -0.11042 C 0.03386 -0.11505 0.03403 -0.12014 0.03611 -0.12407 C 0.03733 -0.12639 0.03872 -0.12847 0.03959 -0.13102 C 0.04115 -0.13542 0.04097 -0.14074 0.04306 -0.14468 C 0.04427 -0.14699 0.04566 -0.14907 0.04653 -0.15162 C 0.0474 -0.1537 0.04705 -0.15694 0.04827 -0.15857 C 0.04948 -0.16019 0.05174 -0.16019 0.05347 -0.16088 C 0.06667 -0.17292 0.07882 -0.18079 0.09479 -0.1838 C 0.09653 -0.18449 0.09879 -0.18426 0.1 -0.18611 C 0.10521 -0.19444 0.10556 -0.20903 0.11025 -0.21829 C 0.11615 -0.24954 0.10903 -0.23634 0.14306 -0.23912 C 0.15382 -0.24398 0.15868 -0.25 0.16545 -0.26204 C 0.16841 -0.27361 0.17118 -0.28495 0.17413 -0.29653 C 0.175 -0.30023 0.17431 -0.30486 0.17587 -0.3081 C 0.17691 -0.31019 0.17934 -0.30926 0.18091 -0.31042 C 0.18681 -0.31435 0.19271 -0.31921 0.19827 -0.32407 C 0.20052 -0.3287 0.20104 -0.33611 0.20504 -0.33796 C 0.20677 -0.33866 0.21025 -0.34028 0.21025 -0.34028 E">
                                      <p:cBhvr>
                                        <p:cTn id="717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Прямоугольник 7" descr=""/>
          <p:cNvPicPr/>
          <p:nvPr/>
        </p:nvPicPr>
        <p:blipFill>
          <a:blip r:embed="rId2"/>
          <a:stretch/>
        </p:blipFill>
        <p:spPr>
          <a:xfrm>
            <a:off x="390600" y="-195120"/>
            <a:ext cx="5516640" cy="1523880"/>
          </a:xfrm>
          <a:prstGeom prst="rect">
            <a:avLst/>
          </a:prstGeom>
          <a:ln w="0">
            <a:noFill/>
          </a:ln>
        </p:spPr>
      </p:pic>
      <p:sp>
        <p:nvSpPr>
          <p:cNvPr id="210" name="Полилиния 8"/>
          <p:cNvSpPr/>
          <p:nvPr/>
        </p:nvSpPr>
        <p:spPr>
          <a:xfrm>
            <a:off x="214200" y="1000080"/>
            <a:ext cx="2770200" cy="677880"/>
          </a:xfrm>
          <a:custGeom>
            <a:avLst/>
            <a:gdLst/>
            <a:ahLst/>
            <a:rect l="l" t="t" r="r" b="b"/>
            <a:pathLst>
              <a:path w="2770331" h="677917">
                <a:moveTo>
                  <a:pt x="176092" y="63062"/>
                </a:moveTo>
                <a:lnTo>
                  <a:pt x="317982" y="15766"/>
                </a:lnTo>
                <a:lnTo>
                  <a:pt x="365279" y="0"/>
                </a:lnTo>
                <a:cubicBezTo>
                  <a:pt x="438851" y="5255"/>
                  <a:pt x="513052" y="4824"/>
                  <a:pt x="585996" y="15766"/>
                </a:cubicBezTo>
                <a:cubicBezTo>
                  <a:pt x="625397" y="21676"/>
                  <a:pt x="684536" y="52225"/>
                  <a:pt x="727885" y="63062"/>
                </a:cubicBezTo>
                <a:cubicBezTo>
                  <a:pt x="748906" y="68317"/>
                  <a:pt x="770194" y="72602"/>
                  <a:pt x="790948" y="78828"/>
                </a:cubicBezTo>
                <a:cubicBezTo>
                  <a:pt x="822783" y="88379"/>
                  <a:pt x="885541" y="110359"/>
                  <a:pt x="885541" y="110359"/>
                </a:cubicBezTo>
                <a:cubicBezTo>
                  <a:pt x="911817" y="105104"/>
                  <a:pt x="938516" y="101644"/>
                  <a:pt x="964368" y="94593"/>
                </a:cubicBezTo>
                <a:cubicBezTo>
                  <a:pt x="996433" y="85848"/>
                  <a:pt x="1058961" y="63062"/>
                  <a:pt x="1058961" y="63062"/>
                </a:cubicBezTo>
                <a:cubicBezTo>
                  <a:pt x="1127278" y="68317"/>
                  <a:pt x="1195923" y="70329"/>
                  <a:pt x="1263913" y="78828"/>
                </a:cubicBezTo>
                <a:cubicBezTo>
                  <a:pt x="1280403" y="80889"/>
                  <a:pt x="1295231" y="90028"/>
                  <a:pt x="1311210" y="94593"/>
                </a:cubicBezTo>
                <a:cubicBezTo>
                  <a:pt x="1332044" y="100546"/>
                  <a:pt x="1353518" y="104133"/>
                  <a:pt x="1374272" y="110359"/>
                </a:cubicBezTo>
                <a:cubicBezTo>
                  <a:pt x="1406107" y="119910"/>
                  <a:pt x="1437334" y="131380"/>
                  <a:pt x="1468865" y="141890"/>
                </a:cubicBezTo>
                <a:lnTo>
                  <a:pt x="1516161" y="157655"/>
                </a:lnTo>
                <a:cubicBezTo>
                  <a:pt x="1531927" y="168165"/>
                  <a:pt x="1546143" y="181491"/>
                  <a:pt x="1563458" y="189186"/>
                </a:cubicBezTo>
                <a:cubicBezTo>
                  <a:pt x="1593830" y="202685"/>
                  <a:pt x="1658051" y="220717"/>
                  <a:pt x="1658051" y="220717"/>
                </a:cubicBezTo>
                <a:cubicBezTo>
                  <a:pt x="1784175" y="215462"/>
                  <a:pt x="1910962" y="218892"/>
                  <a:pt x="2036423" y="204952"/>
                </a:cubicBezTo>
                <a:cubicBezTo>
                  <a:pt x="2055255" y="202860"/>
                  <a:pt x="2066773" y="181895"/>
                  <a:pt x="2083720" y="173421"/>
                </a:cubicBezTo>
                <a:cubicBezTo>
                  <a:pt x="2106343" y="162109"/>
                  <a:pt x="2173867" y="146943"/>
                  <a:pt x="2194079" y="141890"/>
                </a:cubicBezTo>
                <a:cubicBezTo>
                  <a:pt x="2294673" y="148596"/>
                  <a:pt x="2408253" y="145838"/>
                  <a:pt x="2509389" y="173421"/>
                </a:cubicBezTo>
                <a:cubicBezTo>
                  <a:pt x="2541454" y="182166"/>
                  <a:pt x="2574254" y="190088"/>
                  <a:pt x="2603982" y="204952"/>
                </a:cubicBezTo>
                <a:cubicBezTo>
                  <a:pt x="2681908" y="243915"/>
                  <a:pt x="2644748" y="229051"/>
                  <a:pt x="2714341" y="252248"/>
                </a:cubicBezTo>
                <a:cubicBezTo>
                  <a:pt x="2736231" y="317918"/>
                  <a:pt x="2770331" y="371041"/>
                  <a:pt x="2730106" y="441435"/>
                </a:cubicBezTo>
                <a:cubicBezTo>
                  <a:pt x="2721861" y="455864"/>
                  <a:pt x="2698575" y="451945"/>
                  <a:pt x="2682810" y="457200"/>
                </a:cubicBezTo>
                <a:cubicBezTo>
                  <a:pt x="2672300" y="472966"/>
                  <a:pt x="2667347" y="494455"/>
                  <a:pt x="2651279" y="504497"/>
                </a:cubicBezTo>
                <a:cubicBezTo>
                  <a:pt x="2623094" y="522113"/>
                  <a:pt x="2556685" y="536028"/>
                  <a:pt x="2556685" y="536028"/>
                </a:cubicBezTo>
                <a:cubicBezTo>
                  <a:pt x="2546175" y="551793"/>
                  <a:pt x="2532849" y="566009"/>
                  <a:pt x="2525154" y="583324"/>
                </a:cubicBezTo>
                <a:cubicBezTo>
                  <a:pt x="2511655" y="613696"/>
                  <a:pt x="2493623" y="677917"/>
                  <a:pt x="2493623" y="677917"/>
                </a:cubicBezTo>
                <a:cubicBezTo>
                  <a:pt x="2425306" y="672662"/>
                  <a:pt x="2356662" y="670651"/>
                  <a:pt x="2288672" y="662152"/>
                </a:cubicBezTo>
                <a:cubicBezTo>
                  <a:pt x="2272182" y="660091"/>
                  <a:pt x="2257800" y="648913"/>
                  <a:pt x="2241375" y="646386"/>
                </a:cubicBezTo>
                <a:cubicBezTo>
                  <a:pt x="2189175" y="638355"/>
                  <a:pt x="2136272" y="635876"/>
                  <a:pt x="2083720" y="630621"/>
                </a:cubicBezTo>
                <a:lnTo>
                  <a:pt x="1941830" y="583324"/>
                </a:lnTo>
                <a:lnTo>
                  <a:pt x="1894534" y="567559"/>
                </a:lnTo>
                <a:cubicBezTo>
                  <a:pt x="1873513" y="572814"/>
                  <a:pt x="1849501" y="571305"/>
                  <a:pt x="1831472" y="583324"/>
                </a:cubicBezTo>
                <a:cubicBezTo>
                  <a:pt x="1815706" y="593834"/>
                  <a:pt x="1816009" y="620579"/>
                  <a:pt x="1799941" y="630621"/>
                </a:cubicBezTo>
                <a:cubicBezTo>
                  <a:pt x="1771756" y="648236"/>
                  <a:pt x="1736879" y="651642"/>
                  <a:pt x="1705348" y="662152"/>
                </a:cubicBezTo>
                <a:lnTo>
                  <a:pt x="1658051" y="677917"/>
                </a:lnTo>
                <a:cubicBezTo>
                  <a:pt x="1537182" y="672662"/>
                  <a:pt x="1415785" y="674601"/>
                  <a:pt x="1295444" y="662152"/>
                </a:cubicBezTo>
                <a:cubicBezTo>
                  <a:pt x="1295439" y="662152"/>
                  <a:pt x="1177204" y="622738"/>
                  <a:pt x="1153554" y="614855"/>
                </a:cubicBezTo>
                <a:lnTo>
                  <a:pt x="1106258" y="599090"/>
                </a:lnTo>
                <a:cubicBezTo>
                  <a:pt x="953858" y="604345"/>
                  <a:pt x="801269" y="605630"/>
                  <a:pt x="649058" y="614855"/>
                </a:cubicBezTo>
                <a:cubicBezTo>
                  <a:pt x="627430" y="616166"/>
                  <a:pt x="607314" y="626745"/>
                  <a:pt x="585996" y="630621"/>
                </a:cubicBezTo>
                <a:cubicBezTo>
                  <a:pt x="549436" y="637268"/>
                  <a:pt x="512423" y="641131"/>
                  <a:pt x="475637" y="646386"/>
                </a:cubicBezTo>
                <a:cubicBezTo>
                  <a:pt x="467339" y="644726"/>
                  <a:pt x="348595" y="622278"/>
                  <a:pt x="333748" y="614855"/>
                </a:cubicBezTo>
                <a:cubicBezTo>
                  <a:pt x="320453" y="608208"/>
                  <a:pt x="314962" y="590971"/>
                  <a:pt x="302216" y="583324"/>
                </a:cubicBezTo>
                <a:cubicBezTo>
                  <a:pt x="287966" y="574774"/>
                  <a:pt x="270685" y="572814"/>
                  <a:pt x="254920" y="567559"/>
                </a:cubicBezTo>
                <a:cubicBezTo>
                  <a:pt x="239154" y="557049"/>
                  <a:pt x="220100" y="550288"/>
                  <a:pt x="207623" y="536028"/>
                </a:cubicBezTo>
                <a:cubicBezTo>
                  <a:pt x="78869" y="388882"/>
                  <a:pt x="203682" y="480850"/>
                  <a:pt x="97265" y="409904"/>
                </a:cubicBezTo>
                <a:cubicBezTo>
                  <a:pt x="92010" y="394138"/>
                  <a:pt x="91880" y="375584"/>
                  <a:pt x="81499" y="362607"/>
                </a:cubicBezTo>
                <a:cubicBezTo>
                  <a:pt x="0" y="260733"/>
                  <a:pt x="58066" y="402662"/>
                  <a:pt x="18437" y="283779"/>
                </a:cubicBezTo>
                <a:cubicBezTo>
                  <a:pt x="23692" y="231227"/>
                  <a:pt x="7592" y="171743"/>
                  <a:pt x="34203" y="126124"/>
                </a:cubicBezTo>
                <a:cubicBezTo>
                  <a:pt x="34204" y="126123"/>
                  <a:pt x="152443" y="86711"/>
                  <a:pt x="176092" y="78828"/>
                </a:cubicBezTo>
                <a:cubicBezTo>
                  <a:pt x="228374" y="61401"/>
                  <a:pt x="223389" y="79680"/>
                  <a:pt x="176092" y="63062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Овал 9"/>
          <p:cNvSpPr/>
          <p:nvPr/>
        </p:nvSpPr>
        <p:spPr>
          <a:xfrm>
            <a:off x="3643200" y="178596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Овал 10"/>
          <p:cNvSpPr/>
          <p:nvPr/>
        </p:nvSpPr>
        <p:spPr>
          <a:xfrm>
            <a:off x="4214880" y="17859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4714920" y="17859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13"/>
          <p:cNvSpPr/>
          <p:nvPr/>
        </p:nvSpPr>
        <p:spPr>
          <a:xfrm>
            <a:off x="3795840" y="19382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Овал 14"/>
          <p:cNvSpPr/>
          <p:nvPr/>
        </p:nvSpPr>
        <p:spPr>
          <a:xfrm>
            <a:off x="4367160" y="19382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Овал 15"/>
          <p:cNvSpPr/>
          <p:nvPr/>
        </p:nvSpPr>
        <p:spPr>
          <a:xfrm>
            <a:off x="4867200" y="193824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Овал 16"/>
          <p:cNvSpPr/>
          <p:nvPr/>
        </p:nvSpPr>
        <p:spPr>
          <a:xfrm>
            <a:off x="3948120" y="20908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Овал 17"/>
          <p:cNvSpPr/>
          <p:nvPr/>
        </p:nvSpPr>
        <p:spPr>
          <a:xfrm>
            <a:off x="4519440" y="2090880"/>
            <a:ext cx="21456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Овал 18"/>
          <p:cNvSpPr/>
          <p:nvPr/>
        </p:nvSpPr>
        <p:spPr>
          <a:xfrm>
            <a:off x="5019840" y="20908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Овал 19"/>
          <p:cNvSpPr/>
          <p:nvPr/>
        </p:nvSpPr>
        <p:spPr>
          <a:xfrm>
            <a:off x="4100400" y="224316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Овал 20"/>
          <p:cNvSpPr/>
          <p:nvPr/>
        </p:nvSpPr>
        <p:spPr>
          <a:xfrm>
            <a:off x="4672080" y="22431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Овал 21"/>
          <p:cNvSpPr/>
          <p:nvPr/>
        </p:nvSpPr>
        <p:spPr>
          <a:xfrm>
            <a:off x="5172120" y="224316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Овал 22"/>
          <p:cNvSpPr/>
          <p:nvPr/>
        </p:nvSpPr>
        <p:spPr>
          <a:xfrm>
            <a:off x="4253040" y="23954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Овал 23"/>
          <p:cNvSpPr/>
          <p:nvPr/>
        </p:nvSpPr>
        <p:spPr>
          <a:xfrm>
            <a:off x="4824360" y="2395440"/>
            <a:ext cx="21420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24"/>
          <p:cNvSpPr/>
          <p:nvPr/>
        </p:nvSpPr>
        <p:spPr>
          <a:xfrm>
            <a:off x="5324400" y="2395440"/>
            <a:ext cx="214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Овал 25"/>
          <p:cNvSpPr/>
          <p:nvPr/>
        </p:nvSpPr>
        <p:spPr>
          <a:xfrm>
            <a:off x="4405320" y="25480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26"/>
          <p:cNvSpPr/>
          <p:nvPr/>
        </p:nvSpPr>
        <p:spPr>
          <a:xfrm>
            <a:off x="4976640" y="2548080"/>
            <a:ext cx="21456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Овал 27"/>
          <p:cNvSpPr/>
          <p:nvPr/>
        </p:nvSpPr>
        <p:spPr>
          <a:xfrm>
            <a:off x="5477040" y="2548080"/>
            <a:ext cx="21420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Умножение 36"/>
          <p:cNvSpPr/>
          <p:nvPr/>
        </p:nvSpPr>
        <p:spPr>
          <a:xfrm>
            <a:off x="4254480" y="1571760"/>
            <a:ext cx="428760" cy="42840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Умножение 37"/>
          <p:cNvSpPr/>
          <p:nvPr/>
        </p:nvSpPr>
        <p:spPr>
          <a:xfrm>
            <a:off x="4968720" y="1571760"/>
            <a:ext cx="428760" cy="42840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Умножение 38"/>
          <p:cNvSpPr/>
          <p:nvPr/>
        </p:nvSpPr>
        <p:spPr>
          <a:xfrm>
            <a:off x="5897520" y="228600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Умножение 39"/>
          <p:cNvSpPr/>
          <p:nvPr/>
        </p:nvSpPr>
        <p:spPr>
          <a:xfrm>
            <a:off x="4468680" y="228600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Умножение 40"/>
          <p:cNvSpPr/>
          <p:nvPr/>
        </p:nvSpPr>
        <p:spPr>
          <a:xfrm>
            <a:off x="5183280" y="228600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Умножение 41"/>
          <p:cNvSpPr/>
          <p:nvPr/>
        </p:nvSpPr>
        <p:spPr>
          <a:xfrm>
            <a:off x="6183360" y="292896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Умножение 42"/>
          <p:cNvSpPr/>
          <p:nvPr/>
        </p:nvSpPr>
        <p:spPr>
          <a:xfrm>
            <a:off x="4754520" y="292896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Умножение 43"/>
          <p:cNvSpPr/>
          <p:nvPr/>
        </p:nvSpPr>
        <p:spPr>
          <a:xfrm>
            <a:off x="5468760" y="2928960"/>
            <a:ext cx="42876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олилиния 44"/>
          <p:cNvSpPr/>
          <p:nvPr/>
        </p:nvSpPr>
        <p:spPr>
          <a:xfrm>
            <a:off x="1643040" y="1285920"/>
            <a:ext cx="5594400" cy="3043080"/>
          </a:xfrm>
          <a:custGeom>
            <a:avLst/>
            <a:gdLst/>
            <a:ahLst/>
            <a:rect l="l" t="t" r="r" b="b"/>
            <a:pathLst>
              <a:path w="5593677" h="3042745">
                <a:moveTo>
                  <a:pt x="64777" y="2538248"/>
                </a:moveTo>
                <a:cubicBezTo>
                  <a:pt x="70032" y="2535621"/>
                  <a:pt x="87834" y="2507899"/>
                  <a:pt x="96308" y="2490952"/>
                </a:cubicBezTo>
                <a:cubicBezTo>
                  <a:pt x="115444" y="2452680"/>
                  <a:pt x="117044" y="2404409"/>
                  <a:pt x="127839" y="2364828"/>
                </a:cubicBezTo>
                <a:cubicBezTo>
                  <a:pt x="136584" y="2332763"/>
                  <a:pt x="135868" y="2293737"/>
                  <a:pt x="159370" y="2270235"/>
                </a:cubicBezTo>
                <a:lnTo>
                  <a:pt x="206667" y="2222938"/>
                </a:lnTo>
                <a:cubicBezTo>
                  <a:pt x="211922" y="2207172"/>
                  <a:pt x="212051" y="2188618"/>
                  <a:pt x="222432" y="2175641"/>
                </a:cubicBezTo>
                <a:cubicBezTo>
                  <a:pt x="244659" y="2147858"/>
                  <a:pt x="285868" y="2138730"/>
                  <a:pt x="317025" y="2128345"/>
                </a:cubicBezTo>
                <a:cubicBezTo>
                  <a:pt x="332791" y="2117835"/>
                  <a:pt x="347007" y="2104509"/>
                  <a:pt x="364322" y="2096814"/>
                </a:cubicBezTo>
                <a:cubicBezTo>
                  <a:pt x="459889" y="2054340"/>
                  <a:pt x="454361" y="2071550"/>
                  <a:pt x="553508" y="2049517"/>
                </a:cubicBezTo>
                <a:cubicBezTo>
                  <a:pt x="569731" y="2045912"/>
                  <a:pt x="584269" y="2035406"/>
                  <a:pt x="600805" y="2033752"/>
                </a:cubicBezTo>
                <a:cubicBezTo>
                  <a:pt x="689853" y="2024847"/>
                  <a:pt x="779500" y="2023568"/>
                  <a:pt x="868818" y="2017986"/>
                </a:cubicBezTo>
                <a:lnTo>
                  <a:pt x="1105301" y="2002221"/>
                </a:lnTo>
                <a:cubicBezTo>
                  <a:pt x="1136832" y="1991711"/>
                  <a:pt x="1172239" y="1989126"/>
                  <a:pt x="1199894" y="1970690"/>
                </a:cubicBezTo>
                <a:cubicBezTo>
                  <a:pt x="1215660" y="1960180"/>
                  <a:pt x="1229876" y="1946854"/>
                  <a:pt x="1247191" y="1939159"/>
                </a:cubicBezTo>
                <a:cubicBezTo>
                  <a:pt x="1277563" y="1925660"/>
                  <a:pt x="1310253" y="1918138"/>
                  <a:pt x="1341784" y="1907628"/>
                </a:cubicBezTo>
                <a:lnTo>
                  <a:pt x="1389081" y="1891862"/>
                </a:lnTo>
                <a:cubicBezTo>
                  <a:pt x="1404846" y="1886607"/>
                  <a:pt x="1420255" y="1880127"/>
                  <a:pt x="1436377" y="1876097"/>
                </a:cubicBezTo>
                <a:lnTo>
                  <a:pt x="1562501" y="1844566"/>
                </a:lnTo>
                <a:cubicBezTo>
                  <a:pt x="1691506" y="1780064"/>
                  <a:pt x="1559834" y="1840200"/>
                  <a:pt x="1688625" y="1797269"/>
                </a:cubicBezTo>
                <a:cubicBezTo>
                  <a:pt x="1947483" y="1710982"/>
                  <a:pt x="1610755" y="1816618"/>
                  <a:pt x="1830515" y="1734207"/>
                </a:cubicBezTo>
                <a:cubicBezTo>
                  <a:pt x="1850803" y="1726599"/>
                  <a:pt x="1872556" y="1723696"/>
                  <a:pt x="1893577" y="1718441"/>
                </a:cubicBezTo>
                <a:cubicBezTo>
                  <a:pt x="1909343" y="1707931"/>
                  <a:pt x="1923559" y="1694605"/>
                  <a:pt x="1940874" y="1686910"/>
                </a:cubicBezTo>
                <a:cubicBezTo>
                  <a:pt x="2097571" y="1617267"/>
                  <a:pt x="2282292" y="1636392"/>
                  <a:pt x="2445370" y="1623848"/>
                </a:cubicBezTo>
                <a:cubicBezTo>
                  <a:pt x="2461136" y="1618593"/>
                  <a:pt x="2478140" y="1616154"/>
                  <a:pt x="2492667" y="1608083"/>
                </a:cubicBezTo>
                <a:cubicBezTo>
                  <a:pt x="2525794" y="1589679"/>
                  <a:pt x="2551309" y="1557005"/>
                  <a:pt x="2587260" y="1545021"/>
                </a:cubicBezTo>
                <a:lnTo>
                  <a:pt x="2681853" y="1513490"/>
                </a:lnTo>
                <a:cubicBezTo>
                  <a:pt x="2697619" y="1508235"/>
                  <a:pt x="2713028" y="1501754"/>
                  <a:pt x="2729150" y="1497724"/>
                </a:cubicBezTo>
                <a:cubicBezTo>
                  <a:pt x="2750171" y="1492469"/>
                  <a:pt x="2771378" y="1487912"/>
                  <a:pt x="2792212" y="1481959"/>
                </a:cubicBezTo>
                <a:cubicBezTo>
                  <a:pt x="2808191" y="1477394"/>
                  <a:pt x="2823386" y="1470224"/>
                  <a:pt x="2839508" y="1466193"/>
                </a:cubicBezTo>
                <a:cubicBezTo>
                  <a:pt x="2865504" y="1459694"/>
                  <a:pt x="2892060" y="1455683"/>
                  <a:pt x="2918336" y="1450428"/>
                </a:cubicBezTo>
                <a:cubicBezTo>
                  <a:pt x="2934101" y="1434662"/>
                  <a:pt x="2947081" y="1415498"/>
                  <a:pt x="2965632" y="1403131"/>
                </a:cubicBezTo>
                <a:cubicBezTo>
                  <a:pt x="2979459" y="1393913"/>
                  <a:pt x="2998500" y="1395611"/>
                  <a:pt x="3012929" y="1387366"/>
                </a:cubicBezTo>
                <a:cubicBezTo>
                  <a:pt x="3035743" y="1374330"/>
                  <a:pt x="3054465" y="1355137"/>
                  <a:pt x="3075991" y="1340069"/>
                </a:cubicBezTo>
                <a:cubicBezTo>
                  <a:pt x="3107036" y="1318337"/>
                  <a:pt x="3143788" y="1303803"/>
                  <a:pt x="3170584" y="1277007"/>
                </a:cubicBezTo>
                <a:cubicBezTo>
                  <a:pt x="3207370" y="1240221"/>
                  <a:pt x="3252085" y="1209934"/>
                  <a:pt x="3280943" y="1166648"/>
                </a:cubicBezTo>
                <a:cubicBezTo>
                  <a:pt x="3291453" y="1150883"/>
                  <a:pt x="3299076" y="1132750"/>
                  <a:pt x="3312474" y="1119352"/>
                </a:cubicBezTo>
                <a:cubicBezTo>
                  <a:pt x="3336268" y="1095558"/>
                  <a:pt x="3367507" y="1080084"/>
                  <a:pt x="3391301" y="1056290"/>
                </a:cubicBezTo>
                <a:cubicBezTo>
                  <a:pt x="3476493" y="971098"/>
                  <a:pt x="3425135" y="993937"/>
                  <a:pt x="3501660" y="930166"/>
                </a:cubicBezTo>
                <a:cubicBezTo>
                  <a:pt x="3585341" y="860432"/>
                  <a:pt x="3517280" y="946099"/>
                  <a:pt x="3612018" y="835572"/>
                </a:cubicBezTo>
                <a:cubicBezTo>
                  <a:pt x="3624349" y="821186"/>
                  <a:pt x="3630962" y="802438"/>
                  <a:pt x="3643550" y="788276"/>
                </a:cubicBezTo>
                <a:cubicBezTo>
                  <a:pt x="3673175" y="754948"/>
                  <a:pt x="3713408" y="730785"/>
                  <a:pt x="3738143" y="693683"/>
                </a:cubicBezTo>
                <a:lnTo>
                  <a:pt x="3832736" y="551793"/>
                </a:lnTo>
                <a:cubicBezTo>
                  <a:pt x="3843246" y="536028"/>
                  <a:pt x="3850869" y="517895"/>
                  <a:pt x="3864267" y="504497"/>
                </a:cubicBezTo>
                <a:lnTo>
                  <a:pt x="3911563" y="457200"/>
                </a:lnTo>
                <a:cubicBezTo>
                  <a:pt x="3931087" y="398630"/>
                  <a:pt x="3920658" y="416090"/>
                  <a:pt x="3958860" y="362607"/>
                </a:cubicBezTo>
                <a:cubicBezTo>
                  <a:pt x="3974132" y="341225"/>
                  <a:pt x="3986206" y="316645"/>
                  <a:pt x="4006156" y="299545"/>
                </a:cubicBezTo>
                <a:cubicBezTo>
                  <a:pt x="4024000" y="284250"/>
                  <a:pt x="4049663" y="281050"/>
                  <a:pt x="4069218" y="268014"/>
                </a:cubicBezTo>
                <a:cubicBezTo>
                  <a:pt x="4081586" y="259769"/>
                  <a:pt x="4087455" y="243130"/>
                  <a:pt x="4100750" y="236483"/>
                </a:cubicBezTo>
                <a:cubicBezTo>
                  <a:pt x="4120130" y="226793"/>
                  <a:pt x="4143524" y="228325"/>
                  <a:pt x="4163812" y="220717"/>
                </a:cubicBezTo>
                <a:cubicBezTo>
                  <a:pt x="4192797" y="209848"/>
                  <a:pt x="4239184" y="176753"/>
                  <a:pt x="4274170" y="173421"/>
                </a:cubicBezTo>
                <a:cubicBezTo>
                  <a:pt x="4368482" y="164439"/>
                  <a:pt x="4463357" y="162910"/>
                  <a:pt x="4557950" y="157655"/>
                </a:cubicBezTo>
                <a:cubicBezTo>
                  <a:pt x="4573715" y="147145"/>
                  <a:pt x="4588299" y="134598"/>
                  <a:pt x="4605246" y="126124"/>
                </a:cubicBezTo>
                <a:cubicBezTo>
                  <a:pt x="4626309" y="115593"/>
                  <a:pt x="4697427" y="98633"/>
                  <a:pt x="4715605" y="94593"/>
                </a:cubicBezTo>
                <a:cubicBezTo>
                  <a:pt x="4818434" y="71742"/>
                  <a:pt x="4839049" y="71945"/>
                  <a:pt x="4967853" y="63062"/>
                </a:cubicBezTo>
                <a:cubicBezTo>
                  <a:pt x="5062367" y="56544"/>
                  <a:pt x="5157039" y="52552"/>
                  <a:pt x="5251632" y="47297"/>
                </a:cubicBezTo>
                <a:cubicBezTo>
                  <a:pt x="5405427" y="8847"/>
                  <a:pt x="5213388" y="55796"/>
                  <a:pt x="5393522" y="15766"/>
                </a:cubicBezTo>
                <a:cubicBezTo>
                  <a:pt x="5414674" y="11066"/>
                  <a:pt x="5435563" y="5255"/>
                  <a:pt x="5456584" y="0"/>
                </a:cubicBezTo>
                <a:cubicBezTo>
                  <a:pt x="5486285" y="29701"/>
                  <a:pt x="5517853" y="55085"/>
                  <a:pt x="5535412" y="94593"/>
                </a:cubicBezTo>
                <a:cubicBezTo>
                  <a:pt x="5548911" y="124965"/>
                  <a:pt x="5556433" y="157655"/>
                  <a:pt x="5566943" y="189186"/>
                </a:cubicBezTo>
                <a:lnTo>
                  <a:pt x="5582708" y="236483"/>
                </a:lnTo>
                <a:cubicBezTo>
                  <a:pt x="5577453" y="310055"/>
                  <a:pt x="5593677" y="388456"/>
                  <a:pt x="5566943" y="457200"/>
                </a:cubicBezTo>
                <a:cubicBezTo>
                  <a:pt x="5553208" y="492519"/>
                  <a:pt x="5472350" y="520262"/>
                  <a:pt x="5472350" y="520262"/>
                </a:cubicBezTo>
                <a:cubicBezTo>
                  <a:pt x="5381988" y="655802"/>
                  <a:pt x="5490321" y="484318"/>
                  <a:pt x="5425053" y="614855"/>
                </a:cubicBezTo>
                <a:cubicBezTo>
                  <a:pt x="5416579" y="631803"/>
                  <a:pt x="5401996" y="645205"/>
                  <a:pt x="5393522" y="662152"/>
                </a:cubicBezTo>
                <a:cubicBezTo>
                  <a:pt x="5357971" y="733253"/>
                  <a:pt x="5402700" y="688974"/>
                  <a:pt x="5346225" y="756745"/>
                </a:cubicBezTo>
                <a:cubicBezTo>
                  <a:pt x="5290049" y="824157"/>
                  <a:pt x="5313640" y="785965"/>
                  <a:pt x="5251632" y="835572"/>
                </a:cubicBezTo>
                <a:cubicBezTo>
                  <a:pt x="5139302" y="925437"/>
                  <a:pt x="5318386" y="801580"/>
                  <a:pt x="5172805" y="898635"/>
                </a:cubicBezTo>
                <a:lnTo>
                  <a:pt x="5109743" y="993228"/>
                </a:lnTo>
                <a:lnTo>
                  <a:pt x="5078212" y="1040524"/>
                </a:lnTo>
                <a:cubicBezTo>
                  <a:pt x="5077939" y="1041614"/>
                  <a:pt x="5030228" y="1246163"/>
                  <a:pt x="5015150" y="1261241"/>
                </a:cubicBezTo>
                <a:lnTo>
                  <a:pt x="4983618" y="1292772"/>
                </a:lnTo>
                <a:cubicBezTo>
                  <a:pt x="4973108" y="1324303"/>
                  <a:pt x="4970524" y="1359711"/>
                  <a:pt x="4952087" y="1387366"/>
                </a:cubicBezTo>
                <a:cubicBezTo>
                  <a:pt x="4931066" y="1418897"/>
                  <a:pt x="4920556" y="1460938"/>
                  <a:pt x="4889025" y="1481959"/>
                </a:cubicBezTo>
                <a:cubicBezTo>
                  <a:pt x="4841527" y="1513625"/>
                  <a:pt x="4834673" y="1521019"/>
                  <a:pt x="4778667" y="1545021"/>
                </a:cubicBezTo>
                <a:cubicBezTo>
                  <a:pt x="4763392" y="1551567"/>
                  <a:pt x="4747136" y="1555531"/>
                  <a:pt x="4731370" y="1560786"/>
                </a:cubicBezTo>
                <a:cubicBezTo>
                  <a:pt x="4715605" y="1571296"/>
                  <a:pt x="4701490" y="1584853"/>
                  <a:pt x="4684074" y="1592317"/>
                </a:cubicBezTo>
                <a:cubicBezTo>
                  <a:pt x="4664158" y="1600852"/>
                  <a:pt x="4641846" y="1602130"/>
                  <a:pt x="4621012" y="1608083"/>
                </a:cubicBezTo>
                <a:cubicBezTo>
                  <a:pt x="4605033" y="1612648"/>
                  <a:pt x="4589694" y="1619283"/>
                  <a:pt x="4573715" y="1623848"/>
                </a:cubicBezTo>
                <a:cubicBezTo>
                  <a:pt x="4552881" y="1629801"/>
                  <a:pt x="4530941" y="1632006"/>
                  <a:pt x="4510653" y="1639614"/>
                </a:cubicBezTo>
                <a:cubicBezTo>
                  <a:pt x="4345779" y="1701442"/>
                  <a:pt x="4546389" y="1646446"/>
                  <a:pt x="4384529" y="1686910"/>
                </a:cubicBezTo>
                <a:cubicBezTo>
                  <a:pt x="4368763" y="1697420"/>
                  <a:pt x="4354179" y="1709967"/>
                  <a:pt x="4337232" y="1718441"/>
                </a:cubicBezTo>
                <a:cubicBezTo>
                  <a:pt x="4322368" y="1725873"/>
                  <a:pt x="4305969" y="1729834"/>
                  <a:pt x="4289936" y="1734207"/>
                </a:cubicBezTo>
                <a:cubicBezTo>
                  <a:pt x="4248128" y="1745609"/>
                  <a:pt x="4204923" y="1752034"/>
                  <a:pt x="4163812" y="1765738"/>
                </a:cubicBezTo>
                <a:cubicBezTo>
                  <a:pt x="4126322" y="1778235"/>
                  <a:pt x="4093050" y="1790670"/>
                  <a:pt x="4053453" y="1797269"/>
                </a:cubicBezTo>
                <a:cubicBezTo>
                  <a:pt x="3980145" y="1809487"/>
                  <a:pt x="3904836" y="1810774"/>
                  <a:pt x="3832736" y="1828800"/>
                </a:cubicBezTo>
                <a:cubicBezTo>
                  <a:pt x="3738663" y="1852319"/>
                  <a:pt x="3791047" y="1841004"/>
                  <a:pt x="3675081" y="1860331"/>
                </a:cubicBezTo>
                <a:cubicBezTo>
                  <a:pt x="3654060" y="1870841"/>
                  <a:pt x="3633620" y="1882604"/>
                  <a:pt x="3612018" y="1891862"/>
                </a:cubicBezTo>
                <a:cubicBezTo>
                  <a:pt x="3596743" y="1898408"/>
                  <a:pt x="3579586" y="1900196"/>
                  <a:pt x="3564722" y="1907628"/>
                </a:cubicBezTo>
                <a:cubicBezTo>
                  <a:pt x="3545531" y="1917224"/>
                  <a:pt x="3463290" y="1978420"/>
                  <a:pt x="3454363" y="1986455"/>
                </a:cubicBezTo>
                <a:cubicBezTo>
                  <a:pt x="3249955" y="2170421"/>
                  <a:pt x="3425474" y="2011662"/>
                  <a:pt x="3328239" y="2128345"/>
                </a:cubicBezTo>
                <a:cubicBezTo>
                  <a:pt x="3313966" y="2145473"/>
                  <a:pt x="3294631" y="2158042"/>
                  <a:pt x="3280943" y="2175641"/>
                </a:cubicBezTo>
                <a:cubicBezTo>
                  <a:pt x="3257677" y="2205554"/>
                  <a:pt x="3249412" y="2249214"/>
                  <a:pt x="3217881" y="2270235"/>
                </a:cubicBezTo>
                <a:lnTo>
                  <a:pt x="3123287" y="2333297"/>
                </a:lnTo>
                <a:lnTo>
                  <a:pt x="3028694" y="2396359"/>
                </a:lnTo>
                <a:cubicBezTo>
                  <a:pt x="3012929" y="2406869"/>
                  <a:pt x="2994796" y="2414492"/>
                  <a:pt x="2981398" y="2427890"/>
                </a:cubicBezTo>
                <a:cubicBezTo>
                  <a:pt x="2965632" y="2443655"/>
                  <a:pt x="2954398" y="2465960"/>
                  <a:pt x="2934101" y="2475186"/>
                </a:cubicBezTo>
                <a:cubicBezTo>
                  <a:pt x="2894650" y="2493118"/>
                  <a:pt x="2807977" y="2506717"/>
                  <a:pt x="2807977" y="2506717"/>
                </a:cubicBezTo>
                <a:cubicBezTo>
                  <a:pt x="2792212" y="2517227"/>
                  <a:pt x="2777315" y="2529175"/>
                  <a:pt x="2760681" y="2538248"/>
                </a:cubicBezTo>
                <a:cubicBezTo>
                  <a:pt x="2719416" y="2560756"/>
                  <a:pt x="2680156" y="2589910"/>
                  <a:pt x="2634556" y="2601310"/>
                </a:cubicBezTo>
                <a:cubicBezTo>
                  <a:pt x="2352032" y="2671943"/>
                  <a:pt x="2593138" y="2616069"/>
                  <a:pt x="1893577" y="2648607"/>
                </a:cubicBezTo>
                <a:cubicBezTo>
                  <a:pt x="1721098" y="2706099"/>
                  <a:pt x="1982347" y="2614408"/>
                  <a:pt x="1798984" y="2695904"/>
                </a:cubicBezTo>
                <a:cubicBezTo>
                  <a:pt x="1768612" y="2709403"/>
                  <a:pt x="1732046" y="2708999"/>
                  <a:pt x="1704391" y="2727435"/>
                </a:cubicBezTo>
                <a:cubicBezTo>
                  <a:pt x="1590243" y="2803533"/>
                  <a:pt x="1643693" y="2773550"/>
                  <a:pt x="1546736" y="2822028"/>
                </a:cubicBezTo>
                <a:cubicBezTo>
                  <a:pt x="1515732" y="2868533"/>
                  <a:pt x="1513429" y="2878686"/>
                  <a:pt x="1467908" y="2916621"/>
                </a:cubicBezTo>
                <a:cubicBezTo>
                  <a:pt x="1414440" y="2961178"/>
                  <a:pt x="1431873" y="2938821"/>
                  <a:pt x="1373315" y="2963917"/>
                </a:cubicBezTo>
                <a:cubicBezTo>
                  <a:pt x="1351713" y="2973175"/>
                  <a:pt x="1332074" y="2986720"/>
                  <a:pt x="1310253" y="2995448"/>
                </a:cubicBezTo>
                <a:cubicBezTo>
                  <a:pt x="1279394" y="3007792"/>
                  <a:pt x="1247191" y="3016469"/>
                  <a:pt x="1215660" y="3026979"/>
                </a:cubicBezTo>
                <a:lnTo>
                  <a:pt x="1168363" y="3042745"/>
                </a:lnTo>
                <a:cubicBezTo>
                  <a:pt x="1073770" y="3032235"/>
                  <a:pt x="978464" y="3026861"/>
                  <a:pt x="884584" y="3011214"/>
                </a:cubicBezTo>
                <a:cubicBezTo>
                  <a:pt x="851800" y="3005750"/>
                  <a:pt x="821522" y="2990193"/>
                  <a:pt x="789991" y="2979683"/>
                </a:cubicBezTo>
                <a:lnTo>
                  <a:pt x="742694" y="2963917"/>
                </a:lnTo>
                <a:cubicBezTo>
                  <a:pt x="726929" y="2948152"/>
                  <a:pt x="714888" y="2927449"/>
                  <a:pt x="695398" y="2916621"/>
                </a:cubicBezTo>
                <a:cubicBezTo>
                  <a:pt x="666344" y="2900480"/>
                  <a:pt x="634027" y="2886067"/>
                  <a:pt x="600805" y="2885090"/>
                </a:cubicBezTo>
                <a:lnTo>
                  <a:pt x="64777" y="2869324"/>
                </a:lnTo>
                <a:cubicBezTo>
                  <a:pt x="58620" y="2857010"/>
                  <a:pt x="17481" y="2782164"/>
                  <a:pt x="17481" y="2758966"/>
                </a:cubicBezTo>
                <a:cubicBezTo>
                  <a:pt x="17481" y="2599997"/>
                  <a:pt x="0" y="2593085"/>
                  <a:pt x="64777" y="2506717"/>
                </a:cubicBezTo>
                <a:cubicBezTo>
                  <a:pt x="69236" y="2500771"/>
                  <a:pt x="59522" y="2540875"/>
                  <a:pt x="64777" y="2538248"/>
                </a:cubicBezTo>
                <a:close/>
              </a:path>
            </a:pathLst>
          </a:custGeom>
          <a:solidFill>
            <a:srgbClr val="00b0f0"/>
          </a:solidFill>
          <a:ln w="255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олилиния 45"/>
          <p:cNvSpPr/>
          <p:nvPr/>
        </p:nvSpPr>
        <p:spPr>
          <a:xfrm>
            <a:off x="7189920" y="3595680"/>
            <a:ext cx="1954080" cy="841320"/>
          </a:xfrm>
          <a:custGeom>
            <a:avLst/>
            <a:gdLst/>
            <a:ahLst/>
            <a:rect l="l" t="t" r="r" b="b"/>
            <a:pathLst>
              <a:path w="1954924" h="842137">
                <a:moveTo>
                  <a:pt x="157655" y="132689"/>
                </a:moveTo>
                <a:cubicBezTo>
                  <a:pt x="173421" y="122179"/>
                  <a:pt x="187637" y="108853"/>
                  <a:pt x="204952" y="101158"/>
                </a:cubicBezTo>
                <a:cubicBezTo>
                  <a:pt x="270414" y="72064"/>
                  <a:pt x="310936" y="67349"/>
                  <a:pt x="378373" y="53861"/>
                </a:cubicBezTo>
                <a:cubicBezTo>
                  <a:pt x="399394" y="43351"/>
                  <a:pt x="419833" y="31588"/>
                  <a:pt x="441435" y="22330"/>
                </a:cubicBezTo>
                <a:cubicBezTo>
                  <a:pt x="456709" y="15784"/>
                  <a:pt x="472113" y="6565"/>
                  <a:pt x="488731" y="6565"/>
                </a:cubicBezTo>
                <a:cubicBezTo>
                  <a:pt x="709511" y="6565"/>
                  <a:pt x="930166" y="17075"/>
                  <a:pt x="1150883" y="22330"/>
                </a:cubicBezTo>
                <a:cubicBezTo>
                  <a:pt x="1268313" y="100616"/>
                  <a:pt x="1124087" y="0"/>
                  <a:pt x="1245476" y="101158"/>
                </a:cubicBezTo>
                <a:cubicBezTo>
                  <a:pt x="1260032" y="113288"/>
                  <a:pt x="1274035" y="129878"/>
                  <a:pt x="1292773" y="132689"/>
                </a:cubicBezTo>
                <a:cubicBezTo>
                  <a:pt x="1381275" y="145964"/>
                  <a:pt x="1471448" y="143199"/>
                  <a:pt x="1560786" y="148454"/>
                </a:cubicBezTo>
                <a:cubicBezTo>
                  <a:pt x="1644034" y="176204"/>
                  <a:pt x="1594255" y="155001"/>
                  <a:pt x="1702676" y="227282"/>
                </a:cubicBezTo>
                <a:lnTo>
                  <a:pt x="1749973" y="258813"/>
                </a:lnTo>
                <a:lnTo>
                  <a:pt x="1797269" y="290344"/>
                </a:lnTo>
                <a:cubicBezTo>
                  <a:pt x="1819829" y="358024"/>
                  <a:pt x="1825535" y="390005"/>
                  <a:pt x="1860331" y="447999"/>
                </a:cubicBezTo>
                <a:cubicBezTo>
                  <a:pt x="1879828" y="480494"/>
                  <a:pt x="1911409" y="506641"/>
                  <a:pt x="1923393" y="542592"/>
                </a:cubicBezTo>
                <a:lnTo>
                  <a:pt x="1954924" y="637185"/>
                </a:lnTo>
                <a:cubicBezTo>
                  <a:pt x="1949669" y="673971"/>
                  <a:pt x="1949837" y="711951"/>
                  <a:pt x="1939159" y="747544"/>
                </a:cubicBezTo>
                <a:cubicBezTo>
                  <a:pt x="1915794" y="825428"/>
                  <a:pt x="1852355" y="802753"/>
                  <a:pt x="1781504" y="826371"/>
                </a:cubicBezTo>
                <a:lnTo>
                  <a:pt x="1734207" y="842137"/>
                </a:lnTo>
                <a:cubicBezTo>
                  <a:pt x="1718442" y="831627"/>
                  <a:pt x="1705438" y="814576"/>
                  <a:pt x="1686911" y="810606"/>
                </a:cubicBezTo>
                <a:cubicBezTo>
                  <a:pt x="1430299" y="755617"/>
                  <a:pt x="1596494" y="823210"/>
                  <a:pt x="1434662" y="779075"/>
                </a:cubicBezTo>
                <a:cubicBezTo>
                  <a:pt x="1402597" y="770330"/>
                  <a:pt x="1373049" y="751667"/>
                  <a:pt x="1340069" y="747544"/>
                </a:cubicBezTo>
                <a:cubicBezTo>
                  <a:pt x="1298028" y="742289"/>
                  <a:pt x="1255737" y="738743"/>
                  <a:pt x="1213945" y="731778"/>
                </a:cubicBezTo>
                <a:cubicBezTo>
                  <a:pt x="1154791" y="721919"/>
                  <a:pt x="1156076" y="715244"/>
                  <a:pt x="1103586" y="700247"/>
                </a:cubicBezTo>
                <a:cubicBezTo>
                  <a:pt x="1082752" y="694294"/>
                  <a:pt x="1061676" y="689182"/>
                  <a:pt x="1040524" y="684482"/>
                </a:cubicBezTo>
                <a:cubicBezTo>
                  <a:pt x="1014366" y="678669"/>
                  <a:pt x="987363" y="676416"/>
                  <a:pt x="961697" y="668716"/>
                </a:cubicBezTo>
                <a:cubicBezTo>
                  <a:pt x="849612" y="635090"/>
                  <a:pt x="914825" y="630794"/>
                  <a:pt x="788276" y="621420"/>
                </a:cubicBezTo>
                <a:cubicBezTo>
                  <a:pt x="678094" y="613258"/>
                  <a:pt x="567559" y="610909"/>
                  <a:pt x="457200" y="605654"/>
                </a:cubicBezTo>
                <a:cubicBezTo>
                  <a:pt x="298233" y="552666"/>
                  <a:pt x="544827" y="633519"/>
                  <a:pt x="346842" y="574123"/>
                </a:cubicBezTo>
                <a:cubicBezTo>
                  <a:pt x="315007" y="564572"/>
                  <a:pt x="283780" y="553102"/>
                  <a:pt x="252249" y="542592"/>
                </a:cubicBezTo>
                <a:lnTo>
                  <a:pt x="204952" y="526827"/>
                </a:lnTo>
                <a:lnTo>
                  <a:pt x="157655" y="511061"/>
                </a:lnTo>
                <a:cubicBezTo>
                  <a:pt x="141890" y="495296"/>
                  <a:pt x="122726" y="482316"/>
                  <a:pt x="110359" y="463765"/>
                </a:cubicBezTo>
                <a:cubicBezTo>
                  <a:pt x="101141" y="449938"/>
                  <a:pt x="102025" y="431332"/>
                  <a:pt x="94593" y="416468"/>
                </a:cubicBezTo>
                <a:cubicBezTo>
                  <a:pt x="86119" y="399520"/>
                  <a:pt x="73572" y="384937"/>
                  <a:pt x="63062" y="369171"/>
                </a:cubicBezTo>
                <a:cubicBezTo>
                  <a:pt x="26276" y="258812"/>
                  <a:pt x="0" y="285088"/>
                  <a:pt x="78828" y="258813"/>
                </a:cubicBezTo>
                <a:cubicBezTo>
                  <a:pt x="154257" y="145669"/>
                  <a:pt x="115094" y="191016"/>
                  <a:pt x="189186" y="116923"/>
                </a:cubicBezTo>
                <a:cubicBezTo>
                  <a:pt x="207302" y="62576"/>
                  <a:pt x="193202" y="81378"/>
                  <a:pt x="220717" y="53861"/>
                </a:cubicBezTo>
              </a:path>
            </a:pathLst>
          </a:custGeom>
          <a:solidFill>
            <a:srgbClr val="00b0f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олилиния 46"/>
          <p:cNvSpPr/>
          <p:nvPr/>
        </p:nvSpPr>
        <p:spPr>
          <a:xfrm>
            <a:off x="4968720" y="4429080"/>
            <a:ext cx="1954440" cy="841320"/>
          </a:xfrm>
          <a:custGeom>
            <a:avLst/>
            <a:gdLst/>
            <a:ahLst/>
            <a:rect l="l" t="t" r="r" b="b"/>
            <a:pathLst>
              <a:path w="1954924" h="842137">
                <a:moveTo>
                  <a:pt x="157655" y="132689"/>
                </a:moveTo>
                <a:cubicBezTo>
                  <a:pt x="173421" y="122179"/>
                  <a:pt x="187637" y="108853"/>
                  <a:pt x="204952" y="101158"/>
                </a:cubicBezTo>
                <a:cubicBezTo>
                  <a:pt x="270414" y="72064"/>
                  <a:pt x="310936" y="67349"/>
                  <a:pt x="378373" y="53861"/>
                </a:cubicBezTo>
                <a:cubicBezTo>
                  <a:pt x="399394" y="43351"/>
                  <a:pt x="419833" y="31588"/>
                  <a:pt x="441435" y="22330"/>
                </a:cubicBezTo>
                <a:cubicBezTo>
                  <a:pt x="456709" y="15784"/>
                  <a:pt x="472113" y="6565"/>
                  <a:pt x="488731" y="6565"/>
                </a:cubicBezTo>
                <a:cubicBezTo>
                  <a:pt x="709511" y="6565"/>
                  <a:pt x="930166" y="17075"/>
                  <a:pt x="1150883" y="22330"/>
                </a:cubicBezTo>
                <a:cubicBezTo>
                  <a:pt x="1268313" y="100616"/>
                  <a:pt x="1124087" y="0"/>
                  <a:pt x="1245476" y="101158"/>
                </a:cubicBezTo>
                <a:cubicBezTo>
                  <a:pt x="1260032" y="113288"/>
                  <a:pt x="1274035" y="129878"/>
                  <a:pt x="1292773" y="132689"/>
                </a:cubicBezTo>
                <a:cubicBezTo>
                  <a:pt x="1381275" y="145964"/>
                  <a:pt x="1471448" y="143199"/>
                  <a:pt x="1560786" y="148454"/>
                </a:cubicBezTo>
                <a:cubicBezTo>
                  <a:pt x="1644034" y="176204"/>
                  <a:pt x="1594255" y="155001"/>
                  <a:pt x="1702676" y="227282"/>
                </a:cubicBezTo>
                <a:lnTo>
                  <a:pt x="1749973" y="258813"/>
                </a:lnTo>
                <a:lnTo>
                  <a:pt x="1797269" y="290344"/>
                </a:lnTo>
                <a:cubicBezTo>
                  <a:pt x="1819829" y="358024"/>
                  <a:pt x="1825535" y="390005"/>
                  <a:pt x="1860331" y="447999"/>
                </a:cubicBezTo>
                <a:cubicBezTo>
                  <a:pt x="1879828" y="480494"/>
                  <a:pt x="1911409" y="506641"/>
                  <a:pt x="1923393" y="542592"/>
                </a:cubicBezTo>
                <a:lnTo>
                  <a:pt x="1954924" y="637185"/>
                </a:lnTo>
                <a:cubicBezTo>
                  <a:pt x="1949669" y="673971"/>
                  <a:pt x="1949837" y="711951"/>
                  <a:pt x="1939159" y="747544"/>
                </a:cubicBezTo>
                <a:cubicBezTo>
                  <a:pt x="1915794" y="825428"/>
                  <a:pt x="1852355" y="802753"/>
                  <a:pt x="1781504" y="826371"/>
                </a:cubicBezTo>
                <a:lnTo>
                  <a:pt x="1734207" y="842137"/>
                </a:lnTo>
                <a:cubicBezTo>
                  <a:pt x="1718442" y="831627"/>
                  <a:pt x="1705438" y="814576"/>
                  <a:pt x="1686911" y="810606"/>
                </a:cubicBezTo>
                <a:cubicBezTo>
                  <a:pt x="1430299" y="755617"/>
                  <a:pt x="1596494" y="823210"/>
                  <a:pt x="1434662" y="779075"/>
                </a:cubicBezTo>
                <a:cubicBezTo>
                  <a:pt x="1402597" y="770330"/>
                  <a:pt x="1373049" y="751667"/>
                  <a:pt x="1340069" y="747544"/>
                </a:cubicBezTo>
                <a:cubicBezTo>
                  <a:pt x="1298028" y="742289"/>
                  <a:pt x="1255737" y="738743"/>
                  <a:pt x="1213945" y="731778"/>
                </a:cubicBezTo>
                <a:cubicBezTo>
                  <a:pt x="1154791" y="721919"/>
                  <a:pt x="1156076" y="715244"/>
                  <a:pt x="1103586" y="700247"/>
                </a:cubicBezTo>
                <a:cubicBezTo>
                  <a:pt x="1082752" y="694294"/>
                  <a:pt x="1061676" y="689182"/>
                  <a:pt x="1040524" y="684482"/>
                </a:cubicBezTo>
                <a:cubicBezTo>
                  <a:pt x="1014366" y="678669"/>
                  <a:pt x="987363" y="676416"/>
                  <a:pt x="961697" y="668716"/>
                </a:cubicBezTo>
                <a:cubicBezTo>
                  <a:pt x="849612" y="635090"/>
                  <a:pt x="914825" y="630794"/>
                  <a:pt x="788276" y="621420"/>
                </a:cubicBezTo>
                <a:cubicBezTo>
                  <a:pt x="678094" y="613258"/>
                  <a:pt x="567559" y="610909"/>
                  <a:pt x="457200" y="605654"/>
                </a:cubicBezTo>
                <a:cubicBezTo>
                  <a:pt x="298233" y="552666"/>
                  <a:pt x="544827" y="633519"/>
                  <a:pt x="346842" y="574123"/>
                </a:cubicBezTo>
                <a:cubicBezTo>
                  <a:pt x="315007" y="564572"/>
                  <a:pt x="283780" y="553102"/>
                  <a:pt x="252249" y="542592"/>
                </a:cubicBezTo>
                <a:lnTo>
                  <a:pt x="204952" y="526827"/>
                </a:lnTo>
                <a:lnTo>
                  <a:pt x="157655" y="511061"/>
                </a:lnTo>
                <a:cubicBezTo>
                  <a:pt x="141890" y="495296"/>
                  <a:pt x="122726" y="482316"/>
                  <a:pt x="110359" y="463765"/>
                </a:cubicBezTo>
                <a:cubicBezTo>
                  <a:pt x="101141" y="449938"/>
                  <a:pt x="102025" y="431332"/>
                  <a:pt x="94593" y="416468"/>
                </a:cubicBezTo>
                <a:cubicBezTo>
                  <a:pt x="86119" y="399520"/>
                  <a:pt x="73572" y="384937"/>
                  <a:pt x="63062" y="369171"/>
                </a:cubicBezTo>
                <a:cubicBezTo>
                  <a:pt x="26276" y="258812"/>
                  <a:pt x="0" y="285088"/>
                  <a:pt x="78828" y="258813"/>
                </a:cubicBezTo>
                <a:cubicBezTo>
                  <a:pt x="154257" y="145669"/>
                  <a:pt x="115094" y="191016"/>
                  <a:pt x="189186" y="116923"/>
                </a:cubicBezTo>
                <a:cubicBezTo>
                  <a:pt x="207302" y="62576"/>
                  <a:pt x="193202" y="81378"/>
                  <a:pt x="220717" y="53861"/>
                </a:cubicBezTo>
              </a:path>
            </a:pathLst>
          </a:custGeom>
          <a:solidFill>
            <a:srgbClr val="00b0f0"/>
          </a:solidFill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Умножение 47"/>
          <p:cNvSpPr/>
          <p:nvPr/>
        </p:nvSpPr>
        <p:spPr>
          <a:xfrm>
            <a:off x="5683320" y="1643040"/>
            <a:ext cx="428400" cy="428760"/>
          </a:xfrm>
          <a:custGeom>
            <a:avLst/>
            <a:gdLst/>
            <a:ahLst/>
            <a:rect l="l" t="t" r="r" b="b"/>
            <a:pathLst>
              <a:path w="428625" h="428625">
                <a:moveTo>
                  <a:pt x="67302" y="138588"/>
                </a:moveTo>
                <a:lnTo>
                  <a:pt x="138588" y="67302"/>
                </a:lnTo>
                <a:lnTo>
                  <a:pt x="214313" y="143027"/>
                </a:lnTo>
                <a:lnTo>
                  <a:pt x="290037" y="67302"/>
                </a:lnTo>
                <a:lnTo>
                  <a:pt x="361323" y="138588"/>
                </a:lnTo>
                <a:lnTo>
                  <a:pt x="285598" y="214313"/>
                </a:lnTo>
                <a:lnTo>
                  <a:pt x="361323" y="290037"/>
                </a:lnTo>
                <a:lnTo>
                  <a:pt x="290037" y="361323"/>
                </a:lnTo>
                <a:lnTo>
                  <a:pt x="214313" y="285598"/>
                </a:lnTo>
                <a:lnTo>
                  <a:pt x="138588" y="361323"/>
                </a:lnTo>
                <a:lnTo>
                  <a:pt x="67302" y="290037"/>
                </a:lnTo>
                <a:lnTo>
                  <a:pt x="143027" y="214313"/>
                </a:lnTo>
                <a:lnTo>
                  <a:pt x="67302" y="13858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трелка вверх 48"/>
          <p:cNvSpPr/>
          <p:nvPr/>
        </p:nvSpPr>
        <p:spPr>
          <a:xfrm>
            <a:off x="4786200" y="4643280"/>
            <a:ext cx="214560" cy="785880"/>
          </a:xfrm>
          <a:prstGeom prst="upArrow">
            <a:avLst>
              <a:gd name="adj1" fmla="val 50000"/>
              <a:gd name="adj2" fmla="val 49939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трелка вверх 49"/>
          <p:cNvSpPr/>
          <p:nvPr/>
        </p:nvSpPr>
        <p:spPr>
          <a:xfrm>
            <a:off x="5857920" y="4143240"/>
            <a:ext cx="214200" cy="785880"/>
          </a:xfrm>
          <a:prstGeom prst="up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трелка вверх 50"/>
          <p:cNvSpPr/>
          <p:nvPr/>
        </p:nvSpPr>
        <p:spPr>
          <a:xfrm>
            <a:off x="6643800" y="3357720"/>
            <a:ext cx="214200" cy="7855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Скругленная соединительная линия 51"/>
          <p:cNvCxnSpPr/>
          <p:nvPr/>
        </p:nvCxnSpPr>
        <p:spPr>
          <a:xfrm flipH="1" rot="16200000">
            <a:off x="6643800" y="4143240"/>
            <a:ext cx="1643760" cy="1357920"/>
          </a:xfrm>
          <a:prstGeom prst="curvedConnector5">
            <a:avLst>
              <a:gd name="adj1" fmla="val 49989"/>
              <a:gd name="adj2" fmla="val 49986"/>
              <a:gd name="adj3" fmla="val 49989"/>
            </a:avLst>
          </a:prstGeom>
          <a:ln w="76320">
            <a:solidFill>
              <a:srgbClr val="002060"/>
            </a:solidFill>
            <a:prstDash val="lgDash"/>
            <a:miter/>
          </a:ln>
        </p:spPr>
      </p:cxnSp>
      <p:cxnSp>
        <p:nvCxnSpPr>
          <p:cNvPr id="245" name="Скругленная соединительная линия 52"/>
          <p:cNvCxnSpPr/>
          <p:nvPr/>
        </p:nvCxnSpPr>
        <p:spPr>
          <a:xfrm flipH="1" rot="16200000">
            <a:off x="5785560" y="4928760"/>
            <a:ext cx="1643760" cy="135828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2060"/>
            </a:solidFill>
            <a:prstDash val="lgDash"/>
            <a:miter/>
          </a:ln>
        </p:spPr>
      </p:cxnSp>
      <p:cxnSp>
        <p:nvCxnSpPr>
          <p:cNvPr id="246" name="Скругленная соединительная линия 53"/>
          <p:cNvCxnSpPr/>
          <p:nvPr/>
        </p:nvCxnSpPr>
        <p:spPr>
          <a:xfrm flipH="1" rot="16200000">
            <a:off x="4785480" y="5357520"/>
            <a:ext cx="1643760" cy="135828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2060"/>
            </a:solidFill>
            <a:prstDash val="lgDash"/>
            <a:miter/>
          </a:ln>
        </p:spPr>
      </p:cxnSp>
      <p:sp>
        <p:nvSpPr>
          <p:cNvPr id="247" name="TextBox 54"/>
          <p:cNvSpPr/>
          <p:nvPr/>
        </p:nvSpPr>
        <p:spPr>
          <a:xfrm>
            <a:off x="5214960" y="639612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ешанное питани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олилиния 55"/>
          <p:cNvSpPr/>
          <p:nvPr/>
        </p:nvSpPr>
        <p:spPr>
          <a:xfrm>
            <a:off x="6858000" y="1908000"/>
            <a:ext cx="1812960" cy="819360"/>
          </a:xfrm>
          <a:custGeom>
            <a:avLst/>
            <a:gdLst/>
            <a:ahLst/>
            <a:rect l="l" t="t" r="r" b="b"/>
            <a:pathLst>
              <a:path w="1813034" h="819806">
                <a:moveTo>
                  <a:pt x="1813034" y="0"/>
                </a:moveTo>
                <a:cubicBezTo>
                  <a:pt x="1751446" y="184765"/>
                  <a:pt x="1806670" y="289"/>
                  <a:pt x="1765738" y="204951"/>
                </a:cubicBezTo>
                <a:cubicBezTo>
                  <a:pt x="1762479" y="221247"/>
                  <a:pt x="1761723" y="240497"/>
                  <a:pt x="1749972" y="252248"/>
                </a:cubicBezTo>
                <a:cubicBezTo>
                  <a:pt x="1738221" y="263999"/>
                  <a:pt x="1718441" y="262758"/>
                  <a:pt x="1702676" y="268013"/>
                </a:cubicBezTo>
                <a:cubicBezTo>
                  <a:pt x="1686910" y="278523"/>
                  <a:pt x="1674069" y="296429"/>
                  <a:pt x="1655379" y="299544"/>
                </a:cubicBezTo>
                <a:cubicBezTo>
                  <a:pt x="1638987" y="302276"/>
                  <a:pt x="1624599" y="285614"/>
                  <a:pt x="1608083" y="283779"/>
                </a:cubicBezTo>
                <a:cubicBezTo>
                  <a:pt x="1576745" y="280297"/>
                  <a:pt x="1545021" y="283779"/>
                  <a:pt x="1513490" y="283779"/>
                </a:cubicBezTo>
                <a:cubicBezTo>
                  <a:pt x="1345324" y="315310"/>
                  <a:pt x="1170335" y="321428"/>
                  <a:pt x="1008993" y="378372"/>
                </a:cubicBezTo>
                <a:cubicBezTo>
                  <a:pt x="977651" y="389434"/>
                  <a:pt x="987972" y="441434"/>
                  <a:pt x="977462" y="472965"/>
                </a:cubicBezTo>
                <a:lnTo>
                  <a:pt x="914400" y="662151"/>
                </a:lnTo>
                <a:lnTo>
                  <a:pt x="898634" y="709448"/>
                </a:lnTo>
                <a:cubicBezTo>
                  <a:pt x="893379" y="725213"/>
                  <a:pt x="896696" y="747526"/>
                  <a:pt x="882869" y="756744"/>
                </a:cubicBezTo>
                <a:cubicBezTo>
                  <a:pt x="867103" y="767254"/>
                  <a:pt x="852887" y="780580"/>
                  <a:pt x="835572" y="788275"/>
                </a:cubicBezTo>
                <a:cubicBezTo>
                  <a:pt x="805200" y="801774"/>
                  <a:pt x="740979" y="819806"/>
                  <a:pt x="740979" y="819806"/>
                </a:cubicBezTo>
                <a:cubicBezTo>
                  <a:pt x="609600" y="814551"/>
                  <a:pt x="478325" y="804041"/>
                  <a:pt x="346841" y="804041"/>
                </a:cubicBezTo>
                <a:cubicBezTo>
                  <a:pt x="231108" y="804041"/>
                  <a:pt x="0" y="819806"/>
                  <a:pt x="0" y="81980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олилиния 56"/>
          <p:cNvSpPr/>
          <p:nvPr/>
        </p:nvSpPr>
        <p:spPr>
          <a:xfrm>
            <a:off x="6573960" y="1039680"/>
            <a:ext cx="1719000" cy="2301840"/>
          </a:xfrm>
          <a:custGeom>
            <a:avLst/>
            <a:gdLst/>
            <a:ahLst/>
            <a:rect l="l" t="t" r="r" b="b"/>
            <a:pathLst>
              <a:path w="1718441" h="2301766">
                <a:moveTo>
                  <a:pt x="1718441" y="0"/>
                </a:moveTo>
                <a:cubicBezTo>
                  <a:pt x="1707931" y="15766"/>
                  <a:pt x="1702978" y="37255"/>
                  <a:pt x="1686910" y="47297"/>
                </a:cubicBezTo>
                <a:cubicBezTo>
                  <a:pt x="1661320" y="63291"/>
                  <a:pt x="1566176" y="85363"/>
                  <a:pt x="1529255" y="94593"/>
                </a:cubicBezTo>
                <a:cubicBezTo>
                  <a:pt x="1524000" y="120869"/>
                  <a:pt x="1522898" y="148331"/>
                  <a:pt x="1513489" y="173421"/>
                </a:cubicBezTo>
                <a:cubicBezTo>
                  <a:pt x="1506836" y="191162"/>
                  <a:pt x="1486943" y="202437"/>
                  <a:pt x="1481958" y="220717"/>
                </a:cubicBezTo>
                <a:cubicBezTo>
                  <a:pt x="1470810" y="261593"/>
                  <a:pt x="1475070" y="305414"/>
                  <a:pt x="1466193" y="346842"/>
                </a:cubicBezTo>
                <a:cubicBezTo>
                  <a:pt x="1459229" y="379341"/>
                  <a:pt x="1445172" y="409904"/>
                  <a:pt x="1434662" y="441435"/>
                </a:cubicBezTo>
                <a:cubicBezTo>
                  <a:pt x="1429407" y="457200"/>
                  <a:pt x="1432723" y="479513"/>
                  <a:pt x="1418896" y="488731"/>
                </a:cubicBezTo>
                <a:lnTo>
                  <a:pt x="1277007" y="583324"/>
                </a:lnTo>
                <a:lnTo>
                  <a:pt x="1229710" y="614855"/>
                </a:lnTo>
                <a:cubicBezTo>
                  <a:pt x="1185052" y="748836"/>
                  <a:pt x="1247335" y="585481"/>
                  <a:pt x="1182413" y="693683"/>
                </a:cubicBezTo>
                <a:cubicBezTo>
                  <a:pt x="1173863" y="707933"/>
                  <a:pt x="1174080" y="726115"/>
                  <a:pt x="1166648" y="740979"/>
                </a:cubicBezTo>
                <a:cubicBezTo>
                  <a:pt x="1158174" y="757927"/>
                  <a:pt x="1142812" y="770961"/>
                  <a:pt x="1135117" y="788276"/>
                </a:cubicBezTo>
                <a:cubicBezTo>
                  <a:pt x="1121618" y="818648"/>
                  <a:pt x="1114096" y="851338"/>
                  <a:pt x="1103586" y="882869"/>
                </a:cubicBezTo>
                <a:lnTo>
                  <a:pt x="1087820" y="930166"/>
                </a:lnTo>
                <a:cubicBezTo>
                  <a:pt x="1082565" y="945931"/>
                  <a:pt x="1081273" y="963635"/>
                  <a:pt x="1072055" y="977462"/>
                </a:cubicBezTo>
                <a:cubicBezTo>
                  <a:pt x="1061545" y="993228"/>
                  <a:pt x="1048998" y="1007812"/>
                  <a:pt x="1040524" y="1024759"/>
                </a:cubicBezTo>
                <a:cubicBezTo>
                  <a:pt x="1012350" y="1081106"/>
                  <a:pt x="1039551" y="1124178"/>
                  <a:pt x="930165" y="1135117"/>
                </a:cubicBezTo>
                <a:lnTo>
                  <a:pt x="772510" y="1150883"/>
                </a:lnTo>
                <a:cubicBezTo>
                  <a:pt x="613521" y="1203877"/>
                  <a:pt x="860162" y="1123010"/>
                  <a:pt x="662151" y="1182414"/>
                </a:cubicBezTo>
                <a:cubicBezTo>
                  <a:pt x="630316" y="1191965"/>
                  <a:pt x="599089" y="1203435"/>
                  <a:pt x="567558" y="1213945"/>
                </a:cubicBezTo>
                <a:lnTo>
                  <a:pt x="520262" y="1229710"/>
                </a:lnTo>
                <a:lnTo>
                  <a:pt x="472965" y="1245476"/>
                </a:lnTo>
                <a:lnTo>
                  <a:pt x="425669" y="1261242"/>
                </a:lnTo>
                <a:cubicBezTo>
                  <a:pt x="368168" y="1433737"/>
                  <a:pt x="464483" y="1177066"/>
                  <a:pt x="362607" y="1340069"/>
                </a:cubicBezTo>
                <a:cubicBezTo>
                  <a:pt x="344992" y="1368254"/>
                  <a:pt x="341586" y="1403131"/>
                  <a:pt x="331076" y="1434662"/>
                </a:cubicBezTo>
                <a:cubicBezTo>
                  <a:pt x="325821" y="1450428"/>
                  <a:pt x="324528" y="1468132"/>
                  <a:pt x="315310" y="1481959"/>
                </a:cubicBezTo>
                <a:cubicBezTo>
                  <a:pt x="304800" y="1497724"/>
                  <a:pt x="291474" y="1511940"/>
                  <a:pt x="283779" y="1529255"/>
                </a:cubicBezTo>
                <a:cubicBezTo>
                  <a:pt x="270280" y="1559627"/>
                  <a:pt x="262758" y="1592317"/>
                  <a:pt x="252248" y="1623848"/>
                </a:cubicBezTo>
                <a:lnTo>
                  <a:pt x="220717" y="1718442"/>
                </a:lnTo>
                <a:lnTo>
                  <a:pt x="110358" y="2049517"/>
                </a:lnTo>
                <a:lnTo>
                  <a:pt x="78827" y="2144110"/>
                </a:lnTo>
                <a:cubicBezTo>
                  <a:pt x="78825" y="2144115"/>
                  <a:pt x="47299" y="2238700"/>
                  <a:pt x="47296" y="2238704"/>
                </a:cubicBezTo>
                <a:cubicBezTo>
                  <a:pt x="11642" y="2292184"/>
                  <a:pt x="29163" y="2272602"/>
                  <a:pt x="0" y="2301766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олилиния 57"/>
          <p:cNvSpPr/>
          <p:nvPr/>
        </p:nvSpPr>
        <p:spPr>
          <a:xfrm>
            <a:off x="2602080" y="2995560"/>
            <a:ext cx="6368760" cy="1749600"/>
          </a:xfrm>
          <a:custGeom>
            <a:avLst/>
            <a:gdLst/>
            <a:ahLst/>
            <a:rect l="l" t="t" r="r" b="b"/>
            <a:pathLst>
              <a:path w="6369269" h="1749973">
                <a:moveTo>
                  <a:pt x="6369269" y="0"/>
                </a:moveTo>
                <a:cubicBezTo>
                  <a:pt x="6134993" y="78092"/>
                  <a:pt x="6307891" y="30345"/>
                  <a:pt x="5833242" y="47297"/>
                </a:cubicBezTo>
                <a:cubicBezTo>
                  <a:pt x="5737938" y="71122"/>
                  <a:pt x="5790732" y="56211"/>
                  <a:pt x="5675587" y="94593"/>
                </a:cubicBezTo>
                <a:lnTo>
                  <a:pt x="5628290" y="110359"/>
                </a:lnTo>
                <a:cubicBezTo>
                  <a:pt x="5597271" y="141377"/>
                  <a:pt x="5526330" y="218500"/>
                  <a:pt x="5486400" y="220718"/>
                </a:cubicBezTo>
                <a:cubicBezTo>
                  <a:pt x="5128975" y="240574"/>
                  <a:pt x="5297119" y="229733"/>
                  <a:pt x="4981904" y="252249"/>
                </a:cubicBezTo>
                <a:cubicBezTo>
                  <a:pt x="4602576" y="328112"/>
                  <a:pt x="5113603" y="230781"/>
                  <a:pt x="4035973" y="283780"/>
                </a:cubicBezTo>
                <a:cubicBezTo>
                  <a:pt x="4002777" y="285413"/>
                  <a:pt x="3972911" y="304801"/>
                  <a:pt x="3941380" y="315311"/>
                </a:cubicBezTo>
                <a:lnTo>
                  <a:pt x="3846787" y="346842"/>
                </a:lnTo>
                <a:cubicBezTo>
                  <a:pt x="3831021" y="352097"/>
                  <a:pt x="3816059" y="361332"/>
                  <a:pt x="3799490" y="362607"/>
                </a:cubicBezTo>
                <a:lnTo>
                  <a:pt x="3594538" y="378373"/>
                </a:lnTo>
                <a:cubicBezTo>
                  <a:pt x="3578773" y="383628"/>
                  <a:pt x="3558993" y="382387"/>
                  <a:pt x="3547242" y="394138"/>
                </a:cubicBezTo>
                <a:cubicBezTo>
                  <a:pt x="3520446" y="420934"/>
                  <a:pt x="3510976" y="461935"/>
                  <a:pt x="3484180" y="488731"/>
                </a:cubicBezTo>
                <a:lnTo>
                  <a:pt x="3436883" y="536028"/>
                </a:lnTo>
                <a:cubicBezTo>
                  <a:pt x="3431628" y="551793"/>
                  <a:pt x="3429188" y="568797"/>
                  <a:pt x="3421118" y="583324"/>
                </a:cubicBezTo>
                <a:cubicBezTo>
                  <a:pt x="3376550" y="663548"/>
                  <a:pt x="3374365" y="661610"/>
                  <a:pt x="3326524" y="709449"/>
                </a:cubicBezTo>
                <a:cubicBezTo>
                  <a:pt x="3321269" y="725214"/>
                  <a:pt x="3324282" y="747086"/>
                  <a:pt x="3310759" y="756745"/>
                </a:cubicBezTo>
                <a:cubicBezTo>
                  <a:pt x="3283713" y="776063"/>
                  <a:pt x="3216166" y="788276"/>
                  <a:pt x="3216166" y="788276"/>
                </a:cubicBezTo>
                <a:cubicBezTo>
                  <a:pt x="3192255" y="804217"/>
                  <a:pt x="3154207" y="835573"/>
                  <a:pt x="3121573" y="835573"/>
                </a:cubicBezTo>
                <a:cubicBezTo>
                  <a:pt x="3104954" y="835573"/>
                  <a:pt x="3090042" y="825062"/>
                  <a:pt x="3074276" y="819807"/>
                </a:cubicBezTo>
                <a:cubicBezTo>
                  <a:pt x="2885090" y="825062"/>
                  <a:pt x="2695447" y="821418"/>
                  <a:pt x="2506718" y="835573"/>
                </a:cubicBezTo>
                <a:cubicBezTo>
                  <a:pt x="2434172" y="841014"/>
                  <a:pt x="2457864" y="871191"/>
                  <a:pt x="2412124" y="898635"/>
                </a:cubicBezTo>
                <a:cubicBezTo>
                  <a:pt x="2397874" y="907185"/>
                  <a:pt x="2380593" y="909145"/>
                  <a:pt x="2364828" y="914400"/>
                </a:cubicBezTo>
                <a:cubicBezTo>
                  <a:pt x="2333297" y="935421"/>
                  <a:pt x="2291256" y="945931"/>
                  <a:pt x="2270235" y="977462"/>
                </a:cubicBezTo>
                <a:cubicBezTo>
                  <a:pt x="2229486" y="1038586"/>
                  <a:pt x="2256680" y="1018767"/>
                  <a:pt x="2191407" y="1040524"/>
                </a:cubicBezTo>
                <a:cubicBezTo>
                  <a:pt x="2065281" y="1124609"/>
                  <a:pt x="2217686" y="1014246"/>
                  <a:pt x="2112580" y="1119352"/>
                </a:cubicBezTo>
                <a:cubicBezTo>
                  <a:pt x="2099182" y="1132750"/>
                  <a:pt x="2081049" y="1140373"/>
                  <a:pt x="2065283" y="1150883"/>
                </a:cubicBezTo>
                <a:cubicBezTo>
                  <a:pt x="2002484" y="1245083"/>
                  <a:pt x="2071067" y="1163180"/>
                  <a:pt x="1986456" y="1213945"/>
                </a:cubicBezTo>
                <a:cubicBezTo>
                  <a:pt x="1973710" y="1221592"/>
                  <a:pt x="1966531" y="1236191"/>
                  <a:pt x="1954924" y="1245476"/>
                </a:cubicBezTo>
                <a:cubicBezTo>
                  <a:pt x="1940128" y="1257312"/>
                  <a:pt x="1924575" y="1268533"/>
                  <a:pt x="1907628" y="1277007"/>
                </a:cubicBezTo>
                <a:cubicBezTo>
                  <a:pt x="1777085" y="1342279"/>
                  <a:pt x="1948577" y="1233942"/>
                  <a:pt x="1813035" y="1324304"/>
                </a:cubicBezTo>
                <a:cubicBezTo>
                  <a:pt x="1802525" y="1340069"/>
                  <a:pt x="1797572" y="1361558"/>
                  <a:pt x="1781504" y="1371600"/>
                </a:cubicBezTo>
                <a:cubicBezTo>
                  <a:pt x="1753319" y="1389215"/>
                  <a:pt x="1686911" y="1403131"/>
                  <a:pt x="1686911" y="1403131"/>
                </a:cubicBezTo>
                <a:cubicBezTo>
                  <a:pt x="1676401" y="1418897"/>
                  <a:pt x="1672328" y="1441954"/>
                  <a:pt x="1655380" y="1450428"/>
                </a:cubicBezTo>
                <a:cubicBezTo>
                  <a:pt x="1626789" y="1464724"/>
                  <a:pt x="1591992" y="1459259"/>
                  <a:pt x="1560787" y="1466193"/>
                </a:cubicBezTo>
                <a:cubicBezTo>
                  <a:pt x="1544564" y="1469798"/>
                  <a:pt x="1529256" y="1476704"/>
                  <a:pt x="1513490" y="1481959"/>
                </a:cubicBezTo>
                <a:cubicBezTo>
                  <a:pt x="1355835" y="1476704"/>
                  <a:pt x="1197722" y="1479293"/>
                  <a:pt x="1040524" y="1466193"/>
                </a:cubicBezTo>
                <a:cubicBezTo>
                  <a:pt x="1007402" y="1463433"/>
                  <a:pt x="977462" y="1445172"/>
                  <a:pt x="945931" y="1434662"/>
                </a:cubicBezTo>
                <a:lnTo>
                  <a:pt x="898635" y="1418897"/>
                </a:lnTo>
                <a:cubicBezTo>
                  <a:pt x="756745" y="1424152"/>
                  <a:pt x="614638" y="1425217"/>
                  <a:pt x="472966" y="1434662"/>
                </a:cubicBezTo>
                <a:cubicBezTo>
                  <a:pt x="427242" y="1437710"/>
                  <a:pt x="417208" y="1462541"/>
                  <a:pt x="378373" y="1481959"/>
                </a:cubicBezTo>
                <a:cubicBezTo>
                  <a:pt x="342340" y="1499975"/>
                  <a:pt x="288219" y="1504497"/>
                  <a:pt x="252249" y="1513490"/>
                </a:cubicBezTo>
                <a:cubicBezTo>
                  <a:pt x="236127" y="1517521"/>
                  <a:pt x="220718" y="1524000"/>
                  <a:pt x="204952" y="1529255"/>
                </a:cubicBezTo>
                <a:cubicBezTo>
                  <a:pt x="165327" y="1648135"/>
                  <a:pt x="223387" y="1506212"/>
                  <a:pt x="141890" y="1608083"/>
                </a:cubicBezTo>
                <a:cubicBezTo>
                  <a:pt x="80738" y="1684522"/>
                  <a:pt x="182019" y="1636749"/>
                  <a:pt x="78828" y="1671145"/>
                </a:cubicBezTo>
                <a:cubicBezTo>
                  <a:pt x="63062" y="1681655"/>
                  <a:pt x="44929" y="1689278"/>
                  <a:pt x="31531" y="1702676"/>
                </a:cubicBezTo>
                <a:cubicBezTo>
                  <a:pt x="18133" y="1716074"/>
                  <a:pt x="0" y="1749973"/>
                  <a:pt x="0" y="1749973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олилиния 58"/>
          <p:cNvSpPr/>
          <p:nvPr/>
        </p:nvSpPr>
        <p:spPr>
          <a:xfrm>
            <a:off x="5565600" y="3973680"/>
            <a:ext cx="2963880" cy="1653840"/>
          </a:xfrm>
          <a:custGeom>
            <a:avLst/>
            <a:gdLst/>
            <a:ahLst/>
            <a:rect l="l" t="t" r="r" b="b"/>
            <a:pathLst>
              <a:path w="2965192" h="1655380">
                <a:moveTo>
                  <a:pt x="0" y="0"/>
                </a:moveTo>
                <a:cubicBezTo>
                  <a:pt x="3987" y="121"/>
                  <a:pt x="702119" y="17409"/>
                  <a:pt x="819806" y="31531"/>
                </a:cubicBezTo>
                <a:cubicBezTo>
                  <a:pt x="852806" y="35491"/>
                  <a:pt x="882869" y="52551"/>
                  <a:pt x="914400" y="63062"/>
                </a:cubicBezTo>
                <a:cubicBezTo>
                  <a:pt x="930165" y="68317"/>
                  <a:pt x="947869" y="69610"/>
                  <a:pt x="961696" y="78828"/>
                </a:cubicBezTo>
                <a:cubicBezTo>
                  <a:pt x="977462" y="89338"/>
                  <a:pt x="991678" y="102664"/>
                  <a:pt x="1008993" y="110359"/>
                </a:cubicBezTo>
                <a:cubicBezTo>
                  <a:pt x="1039365" y="123858"/>
                  <a:pt x="1072055" y="131380"/>
                  <a:pt x="1103586" y="141890"/>
                </a:cubicBezTo>
                <a:cubicBezTo>
                  <a:pt x="1119351" y="147145"/>
                  <a:pt x="1137055" y="148438"/>
                  <a:pt x="1150882" y="157656"/>
                </a:cubicBezTo>
                <a:cubicBezTo>
                  <a:pt x="1166648" y="168166"/>
                  <a:pt x="1180864" y="181492"/>
                  <a:pt x="1198179" y="189187"/>
                </a:cubicBezTo>
                <a:cubicBezTo>
                  <a:pt x="1367032" y="264233"/>
                  <a:pt x="1233030" y="180890"/>
                  <a:pt x="1340069" y="252249"/>
                </a:cubicBezTo>
                <a:cubicBezTo>
                  <a:pt x="1350579" y="268014"/>
                  <a:pt x="1355532" y="289503"/>
                  <a:pt x="1371600" y="299545"/>
                </a:cubicBezTo>
                <a:cubicBezTo>
                  <a:pt x="1399785" y="317160"/>
                  <a:pt x="1466193" y="331076"/>
                  <a:pt x="1466193" y="331076"/>
                </a:cubicBezTo>
                <a:cubicBezTo>
                  <a:pt x="1541144" y="381044"/>
                  <a:pt x="1495513" y="356615"/>
                  <a:pt x="1608082" y="394138"/>
                </a:cubicBezTo>
                <a:cubicBezTo>
                  <a:pt x="1623848" y="399393"/>
                  <a:pt x="1641552" y="400686"/>
                  <a:pt x="1655379" y="409904"/>
                </a:cubicBezTo>
                <a:cubicBezTo>
                  <a:pt x="1671144" y="420414"/>
                  <a:pt x="1685360" y="433740"/>
                  <a:pt x="1702675" y="441435"/>
                </a:cubicBezTo>
                <a:cubicBezTo>
                  <a:pt x="1733047" y="454934"/>
                  <a:pt x="1797269" y="472966"/>
                  <a:pt x="1797269" y="472966"/>
                </a:cubicBezTo>
                <a:cubicBezTo>
                  <a:pt x="1855529" y="560355"/>
                  <a:pt x="1795467" y="491234"/>
                  <a:pt x="1876096" y="536028"/>
                </a:cubicBezTo>
                <a:cubicBezTo>
                  <a:pt x="1909223" y="554432"/>
                  <a:pt x="1934738" y="587106"/>
                  <a:pt x="1970689" y="599090"/>
                </a:cubicBezTo>
                <a:lnTo>
                  <a:pt x="2065282" y="630621"/>
                </a:lnTo>
                <a:cubicBezTo>
                  <a:pt x="2075792" y="646387"/>
                  <a:pt x="2082017" y="666081"/>
                  <a:pt x="2096813" y="677918"/>
                </a:cubicBezTo>
                <a:cubicBezTo>
                  <a:pt x="2109790" y="688299"/>
                  <a:pt x="2129246" y="686251"/>
                  <a:pt x="2144110" y="693683"/>
                </a:cubicBezTo>
                <a:cubicBezTo>
                  <a:pt x="2161057" y="702157"/>
                  <a:pt x="2174459" y="716740"/>
                  <a:pt x="2191406" y="725214"/>
                </a:cubicBezTo>
                <a:cubicBezTo>
                  <a:pt x="2206270" y="732646"/>
                  <a:pt x="2223839" y="733548"/>
                  <a:pt x="2238703" y="740980"/>
                </a:cubicBezTo>
                <a:cubicBezTo>
                  <a:pt x="2341868" y="792562"/>
                  <a:pt x="2228692" y="750071"/>
                  <a:pt x="2333296" y="819807"/>
                </a:cubicBezTo>
                <a:cubicBezTo>
                  <a:pt x="2347123" y="829025"/>
                  <a:pt x="2365729" y="828141"/>
                  <a:pt x="2380593" y="835573"/>
                </a:cubicBezTo>
                <a:cubicBezTo>
                  <a:pt x="2397540" y="844047"/>
                  <a:pt x="2412124" y="856594"/>
                  <a:pt x="2427889" y="867104"/>
                </a:cubicBezTo>
                <a:cubicBezTo>
                  <a:pt x="2438399" y="882869"/>
                  <a:pt x="2445160" y="901923"/>
                  <a:pt x="2459420" y="914400"/>
                </a:cubicBezTo>
                <a:cubicBezTo>
                  <a:pt x="2487939" y="939354"/>
                  <a:pt x="2518062" y="965478"/>
                  <a:pt x="2554013" y="977462"/>
                </a:cubicBezTo>
                <a:lnTo>
                  <a:pt x="2648606" y="1008993"/>
                </a:lnTo>
                <a:cubicBezTo>
                  <a:pt x="2664372" y="1014248"/>
                  <a:pt x="2682076" y="1015541"/>
                  <a:pt x="2695903" y="1024759"/>
                </a:cubicBezTo>
                <a:lnTo>
                  <a:pt x="2743200" y="1056290"/>
                </a:lnTo>
                <a:cubicBezTo>
                  <a:pt x="2793167" y="1131241"/>
                  <a:pt x="2768740" y="1085612"/>
                  <a:pt x="2806262" y="1198180"/>
                </a:cubicBezTo>
                <a:cubicBezTo>
                  <a:pt x="2811517" y="1213945"/>
                  <a:pt x="2812809" y="1231649"/>
                  <a:pt x="2822027" y="1245476"/>
                </a:cubicBezTo>
                <a:cubicBezTo>
                  <a:pt x="2832537" y="1261242"/>
                  <a:pt x="2845863" y="1275458"/>
                  <a:pt x="2853558" y="1292773"/>
                </a:cubicBezTo>
                <a:cubicBezTo>
                  <a:pt x="2867057" y="1323145"/>
                  <a:pt x="2874579" y="1355835"/>
                  <a:pt x="2885089" y="1387366"/>
                </a:cubicBezTo>
                <a:lnTo>
                  <a:pt x="2916620" y="1481959"/>
                </a:lnTo>
                <a:cubicBezTo>
                  <a:pt x="2916623" y="1481969"/>
                  <a:pt x="2948148" y="1576541"/>
                  <a:pt x="2948151" y="1576552"/>
                </a:cubicBezTo>
                <a:cubicBezTo>
                  <a:pt x="2965192" y="1644712"/>
                  <a:pt x="2963917" y="1617946"/>
                  <a:pt x="2963917" y="165538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олилиния 59"/>
          <p:cNvSpPr/>
          <p:nvPr/>
        </p:nvSpPr>
        <p:spPr>
          <a:xfrm>
            <a:off x="7610400" y="4619520"/>
            <a:ext cx="227160" cy="1717920"/>
          </a:xfrm>
          <a:custGeom>
            <a:avLst/>
            <a:gdLst/>
            <a:ahLst/>
            <a:rect l="l" t="t" r="r" b="b"/>
            <a:pathLst>
              <a:path w="226531" h="1718441">
                <a:moveTo>
                  <a:pt x="225089" y="1718441"/>
                </a:moveTo>
                <a:cubicBezTo>
                  <a:pt x="219834" y="1676400"/>
                  <a:pt x="226531" y="1631034"/>
                  <a:pt x="209324" y="1592317"/>
                </a:cubicBezTo>
                <a:cubicBezTo>
                  <a:pt x="202575" y="1577131"/>
                  <a:pt x="171686" y="1590074"/>
                  <a:pt x="162027" y="1576551"/>
                </a:cubicBezTo>
                <a:cubicBezTo>
                  <a:pt x="142709" y="1549505"/>
                  <a:pt x="141006" y="1513489"/>
                  <a:pt x="130496" y="1481958"/>
                </a:cubicBezTo>
                <a:lnTo>
                  <a:pt x="98965" y="1387365"/>
                </a:lnTo>
                <a:lnTo>
                  <a:pt x="83199" y="1324303"/>
                </a:lnTo>
                <a:cubicBezTo>
                  <a:pt x="77944" y="1051034"/>
                  <a:pt x="77366" y="777635"/>
                  <a:pt x="67434" y="504496"/>
                </a:cubicBezTo>
                <a:cubicBezTo>
                  <a:pt x="66830" y="487889"/>
                  <a:pt x="56233" y="473179"/>
                  <a:pt x="51668" y="457200"/>
                </a:cubicBezTo>
                <a:cubicBezTo>
                  <a:pt x="20514" y="348162"/>
                  <a:pt x="49903" y="432608"/>
                  <a:pt x="20137" y="283779"/>
                </a:cubicBezTo>
                <a:cubicBezTo>
                  <a:pt x="16878" y="267483"/>
                  <a:pt x="5294" y="253075"/>
                  <a:pt x="4372" y="236482"/>
                </a:cubicBezTo>
                <a:cubicBezTo>
                  <a:pt x="0" y="157776"/>
                  <a:pt x="4372" y="78827"/>
                  <a:pt x="4372" y="0"/>
                </a:cubicBezTo>
              </a:path>
            </a:pathLst>
          </a:custGeom>
          <a:noFill/>
          <a:ln w="7632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олилиния 60"/>
          <p:cNvSpPr/>
          <p:nvPr/>
        </p:nvSpPr>
        <p:spPr>
          <a:xfrm>
            <a:off x="4043520" y="2989440"/>
            <a:ext cx="4916160" cy="1536480"/>
          </a:xfrm>
          <a:custGeom>
            <a:avLst/>
            <a:gdLst/>
            <a:ahLst/>
            <a:rect l="l" t="t" r="r" b="b"/>
            <a:pathLst>
              <a:path w="4916193" h="1537302">
                <a:moveTo>
                  <a:pt x="4910938" y="6184"/>
                </a:moveTo>
                <a:cubicBezTo>
                  <a:pt x="4916193" y="6184"/>
                  <a:pt x="4836787" y="13594"/>
                  <a:pt x="4800579" y="21950"/>
                </a:cubicBezTo>
                <a:cubicBezTo>
                  <a:pt x="4768194" y="29424"/>
                  <a:pt x="4737517" y="42971"/>
                  <a:pt x="4705986" y="53481"/>
                </a:cubicBezTo>
                <a:lnTo>
                  <a:pt x="4658690" y="69246"/>
                </a:lnTo>
                <a:cubicBezTo>
                  <a:pt x="4642924" y="74501"/>
                  <a:pt x="4627785" y="82280"/>
                  <a:pt x="4611393" y="85012"/>
                </a:cubicBezTo>
                <a:cubicBezTo>
                  <a:pt x="4459544" y="110319"/>
                  <a:pt x="4548635" y="97883"/>
                  <a:pt x="4343379" y="116543"/>
                </a:cubicBezTo>
                <a:cubicBezTo>
                  <a:pt x="4236910" y="152032"/>
                  <a:pt x="4367965" y="111080"/>
                  <a:pt x="4201490" y="148074"/>
                </a:cubicBezTo>
                <a:cubicBezTo>
                  <a:pt x="4185267" y="151679"/>
                  <a:pt x="4169959" y="158584"/>
                  <a:pt x="4154193" y="163839"/>
                </a:cubicBezTo>
                <a:cubicBezTo>
                  <a:pt x="4138427" y="174349"/>
                  <a:pt x="4121692" y="183533"/>
                  <a:pt x="4106896" y="195370"/>
                </a:cubicBezTo>
                <a:cubicBezTo>
                  <a:pt x="4095289" y="204656"/>
                  <a:pt x="4088111" y="219254"/>
                  <a:pt x="4075365" y="226902"/>
                </a:cubicBezTo>
                <a:cubicBezTo>
                  <a:pt x="4061115" y="235452"/>
                  <a:pt x="4044364" y="239408"/>
                  <a:pt x="4028069" y="242667"/>
                </a:cubicBezTo>
                <a:cubicBezTo>
                  <a:pt x="3948146" y="258652"/>
                  <a:pt x="3817417" y="267550"/>
                  <a:pt x="3744290" y="274198"/>
                </a:cubicBezTo>
                <a:lnTo>
                  <a:pt x="3649696" y="305729"/>
                </a:lnTo>
                <a:cubicBezTo>
                  <a:pt x="3452745" y="371380"/>
                  <a:pt x="3619082" y="320939"/>
                  <a:pt x="3129434" y="337260"/>
                </a:cubicBezTo>
                <a:cubicBezTo>
                  <a:pt x="3054877" y="342231"/>
                  <a:pt x="2892455" y="345267"/>
                  <a:pt x="2798358" y="368791"/>
                </a:cubicBezTo>
                <a:cubicBezTo>
                  <a:pt x="2687415" y="396526"/>
                  <a:pt x="2723108" y="408230"/>
                  <a:pt x="2609172" y="416088"/>
                </a:cubicBezTo>
                <a:cubicBezTo>
                  <a:pt x="2488476" y="424412"/>
                  <a:pt x="2367434" y="426598"/>
                  <a:pt x="2246565" y="431853"/>
                </a:cubicBezTo>
                <a:cubicBezTo>
                  <a:pt x="2225544" y="437108"/>
                  <a:pt x="2204257" y="441393"/>
                  <a:pt x="2183503" y="447619"/>
                </a:cubicBezTo>
                <a:cubicBezTo>
                  <a:pt x="2151668" y="457170"/>
                  <a:pt x="2088910" y="479150"/>
                  <a:pt x="2088910" y="479150"/>
                </a:cubicBezTo>
                <a:lnTo>
                  <a:pt x="1931255" y="715633"/>
                </a:lnTo>
                <a:cubicBezTo>
                  <a:pt x="1920745" y="731398"/>
                  <a:pt x="1917699" y="756937"/>
                  <a:pt x="1899724" y="762929"/>
                </a:cubicBezTo>
                <a:cubicBezTo>
                  <a:pt x="1756221" y="810764"/>
                  <a:pt x="1982858" y="737390"/>
                  <a:pt x="1773600" y="794460"/>
                </a:cubicBezTo>
                <a:cubicBezTo>
                  <a:pt x="1741535" y="803205"/>
                  <a:pt x="1710538" y="815481"/>
                  <a:pt x="1679007" y="825991"/>
                </a:cubicBezTo>
                <a:lnTo>
                  <a:pt x="1584414" y="857522"/>
                </a:lnTo>
                <a:cubicBezTo>
                  <a:pt x="1568648" y="862777"/>
                  <a:pt x="1550944" y="864070"/>
                  <a:pt x="1537117" y="873288"/>
                </a:cubicBezTo>
                <a:cubicBezTo>
                  <a:pt x="1521352" y="883798"/>
                  <a:pt x="1508101" y="899834"/>
                  <a:pt x="1489821" y="904819"/>
                </a:cubicBezTo>
                <a:cubicBezTo>
                  <a:pt x="1448945" y="915967"/>
                  <a:pt x="1405738" y="915329"/>
                  <a:pt x="1363696" y="920584"/>
                </a:cubicBezTo>
                <a:cubicBezTo>
                  <a:pt x="1186335" y="964924"/>
                  <a:pt x="1280692" y="947803"/>
                  <a:pt x="1079917" y="967881"/>
                </a:cubicBezTo>
                <a:cubicBezTo>
                  <a:pt x="961042" y="1007505"/>
                  <a:pt x="1107567" y="954055"/>
                  <a:pt x="985324" y="1015177"/>
                </a:cubicBezTo>
                <a:cubicBezTo>
                  <a:pt x="854785" y="1080447"/>
                  <a:pt x="1026268" y="972115"/>
                  <a:pt x="890731" y="1062474"/>
                </a:cubicBezTo>
                <a:cubicBezTo>
                  <a:pt x="848688" y="1188599"/>
                  <a:pt x="911752" y="1041451"/>
                  <a:pt x="827669" y="1125536"/>
                </a:cubicBezTo>
                <a:cubicBezTo>
                  <a:pt x="815918" y="1137287"/>
                  <a:pt x="822284" y="1159856"/>
                  <a:pt x="811903" y="1172833"/>
                </a:cubicBezTo>
                <a:cubicBezTo>
                  <a:pt x="800067" y="1187629"/>
                  <a:pt x="780372" y="1193854"/>
                  <a:pt x="764607" y="1204364"/>
                </a:cubicBezTo>
                <a:cubicBezTo>
                  <a:pt x="754097" y="1220129"/>
                  <a:pt x="748841" y="1241150"/>
                  <a:pt x="733076" y="1251660"/>
                </a:cubicBezTo>
                <a:cubicBezTo>
                  <a:pt x="717395" y="1262114"/>
                  <a:pt x="575736" y="1283138"/>
                  <a:pt x="575421" y="1283191"/>
                </a:cubicBezTo>
                <a:cubicBezTo>
                  <a:pt x="559655" y="1288446"/>
                  <a:pt x="544157" y="1294584"/>
                  <a:pt x="528124" y="1298957"/>
                </a:cubicBezTo>
                <a:cubicBezTo>
                  <a:pt x="332516" y="1352305"/>
                  <a:pt x="463575" y="1309964"/>
                  <a:pt x="354703" y="1346253"/>
                </a:cubicBezTo>
                <a:cubicBezTo>
                  <a:pt x="338938" y="1356763"/>
                  <a:pt x="319243" y="1362988"/>
                  <a:pt x="307407" y="1377784"/>
                </a:cubicBezTo>
                <a:cubicBezTo>
                  <a:pt x="246257" y="1454222"/>
                  <a:pt x="347535" y="1406450"/>
                  <a:pt x="244345" y="1440846"/>
                </a:cubicBezTo>
                <a:cubicBezTo>
                  <a:pt x="239090" y="1456612"/>
                  <a:pt x="242102" y="1478484"/>
                  <a:pt x="228579" y="1488143"/>
                </a:cubicBezTo>
                <a:cubicBezTo>
                  <a:pt x="201533" y="1507461"/>
                  <a:pt x="133986" y="1519674"/>
                  <a:pt x="133986" y="1519674"/>
                </a:cubicBezTo>
                <a:cubicBezTo>
                  <a:pt x="0" y="1475010"/>
                  <a:pt x="163368" y="1537302"/>
                  <a:pt x="55158" y="1472377"/>
                </a:cubicBezTo>
                <a:cubicBezTo>
                  <a:pt x="40908" y="1463827"/>
                  <a:pt x="23627" y="1461867"/>
                  <a:pt x="7862" y="1456612"/>
                </a:cubicBezTo>
                <a:cubicBezTo>
                  <a:pt x="23627" y="1446102"/>
                  <a:pt x="37009" y="1430526"/>
                  <a:pt x="55158" y="1425081"/>
                </a:cubicBezTo>
                <a:cubicBezTo>
                  <a:pt x="90751" y="1414403"/>
                  <a:pt x="129079" y="1416603"/>
                  <a:pt x="165517" y="1409315"/>
                </a:cubicBezTo>
                <a:cubicBezTo>
                  <a:pt x="181813" y="1406056"/>
                  <a:pt x="197048" y="1398805"/>
                  <a:pt x="212814" y="1393550"/>
                </a:cubicBezTo>
                <a:cubicBezTo>
                  <a:pt x="228579" y="1383040"/>
                  <a:pt x="243163" y="1370493"/>
                  <a:pt x="260110" y="1362019"/>
                </a:cubicBezTo>
                <a:cubicBezTo>
                  <a:pt x="390653" y="1296747"/>
                  <a:pt x="219161" y="1405084"/>
                  <a:pt x="354703" y="1314722"/>
                </a:cubicBezTo>
                <a:cubicBezTo>
                  <a:pt x="365213" y="1298957"/>
                  <a:pt x="371438" y="1279262"/>
                  <a:pt x="386234" y="1267426"/>
                </a:cubicBezTo>
                <a:cubicBezTo>
                  <a:pt x="399211" y="1257045"/>
                  <a:pt x="418667" y="1259092"/>
                  <a:pt x="433531" y="1251660"/>
                </a:cubicBezTo>
                <a:cubicBezTo>
                  <a:pt x="450478" y="1243186"/>
                  <a:pt x="465062" y="1230639"/>
                  <a:pt x="480827" y="1220129"/>
                </a:cubicBezTo>
                <a:cubicBezTo>
                  <a:pt x="501000" y="1189870"/>
                  <a:pt x="542653" y="1120693"/>
                  <a:pt x="575421" y="1109770"/>
                </a:cubicBezTo>
                <a:lnTo>
                  <a:pt x="622717" y="1094005"/>
                </a:lnTo>
                <a:cubicBezTo>
                  <a:pt x="697670" y="1044037"/>
                  <a:pt x="652037" y="1068467"/>
                  <a:pt x="764607" y="1030943"/>
                </a:cubicBezTo>
                <a:lnTo>
                  <a:pt x="811903" y="1015177"/>
                </a:lnTo>
                <a:lnTo>
                  <a:pt x="859200" y="999412"/>
                </a:lnTo>
                <a:cubicBezTo>
                  <a:pt x="967620" y="927132"/>
                  <a:pt x="917842" y="948334"/>
                  <a:pt x="1001090" y="920584"/>
                </a:cubicBezTo>
                <a:cubicBezTo>
                  <a:pt x="1011600" y="904819"/>
                  <a:pt x="1016553" y="883330"/>
                  <a:pt x="1032621" y="873288"/>
                </a:cubicBezTo>
                <a:cubicBezTo>
                  <a:pt x="1125531" y="815220"/>
                  <a:pt x="1384442" y="828218"/>
                  <a:pt x="1426758" y="825991"/>
                </a:cubicBezTo>
                <a:cubicBezTo>
                  <a:pt x="1534875" y="789954"/>
                  <a:pt x="1400681" y="832510"/>
                  <a:pt x="1552883" y="794460"/>
                </a:cubicBezTo>
                <a:cubicBezTo>
                  <a:pt x="1569005" y="790430"/>
                  <a:pt x="1584200" y="783260"/>
                  <a:pt x="1600179" y="778695"/>
                </a:cubicBezTo>
                <a:cubicBezTo>
                  <a:pt x="1621013" y="772742"/>
                  <a:pt x="1642487" y="769155"/>
                  <a:pt x="1663241" y="762929"/>
                </a:cubicBezTo>
                <a:cubicBezTo>
                  <a:pt x="1695076" y="753378"/>
                  <a:pt x="1730179" y="749834"/>
                  <a:pt x="1757834" y="731398"/>
                </a:cubicBezTo>
                <a:lnTo>
                  <a:pt x="1852427" y="668336"/>
                </a:lnTo>
                <a:lnTo>
                  <a:pt x="1899724" y="636805"/>
                </a:lnTo>
                <a:cubicBezTo>
                  <a:pt x="1927474" y="553557"/>
                  <a:pt x="1901662" y="598727"/>
                  <a:pt x="2010083" y="526446"/>
                </a:cubicBezTo>
                <a:lnTo>
                  <a:pt x="2199269" y="400322"/>
                </a:lnTo>
                <a:cubicBezTo>
                  <a:pt x="2215034" y="389812"/>
                  <a:pt x="2228590" y="374783"/>
                  <a:pt x="2246565" y="368791"/>
                </a:cubicBezTo>
                <a:lnTo>
                  <a:pt x="2341158" y="337260"/>
                </a:lnTo>
                <a:cubicBezTo>
                  <a:pt x="2351669" y="326750"/>
                  <a:pt x="2359395" y="312376"/>
                  <a:pt x="2372690" y="305729"/>
                </a:cubicBezTo>
                <a:cubicBezTo>
                  <a:pt x="2392070" y="296039"/>
                  <a:pt x="2414918" y="295917"/>
                  <a:pt x="2435752" y="289964"/>
                </a:cubicBezTo>
                <a:cubicBezTo>
                  <a:pt x="2535803" y="261378"/>
                  <a:pt x="2423511" y="282145"/>
                  <a:pt x="2577641" y="258433"/>
                </a:cubicBezTo>
                <a:cubicBezTo>
                  <a:pt x="2614369" y="252783"/>
                  <a:pt x="2650860" y="243885"/>
                  <a:pt x="2688000" y="242667"/>
                </a:cubicBezTo>
                <a:cubicBezTo>
                  <a:pt x="2971676" y="233366"/>
                  <a:pt x="3255559" y="232157"/>
                  <a:pt x="3539338" y="226902"/>
                </a:cubicBezTo>
                <a:lnTo>
                  <a:pt x="3696993" y="195370"/>
                </a:lnTo>
                <a:cubicBezTo>
                  <a:pt x="3723269" y="190115"/>
                  <a:pt x="3749077" y="181277"/>
                  <a:pt x="3775821" y="179605"/>
                </a:cubicBezTo>
                <a:lnTo>
                  <a:pt x="4028069" y="163839"/>
                </a:lnTo>
                <a:lnTo>
                  <a:pt x="4217255" y="100777"/>
                </a:lnTo>
                <a:lnTo>
                  <a:pt x="4264552" y="85012"/>
                </a:lnTo>
                <a:cubicBezTo>
                  <a:pt x="4280317" y="79757"/>
                  <a:pt x="4295552" y="72505"/>
                  <a:pt x="4311848" y="69246"/>
                </a:cubicBezTo>
                <a:lnTo>
                  <a:pt x="4390676" y="53481"/>
                </a:lnTo>
                <a:cubicBezTo>
                  <a:pt x="4422126" y="47763"/>
                  <a:pt x="4453413" y="40370"/>
                  <a:pt x="4485269" y="37715"/>
                </a:cubicBezTo>
                <a:cubicBezTo>
                  <a:pt x="4579681" y="29847"/>
                  <a:pt x="4674455" y="27205"/>
                  <a:pt x="4769048" y="21950"/>
                </a:cubicBezTo>
                <a:cubicBezTo>
                  <a:pt x="4878795" y="0"/>
                  <a:pt x="4905683" y="6184"/>
                  <a:pt x="4910938" y="618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85"/>
          <p:cNvGrpSpPr/>
          <p:nvPr/>
        </p:nvGrpSpPr>
        <p:grpSpPr>
          <a:xfrm>
            <a:off x="5143680" y="2714760"/>
            <a:ext cx="1009440" cy="645480"/>
            <a:chOff x="5143680" y="2714760"/>
            <a:chExt cx="1009440" cy="645480"/>
          </a:xfrm>
        </p:grpSpPr>
        <p:sp>
          <p:nvSpPr>
            <p:cNvPr id="255" name="Oval 76"/>
            <p:cNvSpPr/>
            <p:nvPr/>
          </p:nvSpPr>
          <p:spPr>
            <a:xfrm>
              <a:off x="5575320" y="2785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77"/>
            <p:cNvSpPr/>
            <p:nvPr/>
          </p:nvSpPr>
          <p:spPr>
            <a:xfrm>
              <a:off x="5791320" y="3001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78"/>
            <p:cNvSpPr/>
            <p:nvPr/>
          </p:nvSpPr>
          <p:spPr>
            <a:xfrm>
              <a:off x="5288040" y="285876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79"/>
            <p:cNvSpPr/>
            <p:nvPr/>
          </p:nvSpPr>
          <p:spPr>
            <a:xfrm>
              <a:off x="5864400" y="2785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80"/>
            <p:cNvSpPr/>
            <p:nvPr/>
          </p:nvSpPr>
          <p:spPr>
            <a:xfrm>
              <a:off x="5504040" y="307476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81"/>
            <p:cNvSpPr/>
            <p:nvPr/>
          </p:nvSpPr>
          <p:spPr>
            <a:xfrm>
              <a:off x="5143680" y="3001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82"/>
            <p:cNvSpPr/>
            <p:nvPr/>
          </p:nvSpPr>
          <p:spPr>
            <a:xfrm>
              <a:off x="5214960" y="3217680"/>
              <a:ext cx="7308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83"/>
            <p:cNvSpPr/>
            <p:nvPr/>
          </p:nvSpPr>
          <p:spPr>
            <a:xfrm>
              <a:off x="6080400" y="2714760"/>
              <a:ext cx="72720" cy="14256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85"/>
          <p:cNvGrpSpPr/>
          <p:nvPr/>
        </p:nvGrpSpPr>
        <p:grpSpPr>
          <a:xfrm>
            <a:off x="6072120" y="3786120"/>
            <a:ext cx="1009440" cy="646200"/>
            <a:chOff x="6072120" y="3786120"/>
            <a:chExt cx="1009440" cy="646200"/>
          </a:xfrm>
        </p:grpSpPr>
        <p:sp>
          <p:nvSpPr>
            <p:cNvPr id="264" name="Oval 76"/>
            <p:cNvSpPr/>
            <p:nvPr/>
          </p:nvSpPr>
          <p:spPr>
            <a:xfrm>
              <a:off x="6503760" y="3857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77"/>
            <p:cNvSpPr/>
            <p:nvPr/>
          </p:nvSpPr>
          <p:spPr>
            <a:xfrm>
              <a:off x="6719760" y="4073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78"/>
            <p:cNvSpPr/>
            <p:nvPr/>
          </p:nvSpPr>
          <p:spPr>
            <a:xfrm>
              <a:off x="6216480" y="39304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79"/>
            <p:cNvSpPr/>
            <p:nvPr/>
          </p:nvSpPr>
          <p:spPr>
            <a:xfrm>
              <a:off x="6792840" y="3857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80"/>
            <p:cNvSpPr/>
            <p:nvPr/>
          </p:nvSpPr>
          <p:spPr>
            <a:xfrm>
              <a:off x="6432480" y="414648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81"/>
            <p:cNvSpPr/>
            <p:nvPr/>
          </p:nvSpPr>
          <p:spPr>
            <a:xfrm>
              <a:off x="6072120" y="4073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82"/>
            <p:cNvSpPr/>
            <p:nvPr/>
          </p:nvSpPr>
          <p:spPr>
            <a:xfrm>
              <a:off x="6143400" y="4289400"/>
              <a:ext cx="7308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83"/>
            <p:cNvSpPr/>
            <p:nvPr/>
          </p:nvSpPr>
          <p:spPr>
            <a:xfrm>
              <a:off x="7008840" y="3786120"/>
              <a:ext cx="72720" cy="14292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Управляющая кнопка: в начало 79">
            <a:hlinkClick r:id="rId3" action="ppaction://hlinksldjump"/>
          </p:cNvPr>
          <p:cNvSpPr/>
          <p:nvPr/>
        </p:nvSpPr>
        <p:spPr>
          <a:xfrm>
            <a:off x="8429760" y="62150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8498" y="10800"/>
                </a:moveTo>
                <a:lnTo>
                  <a:pt x="19003" y="3794"/>
                </a:lnTo>
                <a:lnTo>
                  <a:pt x="19003" y="17806"/>
                </a:lnTo>
                <a:close/>
              </a:path>
              <a:path fill="darken" w="23993" h="21600">
                <a:moveTo>
                  <a:pt x="4990" y="3794"/>
                </a:moveTo>
                <a:lnTo>
                  <a:pt x="6653" y="3794"/>
                </a:lnTo>
                <a:lnTo>
                  <a:pt x="6653" y="17806"/>
                </a:lnTo>
                <a:lnTo>
                  <a:pt x="499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nodeType="clickEffect" fill="hold">
                      <p:stCondLst>
                        <p:cond delay="0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116 C 0.06892 -0.00232 0.08159 -0.0007 0.12916 -0.00741 C 0.17257 -0.00671 0.21302 -0.00509 0.2559 -0.00278 C 0.26979 -0.00116 0.29427 0.0037 0.30972 0.0037 E">
                                      <p:cBhvr>
                                        <p:cTn id="765" dur="3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23" dur="3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25" dur="3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27" dur="3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29" dur="3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31" dur="3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33" dur="3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35" dur="3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37" dur="3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39" dur="3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41" dur="3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43" dur="3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45" dur="3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47" dur="3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49" dur="3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51" dur="3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53" dur="3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55" dur="3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09 0.01088 0.00382 0.01713 0.01215 0.02083 C 0.01563 0.02777 0.02049 0.03356 0.0224 0.04143 C 0.02691 0.05949 0.03021 0.07407 0.03802 0.08981 C 0.04306 0.1 0.03524 0.09444 0.04479 0.09884 C 0.04809 0.11203 0.0441 0.09977 0.05174 0.11273 C 0.05434 0.11713 0.05868 0.12662 0.05868 0.12662 C 0.06042 0.12592 0.06389 0.1243 0.06389 0.1243 E">
                                      <p:cBhvr>
                                        <p:cTn id="857" dur="3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25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27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7037E-006 C -0.00086 0.00764 -0.00295 0.01504 -0.00347 0.02291 C -0.00503 0.04467 -0.0033 0.06273 -0.0085 0.08264 C -0.00746 0.10393 -0.00972 0.13055 -3.05556E-006 0.1493 C 0.00348 0.16296 0.00677 0.17384 0.00868 0.18842 C 0.00712 0.20833 -0.00121 0.24676 0.01736 0.25509 C 0.02361 0.25231 0.02153 0.25069 0.02414 0.2574 E">
                                      <p:cBhvr>
                                        <p:cTn id="929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31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33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35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37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39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86 0.00764 -0.00295 0.01504 -0.00347 0.02291 C -0.00503 0.04467 -0.00329 0.06273 -0.0085 0.08264 C -0.00746 0.10393 -0.00972 0.13055 0 0.1493 C 0.00348 0.16296 0.00677 0.17384 0.00868 0.18842 C 0.00712 0.20833 -0.00121 0.24676 0.01736 0.25509 C 0.02361 0.25231 0.02153 0.25069 0.02414 0.2574 E">
                                      <p:cBhvr>
                                        <p:cTn id="941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7.77778E-006 C 0.00121 0.00464 0.0026 0.00927 0.00347 0.0139 C 0.00399 0.0169 0.00451 0.01991 0.0052 0.02292 C 0.00625 0.02755 0.00746 0.03218 0.00868 0.03681 C 0.0092 0.03913 0.01041 0.04376 0.01041 0.04376 C 0.01145 0.07616 0.01024 0.10278 0.02083 0.13102 E">
                                      <p:cBhvr>
                                        <p:cTn id="990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07407E-006 C 0.00781 -0.03125 0.00816 -0.07407 -0.01042 -0.09884 E">
                                      <p:cBhvr>
                                        <p:cTn id="992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9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0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78 -0.01458 0.00798 -0.02893 0.01024 -0.04351 C 0.01146 -0.05185 0.01163 -0.06064 0.01371 -0.06875 C 0.0158 -0.07731 0.02187 -0.08009 0.0276 -0.08264 C 0.03524 -0.09884 0.05434 -0.09606 0.06719 -0.09884 C 0.07101 -0.09861 0.11215 -0.1 0.12917 -0.09421 C 0.1408 -0.09027 0.15503 -0.07801 0.16719 -0.07801 E">
                                      <p:cBhvr>
                                        <p:cTn id="1030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78 -0.01458 0.00798 -0.02893 0.01024 -0.04351 C 0.01146 -0.05185 0.01163 -0.06064 0.01371 -0.06875 C 0.0158 -0.07731 0.02187 -0.08009 0.0276 -0.08264 C 0.03524 -0.09884 0.05434 -0.09606 0.06719 -0.09884 C 0.07101 -0.09861 0.11215 -0.1 0.12917 -0.09421 C 0.1408 -0.09027 0.15503 -0.07801 0.16719 -0.07801 E">
                                      <p:cBhvr>
                                        <p:cTn id="1032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78 -0.01458 0.00798 -0.02893 0.01024 -0.04351 C 0.01146 -0.05185 0.01163 -0.06064 0.01371 -0.06875 C 0.0158 -0.07731 0.02187 -0.08009 0.0276 -0.08264 C 0.03524 -0.09884 0.05434 -0.09606 0.06719 -0.09884 C 0.07101 -0.09861 0.11215 -0.1 0.12917 -0.09421 C 0.1408 -0.09027 0.15503 -0.07801 0.16719 -0.07801 E">
                                      <p:cBhvr>
                                        <p:cTn id="1034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5 0.00521 -0.02431 0.00677 -0.03681 C 0.00903 -0.05486 0.00938 -0.07222 0.01372 -0.08958 C 0.0158 -0.09792 0.02275 -0.10139 0.02761 -0.10579 C 0.02934 -0.10741 0.03264 -0.11042 0.03264 -0.11042 C 0.03386 -0.11505 0.03403 -0.12014 0.03611 -0.12407 C 0.03733 -0.12639 0.03872 -0.12847 0.03959 -0.13102 C 0.04115 -0.13542 0.04097 -0.14074 0.04306 -0.14468 C 0.04427 -0.14699 0.04566 -0.14907 0.04653 -0.15162 C 0.0474 -0.1537 0.04705 -0.15694 0.04827 -0.15857 C 0.04948 -0.16019 0.05174 -0.16019 0.05347 -0.16088 C 0.06667 -0.17292 0.07882 -0.18079 0.09479 -0.1838 C 0.09653 -0.18449 0.09879 -0.18426 0.1 -0.18611 C 0.10521 -0.19444 0.10556 -0.20903 0.11025 -0.21829 C 0.11615 -0.24954 0.10903 -0.23634 0.14306 -0.23912 C 0.15382 -0.24398 0.15868 -0.25 0.16545 -0.26204 C 0.16841 -0.27361 0.17118 -0.28495 0.17413 -0.29653 C 0.175 -0.30023 0.17431 -0.30486 0.17587 -0.3081 C 0.17691 -0.31019 0.17934 -0.30926 0.18091 -0.31042 C 0.18681 -0.31435 0.19271 -0.31921 0.19827 -0.32407 C 0.20052 -0.3287 0.20104 -0.33611 0.20504 -0.33796 C 0.20677 -0.33866 0.21025 -0.34028 0.21025 -0.34028 E">
                                      <p:cBhvr>
                                        <p:cTn id="1036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5 0.00521 -0.02431 0.00677 -0.03681 C 0.00903 -0.05486 0.00938 -0.07222 0.01372 -0.08958 C 0.0158 -0.09792 0.02275 -0.10139 0.02761 -0.10579 C 0.02934 -0.10741 0.03264 -0.11042 0.03264 -0.11042 C 0.03386 -0.11505 0.03403 -0.12014 0.03611 -0.12407 C 0.03733 -0.12639 0.03872 -0.12847 0.03959 -0.13102 C 0.04115 -0.13542 0.04097 -0.14074 0.04306 -0.14468 C 0.04427 -0.14699 0.04566 -0.14907 0.04653 -0.15162 C 0.0474 -0.1537 0.04705 -0.15694 0.04827 -0.15857 C 0.04948 -0.16019 0.05174 -0.16019 0.05347 -0.16088 C 0.06667 -0.17292 0.07882 -0.18079 0.09479 -0.1838 C 0.09653 -0.18449 0.09879 -0.18426 0.1 -0.18611 C 0.10521 -0.19444 0.10556 -0.20903 0.11025 -0.21829 C 0.11615 -0.24954 0.10903 -0.23634 0.14306 -0.23912 C 0.15382 -0.24398 0.15868 -0.25 0.16545 -0.26204 C 0.16841 -0.27361 0.17118 -0.28495 0.17413 -0.29653 C 0.175 -0.30023 0.17431 -0.30486 0.17587 -0.3081 C 0.17691 -0.31019 0.17934 -0.30926 0.18091 -0.31042 C 0.18681 -0.31435 0.19271 -0.31921 0.19827 -0.32407 C 0.20052 -0.3287 0.20104 -0.33611 0.20504 -0.33796 C 0.20677 -0.33866 0.21025 -0.34028 0.21025 -0.34028 E">
                                      <p:cBhvr>
                                        <p:cTn id="1038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-0.0125 0.00521 -0.02431 0.00677 -0.03681 C 0.00903 -0.05486 0.00938 -0.07222 0.01372 -0.08958 C 0.0158 -0.09792 0.02275 -0.10139 0.02761 -0.10579 C 0.02934 -0.10741 0.03264 -0.11042 0.03264 -0.11042 C 0.03386 -0.11505 0.03403 -0.12014 0.03611 -0.12407 C 0.03733 -0.12639 0.03872 -0.12847 0.03959 -0.13102 C 0.04115 -0.13542 0.04097 -0.14074 0.04306 -0.14468 C 0.04427 -0.14699 0.04566 -0.14907 0.04653 -0.15162 C 0.0474 -0.1537 0.04705 -0.15694 0.04827 -0.15857 C 0.04948 -0.16019 0.05174 -0.16019 0.05347 -0.16088 C 0.06667 -0.17292 0.07882 -0.18079 0.09479 -0.1838 C 0.09653 -0.18449 0.09879 -0.18426 0.1 -0.18611 C 0.10521 -0.19444 0.10556 -0.20903 0.11025 -0.21829 C 0.11615 -0.24954 0.10903 -0.23634 0.14306 -0.23912 C 0.15382 -0.24398 0.15868 -0.25 0.16545 -0.26204 C 0.16841 -0.27361 0.17118 -0.28495 0.17413 -0.29653 C 0.175 -0.30023 0.17431 -0.30486 0.17587 -0.3081 C 0.17691 -0.31019 0.17934 -0.30926 0.18091 -0.31042 C 0.18681 -0.31435 0.19271 -0.31921 0.19827 -0.32407 C 0.20052 -0.3287 0.20104 -0.33611 0.20504 -0.33796 C 0.20677 -0.33866 0.21025 -0.34028 0.21025 -0.34028 E">
                                      <p:cBhvr>
                                        <p:cTn id="1040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0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6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7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8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13:19:40Z</dcterms:created>
  <dc:creator>user403</dc:creator>
  <dc:description/>
  <dc:language>en-US</dc:language>
  <cp:lastModifiedBy>LEGION</cp:lastModifiedBy>
  <dcterms:modified xsi:type="dcterms:W3CDTF">2014-12-30T11:14:56Z</dcterms:modified>
  <cp:revision>207</cp:revision>
  <dc:subject/>
  <dc:title>Бежит, бежит не выбежит..</dc:title>
</cp:coreProperties>
</file>