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6.wmf" ContentType="image/x-wmf"/>
  <Override PartName="/ppt/media/image17.wmf" ContentType="image/x-wmf"/>
  <Override PartName="/ppt/media/image16.png" ContentType="image/png"/>
  <Override PartName="/ppt/media/image14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8931-268D-4944-99F3-CC7BCDE868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7BCB-2B5F-4158-BDD3-330A8951AB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редмет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еограф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Класс: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6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Место урока: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первый урок по теме «Гидросфера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Дидактическая цель: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создать условия для первичного усвоения, осознания и осмысления новой учебной информации средствами технологии развивающего обучения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Тип урока: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изучение нового материал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Цели по содержанию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. Образовательный аспект: способствовать формированию знаний о гидросфере, как оболочке Земли, её составных частях, Мировом круговороте воды в природ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. Развивающий аспект: создать условия для развития  умения работать с текстом учебной статьи, географической картой, с материалами мультимедийной презентации; составлять описание по план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. Воспитательный аспект: способствовать воспитанию географической культуры, культуры учебного труд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Методы обучения: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объяснительно-иллюстративный, репродуктивный, частично-поисковы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Формы организации учебной деятельност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: индивидуальная, фронтальна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редства обучения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. Герасимова, Т.П. Начальный курс географии: учеб. для 6 кл. общеобразоват. учреждений / Т.П. Герасимова, Н.П. Неклюкова. – 5-е изд., стереотип. М.: Дрофа, 200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. Физическая география. Начальный курс. 6 класс.: Атлас.– М.: Роскартография,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. Мультимедийная презентация «Вода на Земле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ода на Зем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ветлана Валентиновна Чурина, учитель географии МОУ СОШ №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орода Кирово-Чепецка Киров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B07C-058E-41D6-BC00-B507A8A54E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еан занимает ¾ площади Земл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10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н един, то есть из любой его точки можно попасть в любую другую, не пересекая сушу, и Океан состоит из четырёх частей (океан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предлагает найти океаны на карте океанов в атласе и показать их на мировой карт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11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собенности Мирового оке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занимает ¾ площади Зем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ед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состоит из 4 ча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их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тлантическ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дийск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верный Ледовиты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2CA3-F84C-47EE-A0C0-BA5153267D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я карту полушарий и карту океанов в атласе, составьте описание океанов по план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12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Описание Тихого океана ребята делают с учителем, а три оставшиеся океана – по рядам. Оформить ответы можно в виде таблицы. Проверка выполнения работы проходит у доски с использованием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а 11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стенной кар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я карты атласа, составьт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ание океана по пла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8EB3-D199-4C75-B402-2223C7BD21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флексия (слайд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предлагает учащимся вернуться к игре «верю – не верю» и снова в  тетради напротив номера утверждения поставить либо «+», либо «-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1-, 2+, 3-, 4+, 5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Верю – не вер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ода, находящаяся в воздухе, не является частью водной оболочки Земли, а является частью атмосф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Мировой круговорот воды в природе происходит благодаря Солнц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 Мировом круговороте воды никак не задействованы подземные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ировой океан един, то есть из одной части его можно попасть в другую, не пересекая су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Тихий океан омывает берега всех материков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E647-DD86-4365-8D0B-74D8019E50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§ 23, 24 (п.2) читать, уметь отвечать на вопросы по изученному материал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на выбор: № 7 после § 23  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№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после §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пасибо 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за хорошую работ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F648-50FB-4648-A102-66EFEF0DC5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0C55-58B0-4103-9751-C1E781AC51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ктуализация знаний (слайд 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ие оболочки Земли вы знаете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Литосферу, гидросферу, атмосферу, биосферу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нстрируя первый слайд, учитель предлагает учащимся назвать оболочку, которую начинают изучать на уроке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гидросфера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Гидросфера - водная оболочка Земли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 каких трёх агрегатных состояниях бывает вода в природе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В жидком, в твёрдом, в газообразном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ожет ли вода переходить из одного состояния в другое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Да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ановите соответств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арен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Переход воды из жидкого состояния в твёрд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амерзан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. Переход воды из газообразного состояния в жидк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онденсаци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Переход воды из жидкого состояния в газообраз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Таян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 Переход воды из твёрдого состояния в жидк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1В, 2А, 3Б, 4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ff"/>
                </a:solidFill>
                <a:latin typeface="Arial"/>
              </a:rPr>
              <a:t>Вспомнит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9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гидросф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9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их трёх агрегатных состояниях бывает вода в приро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9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ли вода переходить из одного состояния в друг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е соответств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768E-A699-4853-83F8-F0282B864E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ация и целеполагание (слайд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предлагает учащимся поучаствовать в игре «верю –  не верю» (проверить правильность утверждений). Самостоятельно,  в  тетради напротив номера утверждения поставить либо «+», либо «-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, находящаяся в воздухе, не является частью водной оболочки Земли, я является частью атмосф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ой круговорот воды в природе происходит благодаря Солнц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ировом круговороте воды никак не задействованы подземные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одной части Мирового океана можно попасть в другую, не пересекая су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хий океан омывает берега всех материков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днимите руку те, кто согласен с первым утверждением, кто не согласен? И т.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Верю – не вер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ода, находящаяся в воздухе, не является частью водной оболочки Земли, а является частью атмосф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Мировой круговорот воды в природе происходит благодаря Солнц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 Мировом круговороте воды никак не задействованы подземные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Из одной части Мирового океана можно попасть в другую, не пересекая су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Тихий океан омывает берега всех материков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 сегодняшнего урока, мы вернемся к этим утверждениям и посмотрим, каким из них верить можно, а каким нельз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7710-5CBF-49E1-BC19-1338FAE59A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дросфера – водная оболочка Земли – состоит из нескольких ча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спользуя текст учебника на стр. 81-82, п. 1, § 23, дополните схему «Состав гидросферы»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5, 6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Гидросфера состоит из Мирового океана (96,5%), вод суши и воды в атмосфере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 знаете, что вода бывает пресная и солёная. Какие части гидросферы состоят из пресной воды, а какие –  из солёной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Мировой океан солёный, воды суши могут быть пресными и солёными, вода в атмосфере только пресная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чему вода в атмосфере всегда пресная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При испарении все соли остаются в водоёме, а испаряется только вода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уя текст на стр.81-82 п.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3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ополните  схем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остав гидросф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.………....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……………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……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6,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части гидросферы состоят из пресной воды, а какие –  из солёно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вода в атмосфере всегда пресна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части гидросферы можно увидеть на географической кар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7FE5-41FF-4E2F-84B6-B9C8D3A27F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Хоть в это поверить не очень легк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Волги вода есть в реке Лимпопо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 Якимо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 вы думаете, возможно ли э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6E8D-33AC-4146-8EBE-1BFA803B86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учитель кратко рассказывает о Мировом круговороте воды в природе. А затем предлагает по схеме ответить на 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Чем малый  круговорот воды отличается от большог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ую роль в круговороте воды играет Мировой океа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Благодаря чему происходит круговорот воды, что является его движущей сило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кажите, что все части гидросферы взаимосвяз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4D16-F673-4FA2-A900-E0728DA31B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лавной, самой большой частью гидросферы является Мировой океан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9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учение водной оболочки Земли мы начнём именно с не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17D6-F3C1-47D1-87CE-7ACC7EF04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F9D2-BF52-4A16-A96A-10D6E9B6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61D1-2BFB-4CCC-93D5-8442211B2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DCA8-ACED-4055-81BC-228232525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8BEC-8EAF-4350-946B-CFB941C2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075E-0E75-468F-8E31-35E4EFE7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8D3D-A129-46EB-A6D6-B3E9C50F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47FE-6B74-450D-933C-FFB63843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EB44-0C8C-42D1-9BBE-2DE21B73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9617-D382-4422-89CC-589F737D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632D-E524-469C-86C2-4FDA9AAC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3453-0D0F-4216-9DB3-7951EEE8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7307-247F-4175-811D-AFE27618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D197-DD8B-4148-9D4D-7FA2989F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0458-2B82-4708-AF97-8F3E096E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7EE0-580E-4D47-BDCD-397A4573A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8483-D670-411B-BA0D-ABF30E6B4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9B68-C98D-4189-AECE-C85F7414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B294-491F-4F84-AD12-7EA333E7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1E2A-57F6-459D-9389-826EDC93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E630-7740-4E8F-9C21-3A0CEA51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1C6C-062E-42E0-963C-13546618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8AA5-17C4-41DF-8638-EAD03306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E383-2372-45EE-8A42-8026BD4A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16AC-230D-4FF5-A93B-4F7EDDD2C98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2850-B96A-4DA1-97BE-190683BDB40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916280"/>
            <a:ext cx="7623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00"/>
                </a:solidFill>
                <a:latin typeface="Garamond"/>
              </a:rPr>
              <a:t>Вода на Земле</a:t>
            </a:r>
            <a:endParaRPr b="0" lang="en-US" sz="7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24000" y="4581360"/>
            <a:ext cx="6624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етлана Валентиновна Чурина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географии МОУ СОШ №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ода Кирово-Чепецка Киров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Особенности Мирового океа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занимает ¾ площади Зем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ед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состоит из 4 ча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их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тлантическ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дийск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верный Ледовиты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1"/>
          <a:stretch/>
        </p:blipFill>
        <p:spPr>
          <a:xfrm>
            <a:off x="468360" y="1703520"/>
            <a:ext cx="3752640" cy="439092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6"/>
          <p:cNvSpPr/>
          <p:nvPr/>
        </p:nvSpPr>
        <p:spPr>
          <a:xfrm>
            <a:off x="500040" y="564372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унок взят из мультимедиа учебника 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Начальный курс географии» 6 класс,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4">
            <a:hlinkClick r:id="" action="ppaction://hlinkshowjump?jump=previousslide"/>
          </p:cNvPr>
          <p:cNvSpPr/>
          <p:nvPr/>
        </p:nvSpPr>
        <p:spPr>
          <a:xfrm>
            <a:off x="8388360" y="6453360"/>
            <a:ext cx="504720" cy="215640"/>
          </a:xfrm>
          <a:custGeom>
            <a:avLst/>
            <a:gdLst>
              <a:gd name="textAreaLeft" fmla="*/ 13680 w 504720"/>
              <a:gd name="textAreaRight" fmla="*/ 491040 w 50472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0508" h="21600">
                <a:moveTo>
                  <a:pt x="0" y="0"/>
                </a:moveTo>
                <a:lnTo>
                  <a:pt x="50508" y="0"/>
                </a:lnTo>
                <a:lnTo>
                  <a:pt x="50508" y="21600"/>
                </a:lnTo>
                <a:lnTo>
                  <a:pt x="0" y="21600"/>
                </a:lnTo>
                <a:close/>
              </a:path>
              <a:path fill="lightenLess" w="50508" h="21600">
                <a:moveTo>
                  <a:pt x="0" y="0"/>
                </a:moveTo>
                <a:lnTo>
                  <a:pt x="50508" y="0"/>
                </a:lnTo>
                <a:lnTo>
                  <a:pt x="49108" y="1400"/>
                </a:lnTo>
                <a:lnTo>
                  <a:pt x="1400" y="1400"/>
                </a:lnTo>
                <a:close/>
              </a:path>
              <a:path fill="darken" w="50508" h="21600">
                <a:moveTo>
                  <a:pt x="50508" y="0"/>
                </a:moveTo>
                <a:lnTo>
                  <a:pt x="50508" y="21600"/>
                </a:lnTo>
                <a:lnTo>
                  <a:pt x="49108" y="20200"/>
                </a:lnTo>
                <a:lnTo>
                  <a:pt x="49108" y="1400"/>
                </a:lnTo>
                <a:close/>
              </a:path>
              <a:path fill="darkenLess" w="50508" h="21600">
                <a:moveTo>
                  <a:pt x="505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108" y="20200"/>
                </a:lnTo>
                <a:close/>
              </a:path>
              <a:path fill="lighten" w="505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508" h="21600">
                <a:moveTo>
                  <a:pt x="18248" y="7493"/>
                </a:moveTo>
                <a:lnTo>
                  <a:pt x="21755" y="7493"/>
                </a:lnTo>
                <a:lnTo>
                  <a:pt x="21755" y="12828"/>
                </a:lnTo>
                <a:cubicBezTo>
                  <a:pt x="21755" y="13751"/>
                  <a:pt x="22556" y="14482"/>
                  <a:pt x="23592" y="14482"/>
                </a:cubicBezTo>
                <a:lnTo>
                  <a:pt x="25254" y="14482"/>
                </a:lnTo>
                <a:cubicBezTo>
                  <a:pt x="26290" y="14482"/>
                  <a:pt x="27090" y="13751"/>
                  <a:pt x="27090" y="12828"/>
                </a:cubicBezTo>
                <a:lnTo>
                  <a:pt x="27090" y="7493"/>
                </a:lnTo>
                <a:lnTo>
                  <a:pt x="25254" y="7493"/>
                </a:lnTo>
                <a:lnTo>
                  <a:pt x="28762" y="3985"/>
                </a:lnTo>
                <a:lnTo>
                  <a:pt x="32435" y="7493"/>
                </a:lnTo>
                <a:lnTo>
                  <a:pt x="30598" y="7493"/>
                </a:lnTo>
                <a:lnTo>
                  <a:pt x="30598" y="12828"/>
                </a:lnTo>
                <a:cubicBezTo>
                  <a:pt x="30598" y="15596"/>
                  <a:pt x="28022" y="18155"/>
                  <a:pt x="25254" y="18155"/>
                </a:cubicBezTo>
                <a:lnTo>
                  <a:pt x="23592" y="18155"/>
                </a:lnTo>
                <a:cubicBezTo>
                  <a:pt x="20824" y="18155"/>
                  <a:pt x="18248" y="15596"/>
                  <a:pt x="18248" y="12828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6"/>
          <p:cNvSpPr/>
          <p:nvPr/>
        </p:nvSpPr>
        <p:spPr>
          <a:xfrm>
            <a:off x="142920" y="621504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унок взят из мультимедиа учебника 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Начальный курс географии» 6 класс,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Используя карты атласа, составьте </a:t>
            </a:r>
            <a:br>
              <a:rPr sz="3200"/>
            </a:b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описание океана по плану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1600200"/>
          <a:ext cx="8229600" cy="4822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ла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ихий океа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Text Box 70"/>
          <p:cNvSpPr/>
          <p:nvPr/>
        </p:nvSpPr>
        <p:spPr>
          <a:xfrm>
            <a:off x="468360" y="2492280"/>
            <a:ext cx="273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1"/>
          <p:cNvSpPr/>
          <p:nvPr/>
        </p:nvSpPr>
        <p:spPr>
          <a:xfrm>
            <a:off x="468360" y="2509920"/>
            <a:ext cx="273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Какое место занимает по площ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4"/>
          <p:cNvSpPr/>
          <p:nvPr/>
        </p:nvSpPr>
        <p:spPr>
          <a:xfrm>
            <a:off x="3203640" y="256536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е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5"/>
          <p:cNvSpPr/>
          <p:nvPr/>
        </p:nvSpPr>
        <p:spPr>
          <a:xfrm>
            <a:off x="468360" y="3573360"/>
            <a:ext cx="27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С какими      океанами связа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9"/>
          <p:cNvSpPr/>
          <p:nvPr/>
        </p:nvSpPr>
        <p:spPr>
          <a:xfrm>
            <a:off x="3203640" y="3500280"/>
            <a:ext cx="273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Атлантическим, Индийским, Сев. Ледовит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1"/>
          <p:cNvSpPr/>
          <p:nvPr/>
        </p:nvSpPr>
        <p:spPr>
          <a:xfrm>
            <a:off x="468360" y="4508640"/>
            <a:ext cx="27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Какие материки омыва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3"/>
          <p:cNvSpPr/>
          <p:nvPr/>
        </p:nvSpPr>
        <p:spPr>
          <a:xfrm>
            <a:off x="3203640" y="4508640"/>
            <a:ext cx="28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вразию, Австралию, Юж. Америку, Сев. Америку, Антаркти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6"/>
          <p:cNvSpPr/>
          <p:nvPr/>
        </p:nvSpPr>
        <p:spPr>
          <a:xfrm>
            <a:off x="468360" y="5445000"/>
            <a:ext cx="273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акова максимальная глуби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8"/>
          <p:cNvSpPr/>
          <p:nvPr/>
        </p:nvSpPr>
        <p:spPr>
          <a:xfrm>
            <a:off x="3203640" y="551664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022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ff"/>
                </a:solidFill>
                <a:latin typeface="Garamond"/>
              </a:rPr>
              <a:t>Верю – не верю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Вода, находящаяся в воздухе, не является частью водной оболочки Земли, а является частью атмосфер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Мировой круговорот воды в природе происходит благодаря Солнц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В Мировом круговороте воды никак не задействованы подземные вод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Мировой океан един, то есть из одной части его можно попасть в другую, не пересекая суш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5. Тихий океан омывает берега всех материков Земл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ff"/>
                </a:solidFill>
                <a:latin typeface="Garamond"/>
              </a:rPr>
              <a:t>Домашнее зада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§ 23, 24 (п.2) прочитать, уметь отвечать на вопросы по изученному материал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дание на выбор: № 7 после § 23  и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  №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 после § 2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j0232896"/>
          <p:cNvPicPr/>
          <p:nvPr/>
        </p:nvPicPr>
        <p:blipFill>
          <a:blip r:embed="rId1"/>
          <a:stretch/>
        </p:blipFill>
        <p:spPr>
          <a:xfrm>
            <a:off x="900000" y="4149720"/>
            <a:ext cx="1600200" cy="193824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6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1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4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Спасибо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за хорошую работу!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ff"/>
                </a:solidFill>
                <a:latin typeface="Garamond"/>
              </a:rPr>
              <a:t>Вспомнит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гидросф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их трёх агрегатных состояниях бывает вода в приро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ли вода переходить из одного состояния в друг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е соответств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11280" y="3716280"/>
          <a:ext cx="8208720" cy="2712960"/>
        </p:xfrm>
        <a:graphic>
          <a:graphicData uri="http://schemas.openxmlformats.org/drawingml/2006/table">
            <a:tbl>
              <a:tblPr/>
              <a:tblGrid>
                <a:gridCol w="2520720"/>
                <a:gridCol w="5688000"/>
              </a:tblGrid>
              <a:tr h="2712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Испар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Замерза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Конденсац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Тая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Переход воды из жидкого состояния в       твёрдо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. Переход воды из газообразного состояния в жидко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Переход воды из жидкого состояния в газообразно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 Переход воды из твёрдого состояния в жид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ff"/>
                </a:solidFill>
                <a:latin typeface="Garamond"/>
              </a:rPr>
              <a:t>Верю – не верю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Вода, находящаяся в воздухе, не является частью водной оболочки Земли, а является частью атмосфер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Мировой круговорот воды в природе происходит благодаря Солнц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В Мировом круговороте воды никак не задействованы подземные вод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Из одной части Мирового океана можно попасть в другую, не пересекая суш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5. Тихий океан омывает берега всех материков Земл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4" descr="114041B"/>
          <p:cNvPicPr/>
          <p:nvPr/>
        </p:nvPicPr>
        <p:blipFill>
          <a:blip r:embed="rId1"/>
          <a:stretch/>
        </p:blipFill>
        <p:spPr>
          <a:xfrm>
            <a:off x="3132000" y="2924280"/>
            <a:ext cx="2303640" cy="1546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104" name="Organization Chart 7"/>
          <p:cNvGrpSpPr/>
          <p:nvPr/>
        </p:nvGrpSpPr>
        <p:grpSpPr>
          <a:xfrm>
            <a:off x="431640" y="549360"/>
            <a:ext cx="8208360" cy="2158200"/>
            <a:chOff x="431640" y="549360"/>
            <a:chExt cx="8208360" cy="2158200"/>
          </a:xfrm>
        </p:grpSpPr>
        <p:cxnSp>
          <p:nvCxnSpPr>
            <p:cNvPr id="105" name="_s1028"/>
            <p:cNvCxnSpPr>
              <a:stCxn id="106" idx="0"/>
              <a:endCxn id="107" idx="2"/>
            </p:cNvCxnSpPr>
            <p:nvPr/>
          </p:nvCxnSpPr>
          <p:spPr>
            <a:xfrm flipV="1" rot="16200000">
              <a:off x="5756040" y="191160"/>
              <a:ext cx="432360" cy="2873520"/>
            </a:xfrm>
            <a:prstGeom prst="bentConnector3">
              <a:avLst>
                <a:gd name="adj1" fmla="val 127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29"/>
            <p:cNvCxnSpPr>
              <a:stCxn id="109" idx="0"/>
              <a:endCxn id="107" idx="2"/>
            </p:cNvCxnSpPr>
            <p:nvPr/>
          </p:nvCxnSpPr>
          <p:spPr>
            <a:xfrm flipV="1">
              <a:off x="4536000" y="1411920"/>
              <a:ext cx="3600" cy="43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1030"/>
            <p:cNvCxnSpPr>
              <a:stCxn id="111" idx="0"/>
              <a:endCxn id="107" idx="2"/>
            </p:cNvCxnSpPr>
            <p:nvPr/>
          </p:nvCxnSpPr>
          <p:spPr>
            <a:xfrm flipH="1" flipV="1" rot="5400000">
              <a:off x="2883240" y="191520"/>
              <a:ext cx="432360" cy="2873520"/>
            </a:xfrm>
            <a:prstGeom prst="bentConnector3">
              <a:avLst>
                <a:gd name="adj1" fmla="val 127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1031"/>
            <p:cNvSpPr/>
            <p:nvPr/>
          </p:nvSpPr>
          <p:spPr>
            <a:xfrm>
              <a:off x="3304440" y="549360"/>
              <a:ext cx="2462400" cy="86328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остояния вод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32"/>
            <p:cNvSpPr/>
            <p:nvPr/>
          </p:nvSpPr>
          <p:spPr>
            <a:xfrm>
              <a:off x="431640" y="1844280"/>
              <a:ext cx="2462400" cy="86328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Жидк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3"/>
            <p:cNvSpPr/>
            <p:nvPr/>
          </p:nvSpPr>
          <p:spPr>
            <a:xfrm>
              <a:off x="3304440" y="1844280"/>
              <a:ext cx="2462400" cy="86328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Твёрд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4"/>
            <p:cNvSpPr/>
            <p:nvPr/>
          </p:nvSpPr>
          <p:spPr>
            <a:xfrm>
              <a:off x="6177600" y="1844280"/>
              <a:ext cx="2462400" cy="86328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Газообразн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Picture 43" descr="04SC002"/>
          <p:cNvPicPr/>
          <p:nvPr/>
        </p:nvPicPr>
        <p:blipFill>
          <a:blip r:embed="rId2"/>
          <a:stretch/>
        </p:blipFill>
        <p:spPr>
          <a:xfrm>
            <a:off x="179280" y="2924280"/>
            <a:ext cx="2279880" cy="17064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13" name="Picture 39" descr="1350"/>
          <p:cNvPicPr/>
          <p:nvPr/>
        </p:nvPicPr>
        <p:blipFill>
          <a:blip r:embed="rId3"/>
          <a:stretch/>
        </p:blipFill>
        <p:spPr>
          <a:xfrm>
            <a:off x="3780000" y="4254480"/>
            <a:ext cx="2342880" cy="15717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14" name="Picture 42" descr="0004971"/>
          <p:cNvPicPr/>
          <p:nvPr/>
        </p:nvPicPr>
        <p:blipFill>
          <a:blip r:embed="rId4"/>
          <a:stretch/>
        </p:blipFill>
        <p:spPr>
          <a:xfrm>
            <a:off x="468360" y="4221000"/>
            <a:ext cx="2502000" cy="1671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5" name="AutoShape 45">
            <a:hlinkClick r:id="" action="ppaction://hlinkshowjump?jump=previousslide"/>
          </p:cNvPr>
          <p:cNvSpPr/>
          <p:nvPr/>
        </p:nvSpPr>
        <p:spPr>
          <a:xfrm>
            <a:off x="8172360" y="6093000"/>
            <a:ext cx="432000" cy="28872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306" h="21600">
                <a:moveTo>
                  <a:pt x="0" y="0"/>
                </a:moveTo>
                <a:lnTo>
                  <a:pt x="32306" y="0"/>
                </a:lnTo>
                <a:lnTo>
                  <a:pt x="32306" y="21600"/>
                </a:lnTo>
                <a:lnTo>
                  <a:pt x="0" y="21600"/>
                </a:lnTo>
                <a:close/>
              </a:path>
              <a:path fill="lightenLess" w="32306" h="21600">
                <a:moveTo>
                  <a:pt x="0" y="0"/>
                </a:moveTo>
                <a:lnTo>
                  <a:pt x="32306" y="0"/>
                </a:lnTo>
                <a:lnTo>
                  <a:pt x="30906" y="1400"/>
                </a:lnTo>
                <a:lnTo>
                  <a:pt x="1400" y="1400"/>
                </a:lnTo>
                <a:close/>
              </a:path>
              <a:path fill="darken" w="32306" h="21600">
                <a:moveTo>
                  <a:pt x="32306" y="0"/>
                </a:moveTo>
                <a:lnTo>
                  <a:pt x="32306" y="21600"/>
                </a:lnTo>
                <a:lnTo>
                  <a:pt x="30906" y="20200"/>
                </a:lnTo>
                <a:lnTo>
                  <a:pt x="30906" y="1400"/>
                </a:lnTo>
                <a:close/>
              </a:path>
              <a:path fill="darkenLess" w="32306" h="21600">
                <a:moveTo>
                  <a:pt x="323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06" y="20200"/>
                </a:lnTo>
                <a:close/>
              </a:path>
              <a:path fill="lighten" w="323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06" h="21600">
                <a:moveTo>
                  <a:pt x="9146" y="7493"/>
                </a:moveTo>
                <a:lnTo>
                  <a:pt x="12654" y="7493"/>
                </a:lnTo>
                <a:lnTo>
                  <a:pt x="12654" y="12828"/>
                </a:lnTo>
                <a:cubicBezTo>
                  <a:pt x="12654" y="13751"/>
                  <a:pt x="13455" y="14482"/>
                  <a:pt x="14491" y="14482"/>
                </a:cubicBezTo>
                <a:lnTo>
                  <a:pt x="16153" y="14482"/>
                </a:lnTo>
                <a:cubicBezTo>
                  <a:pt x="17189" y="14482"/>
                  <a:pt x="17989" y="13751"/>
                  <a:pt x="17989" y="12828"/>
                </a:cubicBezTo>
                <a:lnTo>
                  <a:pt x="17989" y="7493"/>
                </a:lnTo>
                <a:lnTo>
                  <a:pt x="16153" y="7493"/>
                </a:lnTo>
                <a:lnTo>
                  <a:pt x="19661" y="3985"/>
                </a:lnTo>
                <a:lnTo>
                  <a:pt x="23333" y="7493"/>
                </a:lnTo>
                <a:lnTo>
                  <a:pt x="21497" y="7493"/>
                </a:lnTo>
                <a:lnTo>
                  <a:pt x="21497" y="12828"/>
                </a:lnTo>
                <a:cubicBezTo>
                  <a:pt x="21497" y="15596"/>
                  <a:pt x="18921" y="18155"/>
                  <a:pt x="16153" y="18155"/>
                </a:cubicBezTo>
                <a:lnTo>
                  <a:pt x="14491" y="18155"/>
                </a:lnTo>
                <a:cubicBezTo>
                  <a:pt x="11723" y="18155"/>
                  <a:pt x="9146" y="15596"/>
                  <a:pt x="9146" y="12828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9" descr="j0232703"/>
          <p:cNvPicPr/>
          <p:nvPr/>
        </p:nvPicPr>
        <p:blipFill>
          <a:blip r:embed="rId5"/>
          <a:srcRect l="0" t="0" r="0" b="43105"/>
          <a:stretch/>
        </p:blipFill>
        <p:spPr>
          <a:xfrm>
            <a:off x="6516720" y="2997360"/>
            <a:ext cx="1844640" cy="2232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0852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Garamond"/>
              </a:rPr>
              <a:t>Используя текст на стр.81-82 п.1 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  <a:ea typeface="Arial"/>
              </a:rPr>
              <a:t>§</a:t>
            </a:r>
            <a:r>
              <a:rPr b="0" lang="ru-RU" sz="2800" spc="-1" strike="noStrike">
                <a:solidFill>
                  <a:srgbClr val="006633"/>
                </a:solidFill>
                <a:latin typeface="Garamond"/>
                <a:ea typeface="Arial"/>
              </a:rPr>
              <a:t>23, </a:t>
            </a:r>
            <a:br>
              <a:rPr sz="2800"/>
            </a:br>
            <a:r>
              <a:rPr b="0" lang="ru-RU" sz="2800" spc="-1" strike="noStrike">
                <a:solidFill>
                  <a:srgbClr val="006633"/>
                </a:solidFill>
                <a:latin typeface="Garamond"/>
                <a:ea typeface="Arial"/>
              </a:rPr>
              <a:t>дополните  схему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Состав гидросфе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.………....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……………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…………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96,5%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Какие части гидросферы состоят из пресной воды, а какие –  из солёной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Почему вода в атмосфере всегда пресная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     </a:t>
            </a: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Какие части гидросферы можно увидеть на географической карте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"/>
          <p:cNvSpPr/>
          <p:nvPr/>
        </p:nvSpPr>
        <p:spPr>
          <a:xfrm flipH="1">
            <a:off x="1692360" y="2133720"/>
            <a:ext cx="1728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4716360" y="213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6012000" y="2133720"/>
            <a:ext cx="1512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684360" y="2997360"/>
            <a:ext cx="2592360" cy="4316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ровой оке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708360" y="2997360"/>
            <a:ext cx="2087640" cy="4316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ы су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6300720" y="2997360"/>
            <a:ext cx="2232000" cy="4316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а в атмосф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8"/>
          <p:cNvSpPr/>
          <p:nvPr/>
        </p:nvSpPr>
        <p:spPr>
          <a:xfrm flipV="1">
            <a:off x="1187280" y="3933000"/>
            <a:ext cx="1513080" cy="358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1258920" y="3860640"/>
            <a:ext cx="15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ё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0"/>
          <p:cNvSpPr/>
          <p:nvPr/>
        </p:nvSpPr>
        <p:spPr>
          <a:xfrm>
            <a:off x="3117960" y="3948120"/>
            <a:ext cx="3095640" cy="360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3223440" y="389880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ёная и пре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2"/>
          <p:cNvSpPr/>
          <p:nvPr/>
        </p:nvSpPr>
        <p:spPr>
          <a:xfrm>
            <a:off x="6732720" y="3933720"/>
            <a:ext cx="1511280" cy="358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6806880" y="388476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0" descr="Весна"/>
          <p:cNvPicPr/>
          <p:nvPr/>
        </p:nvPicPr>
        <p:blipFill>
          <a:blip r:embed="rId1"/>
          <a:stretch/>
        </p:blipFill>
        <p:spPr>
          <a:xfrm>
            <a:off x="3276720" y="2781360"/>
            <a:ext cx="2468520" cy="18511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134" name="Organization Chart 7"/>
          <p:cNvGrpSpPr/>
          <p:nvPr/>
        </p:nvGrpSpPr>
        <p:grpSpPr>
          <a:xfrm>
            <a:off x="431640" y="231840"/>
            <a:ext cx="8316360" cy="2259720"/>
            <a:chOff x="431640" y="231840"/>
            <a:chExt cx="8316360" cy="2259720"/>
          </a:xfrm>
        </p:grpSpPr>
        <p:cxnSp>
          <p:nvCxnSpPr>
            <p:cNvPr id="135" name="_s2052"/>
            <p:cNvCxnSpPr>
              <a:stCxn id="136" idx="0"/>
              <a:endCxn id="137" idx="2"/>
            </p:cNvCxnSpPr>
            <p:nvPr/>
          </p:nvCxnSpPr>
          <p:spPr>
            <a:xfrm flipV="1" rot="16200000">
              <a:off x="5818680" y="-94320"/>
              <a:ext cx="452520" cy="2910960"/>
            </a:xfrm>
            <a:prstGeom prst="bentConnector3">
              <a:avLst>
                <a:gd name="adj1" fmla="val 1273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2053"/>
            <p:cNvCxnSpPr>
              <a:stCxn id="139" idx="0"/>
              <a:endCxn id="137" idx="2"/>
            </p:cNvCxnSpPr>
            <p:nvPr/>
          </p:nvCxnSpPr>
          <p:spPr>
            <a:xfrm flipV="1">
              <a:off x="4589640" y="1135080"/>
              <a:ext cx="3960" cy="452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2054"/>
            <p:cNvCxnSpPr>
              <a:stCxn id="141" idx="0"/>
              <a:endCxn id="137" idx="2"/>
            </p:cNvCxnSpPr>
            <p:nvPr/>
          </p:nvCxnSpPr>
          <p:spPr>
            <a:xfrm flipH="1" flipV="1" rot="5400000">
              <a:off x="2907720" y="-93960"/>
              <a:ext cx="452520" cy="2910960"/>
            </a:xfrm>
            <a:prstGeom prst="bentConnector3">
              <a:avLst>
                <a:gd name="adj1" fmla="val 1273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7" name="_s2055"/>
            <p:cNvSpPr/>
            <p:nvPr/>
          </p:nvSpPr>
          <p:spPr>
            <a:xfrm>
              <a:off x="3342240" y="231840"/>
              <a:ext cx="2494800" cy="90396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Гидросфер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2056"/>
            <p:cNvSpPr/>
            <p:nvPr/>
          </p:nvSpPr>
          <p:spPr>
            <a:xfrm>
              <a:off x="431640" y="1587600"/>
              <a:ext cx="2494800" cy="90396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Мировой океа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2057"/>
            <p:cNvSpPr/>
            <p:nvPr/>
          </p:nvSpPr>
          <p:spPr>
            <a:xfrm>
              <a:off x="3342240" y="1587600"/>
              <a:ext cx="2494800" cy="90396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оды суш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2058"/>
            <p:cNvSpPr/>
            <p:nvPr/>
          </p:nvSpPr>
          <p:spPr>
            <a:xfrm>
              <a:off x="6253200" y="1587600"/>
              <a:ext cx="2494800" cy="90396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ода в атмосфер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Picture 16" descr="Big sky"/>
          <p:cNvPicPr/>
          <p:nvPr/>
        </p:nvPicPr>
        <p:blipFill>
          <a:blip r:embed="rId2"/>
          <a:stretch/>
        </p:blipFill>
        <p:spPr>
          <a:xfrm>
            <a:off x="6084720" y="2781360"/>
            <a:ext cx="2616480" cy="1857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3" name="Picture 17" descr="90A_2"/>
          <p:cNvPicPr/>
          <p:nvPr/>
        </p:nvPicPr>
        <p:blipFill>
          <a:blip r:embed="rId3"/>
          <a:stretch/>
        </p:blipFill>
        <p:spPr>
          <a:xfrm>
            <a:off x="6372360" y="4365720"/>
            <a:ext cx="2447640" cy="1908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4" name="Picture 21" descr="Wo_scn05"/>
          <p:cNvPicPr/>
          <p:nvPr/>
        </p:nvPicPr>
        <p:blipFill>
          <a:blip r:embed="rId4"/>
          <a:stretch/>
        </p:blipFill>
        <p:spPr>
          <a:xfrm>
            <a:off x="3419640" y="4365720"/>
            <a:ext cx="2514600" cy="18856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5" name="Picture 22" descr="1103n"/>
          <p:cNvPicPr/>
          <p:nvPr/>
        </p:nvPicPr>
        <p:blipFill>
          <a:blip r:embed="rId5"/>
          <a:stretch/>
        </p:blipFill>
        <p:spPr>
          <a:xfrm>
            <a:off x="395280" y="2781360"/>
            <a:ext cx="2427120" cy="1749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6" name="Picture 15" descr="j0289489"/>
          <p:cNvPicPr/>
          <p:nvPr/>
        </p:nvPicPr>
        <p:blipFill>
          <a:blip r:embed="rId6"/>
          <a:stretch/>
        </p:blipFill>
        <p:spPr>
          <a:xfrm>
            <a:off x="539640" y="4365720"/>
            <a:ext cx="2592360" cy="18748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47" name="AutoShape 23">
            <a:hlinkClick r:id="" action="ppaction://hlinkshowjump?jump=previousslide"/>
          </p:cNvPr>
          <p:cNvSpPr/>
          <p:nvPr/>
        </p:nvSpPr>
        <p:spPr>
          <a:xfrm>
            <a:off x="8388360" y="33336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7493"/>
                </a:moveTo>
                <a:lnTo>
                  <a:pt x="12621" y="7493"/>
                </a:lnTo>
                <a:lnTo>
                  <a:pt x="12621" y="12828"/>
                </a:lnTo>
                <a:cubicBezTo>
                  <a:pt x="12621" y="13751"/>
                  <a:pt x="13421" y="14482"/>
                  <a:pt x="14457" y="14482"/>
                </a:cubicBezTo>
                <a:lnTo>
                  <a:pt x="16119" y="14482"/>
                </a:lnTo>
                <a:cubicBezTo>
                  <a:pt x="17155" y="14482"/>
                  <a:pt x="17956" y="13751"/>
                  <a:pt x="17956" y="12828"/>
                </a:cubicBezTo>
                <a:lnTo>
                  <a:pt x="17956" y="7493"/>
                </a:lnTo>
                <a:lnTo>
                  <a:pt x="16119" y="7493"/>
                </a:lnTo>
                <a:lnTo>
                  <a:pt x="19627" y="3985"/>
                </a:lnTo>
                <a:lnTo>
                  <a:pt x="23300" y="7493"/>
                </a:lnTo>
                <a:lnTo>
                  <a:pt x="21463" y="7493"/>
                </a:lnTo>
                <a:lnTo>
                  <a:pt x="21463" y="12828"/>
                </a:lnTo>
                <a:cubicBezTo>
                  <a:pt x="21463" y="15596"/>
                  <a:pt x="18887" y="18155"/>
                  <a:pt x="16119" y="18155"/>
                </a:cubicBezTo>
                <a:lnTo>
                  <a:pt x="14457" y="18155"/>
                </a:lnTo>
                <a:cubicBezTo>
                  <a:pt x="11689" y="18155"/>
                  <a:pt x="9113" y="15596"/>
                  <a:pt x="9113" y="12828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«Хоть в это поверить не очень легко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Но Волги вода есть в реке Лимпопо…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(И. Якимо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Как вы думаете, возможно ли тако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8224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SHAPE067"/>
          <p:cNvPicPr/>
          <p:nvPr/>
        </p:nvPicPr>
        <p:blipFill>
          <a:blip r:embed="rId2"/>
          <a:stretch/>
        </p:blipFill>
        <p:spPr>
          <a:xfrm>
            <a:off x="3564000" y="0"/>
            <a:ext cx="1657440" cy="1574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>
            <a:off x="3635280" y="404640"/>
            <a:ext cx="5219640" cy="1152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 отличается малый круговор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ы в природе от большог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2268360" y="4797360"/>
            <a:ext cx="4896000" cy="1152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ую роль в круговороте в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ает Мировой океа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2124000" y="4724280"/>
            <a:ext cx="5113440" cy="12258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даря чему происходит круговорот во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является его движущей сил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2195640" y="549360"/>
            <a:ext cx="4824360" cy="1079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ите, что все части гидросфе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аимосвяз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357120" y="6215040"/>
            <a:ext cx="335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унок взят из мультимедиа учебника 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Начальный курс географии» 6 класс,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Cloud"/>
          <p:cNvSpPr/>
          <p:nvPr/>
        </p:nvSpPr>
        <p:spPr>
          <a:xfrm>
            <a:off x="2700360" y="836640"/>
            <a:ext cx="4392720" cy="1512720"/>
          </a:xfrm>
          <a:prstGeom prst="pie">
            <a:avLst/>
          </a:prstGeom>
          <a:gradFill rotWithShape="0">
            <a:gsLst>
              <a:gs pos="0">
                <a:srgbClr val="3399ff"/>
              </a:gs>
              <a:gs pos="100000">
                <a:srgbClr val="18477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дросф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 flipH="1" flipV="1">
            <a:off x="538560" y="2780640"/>
            <a:ext cx="2808360" cy="2376360"/>
          </a:xfrm>
          <a:prstGeom prst="cloudCallout">
            <a:avLst>
              <a:gd name="adj1" fmla="val -51472"/>
              <a:gd name="adj2" fmla="val 71574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ировой оке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96,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 flipH="1" flipV="1">
            <a:off x="6371640" y="2637000"/>
            <a:ext cx="2592360" cy="1800000"/>
          </a:xfrm>
          <a:prstGeom prst="cloudCallout">
            <a:avLst>
              <a:gd name="adj1" fmla="val 40013"/>
              <a:gd name="adj2" fmla="val 70458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6443640" y="3284640"/>
            <a:ext cx="23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да в атмосф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1"/>
          <p:cNvSpPr/>
          <p:nvPr/>
        </p:nvSpPr>
        <p:spPr>
          <a:xfrm flipH="1" flipV="1">
            <a:off x="3634560" y="3933720"/>
            <a:ext cx="2590920" cy="1657440"/>
          </a:xfrm>
          <a:prstGeom prst="cloudCallout">
            <a:avLst>
              <a:gd name="adj1" fmla="val 1837"/>
              <a:gd name="adj2" fmla="val 135245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4141080" y="4581360"/>
            <a:ext cx="16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ды су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6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7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8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59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5:41:03Z</dcterms:created>
  <dc:creator>xp</dc:creator>
  <dc:description/>
  <dc:language>en-US</dc:language>
  <cp:lastModifiedBy>LEGION</cp:lastModifiedBy>
  <dcterms:modified xsi:type="dcterms:W3CDTF">2014-12-30T11:16:09Z</dcterms:modified>
  <cp:revision>24</cp:revision>
  <dc:subject/>
  <dc:title>Слайд 1</dc:title>
</cp:coreProperties>
</file>