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5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984F-EC96-4DD8-8689-9F9880B135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9443-CB1A-4417-875E-6B9AAABCA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Предмет: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еографи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Класс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сто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первый урок по теме «Гидросфера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идактическая цель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создать условия для первичного усвоения, осознания и осмысления новой учебной информации средствами технологии развивающего обучения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Тип урока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изучение нового материал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Цели по содержанию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Образовательный аспект: способствовать формированию знаний о гидросфере, как оболочке Земли, её составных частях, Мировом круговороте воды в природ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Развивающий аспект: создать условия для развития  умения работать с текстом учебной статьи, географической картой, с материалами мультимедийной презентации; составлять описание по план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Воспитательный аспект: способствовать воспитанию географической культуры, культуры учебного труд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Методы обучения: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бъяснительно-иллюстративный, репродуктивный, частично-поисковы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Формы организации учебной деятельност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индивидуальная, фронтальная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редства обучения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1. Герасимова, Т.П. Начальный курс географии: учеб. для 6 кл. общеобразоват. учреждений / Т.П. Герасимова, Н.П. Неклюкова. – 5-е изд., стереотип. М.: Дрофа,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2. Физическая география. Начальный курс. 6 класс.: Атлас.– М.: Роскартография, 200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3. Мультимедийная презентация «Вода на Земле»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ода на Зем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ветлана Валентиновна Чурина, учитель географии МОУ СОШ №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100D-D49E-4008-A917-E2CD4A6415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еан занимает ¾ площади Земл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0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н един, то есть из любой его точки можно попасть в любую другую, не пересекая сушу, и Океан состоит из четырёх частей (оке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найти океаны на карте океанов в атласе и показать их на мировой карт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1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собенности Мирового оке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ADD4-7CC3-46C6-B5A0-45371197F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у полушарий и карту океанов в атласе, составьте описание океанов по плану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2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писание Тихого океана ребята делают с учителем, а три оставшиеся океана – по рядам. Оформить ответы можно в виде таблицы. Проверка выполнения работы проходит у доски с использованием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а 11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стенной кар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карты атласа, составь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исание океана по пла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DD79-0015-4163-83D9-15125DB48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флексия (слайд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вернуться к игре «верю – не верю» и снова в  тетради напротив номера утверждения поставить либо «+», либо «-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-, 2+, 3-, 4+, 5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1D90-65D1-420E-840F-895FDD7947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23, 24 (п.2) читать, уметь отвечать на вопросы по изученному матери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Спасибо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за хорошую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BB24-4EC7-456E-A4A2-FC047B7CCD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2EBC-66AA-4DD5-A408-A4F5C9CBB9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ктуализация знаний (слайд 2,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е оболочки Земли вы знает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Литосферу, гидросферу, атмосферу, биосферу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нстрируя первый слайд, учитель предлагает учащимся назвать оболочку, которую начинают изучать на уроке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гидросфера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- водная оболочка Земли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ких трёх агрегатных состояниях бывает вода в природ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В жидком, в твёрдом, в газообразном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жет ли вода переходить из одного состояния в другое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становите соответ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аре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Переход воды из жидкого состояния в твёрд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рз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. Переход воды из газообразн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нденс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Переход воды из жидкого состояния в газообраз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Тая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Переход воды из твёрдого состояния в жидк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1В, 2А, 3Б, 4Г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Arial"/>
              </a:rPr>
              <a:t>Вспомнит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F371-CE31-45EA-AFB3-0D1AA43859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и целеполагание (слайд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предлагает учащимся поучаствовать в игре «верю –  не верю» (проверить правильность утверждений). Самостоятельно,  в  тетради напротив номера утверждения поставить либо «+», либо «-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твержд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находящаяся в воздухе, не является частью водной оболочки Земли, я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нимите руку те, кто согласен с первым утверждением, кто не согласен?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Верю – не вер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 сегодняшнего урока, мы вернемся к этим утверждениям и посмотрим, каким из них верить можно, а каким нельз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6D6B-1F68-4C92-BC1D-314F1E79D4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сфера – водная оболочка Земли – состоит из нескольких ча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Используя текст учебника на стр. 81-82, п. 1, § 23, дополните схему «Состав гидросферы»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5, 6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Гидросфера состоит из Мирового океана (96,5%), вод суши и воды в атмосфере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ы знаете, что вода бывает пресная и солёная. Какие части гидросферы состоят из пресной воды, а какие –  из солёной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Мировой океан солёный, воды суши могут быть пресными и солёными, вода в атмосфере только пресная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чему вода в атмосфере всегда пресная?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 испарении все соли остаются в водоёме, а испаряется только вода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я текст на стр.81-82 п.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3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  схе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ода в атмосфере всегда пресна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00BE-256B-4E32-8B32-4E8BC92D3F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Хоть в это поверить не очень легко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Волги вода есть в реке Лимпопо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Якимов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 вы думаете, возможно ли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6699-DD1B-4EFA-987E-79B047605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я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учитель кратко рассказывает о Мировом круговороте воды в природе. А затем предлагает по схеме ответить на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Чем малый  круговорот воды отличается от больш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ую роль в круговороте воды играет Мировой океа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лагодаря чему происходит круговорот воды, что является его движущей сил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ажите, что все части гидросферы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5160-FBF3-4435-AA77-9180842C8A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лавной, самой большой частью гидросферы является Мировой океан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9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учение водной оболочки Земли мы начнём именно с не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02BB-6AEC-49E9-B552-A589347F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C9D-2D06-4BA3-B7D3-12BEAD41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5D8-8AA0-4A8B-A83D-B4BFE33A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E57-E237-4075-915A-124AEDCB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86FB-84F3-4A48-8642-7F66E8DF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6F83-A5CF-4A74-83CD-56328C1E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E0D1-7D32-41E4-B9CD-AEE5A785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CE3F-19EE-4230-B7BB-AABA05AF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3E5A-952B-40E4-8469-2187652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5725-609E-40F7-A38C-6298B522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DED1-5D12-4994-8B3B-10E7F280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385-CB14-4C96-9220-30A71E2D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BEFC-238F-4443-9884-64932742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DF3F-6ACD-4D45-87A7-FAB45499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712B-CA18-4263-B446-C017342E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29DE-8F3D-4758-9D26-DEDE43BC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D010-6BB8-44B6-864E-0647CB36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8636-718E-4816-B0B4-C0C98A55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8EC7-2BC0-4524-81E5-71290C28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560-7F9D-477D-99A3-3E2C3DBE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521-0107-43F3-8AEC-29ECAD5D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3AC-B0BF-4A8F-8F24-584F52B9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2AE5-7D64-4458-A78B-1849DAA2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DC8-A0F1-4CF3-94C8-DCD5366C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F357-D09E-485F-8FDD-31C2BB6AD7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AACB-E518-425E-B8E2-130D386A87B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916280"/>
            <a:ext cx="7623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Garamond"/>
              </a:rPr>
              <a:t>Вода на Земле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24000" y="4581360"/>
            <a:ext cx="66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етлана Валентиновна Чурин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еографии МОУ СОШ №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ода Кирово-Чепецка Кир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Garamond"/>
              </a:rPr>
              <a:t>Особенности Мирового оке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занимает ¾ площади Зем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ед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ировой океан состоит из 4 ча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их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тлантиче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дийски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верный Ледовитый оке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"/>
          <p:cNvPicPr/>
          <p:nvPr/>
        </p:nvPicPr>
        <p:blipFill>
          <a:blip r:embed="rId1"/>
          <a:stretch/>
        </p:blipFill>
        <p:spPr>
          <a:xfrm>
            <a:off x="468360" y="1703520"/>
            <a:ext cx="3752640" cy="4390920"/>
          </a:xfrm>
          <a:prstGeom prst="rect">
            <a:avLst/>
          </a:prstGeom>
          <a:ln w="0">
            <a:noFill/>
          </a:ln>
        </p:spPr>
      </p:pic>
      <p:sp>
        <p:nvSpPr>
          <p:cNvPr id="171" name="Прямоугольник 6"/>
          <p:cNvSpPr/>
          <p:nvPr/>
        </p:nvSpPr>
        <p:spPr>
          <a:xfrm>
            <a:off x="500040" y="564372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4">
            <a:hlinkClick r:id="" action="ppaction://hlinkshowjump?jump=previousslide"/>
          </p:cNvPr>
          <p:cNvSpPr/>
          <p:nvPr/>
        </p:nvSpPr>
        <p:spPr>
          <a:xfrm>
            <a:off x="8388360" y="6453360"/>
            <a:ext cx="504720" cy="215640"/>
          </a:xfrm>
          <a:custGeom>
            <a:avLst/>
            <a:gdLst>
              <a:gd name="textAreaLeft" fmla="*/ 13680 w 504720"/>
              <a:gd name="textAreaRight" fmla="*/ 491040 w 50472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50508" h="21600">
                <a:moveTo>
                  <a:pt x="0" y="0"/>
                </a:moveTo>
                <a:lnTo>
                  <a:pt x="50508" y="0"/>
                </a:lnTo>
                <a:lnTo>
                  <a:pt x="50508" y="21600"/>
                </a:lnTo>
                <a:lnTo>
                  <a:pt x="0" y="21600"/>
                </a:lnTo>
                <a:close/>
              </a:path>
              <a:path fill="lightenLess" w="50508" h="21600">
                <a:moveTo>
                  <a:pt x="0" y="0"/>
                </a:moveTo>
                <a:lnTo>
                  <a:pt x="50508" y="0"/>
                </a:lnTo>
                <a:lnTo>
                  <a:pt x="49108" y="1400"/>
                </a:lnTo>
                <a:lnTo>
                  <a:pt x="1400" y="1400"/>
                </a:lnTo>
                <a:close/>
              </a:path>
              <a:path fill="darken" w="50508" h="21600">
                <a:moveTo>
                  <a:pt x="50508" y="0"/>
                </a:moveTo>
                <a:lnTo>
                  <a:pt x="50508" y="21600"/>
                </a:lnTo>
                <a:lnTo>
                  <a:pt x="49108" y="20200"/>
                </a:lnTo>
                <a:lnTo>
                  <a:pt x="49108" y="1400"/>
                </a:lnTo>
                <a:close/>
              </a:path>
              <a:path fill="darkenLess" w="50508" h="21600">
                <a:moveTo>
                  <a:pt x="50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108" y="20200"/>
                </a:lnTo>
                <a:close/>
              </a:path>
              <a:path fill="lighten" w="50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508" h="21600">
                <a:moveTo>
                  <a:pt x="18248" y="7493"/>
                </a:moveTo>
                <a:lnTo>
                  <a:pt x="21755" y="7493"/>
                </a:lnTo>
                <a:lnTo>
                  <a:pt x="21755" y="12828"/>
                </a:lnTo>
                <a:cubicBezTo>
                  <a:pt x="21755" y="13751"/>
                  <a:pt x="22556" y="14482"/>
                  <a:pt x="23592" y="14482"/>
                </a:cubicBezTo>
                <a:lnTo>
                  <a:pt x="25254" y="14482"/>
                </a:lnTo>
                <a:cubicBezTo>
                  <a:pt x="26290" y="14482"/>
                  <a:pt x="27090" y="13751"/>
                  <a:pt x="27090" y="12828"/>
                </a:cubicBezTo>
                <a:lnTo>
                  <a:pt x="27090" y="7493"/>
                </a:lnTo>
                <a:lnTo>
                  <a:pt x="25254" y="7493"/>
                </a:lnTo>
                <a:lnTo>
                  <a:pt x="28762" y="3985"/>
                </a:lnTo>
                <a:lnTo>
                  <a:pt x="32435" y="7493"/>
                </a:lnTo>
                <a:lnTo>
                  <a:pt x="30598" y="7493"/>
                </a:lnTo>
                <a:lnTo>
                  <a:pt x="30598" y="12828"/>
                </a:lnTo>
                <a:cubicBezTo>
                  <a:pt x="30598" y="15596"/>
                  <a:pt x="28022" y="18155"/>
                  <a:pt x="25254" y="18155"/>
                </a:cubicBezTo>
                <a:lnTo>
                  <a:pt x="23592" y="18155"/>
                </a:lnTo>
                <a:cubicBezTo>
                  <a:pt x="20824" y="18155"/>
                  <a:pt x="18248" y="15596"/>
                  <a:pt x="18248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42920" y="6215040"/>
            <a:ext cx="457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Используя карты атласа, составьте 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описание океана по плану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600200"/>
          <a:ext cx="8229600" cy="4822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Тихий океа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…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Text Box 70"/>
          <p:cNvSpPr/>
          <p:nvPr/>
        </p:nvSpPr>
        <p:spPr>
          <a:xfrm>
            <a:off x="468360" y="2492280"/>
            <a:ext cx="2735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1"/>
          <p:cNvSpPr/>
          <p:nvPr/>
        </p:nvSpPr>
        <p:spPr>
          <a:xfrm>
            <a:off x="468360" y="250992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Какое место занимает по площ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4"/>
          <p:cNvSpPr/>
          <p:nvPr/>
        </p:nvSpPr>
        <p:spPr>
          <a:xfrm>
            <a:off x="3203640" y="256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5"/>
          <p:cNvSpPr/>
          <p:nvPr/>
        </p:nvSpPr>
        <p:spPr>
          <a:xfrm>
            <a:off x="468360" y="357336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 какими      океанами связ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9"/>
          <p:cNvSpPr/>
          <p:nvPr/>
        </p:nvSpPr>
        <p:spPr>
          <a:xfrm>
            <a:off x="3203640" y="3500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Атлантическим, Индийским, Сев. Ледовит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1"/>
          <p:cNvSpPr/>
          <p:nvPr/>
        </p:nvSpPr>
        <p:spPr>
          <a:xfrm>
            <a:off x="468360" y="4508640"/>
            <a:ext cx="27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Какие материки омыва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83"/>
          <p:cNvSpPr/>
          <p:nvPr/>
        </p:nvSpPr>
        <p:spPr>
          <a:xfrm>
            <a:off x="3203640" y="4508640"/>
            <a:ext cx="28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вразию, Австралию, Юж. Америку, Сев. Америку, Антаркти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6"/>
          <p:cNvSpPr/>
          <p:nvPr/>
        </p:nvSpPr>
        <p:spPr>
          <a:xfrm>
            <a:off x="468360" y="5445000"/>
            <a:ext cx="273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ова максимальная глуби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8"/>
          <p:cNvSpPr/>
          <p:nvPr/>
        </p:nvSpPr>
        <p:spPr>
          <a:xfrm>
            <a:off x="3203640" y="5516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022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Мировой океан един, то есть из одной части его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§ 23, 24 (п.2) прочитать, уметь отвечать на вопросы по изученному материал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дание на выбор: № 7 после § 23 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  №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1 после § 2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6" descr="j0232896"/>
          <p:cNvPicPr/>
          <p:nvPr/>
        </p:nvPicPr>
        <p:blipFill>
          <a:blip r:embed="rId1"/>
          <a:stretch/>
        </p:blipFill>
        <p:spPr>
          <a:xfrm>
            <a:off x="900000" y="4149720"/>
            <a:ext cx="1600200" cy="193824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6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1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4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за хорошую работу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ff"/>
                </a:solidFill>
                <a:latin typeface="Garamond"/>
              </a:rPr>
              <a:t>Вспомнит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такое гидросф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трёх агрегатных состояниях бывает вода в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вода переходить из одного состояния в друг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ите соответств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11280" y="3716280"/>
          <a:ext cx="8208720" cy="2712960"/>
        </p:xfrm>
        <a:graphic>
          <a:graphicData uri="http://schemas.openxmlformats.org/drawingml/2006/table">
            <a:tbl>
              <a:tblPr/>
              <a:tblGrid>
                <a:gridCol w="2520720"/>
                <a:gridCol w="5688000"/>
              </a:tblGrid>
              <a:tr h="27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Испар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Замерза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Конденс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Тая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. Переход воды из жидкого состояния в       твёрд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. Переход воды из газообразного состояния в жидк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. Переход воды из жидкого состояния в газообразно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. Переход воды из твёрдого состояния в жид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ff"/>
                </a:solidFill>
                <a:latin typeface="Garamond"/>
              </a:rPr>
              <a:t>Верю – не вер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Вода, находящаяся в воздухе, не является частью водной оболочки Земли, а является частью атмосфе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ировой круговорот воды в природе происходит благодаря Солнц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В Мировом круговороте воды никак не задействованы подземные вод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Из одной части Мирового океана можно попасть в другую, не пересекая суш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Тихий океан омывает берега всех материков Зем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4" descr="114041B"/>
          <p:cNvPicPr/>
          <p:nvPr/>
        </p:nvPicPr>
        <p:blipFill>
          <a:blip r:embed="rId1"/>
          <a:stretch/>
        </p:blipFill>
        <p:spPr>
          <a:xfrm>
            <a:off x="3132000" y="2924280"/>
            <a:ext cx="2303640" cy="1546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04" name="Organization Chart 7"/>
          <p:cNvGrpSpPr/>
          <p:nvPr/>
        </p:nvGrpSpPr>
        <p:grpSpPr>
          <a:xfrm>
            <a:off x="431640" y="549360"/>
            <a:ext cx="8208360" cy="2158200"/>
            <a:chOff x="431640" y="549360"/>
            <a:chExt cx="8208360" cy="2158200"/>
          </a:xfrm>
        </p:grpSpPr>
        <p:cxnSp>
          <p:nvCxnSpPr>
            <p:cNvPr id="105" name="_s1028"/>
            <p:cNvCxnSpPr>
              <a:stCxn id="106" idx="0"/>
              <a:endCxn id="107" idx="2"/>
            </p:cNvCxnSpPr>
            <p:nvPr/>
          </p:nvCxnSpPr>
          <p:spPr>
            <a:xfrm flipV="1" rot="16200000">
              <a:off x="5756040" y="19116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1029"/>
            <p:cNvCxnSpPr>
              <a:stCxn id="109" idx="0"/>
              <a:endCxn id="107" idx="2"/>
            </p:cNvCxnSpPr>
            <p:nvPr/>
          </p:nvCxnSpPr>
          <p:spPr>
            <a:xfrm flipV="1">
              <a:off x="4536000" y="1411920"/>
              <a:ext cx="3600" cy="43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030"/>
            <p:cNvCxnSpPr>
              <a:stCxn id="111" idx="0"/>
              <a:endCxn id="107" idx="2"/>
            </p:cNvCxnSpPr>
            <p:nvPr/>
          </p:nvCxnSpPr>
          <p:spPr>
            <a:xfrm flipH="1" flipV="1" rot="5400000">
              <a:off x="2883240" y="191520"/>
              <a:ext cx="432360" cy="2873520"/>
            </a:xfrm>
            <a:prstGeom prst="bentConnector3">
              <a:avLst>
                <a:gd name="adj1" fmla="val 127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7" name="_s1031"/>
            <p:cNvSpPr/>
            <p:nvPr/>
          </p:nvSpPr>
          <p:spPr>
            <a:xfrm>
              <a:off x="3304440" y="54936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остояния в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4316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Жидк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330444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вёрд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4"/>
            <p:cNvSpPr/>
            <p:nvPr/>
          </p:nvSpPr>
          <p:spPr>
            <a:xfrm>
              <a:off x="6177600" y="1844280"/>
              <a:ext cx="2462400" cy="86328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азообраз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43" descr="04SC002"/>
          <p:cNvPicPr/>
          <p:nvPr/>
        </p:nvPicPr>
        <p:blipFill>
          <a:blip r:embed="rId2"/>
          <a:stretch/>
        </p:blipFill>
        <p:spPr>
          <a:xfrm>
            <a:off x="179280" y="2924280"/>
            <a:ext cx="2279880" cy="1706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3" name="Picture 39" descr="1350"/>
          <p:cNvPicPr/>
          <p:nvPr/>
        </p:nvPicPr>
        <p:blipFill>
          <a:blip r:embed="rId3"/>
          <a:stretch/>
        </p:blipFill>
        <p:spPr>
          <a:xfrm>
            <a:off x="3780000" y="4254480"/>
            <a:ext cx="2342880" cy="1571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14" name="Picture 42" descr="0004971"/>
          <p:cNvPicPr/>
          <p:nvPr/>
        </p:nvPicPr>
        <p:blipFill>
          <a:blip r:embed="rId4"/>
          <a:stretch/>
        </p:blipFill>
        <p:spPr>
          <a:xfrm>
            <a:off x="468360" y="4221000"/>
            <a:ext cx="2502000" cy="16718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5" name="AutoShape 45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432000" cy="288720"/>
          </a:xfrm>
          <a:custGeom>
            <a:avLst/>
            <a:gdLst>
              <a:gd name="textAreaLeft" fmla="*/ 18720 w 432000"/>
              <a:gd name="textAreaRight" fmla="*/ 413280 w 43200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32306" h="21600">
                <a:moveTo>
                  <a:pt x="0" y="0"/>
                </a:moveTo>
                <a:lnTo>
                  <a:pt x="32306" y="0"/>
                </a:lnTo>
                <a:lnTo>
                  <a:pt x="32306" y="21600"/>
                </a:lnTo>
                <a:lnTo>
                  <a:pt x="0" y="21600"/>
                </a:lnTo>
                <a:close/>
              </a:path>
              <a:path fill="lightenLess" w="32306" h="21600">
                <a:moveTo>
                  <a:pt x="0" y="0"/>
                </a:moveTo>
                <a:lnTo>
                  <a:pt x="32306" y="0"/>
                </a:lnTo>
                <a:lnTo>
                  <a:pt x="30906" y="1400"/>
                </a:lnTo>
                <a:lnTo>
                  <a:pt x="1400" y="1400"/>
                </a:lnTo>
                <a:close/>
              </a:path>
              <a:path fill="darken" w="32306" h="21600">
                <a:moveTo>
                  <a:pt x="32306" y="0"/>
                </a:moveTo>
                <a:lnTo>
                  <a:pt x="32306" y="21600"/>
                </a:lnTo>
                <a:lnTo>
                  <a:pt x="30906" y="20200"/>
                </a:lnTo>
                <a:lnTo>
                  <a:pt x="30906" y="1400"/>
                </a:lnTo>
                <a:close/>
              </a:path>
              <a:path fill="darkenLess" w="32306" h="21600">
                <a:moveTo>
                  <a:pt x="32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6" y="20200"/>
                </a:lnTo>
                <a:close/>
              </a:path>
              <a:path fill="lighten" w="32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06" h="21600">
                <a:moveTo>
                  <a:pt x="9146" y="7493"/>
                </a:moveTo>
                <a:lnTo>
                  <a:pt x="12654" y="7493"/>
                </a:lnTo>
                <a:lnTo>
                  <a:pt x="12654" y="12828"/>
                </a:lnTo>
                <a:cubicBezTo>
                  <a:pt x="12654" y="13751"/>
                  <a:pt x="13455" y="14482"/>
                  <a:pt x="14491" y="14482"/>
                </a:cubicBezTo>
                <a:lnTo>
                  <a:pt x="16153" y="14482"/>
                </a:lnTo>
                <a:cubicBezTo>
                  <a:pt x="17189" y="14482"/>
                  <a:pt x="17989" y="13751"/>
                  <a:pt x="17989" y="12828"/>
                </a:cubicBezTo>
                <a:lnTo>
                  <a:pt x="17989" y="7493"/>
                </a:lnTo>
                <a:lnTo>
                  <a:pt x="16153" y="7493"/>
                </a:lnTo>
                <a:lnTo>
                  <a:pt x="19661" y="3985"/>
                </a:lnTo>
                <a:lnTo>
                  <a:pt x="23333" y="7493"/>
                </a:lnTo>
                <a:lnTo>
                  <a:pt x="21497" y="7493"/>
                </a:lnTo>
                <a:lnTo>
                  <a:pt x="21497" y="12828"/>
                </a:lnTo>
                <a:cubicBezTo>
                  <a:pt x="21497" y="15596"/>
                  <a:pt x="18921" y="18155"/>
                  <a:pt x="16153" y="18155"/>
                </a:cubicBezTo>
                <a:lnTo>
                  <a:pt x="14491" y="18155"/>
                </a:lnTo>
                <a:cubicBezTo>
                  <a:pt x="11723" y="18155"/>
                  <a:pt x="9146" y="15596"/>
                  <a:pt x="9146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9" descr="j0232703"/>
          <p:cNvPicPr/>
          <p:nvPr/>
        </p:nvPicPr>
        <p:blipFill>
          <a:blip r:embed="rId5"/>
          <a:srcRect l="0" t="0" r="0" b="43105"/>
          <a:stretch/>
        </p:blipFill>
        <p:spPr>
          <a:xfrm>
            <a:off x="6516720" y="2997360"/>
            <a:ext cx="1844640" cy="22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852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Используя текст на стр.81-82 п.1 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  <a:ea typeface="Arial"/>
              </a:rPr>
              <a:t>§</a:t>
            </a: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23, </a:t>
            </a:r>
            <a:br>
              <a:rPr sz="2800"/>
            </a:br>
            <a:r>
              <a:rPr b="0" lang="ru-RU" sz="2800" spc="-1" strike="noStrike">
                <a:solidFill>
                  <a:srgbClr val="006633"/>
                </a:solidFill>
                <a:latin typeface="Garamond"/>
                <a:ea typeface="Arial"/>
              </a:rPr>
              <a:t>дополните  схему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остав гидросфе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.………....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……………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…………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96,5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состоят из пресной воды, а какие –  из солёной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Почему вода в атмосфере всегда пресная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    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Какие части гидросферы можно увидеть на географической карте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 flipH="1">
            <a:off x="1692360" y="2133720"/>
            <a:ext cx="172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1636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6012000" y="2133720"/>
            <a:ext cx="1512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684360" y="2997360"/>
            <a:ext cx="259236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708360" y="2997360"/>
            <a:ext cx="208764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6300720" y="2997360"/>
            <a:ext cx="2232000" cy="431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 flipV="1">
            <a:off x="1187280" y="3933000"/>
            <a:ext cx="15130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1258920" y="3860640"/>
            <a:ext cx="15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0"/>
          <p:cNvSpPr/>
          <p:nvPr/>
        </p:nvSpPr>
        <p:spPr>
          <a:xfrm>
            <a:off x="3117960" y="3948120"/>
            <a:ext cx="3095640" cy="360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3223440" y="389880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лёная и 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2"/>
          <p:cNvSpPr/>
          <p:nvPr/>
        </p:nvSpPr>
        <p:spPr>
          <a:xfrm>
            <a:off x="6732720" y="3933720"/>
            <a:ext cx="1511280" cy="3589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6880" y="3884760"/>
            <a:ext cx="13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0" descr="Весна"/>
          <p:cNvPicPr/>
          <p:nvPr/>
        </p:nvPicPr>
        <p:blipFill>
          <a:blip r:embed="rId1"/>
          <a:stretch/>
        </p:blipFill>
        <p:spPr>
          <a:xfrm>
            <a:off x="3276720" y="2781360"/>
            <a:ext cx="2468520" cy="1851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134" name="Organization Chart 7"/>
          <p:cNvGrpSpPr/>
          <p:nvPr/>
        </p:nvGrpSpPr>
        <p:grpSpPr>
          <a:xfrm>
            <a:off x="431640" y="231840"/>
            <a:ext cx="8316360" cy="2259720"/>
            <a:chOff x="431640" y="231840"/>
            <a:chExt cx="8316360" cy="2259720"/>
          </a:xfrm>
        </p:grpSpPr>
        <p:cxnSp>
          <p:nvCxnSpPr>
            <p:cNvPr id="135" name="_s2052"/>
            <p:cNvCxnSpPr>
              <a:stCxn id="136" idx="0"/>
              <a:endCxn id="137" idx="2"/>
            </p:cNvCxnSpPr>
            <p:nvPr/>
          </p:nvCxnSpPr>
          <p:spPr>
            <a:xfrm flipV="1" rot="16200000">
              <a:off x="5818680" y="-9432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2053"/>
            <p:cNvCxnSpPr>
              <a:stCxn id="139" idx="0"/>
              <a:endCxn id="137" idx="2"/>
            </p:cNvCxnSpPr>
            <p:nvPr/>
          </p:nvCxnSpPr>
          <p:spPr>
            <a:xfrm flipV="1">
              <a:off x="4589640" y="1135080"/>
              <a:ext cx="3960" cy="452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4"/>
            <p:cNvCxnSpPr>
              <a:stCxn id="141" idx="0"/>
              <a:endCxn id="137" idx="2"/>
            </p:cNvCxnSpPr>
            <p:nvPr/>
          </p:nvCxnSpPr>
          <p:spPr>
            <a:xfrm flipH="1" flipV="1" rot="5400000">
              <a:off x="2907720" y="-93960"/>
              <a:ext cx="452520" cy="2910960"/>
            </a:xfrm>
            <a:prstGeom prst="bentConnector3">
              <a:avLst>
                <a:gd name="adj1" fmla="val 1273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7" name="_s2055"/>
            <p:cNvSpPr/>
            <p:nvPr/>
          </p:nvSpPr>
          <p:spPr>
            <a:xfrm>
              <a:off x="3342240" y="23184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Гидросфер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2056"/>
            <p:cNvSpPr/>
            <p:nvPr/>
          </p:nvSpPr>
          <p:spPr>
            <a:xfrm>
              <a:off x="4316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Мировой океа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2057"/>
            <p:cNvSpPr/>
            <p:nvPr/>
          </p:nvSpPr>
          <p:spPr>
            <a:xfrm>
              <a:off x="334224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ы суш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2058"/>
            <p:cNvSpPr/>
            <p:nvPr/>
          </p:nvSpPr>
          <p:spPr>
            <a:xfrm>
              <a:off x="6253200" y="1587600"/>
              <a:ext cx="2494800" cy="903960"/>
            </a:xfrm>
            <a:prstGeom prst="roundRect">
              <a:avLst>
                <a:gd name="adj" fmla="val 16667"/>
              </a:avLst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Вода в атмосфер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16" descr="Big sky"/>
          <p:cNvPicPr/>
          <p:nvPr/>
        </p:nvPicPr>
        <p:blipFill>
          <a:blip r:embed="rId2"/>
          <a:stretch/>
        </p:blipFill>
        <p:spPr>
          <a:xfrm>
            <a:off x="6084720" y="2781360"/>
            <a:ext cx="2616480" cy="1857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3" name="Picture 17" descr="90A_2"/>
          <p:cNvPicPr/>
          <p:nvPr/>
        </p:nvPicPr>
        <p:blipFill>
          <a:blip r:embed="rId3"/>
          <a:stretch/>
        </p:blipFill>
        <p:spPr>
          <a:xfrm>
            <a:off x="6372360" y="4365720"/>
            <a:ext cx="2447640" cy="190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4" name="Picture 21" descr="Wo_scn05"/>
          <p:cNvPicPr/>
          <p:nvPr/>
        </p:nvPicPr>
        <p:blipFill>
          <a:blip r:embed="rId4"/>
          <a:stretch/>
        </p:blipFill>
        <p:spPr>
          <a:xfrm>
            <a:off x="3419640" y="4365720"/>
            <a:ext cx="2514600" cy="1885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5" name="Picture 22" descr="1103n"/>
          <p:cNvPicPr/>
          <p:nvPr/>
        </p:nvPicPr>
        <p:blipFill>
          <a:blip r:embed="rId5"/>
          <a:stretch/>
        </p:blipFill>
        <p:spPr>
          <a:xfrm>
            <a:off x="395280" y="2781360"/>
            <a:ext cx="2427120" cy="1749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46" name="Picture 15" descr="j0289489"/>
          <p:cNvPicPr/>
          <p:nvPr/>
        </p:nvPicPr>
        <p:blipFill>
          <a:blip r:embed="rId6"/>
          <a:stretch/>
        </p:blipFill>
        <p:spPr>
          <a:xfrm>
            <a:off x="539640" y="4365720"/>
            <a:ext cx="2592360" cy="18748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147" name="AutoShape 23">
            <a:hlinkClick r:id="" action="ppaction://hlinkshowjump?jump=previousslide"/>
          </p:cNvPr>
          <p:cNvSpPr/>
          <p:nvPr/>
        </p:nvSpPr>
        <p:spPr>
          <a:xfrm>
            <a:off x="8388360" y="33336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7493"/>
                </a:moveTo>
                <a:lnTo>
                  <a:pt x="12621" y="7493"/>
                </a:lnTo>
                <a:lnTo>
                  <a:pt x="12621" y="12828"/>
                </a:lnTo>
                <a:cubicBezTo>
                  <a:pt x="12621" y="13751"/>
                  <a:pt x="13421" y="14482"/>
                  <a:pt x="14457" y="14482"/>
                </a:cubicBezTo>
                <a:lnTo>
                  <a:pt x="16119" y="14482"/>
                </a:lnTo>
                <a:cubicBezTo>
                  <a:pt x="17155" y="14482"/>
                  <a:pt x="17956" y="13751"/>
                  <a:pt x="17956" y="12828"/>
                </a:cubicBezTo>
                <a:lnTo>
                  <a:pt x="17956" y="7493"/>
                </a:lnTo>
                <a:lnTo>
                  <a:pt x="16119" y="7493"/>
                </a:lnTo>
                <a:lnTo>
                  <a:pt x="19627" y="3985"/>
                </a:lnTo>
                <a:lnTo>
                  <a:pt x="23300" y="7493"/>
                </a:lnTo>
                <a:lnTo>
                  <a:pt x="21463" y="7493"/>
                </a:lnTo>
                <a:lnTo>
                  <a:pt x="21463" y="12828"/>
                </a:lnTo>
                <a:cubicBezTo>
                  <a:pt x="21463" y="15596"/>
                  <a:pt x="18887" y="18155"/>
                  <a:pt x="16119" y="18155"/>
                </a:cubicBezTo>
                <a:lnTo>
                  <a:pt x="14457" y="18155"/>
                </a:lnTo>
                <a:cubicBezTo>
                  <a:pt x="11689" y="18155"/>
                  <a:pt x="9113" y="15596"/>
                  <a:pt x="9113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«Хоть в это поверить не очень легк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Но Волги вода есть в реке Лимпопо…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(И. Яким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33"/>
                </a:solidFill>
                <a:latin typeface="Arial"/>
              </a:rPr>
              <a:t>Как вы думаете, возможно ли тако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8224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SHAPE067"/>
          <p:cNvPicPr/>
          <p:nvPr/>
        </p:nvPicPr>
        <p:blipFill>
          <a:blip r:embed="rId2"/>
          <a:stretch/>
        </p:blipFill>
        <p:spPr>
          <a:xfrm>
            <a:off x="3564000" y="0"/>
            <a:ext cx="1657440" cy="1574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3635280" y="404640"/>
            <a:ext cx="521964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 отличается малый круг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ы в природе от большо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2268360" y="4797360"/>
            <a:ext cx="4896000" cy="1152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роль в круговороте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ет Мировой океан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24000" y="4724280"/>
            <a:ext cx="5113440" cy="122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чему происходит круговорот вод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является его движущей сило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195640" y="549360"/>
            <a:ext cx="4824360" cy="1079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все части гидросфе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связ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357120" y="6215040"/>
            <a:ext cx="3357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исунок взят из мультимедиа учебника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Начальный курс географии» 6 класс,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loud"/>
          <p:cNvSpPr/>
          <p:nvPr/>
        </p:nvSpPr>
        <p:spPr>
          <a:xfrm>
            <a:off x="2700360" y="836640"/>
            <a:ext cx="4392720" cy="1512720"/>
          </a:xfrm>
          <a:prstGeom prst="pie">
            <a:avLst/>
          </a:prstGeom>
          <a:gradFill rotWithShape="0">
            <a:gsLst>
              <a:gs pos="0">
                <a:srgbClr val="3399ff"/>
              </a:gs>
              <a:gs pos="100000">
                <a:srgbClr val="18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др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 flipH="1" flipV="1">
            <a:off x="538560" y="2780640"/>
            <a:ext cx="2808360" cy="2376360"/>
          </a:xfrm>
          <a:prstGeom prst="cloudCallout">
            <a:avLst>
              <a:gd name="adj1" fmla="val -51472"/>
              <a:gd name="adj2" fmla="val 71574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рово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96,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flipH="1" flipV="1">
            <a:off x="6371640" y="2637000"/>
            <a:ext cx="2592360" cy="1800000"/>
          </a:xfrm>
          <a:prstGeom prst="cloudCallout">
            <a:avLst>
              <a:gd name="adj1" fmla="val 40013"/>
              <a:gd name="adj2" fmla="val 70458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6443640" y="3284640"/>
            <a:ext cx="23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а в 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1"/>
          <p:cNvSpPr/>
          <p:nvPr/>
        </p:nvSpPr>
        <p:spPr>
          <a:xfrm flipH="1" flipV="1">
            <a:off x="3634560" y="3933720"/>
            <a:ext cx="2590920" cy="1657440"/>
          </a:xfrm>
          <a:prstGeom prst="cloudCallout">
            <a:avLst>
              <a:gd name="adj1" fmla="val 1837"/>
              <a:gd name="adj2" fmla="val 135245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4141080" y="4581360"/>
            <a:ext cx="163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ды су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6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7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58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9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5:41:03Z</dcterms:created>
  <dc:creator>xp</dc:creator>
  <dc:description/>
  <dc:language>en-US</dc:language>
  <cp:lastModifiedBy>LEGION</cp:lastModifiedBy>
  <dcterms:modified xsi:type="dcterms:W3CDTF">2014-12-30T11:16:09Z</dcterms:modified>
  <cp:revision>24</cp:revision>
  <dc:subject/>
  <dc:title>Слайд 1</dc:title>
</cp:coreProperties>
</file>