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ABD7-BD3B-49B0-AE28-CB5714E0DD49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56C8-AAF2-45D2-9E83-6082BC9FD9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Minion Pro Cond"/>
              </a:rPr>
              <a:t>Карликовые государства Европы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Minion Pro Cond"/>
              </a:rPr>
              <a:t>Княжество Лихтеншт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Презентация  к  уроку  географии в  10 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Автор : Учитель географ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ГОУ СОШ №128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nstantia"/>
              </a:rPr>
              <a:t>Салахетдинова А.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416E-B392-49D4-976B-B0EF5FB037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1862 году князь Йоханнес II подписал конституцию, которая предусматривала ограничение княжеской власти избираемым парламентом. А в 1921 году была принята новая конституция, дарующая подданным княжества все демократические прав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 Второй мировой войны, княжество сделало большой скачок в своем экономическом развитии, превратившись за несколько десятилетий в одну из самых развитых стран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3EFF-F284-4D1A-839D-CE786F81BD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ственных вооруженных сил нет. Оборона государства возложена на армию Швейцарии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Дипломатические и консульские интересы Лихтенштейна за рубежом с 1919 представляет Швейцария, состоящая с ним в таможенном и почтовом союзах. В Швейцарии и в Ватикане у Лихтенштейна есть свой посол (согласно традиции, он должен принадлежать к правящей княжеской семь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5726-0593-41F8-8B50-6577B69246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хтенштейн — процветающая индустриальная страна с развитым сектором финансовых услуг и высоким уровнем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6B15-CA51-4468-B3CB-30CB09AD85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фициальный язык — немецкий, в быту — алеманнский диалект немецк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льшинство верующих (76 %) исповедуют католицизм, протестантов — около 7 % насел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C7B0-69B4-4ACB-AA7F-C4B07A27C7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Times New Roman"/>
              </a:rPr>
              <a:t>Насел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5 360 человек, средняя плотность 220 человек на км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яя продолжительность жиз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жчин — 76,6 лет, женщин — 83,5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льшая часть жителей — лихтенштейнцы, 65,6 % по переписи 2000 года, остальные — итальянцы, швейцарцы и австрий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BD4A-2743-43DF-AAB8-42DD0B2C75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ан: XIII ве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селение: 5100 человек (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EF14-6DA1-4D51-AD60-BC68178EC5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nion Pro Cond"/>
              </a:rPr>
              <a:t>Княжество Лихтенште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"экзотическое" государство, расположенное в Центральной Евро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B92A-7226-4385-B799-35645A7B94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Times New Roman"/>
              </a:rPr>
              <a:t>Географические д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яжество находится в отрогах Альп, самая высокая точка — гора Граушпиц (2 599 м). По западной части страны протекает одна из крупнейших рек Западной Европы — Рейн. Климат умеренный, осадков 700—1 200 мм в год. Около четверти территории покрыто лесами (ель, бук, дуб), в горах — субальпийские и альпийские л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8231-5C01-4B10-AD22-E15A2121F7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лаг Лихтенштей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иний цвет символизирует синеву неба над страной, красный - яркие закаты солнца в горах Лихтенштей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 Олимпийских играх 1936 года лихтенштейнцы с огорчением увидели одинаковый с их флагом национальный флаг Гаити. Поэтому в 1937 году на синюю полосу флага Лихтенштейна была добавлена  княжеская корона - символ княжеской власти,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1AD8-7AE8-477C-9BDC-260C2D27DB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ерб Лихтенштей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нтия и корона вокруг геральдического щита символизируют монархический государственный строй и власть князя (династия возведена в княжеское достоинство в 1628 году). Золотой и красный цвета центрального щитка - родовые цвета Лихтенштей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равом верхнем углу щита изображен на желтом поле черный коронованный орел; на его груди - белая серпообразная фигура, увенчанная двумя кленовыми листьями и крестом. Это земельный герб Австрийской Силезии, где находились прежние владения Лихтенштейнов. В левом верхнем углу восемь желтых и черных горизонтальных полос с пересекающей их по диагонали зеленой с коронами полосой - герб древнего рода фон Куэнр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изу щита три геральдические фигуры. Рассеченный по вертикали красно-белый щит - герб герцогства Троппау. Золотой охотничий рог на синем поле - герб герцогства Егерндорф, название которого переводится как "Охотничья деревня". Наконец, черный коронованный орел с женской головой  на желтом поле напоминает о родстве Лихтенштейнов с восточнофри-сландскими графами и непродолжительном владении Ритбергом. В прошлом гербовый щит Лихтенштейнов окружала цепь с орденом Золотого Ру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236D-0786-4074-ABF2-B44B2F5144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Гимн Лихтенштей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FF82-2D29-463C-95C5-8FD061A4FE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E369-990A-4844-AF66-0C8F32BCA1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62699"/>
                </a:solidFill>
                <a:latin typeface="Times New Roman"/>
              </a:rPr>
              <a:t>Княжеска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796B-F3B2-4563-BB21-C78A5D39BF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История Лихтенштей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итория современного Лихтенштейна была заселена еще в ранний период каменного века. В 15 году до н. э. территория была освоена римлянами, однако уже в V в. н.э. они были вынуждены уступить ее германским племенам. В средние века здесь господствовали представители нескольких знатных родов. Лишь в 1396 году оформился государственный статус графства Вадуц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конце XVII в. князь Йоханн Адам Андреас фон Лихтенштейн выкупил эти территории, и уже в начале XVIII в. основал княжество Лихтенштейн. В течение всего XVIII в. княжество боролось за свой суверенитет, и в начале XIX в., благодаря участию в так называемом Рейнском союзе (1806), основанном Наполеоном, достигло в этом немалых успех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1C1B-D7A5-4815-BE74-00F069F99B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2E91-7AB6-4C27-9246-44DE2084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84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764-D920-4CE1-B33E-97391364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F09-A1B5-4023-B8E7-2A85DEC3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84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DE1D-588C-4202-8C9A-AAC9B549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6FB-340C-4452-938A-624FC9D7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B7A6-BA0F-4720-865A-D8A46743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687-2032-4B20-B9C0-3F4A4B57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1BC-4C29-457D-9141-FF09E5FC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07A-1C62-4ADF-BB52-491E5B39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507-CB15-4C59-8BAD-9680730D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FDD-D17E-4810-9175-9EB10F1B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84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C2A-C171-4ECF-9C84-2ABA2F4F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ow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A04A-1201-42DD-B5E5-1A651055E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inion Pro Cond"/>
              </a:rPr>
              <a:t>Карликовые государства Европы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inion Pro Cond"/>
              </a:rPr>
              <a:t>Княжество Лихтенштейн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Презентация  к  уроку  географии в  10  классе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Автор : Учитель географии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ГОУ СОШ №1283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алахетдинова А.Х.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Місце для нижнього колонтитула 2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477040" cy="68785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5508720" y="260280"/>
            <a:ext cx="3490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62 году князь Йоханнес II подписал конституцию, которая предусматривала ограничение княжеской власти избираемым парламентом. А в 1921 году была принята новая конституция, дарующая подданным княжества все демократические прав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Второй мировой войны, княжество сделало большой скачок в своем экономическом развитии, превратившись за несколько десятилетий в одну из самых развитых стран Евро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0" y="18900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ых вооруженных сил нет. Оборона государства возложена на армию Швейцарии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Дипломатические и консульские интересы Лихтенштейна за рубежом с 1919 представляет Швейцария, состоящая с ним в таможенном и почтовом союзах. В Швейцарии и в Ватикане у Лихтенштейна есть свой посол (согласно традиции, он должен принадлежать к правящей княжеской семь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хтенштейн — процветающая индустриальная страна с развитым сектором финансовых услуг и высоким уровнем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0" y="83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ая отрасль экономики — обрабатывающая промыш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516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фициальный язык — немецкий, в быту — алеманнский диалект немецк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инство верующих (76 %) исповедуют католицизм, протестантов — около 7 % насе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Times New Roman"/>
              </a:rPr>
              <a:t>Насе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5 360 человек, средняя плотность 220 человек на км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няя продолжительность жиз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жчин — 76,6 лет, женщин — 83,5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ая часть жителей — лихтенштейнцы, 65,6 % по переписи 2000 года, остальные — итальянцы, швейцарцы и австрий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2381400" cy="2762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0" y="0"/>
            <a:ext cx="356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Вадуц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столица Лихтенштейна содержит большую часть интересных объектов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0" y="189000"/>
            <a:ext cx="39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: XIII ве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ление: 5100 человек 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334120" y="4438800"/>
            <a:ext cx="3809880" cy="24192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7780320" y="45813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мок Ваду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0" y="38098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7"/>
          <p:cNvSpPr/>
          <p:nvPr/>
        </p:nvSpPr>
        <p:spPr>
          <a:xfrm>
            <a:off x="0" y="3789360"/>
            <a:ext cx="40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ходская церковь Святого Флор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5334120" y="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9"/>
          <p:cNvSpPr/>
          <p:nvPr/>
        </p:nvSpPr>
        <p:spPr>
          <a:xfrm>
            <a:off x="6436440" y="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вительственное Зд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5"/>
          <a:stretch/>
        </p:blipFill>
        <p:spPr>
          <a:xfrm>
            <a:off x="3995640" y="3068640"/>
            <a:ext cx="3810240" cy="29527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1"/>
          <p:cNvSpPr/>
          <p:nvPr/>
        </p:nvSpPr>
        <p:spPr>
          <a:xfrm>
            <a:off x="3930480" y="306864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асный 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inion Pro Cond"/>
              </a:rPr>
              <a:t>Княжество Лихтенштен</a:t>
            </a:r>
            <a:br>
              <a:rPr sz="5400"/>
            </a:b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51280" y="2492280"/>
            <a:ext cx="4968720" cy="31464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"экзотическое" государство, расположенное в Центральной Европе</a:t>
            </a:r>
            <a:r>
              <a:rPr b="0" lang="en-US" sz="4000" spc="-1" strike="noStrike">
                <a:solidFill>
                  <a:srgbClr val="0000ff"/>
                </a:solidFill>
                <a:latin typeface="Monotype Corsiva"/>
              </a:rPr>
              <a:t>.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2643120" cy="448452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2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286680" y="4957920"/>
            <a:ext cx="2857320" cy="1900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6960960" y="4653000"/>
            <a:ext cx="18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50 видов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286680" y="2565360"/>
            <a:ext cx="2857320" cy="20858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6"/>
          <p:cNvSpPr/>
          <p:nvPr/>
        </p:nvSpPr>
        <p:spPr>
          <a:xfrm>
            <a:off x="6882120" y="220500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0 видов бабоч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5449680" y="189000"/>
            <a:ext cx="18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льпийский сусл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7524720" y="0"/>
            <a:ext cx="142884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4"/>
          <a:stretch/>
        </p:blipFill>
        <p:spPr>
          <a:xfrm>
            <a:off x="3132000" y="5000760"/>
            <a:ext cx="2857680" cy="18572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0"/>
          <p:cNvSpPr/>
          <p:nvPr/>
        </p:nvSpPr>
        <p:spPr>
          <a:xfrm>
            <a:off x="3860640" y="465300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ина Ре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5"/>
          <a:stretch/>
        </p:blipFill>
        <p:spPr>
          <a:xfrm>
            <a:off x="0" y="4886280"/>
            <a:ext cx="2857680" cy="19717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2"/>
          <p:cNvSpPr/>
          <p:nvPr/>
        </p:nvSpPr>
        <p:spPr>
          <a:xfrm>
            <a:off x="476280" y="450864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отный журав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12240" y="260280"/>
            <a:ext cx="52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Географические да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4"/>
          <p:cNvSpPr/>
          <p:nvPr/>
        </p:nvSpPr>
        <p:spPr>
          <a:xfrm>
            <a:off x="0" y="1123920"/>
            <a:ext cx="622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яжество находится в отрогах Альп, самая высокая точка — гора Граушпиц (2 599 м). По западной части страны протекает одна из крупнейших рек Западной Европы — Рейн. Климат умеренный, осадков 700—1 200 мм в год. Около четверти территории покрыто лесами (ель, бук, дуб), в горах — субальпийские и альпийские л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3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лаг Лихтенштейна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8640" cy="52959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3203640" y="1268280"/>
            <a:ext cx="568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ний цвет символизирует синеву неба над страной, красный - яркие закаты солнца в горах Лихтенштей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Олимпийских играх 1936 года лихтенштейнцы с огорчением увидели одинаковый с их флагом национальный флаг Гаити. Поэтому в 1937 году на синюю полосу флага Лихтенштейна была добавлена  княжеская корона - символ княжеской власти,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Герб Лихтенштейна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904760" cy="2295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2340000" y="1341360"/>
            <a:ext cx="6804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нтия и корона вокруг геральдического щита символизируют монархический государственный строй и власть князя (династия возведена в княжеское достоинство в 1628 году). Золотой и красный цвета центрального щитка - родовые цвета Лихтенштей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равом верхнем углу щита изображен на желтом поле черный коронованный орел; на его груди - белая серпообразная фигура, увенчанная двумя кленовыми листьями и крестом. Это земельный герб Австрийской Силезии, где находились прежние владения Лихтенштейнов. В левом верхнем углу восемь желтых и черных горизонтальных полос с пересекающей их по диагонали зеленой с коронами полосой - герб древнего рода фон Куэнрин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изу щита три геральдические фигуры. Рассеченный по вертикали красно-белый щит - герб герцогства Троппау. Золотой охотничий рог на синем поле - герб герцогства Егерндорф, название которого переводится как "Охотничья деревня". Наконец, черный коронованный орел с женской головой  на желтом поле напоминает о родстве Лихтенштейнов с восточнофри-сландскими графами и непродолжительном владении Ритбергом. В прошлом гербовый щит Лихтенштейнов окружала цепь с орденом Золотого Ру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Гимн Лихтенштейна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7302600" y="580536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ка Ре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Liechtenstein_anthem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Государственное устройство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хтенштейна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3635280" y="1557360"/>
            <a:ext cx="511344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хтенштейн — конституционная наследственная монархия (с 1862). Действующая конституция вступила в силу 5 октября 1921. В марте 2003 на референдуме была принята новая редакция конституции, расширяющая полномочия княз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лава государства — князь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одательная власть принадлежит князю и ландтагу (однопалатному парламенту), состоящему из 15 членов, избираемых на 4 года. Исполнительный орган — правительство во главе с премьер-минист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0" y="566100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-й Правящий Князь Лихтенштей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анс-Ада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247920" cy="40608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619360" cy="36669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261360" y="299736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нягиня М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2700360" y="162864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оиз наследный князь Лихтеншт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6119640" y="112392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 Максимилиа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 Константи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есса Тать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5848200" y="2436840"/>
            <a:ext cx="3295800" cy="4421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2421000" cy="324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tretch/>
        </p:blipFill>
        <p:spPr>
          <a:xfrm>
            <a:off x="250920" y="3693960"/>
            <a:ext cx="2342880" cy="31435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8"/>
          <p:cNvSpPr/>
          <p:nvPr/>
        </p:nvSpPr>
        <p:spPr>
          <a:xfrm>
            <a:off x="3923280" y="189000"/>
            <a:ext cx="41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2699"/>
                </a:solidFill>
                <a:latin typeface="Times New Roman"/>
              </a:rPr>
              <a:t>Княжеская сем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2787480" y="6237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нягиня 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История Лихтенштейна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2843280" y="836640"/>
            <a:ext cx="6049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я современного Лихтенштейна была заселена еще в ранний период каменного века. В 15 году до н. э. территория была освоена римлянами, однако уже в V в. н.э. они были вынуждены уступить ее германским племенам. В средние века здесь господствовали представители нескольких знатных родов. Лишь в 1396 году оформился государственный статус графства Вадуц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конце XVII в. князь Йоханн Адам Андреас фон Лихтенштейн выкупил эти территории, и уже в начале XVIII в. основал княжество Лихтенштейн. В течение всего XVIII в. княжество боролось за свой суверенитет, и в начале XIX в., благодаря участию в так называемом Рейнском союзе (1806), основанном Наполеоном, достигло в этом немалых успехов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2857680" cy="18147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360" y="2852640"/>
            <a:ext cx="25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скопки возле Гутен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0" y="3500280"/>
            <a:ext cx="2857680" cy="14576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16560" y="5084640"/>
            <a:ext cx="25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ринная карта княж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6:22:12Z</dcterms:created>
  <dc:creator>Admin</dc:creator>
  <dc:description>Use this template to create presentations with an abstract yet sophisticated look.</dc:description>
  <cp:keywords>exciting online presentation communicate impactful exchange information broadcast collaborate on-screen projector white</cp:keywords>
  <dc:language>en-US</dc:language>
  <cp:lastModifiedBy>LEGION</cp:lastModifiedBy>
  <dcterms:modified xsi:type="dcterms:W3CDTF">2014-12-30T11:49:55Z</dcterms:modified>
  <cp:revision>32</cp:revision>
  <dc:subject/>
  <dc:title>Княжество Лихтенштей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tribution">
    <vt:lpwstr>Copyright © 2003 KMT Software, Inc.</vt:lpwstr>
  </property>
  <property fmtid="{D5CDD505-2E9C-101B-9397-08002B2CF9AE}" pid="3" name="Folder">
    <vt:lpwstr>Nouveau</vt:lpwstr>
  </property>
  <property fmtid="{D5CDD505-2E9C-101B-9397-08002B2CF9AE}" pid="4" name="Style">
    <vt:lpwstr>P</vt:lpwstr>
  </property>
  <property fmtid="{D5CDD505-2E9C-101B-9397-08002B2CF9AE}" pid="5" name="Template">
    <vt:lpwstr>Paper Sprockets</vt:lpwstr>
  </property>
</Properties>
</file>