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F61D-AAFA-44AD-BBDA-2612BB98D44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97B-D251-40F4-9D20-ED6C75BBC2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A64-3F9C-4D2D-9DC0-B467E1C7A3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A940-6CC5-4A33-8F19-6329261C91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9DB9-F5A5-447D-875E-9FF8860A5D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C3B5-BB8B-4E2F-BC39-D7C2206DF9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7F5-5150-443D-A2D5-F9D6995AF3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9BC1-11F1-4862-A426-6A177F7E89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426-CB87-420F-8FD9-8B561C2032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"экзотическое" государство, расположенное в Центральной Евро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575F-A51B-4985-B7EC-BB2702C51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1E4C-6B97-447C-AD0C-B466458785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лаг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2257-5027-4E27-BF14-CC4872A915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ерб Лихтенштей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1B4-5856-40FE-9051-A2F78A2B0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имн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F3DF-D465-4E74-8461-94973D490F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045-D4CE-40F6-89EC-20F1ACC6FD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07ED-7299-472F-8C7B-25E1A6F6FB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История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2C94-A75E-448E-9837-1B70B1FBDD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931-5401-42D4-9A44-051D7E34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7AE-A88E-4E33-85D0-199C09B7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143-6297-487D-A807-0036FAF5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DAD-3343-4189-8714-85F4A5A0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AC4-D9C6-4842-85BE-AF8FCFF6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A88-0941-464F-AA49-FE4066E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1C7-A98A-497D-B923-ACAA68E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4D0-E1AE-4710-BA4B-C584FDA3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F09-E210-4FD5-97F7-1F47DDC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173-5D71-4309-843C-F48F83BE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070-9A7C-4A02-BC9A-B8F7563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A3E-11D5-420B-AE73-48BEF541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565C-D93F-4B31-A827-720EFA2F4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78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508720" y="260280"/>
            <a:ext cx="349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1890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ая отрасль экономики — обрабатывающ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381400" cy="276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0" y="0"/>
            <a:ext cx="356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аду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толица Лихтенштейна содержит большую часть интересных объектов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0" y="1890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334120" y="4438800"/>
            <a:ext cx="3809880" cy="2419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7780320" y="458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мок Ваду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0" y="3789360"/>
            <a:ext cx="40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ходская церковь Святого Фло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6436440" y="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тельственное 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381024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3930480" y="30686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54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51280" y="2492280"/>
            <a:ext cx="4968720" cy="314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"экзотическое" государство, расположенное в Центральной Европе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643120" cy="44845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86680" y="4957920"/>
            <a:ext cx="285732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960960" y="46530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50 видов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86680" y="2565360"/>
            <a:ext cx="285732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6882120" y="2205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0 видов баб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449680" y="189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ьпийский сус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524720" y="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3132000" y="5000760"/>
            <a:ext cx="28576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3860640" y="465300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ина Р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0" y="48862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2"/>
          <p:cNvSpPr/>
          <p:nvPr/>
        </p:nvSpPr>
        <p:spPr>
          <a:xfrm>
            <a:off x="476280" y="45086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ный 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12240" y="26028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0" y="112392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3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лаг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8640" cy="5295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203640" y="1268280"/>
            <a:ext cx="56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ерб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04760" cy="229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2340000" y="1341360"/>
            <a:ext cx="680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имн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2600" y="58053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а 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iechtenstein_anthem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осударственное устройство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635280" y="1557360"/>
            <a:ext cx="5113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тенштейн — конституционная наследственная монархия (с 1862). Действующая конституция вступила в силу 5 октября 1921. В марте 2003 на референдуме была принята новая редакция конституции, расширяющая полномочия кня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государства — князь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ная власть принадлежит князю и ландтагу (однопалатному парламенту), состоящему из 15 членов, избираемых на 4 года. Исполнительный орган — правительство во главе с премьер-минис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5661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-й Правящий Князь Лихтенштей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нс-Ад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7920" cy="40608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193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1360" y="29973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гиня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700360" y="162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оиз наследный князь Лихте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6119640" y="11239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Максимили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Констант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есс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848200" y="2436840"/>
            <a:ext cx="3295800" cy="442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421000" cy="324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50920" y="3693960"/>
            <a:ext cx="234288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39232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87480" y="6237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гин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стория 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43280" y="836640"/>
            <a:ext cx="6049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2857680" cy="18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60" y="285264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скопки возле Гутен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14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560" y="50846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инная карта кня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22:12Z</dcterms:created>
  <dc:creator>Admin</dc:creator>
  <dc:description>Use this template to create presentations with an abstract yet sophisticated look.</dc:description>
  <cp:keywords>exciting online presentation communicate impactful exchange information broadcast collaborate on-screen projector white</cp:keywords>
  <dc:language>en-US</dc:language>
  <cp:lastModifiedBy>LEGION</cp:lastModifiedBy>
  <dcterms:modified xsi:type="dcterms:W3CDTF">2014-12-30T11:49:55Z</dcterms:modified>
  <cp:revision>32</cp:revision>
  <dc:subject/>
  <dc:title>Княжество Лихтенштей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ouveau</vt:lpwstr>
  </property>
  <property fmtid="{D5CDD505-2E9C-101B-9397-08002B2CF9AE}" pid="4" name="Style">
    <vt:lpwstr>P</vt:lpwstr>
  </property>
  <property fmtid="{D5CDD505-2E9C-101B-9397-08002B2CF9AE}" pid="5" name="Template">
    <vt:lpwstr>Paper Sprockets</vt:lpwstr>
  </property>
</Properties>
</file>