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2FDF-B944-4DCA-85FB-04C3DB240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FA5B-07A6-42F9-8D5D-0D571D8D62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ТУЛЯРЕМ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ющаяся лихорадкой,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ксикацией, пораж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фатического аппарата, кож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изистых оболочек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ри аэрогенном инфицировании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х: относится к зоонозам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ой очагов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а во многих район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и, источником 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ат многие грыз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33C3-A5EA-4FDA-A23C-0E6E42F47FC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49cdc"/>
                </a:solidFill>
                <a:latin typeface="Calibri"/>
              </a:rPr>
              <a:t>ХОЛЕ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инфекционн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ся развитием водянист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оса и рвоты, нарушениями вод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литного обмена, развит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волемического шока, расстройств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очек. Относится к осо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асным инфекциям. Возбудитель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лерный вибрион двух разновид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м экзотоксина холерного вибрио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пителий слизистой оболоч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ой кишки обусловлена потеря жид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мом. Морфолог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й эпителиальных клето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ащих тканей стенки кишки 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6EAF-21A7-421F-876A-9B8934B03C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акже имеют место такие понятия, как эпифитотия и эпизоотия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7C6A-8DFD-4155-8F62-15C1843ADA4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B4D1-ED77-41D9-999A-ACAB46351E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Эпизоо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эпизоотии, называется эпизоотоло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A1E-C488-4FD7-9D0A-AFC2E4B5433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49cdc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временный человек на протяжении своей жизни находится в различных средах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оциальной, производственной, местной (городской, сельской), бытовой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родной и др. Человек и среда его обитания образуют систему, состоящую и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ножества взаимодействующих элементов, имеющую упорядоченность в определен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границах и обладающую специфическими свойствами. Такое взаимодейств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пределяется множеством факторов и оказывает влияние как на самого человек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 и на соответствующую среду его обитания. Это влияние может быть, с од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ороны, положительным, с другой – одновременно и отрицательным (негативным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егативные воздействия факторов природной среды проявляются главным образом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ых ситуациях. Эти ситуации могут быть следствием, как стихийны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дствий, так и производственной деятельности человек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РЕЗВЫЧАЙНАЯ СИТУАЦИЯ – это обстановка на определенной территории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ложившаяся в результате аварии, опасного природного явления, катастрофы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ихийного или иного бедствия, которая может повлечь или повлекла за соб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ческие жертвы, ущерб здоровью людей или окружающей природной среде, 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акже значительные материальные потери и нарушение условий жизнедеятельност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С классифицируются по характеру источника и по масштаба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 характеру источника чрезвычайные ситуации делятся на техногенные и природные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 природным кроме пожара, извержения вулкана и всего прочего относятся и эпидемии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AF85-FE72-4681-8D84-50CD3F7AC8B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9cdc"/>
                </a:solidFill>
                <a:latin typeface="Calibri"/>
              </a:rPr>
              <a:t>Спасибо за в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553-6CA8-44F8-AAC2-0E9EE3E874B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Эпидемии и Инфекционные заболе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(греч. epidemia), массовое распространение инфекцио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ния человека в какой-либо местности, стране, значи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ышающее обычный уровень 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болезни людей – это заболевания, вызванные болезнетвор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организмами и передающиеся от зараженного человека или животного -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ому. Ежегодно на Земле переносят инфекционные заболевания свы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рд.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демия – это массовое распространение инфекционного заболевания людей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-либо местности или стране, значительно превышающее общи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ол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A326-3C1A-4AC8-8538-95E16BDF79D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84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49cdc"/>
                </a:solidFill>
                <a:latin typeface="Calibri"/>
              </a:rPr>
              <a:t>Далее расскажем подробнее о некоторых болезн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84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МА (pest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ая природно-очаговая инфекционная болезнь, вызываемая палочкой чумы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Yersinia pestis. Относится к особо опасным инфекциям. На земном ша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ряд природных очагов, где чума постоянно встречается у небольш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а обитающих там грызунов. Эпидемии чумы среди людей часто 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ы миграцией крыс, заражающихся в природных очагах. От грызунов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у микробы передаются через блох, которые при массовой гиб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отных меняют хозяина. Кроме того, возможен путь заражения при обработ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отниками шкур убитых зараженных животных. Принципиально иным явля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жение от человека к человеку, осуществляемое воздушно-капельным пу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порадических случаях чумы сообщается в разных странах, в том числе в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84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7D96-0334-43E1-B6BB-DF3AC7A710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будитель чумы устойчив и низким температурам, хорошо сохраняется 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мокроте, но при температуре 55 °С погибает в течение 10-15 мин, а пр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ипячении - практически немедленно. Попадает в организм через кожу (при укус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лохи), слизистые оболочки дыхательных путей, пищеварительного тракта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онъюнктив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 укусе зараженных чумными бактериями блох у человека на месте укуса мо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озникнуть папула или пустула, наполненная геморрагическим содержимым (кожна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форма). Затем процесс распространяется по лимфатическим сосудам бе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явления лимфангита. Размножение бактерий в макрофагах лимфатических узл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водит к их резкому увеличению, слиянию и образованию конгломера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бубонная форма). Дальнейшая генерализация инфекции, которая не являе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ого обязательной, тем более в условиях современной антибактериально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рапии, может приводить к развитию септической формы, сопровождающей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ражением практически всех внутренних органов. Однако с эпидемиологически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зиций важнейшую роль играют "отсевы" инфекции в легочную ткань с развитие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легочной формы болезни. С момента развития чумной пневмонии больной челове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ам становится источником заражения, но при этом от человека к человеку уж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едается легочная форма болезни - крайне опасная, с очень быстрым течение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EF39-255E-402E-A1B5-33925321276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ИБИРСКАЯ ЯЗВ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е инфекционное заболевание из группы зоонозов. У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екает в виде кожной, легочной, кишечной и септической ф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иология, патогене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ь - относительно крупная сибиреязвенная палочка; обра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ы И капсулу. Вегетативная форма возбудителя погибает без досту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а, При прогревании, воздействии дезинфицирующих средств. Сп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дителя во внешней среде весьма устойчи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220F-15E9-4571-A80E-2743A408A28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имптомы, течен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одержимым. Больной при продолжающемся зуде срывает пузырек, на его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 области дна язвочки, а также отсутствие болезненности в области увеличен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отделением пенистой кровянистой мокроты.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4839-8C52-44C8-8C6E-9312AE3F8B4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3297-6AD0-407E-972A-83AA1700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D289-6D8F-4C0B-B5FC-B889BB29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B9-3EA6-4EAC-B79D-F62EFDB5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41E0-26E8-4266-9DEF-ABBB72AC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672C-DD0C-40A0-811F-B78590AA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AE2B-BA9A-4F21-8DB1-12F32784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584-939D-4E0B-A215-E6D470E2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49B-D734-43B9-802E-CA528828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7C3D-161E-4698-999B-2437F09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7F9-942B-4CA6-B0AE-B00510BF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14FD-E893-4AB8-81F6-6D553A3A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B407-C838-4D70-A89F-F5A09FE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0DE-BB7E-45D0-8F1C-A99F91C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A9F-3893-47BA-9BA9-12F1648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79DC-CC89-43D1-AB11-CA196B82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3146-DA81-44BE-A905-FEF117EB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CF93-307F-4B8E-B3E9-45DB11AD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C2259-562B-4865-8FC9-68EC0FF5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3EA3F-4FCC-43DD-8333-CA2DDF10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C7973-B747-4A97-90B4-6FD2A293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4760E-6ADA-4125-8BD8-A4E5D097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51750-0C85-4643-BEEE-CC88F397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5EE6-255E-4563-98C1-E1457B50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66E8-F226-47D5-AB0A-1DCCB3E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F09AA-7711-407D-B777-740F78F6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FCE44-61CB-4930-ABA9-B0922631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D5A9-26E5-4D07-B7CD-C569803B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F4F8-14ED-4387-B5A7-36FDF2C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F63E-EB0F-4FD7-A5A6-B60F3A3BC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C90AA-B947-46F1-8233-2D02A68D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0DF58-5DE1-4ADF-8E9D-85A017E6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30FD-C707-4D1E-BB87-FD8F7160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34164-F282-4BC5-A6FE-1E71A8C9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496-BDB9-4465-8A3E-E4DA3C35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15AC-CEC3-409C-BC59-363C37BE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44326-0ABE-48DB-B6EA-52B869E3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8226-2C78-4BB6-885C-900688B2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1D90-0255-45E7-991A-6CE6FE28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B5F32-2AAB-47B9-AF09-28414709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0B57-8D88-4A63-A0CD-AC02F217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65E3-87D4-4DDF-830C-FAB48F5B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1FABA-1662-48E5-83B0-4A3D2D3C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B79FB-EBD1-4BD6-8254-A1404A438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64924-5962-4178-A2C5-504AA0A5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4E0-6C17-4ECC-AC22-A45DCEAD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2BAA4-4E38-454B-B735-2B821732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1ACD0-0709-442E-906D-5E307E81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C46FA-7AC2-4A68-B279-E471BA8F3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F7FD-F94B-47C7-8E11-F3E7FDFF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2C93A-650B-40B2-9CA4-9D802E77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0B496-7795-4E1C-9E45-F44EA6DA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64BC-AEBA-49B6-90AA-3C7F64B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8AD75-D237-4C82-9E09-E0FA535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F7691-ECA8-4014-B581-1288248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9087B-1B8E-4842-A241-771AED70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341-32A9-4DA3-8C05-28EDA6F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962DB-6E0C-4EB6-84AC-0F873D4B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8385D-7B74-46A7-9ADB-BB5193806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1488-712D-4E9F-972F-F4BA93AD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506D5-5C96-4812-84A8-8E3EEA0A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CFCB6-30FB-4820-9CD6-91F5AE68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530DD-9D78-415A-A8FB-87B96753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54C90-D2F6-4EB0-B4A6-95BF7542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5A769-FC5C-494E-B1EF-D638521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5123A-2289-4351-A9DC-DA65A1A4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C553-6732-4F14-9371-33DCC205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4D1-1E8B-433E-8EB2-532854BA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7759-D675-4BAA-9E24-1F32ABFA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4B9EA-E579-4B39-9A95-25785CBFA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ABB3-1FAF-46FD-A25F-CCCEED91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38A77-C260-4882-A418-540BBCBF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9D4A3-0988-4D29-ABB0-ECD1C0E5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3434F-76BC-469E-B010-8441907B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7C73F-0005-43F6-AD24-2AE3422B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01E5A-02AB-411F-972E-21040F91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BB7FA-6B22-41CA-B277-1671D581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539B-C8A5-4C93-A5F1-C1F0BAD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95E-A45E-4B6F-BD0C-B32254E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F9355-7242-462C-A002-59025855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E2581-CF76-4D90-A417-D4620887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4DA2A-94C9-4771-80CC-8EF29E10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F755C-3390-4D61-808A-DEA0F4F4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85C12-347B-43CE-B4F1-9EAB4C72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F425-174E-4588-9F3D-C5FEEDAA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AD63-A6C6-4E10-9834-7F8129703ED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AA47-C0B1-4729-87F2-7A7D6175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0966-CD3D-4856-B59C-A395D893201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E4C1-F9BC-4E64-8D8F-2BF9B449D60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6F64-99FB-4A53-B626-8975F14CE4A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452E-8BBE-4B02-B01A-132D11934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C61-3E7F-40C9-9F10-743933C355B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7270-F35F-44B6-886B-1517EBE20B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00A5-751C-4348-8345-C1A8E64B968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8FF1-25CB-4FFC-A3FE-A7CFBD11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C36-B69A-438A-8A7C-11CCDBBF58CE}" type="datetime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9AA7-5DD1-4F7C-AFB9-F4FCABDBE42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B38-E2E6-41D6-A4F0-04459DC6AA9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DE87-1A70-4AA7-A500-E15B3EFB84A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542880" y="768240"/>
            <a:ext cx="8229600" cy="16509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876920" y="4292280"/>
            <a:ext cx="4038480" cy="21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1143000" y="301680"/>
            <a:ext cx="67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тавропольский Государственный Университ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характеризующаяся лихорадкой, общей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интоксикацией, поражением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имфатического аппарата, кожи,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изистых оболочек,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а при аэрогенном инфицировании –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легких: относится к зоонозам с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иродной очаговостью.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аспространена во многих районах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России, источником инфекци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лужат многие грызуны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Picture 2" descr="C:\Documents and Settings\Home\Рабочий стол\Новая папка\0297605284.jpg"/>
          <p:cNvPicPr/>
          <p:nvPr/>
        </p:nvPicPr>
        <p:blipFill>
          <a:blip r:embed="rId2"/>
          <a:stretch/>
        </p:blipFill>
        <p:spPr>
          <a:xfrm>
            <a:off x="4648320" y="1447920"/>
            <a:ext cx="4171680" cy="4986360"/>
          </a:xfrm>
          <a:prstGeom prst="rect">
            <a:avLst/>
          </a:prstGeom>
          <a:ln w="0">
            <a:noFill/>
          </a:ln>
        </p:spPr>
      </p:pic>
      <p:sp>
        <p:nvSpPr>
          <p:cNvPr id="33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43430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страя инфекционная болезнь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арактеризуется развитием водянистог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носа и рвоты, нарушениями водно-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электролитного обмена, развитие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Гиповолемического шока, расстройством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функции почек. Относится к особо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пасным инфекциям. Возбудитель –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холерный вибрион двух разновидностей.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Действием экзотоксина холерного вибриона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на эпителий слизистой оболочк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тонкой кишки обусловлена потеря жидкост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организмом. Морфологических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зменений эпителиальных клеток и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подлежащих тканей стенки кишки не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Century Gothic"/>
              </a:rPr>
              <a:t>имеетс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0" name="Picture 2" descr="C:\Documents and Settings\Home\Рабочий стол\Новая папка\holera.jpg"/>
          <p:cNvPicPr/>
          <p:nvPr/>
        </p:nvPicPr>
        <p:blipFill>
          <a:blip r:embed="rId2"/>
          <a:stretch/>
        </p:blipFill>
        <p:spPr>
          <a:xfrm>
            <a:off x="914400" y="1905120"/>
            <a:ext cx="2857680" cy="3124080"/>
          </a:xfrm>
          <a:prstGeom prst="rect">
            <a:avLst/>
          </a:prstGeom>
          <a:ln w="0">
            <a:noFill/>
          </a:ln>
        </p:spPr>
      </p:pic>
      <p:sp>
        <p:nvSpPr>
          <p:cNvPr id="34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акже имеют место такие понятия, как эпифитотия и эпизоотия…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фитотия (от эпи... и греч. phytón — растение), распространение инфекционной болезни растений на значительные территории (хозяйство, район, область) в течение определенного времени. В виде Эпифитотия обычно проявляются ржавчина и головня хлебных злаков, фитофтороз картофеля, парша яблони, увядание хлопчатника, шютте снежное и обыкновенное и другие инфекционные заболевания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 прошлом Эпифитотия причиняли большой ущерб. Известны значительные потери урожая картофеля от фитофтороза в 40-х гг. 19 в. в Ирландии, подсолнечника — от ржавчины в 60-х гг. 19 в. в России, пшеницы — от стеблевой ржавчины в Амурской области в 1923. С повышением культуры земледелия, с разработкой методики прогнозирования массовых заболеваний растений, применением эффективных мер борьбы с ними Эпифитотия стали более редким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Обычно Эпифитотия возникают из отдельных очагов болезни при благоприятных условиях (накопление и способность к быстрому распространению инфекционного начала, погодные факторы, способствующие размножению возбудителя и развитию болезни, достаточное количество восприимчивых растений). Фитопатогенные микроорганизмы распространяются из мест резервации и заражают большое число растений. В результате образования нескольких генераций возбудителя создаются новые укрупнённые очаги болезни, расширяется район (зона) поражения, возникает Эпифитотия В зависимости от типа болезни, особенностей возбудителя, растения-хозяина и внешних факторов Эпифитотия развиваются быстро или медленно, с периодическими вспышками при благоприятных условиях. Изучением различных сторон эпифитотического процесса занимается сравнительно молодая область науки — эпифитотиология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C:\Documents and Settings\Home\Рабочий стол\Новая папка\Hordei_Barley_yellow_dwarf_virus.jpg"/>
          <p:cNvPicPr/>
          <p:nvPr/>
        </p:nvPicPr>
        <p:blipFill>
          <a:blip r:embed="rId1"/>
          <a:stretch/>
        </p:blipFill>
        <p:spPr>
          <a:xfrm>
            <a:off x="5029200" y="1671480"/>
            <a:ext cx="3638520" cy="369252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685800" y="1066680"/>
            <a:ext cx="41148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тановление связи развития Эпифитотия с теми или иными факторами позволяет ослабить их влияние. Например, изменения в популяции возбудителя болезни и растения-хозяина, обусловливающие возникновение Эпифитотия, учитываются при обосновании прогнозов болезни, выведении устойчивых к инфекционным болезням сортов с.-х. культур и их размещении в севооборотах. Меры борьбы с Эпифитотия зависят от особенностей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пизоотия (греч. ἐπι — на, среди; ζῷον — животное) — широкомасштабное распространение инфекционной болезни среди одного или многих видов животных на определённой территории, значительно превышающее уровень заболеваемости, обычно регистрируемый на данной территории. Говоря нестрого, эпизоотия — это «эпидемия у животных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аука, изучающая эпизоотии, называется эпизоотологи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8906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Эпизоотия - определяет громадное распространение какой-либо повально заразительной болезни скота. Классификация повальных болезней по степени их распространения такова: если болезнь ограничивается небольшим районом, определенным местом или же в этом последнем проявляется только в одном каком-либо участке, то она носит название "энзоотии"; если заразная болезнь распространяется на большое пространство, поражая большое число животных, то в таких случаях ее определяют словом "Э."; наконец, существует еще "панзоотия" - когда заразная болезнь охватывает своим пожарищем огромные пространства, целые части света, поражает различные виды животных; к таким болезням принадлежат ящур, сибирская язва, бешенство. Одна и та же болезнь может явиться то в форме эпизоотической, то в энзоотической, то исключительно в спорадической (единичное заболевание), например, сибирская язва. Эпизоот. болезни, несмотря на значительный успех в научном изучении их первопричины (бактериология) и на усовершенствованные методы борьбы, до сих пор продолжают служить бичом скотоводческого хозяйства, прогрессивно сокращая его количественно и тормозя развитие культурных пород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Убытки, причиняемые Э., продолжают быть неисчислимыми, так как, по компетентному мнению проф. Пютца, при исчислении убытков должно принимать во внимание не только стоимость павшего животного, но также и те убытки, которые следуют за прекращением дела во время господства болезни и спустя еще долго после неё, и нередко эти убытки бывают гораздо значительнее, чем стоимость павшего животного; помимо этого, чисто экономического расчета, надо помнить, что при некоторых Э. здоровье окружающего населения также подвергается известному риску, как, напр., при сибирской язве, ящуре, бешенстве, туберкулёзе и др. Научные открытия последних лет, явившиеся результатом переворота, произведенного открытиями Пастера в области бактериологии, выдвинули учение о микробе как первопричине всякой заразы, а изучение свойств этой заразы в значительной степени подвинуло вопрос о более рациональной борьбе с эпизоотиями. Предохранительные прививки сибирской язвы, рожи свиней, маллеинизация, туберкулинизация и пр. - все это послужило надежным орудием в борьбе с такими эпизоотиями, как сибирская язва, сплошь губившая несколько лет тому назад рабочий и продуктивный скот, а теперь доведенная в местах с хорошей ветеринарной организацией до minimum'a, до спорадических случаев, как сап, этот бич коневодства, который теперь, благодаря диагностическому значению маллеина, уже перестает быть скрытым врагом; туберкулёз, рожа свиней, чума рогатого скота, повальное воспаление легких, ящур, различного рода геморрагические заболевания - накануне борьбы, вооруженной солидными научными открытиями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Home\Рабочий стол\Новая папка\__001.jpg"/>
          <p:cNvPicPr/>
          <p:nvPr/>
        </p:nvPicPr>
        <p:blipFill>
          <a:blip r:embed="rId1"/>
          <a:stretch/>
        </p:blipFill>
        <p:spPr>
          <a:xfrm>
            <a:off x="533520" y="457200"/>
            <a:ext cx="8026200" cy="601992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1" name="Picture 2" descr="C:\Documents and Settings\Home\Рабочий стол\Новая папка\post-44-1210180075.jpg"/>
          <p:cNvPicPr/>
          <p:nvPr/>
        </p:nvPicPr>
        <p:blipFill>
          <a:blip r:embed="rId1"/>
          <a:stretch/>
        </p:blipFill>
        <p:spPr>
          <a:xfrm>
            <a:off x="380880" y="228600"/>
            <a:ext cx="8433000" cy="632448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89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временный человек на протяжении своей жизни находится в различных средах: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оциальной, производственной, местной (городской, сельской), бытовой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родной и др. Человек и среда его обитания образуют систему, состоящую и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ножества взаимодействующих элементов, имеющую упорядоченность в определен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границах и обладающую специфическими свойствами. Такое взаимодействи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определяется множеством факторов и оказывает влияние как на самого человек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 и на соответствующую среду его обитания. Это влияние может быть, с од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ороны, положительным, с другой – одновременно и отрицательным (негативным)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Негативные воздействия факторов природной среды проявляются главным образом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ых ситуациях. Эти ситуации могут быть следствием, как стихийны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едствий, так и производственной деятельности человека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РЕЗВЫЧАЙНАЯ СИТУАЦИЯ – это обстановка на определенной территории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ложившаяся в результате аварии, опасного природного явления, катастрофы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ихийного или иного бедствия, которая может повлечь или повлекла за соб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еловеческие жертвы, ущерб здоровью людей или окружающей природной среде, 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акже значительные материальные потери и нарушение условий жизнедеятельности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ЧС классифицируются по характеру источника и по масштаба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 характеру источника чрезвычайные ситуации делятся на техногенные и природные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 природным кроме пожара, извержения вулкана и всего прочего относятся и эпидемии…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Місце для нижнього колонтитула 3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457200" y="294480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3780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(греч. epidemia), массовое распространение инфекционног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ния человека в какой-либо местности, стране, значительно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евышающее обычный уровень 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Инфекционные болезни людей – это заболевания, вызванные болезнетворными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икроорганизмами и передающиеся от зараженного человека или животного - к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доровому. Ежегодно на Земле переносят инфекционные заболевания свыше 1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млрд. человек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Эпидемия – это массовое распространение инфекционного заболевания людей в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какой-либо местности или стране, значительно превышающее общий уровень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заболеваемости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3"/>
          <p:cNvSpPr/>
          <p:nvPr/>
        </p:nvSpPr>
        <p:spPr>
          <a:xfrm>
            <a:off x="457200" y="228600"/>
            <a:ext cx="83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амые опасные заболевания, принимающие форму эпидемии приведены ниж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Box 6"/>
          <p:cNvSpPr/>
          <p:nvPr/>
        </p:nvSpPr>
        <p:spPr>
          <a:xfrm>
            <a:off x="152280" y="1523880"/>
            <a:ext cx="8839440" cy="28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болевани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пособ распространен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Латентный период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должительность потери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мертность без лечения,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ботоспособности, сутки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Чум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в воздухе;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 (при бубонной форме)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100( при легочной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  и септических формах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заражение воды, пищи,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едметов домашнего обихода;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.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,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2 – 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7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До 100 (при легочно-кишечной форме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искусственное заражен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ереносчиков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уляремия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Распыление спор в воздухе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 – 6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40 – 6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.8 до 3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Холера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Распыление спор в воздухе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5 - 30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0 – 8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Тиф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роникают в организм через 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12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6 – 14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 До 4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мельчайшие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entury Gothic"/>
              </a:rPr>
              <a:t>повреждения кожи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304920" y="106668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УМА (pestis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страя природно-очаговая инфекционная болезнь, вызываемая палочкой чумы -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Yersinia pestis. Относится к особо опасным инфекциям. На земном шар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сохраняется ряд природных очагов, где чума постоянно встречается у небольшого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процента обитающих там грызунов. Эпидемии чумы среди людей часто бы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бусловлены миграцией крыс, заражающихся в природных очагах. От грызунов к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человеку микробы передаются через блох, которые при массовой гибели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Животных меняют хозяина. Кроме того, возможен путь заражения при обработке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хотниками шкур убитых зараженных животных. Принципиально иным является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заражение от человека к человеку, осуществляемое воздушно-капельным путем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entury Gothic"/>
              </a:rPr>
              <a:t>О спорадических случаях чумы сообщается в разных странах, в том числе в США.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будитель чумы устойчив и низким температурам, хорошо сохраняется 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мокроте, но при температуре 55 °С погибает в течение 10-15 мин, а при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ипячении - практически немедленно. Попадает в организм через кожу (при укус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блохи), слизистые оболочки дыхательных путей, пищеварительного тракта,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конъюнктивы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 укусе зараженных чумными бактериями блох у человека на месте укуса може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возникнуть папула или пустула, наполненная геморрагическим содержимым (кожна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форма). Затем процесс распространяется по лимфатическим сосудам без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оявления лимфангита. Размножение бактерий в макрофагах лимфатических узлов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риводит к их резкому увеличению, слиянию и образованию конгломерата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(бубонная форма). Дальнейшая генерализация инфекции, которая не являет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трого обязательной, тем более в условиях современной антибактериальной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терапии, может приводить к развитию септической формы, сопровождающейся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ражением практически всех внутренних органов. Однако с эпидемиологических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озиций важнейшую роль играют "отсевы" инфекции в легочную ткань с развитием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легочной формы болезни. С момента развития чумной пневмонии больной человек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сам становится источником заражения, но при этом от человека к человеку уже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entury Gothic"/>
              </a:rPr>
              <a:t>передается легочная форма болезни - крайне опасная, с очень быстрым течением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Прямоугольник 3"/>
          <p:cNvSpPr/>
          <p:nvPr/>
        </p:nvSpPr>
        <p:spPr>
          <a:xfrm>
            <a:off x="1981080" y="45720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иология, пато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ИБИРСКАЯ ЯЗВ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Острое инфекционное заболевание из группы зоонозов. У человек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протекает в виде кожной, легочной, кишечной и септической форм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Этиология, патоген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ь - относительно крупная сибиреязвенная палочка; образует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Споры И капсулу. Вегетативная форма возбудителя погибает без доступа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духа, При прогревании, воздействии дезинфицирующих средств. Споры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entury Gothic"/>
              </a:rPr>
              <a:t>возбудителя во внешней среде весьма устойчивы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:\Documents and Settings\Home\Рабочий стол\Новая папка\Carbuncle.jpg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20092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Инкубационный период от нескольких часов до 8 дней (чаще 2-3 дня). Наиболее часто сибирская язва у человека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текает в виде кожной формы (95-99% случаев) и лишь у 1-5% больных- в виде легочной и кишечной. Типичны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оявления кожной формы сибирской  язвы возникают в зоне  ворот инфекции. Вначале появляется красное зудящее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ятнышко, которое быстро превращается в папулу, а последняя - в  везикулу с прозрачным или геморрагическ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одержимым. Больной при продолжающемся зуде срывает пузырек, на его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есте образуется  язвочка с темным дном и  обильным серозным отделяемым. По периферии язвочки развив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оспалительный валик, в зоне которого образуются  дочерние пузырьки. Одновременно с этим вокруг язвочк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вается отек (может' быть весьма обширным) и регионарный  лимфаденит. Характерно  Отсутствие чувствительност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 области дна язвочки, а также отсутствие болезненности в области увеличен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лимфатических узлов. К моменту образования язвочки появляется лихорадка, которая продолжается в течение 5-7 дней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бщая слабость,  разбитость, головная боль, адинамия. Местные изменения в области поражения нарастают примерно в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чение тех же сроков, что и лихорадка, а затем  начинается обратное развитие: сначала снижается температура тел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прекращается отдаление серозной жидкости из зоны некроза, начинается уменьшение (до  полного исчезновения) отека,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а на месте некроза постепенно формируется струп. На 10-14-й день струп отторгается, образуется язва с гранулирующи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ном И умеренным гнойным отделяемым с последующим рубцеванием. Легочная форма сибирской язвы начина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стро, протекает тяжело. Проявляется болью в  груди, одышкой, цианозом, тахикардией (до 120-140 в 1 мин), кашлем с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отделением пенистой кровянистой мокроты.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Температура тела быстро достигает высоких цифр (40° С и выше), АД снижается. Кишечная форма сибирской язвы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характеризуется общей интоксикацией, повышением температуры тела, болью в эпигастральной области, поносом и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вотой. Живот вздут, резко болезнен при пальпации, нередко имеются признаки раздражения брюшины. В рвотных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массах и выделениях из кишечника появляется примесь крови. При любой из описанных форм сибирской язвы может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развиться сепсис с бактериемией и вторичными очагами (поражение печени, селезенки, почек, мозговых оболочек). Дл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диагностики важны эпидемиологические данные (профессия больного, контакт с больными животными или зараженным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сырьем животного происхождения) и характерные поражения кожи. Лабораторным подтверждением диагноза является 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выделение возбудителя сибирской язвы. Вспомогательное значение имеет аллергическая проба с антраксином.</a:t>
            </a: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981080" y="533520"/>
            <a:ext cx="47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мптомы, т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07T10:24:18Z</dcterms:modified>
  <cp:revision>18</cp:revision>
  <dc:subject/>
  <dc:title>Презентация на тему Эпидемии</dc:title>
</cp:coreProperties>
</file>