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.png" ContentType="image/png"/>
  <Override PartName="/ppt/media/image2.png" ContentType="image/png"/>
  <Override PartName="/ppt/media/image9.jpeg" ContentType="image/jpeg"/>
  <Override PartName="/ppt/media/image8.png" ContentType="image/png"/>
  <Override PartName="/ppt/media/image14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D9424-682C-4A9D-AA24-7FA09419BE0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49cdc"/>
                </a:solidFill>
                <a:latin typeface="Calibri"/>
              </a:rPr>
              <a:t>Инфекционные заболе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F47F6-AB28-4CD4-A0C8-B8B367CB7C9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84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49cdc"/>
                </a:solidFill>
                <a:latin typeface="Calibri"/>
              </a:rPr>
              <a:t>ТУЛЯРЕМ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ая инфекционная болезн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зующаяся лихорадкой, общ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оксикацией, поражени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мфатического аппарата, кож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изистых оболочек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при аэрогенном инфицировании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гких: относится к зоонозам 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ной очаговость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остранена во многих район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и, источником 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жат многие грызу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329C5-84FD-4B01-9184-D5D727547C8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8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49cdc"/>
                </a:solidFill>
                <a:latin typeface="Calibri"/>
              </a:rPr>
              <a:t>ХОЛЕ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ая инфекционная болез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зуется развитием водянист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оса и рвоты, нарушениями водн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литного обмена, развити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поволемического шока, расстройств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почек. Относится к особ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асным инфекциям. Возбудитель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лерный вибрион двух разновиднос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м экзотоксина холерного вибрио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эпителий слизистой оболоч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нкой кишки обусловлена потеря жидк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мом. Морфологически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й эпителиальных клеток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лежащих тканей стенки кишки н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7C486-EA81-4633-A930-EABD39C0CED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акже имеют место такие понятия, как эпифитотия и эпизоотия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пифитотия (от эпи... и греч. phytón — растение), распространение инфекционной болезни растений на значительные территории (хозяйство, район, область) в течение определенного времени. В виде Эпифитотия обычно проявляются ржавчина и головня хлебных злаков, фитофтороз картофеля, парша яблони, увядание хлопчатника, шютте снежное и обыкновенное и другие инфекционные заболе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шлом Эпифитотия причиняли большой ущерб. Известны значительные потери урожая картофеля от фитофтороза в 40-х гг. 19 в. в Ирландии, подсолнечника — от ржавчины в 60-х гг. 19 в. в России, пшеницы — от стеблевой ржавчины в Амурской области в 1923. С повышением культуры земледелия, с разработкой методики прогнозирования массовых заболеваний растений, применением эффективных мер борьбы с ними Эпифитотия стали более редки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07AF5-7B88-484A-9CCB-CF4FA1059B8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ычно Эпифитотия возникают из отдельных очагов болезни при благоприятных условиях (накопление и способность к быстрому распространению инфекционного начала, погодные факторы, способствующие размножению возбудителя и развитию болезни, достаточное количество восприимчивых растений). Фитопатогенные микроорганизмы распространяются из мест резервации и заражают большое число растений. В результате образования нескольких генераций возбудителя создаются новые укрупнённые очаги болезни, расширяется район (зона) поражения, возникает Эпифитотия В зависимости от типа болезни, особенностей возбудителя, растения-хозяина и внешних факторов Эпифитотия развиваются быстро или медленно, с периодическими вспышками при благоприятных условиях. Изучением различных сторон эпифитотического процесса занимается сравнительно молодая область науки — эпифитотиолог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C3B7-FFE8-4B37-8517-DC47C3F38C3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49cdc"/>
                </a:solidFill>
                <a:latin typeface="Calibri"/>
              </a:rPr>
              <a:t>Эпизоо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пизоотия (греч. ἐπι — на, среди; ζῷον — животное) — широкомасштабное распространение инфекционной болезни среди одного или многих видов животных на определённой территории, значительно превышающее уровень заболеваемости, обычно регистрируемый на данной территории. Говоря нестрого, эпизоотия — это «эпидемия у животных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ка, изучающая эпизоотии, называется эпизоотолог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4CF5B-3F09-4B6D-9C6F-85AC6020E52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49cdc"/>
                </a:solidFill>
                <a:latin typeface="Calibri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Современный человек на протяжении своей жизни находится в различных средах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социальной, производственной, местной (городской, сельской), бытовой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риродной и др. Человек и среда его обитания образуют систему, состоящую из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множества взаимодействующих элементов, имеющую упорядоченность в определенных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границах и обладающую специфическими свойствами. Такое взаимодействи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определяется множеством факторов и оказывает влияние как на самого человека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так и на соответствующую среду его обитания. Это влияние может быть, с одно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стороны, положительным, с другой – одновременно и отрицательным (негативным)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Негативные воздействия факторов природной среды проявляются главным образом в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чрезвычайных ситуациях. Эти ситуации могут быть следствием, как стихийных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бедствий, так и производственной деятельности человека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ЧРЕЗВЫЧАЙНАЯ СИТУАЦИЯ – это обстановка на определенной территории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сложившаяся в результате аварии, опасного природного явления, катастрофы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стихийного или иного бедствия, которая может повлечь или повлекла за собо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человеческие жертвы, ущерб здоровью людей или окружающей природной среде, 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также значительные материальные потери и нарушение условий жизнедеятельности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ЧС классифицируются по характеру источника и по масштабам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о характеру источника чрезвычайные ситуации делятся на техногенные и природные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К природным кроме пожара, извержения вулкана и всего прочего относятся и эпидемии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B3406-1C77-4273-B67C-112C0494684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49cdc"/>
                </a:solidFill>
                <a:latin typeface="Calibri"/>
              </a:rPr>
              <a:t>Спасибо за вним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AA62C-A968-42AF-BA9F-3F15500B4C3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84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49cdc"/>
                </a:solidFill>
                <a:latin typeface="Calibri"/>
              </a:rPr>
              <a:t>Эпидемии и Инфекционные заболеван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ПИДЕМИЯ (греч. epidemia), массовое распространение инфекцион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олевания человека в какой-либо местности, стране, значитель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вышающее обычный уровень заболевае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екционные болезни людей – это заболевания, вызванные болезнетворн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кроорганизмами и передающиеся от зараженного человека или животного - 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оровому. Ежегодно на Земле переносят инфекционные заболевания свыше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лрд. 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пидемия – это массовое распространение инфекционного заболевания людей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-либо местности или стране, значительно превышающее общий уров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олевае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E6050-532C-4C9C-B9D7-6218C034A22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84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49cdc"/>
                </a:solidFill>
                <a:latin typeface="Calibri"/>
              </a:rPr>
              <a:t>Далее расскажем подробнее о некоторых болезня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УМА (pesti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ая природно-очаговая инфекционная болезнь, вызываемая палочкой чумы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Yersinia pestis. Относится к особо опасным инфекциям. На земном ша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яется ряд природных очагов, где чума постоянно встречается у небольш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нта обитающих там грызунов. Эпидемии чумы среди людей часто бы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условлены миграцией крыс, заражающихся в природных очагах. От грызунов 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у микробы передаются через блох, которые при массовой гиб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вотных меняют хозяина. Кроме того, возможен путь заражения при обработ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отниками шкур убитых зараженных животных. Принципиально иным явля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ажение от человека к человеку, осуществляемое воздушно-капельным пут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спорадических случаях чумы сообщается в разных странах, в том числе в СШ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DC7CD-BA89-4E7F-8937-7F721DDC02C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Этиология, патогенез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Возбудитель чумы устойчив и низким температурам, хорошо сохраняется в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мокроте, но при температуре 55 °С погибает в течение 10-15 мин, а пр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кипячении - практически немедленно. Попадает в организм через кожу (при укус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блохи), слизистые оболочки дыхательных путей, пищеварительного тракта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конъюнктивы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ри укусе зараженных чумными бактериями блох у человека на месте укуса може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возникнуть папула или пустула, наполненная геморрагическим содержимым (кожна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форма). Затем процесс распространяется по лимфатическим сосудам без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роявления лимфангита. Размножение бактерий в макрофагах лимфатических узлов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риводит к их резкому увеличению, слиянию и образованию конгломерат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(бубонная форма). Дальнейшая генерализация инфекции, которая не являетс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строго обязательной, тем более в условиях современной антибактериально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терапии, может приводить к развитию септической формы, сопровождающейс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оражением практически всех внутренних органов. Однако с эпидемиологических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озиций важнейшую роль играют "отсевы" инфекции в легочную ткань с развитием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легочной формы болезни. С момента развития чумной пневмонии больной челове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сам становится источником заражения, но при этом от человека к человеку уж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ередается легочная форма болезни - крайне опасная, с очень быстрым течением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F4849-01CB-405C-8BC8-3CBDE1301BF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ИБИРСКАЯ ЯЗ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ое инфекционное заболевание из группы зоонозов. У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екает в виде кожной, легочной, кишечной и септической фор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тиология, патогенез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будитель - относительно крупная сибиреязвенная палочка; образ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ры И капсулу. Вегетативная форма возбудителя погибает без досту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уха, При прогревании, воздействии дезинфицирующих средств. Сп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будителя во внешней среде весьма устойчив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E01F1-89D5-4128-94EA-F4DEEB9C345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Симптомы, течени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Инкубационный период от нескольких часов до 8 дней (чаще 2-3 дня). Наиболее часто сибирская язва у человека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протекает в виде кожной формы (95-99% случаев) и лишь у 1-5% больных- в виде легочной и кишечной. Типичные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проявления кожной формы сибирской  язвы возникают в зоне  ворот инфекции. Вначале появляется красное зудящее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пятнышко, которое быстро превращается в папулу, а последняя - в  везикулу с прозрачным или геморрагическим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содержимым. Больной при продолжающемся зуде срывает пузырек, на его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месте образуется  язвочка с темным дном и  обильным серозным отделяемым. По периферии язвочки развивается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воспалительный валик, в зоне которого образуются  дочерние пузырьки. Одновременно с этим вокруг язвочки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развивается отек (может' быть весьма обширным) и регионарный  лимфаденит. Характерно  Отсутствие чувствительности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в области дна язвочки, а также отсутствие болезненности в области увеличенных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лимфатических узлов. К моменту образования язвочки появляется лихорадка, которая продолжается в течение 5-7 дней,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общая слабость,  разбитость, головная боль, адинамия. Местные изменения в области поражения нарастают примерно в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течение тех же сроков, что и лихорадка, а затем  начинается обратное развитие: сначала снижается температура тела,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прекращается отдаление серозной жидкости из зоны некроза, начинается уменьшение (до  полного исчезновения) отека,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а на месте некроза постепенно формируется струп. На 10-14-й день струп отторгается, образуется язва с гранулирующим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дном И умеренным гнойным отделяемым с последующим рубцеванием. Легочная форма сибирской язвы начинается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остро, протекает тяжело. Проявляется болью в  груди, одышкой, цианозом, тахикардией (до 120-140 в 1 мин), кашлем с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отделением пенистой кровянистой мокроты.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Температура тела быстро достигает высоких цифр (40° С и выше), АД снижается. Кишечная форма сибирской язвы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характеризуется общей интоксикацией, повышением температуры тела, болью в эпигастральной области, поносом и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рвотой. Живот вздут, резко болезнен при пальпации, нередко имеются признаки раздражения брюшины. В рвотных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массах и выделениях из кишечника появляется примесь крови. При любой из описанных форм сибирской язвы может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развиться сепсис с бактериемией и вторичными очагами (поражение печени, селезенки, почек, мозговых оболочек). Для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диагностики важны эпидемиологические данные (профессия больного, контакт с больными животными или зараженным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сырьем животного происхождения) и характерные поражения кожи. Лабораторным подтверждением диагноза является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выделение возбудителя сибирской язвы. Вспомогательное значение имеет аллергическая проба с антраксином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125E8-47E1-41E2-9949-9708F408463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2BAA-9DD9-486C-B8C6-64E400D3A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C215-FCB3-4638-A884-0721C8A5F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2A84-3225-48A2-A81A-E105877AB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1B4C-2536-40E0-9FBF-D131A8F21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5F60D-7B32-4FE8-A16D-00743AB81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065A6-71ED-4041-953B-FEC994621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01FA9-FBAD-4C18-9EC2-DDD26C785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C57C9-D4D9-4C2E-A0E1-4BD78A93C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E3E83-FF94-4BBC-8DCB-E4271BFD4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93453-BDD7-49E3-9461-9C3C29972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DA144-3EF3-4FE6-80B2-9C70C5F0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BCFD-F910-41FB-AC75-F345F529A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A69DA-FB54-4345-B6C5-FC1BD0A7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3AC60-5DCF-480E-A81D-4BB212D1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2D506-FB48-45D5-954C-0CC23A9CD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5B4A2-A838-4962-B3B8-CB1F543D1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72998-623E-475B-9270-4BC059748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C2689-B19E-46F5-A39C-99EC639C9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248F8-BA8C-4ACE-A448-995B87E80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91D1C-83BD-433E-BF45-58166DF5D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D7D87-4E14-42E3-8AEF-9C50818D7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45791-20A5-41F6-98F8-C28E5EE35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D171-1B1D-47D5-9D6B-B73C037B6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3728D-3455-4A7C-AC60-CD0FA394D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76C4F-0238-445A-825A-087B7D4F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1E926-800F-433B-9C45-3641FEDE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21F68-29E1-43CE-BD55-DB99D5FA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313F0-C024-4521-9AC5-1D58D994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D2F83-04C6-489D-9F12-854D9526F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05D5D-D702-4313-BFBF-451F7DB42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8DA55-5CF1-4E80-94BF-58A9CA42B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40FD0-A532-43BC-9E69-05CF85B23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52A40-AFD2-4F55-9B86-04C6462A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1ADA-77F2-4E10-80E4-E4667D716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FA0DC-3995-48D0-BFB4-AC1E6E975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3107C-6A3B-4AE2-8663-026DC7217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CF614-5144-4EF9-9E9D-56304AAD2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6EE07-6D4E-45F6-93CA-CAE6253A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170B1-5AAC-48F9-B07C-FC52946F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02137-B5EA-4187-846F-6F22E4AD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A6A4A-7ACA-4FA1-BE5F-DA0D61BB5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CE0F2-E3D1-4D81-8584-636D4ED23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8CFA8-73B0-4D6F-8BBC-4F93740EA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D961B-2CB5-4E66-BB72-DD9C98B23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AE1F-B89E-45F7-9FE5-A63854FEE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72A3F-DF52-461D-B5DC-570884CBA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499F2-144F-4D46-B918-CDEFD1AF9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EED12-313F-492E-A426-144722C65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FF063-3DF5-492E-891F-31BC192E5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599D1-F624-4FB7-854B-2D6A812FB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360B0-E52B-4C38-82CA-1DA6E004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BBC54-FC93-4080-834E-08C0BC5E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2B30B-003A-406E-801E-C93F1111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E3602-F9D8-45A6-9258-241BCB1C0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3732C-EB32-4487-B66D-2E2CDE4DE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A11F-248F-4988-901A-E607AFA15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5574B-C02C-4548-9168-66B4FB285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BBBD8-C532-4CBE-959C-B7FBE27B7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3E041-15EC-45CF-81FE-235D31EF0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C4560-FBEE-4B39-B257-07329C2CC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532FC-D7FF-407E-B4B7-F8A07BF00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9C6F3-DA02-48B4-A8DD-DAF99A2E1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7315E-096A-4F8E-96DA-A84D2F282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ADA01-DAC0-4060-AA7F-E1057D99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715D5-768A-4F0A-9FF2-65934FFD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C2F58-04CE-41B8-9D3B-10BA46BC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C6D2-2F4E-442D-A089-CDA5BB00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2B52E-47E7-40A7-8BB5-E47717A71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2C9332-A601-4D65-B7BD-97C300A74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CE4AD-ADF5-44D4-A610-D68354935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83AB2-90E3-4C1C-BD13-DCCFB3C21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184EB4-D0F6-4C51-959D-3149B8978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BA218-07B7-4EED-8975-A85386919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E99474-BF01-448E-9EF2-1F57DE212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CB0FB-9F65-4E32-8C4D-E510EC096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F186A-5FC3-439A-975D-FDD41B5CA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EDD0A-570D-45A8-B4A5-EA6075F6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659C-50FB-4351-BE15-4A5369B1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CF7785-56C4-4A1B-A3D5-BBF76EA1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401D80-BE46-404A-AE11-7BCF8FA2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4EFE24-5B8B-4EDF-A2A3-912165A57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2C7BE-F4AA-4B1C-BD27-6449D0084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48CF6-00D9-4D26-A0D6-AB5DEBD53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7DA5-FFDC-4F8B-A845-37FB4A8A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BBE43-E42E-4E67-99EF-E2FFBA0C637B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69FC3-D917-4994-A761-5DBF9E09ED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F60A0-2557-489D-A401-0D8A1F075B8D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E797-3BCF-491C-8857-C4162181E81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468A2-4259-4076-BA14-8C2D657D5A75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9D7D5-2529-4C72-B211-57D1AE3F0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0006D-5814-4D19-AB8C-53E8329FFD04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B369-FE00-4D46-9B77-DB6718B4270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C0A43-AEB6-46BD-B297-55064E0C8EB0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C3421-F769-4911-B69F-9ECE63BD2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13E1F-8B22-4DCD-9A10-384AB9BD756C}" type="datetime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FF1BA-4685-4B82-8479-47A656ED68B9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9FE20-7CEF-4BDB-AD91-9DAE19E70EE1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CE241-2FE9-40AD-8F74-E1F1CA5A7BC0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542880" y="768240"/>
            <a:ext cx="8229600" cy="165096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876920" y="4292280"/>
            <a:ext cx="4038480" cy="21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TextBox 5"/>
          <p:cNvSpPr/>
          <p:nvPr/>
        </p:nvSpPr>
        <p:spPr>
          <a:xfrm>
            <a:off x="1143000" y="301680"/>
            <a:ext cx="678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Ставропольский Государственный Университе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Місце для нижнього колонтитула 1"/>
          <p:cNvSpPr/>
          <p:nvPr/>
        </p:nvSpPr>
        <p:spPr>
          <a:xfrm>
            <a:off x="137160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Острая инфекционная болезнь, 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характеризующаяся лихорадкой, общей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интоксикацией, поражением 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лимфатического аппарата, кожи, 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слизистых оболочек,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а при аэрогенном инфицировании –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легких: относится к зоонозам с 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Природной очаговостью. 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Распространена во многих районах 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России, источником инфекции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служат многие грызуны.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6" name="Picture 2" descr="C:\Documents and Settings\Home\Рабочий стол\Новая папка\0297605284.jpg"/>
          <p:cNvPicPr/>
          <p:nvPr/>
        </p:nvPicPr>
        <p:blipFill>
          <a:blip r:embed="rId2"/>
          <a:stretch/>
        </p:blipFill>
        <p:spPr>
          <a:xfrm>
            <a:off x="4648320" y="1447920"/>
            <a:ext cx="4171680" cy="4986360"/>
          </a:xfrm>
          <a:prstGeom prst="rect">
            <a:avLst/>
          </a:prstGeom>
          <a:ln w="0">
            <a:noFill/>
          </a:ln>
        </p:spPr>
      </p:pic>
      <p:sp>
        <p:nvSpPr>
          <p:cNvPr id="337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 txBox="1"/>
          <p:nvPr/>
        </p:nvSpPr>
        <p:spPr>
          <a:xfrm>
            <a:off x="4343040" y="1371240"/>
            <a:ext cx="43434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Острая инфекционная болезнь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Характеризуется развитием водянистого 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поноса и рвоты, нарушениями водно-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электролитного обмена, развитием 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Гиповолемического шока, расстройством 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функции почек. Относится к особо 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опасным инфекциям. Возбудитель –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холерный вибрион двух разновидностей. 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Действием экзотоксина холерного вибриона 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на эпителий слизистой оболочки 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тонкой кишки обусловлена потеря жидкости 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организмом. Морфологических 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изменений эпителиальных клеток и 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подлежащих тканей стенки кишки не 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имеется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0" name="Picture 2" descr="C:\Documents and Settings\Home\Рабочий стол\Новая папка\holera.jpg"/>
          <p:cNvPicPr/>
          <p:nvPr/>
        </p:nvPicPr>
        <p:blipFill>
          <a:blip r:embed="rId2"/>
          <a:stretch/>
        </p:blipFill>
        <p:spPr>
          <a:xfrm>
            <a:off x="914400" y="1905120"/>
            <a:ext cx="2857680" cy="3124080"/>
          </a:xfrm>
          <a:prstGeom prst="rect">
            <a:avLst/>
          </a:prstGeom>
          <a:ln w="0">
            <a:noFill/>
          </a:ln>
        </p:spPr>
      </p:pic>
      <p:sp>
        <p:nvSpPr>
          <p:cNvPr id="341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457200" y="4572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Также имеют место такие понятия, как эпифитотия и эпизоотия…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80880" indent="-380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80880" indent="-380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Эпифитотия (от эпи... и греч. phytón — растение), распространение инфекционной болезни растений на значительные территории (хозяйство, район, область) в течение определенного времени. В виде Эпифитотия обычно проявляются ржавчина и головня хлебных злаков, фитофтороз картофеля, парша яблони, увядание хлопчатника, шютте снежное и обыкновенное и другие инфекционные заболевания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80880" indent="-380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80880" indent="-380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В прошлом Эпифитотия причиняли большой ущерб. Известны значительные потери урожая картофеля от фитофтороза в 40-х гг. 19 в. в Ирландии, подсолнечника — от ржавчины в 60-х гг. 19 в. в России, пшеницы — от стеблевой ржавчины в Амурской области в 1923. С повышением культуры земледелия, с разработкой методики прогнозирования массовых заболеваний растений, применением эффективных мер борьбы с ними Эпифитотия стали более редкими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457200" y="6854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Обычно Эпифитотия возникают из отдельных очагов болезни при благоприятных условиях (накопление и способность к быстрому распространению инфекционного начала, погодные факторы, способствующие размножению возбудителя и развитию болезни, достаточное количество восприимчивых растений). Фитопатогенные микроорганизмы распространяются из мест резервации и заражают большое число растений. В результате образования нескольких генераций возбудителя создаются новые укрупнённые очаги болезни, расширяется район (зона) поражения, возникает Эпифитотия В зависимости от типа болезни, особенностей возбудителя, растения-хозяина и внешних факторов Эпифитотия развиваются быстро или медленно, с периодическими вспышками при благоприятных условиях. Изучением различных сторон эпифитотического процесса занимается сравнительно молодая область науки — эпифитотиология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2" descr="C:\Documents and Settings\Home\Рабочий стол\Новая папка\Hordei_Barley_yellow_dwarf_virus.jpg"/>
          <p:cNvPicPr/>
          <p:nvPr/>
        </p:nvPicPr>
        <p:blipFill>
          <a:blip r:embed="rId1"/>
          <a:stretch/>
        </p:blipFill>
        <p:spPr>
          <a:xfrm>
            <a:off x="5029200" y="1671480"/>
            <a:ext cx="3638520" cy="3692520"/>
          </a:xfrm>
          <a:prstGeom prst="rect">
            <a:avLst/>
          </a:prstGeom>
          <a:ln w="0">
            <a:noFill/>
          </a:ln>
        </p:spPr>
      </p:pic>
      <p:sp>
        <p:nvSpPr>
          <p:cNvPr id="347" name="TextBox 4"/>
          <p:cNvSpPr/>
          <p:nvPr/>
        </p:nvSpPr>
        <p:spPr>
          <a:xfrm>
            <a:off x="685800" y="1066680"/>
            <a:ext cx="41148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Установление связи развития Эпифитотия с теми или иными факторами позволяет ослабить их влияние. Например, изменения в популяции возбудителя болезни и растения-хозяина, обусловливающие возникновение Эпифитотия, учитываются при обосновании прогнозов болезни, выведении устойчивых к инфекционным болезням сортов с.-х. культур и их размещении в севооборотах. Меры борьбы с Эпифитотия зависят от особенностей болез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Эпизоотия (греч. ἐπι — на, среди; ζῷον — животное) — широкомасштабное распространение инфекционной болезни среди одного или многих видов животных на определённой территории, значительно превышающее уровень заболеваемости, обычно регистрируемый на данной территории. Говоря нестрого, эпизоотия — это «эпидемия у животных»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Наука, изучающая эпизоотии, называется эпизоотология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Заголовок 1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89064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380880" y="114264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Эпизоотия - определяет громадное распространение какой-либо повально заразительной болезни скота. Классификация повальных болезней по степени их распространения такова: если болезнь ограничивается небольшим районом, определенным местом или же в этом последнем проявляется только в одном каком-либо участке, то она носит название "энзоотии"; если заразная болезнь распространяется на большое пространство, поражая большое число животных, то в таких случаях ее определяют словом "Э."; наконец, существует еще "панзоотия" - когда заразная болезнь охватывает своим пожарищем огромные пространства, целые части света, поражает различные виды животных; к таким болезням принадлежат ящур, сибирская язва, бешенство. Одна и та же болезнь может явиться то в форме эпизоотической, то в энзоотической, то исключительно в спорадической (единичное заболевание), например, сибирская язва. Эпизоот. болезни, несмотря на значительный успех в научном изучении их первопричины (бактериология) и на усовершенствованные методы борьбы, до сих пор продолжают служить бичом скотоводческого хозяйства, прогрессивно сокращая его количественно и тормозя развитие культурных пород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-3769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Убытки, причиняемые Э., продолжают быть неисчислимыми, так как, по компетентному мнению проф. Пютца, при исчислении убытков должно принимать во внимание не только стоимость павшего животного, но также и те убытки, которые следуют за прекращением дела во время господства болезни и спустя еще долго после неё, и нередко эти убытки бывают гораздо значительнее, чем стоимость павшего животного; помимо этого, чисто экономического расчета, надо помнить, что при некоторых Э. здоровье окружающего населения также подвергается известному риску, как, напр., при сибирской язве, ящуре, бешенстве, туберкулёзе и др. Научные открытия последних лет, явившиеся результатом переворота, произведенного открытиями Пастера в области бактериологии, выдвинули учение о микробе как первопричине всякой заразы, а изучение свойств этой заразы в значительной степени подвинуло вопрос о более рациональной борьбе с эпизоотиями. Предохранительные прививки сибирской язвы, рожи свиней, маллеинизация, туберкулинизация и пр. - все это послужило надежным орудием в борьбе с такими эпизоотиями, как сибирская язва, сплошь губившая несколько лет тому назад рабочий и продуктивный скот, а теперь доведенная в местах с хорошей ветеринарной организацией до minimum'a, до спорадических случаев, как сап, этот бич коневодства, который теперь, благодаря диагностическому значению маллеина, уже перестает быть скрытым врагом; туберкулёз, рожа свиней, чума рогатого скота, повальное воспаление легких, ящур, различного рода геморрагические заболевания - накануне борьбы, вооруженной солидными научными открытиями.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C:\Documents and Settings\Home\Рабочий стол\Новая папка\__001.jpg"/>
          <p:cNvPicPr/>
          <p:nvPr/>
        </p:nvPicPr>
        <p:blipFill>
          <a:blip r:embed="rId1"/>
          <a:stretch/>
        </p:blipFill>
        <p:spPr>
          <a:xfrm>
            <a:off x="533520" y="457200"/>
            <a:ext cx="8026200" cy="6019920"/>
          </a:xfrm>
          <a:prstGeom prst="rect">
            <a:avLst/>
          </a:prstGeom>
          <a:ln w="0">
            <a:noFill/>
          </a:ln>
        </p:spPr>
      </p:pic>
      <p:sp>
        <p:nvSpPr>
          <p:cNvPr id="358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1" name="Picture 2" descr="C:\Documents and Settings\Home\Рабочий стол\Новая папка\post-44-1210180075.jpg"/>
          <p:cNvPicPr/>
          <p:nvPr/>
        </p:nvPicPr>
        <p:blipFill>
          <a:blip r:embed="rId1"/>
          <a:stretch/>
        </p:blipFill>
        <p:spPr>
          <a:xfrm>
            <a:off x="380880" y="228600"/>
            <a:ext cx="8433000" cy="6324480"/>
          </a:xfrm>
          <a:prstGeom prst="rect">
            <a:avLst/>
          </a:prstGeom>
          <a:ln w="0">
            <a:noFill/>
          </a:ln>
        </p:spPr>
      </p:pic>
      <p:sp>
        <p:nvSpPr>
          <p:cNvPr id="362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Заголовок 1" descr=""/>
          <p:cNvPicPr/>
          <p:nvPr/>
        </p:nvPicPr>
        <p:blipFill>
          <a:blip r:embed="rId1"/>
          <a:stretch/>
        </p:blipFill>
        <p:spPr>
          <a:xfrm>
            <a:off x="457200" y="79200"/>
            <a:ext cx="8229600" cy="89568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6840" y="14475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Современный человек на протяжении своей жизни находится в различных средах: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социальной, производственной, местной (городской, сельской), бытовой,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природной и др. Человек и среда его обитания образуют систему, состоящую из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множества взаимодействующих элементов, имеющую упорядоченность в определенных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границах и обладающую специфическими свойствами. Такое взаимодействие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определяется множеством факторов и оказывает влияние как на самого человека,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так и на соответствующую среду его обитания. Это влияние может быть, с одной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стороны, положительным, с другой – одновременно и отрицательным (негативным)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Негативные воздействия факторов природной среды проявляются главным образом в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чрезвычайных ситуациях. Эти ситуации могут быть следствием, как стихийных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бедствий, так и производственной деятельности человека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ЧРЕЗВЫЧАЙНАЯ СИТУАЦИЯ – это обстановка на определенной территории,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сложившаяся в результате аварии, опасного природного явления, катастрофы,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стихийного или иного бедствия, которая может повлечь или повлекла за собой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человеческие жертвы, ущерб здоровью людей или окружающей природной среде, а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также значительные материальные потери и нарушение условий жизнедеятельности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ЧС классифицируются по характеру источника и по масштабам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По характеру источника чрезвычайные ситуации делятся на техногенные и природные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К природным кроме пожара, извержения вулкана и всего прочего относятся и эпидемии…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" name="Місце для нижнього колонтитула 3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Заголовок 1" descr=""/>
          <p:cNvPicPr/>
          <p:nvPr/>
        </p:nvPicPr>
        <p:blipFill>
          <a:blip r:embed="rId1"/>
          <a:stretch/>
        </p:blipFill>
        <p:spPr>
          <a:xfrm>
            <a:off x="457200" y="2944800"/>
            <a:ext cx="8229600" cy="1346040"/>
          </a:xfrm>
          <a:prstGeom prst="rect">
            <a:avLst/>
          </a:prstGeom>
          <a:ln w="0">
            <a:noFill/>
          </a:ln>
        </p:spPr>
      </p:pic>
      <p:sp>
        <p:nvSpPr>
          <p:cNvPr id="364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37808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ЭПИДЕМИЯ (греч. epidemia), массовое распространение инфекционного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Заболевания человека в какой-либо местности, стране, значительно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превышающее обычный уровень заболеваемости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Инфекционные болезни людей – это заболевания, вызванные болезнетворными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микроорганизмами и передающиеся от зараженного человека или животного - к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здоровому. Ежегодно на Земле переносят инфекционные заболевания свыше 1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млрд. человек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Эпидемия – это массовое распространение инфекционного заболевания людей в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какой-либо местности или стране, значительно превышающее общий уровень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заболеваемости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7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Box 3"/>
          <p:cNvSpPr/>
          <p:nvPr/>
        </p:nvSpPr>
        <p:spPr>
          <a:xfrm>
            <a:off x="457200" y="228600"/>
            <a:ext cx="83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Самые опасные заболевания, принимающие форму эпидемии приведены ниже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Box 6"/>
          <p:cNvSpPr/>
          <p:nvPr/>
        </p:nvSpPr>
        <p:spPr>
          <a:xfrm>
            <a:off x="152280" y="1523880"/>
            <a:ext cx="8839440" cy="28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Заболевание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Способ распространения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Латентный период, сутки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Продолжительность потери 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Смертность без лечения, %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работоспособности, сутки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Чума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Распыление в воздухе; 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 3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 7 – 1 (при бубонной форме) 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 100( при легочной 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            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   и септических формах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заражение воды, пищи,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предметов домашнего обихода;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искусственное заражение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переносчиков.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Сибирская язва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Распыление спор в воздухе, 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 2 – 3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 7 – 14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До 100 (при легочно-кишечной форме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искусственное заражение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переносчиков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Туляремия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Распыление спор в воздухе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3 – 6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40 – 60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5.8 до 3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Холера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 Распыление спор в воздухе 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3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5 - 30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10 – 8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Тиф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Проникают в организм через 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12 – 14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 6 – 14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 До 4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мельчайшие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повреждения кожи</a:t>
            </a: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56052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304920" y="106668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ЧУМА (pestis)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Острая природно-очаговая инфекционная болезнь, вызываемая палочкой чумы -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Yersinia pestis. Относится к особо опасным инфекциям. На земном шаре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сохраняется ряд природных очагов, где чума постоянно встречается у небольшого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процента обитающих там грызунов. Эпидемии чумы среди людей часто были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обусловлены миграцией крыс, заражающихся в природных очагах. От грызунов к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человеку микробы передаются через блох, которые при массовой гибели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Животных меняют хозяина. Кроме того, возможен путь заражения при обработке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Охотниками шкур убитых зараженных животных. Принципиально иным является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заражение от человека к человеку, осуществляемое воздушно-капельным путем.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О спорадических случаях чумы сообщается в разных странах, в том числе в США.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3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Возбудитель чумы устойчив и низким температурам, хорошо сохраняется в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мокроте, но при температуре 55 °С погибает в течение 10-15 мин, а при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кипячении - практически немедленно. Попадает в организм через кожу (при укусе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блохи), слизистые оболочки дыхательных путей, пищеварительного тракта,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конъюнктивы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При укусе зараженных чумными бактериями блох у человека на месте укуса может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возникнуть папула или пустула, наполненная геморрагическим содержимым (кожная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форма). Затем процесс распространяется по лимфатическим сосудам без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проявления лимфангита. Размножение бактерий в макрофагах лимфатических узлов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приводит к их резкому увеличению, слиянию и образованию конгломерата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(бубонная форма). Дальнейшая генерализация инфекции, которая не является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строго обязательной, тем более в условиях современной антибактериальной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терапии, может приводить к развитию септической формы, сопровождающейся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поражением практически всех внутренних органов. Однако с эпидемиологических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позиций важнейшую роль играют "отсевы" инфекции в легочную ткань с развитием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легочной формы болезни. С момента развития чумной пневмонии больной человек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сам становится источником заражения, но при этом от человека к человеку уже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передается легочная форма болезни - крайне опасная, с очень быстрым течением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Прямоугольник 3"/>
          <p:cNvSpPr/>
          <p:nvPr/>
        </p:nvSpPr>
        <p:spPr>
          <a:xfrm>
            <a:off x="1981080" y="457200"/>
            <a:ext cx="49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ология, патогене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СИБИРСКАЯ ЯЗВА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Острое инфекционное заболевание из группы зоонозов. У человека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протекает в виде кожной, легочной, кишечной и септической форм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  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Этиология, патогенез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Возбудитель - относительно крупная сибиреязвенная палочка; образует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Споры И капсулу. Вегетативная форма возбудителя погибает без доступа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воздуха, При прогревании, воздействии дезинфицирующих средств. Споры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возбудителя во внешней среде весьма устойчивы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C:\Documents and Settings\Home\Рабочий стол\Новая папка\Carbuncle.jpg"/>
          <p:cNvPicPr/>
          <p:nvPr/>
        </p:nvPicPr>
        <p:blipFill>
          <a:blip r:embed="rId1"/>
          <a:stretch/>
        </p:blipFill>
        <p:spPr>
          <a:xfrm>
            <a:off x="762120" y="838080"/>
            <a:ext cx="7619760" cy="5200920"/>
          </a:xfrm>
          <a:prstGeom prst="rect">
            <a:avLst/>
          </a:prstGeom>
          <a:ln w="0">
            <a:noFill/>
          </a:ln>
        </p:spPr>
      </p:pic>
      <p:sp>
        <p:nvSpPr>
          <p:cNvPr id="330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457200" y="12952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Инкубационный период от нескольких часов до 8 дней (чаще 2-3 дня). Наиболее часто сибирская язва у человека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протекает в виде кожной формы (95-99% случаев) и лишь у 1-5% больных- в виде легочной и кишечной. Типичные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проявления кожной формы сибирской  язвы возникают в зоне  ворот инфекции. Вначале появляется красное зудящее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пятнышко, которое быстро превращается в папулу, а последняя - в  везикулу с прозрачным или геморрагическим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содержимым. Больной при продолжающемся зуде срывает пузырек, на его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месте образуется  язвочка с темным дном и  обильным серозным отделяемым. По периферии язвочки развивается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воспалительный валик, в зоне которого образуются  дочерние пузырьки. Одновременно с этим вокруг язвочки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развивается отек (может' быть весьма обширным) и регионарный  лимфаденит. Характерно  Отсутствие чувствительности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в области дна язвочки, а также отсутствие болезненности в области увеличенных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лимфатических узлов. К моменту образования язвочки появляется лихорадка, которая продолжается в течение 5-7 дней,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общая слабость,  разбитость, головная боль, адинамия. Местные изменения в области поражения нарастают примерно в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течение тех же сроков, что и лихорадка, а затем  начинается обратное развитие: сначала снижается температура тела,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прекращается отдаление серозной жидкости из зоны некроза, начинается уменьшение (до  полного исчезновения) отека,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а на месте некроза постепенно формируется струп. На 10-14-й день струп отторгается, образуется язва с гранулирующим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дном И умеренным гнойным отделяемым с последующим рубцеванием. Легочная форма сибирской язвы начинается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остро, протекает тяжело. Проявляется болью в  груди, одышкой, цианозом, тахикардией (до 120-140 в 1 мин), кашлем с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отделением пенистой кровянистой мокроты.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Температура тела быстро достигает высоких цифр (40° С и выше), АД снижается. Кишечная форма сибирской язвы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характеризуется общей интоксикацией, повышением температуры тела, болью в эпигастральной области, поносом и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рвотой. Живот вздут, резко болезнен при пальпации, нередко имеются признаки раздражения брюшины. В рвотных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массах и выделениях из кишечника появляется примесь крови. При любой из описанных форм сибирской язвы может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развиться сепсис с бактериемией и вторичными очагами (поражение печени, селезенки, почек, мозговых оболочек). Для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диагностики важны эпидемиологические данные (профессия больного, контакт с больными животными или зараженным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сырьем животного происхождения) и характерные поражения кожи. Лабораторным подтверждением диагноза является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выделение возбудителя сибирской язвы. Вспомогательное значение имеет аллергическая проба с антраксином.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Прямоугольник 3"/>
          <p:cNvSpPr/>
          <p:nvPr/>
        </p:nvSpPr>
        <p:spPr>
          <a:xfrm>
            <a:off x="1981080" y="533520"/>
            <a:ext cx="474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имптомы, теч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4-11-07T10:24:18Z</dcterms:modified>
  <cp:revision>18</cp:revision>
  <dc:subject/>
  <dc:title>Презентация на тему Эпидемии</dc:title>
</cp:coreProperties>
</file>