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1BCA-8A12-4BAC-9A79-C08A5DEC70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7971-CC0E-4503-B707-9DC1969D6A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D451-D1E1-4880-BF1D-41A8A92E2A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5F9C-D382-4A13-A7FD-1EDCD6FFD3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1A3-D330-43EC-BC23-C2263C3049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BC9F-A7BF-4909-9857-D41E018897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3252-920A-4522-B510-4F28A41F12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9BE-9EF9-4DF6-A410-C99C5723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FB0-079D-460C-95A2-B737747D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D5BEB-BFEC-460F-9C38-C17C6F5C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69CA9-16A3-441F-B950-828479D9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515C0-213A-414A-B4E2-C33E70D5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D6325-35E6-42D2-ACD6-7FD5E57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30995-0754-47AB-89DB-85075E67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F67D4-24BA-4833-AC63-8F9FCCA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D8251-FE04-4115-862A-B6278BE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B3E55-3D8C-4BE2-BD28-EEABC64A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3F2A6-164C-493D-A3BF-575EC55C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E0B-10A9-41EA-9F5E-DBB86A8A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70B-94E6-4D8F-8931-80AA556C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E5FA-55CE-4278-9238-BF446189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743F-5EC2-49BC-AAF2-AD7EF586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F2AE-38E3-4B68-AD7A-B40B0C9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673F-FF86-4B9C-A15A-54FED1CC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72A-542A-4563-A42C-AD0EF967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91BC-42D8-4DEB-AD46-03AFDC85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3492-5537-4E5F-9E1E-F16C0C13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3E5-33B0-4EE9-AF5E-AD24CCBE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0317-6E67-405D-BD75-9DCD5D0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4FC0-6A5B-4953-B641-A8F4FAD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5996-0E3E-45B5-A56D-872CEE6D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38BC-05AB-4AE0-BCFC-0D27B54C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A722-224C-4E41-B6F5-792A395F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D1BC-EA42-4549-9E9F-F4EB1F2E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33AE-9151-451D-A8D2-84897A0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0385-4F5B-431A-AF88-589875AD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5D33-B806-4C61-983B-1F52355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A8D0-04D6-4FD8-9690-F05193A4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C29-19E4-4639-94C3-615E9318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D51D-64A7-44D8-BB52-09AC4C2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7017-940C-4965-A6CA-36108A6B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7361-63C2-4E72-85AA-CD1F052E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7BBB-5BD9-4532-8A30-97F4588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FAC8-C462-4C8B-AC9C-02662755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F9ED-4ADA-42B6-B111-0AC2732D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8F1C-B898-458A-99A9-33C077B9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699EA-1D13-4CC0-AAE3-A9533071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2DC2-9EED-4ABC-8537-BCC597D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E76F-55E4-4C07-BA81-73ED68AA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F16-1B57-4801-BDBF-C39C7B48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57E5-C06F-44AC-AFE8-814DBD0F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C64D-DD5E-4851-A196-571EC7CC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A6111-FE7E-463E-8D79-33433E43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988A-8CE2-4508-90DC-97F6B36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A677-52F8-40EE-A2C8-5F0EB6F6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CD25-1534-4FCA-ABB5-D0E74621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D337-620C-439B-B059-341DA1B5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7149-6881-4536-B1D9-8E77C009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AF9B-0475-48EC-909C-37BE9B7F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3C15-66B5-466F-BACD-DEFE1440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6DF-4EEA-4759-B861-6707738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6B9BE-1564-413D-8BC5-53B8EB0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6DDA-32AC-4779-A972-4A93B934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F3882-9C14-45BF-96EB-F206F1B4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CC29F-7E85-49CE-A75B-63BBFBA3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1FC9F-61F6-4254-A0BF-9E52EFF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6E4C-DBB7-455A-B301-DF7EAA6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7DD32-3A25-4D4F-B3A9-F560DB2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18D32-B5A2-4BEF-84CB-9ED72DB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033C9-C901-494F-9866-2A253EB4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9DD3D-32D6-41BF-9349-7FB150CB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73C-CC65-4650-90F2-628D6AA1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C0737-1D79-4A61-9F4D-71C9B691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8412B-DFEC-40E3-88BB-A95A2ACB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A0A56-DF38-432D-98C0-ABC8181C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B2D3A-87A4-4A5C-B35B-7872B88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0ED18-23F7-430D-B0C0-27F3BC54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19D2-EEB5-42D0-AF2D-F5789771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A56C9-B028-4506-BBCE-F568D038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22FB4-45CD-4FAF-A4A8-EFA0F104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C06C-CD7D-48DE-9F42-A7402302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A09B7-7C9D-4D34-A90E-4713659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C91-3F4B-402B-944F-0A8447F3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FC0F5-C031-4383-9A1F-621B4F89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5F4F6-BEB9-49B4-8C0F-A8BA500E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91534-0743-4FD2-8E00-A97D127B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71F09-AED5-4611-9231-B20CCA81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371B-FA4F-471F-94F8-566D919C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506AA-5766-4388-BAEF-D5B40FD0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2C344-EBF3-4E76-9B32-ABF39431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11EC1-6D10-4054-8A94-CE789907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2C78B-DC7E-4E28-8D7B-7D533723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EBFA2-B341-45C8-90A7-360CE369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D72-2BC7-4F5D-ADB0-DBB0523F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C076C-6EE6-41D4-BE96-3F6FA3B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0C8F2-C42C-46F5-94BE-BB705D4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9378F-A55B-4C5D-982E-B75A6EDD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EFC15-6343-4511-AA98-AD643ABB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A6EDC-4C15-4A71-ABD4-3C9E1627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33EE-FBA0-4237-BCAA-E0AC34A5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BA24-DED6-4CFD-A0A0-619AC0A8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9830-469E-406A-B6C8-52670F48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C3DFC-C8F3-49D7-8923-5CD468A0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2D833-6586-4AED-A439-3CA8B79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E81-22A6-4662-AFD0-8CB53FD4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1FCA-D1D0-4180-817C-7402D424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130A5-4DBF-4ACA-AD56-D8C43D7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9BE15-F273-477D-9F26-0F686D7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C50E8-3B9A-4128-84DD-FFF0201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A11FB-44D4-4103-9D7C-42AF2A1A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963F-D84A-4AF5-A4DF-9BED6B2E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E1757-E7F4-4F1F-8A33-0D3A84BA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7ED16-EA5A-480A-A9F2-EC21FCE4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C722E-675F-4D50-BD93-B4D0A68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AF5B7-1F00-4ABC-BE72-E2C68BB3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FA57-9610-4285-8AE4-76F0144DF0E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23B4-D661-4492-9968-E37F421853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A65E-7FB0-49BB-88B2-125430EE915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4BC3-5428-4CEC-B5B2-BD634A7D3F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CEEA-9A6E-462F-A265-79934CA4787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2B02-AC7B-4336-986D-B20B1943B1B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DCB4-6036-43E0-80A7-756F3A0A596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96E2-BE26-4F80-9FFE-872048404D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63F-9A6A-4AE5-B71F-C14D0F02F63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85C-66B8-4B97-8836-AE04EFA6655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A22E-B950-4F6B-A575-848B3CD995F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117-AFAD-474C-8B31-6FE6F903D42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CD04-E883-40E4-B8D6-A5820216E45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1F29-784F-4745-907A-6A1EF385C5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8A43-B045-49F2-81B4-8141080B80B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38F1-AECA-4566-90B8-9D2B098C66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264D-A5D0-4BF3-873E-C9A14D816CE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877-93CE-4A0F-880B-1D7AC74451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manhattan-under-water.jpg"/>
          <p:cNvPicPr/>
          <p:nvPr/>
        </p:nvPicPr>
        <p:blipFill>
          <a:blip r:embed="rId2"/>
          <a:stretch/>
        </p:blipFill>
        <p:spPr>
          <a:xfrm>
            <a:off x="714240" y="642960"/>
            <a:ext cx="7643880" cy="61912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-728280" y="3687840"/>
            <a:ext cx="1085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5" descr="calentamiento_global.jpg"/>
          <p:cNvPicPr/>
          <p:nvPr/>
        </p:nvPicPr>
        <p:blipFill>
          <a:blip r:embed="rId2"/>
          <a:stretch/>
        </p:blipFill>
        <p:spPr>
          <a:xfrm>
            <a:off x="2428920" y="571680"/>
            <a:ext cx="4500360" cy="318600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-582480" y="5715000"/>
            <a:ext cx="100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6" descr="climatechange1.jpg"/>
          <p:cNvPicPr/>
          <p:nvPr/>
        </p:nvPicPr>
        <p:blipFill>
          <a:blip r:embed="rId2"/>
          <a:stretch/>
        </p:blipFill>
        <p:spPr>
          <a:xfrm>
            <a:off x="1000080" y="714240"/>
            <a:ext cx="7358040" cy="50799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-471960" y="5715000"/>
            <a:ext cx="91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4571_1227989575.jpg"/>
          <p:cNvPicPr/>
          <p:nvPr/>
        </p:nvPicPr>
        <p:blipFill>
          <a:blip r:embed="rId2"/>
          <a:stretch/>
        </p:blipFill>
        <p:spPr>
          <a:xfrm>
            <a:off x="1000080" y="642960"/>
            <a:ext cx="7215120" cy="519444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-384120" y="5715000"/>
            <a:ext cx="90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zasuha.jpg"/>
          <p:cNvPicPr/>
          <p:nvPr/>
        </p:nvPicPr>
        <p:blipFill>
          <a:blip r:embed="rId2"/>
          <a:stretch/>
        </p:blipFill>
        <p:spPr>
          <a:xfrm>
            <a:off x="1428840" y="64296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-459720" y="5715000"/>
            <a:ext cx="9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Mt Hood, Oregon.jpg"/>
          <p:cNvPicPr/>
          <p:nvPr/>
        </p:nvPicPr>
        <p:blipFill>
          <a:blip r:embed="rId2"/>
          <a:stretch/>
        </p:blipFill>
        <p:spPr>
          <a:xfrm>
            <a:off x="714240" y="642960"/>
            <a:ext cx="6715440" cy="484200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37:02Z</dcterms:created>
  <dc:creator>user</dc:creator>
  <dc:description/>
  <dc:language>en-US</dc:language>
  <cp:lastModifiedBy>LEGION</cp:lastModifiedBy>
  <dcterms:modified xsi:type="dcterms:W3CDTF">2014-12-30T11:21:24Z</dcterms:modified>
  <cp:revision>9</cp:revision>
  <dc:subject/>
  <dc:title>Глобальное потепление</dc:title>
</cp:coreProperties>
</file>