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1322-7CDB-447A-8ED4-B980522D41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B9C2-2AB3-4BF8-B421-3FE1194761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Глоба́льное потепле́ние — процесс постепенного увеличения среднегод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температуры атмосферы Земли и Мирового океана в XX и XXI ве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Позиция Межгосударственной группы экспертов по изменению клима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(МГЭИК) ООН, согласованная с национальными академиями наук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«Большой восьмёрки», заключается в том, что средняя температура по Земл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поднялась на 0,7 °C со времени начала промышленной револю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со второй половины XVIII века), и что бо́льшая доля потепл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наблюдавшегося в последние 50 лет, вызвана деятельностью человека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в первую очередь выбросом газов, вызывающих парниковый эффек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углекислого газа (CO2) и метана (CH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B4D1-BC2D-40DF-BC8B-9367BCBD6A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Многие ученые придерживаются того мнения, что именно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Человека привела к потеп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93AD-FB71-426C-A7E9-D666C477BA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Но многие исследования доказывают, что потепления сменяли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ледниковыми периодами задолго до появл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7289-D19A-447E-8E4E-35469DC1F3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И все равно, человечество озабочено распространением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3A20-DD2E-4AE2-AC85-DBC42A4FD5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Фотографии одних и тех же мест в разное время – снега стало мень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6CF1-303B-4057-BFBC-E8E2DBC6A7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313-9125-4760-8274-54BA5E9A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D86-0AB2-4F7A-A7EB-F4BB1ACB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5FD46-ACEC-4421-A6E2-E9A6B986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09602-B3A3-4FA1-B627-90F19709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AF477-1E9F-46E5-A7C7-886E6A3D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059A1-AC47-44E8-AB7B-2EA785CF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B5F1E-F09E-431F-9EF4-8D19E2C1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3DBD5-6F1A-4AB5-9E0C-E2554844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07BBE-94A6-463A-AD12-36F04E11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0C73A-7A74-4119-B9D7-31C8FBBC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C2B12-00A2-42AC-9C5C-3319D843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F09-97F8-419E-AB55-4D7014C4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738-005F-4CD2-801D-5417AA5A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DF65-4C09-452D-924C-29AFC543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FBE9-742D-40AF-B348-674ADED7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DFE9-B378-4BA0-9821-CB58A193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7AEB-BE4B-4C50-88E7-80CF585B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6BB7-163C-441B-8255-4B37302D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921D-1D66-4A89-9160-C8D82273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7324-8DEE-4613-ACCA-5E791AE3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B2D-3B92-4A1C-9E35-033C08A7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0319-6215-42BD-AA72-3460E43C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74A1-97CA-4D03-A9EA-F1C00209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719A-31D3-4BA1-A300-3602F9E1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BF31-A089-4771-ABF9-977024A7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8429-A65D-4855-9377-DF5C3BDA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2D88C-E7B0-4332-B2A6-8D4D513C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276E9-5C9E-4119-80EA-8536AB88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B8C8E-0CB8-4C7C-81E1-E9E7EC3A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2138E-E585-41A1-87C5-292AEF79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B943B-4C24-4F16-99F5-5A9B4461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E4C-CF2B-4851-A243-E2912E7A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B3364-755D-4379-BFD1-AD2DDD2C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0C90D-2EF2-4BB4-9928-533CDE90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08971-5364-438C-A6D4-67E0D60B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1545D-EDF6-4659-AEB2-E52136A1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2AB6F-A33C-45BC-A4CF-50E1358E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5947B-A673-4D71-9198-DE0925AC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B224E-0F13-44DD-9CE3-BF0C970F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ED726-4A39-425F-9E60-AA8B75A1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6DA43-7203-407A-AB83-F756AA92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E4D41-3D38-46A1-A61E-C9339134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74DC-0318-4B68-848F-6447BCEE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A7FF3-483D-4CF8-ADDD-59A59473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326E9-C8D1-4F4A-9F41-BE54B333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11E07-2C67-4D19-9CEB-4976470A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0A6E-338F-427B-AB33-4E0340F4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32F57-4A8F-4F30-A327-BCE15676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4CB26-B07F-4544-AEC0-14479521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859BE-3921-4809-B7B9-6FDB1EA8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5655F-CA73-4074-9C0B-E2D47C24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68EE2-BCBD-46E1-B88A-F0037A95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5F3EF-F64C-4CF6-9E02-50660B73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EA6-377E-4772-88BA-235F805B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6B6D5-BE6F-4E97-94CA-403DEFD1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006E4-46CA-4C2F-832E-4A6FD433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2419A-5785-4B47-BE22-DBB185AB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DEED5-FA08-4C3E-9800-873240F1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FCE5F-0F5B-4D69-B20D-91F9854D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074A4-8142-4ACE-B68C-9ED91E81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C051C-BF63-49A8-9BDF-13F10FE8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B5FFC-5B62-4D3E-AA2B-DEFFD187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D824B-297E-4A1A-8134-CF3D80F8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97F9F-1D58-4B91-8AC7-D71ACF93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B33-709D-46EB-9E68-21931967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40293-605C-41ED-A00E-56CA8676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1C387-F7B4-4976-83A7-0B0AB1FC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3E3C5-855D-48FD-99DE-89F5DD2C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B83F3-897C-4886-957C-C6BC17D7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909F8-306F-4486-A4C7-95946BF8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8FBA2-F2C3-4AE1-BFEB-9D319785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E2EAC-FAC4-4492-8084-FD30BE6D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94F97-412F-44C0-B027-186604E0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94456-8A8A-45DC-BF66-9F9B4B5C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8B48C-2893-4804-8A35-E45FF1A0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6C8-1B57-4873-A50E-17EB009D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65876-0DAC-44E6-AC7A-05B6EEA9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681BD-3FE8-47E1-8783-95E8F360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B8B95-7894-41F5-8DE4-E5CD8514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98F78-EC30-4EE1-B438-4C82824B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CDD9A-B088-4D9E-A843-830BC744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D017E-3A20-4516-B87B-D4C26C08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52C6F-C539-4AF3-A67D-847EF643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B972D-5EAA-4AED-ACEA-36136877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EE24A-C39A-4B94-9822-3BBD4FD1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B4242-F38B-4A21-A0F9-CA99EB4D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BF5-6E1C-4B5F-B17B-D39BA89E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95F84-FAAA-4F87-82C4-56472D08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19CA1-5FB0-400F-B585-A4FEDC8C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327E0-A88F-4D12-9DC4-283DE3FA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98968-78FE-4043-A8EB-7894F04C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3EF5A-9568-4B76-8DBB-5A7374FA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5068E-1FF8-4522-BB1F-FBEA59F1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4B3C5-EE5B-42BE-BF24-0BE6FED8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E5E31-4295-47D2-874A-810F5B1A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C8284-AD2A-4856-AD83-970E6DF1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6BBB5-ADB7-49B2-AD2F-A8352DD3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E51-7395-48B5-806A-E3124566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EE005-FFFA-44AB-8EDF-A35B8D39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E3882-567E-4816-BC1D-E8A72190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2B2A0-FCF7-4620-8F1E-A5A96BD5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F2B48-7866-4A8E-9B72-FA6581F4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C1650-9D5A-4AA5-A992-B7994C8A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CF5BE-B0E8-4375-9678-FD3CB3D6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6CE0B-D594-49AA-9FE3-3545379E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31758-41D9-438A-BFF7-14FB6B90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E2EC1-8E2C-4737-9BAE-93F8E824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CD6E6-0FBE-46B7-899F-B14929D0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72C3-EC30-47B7-8D7D-F859B4919BB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29A6-6ED1-43EA-889E-66E33147F08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542C-1AFC-417D-80DF-9228103DAAD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304E-CFF3-427F-9CBC-C707B02B14C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DA20-0BAD-4208-8488-52E2A96DADA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2349-4AA9-4DA9-886E-5C45C803934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CFB4-CD87-4F3A-9544-5D7D81B92E0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352C-D869-4EE7-B307-E099B4B680A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4525-AA91-4156-B6DE-4507A325D02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889C-EB85-4A62-A8BE-E2113AB6D61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2812-AD55-43B3-A569-ED01078E98F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56C3-4A56-4EE3-B1B8-32DC9F2A5DB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C6AB-BA1B-4C18-947A-7F7318BBEA6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6BDF-5170-4D84-AD6E-AA591DE6BA5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90AE-71E6-4BC6-A067-A32ACAAFE84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8CBC-DDA0-42AC-959C-C772764D375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C94F-B84F-4EBD-BCAF-E7B6789392E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2950-9879-4DF4-A603-A3B4DFD6E98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3" descr="manhattan-under-water.jpg"/>
          <p:cNvPicPr/>
          <p:nvPr/>
        </p:nvPicPr>
        <p:blipFill>
          <a:blip r:embed="rId2"/>
          <a:stretch/>
        </p:blipFill>
        <p:spPr>
          <a:xfrm>
            <a:off x="714240" y="642960"/>
            <a:ext cx="7643880" cy="619128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-728280" y="3687840"/>
            <a:ext cx="10859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Глоба́льное потепле́ние — процесс постепенного увеличения среднегод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температуры атмосферы Земли и Мирового океана в XX и XXI ве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зиция Межгосударственной группы экспертов по изменению клим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(МГЭИК) ООН, согласованная с национальными академиями наук стр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«Большой восьмёрки», заключается в том, что средняя температура по Зем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днялась на 0,7 °C со времени начала промышленной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о второй половины XVIII века), и что бо́льшая доля потепл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блюдавшегося в последние 50 лет, вызвана деятельностью человек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 первую очередь выбросом газов, вызывающих парниковый эффек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глекислого газа (CO2) и метана (CH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Рисунок 5" descr="calentamiento_global.jpg"/>
          <p:cNvPicPr/>
          <p:nvPr/>
        </p:nvPicPr>
        <p:blipFill>
          <a:blip r:embed="rId2"/>
          <a:stretch/>
        </p:blipFill>
        <p:spPr>
          <a:xfrm>
            <a:off x="2428920" y="571680"/>
            <a:ext cx="4500360" cy="318600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4"/>
          <p:cNvSpPr/>
          <p:nvPr/>
        </p:nvSpPr>
        <p:spPr>
          <a:xfrm>
            <a:off x="-582480" y="5715000"/>
            <a:ext cx="1005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Многие ученые придерживаются того мнения, что именно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Человека привела к потеп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6" descr="climatechange1.jpg"/>
          <p:cNvPicPr/>
          <p:nvPr/>
        </p:nvPicPr>
        <p:blipFill>
          <a:blip r:embed="rId2"/>
          <a:stretch/>
        </p:blipFill>
        <p:spPr>
          <a:xfrm>
            <a:off x="1000080" y="714240"/>
            <a:ext cx="7358040" cy="50799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-471960" y="5715000"/>
            <a:ext cx="91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о многие исследования доказывают, что потепления сменял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дниковыми периодами задолго до появлени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5" descr="4571_1227989575.jpg"/>
          <p:cNvPicPr/>
          <p:nvPr/>
        </p:nvPicPr>
        <p:blipFill>
          <a:blip r:embed="rId2"/>
          <a:stretch/>
        </p:blipFill>
        <p:spPr>
          <a:xfrm>
            <a:off x="1000080" y="642960"/>
            <a:ext cx="7215120" cy="519444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22" name="TextBox 4"/>
          <p:cNvSpPr/>
          <p:nvPr/>
        </p:nvSpPr>
        <p:spPr>
          <a:xfrm>
            <a:off x="-384120" y="5715000"/>
            <a:ext cx="90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 все равно, человечество озабочено распространением пусты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6" descr="zasuha.jpg"/>
          <p:cNvPicPr/>
          <p:nvPr/>
        </p:nvPicPr>
        <p:blipFill>
          <a:blip r:embed="rId2"/>
          <a:stretch/>
        </p:blipFill>
        <p:spPr>
          <a:xfrm>
            <a:off x="1428840" y="642960"/>
            <a:ext cx="6572160" cy="492912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-459720" y="5715000"/>
            <a:ext cx="97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Фотографии одних и тех же мест в разное время – снега стало мен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5" descr="Mt Hood, Oregon.jpg"/>
          <p:cNvPicPr/>
          <p:nvPr/>
        </p:nvPicPr>
        <p:blipFill>
          <a:blip r:embed="rId2"/>
          <a:stretch/>
        </p:blipFill>
        <p:spPr>
          <a:xfrm>
            <a:off x="714240" y="642960"/>
            <a:ext cx="6715440" cy="484200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7:37:02Z</dcterms:created>
  <dc:creator>user</dc:creator>
  <dc:description/>
  <dc:language>en-US</dc:language>
  <cp:lastModifiedBy>LEGION</cp:lastModifiedBy>
  <dcterms:modified xsi:type="dcterms:W3CDTF">2014-12-30T11:21:24Z</dcterms:modified>
  <cp:revision>9</cp:revision>
  <dc:subject/>
  <dc:title>Глобальное потепление</dc:title>
</cp:coreProperties>
</file>