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1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move the slide</a:t>
            </a:r>
            <a:endParaRPr b="1" lang="en-US" sz="4400" spc="-1" strike="noStrike">
              <a:solidFill>
                <a:srgbClr val="ffffb7"/>
              </a:solidFill>
              <a:latin typeface="Arial Black"/>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1D902-A34C-461B-A679-A7C3F8DD6AB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димирская облас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0F7B5-AC9D-4431-987D-D593704C5870}"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лор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ласть расположена в зоне смешанных лесов. Преобладают зональные широколиственно-еловые леса в моренных ландшафтах (на Клинско-Дмитровской гряде, на Гороховецком отроге), сосновые леса в Мещёрской низменности, в Заклязьменском бору и на Окско-Цнинском валу, широколиственные леса в Ополье и на склонах коренных берегов Оки и Клязьм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жнейшим сырьевым запасом и природным богатством Владимирской области являются леса, которые покрывают 1520,9 тыс. га (42 % территории региона). Запасы древесины — 209 млн м³, в том числе хвойных пород — 137,5 млн м³. Расчетная лесосека области используется на 90 %, ежегодно вырубается около 9 тыс. га леса для промышленных цел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67544-3EED-466E-95D9-F6164B6EF8BA}"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гата и славится своей растительностью увлажнённая Мещёра, здесь собирают малину, землянику, смородину, особенно много черники, брусники, калины и клюквы, многочисленные грибы и лекарственные растения (багульник болотный, хвощ полевой, тысячелистник обыкновенный, зверобой, мята, крапива, ландыш и др.). Разнообразные типы водорослей, мхов, лишайник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лора области насчитывает свыше 1300 видов сосудистых растений, около 200 видов мохообразных. В Красную книгу России из видов, обитающих в области, занесены венерин башмачок (Cypripedium calceolus), пыльцеголовник красный (Cephalanthera rubra), пальцекорник балтийский (Dactylorhiza baltica), пальцекорник Траунштейнера (Dactylorhiza traunsteineri),надбородник безлистный (Epipogium aphyllum), липарис Лёзеля (Liparis loeselii), неоттианте клобучковая (Neottianthe cucullata), ятрышник шлемоносный (Orchis militaris), ятрышник обожженный (Orchis ustulata) и др.</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381EA-3175-453E-8897-3A46C0F9C416}"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аун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овременной фауне насчитывается более 50 видов млекопитающих, среди которых: лось, кабан, косуля, благородный и пятнистый олень, рысь, волк, белка, заяц, куница, лисица, хорёк, барсук и другие пушные звери (охота открыта с октября по февраль), 5 видов пресмыкающихся и 10 видов земноводных. В красную книгу РФ внесена русская выхухол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территории области обитает 216 видов птиц, среди которых: глухарь, тетерев, рябчик, серая куропатка, вальдшнеп, гусь, утка и др. Перелётом проходит внесённый в Красную книгу РФ гусь-пискулька.</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промысловых охотничьих животных охота по лицензиям и разрешениям открыта в следующие сроки:</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ось, кабан, благородный олень, пятнистый олень (середина ноября — середина января)</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яц (октябрь — январь)</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хота на глухаря, тетерева, вальдшнепа, селезня и гуся разрешена в течение 10 дней в апреле.</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доёмы региона также богаты речной и озёрной рыбой многочисленных видов (вьюн, плотва, щука, окунь, карась, краснопёрка, в Клязьме встречается стерлядь), рыбалказимний (подлёдная рыбалка) период. Действует несколько охотничьих хозяйств.</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764A0-F071-45D5-B29F-43486B9D534A}"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храна природ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кологическая ситуация в области в целом благоприятна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юге области на территории Гусь-Хрустального района выделена территория под Национальный парк «Мещёра», памятник природы — озеро Исихра, часть федерального заказника «Клязьминский» (северо-восток Ковровского района), сохраняющего выхухоль и в целом природный комплекс поймы Клязьмы, федеральный заказник «Муромский» в пойме Оки, площадью 56 200 га, охраняющий выхухоль и охотничьих животных региона, а также памятник природы озеро Виша. Создана и ведётся красная книга Владимирской област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 очагов загрязнения можно выделить промышленные центры региона — города Владимир, Ковров, Муром; периодические пожары и нарушение экосистем в осушённых торфяных болотах юго—запада и территории активного животноводств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CF1AF-9F4A-4133-845A-6013D798DC85}"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рия регион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йденные стоянки человека верхнего палеолита (ок. 25 тыс. лет до н. э.) «Сунгирь» говорят о заселённости владимирской земли с древнейших времен. Археологические раскопки Мурома и других поселений рассказывают нам о финно-угорских корнях этих земель. Нагляднейшие памятники истории — сохранившиеся города напоминают о древне-русской средневековой истории — пике культурного развития этих мест, а подробные документы, об истории последних столетий (Владимирская губерния, Владимирский трак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DAD3F-9389-44C6-BAB3-C8F3D8ADE139}"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град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ден Ленина (2 февраля 1967) — за выдающиеся заслуги в развитии народного хозяйства и культур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E042B-C41A-41C6-BD83-9640F2C6E5F4}"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селение</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селение 1430,0 тыс. человек (на январь 2010) (1449,5 — 2008; 1472,6 — 2006; 1487,2 — 2005)</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отность населения: 49,3 чел./км² (на январь 2010)</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дельный вес городского населения: 77,8 % (на январь 2008) (77,5 % — (2006) 78,5 % — (2005))</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реди субъектов федерации Центрального федерального округа занимает 2-е место после Московской области по числу городов с населением более 100 тысяч жителей, имея 3 таких города: Владимир, Ковров, Мур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460C1-039F-47B0-ADDD-D38452F441C8}"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род</a:t>
            </a:r>
            <a:r>
              <a:rPr b="0" lang="ru-RU" sz="1200" spc="-1" strike="noStrike">
                <a:solidFill>
                  <a:srgbClr val="000000"/>
                </a:solidFill>
                <a:latin typeface="Calibri"/>
              </a:rPr>
              <a:t>	</a:t>
            </a:r>
            <a:r>
              <a:rPr b="0" lang="ru-RU" sz="1200" spc="-1" strike="noStrike">
                <a:solidFill>
                  <a:srgbClr val="000000"/>
                </a:solidFill>
                <a:latin typeface="Calibri"/>
              </a:rPr>
              <a:t>Численность в 2002 году, человек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сские</a:t>
            </a:r>
            <a:r>
              <a:rPr b="0" lang="ru-RU" sz="1200" spc="-1" strike="noStrike">
                <a:solidFill>
                  <a:srgbClr val="000000"/>
                </a:solidFill>
                <a:latin typeface="Calibri"/>
              </a:rPr>
              <a:t>	</a:t>
            </a:r>
            <a:r>
              <a:rPr b="0" lang="ru-RU" sz="1200" spc="-1" strike="noStrike">
                <a:solidFill>
                  <a:srgbClr val="000000"/>
                </a:solidFill>
                <a:latin typeface="Calibri"/>
              </a:rPr>
              <a:t>            1443857</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краинцы</a:t>
            </a:r>
            <a:r>
              <a:rPr b="0" lang="ru-RU" sz="1200" spc="-1" strike="noStrike">
                <a:solidFill>
                  <a:srgbClr val="000000"/>
                </a:solidFill>
                <a:latin typeface="Calibri"/>
              </a:rPr>
              <a:t>	</a:t>
            </a:r>
            <a:r>
              <a:rPr b="0" lang="ru-RU" sz="1200" spc="-1" strike="noStrike">
                <a:solidFill>
                  <a:srgbClr val="000000"/>
                </a:solidFill>
                <a:latin typeface="Calibri"/>
              </a:rPr>
              <a:t>            16755</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тары</a:t>
            </a:r>
            <a:r>
              <a:rPr b="0" lang="ru-RU" sz="1200" spc="-1" strike="noStrike">
                <a:solidFill>
                  <a:srgbClr val="000000"/>
                </a:solidFill>
                <a:latin typeface="Calibri"/>
              </a:rPr>
              <a:t>	</a:t>
            </a:r>
            <a:r>
              <a:rPr b="0" lang="ru-RU" sz="1200" spc="-1" strike="noStrike">
                <a:solidFill>
                  <a:srgbClr val="000000"/>
                </a:solidFill>
                <a:latin typeface="Calibri"/>
              </a:rPr>
              <a:t>             8670</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елорусы</a:t>
            </a:r>
            <a:r>
              <a:rPr b="0" lang="ru-RU" sz="1200" spc="-1" strike="noStrike">
                <a:solidFill>
                  <a:srgbClr val="000000"/>
                </a:solidFill>
                <a:latin typeface="Calibri"/>
              </a:rPr>
              <a:t>	</a:t>
            </a:r>
            <a:r>
              <a:rPr b="0" lang="ru-RU" sz="1200" spc="-1" strike="noStrike">
                <a:solidFill>
                  <a:srgbClr val="000000"/>
                </a:solidFill>
                <a:latin typeface="Calibri"/>
              </a:rPr>
              <a:t>             5682</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рмяне</a:t>
            </a:r>
            <a:r>
              <a:rPr b="0" lang="ru-RU" sz="1200" spc="-1" strike="noStrike">
                <a:solidFill>
                  <a:srgbClr val="000000"/>
                </a:solidFill>
                <a:latin typeface="Calibri"/>
              </a:rPr>
              <a:t>	</a:t>
            </a:r>
            <a:r>
              <a:rPr b="0" lang="ru-RU" sz="1200" spc="-1" strike="noStrike">
                <a:solidFill>
                  <a:srgbClr val="000000"/>
                </a:solidFill>
                <a:latin typeface="Calibri"/>
              </a:rPr>
              <a:t>             4999</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рдва</a:t>
            </a:r>
            <a:r>
              <a:rPr b="0" lang="ru-RU" sz="1200" spc="-1" strike="noStrike">
                <a:solidFill>
                  <a:srgbClr val="000000"/>
                </a:solidFill>
                <a:latin typeface="Calibri"/>
              </a:rPr>
              <a:t>	</a:t>
            </a:r>
            <a:r>
              <a:rPr b="0" lang="ru-RU" sz="1200" spc="-1" strike="noStrike">
                <a:solidFill>
                  <a:srgbClr val="000000"/>
                </a:solidFill>
                <a:latin typeface="Calibri"/>
              </a:rPr>
              <a:t>             3570</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зербайджанцы</a:t>
            </a:r>
            <a:r>
              <a:rPr b="0" lang="ru-RU" sz="1200" spc="-1" strike="noStrike">
                <a:solidFill>
                  <a:srgbClr val="000000"/>
                </a:solidFill>
                <a:latin typeface="Calibri"/>
              </a:rPr>
              <a:t>	</a:t>
            </a:r>
            <a:r>
              <a:rPr b="0" lang="ru-RU" sz="1200" spc="-1" strike="noStrike">
                <a:solidFill>
                  <a:srgbClr val="000000"/>
                </a:solidFill>
                <a:latin typeface="Calibri"/>
              </a:rPr>
              <a:t>3090</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уваши</a:t>
            </a:r>
            <a:r>
              <a:rPr b="0" lang="ru-RU" sz="1200" spc="-1" strike="noStrike">
                <a:solidFill>
                  <a:srgbClr val="000000"/>
                </a:solidFill>
                <a:latin typeface="Calibri"/>
              </a:rPr>
              <a:t>	</a:t>
            </a:r>
            <a:r>
              <a:rPr b="0" lang="ru-RU" sz="1200" spc="-1" strike="noStrike">
                <a:solidFill>
                  <a:srgbClr val="000000"/>
                </a:solidFill>
                <a:latin typeface="Calibri"/>
              </a:rPr>
              <a:t>             2334</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ыгане</a:t>
            </a:r>
            <a:r>
              <a:rPr b="0" lang="ru-RU" sz="1200" spc="-1" strike="noStrike">
                <a:solidFill>
                  <a:srgbClr val="000000"/>
                </a:solidFill>
                <a:latin typeface="Calibri"/>
              </a:rPr>
              <a:t>	</a:t>
            </a:r>
            <a:r>
              <a:rPr b="0" lang="ru-RU" sz="1200" spc="-1" strike="noStrike">
                <a:solidFill>
                  <a:srgbClr val="000000"/>
                </a:solidFill>
                <a:latin typeface="Calibri"/>
              </a:rPr>
              <a:t>             2251</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лдаване</a:t>
            </a:r>
            <a:r>
              <a:rPr b="0" lang="ru-RU" sz="1200" spc="-1" strike="noStrike">
                <a:solidFill>
                  <a:srgbClr val="000000"/>
                </a:solidFill>
                <a:latin typeface="Calibri"/>
              </a:rPr>
              <a:t>	</a:t>
            </a:r>
            <a:r>
              <a:rPr b="0" lang="ru-RU" sz="1200" spc="-1" strike="noStrike">
                <a:solidFill>
                  <a:srgbClr val="000000"/>
                </a:solidFill>
                <a:latin typeface="Calibri"/>
              </a:rPr>
              <a:t>             2079</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мцы</a:t>
            </a:r>
            <a:r>
              <a:rPr b="0" lang="ru-RU" sz="1200" spc="-1" strike="noStrike">
                <a:solidFill>
                  <a:srgbClr val="000000"/>
                </a:solidFill>
                <a:latin typeface="Calibri"/>
              </a:rPr>
              <a:t>	</a:t>
            </a:r>
            <a:r>
              <a:rPr b="0" lang="ru-RU" sz="1200" spc="-1" strike="noStrike">
                <a:solidFill>
                  <a:srgbClr val="000000"/>
                </a:solidFill>
                <a:latin typeface="Calibri"/>
              </a:rPr>
              <a:t>             1435</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рузины</a:t>
            </a:r>
            <a:r>
              <a:rPr b="0" lang="ru-RU" sz="1200" spc="-1" strike="noStrike">
                <a:solidFill>
                  <a:srgbClr val="000000"/>
                </a:solidFill>
                <a:latin typeface="Calibri"/>
              </a:rPr>
              <a:t>	</a:t>
            </a:r>
            <a:r>
              <a:rPr b="0" lang="ru-RU" sz="1200" spc="-1" strike="noStrike">
                <a:solidFill>
                  <a:srgbClr val="000000"/>
                </a:solidFill>
                <a:latin typeface="Calibri"/>
              </a:rPr>
              <a:t>             1044</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рийцы</a:t>
            </a:r>
            <a:r>
              <a:rPr b="0" lang="ru-RU" sz="1200" spc="-1" strike="noStrike">
                <a:solidFill>
                  <a:srgbClr val="000000"/>
                </a:solidFill>
                <a:latin typeface="Calibri"/>
              </a:rPr>
              <a:t>	</a:t>
            </a:r>
            <a:r>
              <a:rPr b="0" lang="ru-RU" sz="1200" spc="-1" strike="noStrike">
                <a:solidFill>
                  <a:srgbClr val="000000"/>
                </a:solidFill>
                <a:latin typeface="Calibri"/>
              </a:rPr>
              <a:t>             1010</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казаны народы c численностью более 1000 челове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F2424-A263-4EF0-85DA-96CB6D5C8FC7}"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Административно-территориальное устройство и местное самоуправление</a:t>
            </a:r>
            <a:endParaRPr b="0" lang="en-US" sz="14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сновная статья: Административно-территориальное деление Владимирской области</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 2006 года на территории Владимирской области существуют 125 муниципальных образований, в том числе 5 городских округов, 16 муниципальных районов, 26 городских поселений, 80 сельских поселен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E7957-7DED-47D7-BAAE-ACAF67F66EB4}"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ди́мирская о́бласть — субъект Российской Федерации, входит в Центральный федеральный округ.</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раничит с Московской, Ярославской, Ивановской, Рязанской и Нижегородской областям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ощадь — 29 000 км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селение — 1430,0 тыс. человек (на январь 2010).</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ластной центр — город Владимир, расстояние от Владимира до Москвы — 154 к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стояние от МКАД до границы области (М7) — 79 к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разована — 14 августа 1944 года на территории существовавшей до 14 января 1929 года Владимирской губернии РСФСР (в границах, значительно меньших Владимирской губернии Российской импер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0CA36-96D5-4503-ABD9-04A416C86AC3}"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селённые пункты с количеством жителей выше 10 тысяч</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 состоянию на 1 января 2010 год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димир</a:t>
            </a:r>
            <a:r>
              <a:rPr b="0" lang="ru-RU" sz="1200" spc="-1" strike="noStrike">
                <a:solidFill>
                  <a:srgbClr val="000000"/>
                </a:solidFill>
                <a:latin typeface="Calibri"/>
              </a:rPr>
              <a:t>	</a:t>
            </a:r>
            <a:r>
              <a:rPr b="0" lang="ru-RU" sz="1200" spc="-1" strike="noStrike">
                <a:solidFill>
                  <a:srgbClr val="000000"/>
                </a:solidFill>
                <a:latin typeface="Calibri"/>
              </a:rPr>
              <a:t>    ▲343,7</a:t>
            </a:r>
            <a:r>
              <a:rPr b="0" lang="ru-RU" sz="1200" spc="-1" strike="noStrike">
                <a:solidFill>
                  <a:srgbClr val="000000"/>
                </a:solidFill>
                <a:latin typeface="Calibri"/>
              </a:rPr>
              <a:t>	</a:t>
            </a:r>
            <a:r>
              <a:rPr b="0" lang="ru-RU" sz="1200" spc="-1" strike="noStrike">
                <a:solidFill>
                  <a:srgbClr val="000000"/>
                </a:solidFill>
                <a:latin typeface="Calibri"/>
              </a:rPr>
              <a:t>Лакинск</a:t>
            </a:r>
            <a:r>
              <a:rPr b="0" lang="ru-RU" sz="1200" spc="-1" strike="noStrike">
                <a:solidFill>
                  <a:srgbClr val="000000"/>
                </a:solidFill>
                <a:latin typeface="Calibri"/>
              </a:rPr>
              <a:t>	</a:t>
            </a:r>
            <a:r>
              <a:rPr b="0" lang="ru-RU" sz="1200" spc="-1" strike="noStrike">
                <a:solidFill>
                  <a:srgbClr val="000000"/>
                </a:solidFill>
                <a:latin typeface="Calibri"/>
              </a:rPr>
              <a:t>▼15,7</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вров</a:t>
            </a:r>
            <a:r>
              <a:rPr b="0" lang="ru-RU" sz="1200" spc="-1" strike="noStrike">
                <a:solidFill>
                  <a:srgbClr val="000000"/>
                </a:solidFill>
                <a:latin typeface="Calibri"/>
              </a:rPr>
              <a:t>	</a:t>
            </a:r>
            <a:r>
              <a:rPr b="0" lang="ru-RU" sz="1200" spc="-1" strike="noStrike">
                <a:solidFill>
                  <a:srgbClr val="000000"/>
                </a:solidFill>
                <a:latin typeface="Calibri"/>
              </a:rPr>
              <a:t>    ▼148,1</a:t>
            </a:r>
            <a:r>
              <a:rPr b="0" lang="ru-RU" sz="1200" spc="-1" strike="noStrike">
                <a:solidFill>
                  <a:srgbClr val="000000"/>
                </a:solidFill>
                <a:latin typeface="Calibri"/>
              </a:rPr>
              <a:t>	</a:t>
            </a:r>
            <a:r>
              <a:rPr b="0" lang="ru-RU" sz="1200" spc="-1" strike="noStrike">
                <a:solidFill>
                  <a:srgbClr val="000000"/>
                </a:solidFill>
                <a:latin typeface="Calibri"/>
              </a:rPr>
              <a:t>Покров</a:t>
            </a:r>
            <a:r>
              <a:rPr b="0" lang="ru-RU" sz="1200" spc="-1" strike="noStrike">
                <a:solidFill>
                  <a:srgbClr val="000000"/>
                </a:solidFill>
                <a:latin typeface="Calibri"/>
              </a:rPr>
              <a:t>	</a:t>
            </a:r>
            <a:r>
              <a:rPr b="0" lang="ru-RU" sz="1200" spc="-1" strike="noStrike">
                <a:solidFill>
                  <a:srgbClr val="000000"/>
                </a:solidFill>
                <a:latin typeface="Calibri"/>
              </a:rPr>
              <a:t>▼15,3</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ром</a:t>
            </a:r>
            <a:r>
              <a:rPr b="0" lang="ru-RU" sz="1200" spc="-1" strike="noStrike">
                <a:solidFill>
                  <a:srgbClr val="000000"/>
                </a:solidFill>
                <a:latin typeface="Calibri"/>
              </a:rPr>
              <a:t>	</a:t>
            </a:r>
            <a:r>
              <a:rPr b="0" lang="ru-RU" sz="1200" spc="-1" strike="noStrike">
                <a:solidFill>
                  <a:srgbClr val="000000"/>
                </a:solidFill>
                <a:latin typeface="Calibri"/>
              </a:rPr>
              <a:t>    ▼118,1</a:t>
            </a:r>
            <a:r>
              <a:rPr b="0" lang="ru-RU" sz="1200" spc="-1" strike="noStrike">
                <a:solidFill>
                  <a:srgbClr val="000000"/>
                </a:solidFill>
                <a:latin typeface="Calibri"/>
              </a:rPr>
              <a:t>	</a:t>
            </a:r>
            <a:r>
              <a:rPr b="0" lang="ru-RU" sz="1200" spc="-1" strike="noStrike">
                <a:solidFill>
                  <a:srgbClr val="000000"/>
                </a:solidFill>
                <a:latin typeface="Calibri"/>
              </a:rPr>
              <a:t>Карабаново</a:t>
            </a:r>
            <a:r>
              <a:rPr b="0" lang="ru-RU" sz="1200" spc="-1" strike="noStrike">
                <a:solidFill>
                  <a:srgbClr val="000000"/>
                </a:solidFill>
                <a:latin typeface="Calibri"/>
              </a:rPr>
              <a:t>	</a:t>
            </a:r>
            <a:r>
              <a:rPr b="0" lang="ru-RU" sz="1200" spc="-1" strike="noStrike">
                <a:solidFill>
                  <a:srgbClr val="000000"/>
                </a:solidFill>
                <a:latin typeface="Calibri"/>
              </a:rPr>
              <a:t>▼15,2</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лександров▼62,8</a:t>
            </a:r>
            <a:r>
              <a:rPr b="0" lang="ru-RU" sz="1200" spc="-1" strike="noStrike">
                <a:solidFill>
                  <a:srgbClr val="000000"/>
                </a:solidFill>
                <a:latin typeface="Calibri"/>
              </a:rPr>
              <a:t>	</a:t>
            </a:r>
            <a:r>
              <a:rPr b="0" lang="ru-RU" sz="1200" spc="-1" strike="noStrike">
                <a:solidFill>
                  <a:srgbClr val="000000"/>
                </a:solidFill>
                <a:latin typeface="Calibri"/>
              </a:rPr>
              <a:t>Меленки</a:t>
            </a:r>
            <a:r>
              <a:rPr b="0" lang="ru-RU" sz="1200" spc="-1" strike="noStrike">
                <a:solidFill>
                  <a:srgbClr val="000000"/>
                </a:solidFill>
                <a:latin typeface="Calibri"/>
              </a:rPr>
              <a:t>	</a:t>
            </a:r>
            <a:r>
              <a:rPr b="0" lang="ru-RU" sz="1200" spc="-1" strike="noStrike">
                <a:solidFill>
                  <a:srgbClr val="000000"/>
                </a:solidFill>
                <a:latin typeface="Calibri"/>
              </a:rPr>
              <a:t>▼15,0</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усь-Хруст.   ▼60,7</a:t>
            </a:r>
            <a:r>
              <a:rPr b="0" lang="ru-RU" sz="1200" spc="-1" strike="noStrike">
                <a:solidFill>
                  <a:srgbClr val="000000"/>
                </a:solidFill>
                <a:latin typeface="Calibri"/>
              </a:rPr>
              <a:t>	</a:t>
            </a:r>
            <a:r>
              <a:rPr b="0" lang="ru-RU" sz="1200" spc="-1" strike="noStrike">
                <a:solidFill>
                  <a:srgbClr val="000000"/>
                </a:solidFill>
                <a:latin typeface="Calibri"/>
              </a:rPr>
              <a:t>Струнино</a:t>
            </a:r>
            <a:r>
              <a:rPr b="0" lang="ru-RU" sz="1200" spc="-1" strike="noStrike">
                <a:solidFill>
                  <a:srgbClr val="000000"/>
                </a:solidFill>
                <a:latin typeface="Calibri"/>
              </a:rPr>
              <a:t>	</a:t>
            </a:r>
            <a:r>
              <a:rPr b="0" lang="ru-RU" sz="1200" spc="-1" strike="noStrike">
                <a:solidFill>
                  <a:srgbClr val="000000"/>
                </a:solidFill>
                <a:latin typeface="Calibri"/>
              </a:rPr>
              <a:t>▼14,9</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льчугино   ▼45,6</a:t>
            </a:r>
            <a:r>
              <a:rPr b="0" lang="ru-RU" sz="1200" spc="-1" strike="noStrike">
                <a:solidFill>
                  <a:srgbClr val="000000"/>
                </a:solidFill>
                <a:latin typeface="Calibri"/>
              </a:rPr>
              <a:t>	</a:t>
            </a:r>
            <a:r>
              <a:rPr b="0" lang="ru-RU" sz="1200" spc="-1" strike="noStrike">
                <a:solidFill>
                  <a:srgbClr val="000000"/>
                </a:solidFill>
                <a:latin typeface="Calibri"/>
              </a:rPr>
              <a:t>Петушки</a:t>
            </a:r>
            <a:r>
              <a:rPr b="0" lang="ru-RU" sz="1200" spc="-1" strike="noStrike">
                <a:solidFill>
                  <a:srgbClr val="000000"/>
                </a:solidFill>
                <a:latin typeface="Calibri"/>
              </a:rPr>
              <a:t>	</a:t>
            </a:r>
            <a:r>
              <a:rPr b="0" lang="ru-RU" sz="1200" spc="-1" strike="noStrike">
                <a:solidFill>
                  <a:srgbClr val="000000"/>
                </a:solidFill>
                <a:latin typeface="Calibri"/>
              </a:rPr>
              <a:t>▼14,3</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язники</a:t>
            </a:r>
            <a:r>
              <a:rPr b="0" lang="ru-RU" sz="1200" spc="-1" strike="noStrike">
                <a:solidFill>
                  <a:srgbClr val="000000"/>
                </a:solidFill>
                <a:latin typeface="Calibri"/>
              </a:rPr>
              <a:t>	</a:t>
            </a:r>
            <a:r>
              <a:rPr b="0" lang="ru-RU" sz="1200" spc="-1" strike="noStrike">
                <a:solidFill>
                  <a:srgbClr val="000000"/>
                </a:solidFill>
                <a:latin typeface="Calibri"/>
              </a:rPr>
              <a:t>     ▲45,2</a:t>
            </a:r>
            <a:r>
              <a:rPr b="0" lang="ru-RU" sz="1200" spc="-1" strike="noStrike">
                <a:solidFill>
                  <a:srgbClr val="000000"/>
                </a:solidFill>
                <a:latin typeface="Calibri"/>
              </a:rPr>
              <a:t>	</a:t>
            </a:r>
            <a:r>
              <a:rPr b="0" lang="ru-RU" sz="1200" spc="-1" strike="noStrike">
                <a:solidFill>
                  <a:srgbClr val="000000"/>
                </a:solidFill>
                <a:latin typeface="Calibri"/>
              </a:rPr>
              <a:t>Камешково</a:t>
            </a:r>
            <a:r>
              <a:rPr b="0" lang="ru-RU" sz="1200" spc="-1" strike="noStrike">
                <a:solidFill>
                  <a:srgbClr val="000000"/>
                </a:solidFill>
                <a:latin typeface="Calibri"/>
              </a:rPr>
              <a:t>	</a:t>
            </a:r>
            <a:r>
              <a:rPr b="0" lang="ru-RU" sz="1200" spc="-1" strike="noStrike">
                <a:solidFill>
                  <a:srgbClr val="000000"/>
                </a:solidFill>
                <a:latin typeface="Calibri"/>
              </a:rPr>
              <a:t>▼13,6</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иржач</a:t>
            </a:r>
            <a:r>
              <a:rPr b="0" lang="ru-RU" sz="1200" spc="-1" strike="noStrike">
                <a:solidFill>
                  <a:srgbClr val="000000"/>
                </a:solidFill>
                <a:latin typeface="Calibri"/>
              </a:rPr>
              <a:t>	</a:t>
            </a:r>
            <a:r>
              <a:rPr b="0" lang="ru-RU" sz="1200" spc="-1" strike="noStrike">
                <a:solidFill>
                  <a:srgbClr val="000000"/>
                </a:solidFill>
                <a:latin typeface="Calibri"/>
              </a:rPr>
              <a:t>     ▼30,4</a:t>
            </a:r>
            <a:r>
              <a:rPr b="0" lang="ru-RU" sz="1200" spc="-1" strike="noStrike">
                <a:solidFill>
                  <a:srgbClr val="000000"/>
                </a:solidFill>
                <a:latin typeface="Calibri"/>
              </a:rPr>
              <a:t>	</a:t>
            </a:r>
            <a:r>
              <a:rPr b="0" lang="ru-RU" sz="1200" spc="-1" strike="noStrike">
                <a:solidFill>
                  <a:srgbClr val="000000"/>
                </a:solidFill>
                <a:latin typeface="Calibri"/>
              </a:rPr>
              <a:t>Гороховец</a:t>
            </a:r>
            <a:r>
              <a:rPr b="0" lang="ru-RU" sz="1200" spc="-1" strike="noStrike">
                <a:solidFill>
                  <a:srgbClr val="000000"/>
                </a:solidFill>
                <a:latin typeface="Calibri"/>
              </a:rPr>
              <a:t>	</a:t>
            </a:r>
            <a:r>
              <a:rPr b="0" lang="ru-RU" sz="1200" spc="-1" strike="noStrike">
                <a:solidFill>
                  <a:srgbClr val="000000"/>
                </a:solidFill>
                <a:latin typeface="Calibri"/>
              </a:rPr>
              <a:t>▼13,1</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бинка</a:t>
            </a:r>
            <a:r>
              <a:rPr b="0" lang="ru-RU" sz="1200" spc="-1" strike="noStrike">
                <a:solidFill>
                  <a:srgbClr val="000000"/>
                </a:solidFill>
                <a:latin typeface="Calibri"/>
              </a:rPr>
              <a:t>	</a:t>
            </a:r>
            <a:r>
              <a:rPr b="0" lang="ru-RU" sz="1200" spc="-1" strike="noStrike">
                <a:solidFill>
                  <a:srgbClr val="000000"/>
                </a:solidFill>
                <a:latin typeface="Calibri"/>
              </a:rPr>
              <a:t>     ▼19,4</a:t>
            </a:r>
            <a:r>
              <a:rPr b="0" lang="ru-RU" sz="1200" spc="-1" strike="noStrike">
                <a:solidFill>
                  <a:srgbClr val="000000"/>
                </a:solidFill>
                <a:latin typeface="Calibri"/>
              </a:rPr>
              <a:t>	</a:t>
            </a:r>
            <a:r>
              <a:rPr b="0" lang="ru-RU" sz="1200" spc="-1" strike="noStrike">
                <a:solidFill>
                  <a:srgbClr val="000000"/>
                </a:solidFill>
                <a:latin typeface="Calibri"/>
              </a:rPr>
              <a:t>Судогда</a:t>
            </a:r>
            <a:r>
              <a:rPr b="0" lang="ru-RU" sz="1200" spc="-1" strike="noStrike">
                <a:solidFill>
                  <a:srgbClr val="000000"/>
                </a:solidFill>
                <a:latin typeface="Calibri"/>
              </a:rPr>
              <a:t>	</a:t>
            </a:r>
            <a:r>
              <a:rPr b="0" lang="ru-RU" sz="1200" spc="-1" strike="noStrike">
                <a:solidFill>
                  <a:srgbClr val="000000"/>
                </a:solidFill>
                <a:latin typeface="Calibri"/>
              </a:rPr>
              <a:t>▼12,1</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Юрьев-Пол.   ▼18,9</a:t>
            </a:r>
            <a:r>
              <a:rPr b="0" lang="ru-RU" sz="1200" spc="-1" strike="noStrike">
                <a:solidFill>
                  <a:srgbClr val="000000"/>
                </a:solidFill>
                <a:latin typeface="Calibri"/>
              </a:rPr>
              <a:t>	</a:t>
            </a:r>
            <a:r>
              <a:rPr b="0" lang="ru-RU" sz="1200" spc="-1" strike="noStrike">
                <a:solidFill>
                  <a:srgbClr val="000000"/>
                </a:solidFill>
                <a:latin typeface="Calibri"/>
              </a:rPr>
              <a:t>Суздаль</a:t>
            </a:r>
            <a:r>
              <a:rPr b="0" lang="ru-RU" sz="1200" spc="-1" strike="noStrike">
                <a:solidFill>
                  <a:srgbClr val="000000"/>
                </a:solidFill>
                <a:latin typeface="Calibri"/>
              </a:rPr>
              <a:t>	</a:t>
            </a:r>
            <a:r>
              <a:rPr b="0" lang="ru-RU" sz="1200" spc="-1" strike="noStrike">
                <a:solidFill>
                  <a:srgbClr val="000000"/>
                </a:solidFill>
                <a:latin typeface="Calibri"/>
              </a:rPr>
              <a:t>▼11,0</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дужный</a:t>
            </a:r>
            <a:r>
              <a:rPr b="0" lang="ru-RU" sz="1200" spc="-1" strike="noStrike">
                <a:solidFill>
                  <a:srgbClr val="000000"/>
                </a:solidFill>
                <a:latin typeface="Calibri"/>
              </a:rPr>
              <a:t>	</a:t>
            </a:r>
            <a:r>
              <a:rPr b="0" lang="ru-RU" sz="1200" spc="-1" strike="noStrike">
                <a:solidFill>
                  <a:srgbClr val="000000"/>
                </a:solidFill>
                <a:latin typeface="Calibri"/>
              </a:rPr>
              <a:t>      ▲18,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C4F90-68A4-4060-81F3-6B0BB7FB8652}"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кономик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й региональный продукт: 111,9 млрд руб. (2006)</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РП на душу населения: 76,3 тыс. руб. (2006)</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нтральное место в экономике занимает промышленность, особое влияние на развитие оказывает федеральный транспорт, представленный несколькими крупнейшими магистралями. Федеральное финансирование в балансе регионального бюджета достигает 25 % (2006). Доля сельского хозяйства в ВРП — 9 % (2006) (12 %—2005). Региональным руководством поддерживается развитие экскурсинно-исторического и экологического туризм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 материалам сайта prognoz-vrp.narod.ru ВРП Владимирской области за 2007 год составило 146,6 млрд рубл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21777-B77E-4197-8236-57B08F3D670D}"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мышленнос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труктуре промышленности основную роль играет машиностроение, создающее до 40 % промышленного продукта, существенное значение играет пищевая промышленность (до 17 % промышленного продукта), электроэнергетика (10 %), стекольная (до 7 %) и лёгкая (около 5 %) промышленн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CE2C8-5087-4CA5-96FF-3F71365E7224}"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шиностроени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сновные центры машиностроения — Владимир, Ковров, Муром. Значимые предприят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димирский тракторный завод, Владимирский электромоторный завод, Электроприбор</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вровский механический завод, Экскаваторный завод «Ковровец», Завод им. Дегтярёв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ромский стрелочный завод, Муромский машиностроительный завод, Муромский тепловозостроительный завод</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льчугинский завод «Электрокабел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воды автомобильных комплектующих: Автосвет (Киржач) и ОСВАР (Вязники), «Стакол» (Петушки), Автоприбор (Владимир).</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роховецкий завод подъёмно-транспортного оборудова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7B7EB-AA9E-4A83-8BFD-BF9912199241}"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ищевая промышленнос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иболее развита переработка молочной продукции и кондитерское производств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рупнейшие объединения предприятий — «Молоко» и «Ополь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дитерская фабрика концерна Kraft Foo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A1049-EE4E-4282-BEE5-8FCA76D6BB18}"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нергетик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егион характеризуется существенным дефицитом электроэнергии, потребность на 3/4 покрывается из ОЭС Центра через Владимирские электросети. Крупнейшие объекты — Владимирская ТЭЦ-2 мощностью в 407 МВт, и узловая Владимирская подстанция 750 кВ мощностью 2500 МВА. Интересно, что в начале 1940-х было практически начато строительство двух гидроузлов с ГЭС на Клязьме, остановившееся с началом войны. Действовало несколько миниГЭС на Нерли, у деревни Финеево на Киржаче, множество водяных мельниц.</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требление энергоресурсов в 1999 году составило:</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родный газ — 2,6 млрд м³</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голь — 323 тыс. 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фтепродуктов — 647 тыс. 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мпорт электроэнергии — 3,9 млрд кВт·ч</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ECA28-9E44-4452-8463-C947D5DD7BA3}"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текольная промышленность</a:t>
            </a:r>
            <a:endParaRPr b="0" lang="en-US" sz="2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усевской хрустальный заво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О «Символ» — около 60 % российского оконного стекла (г. Курлов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АО «Красное Эхо» (посёлок Красное Эх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ОО «РАСКО» (посёлок Анопин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802A4-2727-4C01-B681-2DAF4A558401}"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анспор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ой грузопоток региона проходит по трём из четырёх направлений транссиба, кроме того в регионе часть большого московского ж/д кольца, ветки Александров — Иваново и Камешково — Иваново. Развита и сеть внутренних железных дорог; ветки Ковров — Муром, Владимир — Тума, ответвления на Судогду, Радужный, Уршельский и Фролищи. Крупнейшие локомотивные депо Александров, Владимир и Муром. Оператор ОАО «РЖД».</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втором месте по объёмам находится трубопроводный транспор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е нитки нефтепровода Нижний Новгород — Рязань и две нитки Нижний Новгород — Ярославль (суммарно не менее 45 млн т/год), обеспечивающие транзит западно-сибирской и волго-уральской нефти к Московскому, Ярославскому, Рязанскому и Киришскому НПЗ, и к порту Приморск на экспорт. (ОАО АК «Транснефт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азопроводы Нижний Новгород — Центр (КС Муром) и Нижний Новгород — Щёлково с отводами на Иваново и южные районы области, суммарный транзит более 6 млрд м³/год. ОАО «Газпро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дуктопровод (МНПП) Кстово — Рязань (не менее 2 млн т/год в основном дизельного топлива) с отводами на Судогду и Вязники. Перекачивающая станция с нефтехранилищами в посёлке Второво, ведётся строительство следующей очереди трубопровода Второво — Приморск (действующая мощность 8,4 млн т. дизельного топлива в год), планируется увеличение ёмкости резервуаров вплоть до 80 тыс. м³, а мощности всего узла до 24,6 млн т/год (проект «Север» ОАО «Транснеф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61925-AC99-4F21-B848-D08572D62DD7}"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 автомобильных дорог наиболее значима автодорога М7 «Волга» до 10 млн т./год (через Покров, Петушки, Лакинск, Владимир, Вязники и Гороховец), подход от магистрали к Иваново протяжённостью 102 км (через Суздаль), а также незначительный участок автодороги А108, слабо поддерживаемые Р72 Владимир — Муром и Р125 Нижний Новгород — Касим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гистральные линии электропередач: ВЛ 750 кВ Калининская АЭС — Владимирская ПС, 2xВЛ 500 кВ Жигулёвская ГЭС — Москва, ВЛ Костромская ГРЭС — Москва, ВЛ 500 кВ Костромская ГРЭС — Владимирская ПС. Только для внутреннего потребления (не считая транзит) в регион перебрасывается более 4 млрд кВт·ч/год (что эквивалентно около 0,7 млн т/год мазута для типовой электростанц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вито грузовое и пассажирское судоходство по Клязьме и особенно Оке, порты Вязники и Муром,Гороховецкий судостроительный завод.</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эропорт местных авиалиний Семязино в 5 км от Владимира (1950 х 42 (асфальтобетон) до 25 тонн и 650 х 70 (грунт)), посадочные площадки в Вязниках, Гороховце, многочисленные военные аэродромы. Над регионом проходит значительная часть воздушных коридоров восточного направления от Москв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оит отметить развитые троллейбусные системы Владимира и Ковров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хранено узкоколейное движение, в том числе и пассажирское по Островскому и Бакшеевскому, Мезиновскому и Гусевским болотам Мещёры.</a:t>
            </a:r>
            <a:endParaRPr b="0" lang="en-US" sz="12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487C8-E254-40D5-AAE6-77EE07656541}"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еографическое положе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димирская область расположена в центре Европейской части России на юге Волжско-Окского междуречья, в 80 км на восток от Москвы. Владимирская область протянулась на 170 км с севера на юг и на 280 км — с запада на восто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023AA-9952-4D38-9E66-7490577F7A35}"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льское хозяйство</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ециализируется на растениеводстве, молочно-мясном скотоводстве и птицеводстве. Ведущая отрасль сельского хозяйства — животноводство молочно-мясного направления. Разводят крупный рогатый скот, свиней, овец, коз. Коневодство (владимирские тяжеловозы). Площадь сельхозугодий — 930,9 тыс. га (32,1 % земельного фонда), в том числе пашня — 66,8 %. Посевные площади составляют 476,5 тыс. га, из которых 58,7 % занимают кормовые культуры, 29 % — зерновые. Из зерновых выращивают пшеницу, рожь, ячмень, овёс. Планируется расширение посевов рапса (для производства рапсового масла), а также специальных сортов картофеля и овощей (для переработки на месте, производства овощных соков). Около 25 специализированных предприятий занимаются выращиванием племенного скота. Несколько рыбных хозяйств (крупнейшее из них «Ворша»), многочисленные пасе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A1D43-6700-4C12-AF97-40062A14E1D4}"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ука, образование и культур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учными исследованиями в области занимаются более 30 организаций. Среди них:</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ИКТИ тракторных и комбайновых двигателе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ОО «НИИ Стекл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НИКиПТИ органических удобрений и торф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НИИ защиты животных</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НИИ синтеза минерального сырь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НИИ ветеринарной вирусологии и микробиологии (Вольгински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АО «НИПКиТИ электромашинострое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НИИ лазерный центр РФ «Радуга» (ЗАТО Радужны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НИИ «Сигнал»</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АО НИПТИ «Микрон»</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П «Владимирский НИИ сельского хозяйств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5CD7B-CAA4-43C9-8756-A6FF96408729}"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рупнейшие представители системы образова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димирский государственный университе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димирский государственный гуманитарный университе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вровская государственная технологическая академ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димирский юридический институт Министерства юстиц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регионе действуют исправительно-образовательные и трудовые учреждения, в том числе несколько подростковых и юношеских.</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ластной драматический театр, Кукольный театр, Владимирская филармония, Областная научная библиотека, современные кинотеатры «Киномакс-Буревестник» (Владимир), «Сатурн» (Александров) и «Октябрь» (Муром), ежегодный фестиваль анимационного кино (Суздал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 художественных промыслов развиты вышивка, ювелирное дело, лаковая миниатюра (посёлок Мстёр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ая исповедуемая религия — православное христианство имеет глубокие исторические корни. Здесь множество действующих монастырей, храмов и часовен со значительными приходами, основная регулирующая структура — Русская православная церков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димирская область является одним из 15 регионов, в которых с 1 сентября 2006 года был введён в качестве регионального компонента образования предмет Основы православной культур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9167F-D34A-42A0-859C-D52A5A413EA1}"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Рекреация, спорт</a:t>
            </a:r>
            <a:endParaRPr b="0" lang="en-US" sz="3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ласть знаменита сохранившимися древними русскими городами Александров, Владимир, Гороховец, Кидекша, Муром, Юрьев-Польский, Гусь-Хрустальный, их архитектурно-историческими, культурными и религиозными памятниками, местом православного паломничества — городом Суздаль (Александровский, Покровский, Спасо-Евфимиев, и Ризоположенский монастыри), уникальным архитектурно-ландшафтным памятником — Церковью Покрова на Нерли в Боголюбово. По области проходит основная часть маршрутов знаменитого Золотого кольца России. Часто посещаемым туристами местом стала историческая тюрьма «Владимирский централ».</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рупнейший природоохранный объект, национальный парк Мещёра — популярное место туризма и отдыха (байдарочные, лыжные, пешие и велопоходы, охота, рыбалка, отдых у воды, сбор грибов и ягод), туристические базы. Не менее популярны среди байдарочников реки северо-запада области (Киржач, Пекша, Колокша). Благодаря своей отдалённости и доступности популярны озёра парка «Кшара», развито туристическое и спортивное судоходство по Оке и Клязьм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ноуборд-центр в селе Сновицы Суздальского района, горнолыжный спуск «Пужалова гора» в Гороховце, парашютный спорт на аэродромах Киржача, Александрова и Семязино, развит пейнтбол, картинг, в Коврове развит мотоциклетный спорт, автотриал в болотах области, дайвинг в глубоких озёрах Балахнинской низины, Футбольные клубы «Торпедо-Владимир» и «Локомотив» (Муром). Стадион «Торпедо» вместимостью 19000 человек (г. Владимир).</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виваются дачные и садовые участки вблизи крупных городов и особенно приближённые к Москве территории на западе обла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845CC-BBD2-484C-A367-692455915720}"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ластная власт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убернатор области — Виноградов Николай Владимирович.</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8 февраля 2005 Николай Виноградов утверждён владимирским законодательным собранием на посту главы области по представлению президент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ставители области в Совете Федерац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дим Густов (Единая Россия) — представитель администрации Владимирской области, впервые был назначен в феврале 2001, назначение вновь подтверждено 12 апреля 2005</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венков, Александр Николаевич (Единая Россия) — представитель ЗС Владимирской области, избран в марте 2009 год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боры в областной парламент прошли 1 марта 200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7F9A6-D7D6-4AE7-8435-4DE57F8D3A97}"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вестные люд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области родилис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димиров, Юрий Кузьмич (р.1942)- артист балета, народный артист СССР (1987)</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ворыкин, Владимир Козьмич (1888—1982) — изобретатель современного телевиде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стантинов, Пётр Александрович (1899—1973) — актёр театра и кино, народный артист СССР (1966)</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азарев, Михаил Петрович (1788—1851) — русский флотоводец и мореплаватель, адмирал, первооткрыватель Антарктид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олетов, Николай Григорьевич (1834—1912) — русский генерал, глава болгарского ополчения во время русско-турецкой войны 1877-1878 гг.</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олетов, Александр Григорьевич (1839—1896) — русский физик, профессор, исследователь фотоэффект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Шмаков, Павел Васильевич (1885—1982) — советский учёный в области телевидения и электрони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8E0FA-298E-405F-A4EC-72C7FD3E83BD}"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боту выполнил ученик 11 кл. Постников Денис</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CB771-69BC-412E-8A3D-8476935A0DB4}"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ельеф, геологическое строение и полезные ископаемые</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рритория находится в центре Восточно-Европейской равнины, основная часть территории — слабо всхолмлённая равнина с общим понижением от Клинско-Дмитровской гряды (высоты до 271 м) на севере, через Владимирское (Юрьево) Ополье (высота до 236 м), далее на юг к Мещёрской низменности (преобладающая высота 120 м) и на восток через Окско-Цнинский вал (до 184 м) и Гороховецкий отрог (верхняя точка — 191 м) к Балахнинской низменности (около 90 м) и устью Клязьмы (67 м). Благодаря резким склонам возвышенностей регион обладает рекреационными (зимние виды спорта) ресурсами и гидроаккумуляционными возможностя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9C59A-ACE8-40F7-BCA9-3F71C3A1C485}"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ми минеральными ресурсами области являются известняки, торф, строительные пески камни, огнеупорные и кирпичные глины. Запасы торфа в размере 59 млн тонн, основная их часть залегает в пределах Мещёрской низменности. Общие залежи известняков составляют 30 млн тонн и расположены в районе Окско-Цнинского вала, где их толщи достигают 130 метров (Ковровский, Вязниковский, Судогодский, Селивановский район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варцевые пески — чистые, мелкие, почти без примесей глинистых частиц ледникового происхождения имеют федеральное значение, в больших количествах залегают в южных районах области (Гусь-Хрустальный и Меленковский районы). Используются пески для производства стекла и хрусталя. Также в области имеются фосфориты, железная руда, есть небольшие залежи гипса, флюсовых материалов и металлургических доломитов местного значе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территории области встречаются естественные источники минеральных вод.</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E9CE0-32F9-4E43-9691-92B2BA8F2A24}"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има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имат области умеренно континентальный, продолжительность периода со среднесуточной температурой ниже 0 °C — 137 дней, среднегодовая температура 5 °C (стандартное отклонение 12 °C), средняя температура января −13 °C, июля +19 °C, средняя толщина снежного покрова 40 мм (лежит в среднем 144 дня). Среднегодовое количество осадков 420—740 мм, продолжительность вегетационного периода 160—180 дн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CEB96-40B5-4440-AFAD-9DCF2EDBB20B}"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идрограф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щая гладь поверхностных вод составляет 32,9 тыс. г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реки области Клязьма и Ока. По территории области протекают сотни больших и малых рек, общей протяжённостью более 8,6 тыс. км (их количество вместе с ручьями доходит до 560). Клязьма впадает в Оку на юго-восточной окраине по границе с Нижегородской областью. Крупнейшие притоки Клязьмы: Шерна (с притоком Молокча), Киржач (с притоками Большой и Малый Киржач), Пекша, Колокша, Нерль, Судогда, Уводь, Лух, Суворощь, притоки Оки: Гусь, Унжа и Ушна, близ Александрова берёт начало приток Волги река Дубн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4FE01-F963-4879-A661-478C2B9FF917}"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считывается около 300 озёр общей площадью в пять тысяч гектар. Большинство из них мелкие, бессточные, многие зарастают торфяным слоем. Происхождение озёр различно. Многочисленные озёра-старицы разбросаны по долинам рек. Самые крупные из них — Урвановское (длиной 12 км) и Виша (длиной около 10 км). В Мещёрской низменности и на северо-западе области встречаются озёра древних аллювиальных долин: Исихры, Святое и др. Озёра карстового происхождения, расположенные в низовьях Клязьмы и в центре округа Вязники (северо-восток области), имеют сильно минерализованную воду и связаны с собой подземными водотоками. Наиболее крупное и глубокое из них — озеро Кшара. В округе Александров и Юрьев-Польском районе встречаются озёра ледникового происхождения небольших размер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массивы болот региона (общая их площадь составляет 37,4 тыс. га) встречаются в Мещёрской и Балахнинской (северо—восток области) низменностях.</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E45F5-5CD8-41FC-8CA8-2C89D148E77B}"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чв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регионе наравне встречаютс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одородные тёмноцветные карбонатные и серые лесные — связанные с широколиственными лесами в ополье, занимают 417,5 тыс. га или 14,3 % общей площади (Суздальский и Юрьев-Польский районы, части Александровского, Кольчугинского и Собинского район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рновые аллювиальные (пойменные) почвы по берегам Оки и Клязьм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рново-подзолистые почвы, сформировавшиеся под хвойными и смешанными лесам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реднесуглинистого типа (Вязниковский, Муромский, частично Ковровский, Камешковский, Гороховецкий, Селивановский, Собинский, Киржачский, Александровский район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упесчаного и песчаного типов (Гусь-Хрустальный, Меленковский, Петушинский, Судогодский районы, южные части Киржачского, Собинского, Муромского и Селивановского район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золисто-болотные и болотные в пределах мещёрской низменности и гороховецких боло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мечается недостаточная обеспеченность почв бором и серой, 85—98 % почв относятся к категории низкообеспеченных цинко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градация земель наиболее распространена в виде водной эрозии — около 175 тыс. га эродированных земель и около 700 тыс. га — эрозионноопасны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D3801-B2EA-4331-BD8C-91393C85D2DE}"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FE6890-6E64-46DA-BEE0-53B76732FC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AFC10C-6659-4E5F-A2CF-454CB4CF9C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6315A0-75E8-4C76-97BC-B4646472F4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7110F0-2A6C-45FF-B86E-8B06B75BB5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763856-34D5-4628-8428-4DFE3A8AD8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7977F3-245D-4CE3-BAE8-123359125A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99A4AD-A501-47AA-8646-E847968D34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CF3A06-97A5-47B4-BAE4-14BDBBBC7C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96A5D4-5416-48DC-A694-E9D681B2CA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65C554-E9B0-4197-963F-D69C744DD7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BD7CA7-17A8-4223-83EB-801117AB0B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122C2F-8AC9-4405-895A-0D3BCC9208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C32D5E-F5F7-47E4-B660-D1FCF34979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DFF8BC-81EA-4205-9156-C6E1C6CCBE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5202FD-60B4-4947-831C-157B0CD3E7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815ABC-3240-471D-A03F-0E7249E946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9D2848-EC32-492C-AB35-1DADBE574C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6CBDA4-6BFD-4916-9D0C-F0D04CA057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70474E-15BB-4E95-AA6D-89A7868A25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F8A6A2-C6D3-4781-BBE6-CE963FD275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E86255-1C85-4F82-B361-B14B6D4D51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5D913-3232-44A2-B13F-D5FA8FB09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A3AEB-D383-4AC1-9186-18B5D886BB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27DA2-1ECF-4FE2-87B7-9AE250DDB3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6211F-7141-4CBA-9FC9-E8395A4419F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000000"/>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086D9-3488-4176-8A1A-32FE223158F4}"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58880" y="2636640"/>
            <a:ext cx="83851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Владимирская область</a:t>
            </a:r>
            <a:endParaRPr b="1" lang="en-US" sz="4400" spc="-1" strike="noStrike">
              <a:solidFill>
                <a:srgbClr val="ffffb7"/>
              </a:solidFill>
              <a:latin typeface="Arial Black"/>
            </a:endParaRPr>
          </a:p>
        </p:txBody>
      </p:sp>
      <p:pic>
        <p:nvPicPr>
          <p:cNvPr id="106" name="Picture 5" descr="125px-Flag_of_Vladimirskaya_Oblast"/>
          <p:cNvPicPr/>
          <p:nvPr/>
        </p:nvPicPr>
        <p:blipFill>
          <a:blip r:embed="rId1"/>
          <a:stretch/>
        </p:blipFill>
        <p:spPr>
          <a:xfrm>
            <a:off x="6372360" y="692280"/>
            <a:ext cx="2160360" cy="1089000"/>
          </a:xfrm>
          <a:prstGeom prst="rect">
            <a:avLst/>
          </a:prstGeom>
          <a:ln w="0">
            <a:noFill/>
          </a:ln>
        </p:spPr>
      </p:pic>
      <p:pic>
        <p:nvPicPr>
          <p:cNvPr id="107" name="Picture 6" descr="125px-Coat_of_arms_of_Vladimiri_Oblast"/>
          <p:cNvPicPr/>
          <p:nvPr/>
        </p:nvPicPr>
        <p:blipFill>
          <a:blip r:embed="rId2"/>
          <a:stretch/>
        </p:blipFill>
        <p:spPr>
          <a:xfrm>
            <a:off x="755640" y="549360"/>
            <a:ext cx="1190520" cy="1190520"/>
          </a:xfrm>
          <a:prstGeom prst="rect">
            <a:avLst/>
          </a:prstGeom>
          <a:ln w="0">
            <a:noFill/>
          </a:ln>
        </p:spPr>
      </p:pic>
      <p:sp>
        <p:nvSpPr>
          <p:cNvPr id="108"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Флора</a:t>
            </a:r>
            <a:endParaRPr b="1" lang="en-US" sz="4400" spc="-1" strike="noStrike">
              <a:solidFill>
                <a:srgbClr val="ffffb7"/>
              </a:solidFill>
              <a:latin typeface="Arial Black"/>
            </a:endParaRPr>
          </a:p>
        </p:txBody>
      </p:sp>
      <p:sp>
        <p:nvSpPr>
          <p:cNvPr id="13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55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Область расположена в зоне смешанных лесов. Преобладают зональные широколиственно-еловые леса в моренных ландшафтах (на Клинско-Дмитровской гряде, на Гороховецком отроге), сосновые леса в Мещёрской низменности, в Заклязьменском бору и на Окско-Цнинском валу, широколиственные леса в Ополье и на склонах коренных берегов Оки и Клязьмы.</a:t>
            </a:r>
            <a:endParaRPr b="0" lang="en-US" sz="2200" spc="-1" strike="noStrike">
              <a:solidFill>
                <a:srgbClr val="ffffff"/>
              </a:solidFill>
              <a:latin typeface="Arial"/>
            </a:endParaRPr>
          </a:p>
          <a:p>
            <a:pPr marL="343080" indent="-343080">
              <a:lnSpc>
                <a:spcPct val="80000"/>
              </a:lnSpc>
              <a:spcBef>
                <a:spcPts val="55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Важнейшим сырьевым запасом и природным богатством Владимирской области являются леса, которые покрывают 1520,9 тыс. га (42 % территории региона). Запасы древесины — 209 млн м³, в том числе хвойных пород — 137,5 млн м³. Расчетная лесосека области используется на 90 %, ежегодно вырубается около 9 тыс. га леса для промышленных целей.</a:t>
            </a:r>
            <a:endParaRPr b="0" lang="en-US" sz="2200" spc="-1" strike="noStrike">
              <a:solidFill>
                <a:srgbClr val="ffffff"/>
              </a:solidFill>
              <a:latin typeface="Arial"/>
            </a:endParaRPr>
          </a:p>
        </p:txBody>
      </p:sp>
      <p:sp>
        <p:nvSpPr>
          <p:cNvPr id="13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837720" y="836280"/>
            <a:ext cx="8007480" cy="5259240"/>
          </a:xfrm>
          <a:prstGeom prst="rect">
            <a:avLst/>
          </a:prstGeom>
          <a:noFill/>
          <a:ln w="0">
            <a:noFill/>
          </a:ln>
        </p:spPr>
        <p:txBody>
          <a:bodyPr anchor="t">
            <a:normAutofit/>
          </a:bodyPr>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Богата и славится своей растительностью увлажнённая Мещёра, здесь собирают малину, землянику, смородину, особенно много черники, брусники, калины и клюквы, многочисленные грибы и лекарственные растения (багульник болотный, хвощ полевой, тысячелистник обыкновенный, зверобой, мята, крапива, ландыш и др.). Разнообразные типы водорослей, мхов, лишайников.</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Флора области насчитывает свыше 1300 видов сосудистых растений, около 200 видов мохообразных. В Красную книгу России из видов, обитающих в области, занесены венерин башмачок (Cypripedium calceolus), пыльцеголовник красный (Cephalanthera rubra), пальцекорник балтийский (Dactylorhiza baltica), пальцекорник Траунштейнера (Dactylorhiza traunsteineri),надбородник безлистный (Epipogium aphyllum), липарис Лёзеля (Liparis loeselii), неоттианте клобучковая (Neottianthe cucullata), ятрышник шлемоносный (Orchis militaris), ятрышник обожженный (Orchis ustulata) и др.</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Фауна</a:t>
            </a:r>
            <a:endParaRPr b="1" lang="en-US" sz="4400" spc="-1" strike="noStrike">
              <a:solidFill>
                <a:srgbClr val="ffffb7"/>
              </a:solidFill>
              <a:latin typeface="Arial Black"/>
            </a:endParaRPr>
          </a:p>
        </p:txBody>
      </p:sp>
      <p:sp>
        <p:nvSpPr>
          <p:cNvPr id="13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 современной фауне насчитывается более 50 видов млекопитающих, среди которых: лось, кабан, косуля, благородный и пятнистый олень, рысь, волк, белка, заяц, куница, лисица, хорёк, барсук и другие пушные звери (охота открыта с октября по февраль), 5 видов пресмыкающихся и 10 видов земноводных. В красную книгу РФ внесена русская выхухоль.</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 территории области обитает 216 видов птиц, среди которых: глухарь, тетерев, рябчик, серая куропатка, вальдшнеп, гусь, утка и др. Перелётом проходит внесённый в Красную книгу РФ гусь-пискулька.</a:t>
            </a:r>
            <a:endParaRPr b="0" lang="en-US" sz="2400" spc="-1" strike="noStrike">
              <a:solidFill>
                <a:srgbClr val="ffffff"/>
              </a:solidFill>
              <a:latin typeface="Arial"/>
            </a:endParaRPr>
          </a:p>
        </p:txBody>
      </p:sp>
      <p:sp>
        <p:nvSpPr>
          <p:cNvPr id="13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837720" y="836280"/>
            <a:ext cx="8007480" cy="5259240"/>
          </a:xfrm>
          <a:prstGeom prst="rect">
            <a:avLst/>
          </a:prstGeom>
          <a:noFill/>
          <a:ln w="0">
            <a:noFill/>
          </a:ln>
        </p:spPr>
        <p:txBody>
          <a:bodyPr anchor="t">
            <a:normAutofit/>
          </a:bodyPr>
          <a:p>
            <a:pPr marL="343080" indent="-343080">
              <a:lnSpc>
                <a:spcPct val="90000"/>
              </a:lnSpc>
              <a:spcBef>
                <a:spcPts val="624"/>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На промысловых охотничьих животных охота по лицензиям и разрешениям открыта в следующие сроки:</a:t>
            </a:r>
            <a:endParaRPr b="0" lang="en-US" sz="2500" spc="-1" strike="noStrike">
              <a:solidFill>
                <a:srgbClr val="ffffff"/>
              </a:solidFill>
              <a:latin typeface="Arial"/>
            </a:endParaRPr>
          </a:p>
          <a:p>
            <a:pPr marL="343080" indent="-343080">
              <a:lnSpc>
                <a:spcPct val="90000"/>
              </a:lnSpc>
              <a:spcBef>
                <a:spcPts val="624"/>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лось, кабан, благородный олень, пятнистый олень (середина ноября — середина января)</a:t>
            </a:r>
            <a:endParaRPr b="0" lang="en-US" sz="2500" spc="-1" strike="noStrike">
              <a:solidFill>
                <a:srgbClr val="ffffff"/>
              </a:solidFill>
              <a:latin typeface="Arial"/>
            </a:endParaRPr>
          </a:p>
          <a:p>
            <a:pPr marL="343080" indent="-343080">
              <a:lnSpc>
                <a:spcPct val="90000"/>
              </a:lnSpc>
              <a:spcBef>
                <a:spcPts val="624"/>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заяц (октябрь — январь)</a:t>
            </a:r>
            <a:endParaRPr b="0" lang="en-US" sz="2500" spc="-1" strike="noStrike">
              <a:solidFill>
                <a:srgbClr val="ffffff"/>
              </a:solidFill>
              <a:latin typeface="Arial"/>
            </a:endParaRPr>
          </a:p>
          <a:p>
            <a:pPr marL="343080" indent="-343080">
              <a:lnSpc>
                <a:spcPct val="90000"/>
              </a:lnSpc>
              <a:spcBef>
                <a:spcPts val="624"/>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Охота на глухаря, тетерева, вальдшнепа, селезня и гуся разрешена в течение 10 дней в апреле.</a:t>
            </a:r>
            <a:endParaRPr b="0" lang="en-US" sz="2500" spc="-1" strike="noStrike">
              <a:solidFill>
                <a:srgbClr val="ffffff"/>
              </a:solidFill>
              <a:latin typeface="Arial"/>
            </a:endParaRPr>
          </a:p>
          <a:p>
            <a:pPr marL="343080" indent="-343080">
              <a:lnSpc>
                <a:spcPct val="90000"/>
              </a:lnSpc>
              <a:spcBef>
                <a:spcPts val="624"/>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Водоёмы региона также богаты речной и озёрной рыбой многочисленных видов (вьюн, плотва, щука, окунь, карась, краснопёрка, в Клязьме встречается стерлядь), рыбалказимний (подлёдная рыбалка) период. Действует несколько охотничьих хозяйств.</a:t>
            </a:r>
            <a:endParaRPr b="0" lang="en-US" sz="2500" spc="-1" strike="noStrike">
              <a:solidFill>
                <a:srgbClr val="ffffff"/>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3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Охрана природы</a:t>
            </a:r>
            <a:endParaRPr b="1" lang="en-US" sz="4400" spc="-1" strike="noStrike">
              <a:solidFill>
                <a:srgbClr val="ffffb7"/>
              </a:solidFill>
              <a:latin typeface="Arial Black"/>
            </a:endParaRPr>
          </a:p>
        </p:txBody>
      </p:sp>
      <p:sp>
        <p:nvSpPr>
          <p:cNvPr id="14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Экологическая ситуация в области в целом благоприятная.</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а юге области на территории Гусь-Хрустального района выделена территория под Национальный парк «Мещёра», памятник природы — озеро Исихра, часть федерального заказника «Клязьминский» (северо-восток Ковровского района), сохраняющего выхухоль и в целом природный комплекс поймы Клязьмы, федеральный заказник «Муромский» в пойме Оки, площадью 56 200 га, охраняющий выхухоль и охотничьих животных региона, а также памятник природы озеро Виша. Создана и ведётся красная книга Владимирской области.</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з очагов загрязнения можно выделить промышленные центры региона — города Владимир, Ковров, Муром; периодические пожары и нарушение экосистем в осушённых торфяных болотах юго—запада и территории активного животноводства.</a:t>
            </a:r>
            <a:endParaRPr b="0" lang="en-US" sz="2000" spc="-1" strike="noStrike">
              <a:solidFill>
                <a:srgbClr val="ffffff"/>
              </a:solidFill>
              <a:latin typeface="Arial"/>
            </a:endParaRPr>
          </a:p>
        </p:txBody>
      </p:sp>
      <p:sp>
        <p:nvSpPr>
          <p:cNvPr id="14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История региона</a:t>
            </a:r>
            <a:endParaRPr b="1" lang="en-US" sz="4400" spc="-1" strike="noStrike">
              <a:solidFill>
                <a:srgbClr val="ffffb7"/>
              </a:solidFill>
              <a:latin typeface="Arial Black"/>
            </a:endParaRPr>
          </a:p>
        </p:txBody>
      </p:sp>
      <p:sp>
        <p:nvSpPr>
          <p:cNvPr id="14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йденные стоянки человека верхнего палеолита (ок. 25 тыс. лет до н. э.) «Сунгирь» говорят о заселённости владимирской земли с древнейших времен. Археологические раскопки Мурома и других поселений рассказывают нам о финно-угорских корнях этих земель. Нагляднейшие памятники истории — сохранившиеся города напоминают о древне-русской средневековой истории — пике культурного развития этих мест, а подробные документы, об истории последних столетий (Владимирская губерния, Владимирский тракт).</a:t>
            </a:r>
            <a:endParaRPr b="0" lang="en-US" sz="2400" spc="-1" strike="noStrike">
              <a:solidFill>
                <a:srgbClr val="ffffff"/>
              </a:solidFill>
              <a:latin typeface="Arial"/>
            </a:endParaRPr>
          </a:p>
        </p:txBody>
      </p:sp>
      <p:sp>
        <p:nvSpPr>
          <p:cNvPr id="145"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Награды</a:t>
            </a:r>
            <a:endParaRPr b="1" lang="en-US" sz="4400" spc="-1" strike="noStrike">
              <a:solidFill>
                <a:srgbClr val="ffffb7"/>
              </a:solidFill>
              <a:latin typeface="Arial Black"/>
            </a:endParaRPr>
          </a:p>
        </p:txBody>
      </p:sp>
      <p:sp>
        <p:nvSpPr>
          <p:cNvPr id="147" name="PlaceHolder 2"/>
          <p:cNvSpPr>
            <a:spLocks noGrp="1"/>
          </p:cNvSpPr>
          <p:nvPr>
            <p:ph/>
          </p:nvPr>
        </p:nvSpPr>
        <p:spPr>
          <a:xfrm>
            <a:off x="755280" y="2707920"/>
            <a:ext cx="8007480" cy="1739880"/>
          </a:xfrm>
          <a:prstGeom prst="rect">
            <a:avLst/>
          </a:prstGeom>
          <a:noFill/>
          <a:ln w="0">
            <a:noFill/>
          </a:ln>
        </p:spPr>
        <p:txBody>
          <a:bodyPr anchor="t">
            <a:normAutofit/>
          </a:bodyPr>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рден Ленина (2 февраля 1967) — за выдающиеся заслуги в развитии народного хозяйства и культуры.</a:t>
            </a:r>
            <a:endParaRPr b="0" lang="en-US" sz="2400" spc="-1" strike="noStrike">
              <a:solidFill>
                <a:srgbClr val="ffffff"/>
              </a:solidFill>
              <a:latin typeface="Arial"/>
            </a:endParaRPr>
          </a:p>
        </p:txBody>
      </p:sp>
      <p:pic>
        <p:nvPicPr>
          <p:cNvPr id="148" name="Picture 4" descr="200px-Order_of_Lenin_type3"/>
          <p:cNvPicPr/>
          <p:nvPr/>
        </p:nvPicPr>
        <p:blipFill>
          <a:blip r:embed="rId1"/>
          <a:stretch/>
        </p:blipFill>
        <p:spPr>
          <a:xfrm>
            <a:off x="7164360" y="333360"/>
            <a:ext cx="1184400" cy="1262160"/>
          </a:xfrm>
          <a:prstGeom prst="rect">
            <a:avLst/>
          </a:prstGeom>
          <a:ln w="0">
            <a:noFill/>
          </a:ln>
        </p:spPr>
      </p:pic>
      <p:sp>
        <p:nvSpPr>
          <p:cNvPr id="14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Население</a:t>
            </a:r>
            <a:endParaRPr b="1" lang="en-US" sz="4400" spc="-1" strike="noStrike">
              <a:solidFill>
                <a:srgbClr val="ffffb7"/>
              </a:solidFill>
              <a:latin typeface="Arial Black"/>
            </a:endParaRPr>
          </a:p>
        </p:txBody>
      </p:sp>
      <p:sp>
        <p:nvSpPr>
          <p:cNvPr id="15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селение 1430,0 тыс. человек (на январь 2010) (1449,5 — 2008; 1472,6 — 2006; 1487,2 — 2005)</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лотность населения: 49,3 чел./км² (на январь 2010)</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Удельный вес городского населения: 77,8 % (на январь 2008) (77,5 % — (2006) 78,5 % — (2005))</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реди субъектов федерации Центрального федерального округа занимает 2-е место после Московской области по числу городов с населением более 100 тысяч жителей, имея 3 таких города: Владимир, Ковров, Муром.</a:t>
            </a:r>
            <a:endParaRPr b="0" lang="en-US" sz="2400" spc="-1" strike="noStrike">
              <a:solidFill>
                <a:srgbClr val="ffffff"/>
              </a:solidFill>
              <a:latin typeface="Arial"/>
            </a:endParaRPr>
          </a:p>
        </p:txBody>
      </p:sp>
      <p:sp>
        <p:nvSpPr>
          <p:cNvPr id="15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837720" y="476280"/>
            <a:ext cx="8007480" cy="61214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Народ</a:t>
            </a:r>
            <a:r>
              <a:rPr b="0" lang="ru-RU" sz="2000" spc="-1" strike="noStrike">
                <a:solidFill>
                  <a:srgbClr val="ffffff"/>
                </a:solidFill>
                <a:latin typeface="Arial"/>
              </a:rPr>
              <a:t>	</a:t>
            </a:r>
            <a:r>
              <a:rPr b="0" lang="ru-RU" sz="2000" spc="-1" strike="noStrike">
                <a:solidFill>
                  <a:srgbClr val="ffffff"/>
                </a:solidFill>
                <a:latin typeface="Arial"/>
              </a:rPr>
              <a:t>Численность в 2002 году, человек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Русские</a:t>
            </a:r>
            <a:r>
              <a:rPr b="0" lang="ru-RU" sz="2000" spc="-1" strike="noStrike">
                <a:solidFill>
                  <a:srgbClr val="ffffff"/>
                </a:solidFill>
                <a:latin typeface="Arial"/>
              </a:rPr>
              <a:t>	</a:t>
            </a:r>
            <a:r>
              <a:rPr b="0" lang="ru-RU" sz="2000" spc="-1" strike="noStrike">
                <a:solidFill>
                  <a:srgbClr val="ffffff"/>
                </a:solidFill>
                <a:latin typeface="Arial"/>
              </a:rPr>
              <a:t>            1443857</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Украинцы</a:t>
            </a:r>
            <a:r>
              <a:rPr b="0" lang="ru-RU" sz="2000" spc="-1" strike="noStrike">
                <a:solidFill>
                  <a:srgbClr val="ffffff"/>
                </a:solidFill>
                <a:latin typeface="Arial"/>
              </a:rPr>
              <a:t>	</a:t>
            </a:r>
            <a:r>
              <a:rPr b="0" lang="ru-RU" sz="2000" spc="-1" strike="noStrike">
                <a:solidFill>
                  <a:srgbClr val="ffffff"/>
                </a:solidFill>
                <a:latin typeface="Arial"/>
              </a:rPr>
              <a:t>            16755</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Татары</a:t>
            </a:r>
            <a:r>
              <a:rPr b="0" lang="ru-RU" sz="2000" spc="-1" strike="noStrike">
                <a:solidFill>
                  <a:srgbClr val="ffffff"/>
                </a:solidFill>
                <a:latin typeface="Arial"/>
              </a:rPr>
              <a:t>	</a:t>
            </a:r>
            <a:r>
              <a:rPr b="0" lang="ru-RU" sz="2000" spc="-1" strike="noStrike">
                <a:solidFill>
                  <a:srgbClr val="ffffff"/>
                </a:solidFill>
                <a:latin typeface="Arial"/>
              </a:rPr>
              <a:t>             8670</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Белорусы</a:t>
            </a:r>
            <a:r>
              <a:rPr b="0" lang="ru-RU" sz="2000" spc="-1" strike="noStrike">
                <a:solidFill>
                  <a:srgbClr val="ffffff"/>
                </a:solidFill>
                <a:latin typeface="Arial"/>
              </a:rPr>
              <a:t>	</a:t>
            </a:r>
            <a:r>
              <a:rPr b="0" lang="ru-RU" sz="2000" spc="-1" strike="noStrike">
                <a:solidFill>
                  <a:srgbClr val="ffffff"/>
                </a:solidFill>
                <a:latin typeface="Arial"/>
              </a:rPr>
              <a:t>             5682</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Армяне</a:t>
            </a:r>
            <a:r>
              <a:rPr b="0" lang="ru-RU" sz="2000" spc="-1" strike="noStrike">
                <a:solidFill>
                  <a:srgbClr val="ffffff"/>
                </a:solidFill>
                <a:latin typeface="Arial"/>
              </a:rPr>
              <a:t>	</a:t>
            </a:r>
            <a:r>
              <a:rPr b="0" lang="ru-RU" sz="2000" spc="-1" strike="noStrike">
                <a:solidFill>
                  <a:srgbClr val="ffffff"/>
                </a:solidFill>
                <a:latin typeface="Arial"/>
              </a:rPr>
              <a:t>             4999</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ордва</a:t>
            </a:r>
            <a:r>
              <a:rPr b="0" lang="ru-RU" sz="2000" spc="-1" strike="noStrike">
                <a:solidFill>
                  <a:srgbClr val="ffffff"/>
                </a:solidFill>
                <a:latin typeface="Arial"/>
              </a:rPr>
              <a:t>	</a:t>
            </a:r>
            <a:r>
              <a:rPr b="0" lang="ru-RU" sz="2000" spc="-1" strike="noStrike">
                <a:solidFill>
                  <a:srgbClr val="ffffff"/>
                </a:solidFill>
                <a:latin typeface="Arial"/>
              </a:rPr>
              <a:t>             3570</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Азербайджанцы</a:t>
            </a:r>
            <a:r>
              <a:rPr b="0" lang="ru-RU" sz="2000" spc="-1" strike="noStrike">
                <a:solidFill>
                  <a:srgbClr val="ffffff"/>
                </a:solidFill>
                <a:latin typeface="Arial"/>
              </a:rPr>
              <a:t>	</a:t>
            </a:r>
            <a:r>
              <a:rPr b="0" lang="ru-RU" sz="2000" spc="-1" strike="noStrike">
                <a:solidFill>
                  <a:srgbClr val="ffffff"/>
                </a:solidFill>
                <a:latin typeface="Arial"/>
              </a:rPr>
              <a:t>3090</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Чуваши</a:t>
            </a:r>
            <a:r>
              <a:rPr b="0" lang="ru-RU" sz="2000" spc="-1" strike="noStrike">
                <a:solidFill>
                  <a:srgbClr val="ffffff"/>
                </a:solidFill>
                <a:latin typeface="Arial"/>
              </a:rPr>
              <a:t>	</a:t>
            </a:r>
            <a:r>
              <a:rPr b="0" lang="ru-RU" sz="2000" spc="-1" strike="noStrike">
                <a:solidFill>
                  <a:srgbClr val="ffffff"/>
                </a:solidFill>
                <a:latin typeface="Arial"/>
              </a:rPr>
              <a:t>             2334</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Цыгане</a:t>
            </a:r>
            <a:r>
              <a:rPr b="0" lang="ru-RU" sz="2000" spc="-1" strike="noStrike">
                <a:solidFill>
                  <a:srgbClr val="ffffff"/>
                </a:solidFill>
                <a:latin typeface="Arial"/>
              </a:rPr>
              <a:t>	</a:t>
            </a:r>
            <a:r>
              <a:rPr b="0" lang="ru-RU" sz="2000" spc="-1" strike="noStrike">
                <a:solidFill>
                  <a:srgbClr val="ffffff"/>
                </a:solidFill>
                <a:latin typeface="Arial"/>
              </a:rPr>
              <a:t>             2251</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олдаване</a:t>
            </a:r>
            <a:r>
              <a:rPr b="0" lang="ru-RU" sz="2000" spc="-1" strike="noStrike">
                <a:solidFill>
                  <a:srgbClr val="ffffff"/>
                </a:solidFill>
                <a:latin typeface="Arial"/>
              </a:rPr>
              <a:t>	</a:t>
            </a:r>
            <a:r>
              <a:rPr b="0" lang="ru-RU" sz="2000" spc="-1" strike="noStrike">
                <a:solidFill>
                  <a:srgbClr val="ffffff"/>
                </a:solidFill>
                <a:latin typeface="Arial"/>
              </a:rPr>
              <a:t>             2079</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емцы</a:t>
            </a:r>
            <a:r>
              <a:rPr b="0" lang="ru-RU" sz="2000" spc="-1" strike="noStrike">
                <a:solidFill>
                  <a:srgbClr val="ffffff"/>
                </a:solidFill>
                <a:latin typeface="Arial"/>
              </a:rPr>
              <a:t>	</a:t>
            </a:r>
            <a:r>
              <a:rPr b="0" lang="ru-RU" sz="2000" spc="-1" strike="noStrike">
                <a:solidFill>
                  <a:srgbClr val="ffffff"/>
                </a:solidFill>
                <a:latin typeface="Arial"/>
              </a:rPr>
              <a:t>             1435</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Грузины</a:t>
            </a:r>
            <a:r>
              <a:rPr b="0" lang="ru-RU" sz="2000" spc="-1" strike="noStrike">
                <a:solidFill>
                  <a:srgbClr val="ffffff"/>
                </a:solidFill>
                <a:latin typeface="Arial"/>
              </a:rPr>
              <a:t>	</a:t>
            </a:r>
            <a:r>
              <a:rPr b="0" lang="ru-RU" sz="2000" spc="-1" strike="noStrike">
                <a:solidFill>
                  <a:srgbClr val="ffffff"/>
                </a:solidFill>
                <a:latin typeface="Arial"/>
              </a:rPr>
              <a:t>             1044</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арийцы</a:t>
            </a:r>
            <a:r>
              <a:rPr b="0" lang="ru-RU" sz="2000" spc="-1" strike="noStrike">
                <a:solidFill>
                  <a:srgbClr val="ffffff"/>
                </a:solidFill>
                <a:latin typeface="Arial"/>
              </a:rPr>
              <a:t>	</a:t>
            </a:r>
            <a:r>
              <a:rPr b="0" lang="ru-RU" sz="2000" spc="-1" strike="noStrike">
                <a:solidFill>
                  <a:srgbClr val="ffffff"/>
                </a:solidFill>
                <a:latin typeface="Arial"/>
              </a:rPr>
              <a:t>             1010</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оказаны народы c численностью более 1000 человек</a:t>
            </a:r>
            <a:endParaRPr b="0" lang="en-US" sz="2000" spc="-1" strike="noStrike">
              <a:solidFill>
                <a:srgbClr val="ffffff"/>
              </a:solidFill>
              <a:latin typeface="Arial"/>
            </a:endParaRPr>
          </a:p>
        </p:txBody>
      </p:sp>
      <p:sp>
        <p:nvSpPr>
          <p:cNvPr id="15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b7"/>
                </a:solidFill>
                <a:latin typeface="Arial Black"/>
              </a:rPr>
              <a:t>Административно-территориальное устройство и местное самоуправление</a:t>
            </a:r>
            <a:endParaRPr b="1" lang="en-US" sz="3200" spc="-1" strike="noStrike">
              <a:solidFill>
                <a:srgbClr val="ffffb7"/>
              </a:solidFill>
              <a:latin typeface="Arial Black"/>
            </a:endParaRPr>
          </a:p>
        </p:txBody>
      </p:sp>
      <p:sp>
        <p:nvSpPr>
          <p:cNvPr id="15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Основная статья: Административно-территориальное деление Владимирской области</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 2006 года на территории Владимирской области существуют 125 муниципальных образований, в том числе 5 городских округов, 16 муниципальных районов, 26 городских поселений, 80 сельских поселений.</a:t>
            </a:r>
            <a:endParaRPr b="0" lang="en-US" sz="2800" spc="-1" strike="noStrike">
              <a:solidFill>
                <a:srgbClr val="ffffff"/>
              </a:solidFill>
              <a:latin typeface="Arial"/>
            </a:endParaRPr>
          </a:p>
        </p:txBody>
      </p:sp>
      <p:sp>
        <p:nvSpPr>
          <p:cNvPr id="15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468360" y="692280"/>
            <a:ext cx="8207280" cy="5256000"/>
          </a:xfrm>
          <a:prstGeom prst="rect">
            <a:avLst/>
          </a:prstGeom>
          <a:noFill/>
          <a:ln w="0">
            <a:noFill/>
          </a:ln>
        </p:spPr>
        <p:txBody>
          <a:bodyPr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лади́мирская о́бласть — субъект Российской Федерации, входит в Центральный федеральный округ.</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Граничит с Московской, Ярославской, Ивановской, Рязанской и Нижегородской областями</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лощадь — 29 000 км².</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селение — 1430,0 тыс. человек (на январь 2010).</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бластной центр — город Владимир, расстояние от Владимира до Москвы — 154 км.</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асстояние от МКАД до границы области (М7) — 79 км</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бразована — 14 августа 1944 года на территории существовавшей до 14 января 1929 года Владимирской губернии РСФСР (в границах, значительно меньших Владимирской губернии Российской империи).</a:t>
            </a:r>
            <a:endParaRPr b="0" lang="en-US" sz="2400" spc="-1" strike="noStrike">
              <a:solidFill>
                <a:srgbClr val="ffffff"/>
              </a:solidFill>
              <a:latin typeface="Arial"/>
            </a:endParaRPr>
          </a:p>
        </p:txBody>
      </p:sp>
      <p:sp>
        <p:nvSpPr>
          <p:cNvPr id="11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837720" y="549000"/>
            <a:ext cx="8007480" cy="55465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Населённые пункты с количеством жителей выше 10 тысяч</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по состоянию на 1 января 2010 года</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ладимир</a:t>
            </a:r>
            <a:r>
              <a:rPr b="0" lang="ru-RU" sz="2400" spc="-1" strike="noStrike">
                <a:solidFill>
                  <a:srgbClr val="ffffff"/>
                </a:solidFill>
                <a:latin typeface="Arial"/>
              </a:rPr>
              <a:t>	</a:t>
            </a:r>
            <a:r>
              <a:rPr b="0" lang="ru-RU" sz="2400" spc="-1" strike="noStrike">
                <a:solidFill>
                  <a:srgbClr val="ffffff"/>
                </a:solidFill>
                <a:latin typeface="Arial"/>
              </a:rPr>
              <a:t>    ▲343,7</a:t>
            </a:r>
            <a:r>
              <a:rPr b="0" lang="ru-RU" sz="2400" spc="-1" strike="noStrike">
                <a:solidFill>
                  <a:srgbClr val="ffffff"/>
                </a:solidFill>
                <a:latin typeface="Arial"/>
              </a:rPr>
              <a:t>	</a:t>
            </a:r>
            <a:r>
              <a:rPr b="0" lang="ru-RU" sz="2400" spc="-1" strike="noStrike">
                <a:solidFill>
                  <a:srgbClr val="ffffff"/>
                </a:solidFill>
                <a:latin typeface="Arial"/>
              </a:rPr>
              <a:t>Лакинск</a:t>
            </a:r>
            <a:r>
              <a:rPr b="0" lang="ru-RU" sz="2400" spc="-1" strike="noStrike">
                <a:solidFill>
                  <a:srgbClr val="ffffff"/>
                </a:solidFill>
                <a:latin typeface="Arial"/>
              </a:rPr>
              <a:t>	</a:t>
            </a:r>
            <a:r>
              <a:rPr b="0" lang="ru-RU" sz="2400" spc="-1" strike="noStrike">
                <a:solidFill>
                  <a:srgbClr val="ffffff"/>
                </a:solidFill>
                <a:latin typeface="Arial"/>
              </a:rPr>
              <a:t>▼15,7</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овров</a:t>
            </a:r>
            <a:r>
              <a:rPr b="0" lang="ru-RU" sz="2400" spc="-1" strike="noStrike">
                <a:solidFill>
                  <a:srgbClr val="ffffff"/>
                </a:solidFill>
                <a:latin typeface="Arial"/>
              </a:rPr>
              <a:t>	</a:t>
            </a:r>
            <a:r>
              <a:rPr b="0" lang="ru-RU" sz="2400" spc="-1" strike="noStrike">
                <a:solidFill>
                  <a:srgbClr val="ffffff"/>
                </a:solidFill>
                <a:latin typeface="Arial"/>
              </a:rPr>
              <a:t>    ▼148,1</a:t>
            </a:r>
            <a:r>
              <a:rPr b="0" lang="ru-RU" sz="2400" spc="-1" strike="noStrike">
                <a:solidFill>
                  <a:srgbClr val="ffffff"/>
                </a:solidFill>
                <a:latin typeface="Arial"/>
              </a:rPr>
              <a:t>	</a:t>
            </a:r>
            <a:r>
              <a:rPr b="0" lang="ru-RU" sz="2400" spc="-1" strike="noStrike">
                <a:solidFill>
                  <a:srgbClr val="ffffff"/>
                </a:solidFill>
                <a:latin typeface="Arial"/>
              </a:rPr>
              <a:t>Покров</a:t>
            </a:r>
            <a:r>
              <a:rPr b="0" lang="ru-RU" sz="2400" spc="-1" strike="noStrike">
                <a:solidFill>
                  <a:srgbClr val="ffffff"/>
                </a:solidFill>
                <a:latin typeface="Arial"/>
              </a:rPr>
              <a:t>	</a:t>
            </a:r>
            <a:r>
              <a:rPr b="0" lang="ru-RU" sz="2400" spc="-1" strike="noStrike">
                <a:solidFill>
                  <a:srgbClr val="ffffff"/>
                </a:solidFill>
                <a:latin typeface="Arial"/>
              </a:rPr>
              <a:t>▼15,3</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Муром</a:t>
            </a:r>
            <a:r>
              <a:rPr b="0" lang="ru-RU" sz="2400" spc="-1" strike="noStrike">
                <a:solidFill>
                  <a:srgbClr val="ffffff"/>
                </a:solidFill>
                <a:latin typeface="Arial"/>
              </a:rPr>
              <a:t>	</a:t>
            </a:r>
            <a:r>
              <a:rPr b="0" lang="ru-RU" sz="2400" spc="-1" strike="noStrike">
                <a:solidFill>
                  <a:srgbClr val="ffffff"/>
                </a:solidFill>
                <a:latin typeface="Arial"/>
              </a:rPr>
              <a:t>    ▼118,1</a:t>
            </a:r>
            <a:r>
              <a:rPr b="0" lang="ru-RU" sz="2400" spc="-1" strike="noStrike">
                <a:solidFill>
                  <a:srgbClr val="ffffff"/>
                </a:solidFill>
                <a:latin typeface="Arial"/>
              </a:rPr>
              <a:t>	</a:t>
            </a:r>
            <a:r>
              <a:rPr b="0" lang="ru-RU" sz="2400" spc="-1" strike="noStrike">
                <a:solidFill>
                  <a:srgbClr val="ffffff"/>
                </a:solidFill>
                <a:latin typeface="Arial"/>
              </a:rPr>
              <a:t>Карабаново</a:t>
            </a:r>
            <a:r>
              <a:rPr b="0" lang="ru-RU" sz="2400" spc="-1" strike="noStrike">
                <a:solidFill>
                  <a:srgbClr val="ffffff"/>
                </a:solidFill>
                <a:latin typeface="Arial"/>
              </a:rPr>
              <a:t>	</a:t>
            </a:r>
            <a:r>
              <a:rPr b="0" lang="ru-RU" sz="2400" spc="-1" strike="noStrike">
                <a:solidFill>
                  <a:srgbClr val="ffffff"/>
                </a:solidFill>
                <a:latin typeface="Arial"/>
              </a:rPr>
              <a:t>▼15,2</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Александров▼62,8</a:t>
            </a:r>
            <a:r>
              <a:rPr b="0" lang="ru-RU" sz="2400" spc="-1" strike="noStrike">
                <a:solidFill>
                  <a:srgbClr val="ffffff"/>
                </a:solidFill>
                <a:latin typeface="Arial"/>
              </a:rPr>
              <a:t>	</a:t>
            </a:r>
            <a:r>
              <a:rPr b="0" lang="ru-RU" sz="2400" spc="-1" strike="noStrike">
                <a:solidFill>
                  <a:srgbClr val="ffffff"/>
                </a:solidFill>
                <a:latin typeface="Arial"/>
              </a:rPr>
              <a:t>Меленки</a:t>
            </a:r>
            <a:r>
              <a:rPr b="0" lang="ru-RU" sz="2400" spc="-1" strike="noStrike">
                <a:solidFill>
                  <a:srgbClr val="ffffff"/>
                </a:solidFill>
                <a:latin typeface="Arial"/>
              </a:rPr>
              <a:t>	</a:t>
            </a:r>
            <a:r>
              <a:rPr b="0" lang="ru-RU" sz="2400" spc="-1" strike="noStrike">
                <a:solidFill>
                  <a:srgbClr val="ffffff"/>
                </a:solidFill>
                <a:latin typeface="Arial"/>
              </a:rPr>
              <a:t>▼15,0</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Гусь-Хруст.   ▼60,7</a:t>
            </a:r>
            <a:r>
              <a:rPr b="0" lang="ru-RU" sz="2400" spc="-1" strike="noStrike">
                <a:solidFill>
                  <a:srgbClr val="ffffff"/>
                </a:solidFill>
                <a:latin typeface="Arial"/>
              </a:rPr>
              <a:t>	</a:t>
            </a:r>
            <a:r>
              <a:rPr b="0" lang="ru-RU" sz="2400" spc="-1" strike="noStrike">
                <a:solidFill>
                  <a:srgbClr val="ffffff"/>
                </a:solidFill>
                <a:latin typeface="Arial"/>
              </a:rPr>
              <a:t>Струнино</a:t>
            </a:r>
            <a:r>
              <a:rPr b="0" lang="ru-RU" sz="2400" spc="-1" strike="noStrike">
                <a:solidFill>
                  <a:srgbClr val="ffffff"/>
                </a:solidFill>
                <a:latin typeface="Arial"/>
              </a:rPr>
              <a:t>	</a:t>
            </a:r>
            <a:r>
              <a:rPr b="0" lang="ru-RU" sz="2400" spc="-1" strike="noStrike">
                <a:solidFill>
                  <a:srgbClr val="ffffff"/>
                </a:solidFill>
                <a:latin typeface="Arial"/>
              </a:rPr>
              <a:t>▼14,9</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ольчугино   ▼45,6</a:t>
            </a:r>
            <a:r>
              <a:rPr b="0" lang="ru-RU" sz="2400" spc="-1" strike="noStrike">
                <a:solidFill>
                  <a:srgbClr val="ffffff"/>
                </a:solidFill>
                <a:latin typeface="Arial"/>
              </a:rPr>
              <a:t>	</a:t>
            </a:r>
            <a:r>
              <a:rPr b="0" lang="ru-RU" sz="2400" spc="-1" strike="noStrike">
                <a:solidFill>
                  <a:srgbClr val="ffffff"/>
                </a:solidFill>
                <a:latin typeface="Arial"/>
              </a:rPr>
              <a:t>Петушки</a:t>
            </a:r>
            <a:r>
              <a:rPr b="0" lang="ru-RU" sz="2400" spc="-1" strike="noStrike">
                <a:solidFill>
                  <a:srgbClr val="ffffff"/>
                </a:solidFill>
                <a:latin typeface="Arial"/>
              </a:rPr>
              <a:t>	</a:t>
            </a:r>
            <a:r>
              <a:rPr b="0" lang="ru-RU" sz="2400" spc="-1" strike="noStrike">
                <a:solidFill>
                  <a:srgbClr val="ffffff"/>
                </a:solidFill>
                <a:latin typeface="Arial"/>
              </a:rPr>
              <a:t>▼14,3</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язники</a:t>
            </a:r>
            <a:r>
              <a:rPr b="0" lang="ru-RU" sz="2400" spc="-1" strike="noStrike">
                <a:solidFill>
                  <a:srgbClr val="ffffff"/>
                </a:solidFill>
                <a:latin typeface="Arial"/>
              </a:rPr>
              <a:t>	</a:t>
            </a:r>
            <a:r>
              <a:rPr b="0" lang="ru-RU" sz="2400" spc="-1" strike="noStrike">
                <a:solidFill>
                  <a:srgbClr val="ffffff"/>
                </a:solidFill>
                <a:latin typeface="Arial"/>
              </a:rPr>
              <a:t>     ▲45,2</a:t>
            </a:r>
            <a:r>
              <a:rPr b="0" lang="ru-RU" sz="2400" spc="-1" strike="noStrike">
                <a:solidFill>
                  <a:srgbClr val="ffffff"/>
                </a:solidFill>
                <a:latin typeface="Arial"/>
              </a:rPr>
              <a:t>	</a:t>
            </a:r>
            <a:r>
              <a:rPr b="0" lang="ru-RU" sz="2400" spc="-1" strike="noStrike">
                <a:solidFill>
                  <a:srgbClr val="ffffff"/>
                </a:solidFill>
                <a:latin typeface="Arial"/>
              </a:rPr>
              <a:t>Камешково</a:t>
            </a:r>
            <a:r>
              <a:rPr b="0" lang="ru-RU" sz="2400" spc="-1" strike="noStrike">
                <a:solidFill>
                  <a:srgbClr val="ffffff"/>
                </a:solidFill>
                <a:latin typeface="Arial"/>
              </a:rPr>
              <a:t>	</a:t>
            </a:r>
            <a:r>
              <a:rPr b="0" lang="ru-RU" sz="2400" spc="-1" strike="noStrike">
                <a:solidFill>
                  <a:srgbClr val="ffffff"/>
                </a:solidFill>
                <a:latin typeface="Arial"/>
              </a:rPr>
              <a:t>▼13,6</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иржач</a:t>
            </a:r>
            <a:r>
              <a:rPr b="0" lang="ru-RU" sz="2400" spc="-1" strike="noStrike">
                <a:solidFill>
                  <a:srgbClr val="ffffff"/>
                </a:solidFill>
                <a:latin typeface="Arial"/>
              </a:rPr>
              <a:t>	</a:t>
            </a:r>
            <a:r>
              <a:rPr b="0" lang="ru-RU" sz="2400" spc="-1" strike="noStrike">
                <a:solidFill>
                  <a:srgbClr val="ffffff"/>
                </a:solidFill>
                <a:latin typeface="Arial"/>
              </a:rPr>
              <a:t>     ▼30,4</a:t>
            </a:r>
            <a:r>
              <a:rPr b="0" lang="ru-RU" sz="2400" spc="-1" strike="noStrike">
                <a:solidFill>
                  <a:srgbClr val="ffffff"/>
                </a:solidFill>
                <a:latin typeface="Arial"/>
              </a:rPr>
              <a:t>	</a:t>
            </a:r>
            <a:r>
              <a:rPr b="0" lang="ru-RU" sz="2400" spc="-1" strike="noStrike">
                <a:solidFill>
                  <a:srgbClr val="ffffff"/>
                </a:solidFill>
                <a:latin typeface="Arial"/>
              </a:rPr>
              <a:t>Гороховец</a:t>
            </a:r>
            <a:r>
              <a:rPr b="0" lang="ru-RU" sz="2400" spc="-1" strike="noStrike">
                <a:solidFill>
                  <a:srgbClr val="ffffff"/>
                </a:solidFill>
                <a:latin typeface="Arial"/>
              </a:rPr>
              <a:t>	</a:t>
            </a:r>
            <a:r>
              <a:rPr b="0" lang="ru-RU" sz="2400" spc="-1" strike="noStrike">
                <a:solidFill>
                  <a:srgbClr val="ffffff"/>
                </a:solidFill>
                <a:latin typeface="Arial"/>
              </a:rPr>
              <a:t>▼13,1</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обинка</a:t>
            </a:r>
            <a:r>
              <a:rPr b="0" lang="ru-RU" sz="2400" spc="-1" strike="noStrike">
                <a:solidFill>
                  <a:srgbClr val="ffffff"/>
                </a:solidFill>
                <a:latin typeface="Arial"/>
              </a:rPr>
              <a:t>	</a:t>
            </a:r>
            <a:r>
              <a:rPr b="0" lang="ru-RU" sz="2400" spc="-1" strike="noStrike">
                <a:solidFill>
                  <a:srgbClr val="ffffff"/>
                </a:solidFill>
                <a:latin typeface="Arial"/>
              </a:rPr>
              <a:t>     ▼19,4</a:t>
            </a:r>
            <a:r>
              <a:rPr b="0" lang="ru-RU" sz="2400" spc="-1" strike="noStrike">
                <a:solidFill>
                  <a:srgbClr val="ffffff"/>
                </a:solidFill>
                <a:latin typeface="Arial"/>
              </a:rPr>
              <a:t>	</a:t>
            </a:r>
            <a:r>
              <a:rPr b="0" lang="ru-RU" sz="2400" spc="-1" strike="noStrike">
                <a:solidFill>
                  <a:srgbClr val="ffffff"/>
                </a:solidFill>
                <a:latin typeface="Arial"/>
              </a:rPr>
              <a:t>Судогда</a:t>
            </a:r>
            <a:r>
              <a:rPr b="0" lang="ru-RU" sz="2400" spc="-1" strike="noStrike">
                <a:solidFill>
                  <a:srgbClr val="ffffff"/>
                </a:solidFill>
                <a:latin typeface="Arial"/>
              </a:rPr>
              <a:t>	</a:t>
            </a:r>
            <a:r>
              <a:rPr b="0" lang="ru-RU" sz="2400" spc="-1" strike="noStrike">
                <a:solidFill>
                  <a:srgbClr val="ffffff"/>
                </a:solidFill>
                <a:latin typeface="Arial"/>
              </a:rPr>
              <a:t>▼12,1</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Юрьев-Пол.   ▼18,9</a:t>
            </a:r>
            <a:r>
              <a:rPr b="0" lang="ru-RU" sz="2400" spc="-1" strike="noStrike">
                <a:solidFill>
                  <a:srgbClr val="ffffff"/>
                </a:solidFill>
                <a:latin typeface="Arial"/>
              </a:rPr>
              <a:t>	</a:t>
            </a:r>
            <a:r>
              <a:rPr b="0" lang="ru-RU" sz="2400" spc="-1" strike="noStrike">
                <a:solidFill>
                  <a:srgbClr val="ffffff"/>
                </a:solidFill>
                <a:latin typeface="Arial"/>
              </a:rPr>
              <a:t>Суздаль</a:t>
            </a:r>
            <a:r>
              <a:rPr b="0" lang="ru-RU" sz="2400" spc="-1" strike="noStrike">
                <a:solidFill>
                  <a:srgbClr val="ffffff"/>
                </a:solidFill>
                <a:latin typeface="Arial"/>
              </a:rPr>
              <a:t>	</a:t>
            </a:r>
            <a:r>
              <a:rPr b="0" lang="ru-RU" sz="2400" spc="-1" strike="noStrike">
                <a:solidFill>
                  <a:srgbClr val="ffffff"/>
                </a:solidFill>
                <a:latin typeface="Arial"/>
              </a:rPr>
              <a:t>▼11,0</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адужный</a:t>
            </a:r>
            <a:r>
              <a:rPr b="0" lang="ru-RU" sz="2400" spc="-1" strike="noStrike">
                <a:solidFill>
                  <a:srgbClr val="ffffff"/>
                </a:solidFill>
                <a:latin typeface="Arial"/>
              </a:rPr>
              <a:t>	</a:t>
            </a:r>
            <a:r>
              <a:rPr b="0" lang="ru-RU" sz="2400" spc="-1" strike="noStrike">
                <a:solidFill>
                  <a:srgbClr val="ffffff"/>
                </a:solidFill>
                <a:latin typeface="Arial"/>
              </a:rPr>
              <a:t>      ▲18,1</a:t>
            </a:r>
            <a:endParaRPr b="0" lang="en-US" sz="2400" spc="-1" strike="noStrike">
              <a:solidFill>
                <a:srgbClr val="ffffff"/>
              </a:solidFill>
              <a:latin typeface="Arial"/>
            </a:endParaRPr>
          </a:p>
        </p:txBody>
      </p:sp>
      <p:sp>
        <p:nvSpPr>
          <p:cNvPr id="15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4" descr="220px-Vladimir_oblast_numbered"/>
          <p:cNvPicPr/>
          <p:nvPr/>
        </p:nvPicPr>
        <p:blipFill>
          <a:blip r:embed="rId1"/>
          <a:stretch/>
        </p:blipFill>
        <p:spPr>
          <a:xfrm>
            <a:off x="900000" y="620640"/>
            <a:ext cx="7705800" cy="5569200"/>
          </a:xfrm>
          <a:prstGeom prst="rect">
            <a:avLst/>
          </a:prstGeom>
          <a:ln w="0">
            <a:noFill/>
          </a:ln>
        </p:spPr>
      </p:pic>
      <p:sp>
        <p:nvSpPr>
          <p:cNvPr id="161"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Экономика</a:t>
            </a:r>
            <a:endParaRPr b="1" lang="en-US" sz="4400" spc="-1" strike="noStrike">
              <a:solidFill>
                <a:srgbClr val="ffffb7"/>
              </a:solidFill>
              <a:latin typeface="Arial Black"/>
            </a:endParaRPr>
          </a:p>
        </p:txBody>
      </p:sp>
      <p:sp>
        <p:nvSpPr>
          <p:cNvPr id="16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аловой региональный продукт: 111,9 млрд руб. (2006)</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РП на душу населения: 76,3 тыс. руб. (2006)</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Центральное место в экономике занимает промышленность, особое влияние на развитие оказывает федеральный транспорт, представленный несколькими крупнейшими магистралями. Федеральное финансирование в балансе регионального бюджета достигает 25 % (2006). Доля сельского хозяйства в ВРП — 9 % (2006) (12 %—2005). Региональным руководством поддерживается развитие экскурсинно-исторического и экологического туризма.</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о материалам сайта prognoz-vrp.narod.ru ВРП Владимирской области за 2007 год составило 146,6 млрд рублей.</a:t>
            </a:r>
            <a:endParaRPr b="0" lang="en-US" sz="2000" spc="-1" strike="noStrike">
              <a:solidFill>
                <a:srgbClr val="ffffff"/>
              </a:solidFill>
              <a:latin typeface="Arial"/>
            </a:endParaRPr>
          </a:p>
        </p:txBody>
      </p:sp>
      <p:sp>
        <p:nvSpPr>
          <p:cNvPr id="16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ромышленность</a:t>
            </a:r>
            <a:endParaRPr b="1" lang="en-US" sz="4400" spc="-1" strike="noStrike">
              <a:solidFill>
                <a:srgbClr val="ffffb7"/>
              </a:solidFill>
              <a:latin typeface="Arial Black"/>
            </a:endParaRPr>
          </a:p>
        </p:txBody>
      </p:sp>
      <p:sp>
        <p:nvSpPr>
          <p:cNvPr id="16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 структуре промышленности основную роль играет машиностроение, создающее до 40 % промышленного продукта, существенное значение играет пищевая промышленность (до 17 % промышленного продукта), электроэнергетика (10 %), стекольная (до 7 %) и лёгкая (около 5 %) промышленности.</a:t>
            </a:r>
            <a:endParaRPr b="0" lang="en-US" sz="2800" spc="-1" strike="noStrike">
              <a:solidFill>
                <a:srgbClr val="ffffff"/>
              </a:solidFill>
              <a:latin typeface="Arial"/>
            </a:endParaRPr>
          </a:p>
        </p:txBody>
      </p:sp>
      <p:sp>
        <p:nvSpPr>
          <p:cNvPr id="16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Машиностроение</a:t>
            </a:r>
            <a:endParaRPr b="1" lang="en-US" sz="4400" spc="-1" strike="noStrike">
              <a:solidFill>
                <a:srgbClr val="ffffb7"/>
              </a:solidFill>
              <a:latin typeface="Arial Black"/>
            </a:endParaRPr>
          </a:p>
        </p:txBody>
      </p:sp>
      <p:sp>
        <p:nvSpPr>
          <p:cNvPr id="16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Основные центры машиностроения — Владимир, Ковров, Муром. Значимые предприятия:</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ладимирский тракторный завод, Владимирский электромоторный завод, Электроприбор</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Ковровский механический завод, Экскаваторный завод «Ковровец», Завод им. Дегтярёва</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уромский стрелочный завод, Муромский машиностроительный завод, Муромский тепловозостроительный завод</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Кольчугинский завод «Электрокабель»</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Заводы автомобильных комплектующих: Автосвет (Киржач) и ОСВАР (Вязники), «Стакол» (Петушки), Автоприбор (Владимир).</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Гороховецкий завод подъёмно-транспортного оборудования</a:t>
            </a:r>
            <a:endParaRPr b="0" lang="en-US" sz="2000" spc="-1" strike="noStrike">
              <a:solidFill>
                <a:srgbClr val="ffffff"/>
              </a:solidFill>
              <a:latin typeface="Arial"/>
            </a:endParaRPr>
          </a:p>
        </p:txBody>
      </p:sp>
      <p:sp>
        <p:nvSpPr>
          <p:cNvPr id="17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ищевая промышленность</a:t>
            </a:r>
            <a:endParaRPr b="1" lang="en-US" sz="4400" spc="-1" strike="noStrike">
              <a:solidFill>
                <a:srgbClr val="ffffb7"/>
              </a:solidFill>
              <a:latin typeface="Arial Black"/>
            </a:endParaRPr>
          </a:p>
        </p:txBody>
      </p:sp>
      <p:sp>
        <p:nvSpPr>
          <p:cNvPr id="17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Наиболее развита переработка молочной продукции и кондитерское производство</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Крупнейшие объединения предприятий — «Молоко» и «Ополье».</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Кондитерская фабрика концерна Kraft Foods</a:t>
            </a:r>
            <a:endParaRPr b="0" lang="en-US" sz="3200" spc="-1" strike="noStrike">
              <a:solidFill>
                <a:srgbClr val="ffffff"/>
              </a:solidFill>
              <a:latin typeface="Arial"/>
            </a:endParaRPr>
          </a:p>
        </p:txBody>
      </p:sp>
      <p:sp>
        <p:nvSpPr>
          <p:cNvPr id="17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Энергетика</a:t>
            </a:r>
            <a:endParaRPr b="1" lang="en-US" sz="4400" spc="-1" strike="noStrike">
              <a:solidFill>
                <a:srgbClr val="ffffb7"/>
              </a:solidFill>
              <a:latin typeface="Arial Black"/>
            </a:endParaRPr>
          </a:p>
        </p:txBody>
      </p:sp>
      <p:sp>
        <p:nvSpPr>
          <p:cNvPr id="175" name="PlaceHolder 2"/>
          <p:cNvSpPr>
            <a:spLocks noGrp="1"/>
          </p:cNvSpPr>
          <p:nvPr>
            <p:ph/>
          </p:nvPr>
        </p:nvSpPr>
        <p:spPr>
          <a:xfrm>
            <a:off x="837720" y="1905120"/>
            <a:ext cx="8007480" cy="46195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Регион характеризуется существенным дефицитом электроэнергии, потребность на 3/4 покрывается из ОЭС Центра через Владимирские электросети. Крупнейшие объекты — Владимирская ТЭЦ-2 мощностью в 407 МВт, и узловая Владимирская подстанция 750 кВ мощностью 2500 МВА. Интересно, что в начале 1940-х было практически начато строительство двух гидроузлов с ГЭС на Клязьме, остановившееся с началом войны. Действовало несколько миниГЭС на Нерли, у деревни Финеево на Киржаче, множество водяных мельниц.</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Потребление энергоресурсов в 1999 году составило:</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иродный газ — 2,6 млрд м³</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Уголь — 323 тыс. т</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ефтепродуктов — 647 тыс. т</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мпорт электроэнергии — 3,9 млрд кВт·ч</a:t>
            </a:r>
            <a:endParaRPr b="0" lang="en-US" sz="2000" spc="-1" strike="noStrike">
              <a:solidFill>
                <a:srgbClr val="ffffff"/>
              </a:solidFill>
              <a:latin typeface="Arial"/>
            </a:endParaRPr>
          </a:p>
        </p:txBody>
      </p:sp>
      <p:sp>
        <p:nvSpPr>
          <p:cNvPr id="176"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b7"/>
                </a:solidFill>
                <a:latin typeface="Arial Black"/>
              </a:rPr>
              <a:t>Стекольная промышленность</a:t>
            </a:r>
            <a:endParaRPr b="1" lang="en-US" sz="4000" spc="-1" strike="noStrike">
              <a:solidFill>
                <a:srgbClr val="ffffb7"/>
              </a:solidFill>
              <a:latin typeface="Arial Black"/>
            </a:endParaRPr>
          </a:p>
        </p:txBody>
      </p:sp>
      <p:sp>
        <p:nvSpPr>
          <p:cNvPr id="178" name="PlaceHolder 2"/>
          <p:cNvSpPr>
            <a:spLocks noGrp="1"/>
          </p:cNvSpPr>
          <p:nvPr>
            <p:ph/>
          </p:nvPr>
        </p:nvSpPr>
        <p:spPr>
          <a:xfrm>
            <a:off x="826560" y="2421000"/>
            <a:ext cx="8007480" cy="2316240"/>
          </a:xfrm>
          <a:prstGeom prst="rect">
            <a:avLst/>
          </a:prstGeom>
          <a:noFill/>
          <a:ln w="0">
            <a:noFill/>
          </a:ln>
        </p:spPr>
        <p:txBody>
          <a:bodyPr anchor="t">
            <a:normAutofit/>
          </a:bodyPr>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Гусевской хрустальный завод</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ЗАО «Символ» — около 60 % российского оконного стекла (г. Курлово)</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АО «Красное Эхо» (посёлок Красное Эхо)</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ОО «РАСКО» (посёлок Анопино)</a:t>
            </a:r>
            <a:endParaRPr b="0" lang="en-US" sz="2400" spc="-1" strike="noStrike">
              <a:solidFill>
                <a:srgbClr val="ffffff"/>
              </a:solidFill>
              <a:latin typeface="Arial"/>
            </a:endParaRPr>
          </a:p>
        </p:txBody>
      </p:sp>
      <p:sp>
        <p:nvSpPr>
          <p:cNvPr id="17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Транспорт</a:t>
            </a:r>
            <a:endParaRPr b="1" lang="en-US" sz="4400" spc="-1" strike="noStrike">
              <a:solidFill>
                <a:srgbClr val="ffffb7"/>
              </a:solidFill>
              <a:latin typeface="Arial Black"/>
            </a:endParaRPr>
          </a:p>
        </p:txBody>
      </p:sp>
      <p:sp>
        <p:nvSpPr>
          <p:cNvPr id="181" name="PlaceHolder 2"/>
          <p:cNvSpPr>
            <a:spLocks noGrp="1"/>
          </p:cNvSpPr>
          <p:nvPr>
            <p:ph/>
          </p:nvPr>
        </p:nvSpPr>
        <p:spPr>
          <a:xfrm>
            <a:off x="837720" y="1904760"/>
            <a:ext cx="8007480" cy="4190760"/>
          </a:xfrm>
          <a:prstGeom prst="rect">
            <a:avLst/>
          </a:prstGeom>
          <a:noFill/>
          <a:ln w="0">
            <a:noFill/>
          </a:ln>
        </p:spPr>
        <p:txBody>
          <a:bodyPr anchor="t">
            <a:normAutofit fontScale="93000"/>
          </a:bodyPr>
          <a:p>
            <a:pPr marL="318960" indent="-31896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Основной грузопоток региона проходит по трём из четырёх направлений транссиба, кроме того в регионе часть большого московского ж/д кольца, ветки Александров — Иваново и Камешково — Иваново. Развита и сеть внутренних железных дорог; ветки Ковров — Муром, Владимир — Тума, ответвления на Судогду, Радужный, Уршельский и Фролищи. Крупнейшие локомотивные депо Александров, Владимир и Муром. Оператор ОАО «РЖД».</a:t>
            </a:r>
            <a:endParaRPr b="0" lang="en-US" sz="1600" spc="-1" strike="noStrike">
              <a:solidFill>
                <a:srgbClr val="ffffff"/>
              </a:solidFill>
              <a:latin typeface="Arial"/>
            </a:endParaRPr>
          </a:p>
          <a:p>
            <a:pPr marL="318960" indent="-31896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На втором месте по объёмам находится трубопроводный транспорт:</a:t>
            </a:r>
            <a:endParaRPr b="0" lang="en-US" sz="1600" spc="-1" strike="noStrike">
              <a:solidFill>
                <a:srgbClr val="ffffff"/>
              </a:solidFill>
              <a:latin typeface="Arial"/>
            </a:endParaRPr>
          </a:p>
          <a:p>
            <a:pPr marL="318960" indent="-31896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Две нитки нефтепровода Нижний Новгород — Рязань и две нитки Нижний Новгород — Ярославль (суммарно не менее 45 млн т/год), обеспечивающие транзит западно-сибирской и волго-уральской нефти к Московскому, Ярославскому, Рязанскому и Киришскому НПЗ, и к порту Приморск на экспорт. (ОАО АК «Транснефть»)</a:t>
            </a:r>
            <a:endParaRPr b="0" lang="en-US" sz="1600" spc="-1" strike="noStrike">
              <a:solidFill>
                <a:srgbClr val="ffffff"/>
              </a:solidFill>
              <a:latin typeface="Arial"/>
            </a:endParaRPr>
          </a:p>
          <a:p>
            <a:pPr marL="318960" indent="-31896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Газопроводы Нижний Новгород — Центр (КС Муром) и Нижний Новгород — Щёлково с отводами на Иваново и южные районы области, суммарный транзит более 6 млрд м³/год. ОАО «Газпром»</a:t>
            </a:r>
            <a:endParaRPr b="0" lang="en-US" sz="1600" spc="-1" strike="noStrike">
              <a:solidFill>
                <a:srgbClr val="ffffff"/>
              </a:solidFill>
              <a:latin typeface="Arial"/>
            </a:endParaRPr>
          </a:p>
          <a:p>
            <a:pPr marL="318960" indent="-31896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одуктопровод (МНПП) Кстово — Рязань (не менее 2 млн т/год в основном дизельного топлива) с отводами на Судогду и Вязники. Перекачивающая станция с нефтехранилищами в посёлке Второво, ведётся строительство следующей очереди трубопровода Второво — Приморск (действующая мощность 8,4 млн т. дизельного топлива в год), планируется увеличение ёмкости резервуаров вплоть до 80 тыс. м³, а мощности всего узла до 24,6 млн т/год (проект «Север» ОАО «Транснефть»).</a:t>
            </a:r>
            <a:endParaRPr b="0" lang="en-US" sz="1600" spc="-1" strike="noStrike">
              <a:solidFill>
                <a:srgbClr val="ffffff"/>
              </a:solidFill>
              <a:latin typeface="Arial"/>
            </a:endParaRPr>
          </a:p>
        </p:txBody>
      </p:sp>
      <p:sp>
        <p:nvSpPr>
          <p:cNvPr id="18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837720" y="476280"/>
            <a:ext cx="8007480" cy="5619600"/>
          </a:xfrm>
          <a:prstGeom prst="rect">
            <a:avLst/>
          </a:prstGeom>
          <a:noFill/>
          <a:ln w="0">
            <a:noFill/>
          </a:ln>
        </p:spPr>
        <p:txBody>
          <a:bodyPr anchor="t">
            <a:normAutofit fontScale="97000"/>
          </a:bodyPr>
          <a:p>
            <a:pPr marL="332640" indent="-33264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Из автомобильных дорог наиболее значима автодорога М7 «Волга» до 10 млн т./год (через Покров, Петушки, Лакинск, Владимир, Вязники и Гороховец), подход от магистрали к Иваново протяжённостью 102 км (через Суздаль), а также незначительный участок автодороги А108, слабо поддерживаемые Р72 Владимир — Муром и Р125 Нижний Новгород — Касимов.</a:t>
            </a:r>
            <a:endParaRPr b="0" lang="en-US" sz="1800" spc="-1" strike="noStrike">
              <a:solidFill>
                <a:srgbClr val="ffffff"/>
              </a:solidFill>
              <a:latin typeface="Arial"/>
            </a:endParaRPr>
          </a:p>
          <a:p>
            <a:pPr marL="332640" indent="-33264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агистральные линии электропередач: ВЛ 750 кВ Калининская АЭС — Владимирская ПС, 2xВЛ 500 кВ Жигулёвская ГЭС — Москва, ВЛ Костромская ГРЭС — Москва, ВЛ 500 кВ Костромская ГРЭС — Владимирская ПС. Только для внутреннего потребления (не считая транзит) в регион перебрасывается более 4 млрд кВт·ч/год (что эквивалентно около 0,7 млн т/год мазута для типовой электростанции).</a:t>
            </a:r>
            <a:endParaRPr b="0" lang="en-US" sz="1800" spc="-1" strike="noStrike">
              <a:solidFill>
                <a:srgbClr val="ffffff"/>
              </a:solidFill>
              <a:latin typeface="Arial"/>
            </a:endParaRPr>
          </a:p>
          <a:p>
            <a:pPr marL="332640" indent="-33264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азвито грузовое и пассажирское судоходство по Клязьме и особенно Оке, порты Вязники и Муром,Гороховецкий судостроительный завод.</a:t>
            </a:r>
            <a:endParaRPr b="0" lang="en-US" sz="1800" spc="-1" strike="noStrike">
              <a:solidFill>
                <a:srgbClr val="ffffff"/>
              </a:solidFill>
              <a:latin typeface="Arial"/>
            </a:endParaRPr>
          </a:p>
          <a:p>
            <a:pPr marL="332640" indent="-33264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Аэропорт местных авиалиний Семязино в 5 км от Владимира (1950 х 42 (асфальтобетон) до 25 тонн и 650 х 70 (грунт)), посадочные площадки в Вязниках, Гороховце, многочисленные военные аэродромы. Над регионом проходит значительная часть воздушных коридоров восточного направления от Москвы.</a:t>
            </a:r>
            <a:endParaRPr b="0" lang="en-US" sz="1800" spc="-1" strike="noStrike">
              <a:solidFill>
                <a:srgbClr val="ffffff"/>
              </a:solidFill>
              <a:latin typeface="Arial"/>
            </a:endParaRPr>
          </a:p>
          <a:p>
            <a:pPr marL="332640" indent="-33264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тоит отметить развитые троллейбусные системы Владимира и Коврова.</a:t>
            </a:r>
            <a:endParaRPr b="0" lang="en-US" sz="1800" spc="-1" strike="noStrike">
              <a:solidFill>
                <a:srgbClr val="ffffff"/>
              </a:solidFill>
              <a:latin typeface="Arial"/>
            </a:endParaRPr>
          </a:p>
          <a:p>
            <a:pPr marL="332640" indent="-33264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охранено узкоколейное движение, в том числе и пассажирское по Островскому и Бакшеевскому, Мезиновскому и Гусевским болотам Мещёры.</a:t>
            </a:r>
            <a:endParaRPr b="0" lang="en-US" sz="1800" spc="-1" strike="noStrike">
              <a:solidFill>
                <a:srgbClr val="ffffff"/>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Географическое положение</a:t>
            </a:r>
            <a:endParaRPr b="1" lang="en-US" sz="4400" spc="-1" strike="noStrike">
              <a:solidFill>
                <a:srgbClr val="ffffb7"/>
              </a:solidFill>
              <a:latin typeface="Arial Black"/>
            </a:endParaRPr>
          </a:p>
        </p:txBody>
      </p:sp>
      <p:sp>
        <p:nvSpPr>
          <p:cNvPr id="112" name="PlaceHolder 2"/>
          <p:cNvSpPr>
            <a:spLocks noGrp="1"/>
          </p:cNvSpPr>
          <p:nvPr>
            <p:ph/>
          </p:nvPr>
        </p:nvSpPr>
        <p:spPr>
          <a:xfrm>
            <a:off x="684360" y="2565360"/>
            <a:ext cx="8007120" cy="2100240"/>
          </a:xfrm>
          <a:prstGeom prst="rect">
            <a:avLst/>
          </a:prstGeom>
          <a:noFill/>
          <a:ln w="0">
            <a:noFill/>
          </a:ln>
        </p:spPr>
        <p:txBody>
          <a:bodyPr anchor="t">
            <a:normAutofit/>
          </a:bodyPr>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ладимирская область расположена в центре Европейской части России на юге Волжско-Окского междуречья, в 80 км на восток от Москвы. Владимирская область протянулась на 170 км с севера на юг и на 280 км — с запада на восток.</a:t>
            </a:r>
            <a:endParaRPr b="0" lang="en-US" sz="2400" spc="-1" strike="noStrike">
              <a:solidFill>
                <a:srgbClr val="ffffff"/>
              </a:solidFill>
              <a:latin typeface="Arial"/>
            </a:endParaRPr>
          </a:p>
        </p:txBody>
      </p:sp>
      <p:sp>
        <p:nvSpPr>
          <p:cNvPr id="11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льское хозяйство</a:t>
            </a:r>
            <a:endParaRPr b="1" lang="en-US" sz="4400" spc="-1" strike="noStrike">
              <a:solidFill>
                <a:srgbClr val="ffffb7"/>
              </a:solidFill>
              <a:latin typeface="Arial Black"/>
            </a:endParaRPr>
          </a:p>
        </p:txBody>
      </p:sp>
      <p:sp>
        <p:nvSpPr>
          <p:cNvPr id="186" name="PlaceHolder 2"/>
          <p:cNvSpPr>
            <a:spLocks noGrp="1"/>
          </p:cNvSpPr>
          <p:nvPr>
            <p:ph/>
          </p:nvPr>
        </p:nvSpPr>
        <p:spPr>
          <a:xfrm>
            <a:off x="837720" y="1904760"/>
            <a:ext cx="8007480" cy="4190760"/>
          </a:xfrm>
          <a:prstGeom prst="rect">
            <a:avLst/>
          </a:prstGeom>
          <a:noFill/>
          <a:ln w="0">
            <a:noFill/>
          </a:ln>
        </p:spPr>
        <p:txBody>
          <a:bodyPr anchor="t">
            <a:normAutofit fontScale="99000"/>
          </a:bodyPr>
          <a:p>
            <a:pPr marL="339480" indent="-3394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пециализируется на растениеводстве, молочно-мясном скотоводстве и птицеводстве. Ведущая отрасль сельского хозяйства — животноводство молочно-мясного направления. Разводят крупный рогатый скот, свиней, овец, коз. Коневодство (владимирские тяжеловозы). Площадь сельхозугодий — 930,9 тыс. га (32,1 % земельного фонда), в том числе пашня — 66,8 %. Посевные площади составляют 476,5 тыс. га, из которых 58,7 % занимают кормовые культуры, 29 % — зерновые. Из зерновых выращивают пшеницу, рожь, ячмень, овёс. Планируется расширение посевов рапса (для производства рапсового масла), а также специальных сортов картофеля и овощей (для переработки на месте, производства овощных соков). Около 25 специализированных предприятий занимаются выращиванием племенного скота. Несколько рыбных хозяйств (крупнейшее из них «Ворша»), многочисленные пасеки.</a:t>
            </a:r>
            <a:endParaRPr b="0" lang="en-US" sz="2000" spc="-1" strike="noStrike">
              <a:solidFill>
                <a:srgbClr val="ffffff"/>
              </a:solidFill>
              <a:latin typeface="Arial"/>
            </a:endParaRPr>
          </a:p>
        </p:txBody>
      </p:sp>
      <p:sp>
        <p:nvSpPr>
          <p:cNvPr id="18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Наука, образование и культура</a:t>
            </a:r>
            <a:endParaRPr b="1" lang="en-US" sz="4400" spc="-1" strike="noStrike">
              <a:solidFill>
                <a:srgbClr val="ffffb7"/>
              </a:solidFill>
              <a:latin typeface="Arial Black"/>
            </a:endParaRPr>
          </a:p>
        </p:txBody>
      </p:sp>
      <p:sp>
        <p:nvSpPr>
          <p:cNvPr id="189" name="PlaceHolder 2"/>
          <p:cNvSpPr>
            <a:spLocks noGrp="1"/>
          </p:cNvSpPr>
          <p:nvPr>
            <p:ph/>
          </p:nvPr>
        </p:nvSpPr>
        <p:spPr>
          <a:xfrm>
            <a:off x="837720" y="1905120"/>
            <a:ext cx="8007480" cy="45482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Научными исследованиями в области занимаются более 30 организаций. Среди них:</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ИКТИ тракторных и комбайновых двигателей</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ОО «НИИ Стекла»</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НИКиПТИ органических удобрений и торфа</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НИИ защиты животных</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НИИ синтеза минерального сырья</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НИИ ветеринарной вирусологии и микробиологии (Вольгинский)</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АО «НИПКиТИ электромашиностроения»</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ГНИИ лазерный центр РФ «Радуга» (ЗАТО Радужный)</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НИИ «Сигнал»</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АО НИПТИ «Микрон»</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ГП «Владимирский НИИ сельского хозяйства»</a:t>
            </a:r>
            <a:endParaRPr b="0" lang="en-US" sz="2000" spc="-1" strike="noStrike">
              <a:solidFill>
                <a:srgbClr val="ffffff"/>
              </a:solidFill>
              <a:latin typeface="Arial"/>
            </a:endParaRPr>
          </a:p>
        </p:txBody>
      </p:sp>
      <p:sp>
        <p:nvSpPr>
          <p:cNvPr id="19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755280" y="475920"/>
            <a:ext cx="8007480" cy="576252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рупнейшие представители системы образования:</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ладимирский государственный университет</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ладимирский государственный гуманитарный университет</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овровская государственная технологическая академия</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ладимирский юридический институт Министерства юстиции</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регионе действуют исправительно-образовательные и трудовые учреждения, в том числе несколько подростковых и юношеских.</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бластной драматический театр, Кукольный театр, Владимирская филармония, Областная научная библиотека, современные кинотеатры «Киномакс-Буревестник» (Владимир), «Сатурн» (Александров) и «Октябрь» (Муром), ежегодный фестиваль анимационного кино (Суздаль).</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Из художественных промыслов развиты вышивка, ювелирное дело, лаковая миниатюра (посёлок Мстёра).</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сновная исповедуемая религия — православное христианство имеет глубокие исторические корни. Здесь множество действующих монастырей, храмов и часовен со значительными приходами, основная регулирующая структура — Русская православная церковь.</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ладимирская область является одним из 15 регионов, в которых с 1 сентября 2006 года был введён в качестве регионального компонента образования предмет Основы православной культуры.</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189000"/>
            <a:ext cx="8385120" cy="120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b7"/>
                </a:solidFill>
                <a:latin typeface="Arial Black"/>
              </a:rPr>
              <a:t>Рекреация, спорт</a:t>
            </a:r>
            <a:endParaRPr b="1" lang="en-US" sz="4000" spc="-1" strike="noStrike">
              <a:solidFill>
                <a:srgbClr val="ffffb7"/>
              </a:solidFill>
              <a:latin typeface="Arial Black"/>
            </a:endParaRPr>
          </a:p>
        </p:txBody>
      </p:sp>
      <p:sp>
        <p:nvSpPr>
          <p:cNvPr id="194" name="PlaceHolder 2"/>
          <p:cNvSpPr>
            <a:spLocks noGrp="1"/>
          </p:cNvSpPr>
          <p:nvPr>
            <p:ph/>
          </p:nvPr>
        </p:nvSpPr>
        <p:spPr>
          <a:xfrm>
            <a:off x="826560" y="1484280"/>
            <a:ext cx="8007480" cy="4764240"/>
          </a:xfrm>
          <a:prstGeom prst="rect">
            <a:avLst/>
          </a:prstGeom>
          <a:noFill/>
          <a:ln w="0">
            <a:noFill/>
          </a:ln>
        </p:spPr>
        <p:txBody>
          <a:bodyPr anchor="t">
            <a:normAutofit fontScale="96000"/>
          </a:bodyPr>
          <a:p>
            <a:pPr marL="329040" indent="-32904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Область знаменита сохранившимися древними русскими городами Александров, Владимир, Гороховец, Кидекша, Муром, Юрьев-Польский, Гусь-Хрустальный, их архитектурно-историческими, культурными и религиозными памятниками, местом православного паломничества — городом Суздаль (Александровский, Покровский, Спасо-Евфимиев, и Ризоположенский монастыри), уникальным архитектурно-ландшафтным памятником — Церковью Покрова на Нерли в Боголюбово. По области проходит основная часть маршрутов знаменитого Золотого кольца России. Часто посещаемым туристами местом стала историческая тюрьма «Владимирский централ».</a:t>
            </a:r>
            <a:endParaRPr b="0" lang="en-US" sz="1600" spc="-1" strike="noStrike">
              <a:solidFill>
                <a:srgbClr val="ffffff"/>
              </a:solidFill>
              <a:latin typeface="Arial"/>
            </a:endParaRPr>
          </a:p>
          <a:p>
            <a:pPr marL="329040" indent="-32904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Крупнейший природоохранный объект, национальный парк Мещёра — популярное место туризма и отдыха (байдарочные, лыжные, пешие и велопоходы, охота, рыбалка, отдых у воды, сбор грибов и ягод), туристические базы. Не менее популярны среди байдарочников реки северо-запада области (Киржач, Пекша, Колокша). Благодаря своей отдалённости и доступности популярны озёра парка «Кшара», развито туристическое и спортивное судоходство по Оке и Клязьме.</a:t>
            </a:r>
            <a:endParaRPr b="0" lang="en-US" sz="1600" spc="-1" strike="noStrike">
              <a:solidFill>
                <a:srgbClr val="ffffff"/>
              </a:solidFill>
              <a:latin typeface="Arial"/>
            </a:endParaRPr>
          </a:p>
          <a:p>
            <a:pPr marL="329040" indent="-32904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Сноуборд-центр в селе Сновицы Суздальского района, горнолыжный спуск «Пужалова гора» в Гороховце, парашютный спорт на аэродромах Киржача, Александрова и Семязино, развит пейнтбол, картинг, в Коврове развит мотоциклетный спорт, автотриал в болотах области, дайвинг в глубоких озёрах Балахнинской низины, Футбольные клубы «Торпедо-Владимир» и «Локомотив» (Муром). Стадион «Торпедо» вместимостью 19000 человек (г. Владимир).</a:t>
            </a:r>
            <a:endParaRPr b="0" lang="en-US" sz="1600" spc="-1" strike="noStrike">
              <a:solidFill>
                <a:srgbClr val="ffffff"/>
              </a:solidFill>
              <a:latin typeface="Arial"/>
            </a:endParaRPr>
          </a:p>
          <a:p>
            <a:pPr marL="329040" indent="-32904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Развиваются дачные и садовые участки вблизи крупных городов и особенно приближённые к Москве территории на западе области.</a:t>
            </a:r>
            <a:endParaRPr b="0" lang="en-US" sz="1600" spc="-1" strike="noStrike">
              <a:solidFill>
                <a:srgbClr val="ffffff"/>
              </a:solidFill>
              <a:latin typeface="Arial"/>
            </a:endParaRPr>
          </a:p>
        </p:txBody>
      </p:sp>
      <p:sp>
        <p:nvSpPr>
          <p:cNvPr id="195"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Областная власть</a:t>
            </a:r>
            <a:endParaRPr b="1" lang="en-US" sz="4400" spc="-1" strike="noStrike">
              <a:solidFill>
                <a:srgbClr val="ffffb7"/>
              </a:solidFill>
              <a:latin typeface="Arial Black"/>
            </a:endParaRPr>
          </a:p>
        </p:txBody>
      </p:sp>
      <p:sp>
        <p:nvSpPr>
          <p:cNvPr id="19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Губернатор области — Виноградов Николай Владимирович.</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8 февраля 2005 Николай Виноградов утверждён владимирским законодательным собранием на посту главы области по представлению президента.</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едставители области в Совете Федерации:</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адим Густов (Единая Россия) — представитель администрации Владимирской области, впервые был назначен в феврале 2001, назначение вновь подтверждено 12 апреля 2005</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авенков, Александр Николаевич (Единая Россия) — представитель ЗС Владимирской области, избран в марте 2009 года</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ыборы в областной парламент прошли 1 марта 2009.</a:t>
            </a:r>
            <a:endParaRPr b="0" lang="en-US" sz="1800" spc="-1" strike="noStrike">
              <a:solidFill>
                <a:srgbClr val="ffffff"/>
              </a:solidFill>
              <a:latin typeface="Arial"/>
            </a:endParaRPr>
          </a:p>
        </p:txBody>
      </p:sp>
      <p:sp>
        <p:nvSpPr>
          <p:cNvPr id="198"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Известные люди</a:t>
            </a:r>
            <a:endParaRPr b="1" lang="en-US" sz="4400" spc="-1" strike="noStrike">
              <a:solidFill>
                <a:srgbClr val="ffffb7"/>
              </a:solidFill>
              <a:latin typeface="Arial Black"/>
            </a:endParaRPr>
          </a:p>
        </p:txBody>
      </p:sp>
      <p:sp>
        <p:nvSpPr>
          <p:cNvPr id="20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области родились</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ладимиров, Юрий Кузьмич (р.1942)- артист балета, народный артист СССР (1987)</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ворыкин, Владимир Козьмич (1888—1982) — изобретатель современного телевидения</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онстантинов, Пётр Александрович (1899—1973) — актёр театра и кино, народный артист СССР (1966)</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Лазарев, Михаил Петрович (1788—1851) — русский флотоводец и мореплаватель, адмирал, первооткрыватель Антарктиды</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толетов, Николай Григорьевич (1834—1912) — русский генерал, глава болгарского ополчения во время русско-турецкой войны 1877-1878 гг.</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толетов, Александр Григорьевич (1839—1896) — русский физик, профессор, исследователь фотоэффекта</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Шмаков, Павел Васильевич (1885—1982) — советский учёный в области телевидения и электроники</a:t>
            </a:r>
            <a:endParaRPr b="0" lang="en-US" sz="1800" spc="-1" strike="noStrike">
              <a:solidFill>
                <a:srgbClr val="ffffff"/>
              </a:solidFill>
              <a:latin typeface="Arial"/>
            </a:endParaRPr>
          </a:p>
        </p:txBody>
      </p:sp>
      <p:sp>
        <p:nvSpPr>
          <p:cNvPr id="201"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04280"/>
            <a:ext cx="8385120" cy="127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b7"/>
                </a:solidFill>
                <a:latin typeface="Arial Black"/>
              </a:rPr>
              <a:t>Работу выполнил ученик 11 кл. Постников Денис</a:t>
            </a:r>
            <a:endParaRPr b="1" lang="en-US" sz="2000" spc="-1" strike="noStrike">
              <a:solidFill>
                <a:srgbClr val="ffffb7"/>
              </a:solidFill>
              <a:latin typeface="Arial Black"/>
            </a:endParaRPr>
          </a:p>
        </p:txBody>
      </p:sp>
      <p:pic>
        <p:nvPicPr>
          <p:cNvPr id="203" name="Объект 3" descr=""/>
          <p:cNvPicPr/>
          <p:nvPr/>
        </p:nvPicPr>
        <p:blipFill>
          <a:blip r:embed="rId1"/>
          <a:stretch/>
        </p:blipFill>
        <p:spPr>
          <a:xfrm>
            <a:off x="1677960" y="1905120"/>
            <a:ext cx="6327720" cy="4190760"/>
          </a:xfrm>
          <a:prstGeom prst="rect">
            <a:avLst/>
          </a:prstGeom>
          <a:ln w="0">
            <a:noFill/>
          </a:ln>
        </p:spPr>
      </p:pic>
      <p:sp>
        <p:nvSpPr>
          <p:cNvPr id="204" name="Місце для нижнього колонтитула 2"/>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507520" cy="1455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b7"/>
                </a:solidFill>
                <a:latin typeface="Arial Black"/>
              </a:rPr>
              <a:t>Рельеф, геологическое строение и полезные ископаемые</a:t>
            </a:r>
            <a:endParaRPr b="1" lang="en-US" sz="3600" spc="-1" strike="noStrike">
              <a:solidFill>
                <a:srgbClr val="ffffb7"/>
              </a:solidFill>
              <a:latin typeface="Arial Black"/>
            </a:endParaRPr>
          </a:p>
        </p:txBody>
      </p:sp>
      <p:sp>
        <p:nvSpPr>
          <p:cNvPr id="115" name="PlaceHolder 2"/>
          <p:cNvSpPr>
            <a:spLocks noGrp="1"/>
          </p:cNvSpPr>
          <p:nvPr>
            <p:ph/>
          </p:nvPr>
        </p:nvSpPr>
        <p:spPr>
          <a:xfrm>
            <a:off x="837720" y="2133720"/>
            <a:ext cx="8007480" cy="3962160"/>
          </a:xfrm>
          <a:prstGeom prst="rect">
            <a:avLst/>
          </a:prstGeom>
          <a:noFill/>
          <a:ln w="0">
            <a:noFill/>
          </a:ln>
        </p:spPr>
        <p:txBody>
          <a:bodyPr anchor="t">
            <a:normAutofit fontScale="94000"/>
          </a:bodyPr>
          <a:p>
            <a:pPr marL="322200" indent="-32220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Территория находится в центре Восточно-Европейской равнины, основная часть территории — слабо всхолмлённая равнина с общим понижением от Клинско-Дмитровской гряды (высоты до 271 м) на севере, через Владимирское (Юрьево) Ополье (высота до 236 м), далее на юг к Мещёрской низменности (преобладающая высота 120 м) и на восток через Окско-Цнинский вал (до 184 м) и Гороховецкий отрог (верхняя точка — 191 м) к Балахнинской низменности (около 90 м) и устью Клязьмы (67 м). Благодаря резким склонам возвышенностей регион обладает рекреационными (зимние виды спорта) ресурсами и гидроаккумуляционными возможностями.</a:t>
            </a:r>
            <a:endParaRPr b="0" lang="en-US" sz="2400" spc="-1" strike="noStrike">
              <a:solidFill>
                <a:srgbClr val="ffffff"/>
              </a:solidFill>
              <a:latin typeface="Arial"/>
            </a:endParaRPr>
          </a:p>
        </p:txBody>
      </p:sp>
      <p:sp>
        <p:nvSpPr>
          <p:cNvPr id="116"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837720" y="333000"/>
            <a:ext cx="8007480" cy="5762520"/>
          </a:xfrm>
          <a:prstGeom prst="rect">
            <a:avLst/>
          </a:prstGeom>
          <a:noFill/>
          <a:ln w="0">
            <a:noFill/>
          </a:ln>
        </p:spPr>
        <p:txBody>
          <a:bodyPr anchor="t">
            <a:normAutofit fontScale="96000"/>
          </a:bodyPr>
          <a:p>
            <a:pPr marL="329040" indent="-329040">
              <a:lnSpc>
                <a:spcPct val="80000"/>
              </a:lnSpc>
              <a:spcBef>
                <a:spcPts val="575"/>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Основными минеральными ресурсами области являются известняки, торф, строительные пески камни, огнеупорные и кирпичные глины. Запасы торфа в размере 59 млн тонн, основная их часть залегает в пределах Мещёрской низменности. Общие залежи известняков составляют 30 млн тонн и расположены в районе Окско-Цнинского вала, где их толщи достигают 130 метров (Ковровский, Вязниковский, Судогодский, Селивановский районы).</a:t>
            </a:r>
            <a:endParaRPr b="0" lang="en-US" sz="2300" spc="-1" strike="noStrike">
              <a:solidFill>
                <a:srgbClr val="ffffff"/>
              </a:solidFill>
              <a:latin typeface="Arial"/>
            </a:endParaRPr>
          </a:p>
          <a:p>
            <a:pPr marL="329040" indent="-329040">
              <a:lnSpc>
                <a:spcPct val="80000"/>
              </a:lnSpc>
              <a:spcBef>
                <a:spcPts val="575"/>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Кварцевые пески — чистые, мелкие, почти без примесей глинистых частиц ледникового происхождения имеют федеральное значение, в больших количествах залегают в южных районах области (Гусь-Хрустальный и Меленковский районы). Используются пески для производства стекла и хрусталя. Также в области имеются фосфориты, железная руда, есть небольшие залежи гипса, флюсовых материалов и металлургических доломитов местного значения.</a:t>
            </a:r>
            <a:endParaRPr b="0" lang="en-US" sz="2300" spc="-1" strike="noStrike">
              <a:solidFill>
                <a:srgbClr val="ffffff"/>
              </a:solidFill>
              <a:latin typeface="Arial"/>
            </a:endParaRPr>
          </a:p>
          <a:p>
            <a:pPr marL="329040" indent="-329040">
              <a:lnSpc>
                <a:spcPct val="80000"/>
              </a:lnSpc>
              <a:spcBef>
                <a:spcPts val="575"/>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На территории области встречаются естественные источники минеральных вод.</a:t>
            </a:r>
            <a:endParaRPr b="0" lang="en-US" sz="2300" spc="-1" strike="noStrike">
              <a:solidFill>
                <a:srgbClr val="ffffff"/>
              </a:solidFill>
              <a:latin typeface="Arial"/>
            </a:endParaRPr>
          </a:p>
          <a:p>
            <a:pPr marL="32904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
        <p:nvSpPr>
          <p:cNvPr id="118"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Климат</a:t>
            </a:r>
            <a:endParaRPr b="1" lang="en-US" sz="4400" spc="-1" strike="noStrike">
              <a:solidFill>
                <a:srgbClr val="ffffb7"/>
              </a:solidFill>
              <a:latin typeface="Arial Black"/>
            </a:endParaRPr>
          </a:p>
        </p:txBody>
      </p:sp>
      <p:sp>
        <p:nvSpPr>
          <p:cNvPr id="12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лимат области умеренно континентальный, продолжительность периода со среднесуточной температурой ниже 0 °C — 137 дней, среднегодовая температура 5 °C (стандартное отклонение 12 °C), средняя температура января −13 °C, июля +19 °C, средняя толщина снежного покрова 40 мм (лежит в среднем 144 дня). Среднегодовое количество осадков 420—740 мм, продолжительность вегетационного периода 160—180 дней.</a:t>
            </a:r>
            <a:endParaRPr b="0" lang="en-US" sz="2400" spc="-1" strike="noStrike">
              <a:solidFill>
                <a:srgbClr val="ffffff"/>
              </a:solidFill>
              <a:latin typeface="Arial"/>
            </a:endParaRPr>
          </a:p>
        </p:txBody>
      </p:sp>
      <p:sp>
        <p:nvSpPr>
          <p:cNvPr id="121"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Гидрография</a:t>
            </a:r>
            <a:endParaRPr b="1" lang="en-US" sz="4400" spc="-1" strike="noStrike">
              <a:solidFill>
                <a:srgbClr val="ffffb7"/>
              </a:solidFill>
              <a:latin typeface="Arial Black"/>
            </a:endParaRPr>
          </a:p>
        </p:txBody>
      </p:sp>
      <p:sp>
        <p:nvSpPr>
          <p:cNvPr id="123" name="PlaceHolder 2"/>
          <p:cNvSpPr>
            <a:spLocks noGrp="1"/>
          </p:cNvSpPr>
          <p:nvPr>
            <p:ph/>
          </p:nvPr>
        </p:nvSpPr>
        <p:spPr>
          <a:xfrm>
            <a:off x="837720" y="1904760"/>
            <a:ext cx="8007480" cy="4190760"/>
          </a:xfrm>
          <a:prstGeom prst="rect">
            <a:avLst/>
          </a:prstGeom>
          <a:noFill/>
          <a:ln w="0">
            <a:noFill/>
          </a:ln>
        </p:spPr>
        <p:txBody>
          <a:bodyPr anchor="t">
            <a:normAutofit fontScale="95000"/>
          </a:bodyPr>
          <a:p>
            <a:pPr marL="325800" indent="-32580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бщая гладь поверхностных вод составляет 32,9 тыс. га.</a:t>
            </a:r>
            <a:endParaRPr b="0" lang="en-US" sz="2400" spc="-1" strike="noStrike">
              <a:solidFill>
                <a:srgbClr val="ffffff"/>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32580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сновные реки области Клязьма и Ока. По территории области протекают сотни больших и малых рек, общей протяжённостью более 8,6 тыс. км (их количество вместе с ручьями доходит до 560). Клязьма впадает в Оку на юго-восточной окраине по границе с Нижегородской областью. Крупнейшие притоки Клязьмы: Шерна (с притоком Молокча), Киржач (с притоками Большой и Малый Киржач), Пекша, Колокша, Нерль, Судогда, Уводь, Лух, Суворощь, притоки Оки: Гусь, Унжа и Ушна, близ Александрова берёт начало приток Волги река Дубна.</a:t>
            </a:r>
            <a:endParaRPr b="0" lang="en-US" sz="2400" spc="-1" strike="noStrike">
              <a:solidFill>
                <a:srgbClr val="ffffff"/>
              </a:solidFill>
              <a:latin typeface="Arial"/>
            </a:endParaRPr>
          </a:p>
        </p:txBody>
      </p:sp>
      <p:sp>
        <p:nvSpPr>
          <p:cNvPr id="12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837720" y="333000"/>
            <a:ext cx="8007480" cy="5762520"/>
          </a:xfrm>
          <a:prstGeom prst="rect">
            <a:avLst/>
          </a:prstGeom>
          <a:noFill/>
          <a:ln w="0">
            <a:noFill/>
          </a:ln>
        </p:spPr>
        <p:txBody>
          <a:bodyPr anchor="t">
            <a:normAutofit fontScale="97000"/>
          </a:bodyPr>
          <a:p>
            <a:pPr marL="332640" indent="-332640">
              <a:lnSpc>
                <a:spcPct val="80000"/>
              </a:lnSpc>
              <a:spcBef>
                <a:spcPts val="575"/>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Насчитывается около 300 озёр общей площадью в пять тысяч гектар. Большинство из них мелкие, бессточные, многие зарастают торфяным слоем. Происхождение озёр различно. Многочисленные озёра-старицы разбросаны по долинам рек. Самые крупные из них — Урвановское (длиной 12 км) и Виша (длиной около 10 км). В Мещёрской низменности и на северо-западе области встречаются озёра древних аллювиальных долин: Исихры, Святое и др. Озёра карстового происхождения, расположенные в низовьях Клязьмы и в центре округа Вязники (северо-восток области), имеют сильно минерализованную воду и связаны с собой подземными водотоками. Наиболее крупное и глубокое из них — озеро Кшара. В округе Александров и Юрьев-Польском районе встречаются озёра ледникового происхождения небольших размеров.</a:t>
            </a:r>
            <a:endParaRPr b="0" lang="en-US" sz="2300" spc="-1" strike="noStrike">
              <a:solidFill>
                <a:srgbClr val="ffffff"/>
              </a:solidFill>
              <a:latin typeface="Arial"/>
            </a:endParaRPr>
          </a:p>
          <a:p>
            <a:pPr marL="332640" indent="-332640">
              <a:lnSpc>
                <a:spcPct val="80000"/>
              </a:lnSpc>
              <a:spcBef>
                <a:spcPts val="575"/>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Основные массивы болот региона (общая их площадь составляет 37,4 тыс. га) встречаются в Мещёрской и Балахнинской (северо—восток области) низменностях.</a:t>
            </a:r>
            <a:endParaRPr b="0" lang="en-US" sz="2300" spc="-1" strike="noStrike">
              <a:solidFill>
                <a:srgbClr val="ffffff"/>
              </a:solidFill>
              <a:latin typeface="Arial"/>
            </a:endParaRPr>
          </a:p>
          <a:p>
            <a:pPr marL="33264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
        <p:nvSpPr>
          <p:cNvPr id="126"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очвы</a:t>
            </a:r>
            <a:endParaRPr b="1" lang="en-US" sz="4400" spc="-1" strike="noStrike">
              <a:solidFill>
                <a:srgbClr val="ffffb7"/>
              </a:solidFill>
              <a:latin typeface="Arial Black"/>
            </a:endParaRPr>
          </a:p>
        </p:txBody>
      </p:sp>
      <p:sp>
        <p:nvSpPr>
          <p:cNvPr id="128" name="PlaceHolder 2"/>
          <p:cNvSpPr>
            <a:spLocks noGrp="1"/>
          </p:cNvSpPr>
          <p:nvPr>
            <p:ph/>
          </p:nvPr>
        </p:nvSpPr>
        <p:spPr>
          <a:xfrm>
            <a:off x="837720" y="1904760"/>
            <a:ext cx="8007480" cy="4190760"/>
          </a:xfrm>
          <a:prstGeom prst="rect">
            <a:avLst/>
          </a:prstGeom>
          <a:noFill/>
          <a:ln w="0">
            <a:noFill/>
          </a:ln>
        </p:spPr>
        <p:txBody>
          <a:bodyPr anchor="t">
            <a:normAutofit fontScale="95000"/>
          </a:bodyPr>
          <a:p>
            <a:pPr marL="325800" indent="-32580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 регионе наравне встречаются:</a:t>
            </a:r>
            <a:endParaRPr b="0" lang="en-US" sz="1600" spc="-1" strike="noStrike">
              <a:solidFill>
                <a:srgbClr val="ffffff"/>
              </a:solidFill>
              <a:latin typeface="Arial"/>
            </a:endParaRPr>
          </a:p>
          <a:p>
            <a:pPr marL="325800" indent="-32580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лодородные тёмноцветные карбонатные и серые лесные — связанные с широколиственными лесами в ополье, занимают 417,5 тыс. га или 14,3 % общей площади (Суздальский и Юрьев-Польский районы, части Александровского, Кольчугинского и Собинского районов)</a:t>
            </a:r>
            <a:endParaRPr b="0" lang="en-US" sz="1600" spc="-1" strike="noStrike">
              <a:solidFill>
                <a:srgbClr val="ffffff"/>
              </a:solidFill>
              <a:latin typeface="Arial"/>
            </a:endParaRPr>
          </a:p>
          <a:p>
            <a:pPr marL="325800" indent="-32580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дерновые аллювиальные (пойменные) почвы по берегам Оки и Клязьмы.</a:t>
            </a:r>
            <a:endParaRPr b="0" lang="en-US" sz="1600" spc="-1" strike="noStrike">
              <a:solidFill>
                <a:srgbClr val="ffffff"/>
              </a:solidFill>
              <a:latin typeface="Arial"/>
            </a:endParaRPr>
          </a:p>
          <a:p>
            <a:pPr marL="325800" indent="-32580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дерново-подзолистые почвы, сформировавшиеся под хвойными и смешанными лесами </a:t>
            </a:r>
            <a:endParaRPr b="0" lang="en-US" sz="1600" spc="-1" strike="noStrike">
              <a:solidFill>
                <a:srgbClr val="ffffff"/>
              </a:solidFill>
              <a:latin typeface="Arial"/>
            </a:endParaRPr>
          </a:p>
          <a:p>
            <a:pPr marL="325800" indent="-32580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среднесуглинистого типа (Вязниковский, Муромский, частично Ковровский, Камешковский, Гороховецкий, Селивановский, Собинский, Киржачский, Александровский районы)</a:t>
            </a:r>
            <a:endParaRPr b="0" lang="en-US" sz="1600" spc="-1" strike="noStrike">
              <a:solidFill>
                <a:srgbClr val="ffffff"/>
              </a:solidFill>
              <a:latin typeface="Arial"/>
            </a:endParaRPr>
          </a:p>
          <a:p>
            <a:pPr marL="325800" indent="-32580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супесчаного и песчаного типов (Гусь-Хрустальный, Меленковский, Петушинский, Судогодский районы, южные части Киржачского, Собинского, Муромского и Селивановского районов)</a:t>
            </a:r>
            <a:endParaRPr b="0" lang="en-US" sz="1600" spc="-1" strike="noStrike">
              <a:solidFill>
                <a:srgbClr val="ffffff"/>
              </a:solidFill>
              <a:latin typeface="Arial"/>
            </a:endParaRPr>
          </a:p>
          <a:p>
            <a:pPr marL="325800" indent="-32580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одзолисто-болотные и болотные в пределах мещёрской низменности и гороховецких болот</a:t>
            </a:r>
            <a:endParaRPr b="0" lang="en-US" sz="1600" spc="-1" strike="noStrike">
              <a:solidFill>
                <a:srgbClr val="ffffff"/>
              </a:solidFill>
              <a:latin typeface="Arial"/>
            </a:endParaRPr>
          </a:p>
          <a:p>
            <a:pPr marL="325800" indent="-32580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Отмечается недостаточная обеспеченность почв бором и серой, 85—98 % почв относятся к категории низкообеспеченных цинком.</a:t>
            </a:r>
            <a:endParaRPr b="0" lang="en-US" sz="1600" spc="-1" strike="noStrike">
              <a:solidFill>
                <a:srgbClr val="ffffff"/>
              </a:solidFill>
              <a:latin typeface="Arial"/>
            </a:endParaRPr>
          </a:p>
          <a:p>
            <a:pPr marL="325800" indent="-32580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Деградация земель наиболее распространена в виде водной эрозии — около 175 тыс. га эродированных земель и около 700 тыс. га — эрозионноопасных.</a:t>
            </a:r>
            <a:endParaRPr b="0" lang="en-US" sz="1600" spc="-1" strike="noStrike">
              <a:solidFill>
                <a:srgbClr val="ffffff"/>
              </a:solidFill>
              <a:latin typeface="Arial"/>
            </a:endParaRPr>
          </a:p>
        </p:txBody>
      </p:sp>
      <p:sp>
        <p:nvSpPr>
          <p:cNvPr id="12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3T18:06:42Z</dcterms:created>
  <dc:creator>Uzer</dc:creator>
  <dc:description/>
  <dc:language>en-US</dc:language>
  <cp:lastModifiedBy>LEGION</cp:lastModifiedBy>
  <dcterms:modified xsi:type="dcterms:W3CDTF">2014-12-30T12:10:27Z</dcterms:modified>
  <cp:revision>6</cp:revision>
  <dc:subject/>
  <dc:title>Владимирская область</dc:title>
</cp:coreProperties>
</file>