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4A69-5872-43B6-A390-C9882FE717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../slides/slide11.xml"/><Relationship Id="rId6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" Target="../slides/slide16.xml"/><Relationship Id="rId8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7EB0-547D-42CC-84F4-871E33B1006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Цели  реабилитационн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числа обострений на единицу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меньшение выраженности симптомов в период обос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лное восстановление очага -излечение (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86C5-F2CE-4741-A875-E505F2570DF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9933ff"/>
                </a:solidFill>
                <a:latin typeface="Calibri"/>
              </a:rPr>
              <a:t>Антигомотоксическая медиц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граничение поступления гомотокси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нутрь кле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ренажная и дезинтоксикационн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Актив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еточного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орга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Имму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ция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и иммуномод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19B5-CC40-4253-9A34-D8871FCF5C1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тор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ме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цины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Ханс-Хайнрих Реккевег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1905–19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A15B-2DFF-4910-88C7-53E8E1C2E21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Большая система защиты</a:t>
            </a:r>
            <a:br>
              <a:rPr sz="1200"/>
            </a:b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организм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ЭС (моноциты,  макрофаг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едняя доля гипофиза-надпоче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рвно-рефлекторная защ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зинтоксикационная функция печ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зинтоксикационная функция 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3FDD-D7C3-4452-9271-F195D0D89B0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933ff"/>
                </a:solidFill>
                <a:latin typeface="Calibri"/>
              </a:rPr>
              <a:t>Комплексные антигомотоксические препар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Рецептуры на основе многолетней репертор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Сокращение времени на поиск монопрепаратов согласно принципу подоб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Могут назначаться п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ническим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показа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Действую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патогенетические мех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в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ы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ению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 токс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Компенсируют вызванные токсинами поражения в организ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егенерационный механ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456-512B-4332-9E34-CFAB112C3F6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с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п</a:t>
            </a: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1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B288-E7D3-4E84-8BA7-5800AB39970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Композит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E63-D36E-4A91-9827-28CF8F31D68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2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6D8E-8E8C-42A8-A488-038B5C06CA3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0" lang="ru-RU" sz="1200" spc="-1" strike="noStrike">
                <a:solidFill>
                  <a:srgbClr val="800080"/>
                </a:solidFill>
                <a:latin typeface="American-Uncial-Normal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упирование симптомов забол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C1D2-065C-4F5D-B467-87C3C2E29E6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Биологическое значение АГ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ка развития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E67-C495-41E6-AC7C-2911C56386E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Лечеб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остр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ОМС на фоне антигомотоксической терапии в режиме инициирующей терап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й и отсроченные восстановительные пери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Т терапия в режиме долгосроч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044-46F9-47CA-8581-4959DA596BB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ИНИЦИИРУЮЩИ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2 ча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м 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п</a:t>
            </a:r>
            <a:r>
              <a:rPr b="1" lang="en-US" sz="1200" spc="-1" strike="noStrike">
                <a:solidFill>
                  <a:srgbClr val="000000"/>
                </a:solidFill>
                <a:latin typeface="Pragmatica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к( в тяжелых случаях -  до 2-3 раз в ден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0E56-4C1B-4BFB-A687-01D0A09129E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Pragmatic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Pragmatica"/>
              </a:rPr>
              <a:t>РЕЖИМ ДОЛГОВРЕМЕННОЙ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(10 кап. или 1 таб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agmatica"/>
              </a:rPr>
              <a:t>Растворы для инъекций – 1-2 раза в нед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B3FB-8B23-45A4-B231-71D72B626B3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1600"/>
            </a:br>
            <a:r>
              <a:rPr b="0" lang="ru-RU" sz="1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ирование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бочных реакций и осло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A7A8-21F6-4457-8DC2-31AA2F3B32C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ff"/>
                </a:solidFill>
                <a:latin typeface="Calibri"/>
              </a:rPr>
              <a:t>Тканевые и клеточные эффекты антигомотоксической 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енера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канеопротектор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фикостим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орегулирую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- и эндокрино-регуляцион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1339-3BE8-4058-9F99-4D8D377DA61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Calibri"/>
              </a:rPr>
              <a:t>Наши наблю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циентов из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139-B5F5-46E9-AD5A-E2ACA1B4495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Контрольн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DA05-6C0B-4EDC-BDBB-5C5BA100060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Методы контроля клинической  эффектив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ые виды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ы электропунктурн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по шкале С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1E3F-669B-47B6-9B3B-BA8AD6771EA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B8FE-3D3A-4A7B-83A4-F594E609EE3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Особенности заболеваний в семейной медицин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ялотекущий характер хронических процессов  с обострениями умерен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B980-8F4E-4125-9781-A28ECE7490B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Энгисто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Engysto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Г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Бронхалис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onchalis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хинацея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hinacea compos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 Эуфорби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phorbium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1055-BBE4-4BB5-AC97-638E5308C7D3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лиум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Galium-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Лимфомиоз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miozot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сорино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Psorin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утис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utis cj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мукоза композиту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ucosa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фф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ff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(в группе контроля -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0AA3-47EF-469D-908E-08D327137A6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1600"/>
            </a:br>
            <a:r>
              <a:rPr b="1" lang="ru-RU" sz="1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ребрум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ebru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Траумеель 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Traumeel S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энзим композиту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Coensym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бихинон композитум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ihinon compositum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ертигохе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ertigoh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пигело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gel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скупр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scupre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, Нервохеель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oheel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Валериана-хее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Valeriana-he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в группе контроля - 54,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CE53-BCEB-4FA9-9712-428395C19AE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аумеел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raumeel S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), Цель Т(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el T )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Дискус композиту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Discus composit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Рефлексотерапия, гомеосиниатр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НЧЭТ, НЧМ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сегментарный  и точечный массаж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*щадящее выт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2%(в группе контроля - 5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7%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1E86-11DF-40E4-8BD6-F8591436872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Принципы 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торные лечебные к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8A47-07BC-4E87-900A-9E70C6B66502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повышению качества жизни на 25-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30A9-9FAD-4E05-AEFA-76F6300FBE7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Tiff-Heavy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9FE5-2DB9-4BC2-B653-F2BAD7A4757F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пед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7CF3-0B88-4B43-866F-B4AB0DC4604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Calibri"/>
              </a:rPr>
              <a:t>Достоинства в терапии и гериа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599B-9A26-456F-A80E-F83A779C9AB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1200"/>
            </a:br>
            <a:r>
              <a:rPr b="1" lang="en-US" sz="12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12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45AC-23A1-4C5E-9ADF-751EDFF251F1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ff"/>
                </a:solidFill>
                <a:latin typeface="Calibri"/>
              </a:rPr>
              <a:t>Хроническое  заболе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05FF-6D54-4180-B162-2BE924CF9AF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B879-DA03-454A-9757-D6F135A8C7F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C10-7042-4932-9AD7-AD68C53D78C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Calibri"/>
              </a:rPr>
              <a:t>Наиболее распространенные группы нозолог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дыхатель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merican-Uncial-Normal"/>
              </a:rPr>
              <a:t>- онкологические процес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DA5F-D2BF-41F4-91A9-A386F9125DE8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Calibri"/>
              </a:rPr>
              <a:t>Современный фон для развития хронических заболева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1200" spc="-1" strike="noStrike">
                <a:solidFill>
                  <a:srgbClr val="000000"/>
                </a:solidFill>
                <a:latin typeface="Antiqua-Bold"/>
              </a:rPr>
              <a:t> возраста и детей</a:t>
            </a:r>
            <a:r>
              <a:rPr b="0" lang="ru-RU" sz="1800" spc="-1" strike="noStrike">
                <a:solidFill>
                  <a:srgbClr val="000000"/>
                </a:solidFill>
                <a:latin typeface="Antiqua-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7814-76C4-4A50-90F6-802701B14D77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312-5EAA-4B87-A6D1-6B60CFD484B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EC6-2148-4424-B082-9D3265BE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6E2-6A9F-4605-83CB-9E5C4E4D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4EE-94E9-4515-A8CF-931F5037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F07-80D5-43E3-9524-252C6897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E707-61FC-405B-9D31-A1392F59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1CD3-C1B0-4471-9502-E6269A78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8BE3-E32F-4E37-8978-32FDC679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C4F4-E717-4AE8-B048-C77E2C0D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F5F-9972-4676-8875-4BF23EE8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7FE3-CE5B-4715-B204-971EBD07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730A-7394-4A2E-9E35-F2E2D0CB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936-43C0-4176-8256-FB8B458C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0A64-8CE1-4187-BE55-490FAFE0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4745-FDDB-4E45-BB15-E0AF1BC8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EE43-BBBB-4B8F-973E-EC1C61F0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D3B6-8A53-4F7D-8259-8DD5C94F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AFC3-EAD9-4B80-806D-8B13F58A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E70-5130-4FCC-BCD0-5F9935A3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B10-060B-4004-9D89-FF4E5A8F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54C1-9BFB-4332-BF3E-77AFE671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934-F3D2-4BDF-AA72-2A25B92B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12A-98D5-40F2-A550-9C55C0DE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943A-65D4-4E53-93A1-6AA96C73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3F96-41E8-45A3-88AD-91D3542E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BDAB-0E12-4B71-8B6B-32BF1024A4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000"/>
              <a:ext cx="3623760" cy="6129000"/>
              <a:chOff x="5407200" y="63000"/>
              <a:chExt cx="362376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520" y="348120"/>
                <a:ext cx="211680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0560"/>
                <a:ext cx="90684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880" y="302760"/>
              <a:ext cx="888480" cy="829080"/>
              <a:chOff x="5645880" y="302760"/>
              <a:chExt cx="888480" cy="82908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7840" y="802080"/>
                <a:ext cx="17712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6360" y="480240"/>
                <a:ext cx="3042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6720" y="401760"/>
                <a:ext cx="31716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3000"/>
              <a:ext cx="1062360" cy="836640"/>
              <a:chOff x="954000" y="5283000"/>
              <a:chExt cx="1062360" cy="8366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840" y="5548320"/>
                <a:ext cx="251640" cy="3006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3320" y="5763600"/>
                <a:ext cx="430560" cy="2498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70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28CF-042D-405A-B311-72F36F54F0A1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16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Антигомотоксическое сопровождение пациентов с хроническими заболеваниями в практике семейного врача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Т.Е.Белоусова</a:t>
            </a:r>
            <a:br>
              <a:rPr sz="3200"/>
            </a:br>
            <a:r>
              <a:rPr b="0" lang="ru-RU" sz="3200" spc="-1" strike="noStrike">
                <a:solidFill>
                  <a:srgbClr val="9933ff"/>
                </a:solidFill>
                <a:latin typeface="Antiqua-Bold"/>
              </a:rPr>
              <a:t>Нижегородская государственная медицинская академ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1760" y="356760"/>
            <a:ext cx="8285040" cy="13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99ff"/>
                </a:solidFill>
                <a:latin typeface="Verdana"/>
              </a:rPr>
              <a:t>Цели  реабилитационн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0120" y="2180880"/>
            <a:ext cx="778176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числа обострений на единицу време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Уменьшение выраженности симптомов в период обостре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- Полное восстановление очага -излечение (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08120" y="267840"/>
            <a:ext cx="7826400" cy="1103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Verdana"/>
              </a:rPr>
              <a:t>Антигомотоксическая медицин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82640"/>
            <a:ext cx="8166240" cy="4284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граничение поступления гомотокси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внутрь клето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Дренажная и дезинтоксикационная терап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Активация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еточного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метабол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органов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и ткане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Иммуно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уляция</a:t>
            </a:r>
            <a:r>
              <a:rPr b="0" lang="de-DE" sz="3200" spc="-1" strike="noStrike">
                <a:solidFill>
                  <a:srgbClr val="006699"/>
                </a:solidFill>
                <a:latin typeface="Verdana"/>
              </a:rPr>
              <a:t> и иммуномодуля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630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ОСНОВНЫЕ ПРИНЦИПЫ ТЕРАПИИ КОМПЛЕКСНЫМИ БИОЛОГИЧЕСКИМИ ПРЕПАРАТАМ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195640" y="2421000"/>
            <a:ext cx="460836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РЕГУЛЯ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ЕЗИНТОКСИК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ДРЕНАЖ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Pragmatica"/>
              </a:rPr>
              <a:t>АКТИВАЦИОННЫЙ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39640" y="3357720"/>
            <a:ext cx="187164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ОРГАН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6588000" y="3284640"/>
            <a:ext cx="2232000" cy="1387080"/>
          </a:xfrm>
          <a:prstGeom prst="rect">
            <a:avLst/>
          </a:prstGeom>
          <a:solidFill>
            <a:srgbClr val="edfad2"/>
          </a:solidFill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Pragmatica"/>
              </a:rPr>
              <a:t>СИСТЕМНЫ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Line 7"/>
          <p:cNvSpPr/>
          <p:nvPr/>
        </p:nvSpPr>
        <p:spPr>
          <a:xfrm flipH="1">
            <a:off x="1908000" y="2637000"/>
            <a:ext cx="136872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651640" y="2637000"/>
            <a:ext cx="136836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Line 9"/>
          <p:cNvSpPr/>
          <p:nvPr/>
        </p:nvSpPr>
        <p:spPr>
          <a:xfrm flipH="1" flipV="1">
            <a:off x="1835280" y="4869000"/>
            <a:ext cx="1512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Line 10"/>
          <p:cNvSpPr/>
          <p:nvPr/>
        </p:nvSpPr>
        <p:spPr>
          <a:xfrm flipV="1">
            <a:off x="5651640" y="4797360"/>
            <a:ext cx="158436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24109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6084720" y="3645000"/>
            <a:ext cx="505080" cy="287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 flipH="1" flipV="1">
            <a:off x="241128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 flipV="1">
            <a:off x="5292720" y="4292640"/>
            <a:ext cx="1224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7680" y="312840"/>
            <a:ext cx="8362800" cy="15336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октор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мед</a:t>
            </a: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ицины</a:t>
            </a: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 Ханс-Хайнрих Реккевег </a:t>
            </a:r>
            <a:br>
              <a:rPr sz="3200"/>
            </a:br>
            <a:r>
              <a:rPr b="0" lang="de-DE" sz="3200" spc="-1" strike="noStrike">
                <a:solidFill>
                  <a:srgbClr val="006666"/>
                </a:solidFill>
                <a:latin typeface="Verdana"/>
              </a:rPr>
              <a:t>1905–1985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800600" cy="343044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>
            <a:hlinkClick r:id="rId1" action="ppaction://hlinksldjump"/>
          </p:cNvPr>
          <p:cNvSpPr/>
          <p:nvPr/>
        </p:nvSpPr>
        <p:spPr>
          <a:xfrm flipV="1">
            <a:off x="179280" y="6858000"/>
            <a:ext cx="863640" cy="10008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Pragmatica"/>
              </a:rPr>
              <a:t>ТАБЛИЦА 6 ФАЗ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96920" y="1844640"/>
          <a:ext cx="8737560" cy="4719600"/>
        </p:xfrm>
        <a:graphic>
          <a:graphicData uri="http://schemas.openxmlformats.org/drawingml/2006/table">
            <a:tbl>
              <a:tblPr/>
              <a:tblGrid>
                <a:gridCol w="1307880"/>
                <a:gridCol w="887400"/>
                <a:gridCol w="617760"/>
                <a:gridCol w="307800"/>
                <a:gridCol w="1373400"/>
                <a:gridCol w="1319040"/>
                <a:gridCol w="1187640"/>
                <a:gridCol w="1736640"/>
              </a:tblGrid>
              <a:tr h="10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экскре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ак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понир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мпрегн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егенерации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Фаза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овообразования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50000">
                          <a:srgbClr val="edfad2"/>
                        </a:gs>
                        <a:gs pos="100000">
                          <a:srgbClr val="cc99ff"/>
                        </a:gs>
                      </a:gsLst>
                      <a:lin ang="5400000"/>
                    </a:gradFill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к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Энт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енхи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Мезодерма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c99ff"/>
                        </a:gs>
                        <a:gs pos="100000">
                          <a:srgbClr val="edfad2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8" name="Text Box 39"/>
          <p:cNvSpPr/>
          <p:nvPr/>
        </p:nvSpPr>
        <p:spPr>
          <a:xfrm>
            <a:off x="2342520" y="112536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ГУМОРАЛЬ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 Box 40"/>
          <p:cNvSpPr/>
          <p:nvPr/>
        </p:nvSpPr>
        <p:spPr>
          <a:xfrm>
            <a:off x="4641120" y="11253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МАТРИ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6596280" y="112536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99ff"/>
                </a:solidFill>
                <a:latin typeface="Pragmatica"/>
              </a:rPr>
              <a:t>КЛЕТОЧНЫ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42"/>
          <p:cNvSpPr/>
          <p:nvPr/>
        </p:nvSpPr>
        <p:spPr>
          <a:xfrm>
            <a:off x="2340000" y="1628640"/>
            <a:ext cx="1224000" cy="0"/>
          </a:xfrm>
          <a:prstGeom prst="line">
            <a:avLst/>
          </a:prstGeom>
          <a:ln w="19080">
            <a:solidFill>
              <a:srgbClr val="cc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43"/>
          <p:cNvSpPr/>
          <p:nvPr/>
        </p:nvSpPr>
        <p:spPr>
          <a:xfrm>
            <a:off x="7236000" y="1628640"/>
            <a:ext cx="1223640" cy="0"/>
          </a:xfrm>
          <a:prstGeom prst="line">
            <a:avLst/>
          </a:prstGeom>
          <a:ln w="1908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Text Box 44"/>
          <p:cNvSpPr/>
          <p:nvPr/>
        </p:nvSpPr>
        <p:spPr>
          <a:xfrm>
            <a:off x="4846680" y="2936880"/>
            <a:ext cx="2286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Pragmatica"/>
              </a:rPr>
              <a:t>БИОЛОГИЧЕСКИЙ БАРЬЕР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Большая система защиты</a:t>
            </a:r>
            <a:br>
              <a:rPr sz="3200"/>
            </a:br>
            <a:r>
              <a:rPr b="1" lang="ru-RU" sz="3200" spc="-1" strike="noStrike">
                <a:solidFill>
                  <a:srgbClr val="9933ff"/>
                </a:solidFill>
                <a:latin typeface="Verdana"/>
              </a:rPr>
              <a:t>организм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РЭС (моноциты,  макрофаги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ередняя доля гипофиза-надпочечн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Нервно-рефлекторная защит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Дезинтоксикационная функция пече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Дезинтоксикационная функция СТ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3080"/>
            <a:ext cx="77724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33ff"/>
                </a:solidFill>
                <a:latin typeface="Verdana"/>
              </a:rPr>
              <a:t>Комплексные антигомотоксические препараты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05176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Рецептуры на основе многолетней реперторизац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Сокращение времени на поиск монопрепаратов согласно принципу подоби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Могут назначаться по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линическим 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показания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Действуют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на патогенетические механизм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пособствуют в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ыв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едению</a:t>
            </a: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 токсин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99"/>
                </a:solidFill>
                <a:latin typeface="Verdana"/>
              </a:rPr>
              <a:t>Компенсируют вызванные токсинами поражения в организ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(регенерационный механизм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23480" cy="957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Комплексные </a:t>
            </a: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АГТ </a:t>
            </a:r>
            <a:r>
              <a:rPr b="1" lang="de-DE" sz="4000" spc="-1" strike="noStrike">
                <a:solidFill>
                  <a:srgbClr val="9933ff"/>
                </a:solidFill>
                <a:latin typeface="Arial"/>
              </a:rPr>
              <a:t>препарат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87520"/>
            <a:ext cx="8204400" cy="460224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marL="290520" indent="-290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Принцип Бюрги: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есколько веществ, направленных на один симптом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) с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уммируются в своем действии, если направлены в одну точ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) п</a:t>
            </a:r>
            <a:r>
              <a:rPr b="0" lang="de-DE" sz="2800" spc="-1" strike="noStrike">
                <a:solidFill>
                  <a:srgbClr val="006699"/>
                </a:solidFill>
                <a:latin typeface="Verdana"/>
              </a:rPr>
              <a:t>отенцируются, если действуют на разные точки приложен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81120" indent="0">
              <a:spcBef>
                <a:spcPts val="700"/>
              </a:spcBef>
              <a:buNone/>
              <a:tabLst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9640" y="16524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мпозит -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6516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Это комплексное лекарственное средство, в состав которого входят классические гомеопатические компоненты,   суисорганные препараты, нозоды, ферменты дыхательного цикла клетки,витамины, гомеопатизированные аллопатические средства (антибиотики,гормоны,цитостатики), токсины, необходимые для санации определенного органа или ткани организма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17928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476360" y="630360"/>
            <a:ext cx="59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403280" y="1851120"/>
            <a:ext cx="7056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Pragmatica"/>
              </a:rPr>
              <a:t>ГОМАККОРД</a:t>
            </a:r>
            <a:r>
              <a:rPr b="1" lang="ru-RU" sz="1800" spc="-1" strike="noStrike">
                <a:solidFill>
                  <a:srgbClr val="9933ff"/>
                </a:solidFill>
                <a:latin typeface="Pragmatica"/>
              </a:rPr>
              <a:t> -</a:t>
            </a:r>
            <a:r>
              <a:rPr b="1" lang="ru-RU" sz="18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это комплексное антигомотоксическое средство, каждый компонент которого представлен как в низких, так и в высоких разведениях (аккорд потенций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304920"/>
            <a:ext cx="7937280" cy="109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ff"/>
                </a:solidFill>
                <a:latin typeface="Times New Roman"/>
              </a:rPr>
              <a:t>Деятельность семейного врач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228240" y="153648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Цель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высокий уровень качества жизни наблюдаемых пациентов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Технологии</a:t>
            </a:r>
            <a:r>
              <a:rPr b="1" lang="ru-RU" sz="3200" spc="-1" strike="noStrike">
                <a:solidFill>
                  <a:srgbClr val="f2dffd"/>
                </a:solidFill>
                <a:latin typeface="American-Uncial-Normal"/>
              </a:rPr>
              <a:t>: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лечебный стандарт, физиотерапевтичекие и натуропатические технолог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merican-Uncial-Normal"/>
              </a:rPr>
              <a:t>Клинические эффект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купирование симптомов заболева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-восстановление нейро-эндокринной и иммунной защты организ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720" y="196560"/>
            <a:ext cx="842976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Биологическое значение АГТ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95200" y="1116000"/>
            <a:ext cx="8545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Возможность эффективной терапии в бессимптомные периоды заболеваний: доклинический и постклиниче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Реализация принципа обратимости патоморфо-функциональных нарушений в органах и тканях после перенесенного заболевания (регенерационный и протекторный тканевые эффекты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Профилактика развития заболеван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ff"/>
                </a:solidFill>
                <a:latin typeface="Verdana"/>
              </a:rPr>
              <a:t>Лечебная стратег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ериод обострений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ндарты ОМС на фоне антигомотоксической терапии в режиме инициирующей терапии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анний и отсроченные восстановительные периоды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АГТ терапия в режиме долгосрочной терап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-27000"/>
            <a:ext cx="863640" cy="6885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ИНИЦИИРУЮЩИ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116000" y="2924280"/>
            <a:ext cx="504720" cy="358560"/>
            <a:chOff x="1116000" y="2924280"/>
            <a:chExt cx="504720" cy="358560"/>
          </a:xfrm>
        </p:grpSpPr>
        <p:sp>
          <p:nvSpPr>
            <p:cNvPr id="260" name="Oval 5"/>
            <p:cNvSpPr/>
            <p:nvPr/>
          </p:nvSpPr>
          <p:spPr>
            <a:xfrm>
              <a:off x="1116000" y="292428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1" name="Oval 6"/>
            <p:cNvSpPr/>
            <p:nvPr/>
          </p:nvSpPr>
          <p:spPr>
            <a:xfrm>
              <a:off x="1260360" y="292428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2" name="Text Box 7"/>
          <p:cNvSpPr/>
          <p:nvPr/>
        </p:nvSpPr>
        <p:spPr>
          <a:xfrm>
            <a:off x="1476360" y="134136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острые заболевания, стадия обострения хронической патологии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835280" y="2852640"/>
            <a:ext cx="64818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через 15 минут кажды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2 час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ежедневно в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м ил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п</a:t>
            </a:r>
            <a:r>
              <a:rPr b="1" lang="en-US" sz="2000" spc="-1" strike="noStrike">
                <a:solidFill>
                  <a:srgbClr val="006699"/>
                </a:solidFill>
                <a:latin typeface="Pragmatica"/>
              </a:rPr>
              <a:t>/</a:t>
            </a: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к( в тяжелых случаях -  до 2-3 раз в день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64" name="Group 9"/>
          <p:cNvGrpSpPr/>
          <p:nvPr/>
        </p:nvGrpSpPr>
        <p:grpSpPr>
          <a:xfrm>
            <a:off x="1116000" y="4149720"/>
            <a:ext cx="504720" cy="358920"/>
            <a:chOff x="1116000" y="4149720"/>
            <a:chExt cx="504720" cy="358920"/>
          </a:xfrm>
        </p:grpSpPr>
        <p:sp>
          <p:nvSpPr>
            <p:cNvPr id="265" name="Oval 10"/>
            <p:cNvSpPr/>
            <p:nvPr/>
          </p:nvSpPr>
          <p:spPr>
            <a:xfrm>
              <a:off x="1116000" y="414972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6" name="Oval 11"/>
            <p:cNvSpPr/>
            <p:nvPr/>
          </p:nvSpPr>
          <p:spPr>
            <a:xfrm>
              <a:off x="1260360" y="414972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863640" cy="6858000"/>
          </a:xfrm>
          <a:prstGeom prst="rect">
            <a:avLst/>
          </a:prstGeom>
          <a:gradFill rotWithShape="0">
            <a:gsLst>
              <a:gs pos="0">
                <a:srgbClr val="f4e9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115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Pragmatica"/>
              </a:rPr>
              <a:t>          </a:t>
            </a:r>
            <a:r>
              <a:rPr b="1" lang="ru-RU" sz="2800" spc="-1" strike="noStrike">
                <a:solidFill>
                  <a:srgbClr val="cc99ff"/>
                </a:solidFill>
                <a:latin typeface="Pragmatica"/>
              </a:rPr>
              <a:t>РЕЖИМ ДОЛГОВРЕМЕННОЙ ТЕРАП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1204920" y="3241800"/>
            <a:ext cx="504720" cy="358560"/>
            <a:chOff x="1204920" y="3241800"/>
            <a:chExt cx="504720" cy="358560"/>
          </a:xfrm>
        </p:grpSpPr>
        <p:sp>
          <p:nvSpPr>
            <p:cNvPr id="271" name="Oval 5"/>
            <p:cNvSpPr/>
            <p:nvPr/>
          </p:nvSpPr>
          <p:spPr>
            <a:xfrm>
              <a:off x="1204920" y="3241800"/>
              <a:ext cx="360360" cy="35856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2" name="Oval 6"/>
            <p:cNvSpPr/>
            <p:nvPr/>
          </p:nvSpPr>
          <p:spPr>
            <a:xfrm>
              <a:off x="1349280" y="3241800"/>
              <a:ext cx="360360" cy="358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3" name="Text Box 7"/>
          <p:cNvSpPr/>
          <p:nvPr/>
        </p:nvSpPr>
        <p:spPr>
          <a:xfrm>
            <a:off x="1476360" y="134136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Pragmatica"/>
              </a:rPr>
              <a:t>(стихающее обострение, ранний и отсроченный восстановительный периоды, период ремиссии, противорецидивное лечение)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835280" y="3246480"/>
            <a:ext cx="698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зовая доза препарата - в 3-х разовом режим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(10 кап. или 1 табл.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Pragmatica"/>
              </a:rPr>
              <a:t>Растворы для инъекций – 1-2 раза в недел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281240" y="4657680"/>
            <a:ext cx="504720" cy="358920"/>
            <a:chOff x="1281240" y="4657680"/>
            <a:chExt cx="504720" cy="358920"/>
          </a:xfrm>
        </p:grpSpPr>
        <p:sp>
          <p:nvSpPr>
            <p:cNvPr id="276" name="Oval 10"/>
            <p:cNvSpPr/>
            <p:nvPr/>
          </p:nvSpPr>
          <p:spPr>
            <a:xfrm>
              <a:off x="1281240" y="4657680"/>
              <a:ext cx="360360" cy="358920"/>
            </a:xfrm>
            <a:prstGeom prst="ellips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77" name="Oval 11"/>
            <p:cNvSpPr/>
            <p:nvPr/>
          </p:nvSpPr>
          <p:spPr>
            <a:xfrm>
              <a:off x="1425600" y="4657680"/>
              <a:ext cx="360360" cy="35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85560" y="448920"/>
            <a:ext cx="6435720" cy="22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КРИТЕРИИ ЭФФЕКТИВНОСТИ</a:t>
            </a:r>
            <a:br>
              <a:rPr sz="3600"/>
            </a:br>
            <a:r>
              <a:rPr b="0" lang="ru-RU" sz="3600" spc="-1" strike="noStrike">
                <a:solidFill>
                  <a:srgbClr val="9933ff"/>
                </a:solidFill>
                <a:latin typeface="Antiqua-Bold"/>
              </a:rPr>
              <a:t>  антигомотоксической терапи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2712600"/>
            <a:ext cx="8229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упирование симптомов заболева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Сокращение сроков лечен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тсутствие побочных реакций и осложнени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ышение качества жизни (самочувствие, активность, настроение, сон, аппетит, трудоспособность)на период от 6 до 18 месяцев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314280"/>
            <a:ext cx="8244000" cy="204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33ff"/>
                </a:solidFill>
                <a:latin typeface="Verdana"/>
              </a:rPr>
              <a:t>Тканевые и клеточные эффекты антигомотоксической терапии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190680"/>
            <a:ext cx="8229600" cy="33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генера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канеопротектор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рофикостим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истеморегулирующ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ммуно- и эндокрино-регуляционны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Verdana"/>
              </a:rPr>
              <a:t>Наши наблюдения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35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пациентов из 1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42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семей, наблюдаемых по поводу различных хронических заболеваний в течение 5-7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Мамы в возрасте от 24 до 38 лет с детьми в возрасте до 14 лет с заболеваниями нервной системы и аллергическими заболеваниями  на фоне ССТк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6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Контрольные групп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11240"/>
            <a:ext cx="82296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Times New Roman"/>
              </a:rPr>
              <a:t>314 пациентов с аналогичными заболеваниями для каждой основной группы наблюдений с использованием только стандартных терапевтических подход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Методы контроля клинической  эффективности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линической картины заболевания, длительности периода обострения , выраженности симптомов, частоты обострений заболеваний в течение год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тандартные виды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Методы электропунктурной диагности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по шкале САН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Оценка качества жизни по шкалам и опросника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imes New Roman"/>
              </a:rPr>
              <a:t>Критерии клинической эффективност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сроки купирования симптомов заболеван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клинических и параклинических параметров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ормализация  электропроводности в точках акупунктуры (ТА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ачество жизн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03040"/>
            <a:ext cx="6870600" cy="22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Особенности заболеваний в семейной медицин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3112920"/>
            <a:ext cx="822960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ялотекущий характер хронических процессов  с обострениями умеренной степен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выраженност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363600"/>
            <a:ext cx="824400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</a:rPr>
              <a:t>ОРЗ и хронические заболевания бронхолегочной системы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Энгистол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Engysto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Галиум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Бронхалис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(Bronchalis-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Мукоза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Mucosa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Эхинацея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chinacea compositum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 Эуфорби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Euphorbium compositu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НЧМСТ, аэроионоингаляционная терапия, пунктурная электротерапи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*точечный массаж, дыхательная гимнасти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7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4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Times New Roman"/>
              </a:rPr>
              <a:t>Аллергоз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5548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алиум-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Galium-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Лимфомиозот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ymphomiozot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псоринохеель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(Psorinoheel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кутис композитум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Cutis cj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 мукоза композитум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(Mucosa compositum)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Люффель (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Luffel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НЧМСТ, направленная аэроионотерапия, рефлексотерапия, точечный массаж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2 лет составляет 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77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(в группе контроля - 3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%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98240" y="-360"/>
            <a:ext cx="8086680" cy="166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Последствия перинатальных энцефалопатий, ДЦП, </a:t>
            </a:r>
            <a:br>
              <a:rPr sz="3600"/>
            </a:b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Ф НКГМ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725480"/>
            <a:ext cx="84708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Церебрум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Cerebru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Траумеель С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Traumeel S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Коэнзим композитум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Coensym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Убихинон композитум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Ubihinon compositum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ертигохе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ertigoh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Спигелон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igelon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Спаскупр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Spascupreel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), Нервохеель (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Nervoheel)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, Валериана-хеель</a:t>
            </a:r>
            <a:r>
              <a:rPr b="0" lang="en-US" sz="2800" spc="-1" strike="noStrike">
                <a:solidFill>
                  <a:srgbClr val="006699"/>
                </a:solidFill>
                <a:latin typeface="Times New Roman"/>
              </a:rPr>
              <a:t> (Valeriana-hee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рефлексотерапия, гомеосиниатрия, полисенсорная релаксаци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3-4 курсов терапии в течение 1,5-3 лет составляет 78,9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(в группе контроля - 54,5%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96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Нарушения осанки  Заболевания суставов и позвоночник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2480760"/>
            <a:ext cx="82296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Times New Roman"/>
              </a:rPr>
              <a:t>*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Траумеель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С 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Traumeel S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), Цель Т(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Zeel T )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 Дискус композитум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(Discus compositum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Рефлексотерапия, гомеосиниатри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НЧЭТ, НЧМСТ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сегментарный  и точечный массаж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*щадящее вытяжени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Клиническая эффективность в случае проведения 2-3 курсов терапии в течение 1-1,5 лет составляет 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79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2%(в группе контроля - 5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6699"/>
                </a:solidFill>
                <a:latin typeface="Times New Roman"/>
              </a:rPr>
              <a:t>,7%)   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Принципы терап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885600"/>
            <a:ext cx="7696080" cy="46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Индивидуально разработанные схемы лечения по результатам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Ежемесячная коррекция схем лечения  на основе повторных стандартной и биофизической диагнос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</a:rPr>
              <a:t>Повторные лечебные кур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Выводы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применение системной  антигомотоксической терапии в комплекном лечении и реабилитации в семейной медицине приводи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1) к достоверному уменьшению количества обострений и их продолжительности в течение года, уменьшению выраженности симптомов заболевания   в среднем на 83,9%  (в контроле- в 45,8%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Times New Roman"/>
              </a:rPr>
              <a:t>2) повышению качества жизни на 25-30%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Terminator Cyr 4"/>
              </a:rPr>
              <a:t>Антигомотоксическая терап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2084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ff-Heavy"/>
              </a:rPr>
              <a:t>способствует нормализации структуры и функции основных жизнеобеспечивающих систем организма у часто болеющих пациентов и пациентов с хроническими заболеваниям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dffd"/>
                </a:solidFill>
                <a:latin typeface="Tiff-Heavy"/>
              </a:rPr>
              <a:t>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пед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олноценное развитие нервной, эндокринной и иммунной систем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профилактика развития заболеваний другой локализаци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высокое качество жизни и развития организма ребенк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Verdana"/>
              </a:rPr>
              <a:t>Достоинства в терапии и гериатр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замедление процессов преждевременного старения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длительное сохранение трудоспособност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*профилактика нейрокардио-сосудистых и онкологических заболеваний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6" descr="кремль"/>
          <p:cNvPicPr/>
          <p:nvPr/>
        </p:nvPicPr>
        <p:blipFill>
          <a:blip r:embed="rId1"/>
          <a:srcRect l="0" t="14860" r="0" b="31509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ярмарка"/>
          <p:cNvPicPr/>
          <p:nvPr/>
        </p:nvPicPr>
        <p:blipFill>
          <a:blip r:embed="rId2"/>
          <a:stretch/>
        </p:blipFill>
        <p:spPr>
          <a:xfrm>
            <a:off x="5386320" y="4248000"/>
            <a:ext cx="29703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9"/>
          <p:cNvPicPr/>
          <p:nvPr/>
        </p:nvPicPr>
        <p:blipFill>
          <a:blip r:embed="rId3"/>
          <a:stretch/>
        </p:blipFill>
        <p:spPr>
          <a:xfrm>
            <a:off x="5591160" y="1969920"/>
            <a:ext cx="2598840" cy="1764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ff"/>
                </a:solidFill>
                <a:latin typeface="FreeSetExtraCTT"/>
              </a:rPr>
              <a:t>БЛАГОДАРЮ ЗА ВНИМАНИЕ! </a:t>
            </a:r>
            <a:br>
              <a:rPr sz="2900"/>
            </a:br>
            <a:r>
              <a:rPr b="1" lang="en-US" sz="2900" spc="-1" strike="noStrike">
                <a:solidFill>
                  <a:srgbClr val="cc00ff"/>
                </a:solidFill>
                <a:latin typeface="FreeSetExtraCTT"/>
              </a:rPr>
              <a:t>VIELEN  DANK  FUER AUFMERKSAMKEIT</a:t>
            </a:r>
            <a:r>
              <a:rPr b="0" lang="en-US" sz="2900" spc="-1" strike="noStrike">
                <a:solidFill>
                  <a:srgbClr val="cc00ff"/>
                </a:solidFill>
                <a:latin typeface="FreeSetExtraCTT"/>
              </a:rPr>
              <a:t>!</a:t>
            </a:r>
            <a:endParaRPr b="0" lang="en-US" sz="29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3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21888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Verdana"/>
              </a:rPr>
              <a:t>Хроническое  заболева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1431720"/>
            <a:ext cx="680868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роцесс постоянного чередования периодов обострения симптомов и их временного отсутствия (ремиссий) при постоянно существующих вялотекущих патологических тканевых реакция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4" descr="j0234131"/>
          <p:cNvPicPr/>
          <p:nvPr/>
        </p:nvPicPr>
        <p:blipFill>
          <a:blip r:embed="rId1"/>
          <a:stretch/>
        </p:blipFill>
        <p:spPr>
          <a:xfrm>
            <a:off x="7257960" y="4889520"/>
            <a:ext cx="1487520" cy="15667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Обострение  хронических заболеван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тканевых патологических реакций (воспаление, дегенерация, их сочетание) с соответствующей клинической симптоматикой над местной иммунной защито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ff"/>
                </a:solidFill>
                <a:latin typeface="Arial"/>
              </a:rPr>
              <a:t>Ремисс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обладание общей и местной иммунной защиты над развитием патологических тканевых реакц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Наиболее распространенные группы нозологий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дыхательной систем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цереброваскулярной и сердечно-сосудистой систе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заболевания суставов и позвоночни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клинические проявления метаболического синдром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American-Uncial-Normal"/>
              </a:rPr>
              <a:t>- онкологические процессы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93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Verdana"/>
              </a:rPr>
              <a:t>Современный фон для развития хронических заболеваний 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5000"/>
              </a:lnSpc>
              <a:spcBef>
                <a:spcPts val="601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Arial"/>
              </a:rPr>
              <a:t>Клиническая манифестация синдрома соединительнотканной недостаточности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55000"/>
              </a:lnSpc>
              <a:spcBef>
                <a:spcPts val="9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Проблема нарастания клеточной патологии периферической иммунной системы (СТ) у пациентов молодого</a:t>
            </a:r>
            <a:r>
              <a:rPr b="0" lang="ru-RU" sz="2400" spc="-1" strike="noStrike">
                <a:solidFill>
                  <a:srgbClr val="006699"/>
                </a:solidFill>
                <a:latin typeface="Antiqua-Bold"/>
              </a:rPr>
              <a:t> возраста и детей</a:t>
            </a:r>
            <a:r>
              <a:rPr b="0" lang="ru-RU" sz="3600" spc="-1" strike="noStrike">
                <a:solidFill>
                  <a:srgbClr val="006699"/>
                </a:solidFill>
                <a:latin typeface="Antiqua-Bold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</a:rPr>
              <a:t>Синдром соединительнотканной недостаточности (ССТкН)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2156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Times New Roman"/>
              </a:rPr>
              <a:t>Клиническая манифестация ССТкН: астенический тип телосложения,  синдром Эйлорса-Данлоса, плоскостопие, сколиотические изменения позвоночника,  заболевания крупных суставов в молодом возрасте, венозная недостаточность, большое количество половых инфекций, бесплодие, быстрая хронизация заболеваний на фоне соединительнотканного дефицита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2:42:29Z</dcterms:created>
  <dc:creator>shevnin</dc:creator>
  <dc:description/>
  <dc:language>en-US</dc:language>
  <cp:lastModifiedBy>LEGION</cp:lastModifiedBy>
  <dcterms:modified xsi:type="dcterms:W3CDTF">2014-11-07T11:07:48Z</dcterms:modified>
  <cp:revision>22</cp:revision>
  <dc:subject/>
  <dc:title>Системный подход и оздоровительные технологии в деятельности врачей общей практики</dc:title>
</cp:coreProperties>
</file>