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BCF0-936F-4F58-9EBE-B9742E63F5C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../slides/slide11.xml"/><Relationship Id="rId6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" Target="../slides/slide16.xml"/><Relationship Id="rId8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Антигомотоксическое сопровождение пациентов с хроническими заболеваниями в практике семейного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Antiqua-Bold"/>
              </a:rPr>
              <a:t>Т.Е.Белоусова</a:t>
            </a:r>
            <a:br>
              <a:rPr sz="1200"/>
            </a:br>
            <a:r>
              <a:rPr b="0" lang="ru-RU" sz="1200" spc="-1" strike="noStrike">
                <a:solidFill>
                  <a:srgbClr val="9933ff"/>
                </a:solidFill>
                <a:latin typeface="Antiqua-Bold"/>
              </a:rPr>
              <a:t>Нижегородская государственная медицинская акаде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9B07-DB8D-48C9-9104-7F5B4CE1A56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Цели  реабилитационной 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меньшение числа обострений на единицу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меньшение выраженности симптомов в период обос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ное восстановление очага -излечение (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47E1-CA7E-4643-9A10-FBB7CF9E9061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33ff"/>
                </a:solidFill>
                <a:latin typeface="Calibri"/>
              </a:rPr>
              <a:t>Антигомотоксическая медиц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Ограничение поступления гомотокси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ь кле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Дренажная и дезинтоксикационн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Актив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очного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метабол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орга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Имму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ция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и иммуномоду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87CA-E9FE-4B30-9A13-33B51F5E41BA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то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ме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цины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Ханс-Хайнрих Реккевег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905–19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3DDE-BF01-46A0-BC7A-E009F8A8C696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Большая система защиты</a:t>
            </a:r>
            <a:br>
              <a:rPr sz="1200"/>
            </a:b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организ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ЭС (моноциты,  макрофаг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едняя доля гипофиза-надпоче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рвно-рефлекторная защ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зинтоксикационная функция печ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зинтоксикационная функция 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3F3D-9E8D-4B45-9EFE-FB48180D7A0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33ff"/>
                </a:solidFill>
                <a:latin typeface="Calibri"/>
              </a:rPr>
              <a:t>Комплексные антигомотоксические препар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Рецептуры на основе многолетней репертор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Сокращение времени на поиск монопрепаратов согласно принципу подоб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Могут назначаться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им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показа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Действу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патогенетические мех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т 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ы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ению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токс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Компенсируют вызванные токсинами поражения в организ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егенерационный механ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C453-D25A-4B9D-B3A1-07F2FB75366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Комплексные </a:t>
            </a:r>
            <a:r>
              <a:rPr b="1" lang="ru-RU" sz="4000" spc="-1" strike="noStrike">
                <a:solidFill>
                  <a:srgbClr val="9933ff"/>
                </a:solidFill>
                <a:latin typeface="Arial"/>
              </a:rPr>
              <a:t>АГТ </a:t>
            </a: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препара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Принцип Бюрги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есколько веществ, направленных на один симпт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с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уммируются в своем действии, если направлены в одну точ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п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отенцируются, если действуют на разные точки прило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1293-5B66-4A86-9485-187604D6F12A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alibri"/>
              </a:rPr>
              <a:t>Композит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мплексное лекарственное средство, в состав которого входят классические гомеопатические компоненты,   суисорганные препараты, нозоды, ферменты дыхательного цикла клетки,витамины, гомеопатизированные аллопатические средства (антибиотики,гормоны,цитостатики), токсины, необходимые для санации определенного органа или ткани орган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6947-A63B-48A9-9CAC-0448C66645D8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Pragmatica"/>
              </a:rPr>
              <a:t>ГОМАККОРД</a:t>
            </a:r>
            <a:r>
              <a:rPr b="1" lang="ru-RU" sz="1200" spc="-1" strike="noStrike">
                <a:solidFill>
                  <a:srgbClr val="9933ff"/>
                </a:solidFill>
                <a:latin typeface="Pragmatica"/>
              </a:rPr>
              <a:t> -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 это комплексное антигомотоксическое средство, каждый компонент которого представлен как в низких, так и в высоких разведениях (аккорд потенц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EC25-22D5-4A1A-899D-3902064872C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Деятельность семейного вр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American-Uncial-Normal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сокий уровень качества жизни наблюдаемых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9933ff"/>
                </a:solidFill>
                <a:latin typeface="American-Uncial-Normal"/>
              </a:rPr>
              <a:t>Технологии</a:t>
            </a:r>
            <a:r>
              <a:rPr b="0" lang="ru-RU" sz="1200" spc="-1" strike="noStrike">
                <a:solidFill>
                  <a:srgbClr val="800080"/>
                </a:solidFill>
                <a:latin typeface="American-Uncial-Norm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лечебный стандарт, физиотерапевтичекие и натуропатическ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American-Uncial-Normal"/>
              </a:rPr>
              <a:t>Клинические эффе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упирование симптомов заболе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осстановление нейро-эндокринной и иммунной защты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B9B3-F1A2-4834-9BEB-D9D6B061CE3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alibri"/>
              </a:rPr>
              <a:t>Биологическое значение АГ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можность эффективной терапии в бессимптомные периоды заболеваний: доклинический и постклин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лизация принципа обратимости патоморфо-функциональных нарушений в органах и тканях после перенесенного заболевания (регенерационный и протекторный тканевые эффек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актика развития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6813-7EEC-4495-B6FA-9CFEA6F68D1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Лечебная страте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обостр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ОМС на фоне антигомотоксической терапии в режиме инициирующей терап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ий и отсроченные восстановительные пери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Т терапия в режиме долгосроч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A863-08C4-4B85-83D5-D23870345184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Pragmatic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Pragmatica"/>
              </a:rPr>
              <a:t>РЕЖИМ ИНИЦИИРУЮЩИ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(острые заболевания, стадия обострения хронической патологи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зовая доза препарата через 15 минут кажд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2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створы для инъекций – ежедневно в</a:t>
            </a:r>
            <a:r>
              <a:rPr b="1" lang="en-US" sz="1200" spc="-1" strike="noStrike">
                <a:solidFill>
                  <a:srgbClr val="000000"/>
                </a:solidFill>
                <a:latin typeface="Pragmatica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м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Pragmatica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к( в тяжелых случаях -  до 2-3 раз в ден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EAF4-32DB-45E0-9994-D1D9DB281CE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Pragmatic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Pragmatica"/>
              </a:rPr>
              <a:t>РЕЖИМ ДОЛГОВРЕМЕН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(стихающее обострение, ранний и отсроченный восстановительный периоды, период ремиссии, противорецидивное лечени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зовая доза препарата - в 3-х разовом режи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(10 кап. или 1 таб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створы для инъекций – 1-2 раза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66AA-FED9-4A28-9FFE-60BBA8E0BBFA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ff"/>
                </a:solidFill>
                <a:latin typeface="Antiqua-Bold"/>
              </a:rPr>
              <a:t>КРИТЕРИИ ЭФФЕКТИВНОСТИ</a:t>
            </a:r>
            <a:br>
              <a:rPr sz="1600"/>
            </a:br>
            <a:r>
              <a:rPr b="0" lang="ru-RU" sz="1600" spc="-1" strike="noStrike">
                <a:solidFill>
                  <a:srgbClr val="9933ff"/>
                </a:solidFill>
                <a:latin typeface="Antiqua-Bold"/>
              </a:rPr>
              <a:t>  антигомотоксической 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ирование симптомов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бочных реакций и осло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жизни (самочувствие, активность, настроение, сон, аппетит, трудоспособность)на период от 6 до 18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6DAA-D3D3-4FEE-9DF1-A59DCE4ED679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ff"/>
                </a:solidFill>
                <a:latin typeface="Calibri"/>
              </a:rPr>
              <a:t>Тканевые и клеточные эффекты антигомотоксической 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енерацио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канеопротектор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фикостим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орег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- и эндокрино-регуляцио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0393-5247-4771-A4E9-17CDB6DFF9D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Calibri"/>
              </a:rPr>
              <a:t>Наши наблю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ациентов из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емей, наблюдаемых по поводу различных хронических заболеваний в течение 5-7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мы в возрасте от 24 до 38 лет с детьми в возрасте до 14 лет с заболеваниями нервной системы и аллергическими заболеваниями  на фоне ССТк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2629-49EA-426B-8002-B850E3A8D00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Контрольны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4 пациентов с аналогичными заболеваниями для каждой основной группы наблюдений с использованием только стандартных терапевтических под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DEAC-1235-4FE2-94C6-B12B8C5818AA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Calibri"/>
              </a:rPr>
              <a:t>Методы контроля клинической  эффектив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линической картины заболевания, длительности периода обострения , выраженности симптомов, частоты обострений заболеваний в течение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ые виды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 электропунктурной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по шкале С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жизни по шкалам и опросни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0682-E2B4-4389-914B-50A024AAED1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Times New Roman"/>
              </a:rPr>
              <a:t>Критерии клинической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купирования симптомов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изация клинических и параклинических парамет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изация  электропроводности в точках акупунктуры (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11A9-9093-4D9D-92F6-AA2590A98F1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alibri"/>
              </a:rPr>
              <a:t>Особенности заболеваний в семейной медицин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ялотекущий характер хронических процессов  с обострениями умерен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ж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919C-CD96-45C2-9E60-371E41747D91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9933ff"/>
                </a:solidFill>
                <a:latin typeface="Times New Roman"/>
              </a:rPr>
              <a:t>ОРЗ и хронические заболевания бронхолегочной систе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Энгисто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Engysto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Галиум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alium-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Бронхалис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onchalis-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Мукоза композиту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Mucosa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хинацея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acea compositu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Эуфорбиум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phorbium composit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НЧМСТ, аэроионоингаляционная терапия, пунктурная электро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точечный массаж, дыхательная гимна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группе контроля - 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D557-F34D-4F36-9BC8-9EF4595EF08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Аллергоз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иум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alium-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Лимфомиоз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miozot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сорино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Psorino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утис композиту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utis cj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мукоза композиту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ucosa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ффель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ff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ЧМСТ, направленная аэроионотерапия, рефлексотерапия, точечный масс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2-3 курсов терапии в течение 1-2 лет с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%(в группе контроля - 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489A-6609-4541-A815-EB9D181BF98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Последствия перинатальных энцефалопатий, ДЦП, </a:t>
            </a:r>
            <a:br>
              <a:rPr sz="1600"/>
            </a:b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НФ НКГ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ребрум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ebrum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Траумеель 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Traumeel S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энзим композиту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Coensym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бихинон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bihinon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Вертигохе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Vertigohe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пигелон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gel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купреель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scupre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, Нервохеель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Валериана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Valeriana-he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флексотерапия, гомеосиниатрия, полисенсорная релакс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3-4 курсов терапии в течение 1,5-3 лет составляет 78,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группе контроля - 54,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D942-D066-4389-910E-5257AB0B3932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Нарушения осанки  Заболевания суставов и позвоноч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аумеель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umeel S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), Цель Т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el T )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Дискус композитум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iscus composit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Рефлексотерапия, гомеосиниат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НЧЭТ, НЧМ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сегментарный  и точечный массаж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щадящее выт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2%(в группе контроля - 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7%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D2F5-F310-46E7-9680-65E6CE1D17B2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Принципы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дивидуально разработанные схемы лечения по результатам стандартной и биофизической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жемесячная коррекция схем лечения  на основе повторных стандартной и биофизической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торные лечебные к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97CF-8222-4362-A003-A2A5181F620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ение системной  антигомотоксической терапии в комплекном лечении и реабилитации в семейной медицине прив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к достоверному уменьшению количества обострений и их продолжительности в течение года, уменьшению выраженности симптомов заболевания   в среднем на 83,9%  (в контроле- в 45,8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повышению качества жизни на 25-3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E154-863E-49F6-981A-E1EC22D68FFD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Terminator Cyr 4"/>
              </a:rPr>
              <a:t>Антигомотокс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iff-Heavy"/>
              </a:rPr>
              <a:t>способствует нормализации структуры и функции основных жизнеобеспечивающих систем организма у часто болеющих пациентов и пациентов с хроническими заболев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Tiff-Heavy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8604-5BAF-4642-8455-637D8587DA7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Достоинства в педиат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ноценное развитие нервной, эндокринной и иммунной сист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развития заболеваний другой лок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ое качество жизни и развития организма 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FCAB-EF57-4F46-BFE5-7878D81DF8B1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Достоинства в терапии и гериат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замедление процессов преждевременного ста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длительное сохранение трудо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профилактика нейрокардио-сосудистых и онкологических заболев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9178-D62C-4D2B-B339-BF9E216AFC0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ff"/>
                </a:solidFill>
                <a:latin typeface="FreeSetExtraCTT"/>
              </a:rPr>
              <a:t>БЛАГОДАРЮ ЗА ВНИМАНИЕ! </a:t>
            </a:r>
            <a:br>
              <a:rPr sz="1200"/>
            </a:br>
            <a:r>
              <a:rPr b="1" lang="en-US" sz="1200" spc="-1" strike="noStrike">
                <a:solidFill>
                  <a:srgbClr val="cc00ff"/>
                </a:solidFill>
                <a:latin typeface="FreeSetExtraCTT"/>
              </a:rPr>
              <a:t>VIELEN  DANK  FUER AUFMERKSAMKEIT</a:t>
            </a:r>
            <a:r>
              <a:rPr b="0" lang="en-US" sz="1200" spc="-1" strike="noStrike">
                <a:solidFill>
                  <a:srgbClr val="cc00ff"/>
                </a:solidFill>
                <a:latin typeface="FreeSetExtraCTT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E4CD-18F0-4953-BFC5-D942060761A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Calibri"/>
              </a:rPr>
              <a:t>Хроническое  заболе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цесс постоянного чередования периодов обострения симптомов и их временного отсутствия (ремиссий) при постоянно существующих вялотекущих патологических тканевых реак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4BF4-98ED-4783-82C6-E73F48F39879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Обострение  хроническ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ние тканевых патологических реакций (воспаление, дегенерация, их сочетание) с соответствующей клинической симптоматикой над местной иммунной защи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CC37-D380-47D0-BC55-E8686293ADC9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Реми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ние общей и местной иммунной защиты над развитием патологических тканевых ре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2B78-D91C-486B-978B-95E3E071E0F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alibri"/>
              </a:rPr>
              <a:t>Наиболее распространенные группы нозолог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заболевания дыхатель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заболевания цереброваскулярной и сердечно-сосудистой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заболевания суставов и позвоноч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клинические проявления метаболического синдр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онкологические процес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BB18-5277-4BC5-BF4F-1574EFCA5C99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alibri"/>
              </a:rPr>
              <a:t>Современный фон для развития хронических заболева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Клиническая манифестация синдрома соединительнотканной недостато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нарастания клеточной патологии периферической иммунной системы (СТ) у пациентов молодого</a:t>
            </a:r>
            <a:r>
              <a:rPr b="0" lang="ru-RU" sz="1200" spc="-1" strike="noStrike">
                <a:solidFill>
                  <a:srgbClr val="000000"/>
                </a:solidFill>
                <a:latin typeface="Antiqua-Bold"/>
              </a:rPr>
              <a:t> возраста и детей</a:t>
            </a:r>
            <a:r>
              <a:rPr b="0" lang="ru-RU" sz="1800" spc="-1" strike="noStrike">
                <a:solidFill>
                  <a:srgbClr val="000000"/>
                </a:solidFill>
                <a:latin typeface="Antiqua-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A757-31D6-428B-BF40-F16E24D45314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Times New Roman"/>
              </a:rPr>
              <a:t>Синдром соединительнотканной недостаточности (ССТкН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манифестация ССТкН: астенический тип телосложения,  синдром Эйлорса-Данлоса, плоскостопие, сколиотические изменения позвоночника,  заболевания крупных суставов в молодом возрасте, венозная недостаточность, большое количество половых инфекций, бесплодие, быстрая хронизация заболеваний на фоне соединительнотканного дефицит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4786-A3D9-48EE-AAFC-A9A8E45E322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4206-43B8-48E4-85E8-2DD40A51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8619-4DF1-4A22-BF7A-1EAC8B0F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D81-2C2D-41E5-9A23-FE0DDA08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587-642F-47CB-AF97-8401F03D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1785-9C80-43DA-BD31-8C81B69A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DABA-FF80-4A50-9B27-B4813DC7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B981-0632-4E9E-BED1-D3AAC56B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D3AB-F390-4818-9C0A-835D854F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7359-BC14-4C1C-BB44-89B7BAE0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7FAB-EDE0-41F4-A670-0CCDAA9E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0C47-7B36-454B-AE81-42596EC1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BE29-A714-439A-8FAF-C5D714E6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3435-8ECB-4436-BC32-62CA50AD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0392-BDB8-4932-857B-9CD0F58B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3188-0BD0-41F9-AE2C-16495F10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04D8-378D-4918-B4C5-9F52A34C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7C83-D9B9-4B23-BD3E-CB6D4355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71D-F7FA-47D4-979D-0A35E13C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B379-B18E-47A6-A492-F4B30AAF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B75-09A0-4281-8485-C1EA5008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31F9-8672-4979-BA1D-C34D421E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1A77-7052-41AF-A0B1-C065FBD5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7112-06A5-492A-ADB0-125FCBAD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9947-4930-40F2-9206-721C40DB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1F5E-1526-4AEF-9713-100B9FB437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40C6-B676-4DA9-AFA2-CF591F211D81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16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Антигомотоксическое сопровождение пациентов с хроническими заболеваниями в практике семейного врач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ntiqua-Bold"/>
              </a:rPr>
              <a:t>Т.Е.Белоусова</a:t>
            </a:r>
            <a:br>
              <a:rPr sz="3200"/>
            </a:br>
            <a:r>
              <a:rPr b="0" lang="ru-RU" sz="3200" spc="-1" strike="noStrike">
                <a:solidFill>
                  <a:srgbClr val="9933ff"/>
                </a:solidFill>
                <a:latin typeface="Antiqua-Bold"/>
              </a:rPr>
              <a:t>Нижегородская государственная медицинская академ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356760"/>
            <a:ext cx="8285040" cy="13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ff"/>
                </a:solidFill>
                <a:latin typeface="Verdana"/>
              </a:rPr>
              <a:t>Цели  реабилитационной терапи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0120" y="2180880"/>
            <a:ext cx="778176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Уменьшение числа обострений на единицу време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Уменьшение выраженности симптомов в период обостр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Полное восстановление очага -излечение (?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120" y="267840"/>
            <a:ext cx="7826400" cy="1103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33ff"/>
                </a:solidFill>
                <a:latin typeface="Verdana"/>
              </a:rPr>
              <a:t>Антигомотоксическая медицин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82640"/>
            <a:ext cx="8166240" cy="4284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Ограничение поступления гомотоксинов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внутрь клето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Дренажная и дезинтоксикационная терап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Активация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леточного 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метаболизм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органов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и ткан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Иммун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гуляция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 и иммуномодуляц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79280" y="0"/>
            <a:ext cx="863640" cy="6858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0" y="630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ОСНОВНЫЕ ПРИНЦИПЫ ТЕРАПИИ КОМПЛЕКСНЫМИ БИОЛОГИЧЕСКИМИ ПРЕПАРАТАМ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195640" y="2421000"/>
            <a:ext cx="460836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РЕГУЛЯЦИОН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ДЕЗИНТОКСИКАЦИОН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ДРЕНАЖ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АКТИВАЦИОН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39640" y="3357720"/>
            <a:ext cx="1871640" cy="1387080"/>
          </a:xfrm>
          <a:prstGeom prst="rect">
            <a:avLst/>
          </a:prstGeom>
          <a:solidFill>
            <a:srgbClr val="edfad2"/>
          </a:solidFill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Pragmatica"/>
              </a:rPr>
              <a:t>ОРГАННЫ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6588000" y="3284640"/>
            <a:ext cx="2232000" cy="1387080"/>
          </a:xfrm>
          <a:prstGeom prst="rect">
            <a:avLst/>
          </a:prstGeom>
          <a:solidFill>
            <a:srgbClr val="edfad2"/>
          </a:solidFill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Pragmatica"/>
              </a:rPr>
              <a:t>СИСТЕМНЫ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Line 7"/>
          <p:cNvSpPr/>
          <p:nvPr/>
        </p:nvSpPr>
        <p:spPr>
          <a:xfrm flipH="1">
            <a:off x="1908000" y="2637000"/>
            <a:ext cx="136872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5651640" y="2637000"/>
            <a:ext cx="136836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Line 9"/>
          <p:cNvSpPr/>
          <p:nvPr/>
        </p:nvSpPr>
        <p:spPr>
          <a:xfrm flipH="1" flipV="1">
            <a:off x="1835280" y="4869000"/>
            <a:ext cx="151272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Line 10"/>
          <p:cNvSpPr/>
          <p:nvPr/>
        </p:nvSpPr>
        <p:spPr>
          <a:xfrm flipV="1">
            <a:off x="5651640" y="4797360"/>
            <a:ext cx="158436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2410920" y="3645000"/>
            <a:ext cx="505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6084720" y="3645000"/>
            <a:ext cx="505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 flipH="1" flipV="1">
            <a:off x="2411280" y="4292640"/>
            <a:ext cx="1224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Line 14"/>
          <p:cNvSpPr/>
          <p:nvPr/>
        </p:nvSpPr>
        <p:spPr>
          <a:xfrm flipV="1">
            <a:off x="5292720" y="4292640"/>
            <a:ext cx="1224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7680" y="312840"/>
            <a:ext cx="8362800" cy="1533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Д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октор</a:t>
            </a: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 мед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ицины</a:t>
            </a: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 Ханс-Хайнрих Реккевег </a:t>
            </a:r>
            <a:br>
              <a:rPr sz="3200"/>
            </a:b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1905–1985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4800600" cy="34304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 flipV="1">
            <a:off x="179280" y="6858000"/>
            <a:ext cx="863640" cy="10008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Pragmatica"/>
              </a:rPr>
              <a:t>ТАБЛИЦА 6 ФАЗ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96920" y="1844640"/>
          <a:ext cx="8737560" cy="4719600"/>
        </p:xfrm>
        <a:graphic>
          <a:graphicData uri="http://schemas.openxmlformats.org/drawingml/2006/table">
            <a:tbl>
              <a:tblPr/>
              <a:tblGrid>
                <a:gridCol w="1307880"/>
                <a:gridCol w="887400"/>
                <a:gridCol w="617760"/>
                <a:gridCol w="307800"/>
                <a:gridCol w="1373400"/>
                <a:gridCol w="1319040"/>
                <a:gridCol w="1187640"/>
                <a:gridCol w="173664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экскре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еак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епонирова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мпрегна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егенера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Эктодер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Энтодер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Мезенхи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Мезодер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8" name="Text Box 39"/>
          <p:cNvSpPr/>
          <p:nvPr/>
        </p:nvSpPr>
        <p:spPr>
          <a:xfrm>
            <a:off x="2342520" y="1125360"/>
            <a:ext cx="17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ff"/>
                </a:solidFill>
                <a:latin typeface="Pragmatica"/>
              </a:rPr>
              <a:t>ГУМОРАЛЬНЫ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 Box 40"/>
          <p:cNvSpPr/>
          <p:nvPr/>
        </p:nvSpPr>
        <p:spPr>
          <a:xfrm>
            <a:off x="4641120" y="11253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ff"/>
                </a:solidFill>
                <a:latin typeface="Pragmatica"/>
              </a:rPr>
              <a:t>МАТРИЧНЫ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Text Box 41"/>
          <p:cNvSpPr/>
          <p:nvPr/>
        </p:nvSpPr>
        <p:spPr>
          <a:xfrm>
            <a:off x="6596280" y="112536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ff"/>
                </a:solidFill>
                <a:latin typeface="Pragmatica"/>
              </a:rPr>
              <a:t>КЛЕТОЧНЫ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42"/>
          <p:cNvSpPr/>
          <p:nvPr/>
        </p:nvSpPr>
        <p:spPr>
          <a:xfrm>
            <a:off x="2340000" y="1628640"/>
            <a:ext cx="1224000" cy="0"/>
          </a:xfrm>
          <a:prstGeom prst="line">
            <a:avLst/>
          </a:prstGeom>
          <a:ln w="19080">
            <a:solidFill>
              <a:srgbClr val="cc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43"/>
          <p:cNvSpPr/>
          <p:nvPr/>
        </p:nvSpPr>
        <p:spPr>
          <a:xfrm>
            <a:off x="7236000" y="1628640"/>
            <a:ext cx="1223640" cy="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Text Box 44"/>
          <p:cNvSpPr/>
          <p:nvPr/>
        </p:nvSpPr>
        <p:spPr>
          <a:xfrm>
            <a:off x="4846680" y="2936880"/>
            <a:ext cx="22860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Pragmatica"/>
              </a:rPr>
              <a:t>БИОЛОГИЧЕСКИЙ БАРЬЕР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Большая система защиты</a:t>
            </a:r>
            <a:br>
              <a:rPr sz="3200"/>
            </a:b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организма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РЭС (моноциты,  макрофаги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ередняя доля гипофиза-надпочечн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Нервно-рефлекторная защит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Дезинтоксикационная функция пече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Дезинтоксикационная функция С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3080"/>
            <a:ext cx="77724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33ff"/>
                </a:solidFill>
                <a:latin typeface="Verdana"/>
              </a:rPr>
              <a:t>Комплексные антигомотоксические препараты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05176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Рецептуры на основе многолетней реперторизац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Сокращение времени на поиск монопрепаратов согласно принципу подоб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Могут назначаться по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линическим </a:t>
            </a: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показания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Действуют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на патогенетические механизм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пособствуют в</a:t>
            </a: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ыв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едению</a:t>
            </a: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 токсин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Компенсируют вызванные токсинами поражения в организм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(регенерационный механизм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23480" cy="957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Комплексные </a:t>
            </a:r>
            <a:r>
              <a:rPr b="1" lang="ru-RU" sz="4000" spc="-1" strike="noStrike">
                <a:solidFill>
                  <a:srgbClr val="9933ff"/>
                </a:solidFill>
                <a:latin typeface="Arial"/>
              </a:rPr>
              <a:t>АГТ </a:t>
            </a: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препарат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487520"/>
            <a:ext cx="8204400" cy="4602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90520" indent="-290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Принцип Бюрги: 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</a:t>
            </a: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есколько веществ, направленных на один симптом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) с</a:t>
            </a: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уммируются в своем действии, если направлены в одну точ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) п</a:t>
            </a: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отенцируются, если действуют на разные точки прилож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681120" indent="0">
              <a:spcBef>
                <a:spcPts val="7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16524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Композит -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96516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Это комплексное лекарственное средство, в состав которого входят классические гомеопатические компоненты,   суисорганные препараты, нозоды, ферменты дыхательного цикла клетки,витамины, гомеопатизированные аллопатические средства (антибиотики,гормоны,цитостатики), токсины, необходимые для санации определенного органа или ткани организма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179280" y="0"/>
            <a:ext cx="863640" cy="6858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476360" y="630360"/>
            <a:ext cx="597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403280" y="1851120"/>
            <a:ext cx="7056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Pragmatica"/>
              </a:rPr>
              <a:t>ГОМАККОРД</a:t>
            </a:r>
            <a:r>
              <a:rPr b="1" lang="ru-RU" sz="1800" spc="-1" strike="noStrike">
                <a:solidFill>
                  <a:srgbClr val="9933ff"/>
                </a:solidFill>
                <a:latin typeface="Pragmatica"/>
              </a:rPr>
              <a:t> -</a:t>
            </a:r>
            <a:r>
              <a:rPr b="1" lang="ru-RU" sz="1800" spc="-1" strike="noStrike">
                <a:solidFill>
                  <a:srgbClr val="006699"/>
                </a:solidFill>
                <a:latin typeface="Pragmatica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Pragmatica"/>
              </a:rPr>
              <a:t>это комплексное антигомотоксическое средство, каждый компонент которого представлен как в низких, так и в высоких разведениях (аккорд потенций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600" y="304920"/>
            <a:ext cx="7937280" cy="109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ff"/>
                </a:solidFill>
                <a:latin typeface="Times New Roman"/>
              </a:rPr>
              <a:t>Деятельность семейного врач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28240" y="153648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merican-Uncial-Normal"/>
              </a:rPr>
              <a:t>Цель: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высокий уровень качества жизни наблюдаемых пациент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American-Uncial-Normal"/>
              </a:rPr>
              <a:t>Технологии</a:t>
            </a:r>
            <a:r>
              <a:rPr b="1" lang="ru-RU" sz="3200" spc="-1" strike="noStrike">
                <a:solidFill>
                  <a:srgbClr val="f2dffd"/>
                </a:solidFill>
                <a:latin typeface="American-Uncial-Normal"/>
              </a:rPr>
              <a:t>: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лечебный стандарт, физиотерапевтичекие и натуропатические технолог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merican-Uncial-Normal"/>
              </a:rPr>
              <a:t>Клинические эффекты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-купирование симптомов заболевания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-восстановление нейро-эндокринной и иммунной защты организм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6720" y="196560"/>
            <a:ext cx="842976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Биологическое значение АГТ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95200" y="1116000"/>
            <a:ext cx="85456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Возможность эффективной терапии в бессимптомные периоды заболеваний: доклинический и постклиничес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Реализация принципа обратимости патоморфо-функциональных нарушений в органах и тканях после перенесенного заболевания (регенерационный и протекторный тканевые эффекты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Профилактика развития заболеван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Verdana"/>
              </a:rPr>
              <a:t>Лечебная стратег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ериод обострений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андарты ОМС на фоне антигомотоксической терапии в режиме инициирующей терапии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нний и отсроченные восстановительные периоды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ГТ терапия в режиме долгосрочной терап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0" y="-27000"/>
            <a:ext cx="863640" cy="6885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          </a:t>
            </a: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РЕЖИМ ИНИЦИИРУЮЩИЙ ТЕРАП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1116000" y="2924280"/>
            <a:ext cx="504720" cy="358560"/>
            <a:chOff x="1116000" y="2924280"/>
            <a:chExt cx="504720" cy="358560"/>
          </a:xfrm>
        </p:grpSpPr>
        <p:sp>
          <p:nvSpPr>
            <p:cNvPr id="260" name="Oval 5"/>
            <p:cNvSpPr/>
            <p:nvPr/>
          </p:nvSpPr>
          <p:spPr>
            <a:xfrm>
              <a:off x="1116000" y="2924280"/>
              <a:ext cx="360360" cy="35856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1" name="Oval 6"/>
            <p:cNvSpPr/>
            <p:nvPr/>
          </p:nvSpPr>
          <p:spPr>
            <a:xfrm>
              <a:off x="1260360" y="2924280"/>
              <a:ext cx="360360" cy="35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62" name="Text Box 7"/>
          <p:cNvSpPr/>
          <p:nvPr/>
        </p:nvSpPr>
        <p:spPr>
          <a:xfrm>
            <a:off x="1476360" y="134136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Pragmatica"/>
              </a:rPr>
              <a:t>(острые заболевания, стадия обострения хронической патологии)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835280" y="2852640"/>
            <a:ext cx="6481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зовая доза препарата через 15 минут кажды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2 час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створы для инъекций – ежедневно в</a:t>
            </a:r>
            <a:r>
              <a:rPr b="1" lang="en-US" sz="2000" spc="-1" strike="noStrike">
                <a:solidFill>
                  <a:srgbClr val="006699"/>
                </a:solidFill>
                <a:latin typeface="Pragmatica"/>
              </a:rPr>
              <a:t>/</a:t>
            </a: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м ил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п</a:t>
            </a:r>
            <a:r>
              <a:rPr b="1" lang="en-US" sz="2000" spc="-1" strike="noStrike">
                <a:solidFill>
                  <a:srgbClr val="006699"/>
                </a:solidFill>
                <a:latin typeface="Pragmatica"/>
              </a:rPr>
              <a:t>/</a:t>
            </a: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к( в тяжелых случаях -  до 2-3 раз в день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64" name="Group 9"/>
          <p:cNvGrpSpPr/>
          <p:nvPr/>
        </p:nvGrpSpPr>
        <p:grpSpPr>
          <a:xfrm>
            <a:off x="1116000" y="4149720"/>
            <a:ext cx="504720" cy="358920"/>
            <a:chOff x="1116000" y="4149720"/>
            <a:chExt cx="504720" cy="358920"/>
          </a:xfrm>
        </p:grpSpPr>
        <p:sp>
          <p:nvSpPr>
            <p:cNvPr id="265" name="Oval 10"/>
            <p:cNvSpPr/>
            <p:nvPr/>
          </p:nvSpPr>
          <p:spPr>
            <a:xfrm>
              <a:off x="1116000" y="4149720"/>
              <a:ext cx="360360" cy="35892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6" name="Oval 11"/>
            <p:cNvSpPr/>
            <p:nvPr/>
          </p:nvSpPr>
          <p:spPr>
            <a:xfrm>
              <a:off x="1260360" y="4149720"/>
              <a:ext cx="360360" cy="35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863640" cy="6858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Pragmatica"/>
              </a:rPr>
              <a:t>          </a:t>
            </a: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РЕЖИМ ДОЛГОВРЕМЕННОЙ ТЕРАП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1204920" y="3241800"/>
            <a:ext cx="504720" cy="358560"/>
            <a:chOff x="1204920" y="3241800"/>
            <a:chExt cx="504720" cy="358560"/>
          </a:xfrm>
        </p:grpSpPr>
        <p:sp>
          <p:nvSpPr>
            <p:cNvPr id="271" name="Oval 5"/>
            <p:cNvSpPr/>
            <p:nvPr/>
          </p:nvSpPr>
          <p:spPr>
            <a:xfrm>
              <a:off x="1204920" y="3241800"/>
              <a:ext cx="360360" cy="35856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2" name="Oval 6"/>
            <p:cNvSpPr/>
            <p:nvPr/>
          </p:nvSpPr>
          <p:spPr>
            <a:xfrm>
              <a:off x="1349280" y="3241800"/>
              <a:ext cx="360360" cy="35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73" name="Text Box 7"/>
          <p:cNvSpPr/>
          <p:nvPr/>
        </p:nvSpPr>
        <p:spPr>
          <a:xfrm>
            <a:off x="1476360" y="134136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Pragmatica"/>
              </a:rPr>
              <a:t>(стихающее обострение, ранний и отсроченный восстановительный периоды, период ремиссии, противорецидивное лечение)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835280" y="3246480"/>
            <a:ext cx="698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зовая доза препарата - в 3-х разовом режиме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(10 кап. или 1 табл.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створы для инъекций – 1-2 раза в недел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75" name="Group 9"/>
          <p:cNvGrpSpPr/>
          <p:nvPr/>
        </p:nvGrpSpPr>
        <p:grpSpPr>
          <a:xfrm>
            <a:off x="1281240" y="4657680"/>
            <a:ext cx="504720" cy="358920"/>
            <a:chOff x="1281240" y="4657680"/>
            <a:chExt cx="504720" cy="358920"/>
          </a:xfrm>
        </p:grpSpPr>
        <p:sp>
          <p:nvSpPr>
            <p:cNvPr id="276" name="Oval 10"/>
            <p:cNvSpPr/>
            <p:nvPr/>
          </p:nvSpPr>
          <p:spPr>
            <a:xfrm>
              <a:off x="1281240" y="4657680"/>
              <a:ext cx="360360" cy="35892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7" name="Oval 11"/>
            <p:cNvSpPr/>
            <p:nvPr/>
          </p:nvSpPr>
          <p:spPr>
            <a:xfrm>
              <a:off x="1425600" y="4657680"/>
              <a:ext cx="360360" cy="35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5560" y="448920"/>
            <a:ext cx="6435720" cy="22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Antiqua-Bold"/>
              </a:rPr>
              <a:t>КРИТЕРИИ ЭФФЕКТИВНОСТИ</a:t>
            </a:r>
            <a:br>
              <a:rPr sz="3600"/>
            </a:br>
            <a:r>
              <a:rPr b="0" lang="ru-RU" sz="3600" spc="-1" strike="noStrike">
                <a:solidFill>
                  <a:srgbClr val="9933ff"/>
                </a:solidFill>
                <a:latin typeface="Antiqua-Bold"/>
              </a:rPr>
              <a:t>  антигомотоксической терапи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712600"/>
            <a:ext cx="822960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упирование симптомов заболева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кращение сроков леч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тсутствие побочных реакций и осложнени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вышение качества жизни (самочувствие, активность, настроение, сон, аппетит, трудоспособность)на период от 6 до 18 месяце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0" y="314280"/>
            <a:ext cx="8244000" cy="20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Verdana"/>
              </a:rPr>
              <a:t>Тканевые и клеточные эффекты антигомотоксической терапи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3190680"/>
            <a:ext cx="8229600" cy="33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генерацион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канеопротектор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рофикостимулирующ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истеморегулирующ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ммуно- и эндокрино-регуляцион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Verdana"/>
              </a:rPr>
              <a:t>Наши наблюдения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75880"/>
            <a:ext cx="822960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435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пациентов из 1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42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семей, наблюдаемых по поводу различных хронических заболеваний в течение 5-7 л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Мамы в возрасте от 24 до 38 лет с детьми в возрасте до 14 лет с заболеваниями нервной системы и аллергическими заболеваниями  на фоне ССТк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Контрольные групп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1124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</a:rPr>
              <a:t>314 пациентов с аналогичными заболеваниями для каждой основной группы наблюдений с использованием только стандартных терапевтических подходо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Методы контроля клинической  эффектив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ценка клинической картины заболевания, длительности периода обострения , выраженности симптомов, частоты обострений заболеваний в течение год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тандартные виды диагности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Методы электропунктурной диагности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ценка по шкале САН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ценка качества жизни по шкалам и опросника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Times New Roman"/>
              </a:rPr>
              <a:t>Критерии клинической эффективност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сроки купирования симптомов заболева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ормализация клинических и параклинических параметров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ормализация  электропроводности в точках акупунктуры (ТА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ачество жиз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03040"/>
            <a:ext cx="6870600" cy="22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Особенности заболеваний в семейной медицин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3112920"/>
            <a:ext cx="822960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Вялотекущий характер хронических процессов  с обострениями умеренной степен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выраженност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363600"/>
            <a:ext cx="824400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Times New Roman"/>
              </a:rPr>
              <a:t>ОРЗ и хронические заболевания бронхолегочной систем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*Энгистол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Engysto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Галиум-х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Galium-hee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Бронхалис-х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(Bronchalis-hee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Мукоза композитум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Mucosa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Эхинацея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Echinacea compositum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 Эуфорбиум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Euphorbium compositum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*НЧМСТ, аэроионоингаляционная терапия, пунктурная электротерап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*точечный массаж, дыхательная гимнасти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79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7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(в группе контроля - 4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7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%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1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Times New Roman"/>
              </a:rPr>
              <a:t>Аллергоз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5548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алиум-хеель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(Galium-heel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Лимфомиозот (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Lymphomiozot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псоринохеель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(Psorinoheel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кутис композитум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Cutis cjmpositum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мукоза композитум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(Mucosa compositum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Люффель (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Luffel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ЧМСТ, направленная аэроионотерапия, рефлексотерапия, точечный массаж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2-3 курсов терапии в течение 1-2 лет составляет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77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%(в группе контроля - 3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9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6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%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8240" y="-360"/>
            <a:ext cx="8086680" cy="16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Последствия перинатальных энцефалопатий, ДЦП, </a:t>
            </a:r>
            <a:br>
              <a:rPr sz="3600"/>
            </a:b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НФ НКГМ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25480"/>
            <a:ext cx="84708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Церебрум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Cerebrum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Траумеель С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Traumeel S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Коэнзим композитум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Coensym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Убихинон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Ubihinon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Вертигохе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Vertigoheel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Спигелон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Spigelon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паскупреель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Spascupreel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, Нервохеель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Nervohee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Валериана-х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Valeriana-heel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рефлексотерапия, гомеосиниатрия, полисенсорная релаксац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3-4 курсов терапии в течение 1,5-3 лет составляет 78,9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(в группе контроля - 54,5%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96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Нарушения осанки  Заболевания суставов и позвоночник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2480760"/>
            <a:ext cx="8229600" cy="35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*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Траумеель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С (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Traumeel S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), Цель Т(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Zeel T )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, Дискус композитум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(Discus compositum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Рефлексотерапия, гомеосиниатри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НЧЭТ, НЧМСТ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сегментарный  и точечный массаж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щадящее вытяжен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79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,2%(в группе контроля - 5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,7%)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4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Принципы терап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885600"/>
            <a:ext cx="769608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Индивидуально разработанные схемы лечения по результатам стандартной и биофизической диагнос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Ежемесячная коррекция схем лечения  на основе повторных стандартной и биофизической диагнос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Повторные лечебные курсы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Вывод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рименение системной  антигомотоксической терапии в комплекном лечении и реабилитации в семейной медицине приводи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1) к достоверному уменьшению количества обострений и их продолжительности в течение года, уменьшению выраженности симптомов заболевания   в среднем на 83,9%  (в контроле- в 45,8%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2) повышению качества жизни на 25-30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03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Terminator Cyr 4"/>
              </a:rPr>
              <a:t>Антигомотоксическая терап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2084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Tiff-Heavy"/>
              </a:rPr>
              <a:t>способствует нормализации структуры и функции основных жизнеобеспечивающих систем организма у часто болеющих пациентов и пациентов с хроническими заболеваниям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dffd"/>
                </a:solidFill>
                <a:latin typeface="Tiff-Heavy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Достоинства в педиатр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полноценное развитие нервной, эндокринной и иммунной систем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профилактика развития заболеваний другой локализ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высокое качество жизни и развития организма ребенк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Достоинства в терапии и гериатр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*замедление процессов преждевременного старения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*длительное сохранение трудоспособ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*профилактика нейрокардио-сосудистых и онкологических заболевани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6" descr="кремль"/>
          <p:cNvPicPr/>
          <p:nvPr/>
        </p:nvPicPr>
        <p:blipFill>
          <a:blip r:embed="rId1"/>
          <a:srcRect l="0" t="14860" r="0" b="3150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ярмарка"/>
          <p:cNvPicPr/>
          <p:nvPr/>
        </p:nvPicPr>
        <p:blipFill>
          <a:blip r:embed="rId2"/>
          <a:stretch/>
        </p:blipFill>
        <p:spPr>
          <a:xfrm>
            <a:off x="5386320" y="4248000"/>
            <a:ext cx="2970360" cy="1771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9"/>
          <p:cNvPicPr/>
          <p:nvPr/>
        </p:nvPicPr>
        <p:blipFill>
          <a:blip r:embed="rId3"/>
          <a:stretch/>
        </p:blipFill>
        <p:spPr>
          <a:xfrm>
            <a:off x="5591160" y="1969920"/>
            <a:ext cx="2598840" cy="1764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ff"/>
                </a:solidFill>
                <a:latin typeface="FreeSetExtraCTT"/>
              </a:rPr>
              <a:t>БЛАГОДАРЮ ЗА ВНИМАНИЕ! </a:t>
            </a:r>
            <a:br>
              <a:rPr sz="2900"/>
            </a:br>
            <a:r>
              <a:rPr b="1" lang="en-US" sz="2900" spc="-1" strike="noStrike">
                <a:solidFill>
                  <a:srgbClr val="cc00ff"/>
                </a:solidFill>
                <a:latin typeface="FreeSetExtraCTT"/>
              </a:rPr>
              <a:t>VIELEN  DANK  FUER AUFMERKSAMKEIT</a:t>
            </a:r>
            <a:r>
              <a:rPr b="0" lang="en-US" sz="2900" spc="-1" strike="noStrike">
                <a:solidFill>
                  <a:srgbClr val="cc00ff"/>
                </a:solidFill>
                <a:latin typeface="FreeSetExtraCTT"/>
              </a:rPr>
              <a:t>!</a:t>
            </a:r>
            <a:endParaRPr b="0" lang="en-US" sz="2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21888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Хроническое  заболевани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31720"/>
            <a:ext cx="680868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роцесс постоянного чередования периодов обострения симптомов и их временного отсутствия (ремиссий) при постоянно существующих вялотекущих патологических тканевых реакция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4" descr="j0234131"/>
          <p:cNvPicPr/>
          <p:nvPr/>
        </p:nvPicPr>
        <p:blipFill>
          <a:blip r:embed="rId1"/>
          <a:stretch/>
        </p:blipFill>
        <p:spPr>
          <a:xfrm>
            <a:off x="7257960" y="4889520"/>
            <a:ext cx="1487520" cy="156672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Обострение  хронических заболеван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обладание тканевых патологических реакций (воспаление, дегенерация, их сочетание) с соответствующей клинической симптоматикой над местной иммунной защит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Ремисс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обладание общей и местной иммунной защиты над развитием патологических тканевых реакц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Наиболее распространенные группы нозологий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заболевания дыхательной систем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заболевания цереброваскулярной и сердечно-сосудистой систе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заболевания суставов и позвоночни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клинические проявления метаболического синдром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онкологические процессы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3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Современный фон для развития хронических заболеваний 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5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Клиническая манифестация синдрома соединительнотканной недостаточности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55000"/>
              </a:lnSpc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Проблема нарастания клеточной патологии периферической иммунной системы (СТ) у пациентов молодого</a:t>
            </a:r>
            <a:r>
              <a:rPr b="0" lang="ru-RU" sz="2400" spc="-1" strike="noStrike">
                <a:solidFill>
                  <a:srgbClr val="006699"/>
                </a:solidFill>
                <a:latin typeface="Antiqua-Bold"/>
              </a:rPr>
              <a:t> возраста и детей</a:t>
            </a:r>
            <a:r>
              <a:rPr b="0" lang="ru-RU" sz="3600" spc="-1" strike="noStrike">
                <a:solidFill>
                  <a:srgbClr val="006699"/>
                </a:solidFill>
                <a:latin typeface="Antiqua-Bold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Синдром соединительнотканной недостаточности (ССТкН)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2156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линическая манифестация ССТкН: астенический тип телосложения,  синдром Эйлорса-Данлоса, плоскостопие, сколиотические изменения позвоночника,  заболевания крупных суставов в молодом возрасте, венозная недостаточность, большое количество половых инфекций, бесплодие, быстрая хронизация заболеваний на фоне соединительнотканного дефицита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2:42:29Z</dcterms:created>
  <dc:creator>shevnin</dc:creator>
  <dc:description/>
  <dc:language>en-US</dc:language>
  <cp:lastModifiedBy>LEGION</cp:lastModifiedBy>
  <dcterms:modified xsi:type="dcterms:W3CDTF">2014-11-07T11:07:48Z</dcterms:modified>
  <cp:revision>22</cp:revision>
  <dc:subject/>
  <dc:title>Системный подход и оздоровительные технологии в деятельности врачей общей практики</dc:title>
</cp:coreProperties>
</file>