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0AA0-42CE-49C5-A595-DD2EF0EC4B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52FD-BB4D-477D-8034-393971391B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FFF8-85A8-47E1-8E78-E778533E75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61CA-5042-44E2-B2E7-07E582323E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ACB-DEE1-4E7E-A1CF-1CAE4E1426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+3Сукцессия: «захват» территории древесной расти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EF3-BAC7-4FC1-A090-E7780E1379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ru-RU" sz="12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79F0-382E-44C0-9514-6B7E3E2D25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B06F-ED59-4250-AE04-68259A4E22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3B31-920E-4922-8854-4AF8672742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E3A-8DBF-4D6D-A3B6-9D528F99B7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9366-D349-4AE9-8FC0-9AB2F44A37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1E3-ECE0-46E6-BF32-E300B57BDC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7CBA-58E5-4524-A846-E23D0B7882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F4D3-A8D9-442B-B912-96079B56CB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0300-AE5D-44FA-86C2-AC28B184EC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40F5-86A0-49B7-9188-C394CF7782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C8A9-1136-4857-909F-A00F922987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9C4C-1A7E-40EE-B506-53CFCD813D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640-F7B7-44B0-91A4-A9D1C34923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F90-8E38-43F6-A991-0B49C43E97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7AB3-30DF-46A7-BD0E-26A10C4F87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9F7-317D-420E-A72F-C1CB678530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кл фосфор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4C89-1A4D-494C-95C4-A5CBE60D39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EC1A-24EF-4B2A-B42D-A8C95F1951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164-3DDF-48B2-8C4E-AB5AC942F0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7837-A54A-43EC-A97D-8AE0D45F3B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82F9-7264-4CBB-9498-3F17F511E2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74AE-61A5-4ACD-A963-EB023DBC52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EF56-BEAB-4261-899D-75F3F6D7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D14-5390-4C1E-9C52-607721F7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35A-9E0F-4B4C-BCDF-56BAAEA4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398-FDC0-4D44-8785-44DB9391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E2C-6578-4AF2-A23A-87CC88EA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24C-F9C7-4EF2-93D2-E388ACC9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412-2D87-4857-BB54-FC412574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FEC-FA51-4FCE-94D9-3987B2DB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8EA-01D1-4EA5-BDAC-184FDAFC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D1D-9CE6-49B2-BA28-70B7406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DA0-04B7-4BB0-B26C-F9656C0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B42-544E-4F2F-8484-C13D388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E829-F6FC-4B50-BF5A-836EB6AA3B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Биогеоце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косистема и биоге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9280" y="220284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систе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935г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греч. oikos - жилище, местопребывание и systema - сочетание, объединение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овокупность всех популяций разных биологических видов, проживающих на общей территории вместе с окружающей их неживо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79280" y="4291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геоценоз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1942г) - участок территории однородный по экологическим условиям и занятый одним биоцено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8920" y="1268280"/>
            <a:ext cx="8713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ые сукцесси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укцессии на территориях, впервые осваиваемых организм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ообщество развивается на месте, где ранее существовала хорошо развитая экосистем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39640" y="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экологических сукцесс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342520" y="661320"/>
            <a:ext cx="41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о характеру биото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73040" y="2996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По заключительной стад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9280" y="3714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0000" indent="-2700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есс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существовавшее на данном месте коренное биотическое сообщество, которое по каким либо причинам было удалено (вырубка) полностью восстанавл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0920" y="527076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рессивн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завершаются конечным климаксом, коренная экосистема полностью исчезает (напр. опустынива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7272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 причинам, вызывающим сукцесс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3240" y="979920"/>
            <a:ext cx="90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действием внешних факто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71600" y="1482120"/>
            <a:ext cx="285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мат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ологичес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ропоге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0920" y="3211560"/>
            <a:ext cx="743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генные сукце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вязаны с внутренними процессами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199600" y="4004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ы экологических сукцесс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95280" y="4508640"/>
            <a:ext cx="8208720" cy="2160000"/>
            <a:chOff x="395280" y="4508640"/>
            <a:chExt cx="8208720" cy="2160000"/>
          </a:xfrm>
        </p:grpSpPr>
        <p:grpSp>
          <p:nvGrpSpPr>
            <p:cNvPr id="147" name="Group 9"/>
            <p:cNvGrpSpPr/>
            <p:nvPr/>
          </p:nvGrpSpPr>
          <p:grpSpPr>
            <a:xfrm>
              <a:off x="395280" y="4508640"/>
              <a:ext cx="8208720" cy="2160000"/>
              <a:chOff x="395280" y="4508640"/>
              <a:chExt cx="8208720" cy="2160000"/>
            </a:xfrm>
          </p:grpSpPr>
          <p:grpSp>
            <p:nvGrpSpPr>
              <p:cNvPr id="148" name="Group 10"/>
              <p:cNvGrpSpPr/>
              <p:nvPr/>
            </p:nvGrpSpPr>
            <p:grpSpPr>
              <a:xfrm>
                <a:off x="395280" y="4508640"/>
                <a:ext cx="8208720" cy="2160000"/>
                <a:chOff x="395280" y="4508640"/>
                <a:chExt cx="8208720" cy="2160000"/>
              </a:xfrm>
            </p:grpSpPr>
            <p:grpSp>
              <p:nvGrpSpPr>
                <p:cNvPr id="149" name="Group 11"/>
                <p:cNvGrpSpPr/>
                <p:nvPr/>
              </p:nvGrpSpPr>
              <p:grpSpPr>
                <a:xfrm>
                  <a:off x="395280" y="4508640"/>
                  <a:ext cx="8208720" cy="2160000"/>
                  <a:chOff x="395280" y="4508640"/>
                  <a:chExt cx="8208720" cy="2160000"/>
                </a:xfrm>
              </p:grpSpPr>
              <p:grpSp>
                <p:nvGrpSpPr>
                  <p:cNvPr id="150" name="Group 12"/>
                  <p:cNvGrpSpPr/>
                  <p:nvPr/>
                </p:nvGrpSpPr>
                <p:grpSpPr>
                  <a:xfrm>
                    <a:off x="395280" y="4508640"/>
                    <a:ext cx="8208720" cy="2160000"/>
                    <a:chOff x="395280" y="4508640"/>
                    <a:chExt cx="8208720" cy="2160000"/>
                  </a:xfrm>
                </p:grpSpPr>
                <p:grpSp>
                  <p:nvGrpSpPr>
                    <p:cNvPr id="151" name="Group 13"/>
                    <p:cNvGrpSpPr/>
                    <p:nvPr/>
                  </p:nvGrpSpPr>
                  <p:grpSpPr>
                    <a:xfrm>
                      <a:off x="395280" y="4508640"/>
                      <a:ext cx="8208720" cy="860760"/>
                      <a:chOff x="395280" y="4508640"/>
                      <a:chExt cx="8208720" cy="860760"/>
                    </a:xfrm>
                  </p:grpSpPr>
                  <p:grpSp>
                    <p:nvGrpSpPr>
                      <p:cNvPr id="152" name="Group 14"/>
                      <p:cNvGrpSpPr/>
                      <p:nvPr/>
                    </p:nvGrpSpPr>
                    <p:grpSpPr>
                      <a:xfrm>
                        <a:off x="395280" y="4508640"/>
                        <a:ext cx="4432320" cy="860760"/>
                        <a:chOff x="395280" y="4508640"/>
                        <a:chExt cx="4432320" cy="860760"/>
                      </a:xfrm>
                    </p:grpSpPr>
                    <p:grpSp>
                      <p:nvGrpSpPr>
                        <p:cNvPr id="153" name="Group 15"/>
                        <p:cNvGrpSpPr/>
                        <p:nvPr/>
                      </p:nvGrpSpPr>
                      <p:grpSpPr>
                        <a:xfrm>
                          <a:off x="395280" y="4508640"/>
                          <a:ext cx="3283560" cy="860760"/>
                          <a:chOff x="395280" y="4508640"/>
                          <a:chExt cx="3283560" cy="860760"/>
                        </a:xfrm>
                      </p:grpSpPr>
                      <p:sp>
                        <p:nvSpPr>
                          <p:cNvPr id="154" name="Text Box 16"/>
                          <p:cNvSpPr/>
                          <p:nvPr/>
                        </p:nvSpPr>
                        <p:spPr>
                          <a:xfrm>
                            <a:off x="395280" y="4508640"/>
                            <a:ext cx="2298600" cy="860760"/>
                          </a:xfrm>
                          <a:prstGeom prst="rect">
                            <a:avLst/>
                          </a:prstGeom>
                          <a:noFill/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Ельник черничник (возраст 100-120 лет)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5" name="Line 17"/>
                          <p:cNvSpPr/>
                          <p:nvPr/>
                        </p:nvSpPr>
                        <p:spPr>
                          <a:xfrm>
                            <a:off x="2693880" y="4881960"/>
                            <a:ext cx="82044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6" name="Text Box 18"/>
                          <p:cNvSpPr/>
                          <p:nvPr/>
                        </p:nvSpPr>
                        <p:spPr>
                          <a:xfrm>
                            <a:off x="2693880" y="4557240"/>
                            <a:ext cx="984960" cy="487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убка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Text Box 19"/>
                        <p:cNvSpPr/>
                        <p:nvPr/>
                      </p:nvSpPr>
                      <p:spPr>
                        <a:xfrm>
                          <a:off x="3514320" y="4557240"/>
                          <a:ext cx="131328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злаковая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8" name="Group 20"/>
                      <p:cNvGrpSpPr/>
                      <p:nvPr/>
                    </p:nvGrpSpPr>
                    <p:grpSpPr>
                      <a:xfrm>
                        <a:off x="4827960" y="4557240"/>
                        <a:ext cx="3776040" cy="812160"/>
                        <a:chOff x="4827960" y="4557240"/>
                        <a:chExt cx="3776040" cy="812160"/>
                      </a:xfrm>
                    </p:grpSpPr>
                    <p:sp>
                      <p:nvSpPr>
                        <p:cNvPr id="159" name="Line 21"/>
                        <p:cNvSpPr/>
                        <p:nvPr/>
                      </p:nvSpPr>
                      <p:spPr>
                        <a:xfrm>
                          <a:off x="4827960" y="4881960"/>
                          <a:ext cx="65664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0" name="Text Box 22"/>
                        <p:cNvSpPr/>
                        <p:nvPr/>
                      </p:nvSpPr>
                      <p:spPr>
                        <a:xfrm>
                          <a:off x="5484600" y="4557240"/>
                          <a:ext cx="3119400" cy="81216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Вырубка с порослью и всходами лиственных пород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61" name="Line 23"/>
                    <p:cNvSpPr/>
                    <p:nvPr/>
                  </p:nvSpPr>
                  <p:spPr>
                    <a:xfrm>
                      <a:off x="6962400" y="5366520"/>
                      <a:ext cx="0" cy="64944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Text Box 24"/>
                    <p:cNvSpPr/>
                    <p:nvPr/>
                  </p:nvSpPr>
                  <p:spPr>
                    <a:xfrm>
                      <a:off x="5484600" y="6019200"/>
                      <a:ext cx="3119400" cy="64944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ой лиственный лес со всходами хвойных п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" name="Line 25"/>
                  <p:cNvSpPr/>
                  <p:nvPr/>
                </p:nvSpPr>
                <p:spPr>
                  <a:xfrm flipH="1">
                    <a:off x="4992120" y="6343920"/>
                    <a:ext cx="4924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Text Box 26"/>
                <p:cNvSpPr/>
                <p:nvPr/>
              </p:nvSpPr>
              <p:spPr>
                <a:xfrm>
                  <a:off x="2365200" y="6019200"/>
                  <a:ext cx="2626920" cy="649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Спелый лиственный лес с подростом хвойных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27"/>
              <p:cNvSpPr/>
              <p:nvPr/>
            </p:nvSpPr>
            <p:spPr>
              <a:xfrm flipH="1">
                <a:off x="2036520" y="6343920"/>
                <a:ext cx="32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28"/>
            <p:cNvSpPr/>
            <p:nvPr/>
          </p:nvSpPr>
          <p:spPr>
            <a:xfrm>
              <a:off x="395280" y="6019200"/>
              <a:ext cx="1641600" cy="6494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Хвойный ле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укцессия: «захват» территории древесной растительностью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" descr="№1"/>
          <p:cNvPicPr/>
          <p:nvPr/>
        </p:nvPicPr>
        <p:blipFill>
          <a:blip r:embed="rId1"/>
          <a:stretch/>
        </p:blipFill>
        <p:spPr>
          <a:xfrm>
            <a:off x="108000" y="1557360"/>
            <a:ext cx="4464000" cy="2959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№3(лучше)"/>
          <p:cNvPicPr/>
          <p:nvPr/>
        </p:nvPicPr>
        <p:blipFill>
          <a:blip r:embed="rId2"/>
          <a:stretch/>
        </p:blipFill>
        <p:spPr>
          <a:xfrm>
            <a:off x="4643280" y="3716280"/>
            <a:ext cx="4391280" cy="2928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42b509"/>
                </a:solidFill>
                <a:latin typeface="Comic Sans MS"/>
              </a:rPr>
              <a:t>Климак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№6(лучше)"/>
          <p:cNvPicPr/>
          <p:nvPr/>
        </p:nvPicPr>
        <p:blipFill>
          <a:blip r:embed="rId1"/>
          <a:stretch/>
        </p:blipFill>
        <p:spPr>
          <a:xfrm>
            <a:off x="539640" y="1268280"/>
            <a:ext cx="3567240" cy="5327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№7(лучше)"/>
          <p:cNvPicPr/>
          <p:nvPr/>
        </p:nvPicPr>
        <p:blipFill>
          <a:blip r:embed="rId2"/>
          <a:stretch/>
        </p:blipFill>
        <p:spPr>
          <a:xfrm>
            <a:off x="5003640" y="1268280"/>
            <a:ext cx="3630600" cy="53276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179280" y="1197000"/>
            <a:ext cx="8569440" cy="3095280"/>
            <a:chOff x="179280" y="1197000"/>
            <a:chExt cx="8569440" cy="3095280"/>
          </a:xfrm>
        </p:grpSpPr>
        <p:grpSp>
          <p:nvGrpSpPr>
            <p:cNvPr id="177" name="Group 5"/>
            <p:cNvGrpSpPr/>
            <p:nvPr/>
          </p:nvGrpSpPr>
          <p:grpSpPr>
            <a:xfrm>
              <a:off x="179280" y="1197000"/>
              <a:ext cx="8569440" cy="3095280"/>
              <a:chOff x="179280" y="1197000"/>
              <a:chExt cx="8569440" cy="3095280"/>
            </a:xfrm>
          </p:grpSpPr>
          <p:grpSp>
            <p:nvGrpSpPr>
              <p:cNvPr id="178" name="Group 6"/>
              <p:cNvGrpSpPr/>
              <p:nvPr/>
            </p:nvGrpSpPr>
            <p:grpSpPr>
              <a:xfrm>
                <a:off x="179280" y="1197000"/>
                <a:ext cx="8569440" cy="3095280"/>
                <a:chOff x="179280" y="1197000"/>
                <a:chExt cx="8569440" cy="3095280"/>
              </a:xfrm>
            </p:grpSpPr>
            <p:grpSp>
              <p:nvGrpSpPr>
                <p:cNvPr id="179" name="Group 7"/>
                <p:cNvGrpSpPr/>
                <p:nvPr/>
              </p:nvGrpSpPr>
              <p:grpSpPr>
                <a:xfrm>
                  <a:off x="179280" y="1197000"/>
                  <a:ext cx="8569440" cy="3095280"/>
                  <a:chOff x="179280" y="1197000"/>
                  <a:chExt cx="8569440" cy="3095280"/>
                </a:xfrm>
              </p:grpSpPr>
              <p:grpSp>
                <p:nvGrpSpPr>
                  <p:cNvPr id="180" name="Group 8"/>
                  <p:cNvGrpSpPr/>
                  <p:nvPr/>
                </p:nvGrpSpPr>
                <p:grpSpPr>
                  <a:xfrm>
                    <a:off x="179280" y="1197000"/>
                    <a:ext cx="8569440" cy="3095280"/>
                    <a:chOff x="179280" y="1197000"/>
                    <a:chExt cx="8569440" cy="3095280"/>
                  </a:xfrm>
                </p:grpSpPr>
                <p:grpSp>
                  <p:nvGrpSpPr>
                    <p:cNvPr id="181" name="Group 9"/>
                    <p:cNvGrpSpPr/>
                    <p:nvPr/>
                  </p:nvGrpSpPr>
                  <p:grpSpPr>
                    <a:xfrm>
                      <a:off x="179280" y="1197000"/>
                      <a:ext cx="8569440" cy="3095280"/>
                      <a:chOff x="179280" y="1197000"/>
                      <a:chExt cx="8569440" cy="3095280"/>
                    </a:xfrm>
                  </p:grpSpPr>
                  <p:grpSp>
                    <p:nvGrpSpPr>
                      <p:cNvPr id="182" name="Group 10"/>
                      <p:cNvGrpSpPr/>
                      <p:nvPr/>
                    </p:nvGrpSpPr>
                    <p:grpSpPr>
                      <a:xfrm>
                        <a:off x="179280" y="1197000"/>
                        <a:ext cx="8566200" cy="2064960"/>
                        <a:chOff x="179280" y="1197000"/>
                        <a:chExt cx="8566200" cy="2064960"/>
                      </a:xfrm>
                    </p:grpSpPr>
                    <p:grpSp>
                      <p:nvGrpSpPr>
                        <p:cNvPr id="183" name="Group 11"/>
                        <p:cNvGrpSpPr/>
                        <p:nvPr/>
                      </p:nvGrpSpPr>
                      <p:grpSpPr>
                        <a:xfrm>
                          <a:off x="179280" y="1197000"/>
                          <a:ext cx="8566200" cy="1550160"/>
                          <a:chOff x="179280" y="1197000"/>
                          <a:chExt cx="8566200" cy="1550160"/>
                        </a:xfrm>
                      </p:grpSpPr>
                      <p:grpSp>
                        <p:nvGrpSpPr>
                          <p:cNvPr id="184" name="Group 12"/>
                          <p:cNvGrpSpPr/>
                          <p:nvPr/>
                        </p:nvGrpSpPr>
                        <p:grpSpPr>
                          <a:xfrm>
                            <a:off x="179280" y="1197000"/>
                            <a:ext cx="6234120" cy="1550160"/>
                            <a:chOff x="179280" y="1197000"/>
                            <a:chExt cx="6234120" cy="1550160"/>
                          </a:xfrm>
                        </p:grpSpPr>
                        <p:grpSp>
                          <p:nvGrpSpPr>
                            <p:cNvPr id="185" name="Group 13"/>
                            <p:cNvGrpSpPr/>
                            <p:nvPr/>
                          </p:nvGrpSpPr>
                          <p:grpSpPr>
                            <a:xfrm>
                              <a:off x="179280" y="1197000"/>
                              <a:ext cx="5567400" cy="1550160"/>
                              <a:chOff x="179280" y="1197000"/>
                              <a:chExt cx="5567400" cy="1550160"/>
                            </a:xfrm>
                          </p:grpSpPr>
                          <p:grpSp>
                            <p:nvGrpSpPr>
                              <p:cNvPr id="186" name="Group 14"/>
                              <p:cNvGrpSpPr/>
                              <p:nvPr/>
                            </p:nvGrpSpPr>
                            <p:grpSpPr>
                              <a:xfrm>
                                <a:off x="179280" y="1197000"/>
                                <a:ext cx="2568960" cy="1035360"/>
                                <a:chOff x="179280" y="1197000"/>
                                <a:chExt cx="2568960" cy="1035360"/>
                              </a:xfrm>
                            </p:grpSpPr>
                            <p:sp>
                              <p:nvSpPr>
                                <p:cNvPr id="187" name="Text Box 15"/>
                                <p:cNvSpPr/>
                                <p:nvPr/>
                              </p:nvSpPr>
                              <p:spPr>
                                <a:xfrm>
                                  <a:off x="179280" y="1197000"/>
                                  <a:ext cx="2069280" cy="10353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лиготрофный водоем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88" name="Line 16"/>
                                <p:cNvSpPr/>
                                <p:nvPr/>
                              </p:nvSpPr>
                              <p:spPr>
                                <a:xfrm>
                                  <a:off x="2248560" y="1717560"/>
                                  <a:ext cx="499680" cy="0"/>
                                </a:xfrm>
                                <a:prstGeom prst="line">
                                  <a:avLst/>
                                </a:prstGeom>
                                <a:ln w="255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89" name="Text Box 17"/>
                              <p:cNvSpPr/>
                              <p:nvPr/>
                            </p:nvSpPr>
                            <p:spPr>
                              <a:xfrm>
                                <a:off x="2748240" y="1202400"/>
                                <a:ext cx="2998440" cy="1544760"/>
                              </a:xfrm>
                              <a:prstGeom prst="rect">
                                <a:avLst/>
                              </a:prstGeom>
                              <a:noFill/>
                              <a:ln w="255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Внесение в воду фосфатов и нитратов органического происхождения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" name="Line 18"/>
                            <p:cNvSpPr/>
                            <p:nvPr/>
                          </p:nvSpPr>
                          <p:spPr>
                            <a:xfrm>
                              <a:off x="5747040" y="1717560"/>
                              <a:ext cx="666360" cy="0"/>
                            </a:xfrm>
                            <a:prstGeom prst="line">
                              <a:avLst/>
                            </a:prstGeom>
                            <a:ln w="255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91" name="Text Box 19"/>
                          <p:cNvSpPr/>
                          <p:nvPr/>
                        </p:nvSpPr>
                        <p:spPr>
                          <a:xfrm>
                            <a:off x="6413400" y="1202400"/>
                            <a:ext cx="2332080" cy="772200"/>
                          </a:xfrm>
                          <a:prstGeom prst="rect">
                            <a:avLst/>
                          </a:prstGeom>
                          <a:noFill/>
                          <a:ln w="255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ru-RU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Эвтрофный водоем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92" name="Line 20"/>
                        <p:cNvSpPr/>
                        <p:nvPr/>
                      </p:nvSpPr>
                      <p:spPr>
                        <a:xfrm>
                          <a:off x="7579800" y="1974600"/>
                          <a:ext cx="0" cy="128736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3" name="Text Box 21"/>
                      <p:cNvSpPr/>
                      <p:nvPr/>
                    </p:nvSpPr>
                    <p:spPr>
                      <a:xfrm>
                        <a:off x="6582960" y="3262320"/>
                        <a:ext cx="2165760" cy="1029960"/>
                      </a:xfrm>
                      <a:prstGeom prst="rect">
                        <a:avLst/>
                      </a:prstGeom>
                      <a:noFill/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Бурное развитие водорослей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4" name="Line 22"/>
                    <p:cNvSpPr/>
                    <p:nvPr/>
                  </p:nvSpPr>
                  <p:spPr>
                    <a:xfrm flipH="1">
                      <a:off x="5916240" y="3777480"/>
                      <a:ext cx="666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5" name="Text Box 23"/>
                  <p:cNvSpPr/>
                  <p:nvPr/>
                </p:nvSpPr>
                <p:spPr>
                  <a:xfrm>
                    <a:off x="4747320" y="3262320"/>
                    <a:ext cx="1166040" cy="1029960"/>
                  </a:xfrm>
                  <a:prstGeom prst="rect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олото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Line 24"/>
                <p:cNvSpPr/>
                <p:nvPr/>
              </p:nvSpPr>
              <p:spPr>
                <a:xfrm flipH="1">
                  <a:off x="4080600" y="3777480"/>
                  <a:ext cx="666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3414600" y="3262320"/>
                <a:ext cx="666360" cy="1029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Луг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26"/>
            <p:cNvSpPr/>
            <p:nvPr/>
          </p:nvSpPr>
          <p:spPr>
            <a:xfrm flipH="1">
              <a:off x="2747880" y="3777480"/>
              <a:ext cx="66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081880" y="3262320"/>
              <a:ext cx="666360" cy="1029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Лес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Text Box 2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сукцессии в водной экосистем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меостаз экосисте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08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меостаз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способность экосистемы сохранять состояние подвижного равновесия, не смотря на внешнее воздействи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79280" y="1989000"/>
            <a:ext cx="8675640" cy="4663800"/>
            <a:chOff x="179280" y="1989000"/>
            <a:chExt cx="8675640" cy="4663800"/>
          </a:xfrm>
        </p:grpSpPr>
        <p:grpSp>
          <p:nvGrpSpPr>
            <p:cNvPr id="205" name="Group 5"/>
            <p:cNvGrpSpPr/>
            <p:nvPr/>
          </p:nvGrpSpPr>
          <p:grpSpPr>
            <a:xfrm>
              <a:off x="1964160" y="1989000"/>
              <a:ext cx="5172120" cy="3917880"/>
              <a:chOff x="1964160" y="1989000"/>
              <a:chExt cx="5172120" cy="3917880"/>
            </a:xfrm>
          </p:grpSpPr>
          <p:grpSp>
            <p:nvGrpSpPr>
              <p:cNvPr id="206" name="Group 6"/>
              <p:cNvGrpSpPr/>
              <p:nvPr/>
            </p:nvGrpSpPr>
            <p:grpSpPr>
              <a:xfrm>
                <a:off x="1964160" y="1989000"/>
                <a:ext cx="5172120" cy="3917880"/>
                <a:chOff x="1964160" y="1989000"/>
                <a:chExt cx="5172120" cy="3917880"/>
              </a:xfrm>
            </p:grpSpPr>
            <p:sp>
              <p:nvSpPr>
                <p:cNvPr id="207" name="Text Box 7"/>
                <p:cNvSpPr/>
                <p:nvPr/>
              </p:nvSpPr>
              <p:spPr>
                <a:xfrm>
                  <a:off x="3015000" y="4414320"/>
                  <a:ext cx="333360" cy="55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8" name="Group 8"/>
                <p:cNvGrpSpPr/>
                <p:nvPr/>
              </p:nvGrpSpPr>
              <p:grpSpPr>
                <a:xfrm>
                  <a:off x="1964160" y="1989000"/>
                  <a:ext cx="5172120" cy="3917880"/>
                  <a:chOff x="1964160" y="1989000"/>
                  <a:chExt cx="5172120" cy="3917880"/>
                </a:xfrm>
              </p:grpSpPr>
              <p:sp>
                <p:nvSpPr>
                  <p:cNvPr id="209" name="Text Box 9"/>
                  <p:cNvSpPr/>
                  <p:nvPr/>
                </p:nvSpPr>
                <p:spPr>
                  <a:xfrm>
                    <a:off x="4516920" y="3481200"/>
                    <a:ext cx="333360" cy="55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0" name="Group 10"/>
                  <p:cNvGrpSpPr/>
                  <p:nvPr/>
                </p:nvGrpSpPr>
                <p:grpSpPr>
                  <a:xfrm>
                    <a:off x="1964160" y="1989000"/>
                    <a:ext cx="5172120" cy="3917880"/>
                    <a:chOff x="1964160" y="1989000"/>
                    <a:chExt cx="5172120" cy="3917880"/>
                  </a:xfrm>
                </p:grpSpPr>
                <p:grpSp>
                  <p:nvGrpSpPr>
                    <p:cNvPr id="211" name="Group 11"/>
                    <p:cNvGrpSpPr/>
                    <p:nvPr/>
                  </p:nvGrpSpPr>
                  <p:grpSpPr>
                    <a:xfrm>
                      <a:off x="1964160" y="1989000"/>
                      <a:ext cx="5172120" cy="3917880"/>
                      <a:chOff x="1964160" y="1989000"/>
                      <a:chExt cx="5172120" cy="3917880"/>
                    </a:xfrm>
                  </p:grpSpPr>
                  <p:grpSp>
                    <p:nvGrpSpPr>
                      <p:cNvPr id="212" name="Group 12"/>
                      <p:cNvGrpSpPr/>
                      <p:nvPr/>
                    </p:nvGrpSpPr>
                    <p:grpSpPr>
                      <a:xfrm>
                        <a:off x="1964160" y="1989000"/>
                        <a:ext cx="5172120" cy="3917880"/>
                        <a:chOff x="1964160" y="1989000"/>
                        <a:chExt cx="5172120" cy="3917880"/>
                      </a:xfrm>
                    </p:grpSpPr>
                    <p:grpSp>
                      <p:nvGrpSpPr>
                        <p:cNvPr id="213" name="Group 13"/>
                        <p:cNvGrpSpPr/>
                        <p:nvPr/>
                      </p:nvGrpSpPr>
                      <p:grpSpPr>
                        <a:xfrm>
                          <a:off x="1964160" y="1989000"/>
                          <a:ext cx="5005080" cy="3358080"/>
                          <a:chOff x="1964160" y="1989000"/>
                          <a:chExt cx="5005080" cy="3358080"/>
                        </a:xfrm>
                      </p:grpSpPr>
                      <p:grpSp>
                        <p:nvGrpSpPr>
                          <p:cNvPr id="214" name="Group 14"/>
                          <p:cNvGrpSpPr/>
                          <p:nvPr/>
                        </p:nvGrpSpPr>
                        <p:grpSpPr>
                          <a:xfrm>
                            <a:off x="2464560" y="1989000"/>
                            <a:ext cx="4504680" cy="3358080"/>
                            <a:chOff x="2464560" y="1989000"/>
                            <a:chExt cx="4504680" cy="3358080"/>
                          </a:xfrm>
                        </p:grpSpPr>
                        <p:sp>
                          <p:nvSpPr>
                            <p:cNvPr id="215" name="Line 15"/>
                            <p:cNvSpPr/>
                            <p:nvPr/>
                          </p:nvSpPr>
                          <p:spPr>
                            <a:xfrm flipV="1">
                              <a:off x="2464560" y="1989000"/>
                              <a:ext cx="0" cy="335808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16" name="Line 16"/>
                            <p:cNvSpPr/>
                            <p:nvPr/>
                          </p:nvSpPr>
                          <p:spPr>
                            <a:xfrm>
                              <a:off x="2464560" y="5347080"/>
                              <a:ext cx="450468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17" name="Text Box 17"/>
                          <p:cNvSpPr/>
                          <p:nvPr/>
                        </p:nvSpPr>
                        <p:spPr>
                          <a:xfrm>
                            <a:off x="1964160" y="1989000"/>
                            <a:ext cx="500400" cy="2611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 vert="eaVer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Состояние экосистемы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8" name="Text Box 18"/>
                        <p:cNvSpPr/>
                        <p:nvPr/>
                      </p:nvSpPr>
                      <p:spPr>
                        <a:xfrm>
                          <a:off x="4133160" y="5347080"/>
                          <a:ext cx="3003120" cy="5598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Интенсивность воздействия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" name="Line 19"/>
                      <p:cNvSpPr/>
                      <p:nvPr/>
                    </p:nvSpPr>
                    <p:spPr>
                      <a:xfrm flipV="1">
                        <a:off x="2464560" y="478728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Line 20"/>
                      <p:cNvSpPr/>
                      <p:nvPr/>
                    </p:nvSpPr>
                    <p:spPr>
                      <a:xfrm flipV="1">
                        <a:off x="3799440" y="404100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Line 21"/>
                      <p:cNvSpPr/>
                      <p:nvPr/>
                    </p:nvSpPr>
                    <p:spPr>
                      <a:xfrm flipV="1">
                        <a:off x="3966120" y="3854520"/>
                        <a:ext cx="1334520" cy="1864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Line 22"/>
                      <p:cNvSpPr/>
                      <p:nvPr/>
                    </p:nvSpPr>
                    <p:spPr>
                      <a:xfrm flipV="1">
                        <a:off x="5301000" y="3108240"/>
                        <a:ext cx="166680" cy="745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Line 23"/>
                      <p:cNvSpPr/>
                      <p:nvPr/>
                    </p:nvSpPr>
                    <p:spPr>
                      <a:xfrm flipV="1">
                        <a:off x="5468040" y="2921400"/>
                        <a:ext cx="1501200" cy="1861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4" name="Text Box 24"/>
                    <p:cNvSpPr/>
                    <p:nvPr/>
                  </p:nvSpPr>
                  <p:spPr>
                    <a:xfrm>
                      <a:off x="6185160" y="2548440"/>
                      <a:ext cx="333720" cy="55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5" name="Text Box 25"/>
              <p:cNvSpPr/>
              <p:nvPr/>
            </p:nvSpPr>
            <p:spPr>
              <a:xfrm>
                <a:off x="3849480" y="4227480"/>
                <a:ext cx="33336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Text Box 26"/>
              <p:cNvSpPr/>
              <p:nvPr/>
            </p:nvSpPr>
            <p:spPr>
              <a:xfrm>
                <a:off x="5350680" y="3294720"/>
                <a:ext cx="33372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Text Box 27"/>
            <p:cNvSpPr/>
            <p:nvPr/>
          </p:nvSpPr>
          <p:spPr>
            <a:xfrm>
              <a:off x="179280" y="5720040"/>
              <a:ext cx="867564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лияние внешних воздействий на гомеостаз экосистем. 1-3 гомеостатические плато; 4, 5 – гомеостатические скачк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ение о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надский В.И. (1926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ерхностная оболочка Земли, созданная и преобразуемая деятельностью живых организм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610560" y="1051560"/>
            <a:ext cx="70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ан БатистЛамарк (1744-1783г) – термин биосф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2704680" y="31410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ение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024"/>
          <p:cNvSpPr/>
          <p:nvPr/>
        </p:nvSpPr>
        <p:spPr>
          <a:xfrm>
            <a:off x="324000" y="407412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высоты 25 км (озоновый сло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а всю толщу (11 к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осф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глубины 5 км (температурный барьер +1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0"/>
          <p:cNvGrpSpPr/>
          <p:nvPr/>
        </p:nvGrpSpPr>
        <p:grpSpPr>
          <a:xfrm>
            <a:off x="1187280" y="475920"/>
            <a:ext cx="5714640" cy="5235840"/>
            <a:chOff x="1187280" y="475920"/>
            <a:chExt cx="5714640" cy="5235840"/>
          </a:xfrm>
        </p:grpSpPr>
        <p:grpSp>
          <p:nvGrpSpPr>
            <p:cNvPr id="236" name="Group 1"/>
            <p:cNvGrpSpPr/>
            <p:nvPr/>
          </p:nvGrpSpPr>
          <p:grpSpPr>
            <a:xfrm>
              <a:off x="1187280" y="475920"/>
              <a:ext cx="5600520" cy="4801320"/>
              <a:chOff x="1187280" y="475920"/>
              <a:chExt cx="5600520" cy="4801320"/>
            </a:xfrm>
          </p:grpSpPr>
          <p:grpSp>
            <p:nvGrpSpPr>
              <p:cNvPr id="237" name="Group 2"/>
              <p:cNvGrpSpPr/>
              <p:nvPr/>
            </p:nvGrpSpPr>
            <p:grpSpPr>
              <a:xfrm>
                <a:off x="1187280" y="475920"/>
                <a:ext cx="5600520" cy="4801320"/>
                <a:chOff x="1187280" y="475920"/>
                <a:chExt cx="5600520" cy="4801320"/>
              </a:xfrm>
            </p:grpSpPr>
            <p:grpSp>
              <p:nvGrpSpPr>
                <p:cNvPr id="238" name="Group 3"/>
                <p:cNvGrpSpPr/>
                <p:nvPr/>
              </p:nvGrpSpPr>
              <p:grpSpPr>
                <a:xfrm>
                  <a:off x="1758600" y="476280"/>
                  <a:ext cx="5029200" cy="342720"/>
                  <a:chOff x="1758600" y="476280"/>
                  <a:chExt cx="5029200" cy="342720"/>
                </a:xfrm>
              </p:grpSpPr>
              <p:sp>
                <p:nvSpPr>
                  <p:cNvPr id="239" name="Line 4"/>
                  <p:cNvSpPr/>
                  <p:nvPr/>
                </p:nvSpPr>
                <p:spPr>
                  <a:xfrm>
                    <a:off x="1758600" y="706680"/>
                    <a:ext cx="50292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Text Box 5"/>
                  <p:cNvSpPr/>
                  <p:nvPr/>
                </p:nvSpPr>
                <p:spPr>
                  <a:xfrm>
                    <a:off x="3472920" y="476280"/>
                    <a:ext cx="1371600" cy="34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зоновый слой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Group 6"/>
                <p:cNvGrpSpPr/>
                <p:nvPr/>
              </p:nvGrpSpPr>
              <p:grpSpPr>
                <a:xfrm>
                  <a:off x="1187280" y="475920"/>
                  <a:ext cx="5371920" cy="4801320"/>
                  <a:chOff x="1187280" y="475920"/>
                  <a:chExt cx="5371920" cy="4801320"/>
                </a:xfrm>
              </p:grpSpPr>
              <p:grpSp>
                <p:nvGrpSpPr>
                  <p:cNvPr id="242" name="Group 7"/>
                  <p:cNvGrpSpPr/>
                  <p:nvPr/>
                </p:nvGrpSpPr>
                <p:grpSpPr>
                  <a:xfrm>
                    <a:off x="3213000" y="1693440"/>
                    <a:ext cx="3191400" cy="3371040"/>
                    <a:chOff x="3213000" y="1693440"/>
                    <a:chExt cx="3191400" cy="3371040"/>
                  </a:xfrm>
                </p:grpSpPr>
                <p:grpSp>
                  <p:nvGrpSpPr>
                    <p:cNvPr id="243" name="Group 8"/>
                    <p:cNvGrpSpPr/>
                    <p:nvPr/>
                  </p:nvGrpSpPr>
                  <p:grpSpPr>
                    <a:xfrm>
                      <a:off x="3213000" y="1693440"/>
                      <a:ext cx="3191400" cy="3371040"/>
                      <a:chOff x="3213000" y="1693440"/>
                      <a:chExt cx="3191400" cy="3371040"/>
                    </a:xfrm>
                  </p:grpSpPr>
                  <p:sp>
                    <p:nvSpPr>
                      <p:cNvPr id="244" name="Freeform 9"/>
                      <p:cNvSpPr/>
                      <p:nvPr/>
                    </p:nvSpPr>
                    <p:spPr>
                      <a:xfrm>
                        <a:off x="3213000" y="1693440"/>
                        <a:ext cx="3191400" cy="3371040"/>
                      </a:xfrm>
                      <a:custGeom>
                        <a:avLst/>
                        <a:gdLst>
                          <a:gd name="textAreaLeft" fmla="*/ 0 w 3191400"/>
                          <a:gd name="textAreaRight" fmla="*/ 3191760 w 3191400"/>
                          <a:gd name="textAreaTop" fmla="*/ 0 h 3371040"/>
                          <a:gd name="textAreaBottom" fmla="*/ 3371400 h 3371040"/>
                        </a:gdLst>
                        <a:ahLst/>
                        <a:rect l="textAreaLeft" t="textAreaTop" r="textAreaRight" b="textAreaBottom"/>
                        <a:pathLst>
                          <a:path w="5026" h="5308">
                            <a:moveTo>
                              <a:pt x="0" y="1865"/>
                            </a:moveTo>
                            <a:cubicBezTo>
                              <a:pt x="26" y="1757"/>
                              <a:pt x="59" y="1644"/>
                              <a:pt x="95" y="1539"/>
                            </a:cubicBezTo>
                            <a:cubicBezTo>
                              <a:pt x="110" y="1428"/>
                              <a:pt x="149" y="1324"/>
                              <a:pt x="163" y="1213"/>
                            </a:cubicBezTo>
                            <a:cubicBezTo>
                              <a:pt x="173" y="1134"/>
                              <a:pt x="175" y="1017"/>
                              <a:pt x="217" y="942"/>
                            </a:cubicBezTo>
                            <a:cubicBezTo>
                              <a:pt x="233" y="913"/>
                              <a:pt x="261" y="891"/>
                              <a:pt x="271" y="860"/>
                            </a:cubicBezTo>
                            <a:cubicBezTo>
                              <a:pt x="302" y="766"/>
                              <a:pt x="278" y="799"/>
                              <a:pt x="326" y="751"/>
                            </a:cubicBezTo>
                            <a:cubicBezTo>
                              <a:pt x="369" y="617"/>
                              <a:pt x="302" y="814"/>
                              <a:pt x="366" y="670"/>
                            </a:cubicBezTo>
                            <a:cubicBezTo>
                              <a:pt x="398" y="599"/>
                              <a:pt x="395" y="575"/>
                              <a:pt x="448" y="520"/>
                            </a:cubicBezTo>
                            <a:cubicBezTo>
                              <a:pt x="475" y="408"/>
                              <a:pt x="442" y="519"/>
                              <a:pt x="489" y="425"/>
                            </a:cubicBezTo>
                            <a:cubicBezTo>
                              <a:pt x="509" y="385"/>
                              <a:pt x="499" y="363"/>
                              <a:pt x="516" y="317"/>
                            </a:cubicBezTo>
                            <a:cubicBezTo>
                              <a:pt x="532" y="275"/>
                              <a:pt x="572" y="217"/>
                              <a:pt x="597" y="181"/>
                            </a:cubicBezTo>
                            <a:cubicBezTo>
                              <a:pt x="635" y="127"/>
                              <a:pt x="622" y="110"/>
                              <a:pt x="679" y="72"/>
                            </a:cubicBezTo>
                            <a:cubicBezTo>
                              <a:pt x="683" y="54"/>
                              <a:pt x="688" y="0"/>
                              <a:pt x="692" y="18"/>
                            </a:cubicBezTo>
                            <a:cubicBezTo>
                              <a:pt x="705" y="71"/>
                              <a:pt x="699" y="127"/>
                              <a:pt x="706" y="181"/>
                            </a:cubicBezTo>
                            <a:cubicBezTo>
                              <a:pt x="715" y="250"/>
                              <a:pt x="796" y="325"/>
                              <a:pt x="842" y="371"/>
                            </a:cubicBezTo>
                            <a:cubicBezTo>
                              <a:pt x="868" y="452"/>
                              <a:pt x="872" y="661"/>
                              <a:pt x="951" y="724"/>
                            </a:cubicBezTo>
                            <a:cubicBezTo>
                              <a:pt x="964" y="734"/>
                              <a:pt x="979" y="740"/>
                              <a:pt x="991" y="751"/>
                            </a:cubicBezTo>
                            <a:cubicBezTo>
                              <a:pt x="1015" y="772"/>
                              <a:pt x="1030" y="804"/>
                              <a:pt x="1059" y="819"/>
                            </a:cubicBezTo>
                            <a:cubicBezTo>
                              <a:pt x="1077" y="828"/>
                              <a:pt x="1097" y="836"/>
                              <a:pt x="1114" y="847"/>
                            </a:cubicBezTo>
                            <a:cubicBezTo>
                              <a:pt x="1147" y="868"/>
                              <a:pt x="1209" y="914"/>
                              <a:pt x="1209" y="914"/>
                            </a:cubicBezTo>
                            <a:cubicBezTo>
                              <a:pt x="1281" y="1060"/>
                              <a:pt x="1187" y="884"/>
                              <a:pt x="1277" y="1010"/>
                            </a:cubicBezTo>
                            <a:cubicBezTo>
                              <a:pt x="1302" y="1045"/>
                              <a:pt x="1319" y="1108"/>
                              <a:pt x="1331" y="1145"/>
                            </a:cubicBezTo>
                            <a:cubicBezTo>
                              <a:pt x="1340" y="1172"/>
                              <a:pt x="1349" y="1200"/>
                              <a:pt x="1358" y="1227"/>
                            </a:cubicBezTo>
                            <a:cubicBezTo>
                              <a:pt x="1363" y="1241"/>
                              <a:pt x="1372" y="1268"/>
                              <a:pt x="1372" y="1268"/>
                            </a:cubicBezTo>
                            <a:cubicBezTo>
                              <a:pt x="1384" y="1371"/>
                              <a:pt x="1401" y="1466"/>
                              <a:pt x="1426" y="1567"/>
                            </a:cubicBezTo>
                            <a:cubicBezTo>
                              <a:pt x="1430" y="1583"/>
                              <a:pt x="1446" y="1592"/>
                              <a:pt x="1453" y="1607"/>
                            </a:cubicBezTo>
                            <a:cubicBezTo>
                              <a:pt x="1465" y="1633"/>
                              <a:pt x="1480" y="1689"/>
                              <a:pt x="1480" y="1689"/>
                            </a:cubicBezTo>
                            <a:cubicBezTo>
                              <a:pt x="1483" y="1718"/>
                              <a:pt x="1494" y="1907"/>
                              <a:pt x="1521" y="1947"/>
                            </a:cubicBezTo>
                            <a:cubicBezTo>
                              <a:pt x="1530" y="1961"/>
                              <a:pt x="1548" y="1965"/>
                              <a:pt x="1562" y="1974"/>
                            </a:cubicBezTo>
                            <a:cubicBezTo>
                              <a:pt x="1597" y="2027"/>
                              <a:pt x="1640" y="2078"/>
                              <a:pt x="1684" y="2124"/>
                            </a:cubicBezTo>
                            <a:cubicBezTo>
                              <a:pt x="1704" y="2182"/>
                              <a:pt x="1718" y="2236"/>
                              <a:pt x="1752" y="2287"/>
                            </a:cubicBezTo>
                            <a:cubicBezTo>
                              <a:pt x="1755" y="2297"/>
                              <a:pt x="1772" y="2368"/>
                              <a:pt x="1779" y="2382"/>
                            </a:cubicBezTo>
                            <a:cubicBezTo>
                              <a:pt x="1809" y="2443"/>
                              <a:pt x="1798" y="2402"/>
                              <a:pt x="1834" y="2450"/>
                            </a:cubicBezTo>
                            <a:cubicBezTo>
                              <a:pt x="1873" y="2501"/>
                              <a:pt x="1906" y="2559"/>
                              <a:pt x="1942" y="2613"/>
                            </a:cubicBezTo>
                            <a:cubicBezTo>
                              <a:pt x="1965" y="2649"/>
                              <a:pt x="1977" y="2764"/>
                              <a:pt x="1997" y="2789"/>
                            </a:cubicBezTo>
                            <a:cubicBezTo>
                              <a:pt x="2006" y="2800"/>
                              <a:pt x="2024" y="2798"/>
                              <a:pt x="2037" y="2803"/>
                            </a:cubicBezTo>
                            <a:cubicBezTo>
                              <a:pt x="2071" y="2855"/>
                              <a:pt x="2116" y="2895"/>
                              <a:pt x="2160" y="2939"/>
                            </a:cubicBezTo>
                            <a:cubicBezTo>
                              <a:pt x="2171" y="2950"/>
                              <a:pt x="2173" y="2970"/>
                              <a:pt x="2187" y="2979"/>
                            </a:cubicBezTo>
                            <a:cubicBezTo>
                              <a:pt x="2211" y="2994"/>
                              <a:pt x="2268" y="3007"/>
                              <a:pt x="2268" y="3007"/>
                            </a:cubicBezTo>
                            <a:cubicBezTo>
                              <a:pt x="2247" y="3072"/>
                              <a:pt x="2247" y="3044"/>
                              <a:pt x="2295" y="3020"/>
                            </a:cubicBezTo>
                            <a:cubicBezTo>
                              <a:pt x="2308" y="3014"/>
                              <a:pt x="2322" y="3011"/>
                              <a:pt x="2336" y="3007"/>
                            </a:cubicBezTo>
                            <a:cubicBezTo>
                              <a:pt x="2354" y="3016"/>
                              <a:pt x="2372" y="3027"/>
                              <a:pt x="2391" y="3034"/>
                            </a:cubicBezTo>
                            <a:cubicBezTo>
                              <a:pt x="2408" y="3040"/>
                              <a:pt x="2428" y="3040"/>
                              <a:pt x="2445" y="3047"/>
                            </a:cubicBezTo>
                            <a:cubicBezTo>
                              <a:pt x="2460" y="3053"/>
                              <a:pt x="2471" y="3067"/>
                              <a:pt x="2486" y="3074"/>
                            </a:cubicBezTo>
                            <a:cubicBezTo>
                              <a:pt x="2499" y="3080"/>
                              <a:pt x="2513" y="3083"/>
                              <a:pt x="2526" y="3088"/>
                            </a:cubicBezTo>
                            <a:cubicBezTo>
                              <a:pt x="2547" y="3151"/>
                              <a:pt x="2566" y="3166"/>
                              <a:pt x="2581" y="3237"/>
                            </a:cubicBezTo>
                            <a:cubicBezTo>
                              <a:pt x="2585" y="3310"/>
                              <a:pt x="2584" y="3383"/>
                              <a:pt x="2594" y="3455"/>
                            </a:cubicBezTo>
                            <a:cubicBezTo>
                              <a:pt x="2605" y="3535"/>
                              <a:pt x="2656" y="3599"/>
                              <a:pt x="2703" y="3659"/>
                            </a:cubicBezTo>
                            <a:cubicBezTo>
                              <a:pt x="2713" y="3672"/>
                              <a:pt x="2718" y="3688"/>
                              <a:pt x="2730" y="3699"/>
                            </a:cubicBezTo>
                            <a:cubicBezTo>
                              <a:pt x="2755" y="3721"/>
                              <a:pt x="2789" y="3731"/>
                              <a:pt x="2812" y="3754"/>
                            </a:cubicBezTo>
                            <a:cubicBezTo>
                              <a:pt x="2839" y="3781"/>
                              <a:pt x="2866" y="3808"/>
                              <a:pt x="2893" y="3835"/>
                            </a:cubicBezTo>
                            <a:cubicBezTo>
                              <a:pt x="2907" y="3849"/>
                              <a:pt x="2934" y="3876"/>
                              <a:pt x="2934" y="3876"/>
                            </a:cubicBezTo>
                            <a:cubicBezTo>
                              <a:pt x="2938" y="3890"/>
                              <a:pt x="2940" y="3905"/>
                              <a:pt x="2947" y="3917"/>
                            </a:cubicBezTo>
                            <a:cubicBezTo>
                              <a:pt x="2954" y="3928"/>
                              <a:pt x="2969" y="3932"/>
                              <a:pt x="2975" y="3944"/>
                            </a:cubicBezTo>
                            <a:cubicBezTo>
                              <a:pt x="2988" y="3969"/>
                              <a:pt x="2982" y="4005"/>
                              <a:pt x="3002" y="4025"/>
                            </a:cubicBezTo>
                            <a:cubicBezTo>
                              <a:pt x="3023" y="4046"/>
                              <a:pt x="3044" y="4065"/>
                              <a:pt x="3056" y="4093"/>
                            </a:cubicBezTo>
                            <a:cubicBezTo>
                              <a:pt x="3100" y="4193"/>
                              <a:pt x="3105" y="4315"/>
                              <a:pt x="3165" y="4406"/>
                            </a:cubicBezTo>
                            <a:cubicBezTo>
                              <a:pt x="3201" y="4518"/>
                              <a:pt x="3151" y="4384"/>
                              <a:pt x="3206" y="4474"/>
                            </a:cubicBezTo>
                            <a:cubicBezTo>
                              <a:pt x="3213" y="4486"/>
                              <a:pt x="3209" y="4504"/>
                              <a:pt x="3219" y="4514"/>
                            </a:cubicBezTo>
                            <a:cubicBezTo>
                              <a:pt x="3229" y="4524"/>
                              <a:pt x="3246" y="4523"/>
                              <a:pt x="3260" y="4528"/>
                            </a:cubicBezTo>
                            <a:cubicBezTo>
                              <a:pt x="3277" y="4580"/>
                              <a:pt x="3290" y="4656"/>
                              <a:pt x="3314" y="4705"/>
                            </a:cubicBezTo>
                            <a:cubicBezTo>
                              <a:pt x="3321" y="4719"/>
                              <a:pt x="3334" y="4730"/>
                              <a:pt x="3341" y="4745"/>
                            </a:cubicBezTo>
                            <a:cubicBezTo>
                              <a:pt x="3364" y="4796"/>
                              <a:pt x="3377" y="4855"/>
                              <a:pt x="3396" y="4908"/>
                            </a:cubicBezTo>
                            <a:cubicBezTo>
                              <a:pt x="3420" y="4976"/>
                              <a:pt x="3424" y="5038"/>
                              <a:pt x="3464" y="5099"/>
                            </a:cubicBezTo>
                            <a:cubicBezTo>
                              <a:pt x="3480" y="5147"/>
                              <a:pt x="3495" y="5185"/>
                              <a:pt x="3532" y="5221"/>
                            </a:cubicBezTo>
                            <a:cubicBezTo>
                              <a:pt x="3537" y="5236"/>
                              <a:pt x="3552" y="5296"/>
                              <a:pt x="3572" y="5302"/>
                            </a:cubicBezTo>
                            <a:cubicBezTo>
                              <a:pt x="3594" y="5308"/>
                              <a:pt x="3617" y="5293"/>
                              <a:pt x="3640" y="5289"/>
                            </a:cubicBezTo>
                            <a:cubicBezTo>
                              <a:pt x="3663" y="5280"/>
                              <a:pt x="3685" y="5271"/>
                              <a:pt x="3708" y="5262"/>
                            </a:cubicBezTo>
                            <a:cubicBezTo>
                              <a:pt x="3722" y="5257"/>
                              <a:pt x="3741" y="5260"/>
                              <a:pt x="3749" y="5248"/>
                            </a:cubicBezTo>
                            <a:cubicBezTo>
                              <a:pt x="3774" y="5213"/>
                              <a:pt x="3777" y="5167"/>
                              <a:pt x="3790" y="5126"/>
                            </a:cubicBezTo>
                            <a:cubicBezTo>
                              <a:pt x="3794" y="5112"/>
                              <a:pt x="3803" y="5085"/>
                              <a:pt x="3803" y="5085"/>
                            </a:cubicBezTo>
                            <a:cubicBezTo>
                              <a:pt x="3786" y="4907"/>
                              <a:pt x="3780" y="4697"/>
                              <a:pt x="3885" y="4542"/>
                            </a:cubicBezTo>
                            <a:cubicBezTo>
                              <a:pt x="3908" y="4471"/>
                              <a:pt x="3948" y="4410"/>
                              <a:pt x="3966" y="4338"/>
                            </a:cubicBezTo>
                            <a:cubicBezTo>
                              <a:pt x="3979" y="4284"/>
                              <a:pt x="4002" y="4156"/>
                              <a:pt x="4034" y="4107"/>
                            </a:cubicBezTo>
                            <a:cubicBezTo>
                              <a:pt x="4045" y="4091"/>
                              <a:pt x="4063" y="4081"/>
                              <a:pt x="4075" y="4066"/>
                            </a:cubicBezTo>
                            <a:cubicBezTo>
                              <a:pt x="4103" y="4030"/>
                              <a:pt x="4130" y="3993"/>
                              <a:pt x="4157" y="3957"/>
                            </a:cubicBezTo>
                            <a:cubicBezTo>
                              <a:pt x="4177" y="3931"/>
                              <a:pt x="4211" y="3876"/>
                              <a:pt x="4211" y="3876"/>
                            </a:cubicBezTo>
                            <a:cubicBezTo>
                              <a:pt x="4215" y="3862"/>
                              <a:pt x="4217" y="3847"/>
                              <a:pt x="4224" y="3835"/>
                            </a:cubicBezTo>
                            <a:cubicBezTo>
                              <a:pt x="4231" y="3824"/>
                              <a:pt x="4246" y="3820"/>
                              <a:pt x="4252" y="3808"/>
                            </a:cubicBezTo>
                            <a:cubicBezTo>
                              <a:pt x="4253" y="3806"/>
                              <a:pt x="4305" y="3647"/>
                              <a:pt x="4306" y="3645"/>
                            </a:cubicBezTo>
                            <a:cubicBezTo>
                              <a:pt x="4311" y="3629"/>
                              <a:pt x="4322" y="3616"/>
                              <a:pt x="4333" y="3604"/>
                            </a:cubicBezTo>
                            <a:cubicBezTo>
                              <a:pt x="4354" y="3580"/>
                              <a:pt x="4401" y="3536"/>
                              <a:pt x="4401" y="3536"/>
                            </a:cubicBezTo>
                            <a:cubicBezTo>
                              <a:pt x="4422" y="3476"/>
                              <a:pt x="4437" y="3474"/>
                              <a:pt x="4496" y="3455"/>
                            </a:cubicBezTo>
                            <a:cubicBezTo>
                              <a:pt x="4505" y="3441"/>
                              <a:pt x="4510" y="3424"/>
                              <a:pt x="4523" y="3414"/>
                            </a:cubicBezTo>
                            <a:cubicBezTo>
                              <a:pt x="4534" y="3405"/>
                              <a:pt x="4551" y="3406"/>
                              <a:pt x="4564" y="3400"/>
                            </a:cubicBezTo>
                            <a:cubicBezTo>
                              <a:pt x="4615" y="3378"/>
                              <a:pt x="4662" y="3365"/>
                              <a:pt x="4714" y="3346"/>
                            </a:cubicBezTo>
                            <a:cubicBezTo>
                              <a:pt x="4733" y="3339"/>
                              <a:pt x="4750" y="3327"/>
                              <a:pt x="4768" y="3319"/>
                            </a:cubicBezTo>
                            <a:cubicBezTo>
                              <a:pt x="4781" y="3313"/>
                              <a:pt x="4795" y="3310"/>
                              <a:pt x="4809" y="3305"/>
                            </a:cubicBezTo>
                            <a:cubicBezTo>
                              <a:pt x="4822" y="3292"/>
                              <a:pt x="4834" y="3277"/>
                              <a:pt x="4849" y="3265"/>
                            </a:cubicBezTo>
                            <a:cubicBezTo>
                              <a:pt x="4866" y="3252"/>
                              <a:pt x="5026" y="3152"/>
                              <a:pt x="5026" y="3129"/>
                            </a:cubicBezTo>
                          </a:path>
                        </a:pathLst>
                      </a:custGeom>
                      <a:noFill/>
                      <a:ln w="31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Freeform 10"/>
                      <p:cNvSpPr/>
                      <p:nvPr/>
                    </p:nvSpPr>
                    <p:spPr>
                      <a:xfrm>
                        <a:off x="4834800" y="3668040"/>
                        <a:ext cx="1543680" cy="1369080"/>
                      </a:xfrm>
                      <a:custGeom>
                        <a:avLst/>
                        <a:gdLst>
                          <a:gd name="textAreaLeft" fmla="*/ 0 w 1543680"/>
                          <a:gd name="textAreaRight" fmla="*/ 1544040 w 1543680"/>
                          <a:gd name="textAreaTop" fmla="*/ 0 h 1369080"/>
                          <a:gd name="textAreaBottom" fmla="*/ 1369440 h 1369080"/>
                        </a:gdLst>
                        <a:ahLst/>
                        <a:rect l="textAreaLeft" t="textAreaTop" r="textAreaRight" b="textAreaBottom"/>
                        <a:pathLst>
                          <a:path w="2431" h="2156">
                            <a:moveTo>
                              <a:pt x="0" y="37"/>
                            </a:moveTo>
                            <a:cubicBezTo>
                              <a:pt x="4" y="87"/>
                              <a:pt x="6" y="137"/>
                              <a:pt x="13" y="187"/>
                            </a:cubicBezTo>
                            <a:cubicBezTo>
                              <a:pt x="15" y="201"/>
                              <a:pt x="25" y="213"/>
                              <a:pt x="27" y="227"/>
                            </a:cubicBezTo>
                            <a:cubicBezTo>
                              <a:pt x="34" y="290"/>
                              <a:pt x="29" y="355"/>
                              <a:pt x="40" y="418"/>
                            </a:cubicBezTo>
                            <a:cubicBezTo>
                              <a:pt x="45" y="445"/>
                              <a:pt x="115" y="503"/>
                              <a:pt x="122" y="513"/>
                            </a:cubicBezTo>
                            <a:cubicBezTo>
                              <a:pt x="161" y="571"/>
                              <a:pt x="193" y="603"/>
                              <a:pt x="244" y="648"/>
                            </a:cubicBezTo>
                            <a:cubicBezTo>
                              <a:pt x="302" y="700"/>
                              <a:pt x="343" y="756"/>
                              <a:pt x="407" y="798"/>
                            </a:cubicBezTo>
                            <a:cubicBezTo>
                              <a:pt x="444" y="873"/>
                              <a:pt x="462" y="950"/>
                              <a:pt x="489" y="1029"/>
                            </a:cubicBezTo>
                            <a:cubicBezTo>
                              <a:pt x="499" y="1060"/>
                              <a:pt x="525" y="1083"/>
                              <a:pt x="543" y="1110"/>
                            </a:cubicBezTo>
                            <a:cubicBezTo>
                              <a:pt x="560" y="1135"/>
                              <a:pt x="567" y="1166"/>
                              <a:pt x="584" y="1192"/>
                            </a:cubicBezTo>
                            <a:cubicBezTo>
                              <a:pt x="593" y="1219"/>
                              <a:pt x="604" y="1245"/>
                              <a:pt x="611" y="1273"/>
                            </a:cubicBezTo>
                            <a:cubicBezTo>
                              <a:pt x="615" y="1291"/>
                              <a:pt x="616" y="1311"/>
                              <a:pt x="624" y="1328"/>
                            </a:cubicBezTo>
                            <a:cubicBezTo>
                              <a:pt x="630" y="1340"/>
                              <a:pt x="643" y="1346"/>
                              <a:pt x="652" y="1355"/>
                            </a:cubicBezTo>
                            <a:cubicBezTo>
                              <a:pt x="670" y="1466"/>
                              <a:pt x="693" y="1573"/>
                              <a:pt x="774" y="1654"/>
                            </a:cubicBezTo>
                            <a:cubicBezTo>
                              <a:pt x="819" y="1795"/>
                              <a:pt x="748" y="1587"/>
                              <a:pt x="815" y="1735"/>
                            </a:cubicBezTo>
                            <a:cubicBezTo>
                              <a:pt x="854" y="1821"/>
                              <a:pt x="827" y="1830"/>
                              <a:pt x="910" y="1885"/>
                            </a:cubicBezTo>
                            <a:cubicBezTo>
                              <a:pt x="951" y="1966"/>
                              <a:pt x="928" y="1925"/>
                              <a:pt x="991" y="2021"/>
                            </a:cubicBezTo>
                            <a:cubicBezTo>
                              <a:pt x="1000" y="2034"/>
                              <a:pt x="1013" y="2046"/>
                              <a:pt x="1018" y="2061"/>
                            </a:cubicBezTo>
                            <a:cubicBezTo>
                              <a:pt x="1051" y="2156"/>
                              <a:pt x="1019" y="2134"/>
                              <a:pt x="1086" y="2156"/>
                            </a:cubicBezTo>
                            <a:cubicBezTo>
                              <a:pt x="1118" y="2152"/>
                              <a:pt x="1152" y="2156"/>
                              <a:pt x="1181" y="2143"/>
                            </a:cubicBezTo>
                            <a:cubicBezTo>
                              <a:pt x="1205" y="2132"/>
                              <a:pt x="1236" y="2088"/>
                              <a:pt x="1236" y="2088"/>
                            </a:cubicBezTo>
                            <a:cubicBezTo>
                              <a:pt x="1287" y="1931"/>
                              <a:pt x="1234" y="2107"/>
                              <a:pt x="1263" y="1695"/>
                            </a:cubicBezTo>
                            <a:cubicBezTo>
                              <a:pt x="1266" y="1651"/>
                              <a:pt x="1293" y="1602"/>
                              <a:pt x="1304" y="1559"/>
                            </a:cubicBezTo>
                            <a:cubicBezTo>
                              <a:pt x="1320" y="1494"/>
                              <a:pt x="1336" y="1432"/>
                              <a:pt x="1358" y="1368"/>
                            </a:cubicBezTo>
                            <a:cubicBezTo>
                              <a:pt x="1363" y="1353"/>
                              <a:pt x="1378" y="1343"/>
                              <a:pt x="1385" y="1328"/>
                            </a:cubicBezTo>
                            <a:cubicBezTo>
                              <a:pt x="1402" y="1288"/>
                              <a:pt x="1417" y="1247"/>
                              <a:pt x="1426" y="1205"/>
                            </a:cubicBezTo>
                            <a:cubicBezTo>
                              <a:pt x="1449" y="1097"/>
                              <a:pt x="1472" y="1003"/>
                              <a:pt x="1521" y="907"/>
                            </a:cubicBezTo>
                            <a:cubicBezTo>
                              <a:pt x="1528" y="894"/>
                              <a:pt x="1525" y="876"/>
                              <a:pt x="1535" y="866"/>
                            </a:cubicBezTo>
                            <a:cubicBezTo>
                              <a:pt x="1545" y="856"/>
                              <a:pt x="1562" y="857"/>
                              <a:pt x="1575" y="852"/>
                            </a:cubicBezTo>
                            <a:cubicBezTo>
                              <a:pt x="1591" y="805"/>
                              <a:pt x="1621" y="788"/>
                              <a:pt x="1643" y="744"/>
                            </a:cubicBezTo>
                            <a:cubicBezTo>
                              <a:pt x="1650" y="731"/>
                              <a:pt x="1648" y="714"/>
                              <a:pt x="1657" y="703"/>
                            </a:cubicBezTo>
                            <a:cubicBezTo>
                              <a:pt x="1667" y="690"/>
                              <a:pt x="1684" y="685"/>
                              <a:pt x="1698" y="676"/>
                            </a:cubicBezTo>
                            <a:cubicBezTo>
                              <a:pt x="1713" y="629"/>
                              <a:pt x="1731" y="601"/>
                              <a:pt x="1766" y="567"/>
                            </a:cubicBezTo>
                            <a:cubicBezTo>
                              <a:pt x="1784" y="493"/>
                              <a:pt x="1796" y="447"/>
                              <a:pt x="1861" y="404"/>
                            </a:cubicBezTo>
                            <a:cubicBezTo>
                              <a:pt x="1898" y="348"/>
                              <a:pt x="1908" y="357"/>
                              <a:pt x="1969" y="336"/>
                            </a:cubicBezTo>
                            <a:cubicBezTo>
                              <a:pt x="2006" y="301"/>
                              <a:pt x="2044" y="284"/>
                              <a:pt x="2092" y="268"/>
                            </a:cubicBezTo>
                            <a:cubicBezTo>
                              <a:pt x="2110" y="254"/>
                              <a:pt x="2126" y="238"/>
                              <a:pt x="2146" y="227"/>
                            </a:cubicBezTo>
                            <a:cubicBezTo>
                              <a:pt x="2181" y="207"/>
                              <a:pt x="2255" y="173"/>
                              <a:pt x="2255" y="173"/>
                            </a:cubicBezTo>
                            <a:cubicBezTo>
                              <a:pt x="2268" y="159"/>
                              <a:pt x="2279" y="143"/>
                              <a:pt x="2295" y="132"/>
                            </a:cubicBezTo>
                            <a:cubicBezTo>
                              <a:pt x="2307" y="124"/>
                              <a:pt x="2323" y="125"/>
                              <a:pt x="2336" y="119"/>
                            </a:cubicBezTo>
                            <a:cubicBezTo>
                              <a:pt x="2351" y="112"/>
                              <a:pt x="2364" y="102"/>
                              <a:pt x="2377" y="92"/>
                            </a:cubicBezTo>
                            <a:cubicBezTo>
                              <a:pt x="2402" y="72"/>
                              <a:pt x="2413" y="51"/>
                              <a:pt x="2431" y="24"/>
                            </a:cubicBezTo>
                            <a:cubicBezTo>
                              <a:pt x="2362" y="0"/>
                              <a:pt x="2331" y="59"/>
                              <a:pt x="2255" y="64"/>
                            </a:cubicBezTo>
                            <a:cubicBezTo>
                              <a:pt x="2147" y="72"/>
                              <a:pt x="2038" y="73"/>
                              <a:pt x="1929" y="78"/>
                            </a:cubicBezTo>
                            <a:cubicBezTo>
                              <a:pt x="1306" y="55"/>
                              <a:pt x="693" y="78"/>
                              <a:pt x="67" y="78"/>
                            </a:cubicBezTo>
                            <a:lnTo>
                              <a:pt x="16" y="194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31680">
                        <a:solidFill>
                          <a:srgbClr val="0000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6" name="Text Box 11"/>
                    <p:cNvSpPr/>
                    <p:nvPr/>
                  </p:nvSpPr>
                  <p:spPr>
                    <a:xfrm>
                      <a:off x="5073480" y="3791160"/>
                      <a:ext cx="685800" cy="342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" name="Group 12"/>
                  <p:cNvGrpSpPr/>
                  <p:nvPr/>
                </p:nvGrpSpPr>
                <p:grpSpPr>
                  <a:xfrm>
                    <a:off x="1187280" y="475920"/>
                    <a:ext cx="5371920" cy="4801320"/>
                    <a:chOff x="1187280" y="475920"/>
                    <a:chExt cx="5371920" cy="4801320"/>
                  </a:xfrm>
                </p:grpSpPr>
                <p:sp>
                  <p:nvSpPr>
                    <p:cNvPr id="248" name="Freeform 13"/>
                    <p:cNvSpPr/>
                    <p:nvPr/>
                  </p:nvSpPr>
                  <p:spPr>
                    <a:xfrm>
                      <a:off x="1872720" y="2876760"/>
                      <a:ext cx="1320120" cy="811080"/>
                    </a:xfrm>
                    <a:custGeom>
                      <a:avLst/>
                      <a:gdLst>
                        <a:gd name="textAreaLeft" fmla="*/ 0 w 1320120"/>
                        <a:gd name="textAreaRight" fmla="*/ 1320480 w 1320120"/>
                        <a:gd name="textAreaTop" fmla="*/ 0 h 811080"/>
                        <a:gd name="textAreaBottom" fmla="*/ 811440 h 811080"/>
                      </a:gdLst>
                      <a:ahLst/>
                      <a:rect l="textAreaLeft" t="textAreaTop" r="textAreaRight" b="textAreaBottom"/>
                      <a:pathLst>
                        <a:path w="2079" h="1277">
                          <a:moveTo>
                            <a:pt x="0" y="1277"/>
                          </a:moveTo>
                          <a:cubicBezTo>
                            <a:pt x="98" y="1265"/>
                            <a:pt x="190" y="1246"/>
                            <a:pt x="286" y="1223"/>
                          </a:cubicBezTo>
                          <a:cubicBezTo>
                            <a:pt x="308" y="1209"/>
                            <a:pt x="329" y="1193"/>
                            <a:pt x="353" y="1182"/>
                          </a:cubicBezTo>
                          <a:cubicBezTo>
                            <a:pt x="379" y="1170"/>
                            <a:pt x="435" y="1155"/>
                            <a:pt x="435" y="1155"/>
                          </a:cubicBezTo>
                          <a:cubicBezTo>
                            <a:pt x="453" y="1141"/>
                            <a:pt x="475" y="1131"/>
                            <a:pt x="489" y="1114"/>
                          </a:cubicBezTo>
                          <a:cubicBezTo>
                            <a:pt x="498" y="1103"/>
                            <a:pt x="492" y="1082"/>
                            <a:pt x="503" y="1073"/>
                          </a:cubicBezTo>
                          <a:cubicBezTo>
                            <a:pt x="517" y="1061"/>
                            <a:pt x="539" y="1064"/>
                            <a:pt x="557" y="1060"/>
                          </a:cubicBezTo>
                          <a:cubicBezTo>
                            <a:pt x="726" y="891"/>
                            <a:pt x="554" y="1045"/>
                            <a:pt x="1128" y="1006"/>
                          </a:cubicBezTo>
                          <a:cubicBezTo>
                            <a:pt x="1157" y="1004"/>
                            <a:pt x="1209" y="978"/>
                            <a:pt x="1209" y="978"/>
                          </a:cubicBezTo>
                          <a:cubicBezTo>
                            <a:pt x="1292" y="918"/>
                            <a:pt x="1390" y="888"/>
                            <a:pt x="1481" y="842"/>
                          </a:cubicBezTo>
                          <a:cubicBezTo>
                            <a:pt x="1577" y="793"/>
                            <a:pt x="1468" y="832"/>
                            <a:pt x="1563" y="802"/>
                          </a:cubicBezTo>
                          <a:cubicBezTo>
                            <a:pt x="1614" y="749"/>
                            <a:pt x="1650" y="693"/>
                            <a:pt x="1712" y="652"/>
                          </a:cubicBezTo>
                          <a:cubicBezTo>
                            <a:pt x="1750" y="596"/>
                            <a:pt x="1735" y="583"/>
                            <a:pt x="1793" y="544"/>
                          </a:cubicBezTo>
                          <a:cubicBezTo>
                            <a:pt x="1798" y="526"/>
                            <a:pt x="1796" y="505"/>
                            <a:pt x="1807" y="489"/>
                          </a:cubicBezTo>
                          <a:cubicBezTo>
                            <a:pt x="1816" y="475"/>
                            <a:pt x="1839" y="476"/>
                            <a:pt x="1848" y="462"/>
                          </a:cubicBezTo>
                          <a:cubicBezTo>
                            <a:pt x="1880" y="411"/>
                            <a:pt x="1882" y="351"/>
                            <a:pt x="1916" y="299"/>
                          </a:cubicBezTo>
                          <a:cubicBezTo>
                            <a:pt x="1954" y="178"/>
                            <a:pt x="1891" y="362"/>
                            <a:pt x="1970" y="204"/>
                          </a:cubicBezTo>
                          <a:cubicBezTo>
                            <a:pt x="2010" y="124"/>
                            <a:pt x="2009" y="70"/>
                            <a:pt x="2079" y="0"/>
                          </a:cubicBezTo>
                        </a:path>
                      </a:pathLst>
                    </a:custGeom>
                    <a:noFill/>
                    <a:ln w="31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1187280" y="475920"/>
                      <a:ext cx="5371920" cy="4801320"/>
                      <a:chOff x="1187280" y="475920"/>
                      <a:chExt cx="5371920" cy="4801320"/>
                    </a:xfrm>
                  </p:grpSpPr>
                  <p:sp>
                    <p:nvSpPr>
                      <p:cNvPr id="250" name="Text Box 15"/>
                      <p:cNvSpPr/>
                      <p:nvPr/>
                    </p:nvSpPr>
                    <p:spPr>
                      <a:xfrm>
                        <a:off x="1415520" y="4936680"/>
                        <a:ext cx="457200" cy="228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1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51" name="Group 16"/>
                      <p:cNvGrpSpPr/>
                      <p:nvPr/>
                    </p:nvGrpSpPr>
                    <p:grpSpPr>
                      <a:xfrm>
                        <a:off x="1187280" y="475920"/>
                        <a:ext cx="5371920" cy="4801320"/>
                        <a:chOff x="1187280" y="475920"/>
                        <a:chExt cx="5371920" cy="4801320"/>
                      </a:xfrm>
                    </p:grpSpPr>
                    <p:grpSp>
                      <p:nvGrpSpPr>
                        <p:cNvPr id="252" name="Group 17"/>
                        <p:cNvGrpSpPr/>
                        <p:nvPr/>
                      </p:nvGrpSpPr>
                      <p:grpSpPr>
                        <a:xfrm>
                          <a:off x="1187280" y="475920"/>
                          <a:ext cx="5371920" cy="4801320"/>
                          <a:chOff x="1187280" y="475920"/>
                          <a:chExt cx="5371920" cy="4801320"/>
                        </a:xfrm>
                      </p:grpSpPr>
                      <p:grpSp>
                        <p:nvGrpSpPr>
                          <p:cNvPr id="253" name="Group 18"/>
                          <p:cNvGrpSpPr/>
                          <p:nvPr/>
                        </p:nvGrpSpPr>
                        <p:grpSpPr>
                          <a:xfrm>
                            <a:off x="1187280" y="475920"/>
                            <a:ext cx="5371920" cy="4801320"/>
                            <a:chOff x="1187280" y="475920"/>
                            <a:chExt cx="5371920" cy="4801320"/>
                          </a:xfrm>
                        </p:grpSpPr>
                        <p:grpSp>
                          <p:nvGrpSpPr>
                            <p:cNvPr id="254" name="Group 19"/>
                            <p:cNvGrpSpPr/>
                            <p:nvPr/>
                          </p:nvGrpSpPr>
                          <p:grpSpPr>
                            <a:xfrm>
                              <a:off x="1187280" y="475920"/>
                              <a:ext cx="5371920" cy="4801320"/>
                              <a:chOff x="1187280" y="475920"/>
                              <a:chExt cx="5371920" cy="4801320"/>
                            </a:xfrm>
                          </p:grpSpPr>
                          <p:grpSp>
                            <p:nvGrpSpPr>
                              <p:cNvPr id="255" name="Group 20"/>
                              <p:cNvGrpSpPr/>
                              <p:nvPr/>
                            </p:nvGrpSpPr>
                            <p:grpSpPr>
                              <a:xfrm>
                                <a:off x="1187280" y="475920"/>
                                <a:ext cx="5371920" cy="4801320"/>
                                <a:chOff x="1187280" y="475920"/>
                                <a:chExt cx="5371920" cy="4801320"/>
                              </a:xfrm>
                            </p:grpSpPr>
                            <p:grpSp>
                              <p:nvGrpSpPr>
                                <p:cNvPr id="256" name="Group 21"/>
                                <p:cNvGrpSpPr/>
                                <p:nvPr/>
                              </p:nvGrpSpPr>
                              <p:grpSpPr>
                                <a:xfrm>
                                  <a:off x="1187280" y="475920"/>
                                  <a:ext cx="5371920" cy="4801320"/>
                                  <a:chOff x="1187280" y="475920"/>
                                  <a:chExt cx="5371920" cy="4801320"/>
                                </a:xfrm>
                              </p:grpSpPr>
                              <p:grpSp>
                                <p:nvGrpSpPr>
                                  <p:cNvPr id="257" name="Group 22"/>
                                  <p:cNvGrpSpPr/>
                                  <p:nvPr/>
                                </p:nvGrpSpPr>
                                <p:grpSpPr>
                                  <a:xfrm>
                                    <a:off x="1758600" y="475920"/>
                                    <a:ext cx="4800600" cy="4801320"/>
                                    <a:chOff x="1758600" y="475920"/>
                                    <a:chExt cx="4800600" cy="4801320"/>
                                  </a:xfrm>
                                </p:grpSpPr>
                                <p:sp>
                                  <p:nvSpPr>
                                    <p:cNvPr id="258" name="Line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758600" y="5049000"/>
                                      <a:ext cx="46861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prstDash val="dash"/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9" name="Group 24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758600" y="475920"/>
                                      <a:ext cx="4800600" cy="4801320"/>
                                      <a:chOff x="1758600" y="475920"/>
                                      <a:chExt cx="4800600" cy="4801320"/>
                                    </a:xfrm>
                                  </p:grpSpPr>
                                  <p:sp>
                                    <p:nvSpPr>
                                      <p:cNvPr id="260" name="Line 25"/>
                                      <p:cNvSpPr/>
                                      <p:nvPr/>
                                    </p:nvSpPr>
                                    <p:spPr>
                                      <a:xfrm flipV="1">
                                        <a:off x="1758600" y="475920"/>
                                        <a:ext cx="0" cy="480132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1" name="Line 26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758600" y="3679200"/>
                                        <a:ext cx="480060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</p:grpSp>
                              <p:sp>
                                <p:nvSpPr>
                                  <p:cNvPr id="262" name="Text Box 27"/>
                                  <p:cNvSpPr/>
                                  <p:nvPr/>
                                </p:nvSpPr>
                                <p:spPr>
                                  <a:xfrm>
                                    <a:off x="1187280" y="476280"/>
                                    <a:ext cx="342720" cy="217188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 vert="eaVer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ru-RU" sz="12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Высота над уровнем моря , км</a:t>
                                    </a:r>
                                    <a:endParaRPr b="0" lang="en-US" sz="12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263" name="Freeform 28"/>
                                <p:cNvSpPr/>
                                <p:nvPr/>
                              </p:nvSpPr>
                              <p:spPr>
                                <a:xfrm>
                                  <a:off x="1996200" y="1767960"/>
                                  <a:ext cx="2812680" cy="1932480"/>
                                </a:xfrm>
                                <a:custGeom>
                                  <a:avLst/>
                                  <a:gdLst>
                                    <a:gd name="textAreaLeft" fmla="*/ 0 w 2812680"/>
                                    <a:gd name="textAreaRight" fmla="*/ 2813040 w 2812680"/>
                                    <a:gd name="textAreaTop" fmla="*/ 0 h 1932480"/>
                                    <a:gd name="textAreaBottom" fmla="*/ 1932840 h 193248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4429" h="3043">
                                      <a:moveTo>
                                        <a:pt x="0" y="3002"/>
                                      </a:moveTo>
                                      <a:cubicBezTo>
                                        <a:pt x="14" y="2993"/>
                                        <a:pt x="26" y="2982"/>
                                        <a:pt x="41" y="2975"/>
                                      </a:cubicBezTo>
                                      <a:cubicBezTo>
                                        <a:pt x="67" y="2963"/>
                                        <a:pt x="122" y="2948"/>
                                        <a:pt x="122" y="2948"/>
                                      </a:cubicBezTo>
                                      <a:cubicBezTo>
                                        <a:pt x="198" y="2872"/>
                                        <a:pt x="215" y="2884"/>
                                        <a:pt x="313" y="2853"/>
                                      </a:cubicBezTo>
                                      <a:cubicBezTo>
                                        <a:pt x="322" y="2844"/>
                                        <a:pt x="329" y="2832"/>
                                        <a:pt x="340" y="2825"/>
                                      </a:cubicBezTo>
                                      <a:cubicBezTo>
                                        <a:pt x="357" y="2814"/>
                                        <a:pt x="380" y="2812"/>
                                        <a:pt x="394" y="2798"/>
                                      </a:cubicBezTo>
                                      <a:cubicBezTo>
                                        <a:pt x="404" y="2788"/>
                                        <a:pt x="398" y="2767"/>
                                        <a:pt x="408" y="2757"/>
                                      </a:cubicBezTo>
                                      <a:cubicBezTo>
                                        <a:pt x="418" y="2747"/>
                                        <a:pt x="434" y="2745"/>
                                        <a:pt x="448" y="2744"/>
                                      </a:cubicBezTo>
                                      <a:cubicBezTo>
                                        <a:pt x="634" y="2736"/>
                                        <a:pt x="819" y="2735"/>
                                        <a:pt x="1005" y="2730"/>
                                      </a:cubicBezTo>
                                      <a:cubicBezTo>
                                        <a:pt x="1021" y="2726"/>
                                        <a:pt x="1082" y="2714"/>
                                        <a:pt x="1100" y="2703"/>
                                      </a:cubicBezTo>
                                      <a:cubicBezTo>
                                        <a:pt x="1111" y="2696"/>
                                        <a:pt x="1117" y="2683"/>
                                        <a:pt x="1128" y="2676"/>
                                      </a:cubicBezTo>
                                      <a:cubicBezTo>
                                        <a:pt x="1163" y="2655"/>
                                        <a:pt x="1236" y="2622"/>
                                        <a:pt x="1236" y="2622"/>
                                      </a:cubicBezTo>
                                      <a:cubicBezTo>
                                        <a:pt x="1284" y="2574"/>
                                        <a:pt x="1308" y="2547"/>
                                        <a:pt x="1372" y="2527"/>
                                      </a:cubicBezTo>
                                      <a:cubicBezTo>
                                        <a:pt x="1417" y="2482"/>
                                        <a:pt x="1468" y="2439"/>
                                        <a:pt x="1522" y="2404"/>
                                      </a:cubicBezTo>
                                      <a:cubicBezTo>
                                        <a:pt x="1526" y="2391"/>
                                        <a:pt x="1528" y="2376"/>
                                        <a:pt x="1535" y="2364"/>
                                      </a:cubicBezTo>
                                      <a:cubicBezTo>
                                        <a:pt x="1542" y="2353"/>
                                        <a:pt x="1556" y="2348"/>
                                        <a:pt x="1562" y="2336"/>
                                      </a:cubicBezTo>
                                      <a:cubicBezTo>
                                        <a:pt x="1570" y="2319"/>
                                        <a:pt x="1567" y="2298"/>
                                        <a:pt x="1576" y="2282"/>
                                      </a:cubicBezTo>
                                      <a:cubicBezTo>
                                        <a:pt x="1592" y="2254"/>
                                        <a:pt x="1631" y="2231"/>
                                        <a:pt x="1657" y="2214"/>
                                      </a:cubicBezTo>
                                      <a:cubicBezTo>
                                        <a:pt x="1682" y="2141"/>
                                        <a:pt x="1654" y="2202"/>
                                        <a:pt x="1712" y="2133"/>
                                      </a:cubicBezTo>
                                      <a:cubicBezTo>
                                        <a:pt x="1743" y="2096"/>
                                        <a:pt x="1754" y="2050"/>
                                        <a:pt x="1780" y="2010"/>
                                      </a:cubicBezTo>
                                      <a:cubicBezTo>
                                        <a:pt x="1806" y="1904"/>
                                        <a:pt x="1853" y="1722"/>
                                        <a:pt x="1916" y="1630"/>
                                      </a:cubicBezTo>
                                      <a:cubicBezTo>
                                        <a:pt x="1933" y="1543"/>
                                        <a:pt x="1974" y="1470"/>
                                        <a:pt x="1997" y="1385"/>
                                      </a:cubicBezTo>
                                      <a:cubicBezTo>
                                        <a:pt x="2019" y="1306"/>
                                        <a:pt x="2037" y="1222"/>
                                        <a:pt x="2051" y="1141"/>
                                      </a:cubicBezTo>
                                      <a:cubicBezTo>
                                        <a:pt x="2069" y="1034"/>
                                        <a:pt x="2055" y="1091"/>
                                        <a:pt x="2079" y="1019"/>
                                      </a:cubicBezTo>
                                      <a:cubicBezTo>
                                        <a:pt x="2088" y="992"/>
                                        <a:pt x="2106" y="937"/>
                                        <a:pt x="2106" y="937"/>
                                      </a:cubicBezTo>
                                      <a:cubicBezTo>
                                        <a:pt x="2120" y="849"/>
                                        <a:pt x="2136" y="732"/>
                                        <a:pt x="2201" y="665"/>
                                      </a:cubicBezTo>
                                      <a:cubicBezTo>
                                        <a:pt x="2218" y="612"/>
                                        <a:pt x="2243" y="583"/>
                                        <a:pt x="2282" y="543"/>
                                      </a:cubicBezTo>
                                      <a:cubicBezTo>
                                        <a:pt x="2298" y="497"/>
                                        <a:pt x="2317" y="469"/>
                                        <a:pt x="2350" y="434"/>
                                      </a:cubicBezTo>
                                      <a:cubicBezTo>
                                        <a:pt x="2368" y="384"/>
                                        <a:pt x="2374" y="343"/>
                                        <a:pt x="2405" y="299"/>
                                      </a:cubicBezTo>
                                      <a:cubicBezTo>
                                        <a:pt x="2409" y="285"/>
                                        <a:pt x="2412" y="271"/>
                                        <a:pt x="2418" y="258"/>
                                      </a:cubicBezTo>
                                      <a:cubicBezTo>
                                        <a:pt x="2426" y="239"/>
                                        <a:pt x="2438" y="223"/>
                                        <a:pt x="2445" y="204"/>
                                      </a:cubicBezTo>
                                      <a:cubicBezTo>
                                        <a:pt x="2452" y="186"/>
                                        <a:pt x="2450" y="165"/>
                                        <a:pt x="2459" y="149"/>
                                      </a:cubicBezTo>
                                      <a:cubicBezTo>
                                        <a:pt x="2469" y="132"/>
                                        <a:pt x="2486" y="122"/>
                                        <a:pt x="2500" y="108"/>
                                      </a:cubicBezTo>
                                      <a:cubicBezTo>
                                        <a:pt x="2532" y="11"/>
                                        <a:pt x="2503" y="43"/>
                                        <a:pt x="2568" y="0"/>
                                      </a:cubicBezTo>
                                      <a:cubicBezTo>
                                        <a:pt x="2581" y="4"/>
                                        <a:pt x="2598" y="3"/>
                                        <a:pt x="2608" y="13"/>
                                      </a:cubicBezTo>
                                      <a:cubicBezTo>
                                        <a:pt x="2618" y="23"/>
                                        <a:pt x="2615" y="42"/>
                                        <a:pt x="2622" y="54"/>
                                      </a:cubicBezTo>
                                      <a:cubicBezTo>
                                        <a:pt x="2642" y="88"/>
                                        <a:pt x="2664" y="109"/>
                                        <a:pt x="2690" y="136"/>
                                      </a:cubicBezTo>
                                      <a:cubicBezTo>
                                        <a:pt x="2694" y="154"/>
                                        <a:pt x="2695" y="173"/>
                                        <a:pt x="2703" y="190"/>
                                      </a:cubicBezTo>
                                      <a:cubicBezTo>
                                        <a:pt x="2709" y="202"/>
                                        <a:pt x="2723" y="207"/>
                                        <a:pt x="2731" y="217"/>
                                      </a:cubicBezTo>
                                      <a:cubicBezTo>
                                        <a:pt x="2749" y="240"/>
                                        <a:pt x="2775" y="286"/>
                                        <a:pt x="2785" y="312"/>
                                      </a:cubicBezTo>
                                      <a:cubicBezTo>
                                        <a:pt x="2796" y="339"/>
                                        <a:pt x="2803" y="367"/>
                                        <a:pt x="2812" y="394"/>
                                      </a:cubicBezTo>
                                      <a:cubicBezTo>
                                        <a:pt x="2817" y="407"/>
                                        <a:pt x="2826" y="434"/>
                                        <a:pt x="2826" y="434"/>
                                      </a:cubicBezTo>
                                      <a:cubicBezTo>
                                        <a:pt x="2832" y="469"/>
                                        <a:pt x="2835" y="522"/>
                                        <a:pt x="2853" y="557"/>
                                      </a:cubicBezTo>
                                      <a:cubicBezTo>
                                        <a:pt x="2878" y="607"/>
                                        <a:pt x="2876" y="586"/>
                                        <a:pt x="2907" y="625"/>
                                      </a:cubicBezTo>
                                      <a:cubicBezTo>
                                        <a:pt x="2946" y="674"/>
                                        <a:pt x="2981" y="721"/>
                                        <a:pt x="3016" y="774"/>
                                      </a:cubicBezTo>
                                      <a:cubicBezTo>
                                        <a:pt x="3055" y="833"/>
                                        <a:pt x="3071" y="842"/>
                                        <a:pt x="3125" y="896"/>
                                      </a:cubicBezTo>
                                      <a:cubicBezTo>
                                        <a:pt x="3134" y="905"/>
                                        <a:pt x="3152" y="924"/>
                                        <a:pt x="3152" y="924"/>
                                      </a:cubicBezTo>
                                      <a:cubicBezTo>
                                        <a:pt x="3173" y="990"/>
                                        <a:pt x="3168" y="1008"/>
                                        <a:pt x="3220" y="1059"/>
                                      </a:cubicBezTo>
                                      <a:cubicBezTo>
                                        <a:pt x="3261" y="1187"/>
                                        <a:pt x="3312" y="1311"/>
                                        <a:pt x="3356" y="1440"/>
                                      </a:cubicBezTo>
                                      <a:cubicBezTo>
                                        <a:pt x="3363" y="1462"/>
                                        <a:pt x="3364" y="1485"/>
                                        <a:pt x="3369" y="1508"/>
                                      </a:cubicBezTo>
                                      <a:cubicBezTo>
                                        <a:pt x="3389" y="1595"/>
                                        <a:pt x="3417" y="1679"/>
                                        <a:pt x="3437" y="1766"/>
                                      </a:cubicBezTo>
                                      <a:cubicBezTo>
                                        <a:pt x="3439" y="1773"/>
                                        <a:pt x="3459" y="1875"/>
                                        <a:pt x="3464" y="1888"/>
                                      </a:cubicBezTo>
                                      <a:cubicBezTo>
                                        <a:pt x="3488" y="1944"/>
                                        <a:pt x="3500" y="1925"/>
                                        <a:pt x="3546" y="1970"/>
                                      </a:cubicBezTo>
                                      <a:cubicBezTo>
                                        <a:pt x="3650" y="2072"/>
                                        <a:pt x="3531" y="1986"/>
                                        <a:pt x="3627" y="2051"/>
                                      </a:cubicBezTo>
                                      <a:cubicBezTo>
                                        <a:pt x="3692" y="2180"/>
                                        <a:pt x="3671" y="2125"/>
                                        <a:pt x="3709" y="2241"/>
                                      </a:cubicBezTo>
                                      <a:cubicBezTo>
                                        <a:pt x="3732" y="2312"/>
                                        <a:pt x="3728" y="2349"/>
                                        <a:pt x="3790" y="2391"/>
                                      </a:cubicBezTo>
                                      <a:cubicBezTo>
                                        <a:pt x="3809" y="2446"/>
                                        <a:pt x="3841" y="2478"/>
                                        <a:pt x="3872" y="2527"/>
                                      </a:cubicBezTo>
                                      <a:cubicBezTo>
                                        <a:pt x="3883" y="2544"/>
                                        <a:pt x="3886" y="2566"/>
                                        <a:pt x="3899" y="2581"/>
                                      </a:cubicBezTo>
                                      <a:cubicBezTo>
                                        <a:pt x="3910" y="2594"/>
                                        <a:pt x="3926" y="2599"/>
                                        <a:pt x="3940" y="2608"/>
                                      </a:cubicBezTo>
                                      <a:cubicBezTo>
                                        <a:pt x="3965" y="2686"/>
                                        <a:pt x="3935" y="2614"/>
                                        <a:pt x="3994" y="2690"/>
                                      </a:cubicBezTo>
                                      <a:cubicBezTo>
                                        <a:pt x="4014" y="2716"/>
                                        <a:pt x="4025" y="2748"/>
                                        <a:pt x="4048" y="2771"/>
                                      </a:cubicBezTo>
                                      <a:cubicBezTo>
                                        <a:pt x="4138" y="2861"/>
                                        <a:pt x="4192" y="2889"/>
                                        <a:pt x="4320" y="2920"/>
                                      </a:cubicBezTo>
                                      <a:cubicBezTo>
                                        <a:pt x="4325" y="2923"/>
                                        <a:pt x="4429" y="2981"/>
                                        <a:pt x="4347" y="2988"/>
                                      </a:cubicBezTo>
                                      <a:cubicBezTo>
                                        <a:pt x="4243" y="2997"/>
                                        <a:pt x="4139" y="2979"/>
                                        <a:pt x="4035" y="2975"/>
                                      </a:cubicBezTo>
                                      <a:cubicBezTo>
                                        <a:pt x="3899" y="2970"/>
                                        <a:pt x="3763" y="2966"/>
                                        <a:pt x="3627" y="2961"/>
                                      </a:cubicBezTo>
                                      <a:cubicBezTo>
                                        <a:pt x="3505" y="2966"/>
                                        <a:pt x="3382" y="2967"/>
                                        <a:pt x="3260" y="2975"/>
                                      </a:cubicBezTo>
                                      <a:cubicBezTo>
                                        <a:pt x="3173" y="2981"/>
                                        <a:pt x="3090" y="3025"/>
                                        <a:pt x="3002" y="3029"/>
                                      </a:cubicBezTo>
                                      <a:cubicBezTo>
                                        <a:pt x="2844" y="3037"/>
                                        <a:pt x="2685" y="3038"/>
                                        <a:pt x="2527" y="3043"/>
                                      </a:cubicBezTo>
                                      <a:cubicBezTo>
                                        <a:pt x="2015" y="3028"/>
                                        <a:pt x="1502" y="3029"/>
                                        <a:pt x="992" y="2988"/>
                                      </a:cubicBezTo>
                                      <a:cubicBezTo>
                                        <a:pt x="658" y="3006"/>
                                        <a:pt x="332" y="2965"/>
                                        <a:pt x="0" y="3002"/>
                                      </a:cubicBez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3168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4" name="Text Box 29"/>
                              <p:cNvSpPr/>
                              <p:nvPr/>
                            </p:nvSpPr>
                            <p:spPr>
                              <a:xfrm>
                                <a:off x="3358800" y="2991240"/>
                                <a:ext cx="685800" cy="342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6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Суша</a:t>
                                </a:r>
                                <a:endParaRPr b="0" lang="en-US" sz="16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5" name="Text Box 30"/>
                            <p:cNvSpPr/>
                            <p:nvPr/>
                          </p:nvSpPr>
                          <p:spPr>
                            <a:xfrm>
                              <a:off x="1415520" y="588600"/>
                              <a:ext cx="457200" cy="342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5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66" name="Text Box 31"/>
                          <p:cNvSpPr/>
                          <p:nvPr/>
                        </p:nvSpPr>
                        <p:spPr>
                          <a:xfrm>
                            <a:off x="1530000" y="3562920"/>
                            <a:ext cx="228600" cy="342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0</a:t>
                            </a:r>
                            <a:endPara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7" name="Line 32"/>
                        <p:cNvSpPr/>
                        <p:nvPr/>
                      </p:nvSpPr>
                      <p:spPr>
                        <a:xfrm>
                          <a:off x="1758600" y="4477320"/>
                          <a:ext cx="2857320" cy="0"/>
                        </a:xfrm>
                        <a:prstGeom prst="line">
                          <a:avLst/>
                        </a:prstGeom>
                        <a:ln w="31680">
                          <a:solidFill>
                            <a:srgbClr val="0000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68" name="Text Box 33"/>
                      <p:cNvSpPr/>
                      <p:nvPr/>
                    </p:nvSpPr>
                    <p:spPr>
                      <a:xfrm>
                        <a:off x="1530000" y="4363200"/>
                        <a:ext cx="342720" cy="342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9" name="Text Box 34"/>
              <p:cNvSpPr/>
              <p:nvPr/>
            </p:nvSpPr>
            <p:spPr>
              <a:xfrm>
                <a:off x="2101680" y="4248720"/>
                <a:ext cx="22860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Температурный барьер +105ºС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Text Box 35"/>
            <p:cNvSpPr/>
            <p:nvPr/>
          </p:nvSpPr>
          <p:spPr>
            <a:xfrm>
              <a:off x="1301400" y="5254560"/>
              <a:ext cx="560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Расположение биосферы в гидросфере, литосфере и в атмосфер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биосфер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вещества в трех агрегатных состояниях – жидком, твердом и газообразн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воды в свобод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личие большого количества энергии, как солнечного, так и земного происхожд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690200" y="2707560"/>
            <a:ext cx="65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компоненты биосф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79280" y="34761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вся сумма живых организмов, находящихся на планете в данный исторический пери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н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ое или органо-минеральное вещество, созданное организмами далекого прошлого и представленное в виде каменного угля, горючих сланцев, горючих газов, торфа, сапропеля, неф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косное вещест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органические вещества, преобразованные деятельностью организмов (вода, воздух, железная и марганцевая руд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ивое вещество планеты и его биогеохимические функ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55640" y="1844640"/>
          <a:ext cx="7772400" cy="1981080"/>
        </p:xfrm>
        <a:graphic>
          <a:graphicData uri="http://schemas.openxmlformats.org/drawingml/2006/table">
            <a:tbl>
              <a:tblPr/>
              <a:tblGrid>
                <a:gridCol w="1793880"/>
                <a:gridCol w="3103560"/>
                <a:gridCol w="2874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е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1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м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ма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0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99,8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 х 10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т (0,1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 Box 106"/>
          <p:cNvSpPr/>
          <p:nvPr/>
        </p:nvSpPr>
        <p:spPr>
          <a:xfrm>
            <a:off x="1476360" y="126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живого вещества по плане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07"/>
          <p:cNvSpPr/>
          <p:nvPr/>
        </p:nvSpPr>
        <p:spPr>
          <a:xfrm>
            <a:off x="301680" y="4375800"/>
            <a:ext cx="884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хват и запасание солнечной энергии в процессе фотосинте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органического вещества и его перенос по план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ложение органического вещества на длительный период (известняки, мел, каменный уголь, нефть, и.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обенности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1280" y="686160"/>
            <a:ext cx="907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кры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есть входящий и исходящий потоки энерг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втономна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ее изолировать и обеспечить приток энергии, то она сможет существовать практически неограниченное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являет способность к саморегуляции и самоподдерж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у нее есть буффер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ладает гомеостаз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тносительной устойчивостью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змытость границ, как по вертикали, так и по горизонта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жет существовать без какого-либо компонен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 Например, в болотных экосистемах нет почвы, в подземных (пещеры) нет притока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97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ислительно-восстановительная активность (анаэробные и аэробные организ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почвы и ее плодородного сло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нитарно-очистительная функция (разложение мертвых органических остатко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58920" y="3141720"/>
          <a:ext cx="8785080" cy="3230640"/>
        </p:xfrm>
        <a:graphic>
          <a:graphicData uri="http://schemas.openxmlformats.org/drawingml/2006/table">
            <a:tbl>
              <a:tblPr/>
              <a:tblGrid>
                <a:gridCol w="1684080"/>
                <a:gridCol w="3621240"/>
                <a:gridCol w="1631880"/>
                <a:gridCol w="1847880"/>
              </a:tblGrid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 эле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атмосфере. литосфере и гидросфере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химического элемента в телах организмов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т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ор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56"/>
          <p:cNvSpPr/>
          <p:nvPr/>
        </p:nvSpPr>
        <p:spPr>
          <a:xfrm>
            <a:off x="539640" y="24922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центрация химических элементов организм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ятие о продуктивности биосферы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428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продуктив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1…0,5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на для зоны пустынь и для арктического поя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0,5 …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тундры, лугов, полей и некоторых лесов умеренной зо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ий уровень проду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лее 3 г/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сутки характерен для экосистем тропических лесов, для пашни, морских мелковод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4" descr="tb1"/>
          <p:cNvPicPr/>
          <p:nvPr/>
        </p:nvPicPr>
        <p:blipFill>
          <a:blip r:embed="rId1"/>
          <a:stretch/>
        </p:blipFill>
        <p:spPr>
          <a:xfrm>
            <a:off x="4457880" y="765000"/>
            <a:ext cx="4686120" cy="609300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иогеохимические циклы в биосфер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геохимический цикл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ркуляционное движение неорганических веществ и химических элементов между биоценозом и биотоп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ные части БГХ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 веществ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ногократно повторяющийся процесс совместного, взаимосвязанного превращения и перемещения веществ в природе, имеющий более или менее цикличный характе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 вещест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кумуляция элементов в живых организм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2640" indent="-170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изация в результате разложения мертвых организмов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организмам в больших количествах: углерод, водород, кислород, азот, фосфор, калий, магний, кальций, се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33200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икроэлемен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79280" y="27082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бходимы в ничтожных количествах. Это большинство элементов периодической 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79280" y="472248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та часть общего количества данного вещества в данном компоненте экосистемы, которая освобождается или поглощается за определенное врем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340000" y="36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79280" y="4219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тношение пропускания к содержан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79280" y="580392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обор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это время, необходимое для полной смены всего количества этого вещества в данном компоненте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точки зрения существования биосферы биогеохимические циклы делят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2708280"/>
            <a:ext cx="91440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270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газообразных веществ с резервным фондом в атмосфере или гидросфер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270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адочный цикл с резервным фондом в земной ко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1220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ерв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ный фон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3206160" y="4149360"/>
            <a:ext cx="224100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икл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240" y="4867920"/>
            <a:ext cx="39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199600" y="56599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360320" y="4940640"/>
            <a:ext cx="40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еологический круговор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4"/>
          <p:cNvGrpSpPr/>
          <p:nvPr/>
        </p:nvGrpSpPr>
        <p:grpSpPr>
          <a:xfrm>
            <a:off x="250560" y="1413000"/>
            <a:ext cx="8497440" cy="4600080"/>
            <a:chOff x="250560" y="1413000"/>
            <a:chExt cx="8497440" cy="4600080"/>
          </a:xfrm>
        </p:grpSpPr>
        <p:grpSp>
          <p:nvGrpSpPr>
            <p:cNvPr id="312" name="Group 5"/>
            <p:cNvGrpSpPr/>
            <p:nvPr/>
          </p:nvGrpSpPr>
          <p:grpSpPr>
            <a:xfrm>
              <a:off x="250560" y="1413000"/>
              <a:ext cx="8497440" cy="4600080"/>
              <a:chOff x="250560" y="1413000"/>
              <a:chExt cx="8497440" cy="4600080"/>
            </a:xfrm>
          </p:grpSpPr>
          <p:grpSp>
            <p:nvGrpSpPr>
              <p:cNvPr id="313" name="Group 6"/>
              <p:cNvGrpSpPr/>
              <p:nvPr/>
            </p:nvGrpSpPr>
            <p:grpSpPr>
              <a:xfrm>
                <a:off x="250560" y="1413000"/>
                <a:ext cx="8497440" cy="4600080"/>
                <a:chOff x="250560" y="1413000"/>
                <a:chExt cx="8497440" cy="4600080"/>
              </a:xfrm>
            </p:grpSpPr>
            <p:grpSp>
              <p:nvGrpSpPr>
                <p:cNvPr id="314" name="Group 7"/>
                <p:cNvGrpSpPr/>
                <p:nvPr/>
              </p:nvGrpSpPr>
              <p:grpSpPr>
                <a:xfrm>
                  <a:off x="250560" y="1413000"/>
                  <a:ext cx="8497440" cy="4600080"/>
                  <a:chOff x="250560" y="1413000"/>
                  <a:chExt cx="8497440" cy="4600080"/>
                </a:xfrm>
              </p:grpSpPr>
              <p:grpSp>
                <p:nvGrpSpPr>
                  <p:cNvPr id="315" name="Group 8"/>
                  <p:cNvGrpSpPr/>
                  <p:nvPr/>
                </p:nvGrpSpPr>
                <p:grpSpPr>
                  <a:xfrm>
                    <a:off x="250560" y="1413000"/>
                    <a:ext cx="8497440" cy="4600080"/>
                    <a:chOff x="250560" y="1413000"/>
                    <a:chExt cx="8497440" cy="4600080"/>
                  </a:xfrm>
                </p:grpSpPr>
                <p:grpSp>
                  <p:nvGrpSpPr>
                    <p:cNvPr id="316" name="Group 9"/>
                    <p:cNvGrpSpPr/>
                    <p:nvPr/>
                  </p:nvGrpSpPr>
                  <p:grpSpPr>
                    <a:xfrm>
                      <a:off x="250560" y="1413000"/>
                      <a:ext cx="8497440" cy="3909960"/>
                      <a:chOff x="250560" y="1413000"/>
                      <a:chExt cx="8497440" cy="3909960"/>
                    </a:xfrm>
                  </p:grpSpPr>
                  <p:grpSp>
                    <p:nvGrpSpPr>
                      <p:cNvPr id="317" name="Group 10"/>
                      <p:cNvGrpSpPr/>
                      <p:nvPr/>
                    </p:nvGrpSpPr>
                    <p:grpSpPr>
                      <a:xfrm>
                        <a:off x="250560" y="1413000"/>
                        <a:ext cx="8497440" cy="2759760"/>
                        <a:chOff x="250560" y="1413000"/>
                        <a:chExt cx="8497440" cy="2759760"/>
                      </a:xfrm>
                    </p:grpSpPr>
                    <p:grpSp>
                      <p:nvGrpSpPr>
                        <p:cNvPr id="318" name="Group 11"/>
                        <p:cNvGrpSpPr/>
                        <p:nvPr/>
                      </p:nvGrpSpPr>
                      <p:grpSpPr>
                        <a:xfrm>
                          <a:off x="250560" y="1413000"/>
                          <a:ext cx="8497440" cy="2759760"/>
                          <a:chOff x="250560" y="1413000"/>
                          <a:chExt cx="8497440" cy="2759760"/>
                        </a:xfrm>
                      </p:grpSpPr>
                      <p:grpSp>
                        <p:nvGrpSpPr>
                          <p:cNvPr id="319" name="Group 12"/>
                          <p:cNvGrpSpPr/>
                          <p:nvPr/>
                        </p:nvGrpSpPr>
                        <p:grpSpPr>
                          <a:xfrm>
                            <a:off x="2459520" y="1413000"/>
                            <a:ext cx="6288480" cy="2759760"/>
                            <a:chOff x="2459520" y="1413000"/>
                            <a:chExt cx="6288480" cy="2759760"/>
                          </a:xfrm>
                        </p:grpSpPr>
                        <p:grpSp>
                          <p:nvGrpSpPr>
                            <p:cNvPr id="320" name="Group 13"/>
                            <p:cNvGrpSpPr/>
                            <p:nvPr/>
                          </p:nvGrpSpPr>
                          <p:grpSpPr>
                            <a:xfrm>
                              <a:off x="2629080" y="1413000"/>
                              <a:ext cx="6118920" cy="2759760"/>
                              <a:chOff x="2629080" y="1413000"/>
                              <a:chExt cx="6118920" cy="2759760"/>
                            </a:xfrm>
                          </p:grpSpPr>
                          <p:grpSp>
                            <p:nvGrpSpPr>
                              <p:cNvPr id="321" name="Group 14"/>
                              <p:cNvGrpSpPr/>
                              <p:nvPr/>
                            </p:nvGrpSpPr>
                            <p:grpSpPr>
                              <a:xfrm>
                                <a:off x="2629080" y="1413000"/>
                                <a:ext cx="6118920" cy="2759760"/>
                                <a:chOff x="2629080" y="1413000"/>
                                <a:chExt cx="6118920" cy="2759760"/>
                              </a:xfrm>
                            </p:grpSpPr>
                            <p:grpSp>
                              <p:nvGrpSpPr>
                                <p:cNvPr id="322" name="Group 15"/>
                                <p:cNvGrpSpPr/>
                                <p:nvPr/>
                              </p:nvGrpSpPr>
                              <p:grpSpPr>
                                <a:xfrm>
                                  <a:off x="2629080" y="1413000"/>
                                  <a:ext cx="6115680" cy="919800"/>
                                  <a:chOff x="2629080" y="1413000"/>
                                  <a:chExt cx="6115680" cy="919800"/>
                                </a:xfrm>
                              </p:grpSpPr>
                              <p:grpSp>
                                <p:nvGrpSpPr>
                                  <p:cNvPr id="323" name="Group 16"/>
                                  <p:cNvGrpSpPr/>
                                  <p:nvPr/>
                                </p:nvGrpSpPr>
                                <p:grpSpPr>
                                  <a:xfrm>
                                    <a:off x="2629080" y="1413000"/>
                                    <a:ext cx="4077000" cy="919800"/>
                                    <a:chOff x="2629080" y="1413000"/>
                                    <a:chExt cx="4077000" cy="919800"/>
                                  </a:xfrm>
                                </p:grpSpPr>
                                <p:grpSp>
                                  <p:nvGrpSpPr>
                                    <p:cNvPr id="324" name="Group 17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629080" y="1413000"/>
                                      <a:ext cx="1868760" cy="690120"/>
                                      <a:chOff x="2629080" y="1413000"/>
                                      <a:chExt cx="1868760" cy="690120"/>
                                    </a:xfrm>
                                  </p:grpSpPr>
                                  <p:sp>
                                    <p:nvSpPr>
                                      <p:cNvPr id="325" name="Line 18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854000"/>
                                        <a:ext cx="1868760" cy="0"/>
                                      </a:xfrm>
                                      <a:prstGeom prst="line">
                                        <a:avLst/>
                                      </a:prstGeom>
                                      <a:ln w="31680">
                                        <a:solidFill>
                                          <a:srgbClr val="000000"/>
                                        </a:solidFill>
                                        <a:miter/>
                                        <a:tailEnd len="med" type="triangle" w="med"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-46800" bIns="-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326" name="Text Box 1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629080" y="1413000"/>
                                        <a:ext cx="1868760" cy="6901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pPr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ru-RU" sz="20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imes New Roman"/>
                                          </a:rPr>
                                          <a:t>Выветривание</a:t>
                                        </a:r>
                                        <a:endParaRPr b="0" lang="en-US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327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497840" y="1413000"/>
                                      <a:ext cx="2208240" cy="91980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Изверженные породы (карбонаты)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328" name="Group 21"/>
                                  <p:cNvGrpSpPr/>
                                  <p:nvPr/>
                                </p:nvGrpSpPr>
                                <p:grpSpPr>
                                  <a:xfrm>
                                    <a:off x="6536520" y="1413000"/>
                                    <a:ext cx="2208240" cy="690120"/>
                                    <a:chOff x="6536520" y="1413000"/>
                                    <a:chExt cx="2208240" cy="690120"/>
                                  </a:xfrm>
                                </p:grpSpPr>
                                <p:sp>
                                  <p:nvSpPr>
                                    <p:cNvPr id="329" name="Line 2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873080"/>
                                      <a:ext cx="2038320" cy="0"/>
                                    </a:xfrm>
                                    <a:prstGeom prst="line">
                                      <a:avLst/>
                                    </a:prstGeom>
                                    <a:ln w="31680">
                                      <a:solidFill>
                                        <a:srgbClr val="000000"/>
                                      </a:solidFill>
                                      <a:miter/>
                                      <a:tailEnd len="med" type="triangle" w="med"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6800" bIns="-4680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330" name="Text Box 2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6536520" y="1413000"/>
                                      <a:ext cx="2208240" cy="6901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noAutofit/>
                                    </a:bodyPr>
                                    <a:p>
                                      <a:pPr marL="270000"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ru-RU" sz="12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   </a:t>
                                      </a:r>
                                      <a:r>
                                        <a:rPr b="0" lang="ru-RU" sz="20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Вынос, отложение</a:t>
                                      </a:r>
                                      <a:endParaRPr b="0" lang="en-US" sz="20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331" name="Line 24"/>
                                <p:cNvSpPr/>
                                <p:nvPr/>
                              </p:nvSpPr>
                              <p:spPr>
                                <a:xfrm>
                                  <a:off x="7555680" y="2562840"/>
                                  <a:ext cx="0" cy="919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2" name="Text Box 25"/>
                                <p:cNvSpPr/>
                                <p:nvPr/>
                              </p:nvSpPr>
                              <p:spPr>
                                <a:xfrm>
                                  <a:off x="6539400" y="3483000"/>
                                  <a:ext cx="2208600" cy="68976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27000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Осадочные породы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33" name="Group 26"/>
                              <p:cNvGrpSpPr/>
                              <p:nvPr/>
                            </p:nvGrpSpPr>
                            <p:grpSpPr>
                              <a:xfrm>
                                <a:off x="4158000" y="3252960"/>
                                <a:ext cx="2887920" cy="690120"/>
                                <a:chOff x="4158000" y="3252960"/>
                                <a:chExt cx="2887920" cy="690120"/>
                              </a:xfrm>
                            </p:grpSpPr>
                            <p:sp>
                              <p:nvSpPr>
                                <p:cNvPr id="334" name="Line 27"/>
                                <p:cNvSpPr/>
                                <p:nvPr/>
                              </p:nvSpPr>
                              <p:spPr>
                                <a:xfrm flipH="1">
                                  <a:off x="4158000" y="3713040"/>
                                  <a:ext cx="23781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35" name="Text Box 28"/>
                                <p:cNvSpPr/>
                                <p:nvPr/>
                              </p:nvSpPr>
                              <p:spPr>
                                <a:xfrm>
                                  <a:off x="4158000" y="3252960"/>
                                  <a:ext cx="2887920" cy="6901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marL="360360" indent="-360360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     </a:t>
                                  </a: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Изменения,   метаморфоз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336" name="Text Box 29"/>
                            <p:cNvSpPr/>
                            <p:nvPr/>
                          </p:nvSpPr>
                          <p:spPr>
                            <a:xfrm>
                              <a:off x="2459520" y="3252960"/>
                              <a:ext cx="2038680" cy="91980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Метаморфические породы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37" name="Line 30"/>
                          <p:cNvSpPr/>
                          <p:nvPr/>
                        </p:nvSpPr>
                        <p:spPr>
                          <a:xfrm flipH="1">
                            <a:off x="250560" y="3713040"/>
                            <a:ext cx="203868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38" name="Text Box 31"/>
                        <p:cNvSpPr/>
                        <p:nvPr/>
                      </p:nvSpPr>
                      <p:spPr>
                        <a:xfrm>
                          <a:off x="590400" y="3023280"/>
                          <a:ext cx="1528920" cy="6897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ереплавка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39" name="Line 32"/>
                      <p:cNvSpPr/>
                      <p:nvPr/>
                    </p:nvSpPr>
                    <p:spPr>
                      <a:xfrm>
                        <a:off x="1270080" y="3943080"/>
                        <a:ext cx="0" cy="137988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0" name="Text Box 33"/>
                    <p:cNvSpPr/>
                    <p:nvPr/>
                  </p:nvSpPr>
                  <p:spPr>
                    <a:xfrm>
                      <a:off x="760320" y="5323320"/>
                      <a:ext cx="1019160" cy="689760"/>
                    </a:xfrm>
                    <a:prstGeom prst="rect">
                      <a:avLst/>
                    </a:prstGeom>
                    <a:noFill/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1" name="Line 34"/>
                  <p:cNvSpPr/>
                  <p:nvPr/>
                </p:nvSpPr>
                <p:spPr>
                  <a:xfrm>
                    <a:off x="1779840" y="5553360"/>
                    <a:ext cx="152892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2" name="Text Box 35"/>
                <p:cNvSpPr/>
                <p:nvPr/>
              </p:nvSpPr>
              <p:spPr>
                <a:xfrm>
                  <a:off x="1609920" y="5093280"/>
                  <a:ext cx="1868760" cy="9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17928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Вулканическая активност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Text Box 36"/>
              <p:cNvSpPr/>
              <p:nvPr/>
            </p:nvSpPr>
            <p:spPr>
              <a:xfrm>
                <a:off x="3308760" y="5323320"/>
                <a:ext cx="2208600" cy="68976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О</a:t>
                </a:r>
                <a:r>
                  <a:rPr b="0" lang="ru-RU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 (атмосферный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7"/>
            <p:cNvSpPr/>
            <p:nvPr/>
          </p:nvSpPr>
          <p:spPr>
            <a:xfrm>
              <a:off x="420840" y="1573920"/>
              <a:ext cx="2208240" cy="689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(атмосферный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логически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395280" y="1413000"/>
            <a:ext cx="8497800" cy="4900680"/>
            <a:chOff x="395280" y="1413000"/>
            <a:chExt cx="8497800" cy="4900680"/>
          </a:xfrm>
        </p:grpSpPr>
        <p:grpSp>
          <p:nvGrpSpPr>
            <p:cNvPr id="348" name="Group 5"/>
            <p:cNvGrpSpPr/>
            <p:nvPr/>
          </p:nvGrpSpPr>
          <p:grpSpPr>
            <a:xfrm>
              <a:off x="395280" y="1413000"/>
              <a:ext cx="8497800" cy="4900680"/>
              <a:chOff x="395280" y="1413000"/>
              <a:chExt cx="8497800" cy="4900680"/>
            </a:xfrm>
          </p:grpSpPr>
          <p:grpSp>
            <p:nvGrpSpPr>
              <p:cNvPr id="349" name="Group 6"/>
              <p:cNvGrpSpPr/>
              <p:nvPr/>
            </p:nvGrpSpPr>
            <p:grpSpPr>
              <a:xfrm>
                <a:off x="395280" y="1413000"/>
                <a:ext cx="8497800" cy="4900680"/>
                <a:chOff x="395280" y="1413000"/>
                <a:chExt cx="8497800" cy="4900680"/>
              </a:xfrm>
            </p:grpSpPr>
            <p:grpSp>
              <p:nvGrpSpPr>
                <p:cNvPr id="350" name="Group 7"/>
                <p:cNvGrpSpPr/>
                <p:nvPr/>
              </p:nvGrpSpPr>
              <p:grpSpPr>
                <a:xfrm>
                  <a:off x="395280" y="1413000"/>
                  <a:ext cx="8497800" cy="4900680"/>
                  <a:chOff x="395280" y="1413000"/>
                  <a:chExt cx="8497800" cy="4900680"/>
                </a:xfrm>
              </p:grpSpPr>
              <p:grpSp>
                <p:nvGrpSpPr>
                  <p:cNvPr id="351" name="Group 8"/>
                  <p:cNvGrpSpPr/>
                  <p:nvPr/>
                </p:nvGrpSpPr>
                <p:grpSpPr>
                  <a:xfrm>
                    <a:off x="395280" y="1413000"/>
                    <a:ext cx="8497800" cy="3976560"/>
                    <a:chOff x="395280" y="1413000"/>
                    <a:chExt cx="8497800" cy="3976560"/>
                  </a:xfrm>
                </p:grpSpPr>
                <p:grpSp>
                  <p:nvGrpSpPr>
                    <p:cNvPr id="352" name="Group 9"/>
                    <p:cNvGrpSpPr/>
                    <p:nvPr/>
                  </p:nvGrpSpPr>
                  <p:grpSpPr>
                    <a:xfrm>
                      <a:off x="395280" y="1413000"/>
                      <a:ext cx="8497800" cy="1224720"/>
                      <a:chOff x="395280" y="1413000"/>
                      <a:chExt cx="8497800" cy="1224720"/>
                    </a:xfrm>
                  </p:grpSpPr>
                  <p:grpSp>
                    <p:nvGrpSpPr>
                      <p:cNvPr id="353" name="Group 10"/>
                      <p:cNvGrpSpPr/>
                      <p:nvPr/>
                    </p:nvGrpSpPr>
                    <p:grpSpPr>
                      <a:xfrm>
                        <a:off x="395280" y="1413000"/>
                        <a:ext cx="6939000" cy="1224360"/>
                        <a:chOff x="395280" y="1413000"/>
                        <a:chExt cx="6939000" cy="1224360"/>
                      </a:xfrm>
                    </p:grpSpPr>
                    <p:grpSp>
                      <p:nvGrpSpPr>
                        <p:cNvPr id="354" name="Group 11"/>
                        <p:cNvGrpSpPr/>
                        <p:nvPr/>
                      </p:nvGrpSpPr>
                      <p:grpSpPr>
                        <a:xfrm>
                          <a:off x="395280" y="1413000"/>
                          <a:ext cx="5204160" cy="1224000"/>
                          <a:chOff x="395280" y="1413000"/>
                          <a:chExt cx="5204160" cy="1224000"/>
                        </a:xfrm>
                      </p:grpSpPr>
                      <p:grpSp>
                        <p:nvGrpSpPr>
                          <p:cNvPr id="355" name="Group 12"/>
                          <p:cNvGrpSpPr/>
                          <p:nvPr/>
                        </p:nvGrpSpPr>
                        <p:grpSpPr>
                          <a:xfrm>
                            <a:off x="395280" y="1413000"/>
                            <a:ext cx="3642480" cy="1223640"/>
                            <a:chOff x="395280" y="1413000"/>
                            <a:chExt cx="3642480" cy="1223640"/>
                          </a:xfrm>
                        </p:grpSpPr>
                        <p:sp>
                          <p:nvSpPr>
                            <p:cNvPr id="356" name="Text Box 13"/>
                            <p:cNvSpPr/>
                            <p:nvPr/>
                          </p:nvSpPr>
                          <p:spPr>
                            <a:xfrm>
                              <a:off x="395280" y="1719000"/>
                              <a:ext cx="2255040" cy="9176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7" name="Line 14"/>
                            <p:cNvSpPr/>
                            <p:nvPr/>
                          </p:nvSpPr>
                          <p:spPr>
                            <a:xfrm>
                              <a:off x="2650320" y="2025000"/>
                              <a:ext cx="1387440" cy="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8" name="Text Box 15"/>
                            <p:cNvSpPr/>
                            <p:nvPr/>
                          </p:nvSpPr>
                          <p:spPr>
                            <a:xfrm>
                              <a:off x="2476800" y="1413000"/>
                              <a:ext cx="1560960" cy="9180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Фотосинтез</a:t>
                              </a:r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59" name="Text Box 16"/>
                          <p:cNvSpPr/>
                          <p:nvPr/>
                        </p:nvSpPr>
                        <p:spPr>
                          <a:xfrm>
                            <a:off x="4038120" y="1719000"/>
                            <a:ext cx="1561320" cy="9180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Про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60" name="Line 17"/>
                        <p:cNvSpPr/>
                        <p:nvPr/>
                      </p:nvSpPr>
                      <p:spPr>
                        <a:xfrm>
                          <a:off x="5599440" y="2025360"/>
                          <a:ext cx="17348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Text Box 18"/>
                        <p:cNvSpPr/>
                        <p:nvPr/>
                      </p:nvSpPr>
                      <p:spPr>
                        <a:xfrm>
                          <a:off x="5599440" y="1413000"/>
                          <a:ext cx="1734840" cy="1224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Поедание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нсументами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62" name="Text Box 19"/>
                      <p:cNvSpPr/>
                      <p:nvPr/>
                    </p:nvSpPr>
                    <p:spPr>
                      <a:xfrm>
                        <a:off x="7331760" y="1719360"/>
                        <a:ext cx="1561320" cy="9183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онсументы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63" name="Text Box 20"/>
                    <p:cNvSpPr/>
                    <p:nvPr/>
                  </p:nvSpPr>
                  <p:spPr>
                    <a:xfrm>
                      <a:off x="5255640" y="4164480"/>
                      <a:ext cx="2775600" cy="12250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твое органическое вещ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Line 21"/>
                    <p:cNvSpPr/>
                    <p:nvPr/>
                  </p:nvSpPr>
                  <p:spPr>
                    <a:xfrm>
                      <a:off x="4732200" y="2331720"/>
                      <a:ext cx="156132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Line 22"/>
                    <p:cNvSpPr/>
                    <p:nvPr/>
                  </p:nvSpPr>
                  <p:spPr>
                    <a:xfrm flipH="1">
                      <a:off x="6813720" y="2331720"/>
                      <a:ext cx="1387800" cy="1837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6" name="Line 23"/>
                  <p:cNvSpPr/>
                  <p:nvPr/>
                </p:nvSpPr>
                <p:spPr>
                  <a:xfrm flipH="1">
                    <a:off x="4211280" y="4782240"/>
                    <a:ext cx="17348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Text Box 24"/>
                  <p:cNvSpPr/>
                  <p:nvPr/>
                </p:nvSpPr>
                <p:spPr>
                  <a:xfrm>
                    <a:off x="2823840" y="5394960"/>
                    <a:ext cx="1561320" cy="9187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дуценты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8" name="Line 25"/>
                <p:cNvSpPr/>
                <p:nvPr/>
              </p:nvSpPr>
              <p:spPr>
                <a:xfrm flipH="1">
                  <a:off x="915480" y="5701680"/>
                  <a:ext cx="19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6"/>
                <p:cNvSpPr/>
                <p:nvPr/>
              </p:nvSpPr>
              <p:spPr>
                <a:xfrm flipV="1">
                  <a:off x="915480" y="2637720"/>
                  <a:ext cx="0" cy="30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Line 27"/>
              <p:cNvSpPr/>
              <p:nvPr/>
            </p:nvSpPr>
            <p:spPr>
              <a:xfrm>
                <a:off x="4732200" y="2331720"/>
                <a:ext cx="0" cy="183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28"/>
              <p:cNvSpPr/>
              <p:nvPr/>
            </p:nvSpPr>
            <p:spPr>
              <a:xfrm flipH="1">
                <a:off x="1609560" y="4170240"/>
                <a:ext cx="312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29"/>
              <p:cNvSpPr/>
              <p:nvPr/>
            </p:nvSpPr>
            <p:spPr>
              <a:xfrm flipV="1">
                <a:off x="1609560" y="2637720"/>
                <a:ext cx="0" cy="153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30"/>
            <p:cNvSpPr/>
            <p:nvPr/>
          </p:nvSpPr>
          <p:spPr>
            <a:xfrm>
              <a:off x="2476800" y="3557520"/>
              <a:ext cx="1387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ыха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генный круговорот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"/>
          <p:cNvGrpSpPr/>
          <p:nvPr/>
        </p:nvGrpSpPr>
        <p:grpSpPr>
          <a:xfrm>
            <a:off x="468360" y="1341360"/>
            <a:ext cx="8280360" cy="3879720"/>
            <a:chOff x="468360" y="1341360"/>
            <a:chExt cx="8280360" cy="3879720"/>
          </a:xfrm>
        </p:grpSpPr>
        <p:sp>
          <p:nvSpPr>
            <p:cNvPr id="377" name="Line 5"/>
            <p:cNvSpPr/>
            <p:nvPr/>
          </p:nvSpPr>
          <p:spPr>
            <a:xfrm>
              <a:off x="4915080" y="1902960"/>
              <a:ext cx="12265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6"/>
            <p:cNvGrpSpPr/>
            <p:nvPr/>
          </p:nvGrpSpPr>
          <p:grpSpPr>
            <a:xfrm>
              <a:off x="468360" y="1341360"/>
              <a:ext cx="8280360" cy="3879720"/>
              <a:chOff x="468360" y="1341360"/>
              <a:chExt cx="8280360" cy="3879720"/>
            </a:xfrm>
          </p:grpSpPr>
          <p:sp>
            <p:nvSpPr>
              <p:cNvPr id="379" name="Line 7"/>
              <p:cNvSpPr/>
              <p:nvPr/>
            </p:nvSpPr>
            <p:spPr>
              <a:xfrm flipH="1" flipV="1">
                <a:off x="1081440" y="2449800"/>
                <a:ext cx="5673600" cy="22168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468360" y="1341360"/>
                <a:ext cx="8280360" cy="3879720"/>
                <a:chOff x="468360" y="1341360"/>
                <a:chExt cx="8280360" cy="3879720"/>
              </a:xfrm>
            </p:grpSpPr>
            <p:grpSp>
              <p:nvGrpSpPr>
                <p:cNvPr id="381" name="Group 9"/>
                <p:cNvGrpSpPr/>
                <p:nvPr/>
              </p:nvGrpSpPr>
              <p:grpSpPr>
                <a:xfrm>
                  <a:off x="468360" y="1341360"/>
                  <a:ext cx="8280360" cy="3325320"/>
                  <a:chOff x="468360" y="1341360"/>
                  <a:chExt cx="8280360" cy="3325320"/>
                </a:xfrm>
              </p:grpSpPr>
              <p:grpSp>
                <p:nvGrpSpPr>
                  <p:cNvPr id="382" name="Group 10"/>
                  <p:cNvGrpSpPr/>
                  <p:nvPr/>
                </p:nvGrpSpPr>
                <p:grpSpPr>
                  <a:xfrm>
                    <a:off x="468360" y="1341360"/>
                    <a:ext cx="8280360" cy="3325320"/>
                    <a:chOff x="468360" y="1341360"/>
                    <a:chExt cx="8280360" cy="3325320"/>
                  </a:xfrm>
                </p:grpSpPr>
                <p:grpSp>
                  <p:nvGrpSpPr>
                    <p:cNvPr id="383" name="Group 11"/>
                    <p:cNvGrpSpPr/>
                    <p:nvPr/>
                  </p:nvGrpSpPr>
                  <p:grpSpPr>
                    <a:xfrm>
                      <a:off x="468360" y="1341360"/>
                      <a:ext cx="5826600" cy="1662840"/>
                      <a:chOff x="468360" y="1341360"/>
                      <a:chExt cx="5826600" cy="1662840"/>
                    </a:xfrm>
                  </p:grpSpPr>
                  <p:grpSp>
                    <p:nvGrpSpPr>
                      <p:cNvPr id="384" name="Group 12"/>
                      <p:cNvGrpSpPr/>
                      <p:nvPr/>
                    </p:nvGrpSpPr>
                    <p:grpSpPr>
                      <a:xfrm>
                        <a:off x="468360" y="1341360"/>
                        <a:ext cx="4446720" cy="1662840"/>
                        <a:chOff x="468360" y="1341360"/>
                        <a:chExt cx="4446720" cy="1662840"/>
                      </a:xfrm>
                    </p:grpSpPr>
                    <p:grpSp>
                      <p:nvGrpSpPr>
                        <p:cNvPr id="385" name="Group 13"/>
                        <p:cNvGrpSpPr/>
                        <p:nvPr/>
                      </p:nvGrpSpPr>
                      <p:grpSpPr>
                        <a:xfrm>
                          <a:off x="468360" y="1341360"/>
                          <a:ext cx="3219840" cy="1108440"/>
                          <a:chOff x="468360" y="1341360"/>
                          <a:chExt cx="3219840" cy="1108440"/>
                        </a:xfrm>
                      </p:grpSpPr>
                      <p:grpSp>
                        <p:nvGrpSpPr>
                          <p:cNvPr id="386" name="Group 14"/>
                          <p:cNvGrpSpPr/>
                          <p:nvPr/>
                        </p:nvGrpSpPr>
                        <p:grpSpPr>
                          <a:xfrm>
                            <a:off x="468360" y="1618560"/>
                            <a:ext cx="2912760" cy="831240"/>
                            <a:chOff x="468360" y="1618560"/>
                            <a:chExt cx="2912760" cy="831240"/>
                          </a:xfrm>
                        </p:grpSpPr>
                        <p:sp>
                          <p:nvSpPr>
                            <p:cNvPr id="387" name="Text Box 15"/>
                            <p:cNvSpPr/>
                            <p:nvPr/>
                          </p:nvSpPr>
                          <p:spPr>
                            <a:xfrm>
                              <a:off x="468360" y="1618560"/>
                              <a:ext cx="1992960" cy="831240"/>
                            </a:xfrm>
                            <a:prstGeom prst="rect">
                              <a:avLst/>
                            </a:prstGeom>
                            <a:noFill/>
                            <a:ln w="3168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О</a:t>
                              </a:r>
                              <a:r>
                                <a:rPr b="0" lang="ru-RU" sz="20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0" lang="ru-RU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 (атмосферный)</a:t>
                              </a: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8" name="Line 16"/>
                            <p:cNvSpPr/>
                            <p:nvPr/>
                          </p:nvSpPr>
                          <p:spPr>
                            <a:xfrm>
                              <a:off x="2461320" y="1895760"/>
                              <a:ext cx="919800" cy="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89" name="Text Box 17"/>
                          <p:cNvSpPr/>
                          <p:nvPr/>
                        </p:nvSpPr>
                        <p:spPr>
                          <a:xfrm>
                            <a:off x="2308320" y="1341360"/>
                            <a:ext cx="1379880" cy="8316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6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Усвоение</a:t>
                            </a:r>
                            <a:endParaRPr b="0" lang="en-US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0" name="Text Box 18"/>
                        <p:cNvSpPr/>
                        <p:nvPr/>
                      </p:nvSpPr>
                      <p:spPr>
                        <a:xfrm>
                          <a:off x="3381840" y="1341360"/>
                          <a:ext cx="1533240" cy="1662840"/>
                        </a:xfrm>
                        <a:prstGeom prst="rect">
                          <a:avLst/>
                        </a:prstGeom>
                        <a:noFill/>
                        <a:ln w="31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ru-RU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Углерод в телах живых организмов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91" name="Text Box 19"/>
                      <p:cNvSpPr/>
                      <p:nvPr/>
                    </p:nvSpPr>
                    <p:spPr>
                      <a:xfrm>
                        <a:off x="4915080" y="1341360"/>
                        <a:ext cx="1379880" cy="831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Отмирани</a:t>
                        </a:r>
                        <a:r>
                          <a:rPr b="0" lang="ru-RU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2" name="Group 20"/>
                    <p:cNvGrpSpPr/>
                    <p:nvPr/>
                  </p:nvGrpSpPr>
                  <p:grpSpPr>
                    <a:xfrm>
                      <a:off x="6141960" y="1341360"/>
                      <a:ext cx="2606760" cy="3324960"/>
                      <a:chOff x="6141960" y="1341360"/>
                      <a:chExt cx="2606760" cy="3324960"/>
                    </a:xfrm>
                  </p:grpSpPr>
                  <p:sp>
                    <p:nvSpPr>
                      <p:cNvPr id="393" name="Text Box 21"/>
                      <p:cNvSpPr/>
                      <p:nvPr/>
                    </p:nvSpPr>
                    <p:spPr>
                      <a:xfrm>
                        <a:off x="6141960" y="1341360"/>
                        <a:ext cx="1686600" cy="1662840"/>
                      </a:xfrm>
                      <a:prstGeom prst="rect">
                        <a:avLst/>
                      </a:prstGeom>
                      <a:noFill/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Углерод мертвых органических остатков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Line 22"/>
                      <p:cNvSpPr/>
                      <p:nvPr/>
                    </p:nvSpPr>
                    <p:spPr>
                      <a:xfrm>
                        <a:off x="7826040" y="2172600"/>
                        <a:ext cx="92016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Line 23"/>
                      <p:cNvSpPr/>
                      <p:nvPr/>
                    </p:nvSpPr>
                    <p:spPr>
                      <a:xfrm>
                        <a:off x="8748720" y="2172600"/>
                        <a:ext cx="0" cy="2493720"/>
                      </a:xfrm>
                      <a:prstGeom prst="line">
                        <a:avLst/>
                      </a:prstGeom>
                      <a:ln w="31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96" name="Line 24"/>
                    <p:cNvSpPr/>
                    <p:nvPr/>
                  </p:nvSpPr>
                  <p:spPr>
                    <a:xfrm flipH="1">
                      <a:off x="8134920" y="4666680"/>
                      <a:ext cx="61308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7" name="Text Box 25"/>
                  <p:cNvSpPr/>
                  <p:nvPr/>
                </p:nvSpPr>
                <p:spPr>
                  <a:xfrm>
                    <a:off x="8288640" y="2172600"/>
                    <a:ext cx="459720" cy="2493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хоронение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" name="Text Box 26"/>
                <p:cNvSpPr/>
                <p:nvPr/>
              </p:nvSpPr>
              <p:spPr>
                <a:xfrm>
                  <a:off x="6755040" y="4112640"/>
                  <a:ext cx="1379880" cy="1108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Times New Roman"/>
                    </a:rPr>
                    <a:t>Каменный уголь, нефть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Text Box 27"/>
              <p:cNvSpPr/>
              <p:nvPr/>
            </p:nvSpPr>
            <p:spPr>
              <a:xfrm>
                <a:off x="3994920" y="3835440"/>
                <a:ext cx="1073160" cy="83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Горение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икл аз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4"/>
          <p:cNvGrpSpPr/>
          <p:nvPr/>
        </p:nvGrpSpPr>
        <p:grpSpPr>
          <a:xfrm>
            <a:off x="1258920" y="981000"/>
            <a:ext cx="6149880" cy="5454720"/>
            <a:chOff x="1258920" y="981000"/>
            <a:chExt cx="6149880" cy="5454720"/>
          </a:xfrm>
        </p:grpSpPr>
        <p:sp>
          <p:nvSpPr>
            <p:cNvPr id="403" name="Line 54"/>
            <p:cNvSpPr/>
            <p:nvPr/>
          </p:nvSpPr>
          <p:spPr>
            <a:xfrm>
              <a:off x="2073240" y="4162320"/>
              <a:ext cx="0" cy="204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55"/>
            <p:cNvSpPr/>
            <p:nvPr/>
          </p:nvSpPr>
          <p:spPr>
            <a:xfrm>
              <a:off x="2073240" y="6207120"/>
              <a:ext cx="1463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Group 63"/>
            <p:cNvGrpSpPr/>
            <p:nvPr/>
          </p:nvGrpSpPr>
          <p:grpSpPr>
            <a:xfrm>
              <a:off x="1258920" y="981000"/>
              <a:ext cx="6149880" cy="5454720"/>
              <a:chOff x="1258920" y="981000"/>
              <a:chExt cx="6149880" cy="5454720"/>
            </a:xfrm>
          </p:grpSpPr>
          <p:sp>
            <p:nvSpPr>
              <p:cNvPr id="406" name="Line 47"/>
              <p:cNvSpPr/>
              <p:nvPr/>
            </p:nvSpPr>
            <p:spPr>
              <a:xfrm>
                <a:off x="3935520" y="5506920"/>
                <a:ext cx="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Group 62"/>
              <p:cNvGrpSpPr/>
              <p:nvPr/>
            </p:nvGrpSpPr>
            <p:grpSpPr>
              <a:xfrm>
                <a:off x="1258920" y="981000"/>
                <a:ext cx="6149880" cy="5454720"/>
                <a:chOff x="1258920" y="981000"/>
                <a:chExt cx="6149880" cy="5454720"/>
              </a:xfrm>
            </p:grpSpPr>
            <p:sp>
              <p:nvSpPr>
                <p:cNvPr id="408" name="Line 44"/>
                <p:cNvSpPr/>
                <p:nvPr/>
              </p:nvSpPr>
              <p:spPr>
                <a:xfrm>
                  <a:off x="3935520" y="4346280"/>
                  <a:ext cx="0" cy="81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Text Box 48"/>
                <p:cNvSpPr/>
                <p:nvPr/>
              </p:nvSpPr>
              <p:spPr>
                <a:xfrm>
                  <a:off x="3137040" y="5624280"/>
                  <a:ext cx="2082600" cy="34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и Nitrobac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Group 61"/>
                <p:cNvGrpSpPr/>
                <p:nvPr/>
              </p:nvGrpSpPr>
              <p:grpSpPr>
                <a:xfrm>
                  <a:off x="1258920" y="981000"/>
                  <a:ext cx="6149880" cy="5454720"/>
                  <a:chOff x="1258920" y="981000"/>
                  <a:chExt cx="6149880" cy="5454720"/>
                </a:xfrm>
              </p:grpSpPr>
              <p:sp>
                <p:nvSpPr>
                  <p:cNvPr id="411" name="Line 41"/>
                  <p:cNvSpPr/>
                  <p:nvPr/>
                </p:nvSpPr>
                <p:spPr>
                  <a:xfrm>
                    <a:off x="3935520" y="2257200"/>
                    <a:ext cx="0" cy="231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2" name="Group 60"/>
                  <p:cNvGrpSpPr/>
                  <p:nvPr/>
                </p:nvGrpSpPr>
                <p:grpSpPr>
                  <a:xfrm>
                    <a:off x="1258920" y="981000"/>
                    <a:ext cx="6149880" cy="5454720"/>
                    <a:chOff x="1258920" y="981000"/>
                    <a:chExt cx="6149880" cy="5454720"/>
                  </a:xfrm>
                </p:grpSpPr>
                <p:grpSp>
                  <p:nvGrpSpPr>
                    <p:cNvPr id="413" name="Group 21"/>
                    <p:cNvGrpSpPr/>
                    <p:nvPr/>
                  </p:nvGrpSpPr>
                  <p:grpSpPr>
                    <a:xfrm>
                      <a:off x="2072880" y="981000"/>
                      <a:ext cx="4522320" cy="3365280"/>
                      <a:chOff x="2072880" y="981000"/>
                      <a:chExt cx="4522320" cy="3365280"/>
                    </a:xfrm>
                  </p:grpSpPr>
                  <p:grpSp>
                    <p:nvGrpSpPr>
                      <p:cNvPr id="414" name="Group 22"/>
                      <p:cNvGrpSpPr/>
                      <p:nvPr/>
                    </p:nvGrpSpPr>
                    <p:grpSpPr>
                      <a:xfrm>
                        <a:off x="2072880" y="981000"/>
                        <a:ext cx="4522320" cy="3365280"/>
                        <a:chOff x="2072880" y="981000"/>
                        <a:chExt cx="4522320" cy="3365280"/>
                      </a:xfrm>
                    </p:grpSpPr>
                    <p:grpSp>
                      <p:nvGrpSpPr>
                        <p:cNvPr id="415" name="Group 23"/>
                        <p:cNvGrpSpPr/>
                        <p:nvPr/>
                      </p:nvGrpSpPr>
                      <p:grpSpPr>
                        <a:xfrm>
                          <a:off x="3270240" y="981000"/>
                          <a:ext cx="3324960" cy="3365280"/>
                          <a:chOff x="3270240" y="981000"/>
                          <a:chExt cx="3324960" cy="3365280"/>
                        </a:xfrm>
                      </p:grpSpPr>
                      <p:grpSp>
                        <p:nvGrpSpPr>
                          <p:cNvPr id="416" name="Group 24"/>
                          <p:cNvGrpSpPr/>
                          <p:nvPr/>
                        </p:nvGrpSpPr>
                        <p:grpSpPr>
                          <a:xfrm>
                            <a:off x="3270240" y="981000"/>
                            <a:ext cx="3324960" cy="1972440"/>
                            <a:chOff x="3270240" y="981000"/>
                            <a:chExt cx="3324960" cy="1972440"/>
                          </a:xfrm>
                        </p:grpSpPr>
                        <p:sp>
                          <p:nvSpPr>
                            <p:cNvPr id="417" name="Text Box 25"/>
                            <p:cNvSpPr/>
                            <p:nvPr/>
                          </p:nvSpPr>
                          <p:spPr>
                            <a:xfrm>
                              <a:off x="4334040" y="981000"/>
                              <a:ext cx="1330200" cy="46404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Атмосферный азот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8" name="Group 26"/>
                            <p:cNvGrpSpPr/>
                            <p:nvPr/>
                          </p:nvGrpSpPr>
                          <p:grpSpPr>
                            <a:xfrm>
                              <a:off x="3270240" y="1793160"/>
                              <a:ext cx="3324960" cy="1160280"/>
                              <a:chOff x="3270240" y="1793160"/>
                              <a:chExt cx="3324960" cy="1160280"/>
                            </a:xfrm>
                          </p:grpSpPr>
                          <p:grpSp>
                            <p:nvGrpSpPr>
                              <p:cNvPr id="419" name="Group 27"/>
                              <p:cNvGrpSpPr/>
                              <p:nvPr/>
                            </p:nvGrpSpPr>
                            <p:grpSpPr>
                              <a:xfrm>
                                <a:off x="3270240" y="1793160"/>
                                <a:ext cx="3324960" cy="464040"/>
                                <a:chOff x="3270240" y="1793160"/>
                                <a:chExt cx="3324960" cy="464040"/>
                              </a:xfrm>
                            </p:grpSpPr>
                            <p:sp>
                              <p:nvSpPr>
                                <p:cNvPr id="420" name="Text Box 28"/>
                                <p:cNvSpPr/>
                                <p:nvPr/>
                              </p:nvSpPr>
                              <p:spPr>
                                <a:xfrm>
                                  <a:off x="3270240" y="1793160"/>
                                  <a:ext cx="146304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Раститель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1" name="Text Box 29"/>
                                <p:cNvSpPr/>
                                <p:nvPr/>
                              </p:nvSpPr>
                              <p:spPr>
                                <a:xfrm>
                                  <a:off x="5398200" y="1793160"/>
                                  <a:ext cx="1197000" cy="4640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1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Животный белок</a:t>
                                  </a:r>
                                  <a:endParaRPr b="0" lang="en-US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22" name="Line 30"/>
                                <p:cNvSpPr/>
                                <p:nvPr/>
                              </p:nvSpPr>
                              <p:spPr>
                                <a:xfrm>
                                  <a:off x="4733280" y="2025000"/>
                                  <a:ext cx="664920" cy="0"/>
                                </a:xfrm>
                                <a:prstGeom prst="line">
                                  <a:avLst/>
                                </a:prstGeom>
                                <a:ln w="9360">
                                  <a:solidFill>
                                    <a:srgbClr val="000000"/>
                                  </a:solidFill>
                                  <a:miter/>
                                  <a:tailEnd len="med" type="triangle" w="med"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423" name="Line 31"/>
                              <p:cNvSpPr/>
                              <p:nvPr/>
                            </p:nvSpPr>
                            <p:spPr>
                              <a:xfrm flipH="1">
                                <a:off x="4865760" y="2257200"/>
                                <a:ext cx="1197000" cy="46404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tail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24" name="Text Box 32"/>
                              <p:cNvSpPr/>
                              <p:nvPr/>
                            </p:nvSpPr>
                            <p:spPr>
                              <a:xfrm>
                                <a:off x="3270240" y="2489400"/>
                                <a:ext cx="1595880" cy="464040"/>
                              </a:xfrm>
                              <a:prstGeom prst="rec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1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Мертвые остатки, экскременты</a:t>
                                </a:r>
                                <a:endParaRPr b="0" lang="en-US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25" name="Group 33"/>
                          <p:cNvGrpSpPr/>
                          <p:nvPr/>
                        </p:nvGrpSpPr>
                        <p:grpSpPr>
                          <a:xfrm>
                            <a:off x="3536280" y="2953800"/>
                            <a:ext cx="1063800" cy="1392480"/>
                            <a:chOff x="3536280" y="2953800"/>
                            <a:chExt cx="1063800" cy="1392480"/>
                          </a:xfrm>
                        </p:grpSpPr>
                        <p:sp>
                          <p:nvSpPr>
                            <p:cNvPr id="426" name="Text Box 34"/>
                            <p:cNvSpPr/>
                            <p:nvPr/>
                          </p:nvSpPr>
                          <p:spPr>
                            <a:xfrm>
                              <a:off x="3536280" y="3998160"/>
                              <a:ext cx="1063800" cy="348120"/>
                            </a:xfrm>
                            <a:prstGeom prst="rect">
                              <a:avLst/>
                            </a:prstGeom>
                            <a:noFill/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, NH</a:t>
                              </a:r>
                              <a:r>
                                <a:rPr b="0" lang="ru-RU" sz="14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r>
                                <a:rPr b="0" lang="ru-RU" sz="1400" spc="-1" strike="noStrike" baseline="30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+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7" name="Line 35"/>
                            <p:cNvSpPr/>
                            <p:nvPr/>
                          </p:nvSpPr>
                          <p:spPr>
                            <a:xfrm>
                              <a:off x="3935160" y="2953800"/>
                              <a:ext cx="0" cy="1044360"/>
                            </a:xfrm>
                            <a:prstGeom prst="line">
                              <a:avLst/>
                            </a:prstGeom>
                            <a:ln w="936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28" name="Text Box 36"/>
                            <p:cNvSpPr/>
                            <p:nvPr/>
                          </p:nvSpPr>
                          <p:spPr>
                            <a:xfrm>
                              <a:off x="3536280" y="2953800"/>
                              <a:ext cx="930600" cy="9284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Сапрофитные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  <a:p>
                              <a:pPr algn="ctr"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ru-RU" sz="1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бактерии</a:t>
                              </a:r>
                              <a:endParaRPr b="0" lang="en-US" sz="1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429" name="Line 37"/>
                        <p:cNvSpPr/>
                        <p:nvPr/>
                      </p:nvSpPr>
                      <p:spPr>
                        <a:xfrm flipH="1">
                          <a:off x="2072880" y="1212840"/>
                          <a:ext cx="2261160" cy="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0" name="Line 38"/>
                        <p:cNvSpPr/>
                        <p:nvPr/>
                      </p:nvSpPr>
                      <p:spPr>
                        <a:xfrm>
                          <a:off x="2073240" y="1212840"/>
                          <a:ext cx="0" cy="3017160"/>
                        </a:xfrm>
                        <a:prstGeom prst="line">
                          <a:avLst/>
                        </a:prstGeom>
                        <a:ln w="158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1" name="Line 39"/>
                      <p:cNvSpPr/>
                      <p:nvPr/>
                    </p:nvSpPr>
                    <p:spPr>
                      <a:xfrm>
                        <a:off x="2073240" y="4230360"/>
                        <a:ext cx="1463040" cy="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2" name="Text Box 40"/>
                    <p:cNvSpPr/>
                    <p:nvPr/>
                  </p:nvSpPr>
                  <p:spPr>
                    <a:xfrm>
                      <a:off x="1258920" y="1633320"/>
                      <a:ext cx="798480" cy="419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ксация азота: азотфиксирующие бактерии, грозовые разряды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Freeform 42"/>
                    <p:cNvSpPr/>
                    <p:nvPr/>
                  </p:nvSpPr>
                  <p:spPr>
                    <a:xfrm>
                      <a:off x="2693880" y="2025360"/>
                      <a:ext cx="843120" cy="2205360"/>
                    </a:xfrm>
                    <a:custGeom>
                      <a:avLst/>
                      <a:gdLst>
                        <a:gd name="textAreaLeft" fmla="*/ 0 w 843120"/>
                        <a:gd name="textAreaRight" fmla="*/ 843480 w 843120"/>
                        <a:gd name="textAreaTop" fmla="*/ 0 h 2205360"/>
                        <a:gd name="textAreaBottom" fmla="*/ 2205720 h 2205360"/>
                      </a:gdLst>
                      <a:ahLst/>
                      <a:rect l="textAreaLeft" t="textAreaTop" r="textAreaRight" b="textAreaBottom"/>
                      <a:pathLst>
                        <a:path w="1140" h="3420">
                          <a:moveTo>
                            <a:pt x="1140" y="3420"/>
                          </a:moveTo>
                          <a:cubicBezTo>
                            <a:pt x="630" y="2805"/>
                            <a:pt x="120" y="2190"/>
                            <a:pt x="60" y="1620"/>
                          </a:cubicBezTo>
                          <a:cubicBezTo>
                            <a:pt x="0" y="1050"/>
                            <a:pt x="660" y="270"/>
                            <a:pt x="780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Text Box 43"/>
                    <p:cNvSpPr/>
                    <p:nvPr/>
                  </p:nvSpPr>
                  <p:spPr>
                    <a:xfrm>
                      <a:off x="2421000" y="1849320"/>
                      <a:ext cx="398520" cy="2087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симиля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Text Box 45"/>
                    <p:cNvSpPr/>
                    <p:nvPr/>
                  </p:nvSpPr>
                  <p:spPr>
                    <a:xfrm>
                      <a:off x="2700360" y="4576680"/>
                      <a:ext cx="2519280" cy="349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терии Nitroso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Text Box 46"/>
                    <p:cNvSpPr/>
                    <p:nvPr/>
                  </p:nvSpPr>
                  <p:spPr>
                    <a:xfrm>
                      <a:off x="3668760" y="5159160"/>
                      <a:ext cx="66528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Text Box 49"/>
                    <p:cNvSpPr/>
                    <p:nvPr/>
                  </p:nvSpPr>
                  <p:spPr>
                    <a:xfrm>
                      <a:off x="3537000" y="6087960"/>
                      <a:ext cx="797040" cy="3477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8" name="Line 50"/>
                    <p:cNvSpPr/>
                    <p:nvPr/>
                  </p:nvSpPr>
                  <p:spPr>
                    <a:xfrm>
                      <a:off x="4335480" y="6319800"/>
                      <a:ext cx="3058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9" name="Line 51"/>
                    <p:cNvSpPr/>
                    <p:nvPr/>
                  </p:nvSpPr>
                  <p:spPr>
                    <a:xfrm flipV="1">
                      <a:off x="7394400" y="1212840"/>
                      <a:ext cx="0" cy="5106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Line 52"/>
                    <p:cNvSpPr/>
                    <p:nvPr/>
                  </p:nvSpPr>
                  <p:spPr>
                    <a:xfrm flipH="1">
                      <a:off x="5665680" y="1212840"/>
                      <a:ext cx="1728720" cy="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Text Box 53"/>
                    <p:cNvSpPr/>
                    <p:nvPr/>
                  </p:nvSpPr>
                  <p:spPr>
                    <a:xfrm>
                      <a:off x="6877080" y="1920600"/>
                      <a:ext cx="531720" cy="3340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цессы денитр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2" name="AutoShape 56"/>
                    <p:cNvSpPr/>
                    <p:nvPr/>
                  </p:nvSpPr>
                  <p:spPr>
                    <a:xfrm>
                      <a:off x="4869000" y="4276440"/>
                      <a:ext cx="398160" cy="1818000"/>
                    </a:xfrm>
                    <a:custGeom>
                      <a:avLst/>
                      <a:gdLst>
                        <a:gd name="textAreaLeft" fmla="*/ 0 w 398160"/>
                        <a:gd name="textAreaRight" fmla="*/ 143640 w 398160"/>
                        <a:gd name="textAreaTop" fmla="*/ 47160 h 1818000"/>
                        <a:gd name="textAreaBottom" fmla="*/ 1770840 h 1818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cubicBezTo>
                            <a:pt x="5400" y="0"/>
                            <a:pt x="10800" y="900"/>
                            <a:pt x="10800" y="1800"/>
                          </a:cubicBezTo>
                          <a:lnTo>
                            <a:pt x="10800" y="9000"/>
                          </a:lnTo>
                          <a:cubicBezTo>
                            <a:pt x="10800" y="9900"/>
                            <a:pt x="16200" y="10800"/>
                            <a:pt x="21600" y="10800"/>
                          </a:cubicBezTo>
                          <a:cubicBezTo>
                            <a:pt x="16200" y="10800"/>
                            <a:pt x="10800" y="11700"/>
                            <a:pt x="10800" y="12600"/>
                          </a:cubicBezTo>
                          <a:lnTo>
                            <a:pt x="10800" y="19800"/>
                          </a:lnTo>
                          <a:cubicBezTo>
                            <a:pt x="10800" y="20700"/>
                            <a:pt x="5400" y="21600"/>
                            <a:pt x="0" y="2160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Text Box 57"/>
                    <p:cNvSpPr/>
                    <p:nvPr/>
                  </p:nvSpPr>
                  <p:spPr>
                    <a:xfrm>
                      <a:off x="5219640" y="4152600"/>
                      <a:ext cx="530280" cy="193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рифик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Freeform 58"/>
                    <p:cNvSpPr/>
                    <p:nvPr/>
                  </p:nvSpPr>
                  <p:spPr>
                    <a:xfrm>
                      <a:off x="2471760" y="4276440"/>
                      <a:ext cx="1065240" cy="1818000"/>
                    </a:xfrm>
                    <a:custGeom>
                      <a:avLst/>
                      <a:gdLst>
                        <a:gd name="textAreaLeft" fmla="*/ 0 w 1065240"/>
                        <a:gd name="textAreaRight" fmla="*/ 1065240 w 1065240"/>
                        <a:gd name="textAreaTop" fmla="*/ 0 h 1818000"/>
                        <a:gd name="textAreaBottom" fmla="*/ 1818360 h 1818000"/>
                      </a:gdLst>
                      <a:ahLst/>
                      <a:rect l="textAreaLeft" t="textAreaTop" r="textAreaRight" b="textAreaBottom"/>
                      <a:pathLst>
                        <a:path w="1440" h="2880">
                          <a:moveTo>
                            <a:pt x="1440" y="2880"/>
                          </a:moveTo>
                          <a:cubicBezTo>
                            <a:pt x="720" y="2310"/>
                            <a:pt x="0" y="1740"/>
                            <a:pt x="0" y="1260"/>
                          </a:cubicBezTo>
                          <a:cubicBezTo>
                            <a:pt x="0" y="780"/>
                            <a:pt x="1200" y="210"/>
                            <a:pt x="1440" y="0"/>
                          </a:cubicBezTo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сер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057"/>
          <p:cNvSpPr/>
          <p:nvPr/>
        </p:nvSpPr>
        <p:spPr>
          <a:xfrm>
            <a:off x="2843280" y="3573360"/>
            <a:ext cx="40291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льфатредуцирующие бактер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1066"/>
          <p:cNvGrpSpPr/>
          <p:nvPr/>
        </p:nvGrpSpPr>
        <p:grpSpPr>
          <a:xfrm>
            <a:off x="900000" y="1125360"/>
            <a:ext cx="7481880" cy="4772160"/>
            <a:chOff x="900000" y="1125360"/>
            <a:chExt cx="7481880" cy="4772160"/>
          </a:xfrm>
        </p:grpSpPr>
        <p:sp>
          <p:nvSpPr>
            <p:cNvPr id="449" name="Line 1045"/>
            <p:cNvSpPr/>
            <p:nvPr/>
          </p:nvSpPr>
          <p:spPr>
            <a:xfrm flipV="1">
              <a:off x="1057320" y="1684080"/>
              <a:ext cx="0" cy="22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Group 1065"/>
            <p:cNvGrpSpPr/>
            <p:nvPr/>
          </p:nvGrpSpPr>
          <p:grpSpPr>
            <a:xfrm>
              <a:off x="900000" y="1125360"/>
              <a:ext cx="7481880" cy="4772160"/>
              <a:chOff x="900000" y="1125360"/>
              <a:chExt cx="7481880" cy="4772160"/>
            </a:xfrm>
          </p:grpSpPr>
          <p:sp>
            <p:nvSpPr>
              <p:cNvPr id="451" name="Line 1048"/>
              <p:cNvSpPr/>
              <p:nvPr/>
            </p:nvSpPr>
            <p:spPr>
              <a:xfrm flipH="1">
                <a:off x="1057320" y="5618160"/>
                <a:ext cx="3147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Group 1064"/>
              <p:cNvGrpSpPr/>
              <p:nvPr/>
            </p:nvGrpSpPr>
            <p:grpSpPr>
              <a:xfrm>
                <a:off x="900000" y="1125360"/>
                <a:ext cx="7481880" cy="4772160"/>
                <a:chOff x="900000" y="1125360"/>
                <a:chExt cx="7481880" cy="4772160"/>
              </a:xfrm>
            </p:grpSpPr>
            <p:sp>
              <p:nvSpPr>
                <p:cNvPr id="453" name="Line 1049"/>
                <p:cNvSpPr/>
                <p:nvPr/>
              </p:nvSpPr>
              <p:spPr>
                <a:xfrm flipV="1">
                  <a:off x="1057320" y="4356000"/>
                  <a:ext cx="0" cy="1263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Text Box 1050"/>
                <p:cNvSpPr/>
                <p:nvPr/>
              </p:nvSpPr>
              <p:spPr>
                <a:xfrm>
                  <a:off x="1299960" y="5230800"/>
                  <a:ext cx="2519640" cy="42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Спонтан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Text Box 1051"/>
                <p:cNvSpPr/>
                <p:nvPr/>
              </p:nvSpPr>
              <p:spPr>
                <a:xfrm>
                  <a:off x="1011240" y="5616360"/>
                  <a:ext cx="3036960" cy="28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Бактериальное окисле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1056"/>
                <p:cNvSpPr/>
                <p:nvPr/>
              </p:nvSpPr>
              <p:spPr>
                <a:xfrm>
                  <a:off x="1687320" y="4213080"/>
                  <a:ext cx="5194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Group 1063"/>
                <p:cNvGrpSpPr/>
                <p:nvPr/>
              </p:nvGrpSpPr>
              <p:grpSpPr>
                <a:xfrm>
                  <a:off x="900000" y="1125360"/>
                  <a:ext cx="7481880" cy="4738680"/>
                  <a:chOff x="900000" y="1125360"/>
                  <a:chExt cx="7481880" cy="4738680"/>
                </a:xfrm>
              </p:grpSpPr>
              <p:sp>
                <p:nvSpPr>
                  <p:cNvPr id="458" name="Text Box 1037"/>
                  <p:cNvSpPr/>
                  <p:nvPr/>
                </p:nvSpPr>
                <p:spPr>
                  <a:xfrm>
                    <a:off x="1155600" y="1270080"/>
                    <a:ext cx="1692360" cy="420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ссимиляция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9" name="Group 1062"/>
                  <p:cNvGrpSpPr/>
                  <p:nvPr/>
                </p:nvGrpSpPr>
                <p:grpSpPr>
                  <a:xfrm>
                    <a:off x="900000" y="1125360"/>
                    <a:ext cx="7481880" cy="4738680"/>
                    <a:chOff x="900000" y="1125360"/>
                    <a:chExt cx="7481880" cy="4738680"/>
                  </a:xfrm>
                </p:grpSpPr>
                <p:sp>
                  <p:nvSpPr>
                    <p:cNvPr id="460" name="Text Box 1039"/>
                    <p:cNvSpPr/>
                    <p:nvPr/>
                  </p:nvSpPr>
                  <p:spPr>
                    <a:xfrm>
                      <a:off x="2379600" y="1774800"/>
                      <a:ext cx="473040" cy="2305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эробные реду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" name="Group 1040"/>
                    <p:cNvGrpSpPr/>
                    <p:nvPr/>
                  </p:nvGrpSpPr>
                  <p:grpSpPr>
                    <a:xfrm>
                      <a:off x="900000" y="1125360"/>
                      <a:ext cx="5037120" cy="3228840"/>
                      <a:chOff x="900000" y="1125360"/>
                      <a:chExt cx="5037120" cy="3228840"/>
                    </a:xfrm>
                  </p:grpSpPr>
                  <p:sp>
                    <p:nvSpPr>
                      <p:cNvPr id="462" name="Text Box 1041"/>
                      <p:cNvSpPr/>
                      <p:nvPr/>
                    </p:nvSpPr>
                    <p:spPr>
                      <a:xfrm>
                        <a:off x="2788920" y="1125360"/>
                        <a:ext cx="3148200" cy="842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единения восстановленной серы в составе живых организмов (SH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-</a:t>
                        </a: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)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Text Box 1042"/>
                      <p:cNvSpPr/>
                      <p:nvPr/>
                    </p:nvSpPr>
                    <p:spPr>
                      <a:xfrm>
                        <a:off x="900000" y="3933360"/>
                        <a:ext cx="786960" cy="420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1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SO</a:t>
                        </a:r>
                        <a:r>
                          <a:rPr b="0" lang="ru-RU" sz="18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r>
                          <a:rPr b="0" lang="ru-RU" sz="1800" spc="-1" strike="noStrike" baseline="30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-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Line 1043"/>
                      <p:cNvSpPr/>
                      <p:nvPr/>
                    </p:nvSpPr>
                    <p:spPr>
                      <a:xfrm>
                        <a:off x="2788920" y="1967400"/>
                        <a:ext cx="0" cy="196560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Line 1044"/>
                      <p:cNvSpPr/>
                      <p:nvPr/>
                    </p:nvSpPr>
                    <p:spPr>
                      <a:xfrm flipH="1">
                        <a:off x="1686960" y="3933360"/>
                        <a:ext cx="11016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6" name="Line 1046"/>
                    <p:cNvSpPr/>
                    <p:nvPr/>
                  </p:nvSpPr>
                  <p:spPr>
                    <a:xfrm>
                      <a:off x="1057320" y="1684440"/>
                      <a:ext cx="17319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Text Box 1047"/>
                    <p:cNvSpPr/>
                    <p:nvPr/>
                  </p:nvSpPr>
                  <p:spPr>
                    <a:xfrm>
                      <a:off x="4205160" y="5337000"/>
                      <a:ext cx="787320" cy="420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1052"/>
                    <p:cNvSpPr/>
                    <p:nvPr/>
                  </p:nvSpPr>
                  <p:spPr>
                    <a:xfrm>
                      <a:off x="6881760" y="3792600"/>
                      <a:ext cx="1258920" cy="5601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и др. сульф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Line 1053"/>
                    <p:cNvSpPr/>
                    <p:nvPr/>
                  </p:nvSpPr>
                  <p:spPr>
                    <a:xfrm>
                      <a:off x="7983360" y="4352760"/>
                      <a:ext cx="0" cy="12636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Line 1054"/>
                    <p:cNvSpPr/>
                    <p:nvPr/>
                  </p:nvSpPr>
                  <p:spPr>
                    <a:xfrm flipH="1">
                      <a:off x="4992480" y="5616360"/>
                      <a:ext cx="29908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Text Box 1055"/>
                    <p:cNvSpPr/>
                    <p:nvPr/>
                  </p:nvSpPr>
                  <p:spPr>
                    <a:xfrm>
                      <a:off x="5261040" y="5302080"/>
                      <a:ext cx="312084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нтанное окисление и деятельность серобактер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058"/>
                    <p:cNvSpPr/>
                    <p:nvPr/>
                  </p:nvSpPr>
                  <p:spPr>
                    <a:xfrm>
                      <a:off x="5937120" y="1546200"/>
                      <a:ext cx="20462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Line 1059"/>
                    <p:cNvSpPr/>
                    <p:nvPr/>
                  </p:nvSpPr>
                  <p:spPr>
                    <a:xfrm>
                      <a:off x="7983360" y="1546200"/>
                      <a:ext cx="0" cy="2246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Text Box 1060"/>
                    <p:cNvSpPr/>
                    <p:nvPr/>
                  </p:nvSpPr>
                  <p:spPr>
                    <a:xfrm>
                      <a:off x="6053040" y="1125360"/>
                      <a:ext cx="1571760" cy="56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эробные редуц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6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6856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то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граница между экосистемами (биогеоценозами). Экотон всегда отличается более высоким видовым разнообразием и плотностью популяций по отношению к центральной части биогеоценоза. Например, опушка леса всегда более насыщена видами древесной, травянистой и кустарниковой растительности, по отношению к участкам, расположенным в глубине лесного масси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685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d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Цикл фосфора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4"/>
          <p:cNvGrpSpPr/>
          <p:nvPr/>
        </p:nvGrpSpPr>
        <p:grpSpPr>
          <a:xfrm>
            <a:off x="395280" y="1197000"/>
            <a:ext cx="8208360" cy="4824000"/>
            <a:chOff x="395280" y="1197000"/>
            <a:chExt cx="8208360" cy="4824000"/>
          </a:xfrm>
        </p:grpSpPr>
        <p:grpSp>
          <p:nvGrpSpPr>
            <p:cNvPr id="478" name="Group 5"/>
            <p:cNvGrpSpPr/>
            <p:nvPr/>
          </p:nvGrpSpPr>
          <p:grpSpPr>
            <a:xfrm>
              <a:off x="395280" y="1197000"/>
              <a:ext cx="8208360" cy="3654000"/>
              <a:chOff x="395280" y="1197000"/>
              <a:chExt cx="8208360" cy="3654000"/>
            </a:xfrm>
          </p:grpSpPr>
          <p:grpSp>
            <p:nvGrpSpPr>
              <p:cNvPr id="479" name="Group 6"/>
              <p:cNvGrpSpPr/>
              <p:nvPr/>
            </p:nvGrpSpPr>
            <p:grpSpPr>
              <a:xfrm>
                <a:off x="395280" y="1197000"/>
                <a:ext cx="8208360" cy="3654000"/>
                <a:chOff x="395280" y="1197000"/>
                <a:chExt cx="8208360" cy="3654000"/>
              </a:xfrm>
            </p:grpSpPr>
            <p:grpSp>
              <p:nvGrpSpPr>
                <p:cNvPr id="480" name="Group 7"/>
                <p:cNvGrpSpPr/>
                <p:nvPr/>
              </p:nvGrpSpPr>
              <p:grpSpPr>
                <a:xfrm>
                  <a:off x="395280" y="1197000"/>
                  <a:ext cx="8208360" cy="3654000"/>
                  <a:chOff x="395280" y="1197000"/>
                  <a:chExt cx="8208360" cy="3654000"/>
                </a:xfrm>
              </p:grpSpPr>
              <p:grpSp>
                <p:nvGrpSpPr>
                  <p:cNvPr id="481" name="Group 8"/>
                  <p:cNvGrpSpPr/>
                  <p:nvPr/>
                </p:nvGrpSpPr>
                <p:grpSpPr>
                  <a:xfrm>
                    <a:off x="395280" y="1197000"/>
                    <a:ext cx="8208360" cy="3654000"/>
                    <a:chOff x="395280" y="1197000"/>
                    <a:chExt cx="8208360" cy="3654000"/>
                  </a:xfrm>
                </p:grpSpPr>
                <p:grpSp>
                  <p:nvGrpSpPr>
                    <p:cNvPr id="482" name="Group 9"/>
                    <p:cNvGrpSpPr/>
                    <p:nvPr/>
                  </p:nvGrpSpPr>
                  <p:grpSpPr>
                    <a:xfrm>
                      <a:off x="395280" y="1197000"/>
                      <a:ext cx="8208360" cy="3654000"/>
                      <a:chOff x="395280" y="1197000"/>
                      <a:chExt cx="8208360" cy="3654000"/>
                    </a:xfrm>
                  </p:grpSpPr>
                  <p:grpSp>
                    <p:nvGrpSpPr>
                      <p:cNvPr id="483" name="Group 10"/>
                      <p:cNvGrpSpPr/>
                      <p:nvPr/>
                    </p:nvGrpSpPr>
                    <p:grpSpPr>
                      <a:xfrm>
                        <a:off x="395280" y="1197000"/>
                        <a:ext cx="8208360" cy="3200400"/>
                        <a:chOff x="395280" y="1197000"/>
                        <a:chExt cx="8208360" cy="3200400"/>
                      </a:xfrm>
                    </p:grpSpPr>
                    <p:grpSp>
                      <p:nvGrpSpPr>
                        <p:cNvPr id="484" name="Group 11"/>
                        <p:cNvGrpSpPr/>
                        <p:nvPr/>
                      </p:nvGrpSpPr>
                      <p:grpSpPr>
                        <a:xfrm>
                          <a:off x="395280" y="1197000"/>
                          <a:ext cx="8208360" cy="2422800"/>
                          <a:chOff x="395280" y="1197000"/>
                          <a:chExt cx="8208360" cy="2422800"/>
                        </a:xfrm>
                      </p:grpSpPr>
                      <p:grpSp>
                        <p:nvGrpSpPr>
                          <p:cNvPr id="485" name="Group 12"/>
                          <p:cNvGrpSpPr/>
                          <p:nvPr/>
                        </p:nvGrpSpPr>
                        <p:grpSpPr>
                          <a:xfrm>
                            <a:off x="395280" y="1791000"/>
                            <a:ext cx="8208360" cy="1828800"/>
                            <a:chOff x="395280" y="1791000"/>
                            <a:chExt cx="8208360" cy="1828800"/>
                          </a:xfrm>
                        </p:grpSpPr>
                        <p:grpSp>
                          <p:nvGrpSpPr>
                            <p:cNvPr id="486" name="Group 13"/>
                            <p:cNvGrpSpPr/>
                            <p:nvPr/>
                          </p:nvGrpSpPr>
                          <p:grpSpPr>
                            <a:xfrm>
                              <a:off x="395280" y="1791000"/>
                              <a:ext cx="8208360" cy="1828800"/>
                              <a:chOff x="395280" y="1791000"/>
                              <a:chExt cx="8208360" cy="1828800"/>
                            </a:xfrm>
                          </p:grpSpPr>
                          <p:sp>
                            <p:nvSpPr>
                              <p:cNvPr id="487" name="Text Box 14"/>
                              <p:cNvSpPr/>
                              <p:nvPr/>
                            </p:nvSpPr>
                            <p:spPr>
                              <a:xfrm>
                                <a:off x="395280" y="2476800"/>
                                <a:ext cx="1969920" cy="914400"/>
                              </a:xfrm>
                              <a:prstGeom prst="rect">
                                <a:avLst/>
                              </a:prstGeom>
                              <a:noFill/>
                              <a:ln w="3168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ru-RU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Фосфор живых организмов</a:t>
                                </a:r>
                                <a:endParaRPr b="0" lang="en-US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488" name="Group 15"/>
                              <p:cNvGrpSpPr/>
                              <p:nvPr/>
                            </p:nvGrpSpPr>
                            <p:grpSpPr>
                              <a:xfrm>
                                <a:off x="1380240" y="1791000"/>
                                <a:ext cx="7223400" cy="1828800"/>
                                <a:chOff x="1380240" y="1791000"/>
                                <a:chExt cx="7223400" cy="1828800"/>
                              </a:xfrm>
                            </p:grpSpPr>
                            <p:sp>
                              <p:nvSpPr>
                                <p:cNvPr id="489" name="Text Box 16"/>
                                <p:cNvSpPr/>
                                <p:nvPr/>
                              </p:nvSpPr>
                              <p:spPr>
                                <a:xfrm>
                                  <a:off x="3514320" y="2248560"/>
                                  <a:ext cx="196992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в почве, пресной воде, океане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0" name="Text Box 17"/>
                                <p:cNvSpPr/>
                                <p:nvPr/>
                              </p:nvSpPr>
                              <p:spPr>
                                <a:xfrm>
                                  <a:off x="7126200" y="2248560"/>
                                  <a:ext cx="1477440" cy="1371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 algn="ctr"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ru-RU" sz="20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Фосфаты горных пород</a:t>
                                  </a:r>
                                  <a:endParaRPr b="0" lang="en-US" sz="20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1" name="Line 18"/>
                                <p:cNvSpPr/>
                                <p:nvPr/>
                              </p:nvSpPr>
                              <p:spPr>
                                <a:xfrm flipV="1">
                                  <a:off x="1380240" y="1791000"/>
                                  <a:ext cx="0" cy="68580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92" name="Line 19"/>
                                <p:cNvSpPr/>
                                <p:nvPr/>
                              </p:nvSpPr>
                              <p:spPr>
                                <a:xfrm>
                                  <a:off x="1380240" y="1791360"/>
                                  <a:ext cx="2626560" cy="0"/>
                                </a:xfrm>
                                <a:prstGeom prst="line">
                                  <a:avLst/>
                                </a:prstGeom>
                                <a:ln w="3168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sp>
                          <p:nvSpPr>
                            <p:cNvPr id="493" name="Line 20"/>
                            <p:cNvSpPr/>
                            <p:nvPr/>
                          </p:nvSpPr>
                          <p:spPr>
                            <a:xfrm>
                              <a:off x="4007160" y="1811520"/>
                              <a:ext cx="0" cy="457200"/>
                            </a:xfrm>
                            <a:prstGeom prst="line">
                              <a:avLst/>
                            </a:prstGeom>
                            <a:ln w="31680">
                              <a:solidFill>
                                <a:srgbClr val="000000"/>
                              </a:solidFill>
                              <a:miter/>
                              <a:tailEnd len="med" type="triangle" w="med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4" name="Text Box 21"/>
                          <p:cNvSpPr/>
                          <p:nvPr/>
                        </p:nvSpPr>
                        <p:spPr>
                          <a:xfrm>
                            <a:off x="1872720" y="1197000"/>
                            <a:ext cx="1477440" cy="6858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ru-RU" sz="1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Редуценты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5" name="Group 22"/>
                        <p:cNvGrpSpPr/>
                        <p:nvPr/>
                      </p:nvGrpSpPr>
                      <p:grpSpPr>
                        <a:xfrm>
                          <a:off x="1379880" y="3483000"/>
                          <a:ext cx="2627280" cy="914400"/>
                          <a:chOff x="1379880" y="3483000"/>
                          <a:chExt cx="2627280" cy="914400"/>
                        </a:xfrm>
                      </p:grpSpPr>
                      <p:sp>
                        <p:nvSpPr>
                          <p:cNvPr id="496" name="Line 23"/>
                          <p:cNvSpPr/>
                          <p:nvPr/>
                        </p:nvSpPr>
                        <p:spPr>
                          <a:xfrm>
                            <a:off x="4007160" y="3711600"/>
                            <a:ext cx="0" cy="68544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24"/>
                          <p:cNvSpPr/>
                          <p:nvPr/>
                        </p:nvSpPr>
                        <p:spPr>
                          <a:xfrm flipH="1">
                            <a:off x="1379880" y="4397400"/>
                            <a:ext cx="2626920" cy="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8" name="Line 25"/>
                          <p:cNvSpPr/>
                          <p:nvPr/>
                        </p:nvSpPr>
                        <p:spPr>
                          <a:xfrm flipV="1">
                            <a:off x="1380240" y="3483000"/>
                            <a:ext cx="0" cy="914400"/>
                          </a:xfrm>
                          <a:prstGeom prst="line">
                            <a:avLst/>
                          </a:prstGeom>
                          <a:ln w="31680">
                            <a:solidFill>
                              <a:srgbClr val="000000"/>
                            </a:solidFill>
                            <a:miter/>
                            <a:tailEnd len="med" type="triangle" w="med"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9" name="Text Box 26"/>
                      <p:cNvSpPr/>
                      <p:nvPr/>
                    </p:nvSpPr>
                    <p:spPr>
                      <a:xfrm>
                        <a:off x="1380240" y="3936600"/>
                        <a:ext cx="2626920" cy="914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ru-RU" sz="2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Поглощение корнями и последующая ассимиляция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0" name="Line 27"/>
                    <p:cNvSpPr/>
                    <p:nvPr/>
                  </p:nvSpPr>
                  <p:spPr>
                    <a:xfrm flipV="1">
                      <a:off x="4663800" y="1882800"/>
                      <a:ext cx="0" cy="3744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Line 28"/>
                    <p:cNvSpPr/>
                    <p:nvPr/>
                  </p:nvSpPr>
                  <p:spPr>
                    <a:xfrm>
                      <a:off x="4663800" y="1882800"/>
                      <a:ext cx="328356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" name="Line 29"/>
                    <p:cNvSpPr/>
                    <p:nvPr/>
                  </p:nvSpPr>
                  <p:spPr>
                    <a:xfrm>
                      <a:off x="7947720" y="1882800"/>
                      <a:ext cx="0" cy="45720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3" name="Text Box 30"/>
                  <p:cNvSpPr/>
                  <p:nvPr/>
                </p:nvSpPr>
                <p:spPr>
                  <a:xfrm>
                    <a:off x="4830840" y="1425600"/>
                    <a:ext cx="311940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сноводные океанические отложения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4" name="Line 31"/>
                <p:cNvSpPr/>
                <p:nvPr/>
              </p:nvSpPr>
              <p:spPr>
                <a:xfrm>
                  <a:off x="7947720" y="371160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32"/>
                <p:cNvSpPr/>
                <p:nvPr/>
              </p:nvSpPr>
              <p:spPr>
                <a:xfrm flipH="1">
                  <a:off x="4663440" y="4397760"/>
                  <a:ext cx="32835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33"/>
                <p:cNvSpPr/>
                <p:nvPr/>
              </p:nvSpPr>
              <p:spPr>
                <a:xfrm flipV="1">
                  <a:off x="4663800" y="3711240"/>
                  <a:ext cx="0" cy="6858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Text Box 34"/>
              <p:cNvSpPr/>
              <p:nvPr/>
            </p:nvSpPr>
            <p:spPr>
              <a:xfrm>
                <a:off x="5649120" y="3936600"/>
                <a:ext cx="9849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</a:rPr>
                  <a:t>Эрозия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8" name="Text Box 35"/>
            <p:cNvSpPr/>
            <p:nvPr/>
          </p:nvSpPr>
          <p:spPr>
            <a:xfrm>
              <a:off x="395280" y="5106600"/>
              <a:ext cx="410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лассификац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азмера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море, океан, континент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з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пример, участок леса, поле, луг, река, озеро.… Такие экосистемы обычно называют биогеоценоз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икро эко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пушка, поляна, лужа…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2058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происхожден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тественные – образованные спонтанно (тундра, степь, ле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усственные – образованы в результате человеческ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258920" y="256536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эко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24000" y="3789360"/>
            <a:ext cx="835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биотиче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топ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абиотическая составляющ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ерархия эко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5"/>
          <p:cNvGrpSpPr/>
          <p:nvPr/>
        </p:nvGrpSpPr>
        <p:grpSpPr>
          <a:xfrm>
            <a:off x="0" y="1773360"/>
            <a:ext cx="8748720" cy="4105080"/>
            <a:chOff x="0" y="1773360"/>
            <a:chExt cx="8748720" cy="4105080"/>
          </a:xfrm>
        </p:grpSpPr>
        <p:sp>
          <p:nvSpPr>
            <p:cNvPr id="67" name="Text Box 6"/>
            <p:cNvSpPr/>
            <p:nvPr/>
          </p:nvSpPr>
          <p:spPr>
            <a:xfrm>
              <a:off x="4246920" y="3196800"/>
              <a:ext cx="12740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Ландшаф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497640" y="3189960"/>
              <a:ext cx="90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8"/>
            <p:cNvGrpSpPr/>
            <p:nvPr/>
          </p:nvGrpSpPr>
          <p:grpSpPr>
            <a:xfrm>
              <a:off x="0" y="1773360"/>
              <a:ext cx="8748720" cy="4105080"/>
              <a:chOff x="0" y="1773360"/>
              <a:chExt cx="8748720" cy="4105080"/>
            </a:xfrm>
          </p:grpSpPr>
          <p:sp>
            <p:nvSpPr>
              <p:cNvPr id="70" name="Text Box 9"/>
              <p:cNvSpPr/>
              <p:nvPr/>
            </p:nvSpPr>
            <p:spPr>
              <a:xfrm>
                <a:off x="5114520" y="5083920"/>
                <a:ext cx="2184120" cy="79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Times New Roman"/>
                  </a:rPr>
                  <a:t>Макроэкосистемы суши и мор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Group 10"/>
              <p:cNvGrpSpPr/>
              <p:nvPr/>
            </p:nvGrpSpPr>
            <p:grpSpPr>
              <a:xfrm>
                <a:off x="0" y="1773360"/>
                <a:ext cx="8748720" cy="4005360"/>
                <a:chOff x="0" y="1773360"/>
                <a:chExt cx="8748720" cy="4005360"/>
              </a:xfrm>
            </p:grpSpPr>
            <p:sp>
              <p:nvSpPr>
                <p:cNvPr id="72" name="Oval 11"/>
                <p:cNvSpPr/>
                <p:nvPr/>
              </p:nvSpPr>
              <p:spPr>
                <a:xfrm>
                  <a:off x="370080" y="1938960"/>
                  <a:ext cx="1067400" cy="1257840"/>
                </a:xfrm>
                <a:prstGeom prst="ellipse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ГЦ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Line 12"/>
                <p:cNvSpPr/>
                <p:nvPr/>
              </p:nvSpPr>
              <p:spPr>
                <a:xfrm>
                  <a:off x="1753200" y="2601000"/>
                  <a:ext cx="55188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3"/>
                <p:cNvGrpSpPr/>
                <p:nvPr/>
              </p:nvGrpSpPr>
              <p:grpSpPr>
                <a:xfrm>
                  <a:off x="2050200" y="1958760"/>
                  <a:ext cx="1675440" cy="1692720"/>
                  <a:chOff x="2050200" y="1958760"/>
                  <a:chExt cx="1675440" cy="1692720"/>
                </a:xfrm>
              </p:grpSpPr>
              <p:grpSp>
                <p:nvGrpSpPr>
                  <p:cNvPr id="75" name="Group 14"/>
                  <p:cNvGrpSpPr/>
                  <p:nvPr/>
                </p:nvGrpSpPr>
                <p:grpSpPr>
                  <a:xfrm>
                    <a:off x="2353320" y="1958760"/>
                    <a:ext cx="1043280" cy="1185120"/>
                    <a:chOff x="2353320" y="1958760"/>
                    <a:chExt cx="1043280" cy="1185120"/>
                  </a:xfrm>
                </p:grpSpPr>
                <p:grpSp>
                  <p:nvGrpSpPr>
                    <p:cNvPr id="76" name="Group 15"/>
                    <p:cNvGrpSpPr/>
                    <p:nvPr/>
                  </p:nvGrpSpPr>
                  <p:grpSpPr>
                    <a:xfrm>
                      <a:off x="2353320" y="1958760"/>
                      <a:ext cx="1043280" cy="1185120"/>
                      <a:chOff x="2353320" y="1958760"/>
                      <a:chExt cx="1043280" cy="1185120"/>
                    </a:xfrm>
                  </p:grpSpPr>
                  <p:sp>
                    <p:nvSpPr>
                      <p:cNvPr id="77" name="Oval 16"/>
                      <p:cNvSpPr/>
                      <p:nvPr/>
                    </p:nvSpPr>
                    <p:spPr>
                      <a:xfrm>
                        <a:off x="23533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" name="Oval 17"/>
                      <p:cNvSpPr/>
                      <p:nvPr/>
                    </p:nvSpPr>
                    <p:spPr>
                      <a:xfrm>
                        <a:off x="3098520" y="1958760"/>
                        <a:ext cx="298080" cy="33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Oval 18"/>
                      <p:cNvSpPr/>
                      <p:nvPr/>
                    </p:nvSpPr>
                    <p:spPr>
                      <a:xfrm>
                        <a:off x="2651400" y="2805120"/>
                        <a:ext cx="298080" cy="33876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34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Line 19"/>
                    <p:cNvSpPr/>
                    <p:nvPr/>
                  </p:nvSpPr>
                  <p:spPr>
                    <a:xfrm>
                      <a:off x="2502360" y="2297160"/>
                      <a:ext cx="213480" cy="53028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Line 20"/>
                    <p:cNvSpPr/>
                    <p:nvPr/>
                  </p:nvSpPr>
                  <p:spPr>
                    <a:xfrm flipH="1">
                      <a:off x="2899800" y="2297160"/>
                      <a:ext cx="347760" cy="55872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Line 21"/>
                    <p:cNvSpPr/>
                    <p:nvPr/>
                  </p:nvSpPr>
                  <p:spPr>
                    <a:xfrm>
                      <a:off x="2651400" y="2127600"/>
                      <a:ext cx="447120" cy="0"/>
                    </a:xfrm>
                    <a:prstGeom prst="line">
                      <a:avLst/>
                    </a:prstGeom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" name="Text Box 22"/>
                  <p:cNvSpPr/>
                  <p:nvPr/>
                </p:nvSpPr>
                <p:spPr>
                  <a:xfrm>
                    <a:off x="2050200" y="3190320"/>
                    <a:ext cx="1675440" cy="46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ГЦ комплекс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" name="Freeform 23"/>
                <p:cNvSpPr/>
                <p:nvPr/>
              </p:nvSpPr>
              <p:spPr>
                <a:xfrm>
                  <a:off x="4277160" y="1885680"/>
                  <a:ext cx="1000800" cy="1171800"/>
                </a:xfrm>
                <a:custGeom>
                  <a:avLst/>
                  <a:gdLst>
                    <a:gd name="textAreaLeft" fmla="*/ 0 w 1000800"/>
                    <a:gd name="textAreaRight" fmla="*/ 1001160 w 1000800"/>
                    <a:gd name="textAreaTop" fmla="*/ 0 h 1171800"/>
                    <a:gd name="textAreaBottom" fmla="*/ 1172160 h 1171800"/>
                  </a:gdLst>
                  <a:ahLst/>
                  <a:rect l="textAreaLeft" t="textAreaTop" r="textAreaRight" b="textAreaBottom"/>
                  <a:pathLst>
                    <a:path w="1273" h="1353">
                      <a:moveTo>
                        <a:pt x="571" y="126"/>
                      </a:moveTo>
                      <a:cubicBezTo>
                        <a:pt x="628" y="164"/>
                        <a:pt x="665" y="177"/>
                        <a:pt x="734" y="188"/>
                      </a:cubicBezTo>
                      <a:cubicBezTo>
                        <a:pt x="762" y="199"/>
                        <a:pt x="841" y="220"/>
                        <a:pt x="872" y="251"/>
                      </a:cubicBezTo>
                      <a:cubicBezTo>
                        <a:pt x="906" y="284"/>
                        <a:pt x="918" y="311"/>
                        <a:pt x="959" y="339"/>
                      </a:cubicBezTo>
                      <a:cubicBezTo>
                        <a:pt x="977" y="391"/>
                        <a:pt x="1002" y="409"/>
                        <a:pt x="1035" y="451"/>
                      </a:cubicBezTo>
                      <a:cubicBezTo>
                        <a:pt x="1054" y="475"/>
                        <a:pt x="1085" y="526"/>
                        <a:pt x="1085" y="526"/>
                      </a:cubicBezTo>
                      <a:cubicBezTo>
                        <a:pt x="1115" y="618"/>
                        <a:pt x="1129" y="657"/>
                        <a:pt x="1197" y="727"/>
                      </a:cubicBezTo>
                      <a:cubicBezTo>
                        <a:pt x="1232" y="827"/>
                        <a:pt x="1183" y="696"/>
                        <a:pt x="1235" y="802"/>
                      </a:cubicBezTo>
                      <a:cubicBezTo>
                        <a:pt x="1263" y="860"/>
                        <a:pt x="1265" y="941"/>
                        <a:pt x="1272" y="1002"/>
                      </a:cubicBezTo>
                      <a:cubicBezTo>
                        <a:pt x="1268" y="1040"/>
                        <a:pt x="1273" y="1079"/>
                        <a:pt x="1260" y="1115"/>
                      </a:cubicBezTo>
                      <a:cubicBezTo>
                        <a:pt x="1256" y="1125"/>
                        <a:pt x="1174" y="1164"/>
                        <a:pt x="1172" y="1165"/>
                      </a:cubicBezTo>
                      <a:cubicBezTo>
                        <a:pt x="1146" y="1176"/>
                        <a:pt x="1124" y="1195"/>
                        <a:pt x="1097" y="1203"/>
                      </a:cubicBezTo>
                      <a:cubicBezTo>
                        <a:pt x="1069" y="1211"/>
                        <a:pt x="875" y="1228"/>
                        <a:pt x="872" y="1228"/>
                      </a:cubicBezTo>
                      <a:cubicBezTo>
                        <a:pt x="838" y="1236"/>
                        <a:pt x="800" y="1241"/>
                        <a:pt x="772" y="1265"/>
                      </a:cubicBezTo>
                      <a:cubicBezTo>
                        <a:pt x="760" y="1275"/>
                        <a:pt x="759" y="1294"/>
                        <a:pt x="747" y="1303"/>
                      </a:cubicBezTo>
                      <a:cubicBezTo>
                        <a:pt x="721" y="1324"/>
                        <a:pt x="622" y="1339"/>
                        <a:pt x="584" y="1353"/>
                      </a:cubicBezTo>
                      <a:cubicBezTo>
                        <a:pt x="513" y="1349"/>
                        <a:pt x="442" y="1347"/>
                        <a:pt x="371" y="1340"/>
                      </a:cubicBezTo>
                      <a:cubicBezTo>
                        <a:pt x="305" y="1333"/>
                        <a:pt x="270" y="1273"/>
                        <a:pt x="233" y="1228"/>
                      </a:cubicBezTo>
                      <a:cubicBezTo>
                        <a:pt x="195" y="1182"/>
                        <a:pt x="154" y="1140"/>
                        <a:pt x="120" y="1090"/>
                      </a:cubicBezTo>
                      <a:cubicBezTo>
                        <a:pt x="104" y="1039"/>
                        <a:pt x="97" y="1017"/>
                        <a:pt x="58" y="977"/>
                      </a:cubicBezTo>
                      <a:cubicBezTo>
                        <a:pt x="43" y="920"/>
                        <a:pt x="19" y="886"/>
                        <a:pt x="8" y="827"/>
                      </a:cubicBezTo>
                      <a:cubicBezTo>
                        <a:pt x="12" y="760"/>
                        <a:pt x="0" y="691"/>
                        <a:pt x="20" y="627"/>
                      </a:cubicBezTo>
                      <a:cubicBezTo>
                        <a:pt x="31" y="593"/>
                        <a:pt x="70" y="576"/>
                        <a:pt x="95" y="551"/>
                      </a:cubicBezTo>
                      <a:cubicBezTo>
                        <a:pt x="110" y="536"/>
                        <a:pt x="120" y="518"/>
                        <a:pt x="133" y="501"/>
                      </a:cubicBezTo>
                      <a:cubicBezTo>
                        <a:pt x="141" y="476"/>
                        <a:pt x="150" y="451"/>
                        <a:pt x="158" y="426"/>
                      </a:cubicBezTo>
                      <a:cubicBezTo>
                        <a:pt x="197" y="309"/>
                        <a:pt x="143" y="137"/>
                        <a:pt x="271" y="51"/>
                      </a:cubicBezTo>
                      <a:cubicBezTo>
                        <a:pt x="314" y="22"/>
                        <a:pt x="384" y="17"/>
                        <a:pt x="433" y="0"/>
                      </a:cubicBezTo>
                      <a:cubicBezTo>
                        <a:pt x="475" y="4"/>
                        <a:pt x="517" y="6"/>
                        <a:pt x="559" y="13"/>
                      </a:cubicBezTo>
                      <a:cubicBezTo>
                        <a:pt x="572" y="15"/>
                        <a:pt x="587" y="17"/>
                        <a:pt x="596" y="26"/>
                      </a:cubicBezTo>
                      <a:cubicBezTo>
                        <a:pt x="617" y="47"/>
                        <a:pt x="646" y="101"/>
                        <a:pt x="646" y="101"/>
                      </a:cubicBezTo>
                      <a:cubicBezTo>
                        <a:pt x="642" y="126"/>
                        <a:pt x="652" y="158"/>
                        <a:pt x="634" y="176"/>
                      </a:cubicBezTo>
                      <a:cubicBezTo>
                        <a:pt x="622" y="188"/>
                        <a:pt x="592" y="178"/>
                        <a:pt x="584" y="163"/>
                      </a:cubicBezTo>
                      <a:cubicBezTo>
                        <a:pt x="578" y="151"/>
                        <a:pt x="625" y="163"/>
                        <a:pt x="621" y="151"/>
                      </a:cubicBezTo>
                      <a:cubicBezTo>
                        <a:pt x="615" y="133"/>
                        <a:pt x="588" y="134"/>
                        <a:pt x="571" y="126"/>
                      </a:cubicBezTo>
                      <a:close/>
                    </a:path>
                  </a:pathLst>
                </a:custGeom>
                <a:solidFill>
                  <a:srgbClr val="00ccff"/>
                </a:solidFill>
                <a:ln w="34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Line 24"/>
                <p:cNvSpPr/>
                <p:nvPr/>
              </p:nvSpPr>
              <p:spPr>
                <a:xfrm>
                  <a:off x="3603600" y="2614320"/>
                  <a:ext cx="58212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" name="Group 25"/>
                <p:cNvGrpSpPr/>
                <p:nvPr/>
              </p:nvGrpSpPr>
              <p:grpSpPr>
                <a:xfrm>
                  <a:off x="5879160" y="1773360"/>
                  <a:ext cx="1834560" cy="1465200"/>
                  <a:chOff x="5879160" y="1773360"/>
                  <a:chExt cx="1834560" cy="1465200"/>
                </a:xfrm>
              </p:grpSpPr>
              <p:sp>
                <p:nvSpPr>
                  <p:cNvPr id="87" name="Freeform 26"/>
                  <p:cNvSpPr/>
                  <p:nvPr/>
                </p:nvSpPr>
                <p:spPr>
                  <a:xfrm>
                    <a:off x="5879160" y="1773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27"/>
                  <p:cNvSpPr/>
                  <p:nvPr/>
                </p:nvSpPr>
                <p:spPr>
                  <a:xfrm>
                    <a:off x="6940440" y="1827360"/>
                    <a:ext cx="773280" cy="597960"/>
                  </a:xfrm>
                  <a:custGeom>
                    <a:avLst/>
                    <a:gdLst>
                      <a:gd name="textAreaLeft" fmla="*/ 0 w 773280"/>
                      <a:gd name="textAreaRight" fmla="*/ 773640 w 77328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28"/>
                  <p:cNvSpPr/>
                  <p:nvPr/>
                </p:nvSpPr>
                <p:spPr>
                  <a:xfrm>
                    <a:off x="6418800" y="2640600"/>
                    <a:ext cx="773640" cy="597960"/>
                  </a:xfrm>
                  <a:custGeom>
                    <a:avLst/>
                    <a:gdLst>
                      <a:gd name="textAreaLeft" fmla="*/ 0 w 773640"/>
                      <a:gd name="textAreaRight" fmla="*/ 774000 w 773640"/>
                      <a:gd name="textAreaTop" fmla="*/ 0 h 597960"/>
                      <a:gd name="textAreaBottom" fmla="*/ 598320 h 597960"/>
                    </a:gdLst>
                    <a:ahLst/>
                    <a:rect l="textAreaLeft" t="textAreaTop" r="textAreaRight" b="textAreaBottom"/>
                    <a:pathLst>
                      <a:path w="765" h="542">
                        <a:moveTo>
                          <a:pt x="251" y="0"/>
                        </a:moveTo>
                        <a:cubicBezTo>
                          <a:pt x="234" y="8"/>
                          <a:pt x="217" y="18"/>
                          <a:pt x="200" y="25"/>
                        </a:cubicBezTo>
                        <a:cubicBezTo>
                          <a:pt x="188" y="30"/>
                          <a:pt x="173" y="29"/>
                          <a:pt x="163" y="37"/>
                        </a:cubicBezTo>
                        <a:cubicBezTo>
                          <a:pt x="151" y="47"/>
                          <a:pt x="149" y="64"/>
                          <a:pt x="138" y="75"/>
                        </a:cubicBezTo>
                        <a:cubicBezTo>
                          <a:pt x="127" y="86"/>
                          <a:pt x="113" y="92"/>
                          <a:pt x="100" y="100"/>
                        </a:cubicBezTo>
                        <a:cubicBezTo>
                          <a:pt x="28" y="206"/>
                          <a:pt x="124" y="81"/>
                          <a:pt x="38" y="150"/>
                        </a:cubicBezTo>
                        <a:cubicBezTo>
                          <a:pt x="16" y="168"/>
                          <a:pt x="9" y="200"/>
                          <a:pt x="0" y="225"/>
                        </a:cubicBezTo>
                        <a:cubicBezTo>
                          <a:pt x="4" y="242"/>
                          <a:pt x="3" y="261"/>
                          <a:pt x="13" y="275"/>
                        </a:cubicBezTo>
                        <a:cubicBezTo>
                          <a:pt x="21" y="287"/>
                          <a:pt x="39" y="290"/>
                          <a:pt x="50" y="300"/>
                        </a:cubicBezTo>
                        <a:cubicBezTo>
                          <a:pt x="146" y="380"/>
                          <a:pt x="34" y="301"/>
                          <a:pt x="125" y="363"/>
                        </a:cubicBezTo>
                        <a:cubicBezTo>
                          <a:pt x="224" y="348"/>
                          <a:pt x="251" y="336"/>
                          <a:pt x="351" y="350"/>
                        </a:cubicBezTo>
                        <a:cubicBezTo>
                          <a:pt x="387" y="387"/>
                          <a:pt x="408" y="422"/>
                          <a:pt x="451" y="450"/>
                        </a:cubicBezTo>
                        <a:cubicBezTo>
                          <a:pt x="511" y="542"/>
                          <a:pt x="618" y="524"/>
                          <a:pt x="676" y="438"/>
                        </a:cubicBezTo>
                        <a:cubicBezTo>
                          <a:pt x="688" y="367"/>
                          <a:pt x="699" y="310"/>
                          <a:pt x="739" y="250"/>
                        </a:cubicBezTo>
                        <a:cubicBezTo>
                          <a:pt x="750" y="216"/>
                          <a:pt x="765" y="187"/>
                          <a:pt x="739" y="150"/>
                        </a:cubicBezTo>
                        <a:cubicBezTo>
                          <a:pt x="728" y="135"/>
                          <a:pt x="705" y="135"/>
                          <a:pt x="689" y="125"/>
                        </a:cubicBezTo>
                        <a:cubicBezTo>
                          <a:pt x="611" y="78"/>
                          <a:pt x="538" y="28"/>
                          <a:pt x="451" y="0"/>
                        </a:cubicBezTo>
                        <a:cubicBezTo>
                          <a:pt x="358" y="11"/>
                          <a:pt x="329" y="38"/>
                          <a:pt x="251" y="0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34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Line 29"/>
                  <p:cNvSpPr/>
                  <p:nvPr/>
                </p:nvSpPr>
                <p:spPr>
                  <a:xfrm>
                    <a:off x="6442920" y="2329560"/>
                    <a:ext cx="139320" cy="33084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Line 30"/>
                  <p:cNvSpPr/>
                  <p:nvPr/>
                </p:nvSpPr>
                <p:spPr>
                  <a:xfrm flipH="1">
                    <a:off x="7068240" y="2224440"/>
                    <a:ext cx="236160" cy="49536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Line 31"/>
                  <p:cNvSpPr/>
                  <p:nvPr/>
                </p:nvSpPr>
                <p:spPr>
                  <a:xfrm flipV="1">
                    <a:off x="6643080" y="2025720"/>
                    <a:ext cx="297360" cy="5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Line 32"/>
                <p:cNvSpPr/>
                <p:nvPr/>
              </p:nvSpPr>
              <p:spPr>
                <a:xfrm>
                  <a:off x="5672520" y="2620800"/>
                  <a:ext cx="56412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Line 33"/>
                <p:cNvSpPr/>
                <p:nvPr/>
              </p:nvSpPr>
              <p:spPr>
                <a:xfrm>
                  <a:off x="7693200" y="2620800"/>
                  <a:ext cx="540000" cy="72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Line 34"/>
                <p:cNvSpPr/>
                <p:nvPr/>
              </p:nvSpPr>
              <p:spPr>
                <a:xfrm>
                  <a:off x="0" y="4607280"/>
                  <a:ext cx="57024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35"/>
                <p:cNvSpPr/>
                <p:nvPr/>
              </p:nvSpPr>
              <p:spPr>
                <a:xfrm>
                  <a:off x="758160" y="4183560"/>
                  <a:ext cx="2001960" cy="794520"/>
                </a:xfrm>
                <a:prstGeom prst="rect">
                  <a:avLst/>
                </a:prstGeom>
                <a:solidFill>
                  <a:srgbClr val="ffffff"/>
                </a:solidFill>
                <a:ln w="34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Биогеографическая подобласт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36"/>
                <p:cNvGrpSpPr/>
                <p:nvPr/>
              </p:nvGrpSpPr>
              <p:grpSpPr>
                <a:xfrm>
                  <a:off x="2942280" y="4012560"/>
                  <a:ext cx="2184120" cy="1766160"/>
                  <a:chOff x="2942280" y="4012560"/>
                  <a:chExt cx="2184120" cy="1766160"/>
                </a:xfrm>
              </p:grpSpPr>
              <p:grpSp>
                <p:nvGrpSpPr>
                  <p:cNvPr id="98" name="Group 37"/>
                  <p:cNvGrpSpPr/>
                  <p:nvPr/>
                </p:nvGrpSpPr>
                <p:grpSpPr>
                  <a:xfrm>
                    <a:off x="3117960" y="4012560"/>
                    <a:ext cx="1819800" cy="992520"/>
                    <a:chOff x="3117960" y="4012560"/>
                    <a:chExt cx="1819800" cy="992520"/>
                  </a:xfrm>
                </p:grpSpPr>
                <p:sp>
                  <p:nvSpPr>
                    <p:cNvPr id="99" name="Rectangle 38"/>
                    <p:cNvSpPr/>
                    <p:nvPr/>
                  </p:nvSpPr>
                  <p:spPr>
                    <a:xfrm>
                      <a:off x="311796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Rectangle 39"/>
                    <p:cNvSpPr/>
                    <p:nvPr/>
                  </p:nvSpPr>
                  <p:spPr>
                    <a:xfrm>
                      <a:off x="4209840" y="401256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Rectangle 40"/>
                    <p:cNvSpPr/>
                    <p:nvPr/>
                  </p:nvSpPr>
                  <p:spPr>
                    <a:xfrm>
                      <a:off x="3663720" y="4806720"/>
                      <a:ext cx="727920" cy="198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" name="Line 41"/>
                  <p:cNvSpPr/>
                  <p:nvPr/>
                </p:nvSpPr>
                <p:spPr>
                  <a:xfrm>
                    <a:off x="348228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Line 42"/>
                  <p:cNvSpPr/>
                  <p:nvPr/>
                </p:nvSpPr>
                <p:spPr>
                  <a:xfrm flipH="1">
                    <a:off x="4210200" y="4210920"/>
                    <a:ext cx="363600" cy="5958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Line 43"/>
                  <p:cNvSpPr/>
                  <p:nvPr/>
                </p:nvSpPr>
                <p:spPr>
                  <a:xfrm>
                    <a:off x="3846240" y="4137840"/>
                    <a:ext cx="36396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Text Box 44"/>
                  <p:cNvSpPr/>
                  <p:nvPr/>
                </p:nvSpPr>
                <p:spPr>
                  <a:xfrm>
                    <a:off x="2942280" y="4984560"/>
                    <a:ext cx="2184120" cy="79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географичекая область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" name="Line 45"/>
                <p:cNvSpPr/>
                <p:nvPr/>
              </p:nvSpPr>
              <p:spPr>
                <a:xfrm>
                  <a:off x="2857320" y="4607280"/>
                  <a:ext cx="624960" cy="108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46"/>
                <p:cNvSpPr/>
                <p:nvPr/>
              </p:nvSpPr>
              <p:spPr>
                <a:xfrm flipV="1">
                  <a:off x="4853520" y="4618080"/>
                  <a:ext cx="621720" cy="180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Group 47"/>
                <p:cNvGrpSpPr/>
                <p:nvPr/>
              </p:nvGrpSpPr>
              <p:grpSpPr>
                <a:xfrm>
                  <a:off x="5448240" y="4057200"/>
                  <a:ext cx="1455480" cy="887400"/>
                  <a:chOff x="5448240" y="4057200"/>
                  <a:chExt cx="1455480" cy="887400"/>
                </a:xfrm>
              </p:grpSpPr>
              <p:sp>
                <p:nvSpPr>
                  <p:cNvPr id="109" name="Line 48"/>
                  <p:cNvSpPr/>
                  <p:nvPr/>
                </p:nvSpPr>
                <p:spPr>
                  <a:xfrm flipH="1">
                    <a:off x="6242760" y="4315680"/>
                    <a:ext cx="260640" cy="39708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AutoShape 49"/>
                  <p:cNvSpPr/>
                  <p:nvPr/>
                </p:nvSpPr>
                <p:spPr>
                  <a:xfrm rot="10800000">
                    <a:off x="5448240" y="405720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utoShape 50"/>
                  <p:cNvSpPr/>
                  <p:nvPr/>
                </p:nvSpPr>
                <p:spPr>
                  <a:xfrm rot="10800000">
                    <a:off x="6357960" y="4064040"/>
                    <a:ext cx="545760" cy="397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utoShape 51"/>
                  <p:cNvSpPr/>
                  <p:nvPr/>
                </p:nvSpPr>
                <p:spPr>
                  <a:xfrm>
                    <a:off x="5891040" y="4547520"/>
                    <a:ext cx="545760" cy="397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Line 52"/>
                  <p:cNvSpPr/>
                  <p:nvPr/>
                </p:nvSpPr>
                <p:spPr>
                  <a:xfrm>
                    <a:off x="5836320" y="4289040"/>
                    <a:ext cx="212040" cy="41040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Line 53"/>
                  <p:cNvSpPr/>
                  <p:nvPr/>
                </p:nvSpPr>
                <p:spPr>
                  <a:xfrm>
                    <a:off x="5878800" y="4276080"/>
                    <a:ext cx="588240" cy="0"/>
                  </a:xfrm>
                  <a:prstGeom prst="line">
                    <a:avLst/>
                  </a:prstGeom>
                  <a:ln w="34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" name="Line 54"/>
                <p:cNvSpPr/>
                <p:nvPr/>
              </p:nvSpPr>
              <p:spPr>
                <a:xfrm>
                  <a:off x="6931440" y="4618440"/>
                  <a:ext cx="545760" cy="0"/>
                </a:xfrm>
                <a:prstGeom prst="line">
                  <a:avLst/>
                </a:prstGeom>
                <a:ln w="349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55"/>
                <p:cNvGrpSpPr/>
                <p:nvPr/>
              </p:nvGrpSpPr>
              <p:grpSpPr>
                <a:xfrm>
                  <a:off x="7474680" y="4220640"/>
                  <a:ext cx="1274040" cy="876240"/>
                  <a:chOff x="7474680" y="4220640"/>
                  <a:chExt cx="1274040" cy="876240"/>
                </a:xfrm>
              </p:grpSpPr>
              <p:grpSp>
                <p:nvGrpSpPr>
                  <p:cNvPr id="117" name="Group 56"/>
                  <p:cNvGrpSpPr/>
                  <p:nvPr/>
                </p:nvGrpSpPr>
                <p:grpSpPr>
                  <a:xfrm>
                    <a:off x="7477200" y="4220640"/>
                    <a:ext cx="1092240" cy="397440"/>
                    <a:chOff x="7477200" y="4220640"/>
                    <a:chExt cx="1092240" cy="397440"/>
                  </a:xfrm>
                </p:grpSpPr>
                <p:sp>
                  <p:nvSpPr>
                    <p:cNvPr id="118" name="AutoShape 57"/>
                    <p:cNvSpPr/>
                    <p:nvPr/>
                  </p:nvSpPr>
                  <p:spPr>
                    <a:xfrm rot="10800000">
                      <a:off x="7477200" y="4220640"/>
                      <a:ext cx="54612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AutoShape 58"/>
                    <p:cNvSpPr/>
                    <p:nvPr/>
                  </p:nvSpPr>
                  <p:spPr>
                    <a:xfrm rot="10800000">
                      <a:off x="8023680" y="422064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AutoShape 59"/>
                    <p:cNvSpPr/>
                    <p:nvPr/>
                  </p:nvSpPr>
                  <p:spPr>
                    <a:xfrm>
                      <a:off x="7728120" y="4221000"/>
                      <a:ext cx="545760" cy="3970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34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1" name="Text Box 60"/>
                  <p:cNvSpPr/>
                  <p:nvPr/>
                </p:nvSpPr>
                <p:spPr>
                  <a:xfrm>
                    <a:off x="7474680" y="4699800"/>
                    <a:ext cx="127404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иосфер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вид мест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 (англ. biome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окупность различных групп организмов и среды их обитания в определенных природных зонах и поясах, напр., в умеренном поясе степь, тайга, в аридном поясе пусты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географическая область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пное по площади флористико-фаунистическое подразделение земного шара, выделяемое главным образом по общности историко-эволюционного развития фауны и флоры, которые, как правило, в пределах области более или менее однород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деляют 6 облас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Австралийская, Неоарктическую, Неотропическая, Эфиопская, Палеарктическая, Восточна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image001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897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Экологические сукце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79280" y="9064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ой сукцессией н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ледовательная смена биоценозов в рамках одного биотоп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79280" y="1771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сукцессионого замещ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родные биотические сообщества последовательно формируют закономерный ряд экосистем, ведущий к наиболее устойчивому в данных условиях состоянию (климаксу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79280" y="3356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имак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климаксное сообщество) - завершающая стабильная стадия развития эко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00000" y="429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стадии сукцесс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50920" y="537228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опоселенцы (пионерные виды) →серии сукцессий → климаксовое сообщ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30:08Z</dcterms:created>
  <dc:creator>student</dc:creator>
  <dc:description/>
  <dc:language>en-US</dc:language>
  <cp:lastModifiedBy>LEGION</cp:lastModifiedBy>
  <dcterms:modified xsi:type="dcterms:W3CDTF">2015-01-05T08:28:02Z</dcterms:modified>
  <cp:revision>355</cp:revision>
  <dc:subject/>
  <dc:title>ОБЩАЯ ЭКОЛОГЯ</dc:title>
</cp:coreProperties>
</file>