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D204B-72A8-49E1-9867-C46B6AD42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B6DCF-EDF5-48D5-B952-18452CF18B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2CA24-0522-433F-8FFF-38FD507A90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должи фраз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ланк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иклопы и даф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т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х - сфагн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F9DDA-89DF-454F-8E47-8840123C47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F9B1D-8414-4521-9796-80B33ED8BE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из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EF924-1FF4-47D6-A27C-F787ECE3F1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32A0D-6DAB-4AA5-9549-738E166081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разруш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4181B-26FF-4DF0-A203-D1C3AEE329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Если луг в благоприятных условиях может смениться лесо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начи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круговорот веществ на лугах незамкнут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6F8-22EB-4499-AEC9-E0C16DA1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1A6-6A1B-4095-94BC-EDFFE72C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55ABD-E14C-4729-B948-B53B9053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45BC9-1995-44AB-98E7-D37EE15E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25AC4-7910-4251-B3D5-AEE52452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B1BBE-FF74-40D1-A8B0-C42B44C4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A66BE-1DE4-4343-A974-3221D40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BC728-A7E8-40B2-A6EC-EF289910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74B82-F57B-465A-820D-42C4B964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48ABD-C571-4238-BF13-41434223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75152-5022-465D-81F7-7B993427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E45-8602-4B76-B64B-0279EC44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C21-ADD2-4CC1-8128-2F079436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CF44-AE58-4328-B959-BFAEB6CA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B166-0F87-464C-9A34-75C0C4CB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402-DAC0-4A20-B11E-D1600CFD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846F-8B83-46DD-96D1-CE405BF0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4559-BD79-4523-8113-B8A0BD51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8196-98C6-4894-BEED-723EF8FF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0784-1008-4CC9-9D97-3F61B411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223-3138-4B5F-B167-42896CE6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630F-AAC7-47DA-A65F-42F69FF9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4C8F-42D6-487B-B0A9-1EE465A6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9537-CC32-4233-8131-611EAB57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4712-B9B1-412F-814E-36B8ED16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00C5-C789-4559-9F39-0BAF5DF3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BC3F-A734-4F96-823A-AF64EF50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F183D-9DAF-47E4-A859-C9497FB2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95E0-42A4-43AB-BABD-BF16FA31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5CF0B-F7B5-412D-A4A7-A7685F70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C46F-3569-4FE4-B20B-461E0478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A41-1144-4E4A-A316-05B90E0E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17B9-1656-4033-8642-C36B74DD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114A-35EA-4D08-8C59-759A6AAC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123E-A5BD-4FC8-896A-825EFC2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5351-0BB9-4248-B7D8-E3C8E2F6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B0EB-DE19-42AB-B9E0-B272D403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7E49-5464-42E5-830C-147792EB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0100-B52E-4373-BC28-52D7EFDA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342E-497F-4197-9A84-246FE4FF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CDF8-C322-4390-83CF-4D15D310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55BE-5AB8-4EFB-95F2-A4046B74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725-89EC-4D18-BD47-9927C824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0784-7F55-45CE-9071-284CDA92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CA72-D0E3-40CD-A946-4102E85B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6E6DA-5D4D-4191-8108-1BC674ED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49BF-4168-4A86-AB17-603DC782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E042-9F49-4A0A-B626-55305C4C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474E-42CB-462B-A532-FE6C111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DB49-CD5F-488D-866E-4DCC4730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5A091-6C2F-4AD4-A77B-E6C01598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6EB7-0760-4125-99B1-946A29DC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D8B3F-3FB1-49E4-B9A6-BFAC1FF3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23D-D024-4A13-8A67-D7E091D8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A65F-6CD1-45A3-9B7C-19C10275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4FA3F-9AD6-4783-B3FF-7EA77536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2B87-65BC-4B7C-8CF3-34DDEEDA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7C6D-2BBB-4ECF-B01A-B12C2B19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AC217-A52E-46C6-9A42-BFA32751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F6239-9B53-4A3C-B041-36E00471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14931-A405-46E6-BBA8-204A9567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D743F-3371-4B1D-A0A9-9C99C398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DCE6D-168D-4962-B250-3488FDF6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DFDF7-80AD-42C6-86AB-75DF6ACD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648-FF54-4314-B401-F02A656A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11FF-24A6-482E-920A-6A81EF45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DD4DF-7CE2-4BCA-804E-99831F94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EC26A-7188-4887-995B-082B2FBA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C4F0-FB19-4A9E-A803-4511A0A6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8BC5D-6E02-4842-AA9A-EBFE1E59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18585-3413-45CA-B0E0-D412E2C0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EA90-C9F8-4574-A093-8672439A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C5670-8E11-4B47-95D9-FE278CF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893A7-91B3-4EA9-92AA-95432904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A12E0-C236-4BFF-8034-BDAB7E45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4A9-984B-4BA6-9F1F-59BB91A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A942-99FE-4A32-9806-AD7A2BD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639C-DB13-473F-8936-16F351D0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B4E27-ECFB-41FE-BF46-BC9CE568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07BA4-7FC4-448F-B410-03B77809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251EC-7500-43DF-9202-345D0E20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38785-D547-40B8-95AD-7BA248C3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7D640-9C3C-42C5-8060-9AB7B3EB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56EC6-9545-4A34-BEE6-CBF858CA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14250-B13A-4704-96F7-50E77D3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3BEFA-BE1D-44FF-BF10-76BC76F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9AA-8DE0-4E24-9CD5-DE6710C3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D336E-63B6-44E2-BB10-2373EBAE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B7571-56E7-4908-980F-BB75E92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7C816-12BD-454E-89D4-8964ED87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E04A1-CA31-4D27-BA51-B042F7B8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2F864-AA59-452D-944E-ABF2054A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BEDA7-000D-41DC-A20A-7BCE7FE6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20764-496F-4646-8B8B-51CBC1D1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7C2ED-D480-44D3-9B6A-96C0AE6D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3A21C-19D9-4C3E-91C3-A0E7B3C2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E2530-DDC3-456F-8590-CD25B12A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B64-6A10-4DBA-B557-F60F1365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607BF-10DA-4A78-A4B9-21BB20D2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F316B-4F0C-4031-933E-5C7290E1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44216-A2F4-487E-85E2-BFA0A8DA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5CDE5-CD7D-4AC6-BA54-C1A1CFB7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4EFDA-8966-4788-BD6F-FD74ED6F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237DF-5668-4190-A263-C043E124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2FB9F-0B45-4458-8E43-847AD298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85424-9B24-4EA2-90FF-D19889F1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9982E-1369-4425-B7B3-370BDCB4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F56A4-50FE-4D17-B92A-EE8F0B41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ED3B72-7BAB-46EE-BD52-7BF5FBE0CC97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66640" y="5888160"/>
            <a:ext cx="9515520" cy="19080"/>
            <a:chOff x="566640" y="5888160"/>
            <a:chExt cx="951552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5888160"/>
              <a:ext cx="95155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66640" y="589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C5BACB-9D22-4894-881C-03037BA7CBB7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948120" y="84240"/>
            <a:ext cx="319248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C05C0B-6FDA-40AE-A270-694238E3CB68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66640" y="3790800"/>
            <a:ext cx="9515520" cy="12960"/>
            <a:chOff x="566640" y="3790800"/>
            <a:chExt cx="9515520" cy="129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3790800"/>
              <a:ext cx="951552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6640" y="379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FBD325-AAEB-477D-B3ED-2B5B7BD239E2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66640" y="6632640"/>
            <a:ext cx="9515520" cy="12600"/>
            <a:chOff x="566640" y="6632640"/>
            <a:chExt cx="951552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632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6640" y="6635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9072720" y="7139160"/>
            <a:ext cx="83952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8E3678-FFE5-4A90-B539-8B26894B1CA0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2F2F20-15CD-4677-A0CF-F236A2B220B9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66640" y="6443640"/>
            <a:ext cx="9515520" cy="12600"/>
            <a:chOff x="566640" y="6443640"/>
            <a:chExt cx="951552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443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6640" y="644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89FD19-5F60-42AB-90B8-AD5C5B8A5D1A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F535F1-86E8-49B3-A460-25B41F681770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B524DF-3697-4605-8DDA-3AB39A39807B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8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9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0.jpe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file:///&#1101;&#1082;&#1086;&#1089;&#1080;&#1089;&#1090;&#1077;&#1084;&#1072;%20&#1083;&#1091;&#1075;&#1072;.ppt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13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14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15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6.pn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0" y="1476360"/>
            <a:ext cx="9540720" cy="540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"/>
          <p:cNvSpPr/>
          <p:nvPr/>
        </p:nvSpPr>
        <p:spPr>
          <a:xfrm>
            <a:off x="3095640" y="161928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325680" y="351000"/>
            <a:ext cx="37958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600360" y="360360"/>
            <a:ext cx="28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61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0" y="4067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00000" y="3419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896000" y="378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треб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3600360" y="684036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3600360" y="0"/>
            <a:ext cx="229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43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2808360" y="4716360"/>
            <a:ext cx="2786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руш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5940360" y="395928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7345440" y="615636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03280" y="5867280"/>
            <a:ext cx="1463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720720" y="648000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3111480" y="351000"/>
            <a:ext cx="3368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Эко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260360" y="1619280"/>
            <a:ext cx="685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циклопы и даф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ты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х - сфагну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экосистема л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440000" y="539640"/>
            <a:ext cx="558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долж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-792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82560" y="1851120"/>
            <a:ext cx="8643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Экосистема луг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727280" y="611280"/>
            <a:ext cx="6707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450072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979640"/>
            <a:ext cx="1798560" cy="2382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E:\Марьям\Звуки картинки\lopux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48000" y="4572000"/>
            <a:ext cx="1643040" cy="2320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:\Марьям\Звуки картинки\p20009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2279520"/>
            <a:ext cx="2689200" cy="183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E:\Марьям\Звуки картинки\medherb1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1979640"/>
            <a:ext cx="1624320" cy="2367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E:\PICT0102-21_resiz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85080" y="4500720"/>
            <a:ext cx="1673280" cy="23889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907560" y="4140360"/>
            <a:ext cx="1153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243800" y="680400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565880" y="6967440"/>
            <a:ext cx="72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п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51160" y="6894360"/>
            <a:ext cx="194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иный горо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1397160" y="636480"/>
            <a:ext cx="6421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Луговые потреби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5940360" y="270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240000" y="125892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897200" y="2851200"/>
            <a:ext cx="23400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6" descr="E:\Марьям\Звуки картинки\sm_5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4000" y="32036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E:\Марьям\Звуки картинки\strekoz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7640" y="3203640"/>
            <a:ext cx="1927080" cy="1666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E:\Марьям\Звуки картинки\image0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4720" y="1332000"/>
            <a:ext cx="2028960" cy="1520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640" y="3132000"/>
            <a:ext cx="1500120" cy="1660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E:\Марьям\Звуки картинки\11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80000" y="5508720"/>
            <a:ext cx="2167200" cy="14446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3"/>
          <p:cNvSpPr/>
          <p:nvPr/>
        </p:nvSpPr>
        <p:spPr>
          <a:xfrm>
            <a:off x="2660040" y="4716360"/>
            <a:ext cx="2248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олубя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14"/>
          <p:cNvSpPr/>
          <p:nvPr/>
        </p:nvSpPr>
        <p:spPr>
          <a:xfrm>
            <a:off x="5724000" y="4932360"/>
            <a:ext cx="111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15"/>
          <p:cNvSpPr/>
          <p:nvPr/>
        </p:nvSpPr>
        <p:spPr>
          <a:xfrm>
            <a:off x="6589800" y="7020000"/>
            <a:ext cx="18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16"/>
          <p:cNvSpPr/>
          <p:nvPr/>
        </p:nvSpPr>
        <p:spPr>
          <a:xfrm>
            <a:off x="5709240" y="2843280"/>
            <a:ext cx="7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е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17"/>
          <p:cNvSpPr/>
          <p:nvPr/>
        </p:nvSpPr>
        <p:spPr>
          <a:xfrm>
            <a:off x="487800" y="4859280"/>
            <a:ext cx="172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3" descr="E:\Марьям\Звуки картинки\16-1.jpg"/>
          <p:cNvPicPr/>
          <p:nvPr/>
        </p:nvPicPr>
        <p:blipFill>
          <a:blip r:embed="rId11"/>
          <a:stretch/>
        </p:blipFill>
        <p:spPr>
          <a:xfrm>
            <a:off x="4103640" y="5508720"/>
            <a:ext cx="1390680" cy="14554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9"/>
          <p:cNvSpPr/>
          <p:nvPr/>
        </p:nvSpPr>
        <p:spPr>
          <a:xfrm>
            <a:off x="3997800" y="7020000"/>
            <a:ext cx="180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пол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14" descr="E:\Марьям\Звуки картинки\Image06.jpg"/>
          <p:cNvPicPr/>
          <p:nvPr/>
        </p:nvPicPr>
        <p:blipFill>
          <a:blip r:embed="rId12"/>
          <a:stretch/>
        </p:blipFill>
        <p:spPr>
          <a:xfrm>
            <a:off x="2592360" y="1332000"/>
            <a:ext cx="2092320" cy="15080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1"/>
          <p:cNvSpPr/>
          <p:nvPr/>
        </p:nvSpPr>
        <p:spPr>
          <a:xfrm>
            <a:off x="3002400" y="2843280"/>
            <a:ext cx="1307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рясог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E:\Марьям\Звуки картинки\049056054124053048055054053057055.jpg"/>
          <p:cNvPicPr/>
          <p:nvPr/>
        </p:nvPicPr>
        <p:blipFill>
          <a:blip r:embed="rId13"/>
          <a:stretch/>
        </p:blipFill>
        <p:spPr>
          <a:xfrm>
            <a:off x="792000" y="5435640"/>
            <a:ext cx="2357640" cy="16430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5"/>
          <p:cNvSpPr/>
          <p:nvPr/>
        </p:nvSpPr>
        <p:spPr>
          <a:xfrm>
            <a:off x="1383480" y="7093080"/>
            <a:ext cx="782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E:\27.jpg"/>
          <p:cNvPicPr/>
          <p:nvPr/>
        </p:nvPicPr>
        <p:blipFill>
          <a:blip r:embed="rId14"/>
          <a:stretch/>
        </p:blipFill>
        <p:spPr>
          <a:xfrm>
            <a:off x="7561440" y="3419640"/>
            <a:ext cx="1404720" cy="108900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7"/>
          <p:cNvSpPr/>
          <p:nvPr/>
        </p:nvSpPr>
        <p:spPr>
          <a:xfrm>
            <a:off x="7748640" y="4572000"/>
            <a:ext cx="110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539720" y="2351160"/>
            <a:ext cx="6421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60720" y="684360"/>
            <a:ext cx="640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разруш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368360" y="6732720"/>
            <a:ext cx="1136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воз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E:\Марьям\Звуки картинки\LUMBRICIDAE.jpg"/>
          <p:cNvPicPr/>
          <p:nvPr/>
        </p:nvPicPr>
        <p:blipFill>
          <a:blip r:embed="rId1"/>
          <a:stretch/>
        </p:blipFill>
        <p:spPr>
          <a:xfrm>
            <a:off x="6264360" y="4284720"/>
            <a:ext cx="2806560" cy="2143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4"/>
          <p:cNvSpPr/>
          <p:nvPr/>
        </p:nvSpPr>
        <p:spPr>
          <a:xfrm>
            <a:off x="6680520" y="644364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7"/>
          <p:cNvSpPr/>
          <p:nvPr/>
        </p:nvSpPr>
        <p:spPr>
          <a:xfrm>
            <a:off x="3988080" y="3564000"/>
            <a:ext cx="88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ли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6" descr="E:\Марьям\Звуки картинки\навозник.jpg"/>
          <p:cNvPicPr/>
          <p:nvPr/>
        </p:nvPicPr>
        <p:blipFill>
          <a:blip r:embed="rId2"/>
          <a:stretch/>
        </p:blipFill>
        <p:spPr>
          <a:xfrm>
            <a:off x="719280" y="4356000"/>
            <a:ext cx="2984400" cy="2071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9"/>
          <p:cNvSpPr/>
          <p:nvPr/>
        </p:nvSpPr>
        <p:spPr>
          <a:xfrm>
            <a:off x="7117560" y="2411280"/>
            <a:ext cx="2082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чвенные 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3311640" y="1547640"/>
            <a:ext cx="1928520" cy="198468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968400" y="20653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Если луг в благоприятных условиях может смениться лес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ачи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круговорот веществ на лугах незамкнут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08:53:15Z</dcterms:modified>
  <cp:revision>60</cp:revision>
  <dc:subject/>
  <dc:title>Слайд 1</dc:title>
</cp:coreProperties>
</file>