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.png" ContentType="image/pn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17.jpeg" ContentType="image/jpeg"/>
  <Override PartName="/ppt/media/image3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AutoShape 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4000" spc="-1" strike="noStrike">
                <a:solidFill>
                  <a:srgbClr val="4e3b30"/>
                </a:solidFill>
                <a:latin typeface="Franklin Gothic Medium"/>
              </a:rPr>
              <a:t>Click to move the slide</a:t>
            </a: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 type="dt" idx="28"/>
          </p:nvPr>
        </p:nvSpPr>
        <p:spPr>
          <a:xfrm>
            <a:off x="42782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 type="ftr" idx="29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6"/>
          <p:cNvSpPr>
            <a:spLocks noGrp="1"/>
          </p:cNvSpPr>
          <p:nvPr>
            <p:ph type="sldNum" idx="30"/>
          </p:nvPr>
        </p:nvSpPr>
        <p:spPr>
          <a:xfrm>
            <a:off x="42782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6E5C86-A887-4DF0-AFC9-196423A26CD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7"/>
          <p:cNvSpPr/>
          <p:nvPr/>
        </p:nvSpPr>
        <p:spPr>
          <a:xfrm>
            <a:off x="42782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D6FB9B-DB20-4DE3-A22B-3451B7236DD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Text Box 1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692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Экосистем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7"/>
          <p:cNvSpPr/>
          <p:nvPr/>
        </p:nvSpPr>
        <p:spPr>
          <a:xfrm>
            <a:off x="42782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CEFC24-96D1-4EC8-9DD3-7D8EFE851AD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Text Box 1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692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Продолжи фразы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планкто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циклопы и дафн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мотыл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мох - сфагну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торф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экосистема луг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7"/>
          <p:cNvSpPr/>
          <p:nvPr/>
        </p:nvSpPr>
        <p:spPr>
          <a:xfrm>
            <a:off x="42782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86D23D-5D1D-4439-BF60-F8B1D0D8BC5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Text Box 1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692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Экосистема луг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7"/>
          <p:cNvSpPr/>
          <p:nvPr/>
        </p:nvSpPr>
        <p:spPr>
          <a:xfrm>
            <a:off x="42782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303D8A-4C47-44BA-AAF4-85567226990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Text Box 1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692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Луговые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производител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7"/>
          <p:cNvSpPr/>
          <p:nvPr/>
        </p:nvSpPr>
        <p:spPr>
          <a:xfrm>
            <a:off x="42782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EA57EB-565A-46DB-AF50-06FA23FF347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Text Box 1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692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Луговые потребител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7"/>
          <p:cNvSpPr/>
          <p:nvPr/>
        </p:nvSpPr>
        <p:spPr>
          <a:xfrm>
            <a:off x="42782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1426EA-B3CA-4BD7-88CC-5AE4A397B86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Text Box 1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692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Луговые разрушител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Rectangle 7"/>
          <p:cNvSpPr/>
          <p:nvPr/>
        </p:nvSpPr>
        <p:spPr>
          <a:xfrm>
            <a:off x="42782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07A59B-1C73-4F34-BA5C-A21F7916F29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Text Box 1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692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Если луг в благоприятных условиях может смениться лесом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з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начит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 круговорот веществ на лугах незамкнутый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99C54-8C4D-4CCD-B6A7-119EA5267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95756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6240" y="4319280"/>
            <a:ext cx="95756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98929-1B21-4F85-8003-8CC97E395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46728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5243040" y="1712880"/>
            <a:ext cx="46728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380146-448C-4290-A7B7-33384C370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A8DE0C-3392-4242-8C8E-0916F7828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36240" y="503280"/>
            <a:ext cx="957564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C40D4B-DE2A-423D-A1BC-BE06FFBC4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5243040" y="1712880"/>
            <a:ext cx="46728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36240" y="43192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E32212-A5D7-44B3-A267-34A572429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46728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52430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5243040" y="43192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9F1E4A-93CE-4C0D-B4C7-0B8FE5801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52430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36240" y="4319280"/>
            <a:ext cx="95756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31B356-B277-482D-9137-54B68E0D7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95756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36240" y="4319280"/>
            <a:ext cx="95756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97E7CD-79D5-4104-AB81-0568CB3F4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52430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36240" y="43192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5243040" y="43192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1793C3-F6C0-4F0B-98A8-3170E72D1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573720" y="17128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811560" y="17128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36240" y="43192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573720" y="43192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811560" y="43192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64EEBF-7128-4647-BB28-99A63BB0F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2430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36240" y="43192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243040" y="43192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85A90-AB72-4A65-857B-31E489824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3720" y="17128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811560" y="17128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36240" y="43192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3720" y="43192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811560" y="43192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93B9B-4777-4CB3-99C2-3A1A45D8C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9061C-504D-4E13-B6AB-684224516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36240" y="1712880"/>
            <a:ext cx="957564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86FEF-4A8C-48AA-B58A-0C121C506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957564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D80CB-A3C4-4E68-B13A-F3AA10F53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46728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243040" y="1712880"/>
            <a:ext cx="46728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147A6-F127-4FA8-8B3F-F5E54B61D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E6C36-5C54-4022-B084-780DEA8DA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36240" y="503280"/>
            <a:ext cx="957564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CE584-A77B-43EB-9254-74D6E87D9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43040" y="1712880"/>
            <a:ext cx="46728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36240" y="43192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049ED-EEB3-4058-9147-49A9C4948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36240" y="1712880"/>
            <a:ext cx="957564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81823-93ED-4C9D-97F3-5474EC3FF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46728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430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243040" y="43192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EDB2A-C9C4-49EA-B9CE-7D3AE6C28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2430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36240" y="4319280"/>
            <a:ext cx="95756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2ECE6-2122-42C8-A2D1-E02B192DB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95756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240" y="4319280"/>
            <a:ext cx="95756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734B3-7829-4CC3-AB30-D1CFFD8CF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430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36240" y="43192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243040" y="43192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370C7-B88D-49A2-A3FE-0147FC406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573720" y="17128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811560" y="17128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36240" y="43192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573720" y="43192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811560" y="43192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0C9A5-D11E-47B0-A73B-F05C7FABF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44886C-8A7A-43EE-BA4F-839B45D3B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36240" y="1712880"/>
            <a:ext cx="957564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3ECB1C-4C9A-49D9-88FB-AF74F78B1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957564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0000C0-7865-4856-9BA4-5971920DE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46728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243040" y="1712880"/>
            <a:ext cx="46728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9B7D81-0007-4FFD-A2DF-918F05B0D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B20B23-4395-40F6-B5D9-BE48D2AC8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957564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41878-1AF3-401D-BBDB-27E341936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36240" y="503280"/>
            <a:ext cx="957564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C2CE0B-9528-4F78-8C3C-B2040918F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243040" y="1712880"/>
            <a:ext cx="46728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36240" y="43192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C63146-177A-4562-9663-5A429A4F1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46728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2430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243040" y="43192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84817F-1719-4253-83C3-A0ACC82D6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2430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36240" y="4319280"/>
            <a:ext cx="95756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31F575-625B-4644-B597-19B20D661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95756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6240" y="4319280"/>
            <a:ext cx="95756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AEE06B-CCE9-4A41-AB5A-AD429AF07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2430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36240" y="43192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5243040" y="43192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7D5503-6CF3-4A7F-8207-06D34283F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573720" y="17128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11560" y="17128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36240" y="43192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573720" y="43192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811560" y="43192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3B2D26-B8FB-4AE3-940F-4822CAE86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155615-7AD4-48D5-B0AC-57E10D3B8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36240" y="1712880"/>
            <a:ext cx="957564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FF3126-0F00-4706-8092-C6B5D60CA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957564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4E95BB-F6B2-4B5A-A1D5-E1EBB725B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46728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43040" y="1712880"/>
            <a:ext cx="46728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0CB05-5984-4455-A75A-B031D9BD1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46728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43040" y="1712880"/>
            <a:ext cx="46728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BE78FE-C7D9-4BC9-A5D9-7D00E846B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76642A-3599-43E2-86AE-0C2E99469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36240" y="503280"/>
            <a:ext cx="957564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6CB2A0-5AF4-429B-A330-828D853E5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43040" y="1712880"/>
            <a:ext cx="46728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36240" y="43192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7A1541-2941-4CF0-B503-AF289D20D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46728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430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43040" y="43192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B968C0-67CB-4744-878A-D1C8236FE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430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36240" y="4319280"/>
            <a:ext cx="95756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21A4C7-8E80-4B27-865A-AF858E7E9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95756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36240" y="4319280"/>
            <a:ext cx="95756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5E56BE-D29D-4426-825E-ECD59E6A2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430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36240" y="43192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43040" y="43192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5707D9-1A6B-4819-BACB-6C5869C55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573720" y="17128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811560" y="17128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36240" y="43192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573720" y="43192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811560" y="43192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9F27A4-788F-4124-B89D-0F6D85A90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D77FB0-3577-4945-AFD9-48887CE99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E578C-6CB3-46DB-9958-5E5904F11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36240" y="1712880"/>
            <a:ext cx="957564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4CB0CC-6FAF-4222-9BF6-C2939BB6D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957564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CAA10E-10F3-4E95-B3D5-60F00B22A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46728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243040" y="1712880"/>
            <a:ext cx="46728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BF1E21-0534-46DD-A743-6C32671A4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E63BA9-48DE-4008-8E0D-CAD81F4C3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36240" y="503280"/>
            <a:ext cx="957564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8EE1AF-C6A9-4500-8DE5-AEAF957DE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243040" y="1712880"/>
            <a:ext cx="46728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36240" y="43192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EFC7F2-0EB6-4866-BDE6-956B3562F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46728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2430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5243040" y="43192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A9BC16-0EDF-4790-B5E5-1A5C7ADB5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52430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36240" y="4319280"/>
            <a:ext cx="95756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BCEA4E-84B4-423A-8F83-FDFF15D16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95756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36240" y="4319280"/>
            <a:ext cx="95756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B40B25-32FF-42C3-9421-67BE2BDE9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52430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36240" y="43192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5243040" y="43192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52BAA8-7FD6-4C4A-9C3B-5FFC433AE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36240" y="503280"/>
            <a:ext cx="957564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2AE24-FB97-453A-8822-F1FB21A10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573720" y="17128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811560" y="17128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36240" y="43192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573720" y="43192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811560" y="43192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0488B1-0AA1-43A3-A5AE-BE427D656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9D6D3E-C8B0-4390-9D34-07612AB5A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36240" y="1712880"/>
            <a:ext cx="957564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8561B4-A999-4244-9CD2-26A01BDFD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957564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500680-A464-4FCE-9809-CF50C539A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46728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5243040" y="1712880"/>
            <a:ext cx="46728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41ED1E-E0AC-418C-8A61-6640EFE21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36CFDC-1C5C-462A-AE2B-F623E3F2B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36240" y="503280"/>
            <a:ext cx="957564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173144-7755-4645-92F4-D6BCE9AB3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5243040" y="1712880"/>
            <a:ext cx="46728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36240" y="43192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6025CA-2AA7-43B4-99D6-69193B98A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46728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2430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5243040" y="43192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89B9F6-8574-4DE9-9984-64B6B67B7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52430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36240" y="4319280"/>
            <a:ext cx="95756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0A6A9D-C00F-4768-82A9-0114E5AA7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43040" y="1712880"/>
            <a:ext cx="46728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36240" y="43192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4B788-AE14-4F75-93EF-34AE7B53B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95756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36240" y="4319280"/>
            <a:ext cx="95756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15369C-05C3-4678-8C8C-22691A342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52430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36240" y="43192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5243040" y="43192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B79651-A940-4229-B288-3A2653EB2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573720" y="17128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811560" y="17128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36240" y="43192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573720" y="43192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811560" y="43192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7EA002-EBE3-4D45-A468-AC1FBA18F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C99D9D-F6E2-4B4F-894D-21476759B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36240" y="1712880"/>
            <a:ext cx="957564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9D09DE-DCB8-4B5C-B571-F507C8D4B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957564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D0EAE1-3565-4A67-AC60-4314A2394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46728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5243040" y="1712880"/>
            <a:ext cx="46728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49D96E-B849-4E24-A6EA-C208D332A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2147F2-880A-492F-BF70-4FF2D970D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36240" y="503280"/>
            <a:ext cx="957564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02E18F-C0EF-417A-BF0A-4BD3A42C5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5243040" y="1712880"/>
            <a:ext cx="46728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36240" y="43192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AFBD95-841D-41E7-8236-66B46E4A6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46728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2430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243040" y="43192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265B0-C85A-4158-B3C4-4A1696EAF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46728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52430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5243040" y="43192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5D3F21-3FD7-4E5A-9181-11F2EB30B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52430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36240" y="4319280"/>
            <a:ext cx="95756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D67D35-2247-4A8C-A4F6-01361921E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95756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36240" y="4319280"/>
            <a:ext cx="95756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4799EC-2419-4880-87C1-2E1B99CCD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52430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36240" y="43192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5243040" y="43192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7C95DE-6FD0-4985-8B4A-212CDD5AE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573720" y="17128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811560" y="17128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36240" y="43192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573720" y="43192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811560" y="43192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BCD1BA-F656-4CCF-ABBB-57B9DF701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2B80CD-45C2-451E-B3B5-8E7524814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36240" y="1712880"/>
            <a:ext cx="957564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CC1E7D-E24A-4342-AA27-080F1EE79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957564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50208B-6681-4094-887A-C92ED7078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46728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5243040" y="1712880"/>
            <a:ext cx="46728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35B1AC-74E9-43A8-9DFB-5396A220B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049347-A071-41B8-A0C9-95BD51E53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2430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36240" y="4319280"/>
            <a:ext cx="95756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07F47-7C2A-4CC8-A5AE-31174EE0D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36240" y="503280"/>
            <a:ext cx="957564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B02A5B-7446-4AB8-B99E-F5CD7C421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243040" y="1712880"/>
            <a:ext cx="46728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36240" y="43192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CB3C4E-5EC4-4F27-9BD2-D366CA6FA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46728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52430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5243040" y="43192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44A7D6-DDFA-4B38-93B0-7B787C9A9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52430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36240" y="4319280"/>
            <a:ext cx="95756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AF434C-F9BD-44C0-8EE9-52E011F32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95756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240" y="4319280"/>
            <a:ext cx="95756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930184-94E5-47A2-871A-3E793D2F6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5243040" y="17128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36240" y="43192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5243040" y="4319280"/>
            <a:ext cx="46728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E88210-4DAF-4F28-88B1-3911D9460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573720" y="17128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811560" y="17128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36240" y="43192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573720" y="43192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811560" y="4319280"/>
            <a:ext cx="3083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37984E-3B13-4A0F-B983-653A7F899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384607-502F-40AD-ACDF-A8CF94685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36240" y="1712880"/>
            <a:ext cx="957564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CED5A9-407D-4919-8F11-528A342E3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36240" y="1712880"/>
            <a:ext cx="957564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E121A5-4FB9-4C32-AA15-8C0BE182B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66640" y="1152360"/>
            <a:ext cx="9515520" cy="11160"/>
            <a:chOff x="566640" y="1152360"/>
            <a:chExt cx="9515520" cy="1116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66640" y="1152360"/>
              <a:ext cx="951552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66640" y="1158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-50040" bIns="-5004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36240" y="1712880"/>
            <a:ext cx="957564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817560" indent="-314280">
              <a:spcBef>
                <a:spcPts val="876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258920" indent="-250920">
              <a:spcBef>
                <a:spcPts val="876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763640" indent="-250920">
              <a:spcBef>
                <a:spcPts val="876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266920" indent="-250920">
              <a:spcBef>
                <a:spcPts val="876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266920" indent="-250920">
              <a:spcBef>
                <a:spcPts val="876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266920" indent="-250920">
              <a:spcBef>
                <a:spcPts val="876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7140240" y="84240"/>
            <a:ext cx="2771640" cy="318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444840" y="84240"/>
            <a:ext cx="3695760" cy="318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3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300" spc="-1" strike="noStrike">
                <a:solidFill>
                  <a:srgbClr val="d38e27"/>
                </a:solidFill>
                <a:latin typeface="Times New Roman"/>
              </a:rPr>
              <a:t>www.sliderpoint.or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9072720" y="7138800"/>
            <a:ext cx="839520" cy="269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3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03C7B18-3F3C-4258-A895-8ED01A3EC7E9}" type="slidenum">
              <a:rPr b="0" lang="en-GB" sz="13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66640" y="1152360"/>
            <a:ext cx="9515520" cy="11160"/>
            <a:chOff x="566640" y="1152360"/>
            <a:chExt cx="9515520" cy="1116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66640" y="1152360"/>
              <a:ext cx="951552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66640" y="1158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-50040" bIns="-5004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66640" y="1158840"/>
            <a:ext cx="9515520" cy="17640"/>
            <a:chOff x="566640" y="1158840"/>
            <a:chExt cx="9515520" cy="1764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66640" y="1158840"/>
              <a:ext cx="951552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66640" y="11667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-50040" bIns="-5004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66640" y="5888160"/>
            <a:ext cx="9515520" cy="19080"/>
            <a:chOff x="566640" y="5888160"/>
            <a:chExt cx="9515520" cy="1908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66640" y="5888160"/>
              <a:ext cx="9515520" cy="1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66640" y="58975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-50040" bIns="-5004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36240" y="1712880"/>
            <a:ext cx="957564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817560" indent="-314280">
              <a:spcBef>
                <a:spcPts val="876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258920" indent="-250920">
              <a:spcBef>
                <a:spcPts val="876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763640" indent="-250920">
              <a:spcBef>
                <a:spcPts val="876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266920" indent="-250920">
              <a:spcBef>
                <a:spcPts val="876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266920" indent="-250920">
              <a:spcBef>
                <a:spcPts val="876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266920" indent="-250920">
              <a:spcBef>
                <a:spcPts val="876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7140240" y="84240"/>
            <a:ext cx="2771640" cy="318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444840" y="84240"/>
            <a:ext cx="3695760" cy="318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3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300" spc="-1" strike="noStrike">
                <a:solidFill>
                  <a:srgbClr val="d38e27"/>
                </a:solidFill>
                <a:latin typeface="Times New Roman"/>
              </a:rPr>
              <a:t>www.sliderpoint.or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9072360" y="7135920"/>
            <a:ext cx="836280" cy="272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3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0131EF7-28B4-46CC-BFE6-929EBCA84997}" type="slidenum">
              <a:rPr b="0" lang="en-GB" sz="13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66640" y="1152360"/>
            <a:ext cx="9515520" cy="11160"/>
            <a:chOff x="566640" y="1152360"/>
            <a:chExt cx="9515520" cy="1116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66640" y="1152360"/>
              <a:ext cx="951552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66640" y="1158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-50040" bIns="-5004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66640" y="1152360"/>
            <a:ext cx="9515520" cy="11160"/>
            <a:chOff x="566640" y="1152360"/>
            <a:chExt cx="9515520" cy="1116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66640" y="1152360"/>
              <a:ext cx="951552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66640" y="1158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-50040" bIns="-5004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66640" y="1158840"/>
            <a:ext cx="9515520" cy="17640"/>
            <a:chOff x="566640" y="1158840"/>
            <a:chExt cx="9515520" cy="1764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66640" y="1158840"/>
              <a:ext cx="951552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66640" y="11667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-50040" bIns="-5004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36240" y="1712880"/>
            <a:ext cx="957564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817560" indent="-314280">
              <a:spcBef>
                <a:spcPts val="876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258920" indent="-250920">
              <a:spcBef>
                <a:spcPts val="876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763640" indent="-250920">
              <a:spcBef>
                <a:spcPts val="876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266920" indent="-250920">
              <a:spcBef>
                <a:spcPts val="876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266920" indent="-250920">
              <a:spcBef>
                <a:spcPts val="876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266920" indent="-250920">
              <a:spcBef>
                <a:spcPts val="876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7140240" y="84240"/>
            <a:ext cx="2771640" cy="318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948120" y="84240"/>
            <a:ext cx="3192480" cy="318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3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300" spc="-1" strike="noStrike">
                <a:solidFill>
                  <a:srgbClr val="d38e27"/>
                </a:solidFill>
                <a:latin typeface="Times New Roman"/>
              </a:rPr>
              <a:t>www.sliderpoint.or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9072360" y="7135920"/>
            <a:ext cx="836280" cy="272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3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9D837FA-FDD2-405B-981F-719CD98DAA65}" type="slidenum">
              <a:rPr b="0" lang="en-GB" sz="13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66640" y="3790800"/>
            <a:ext cx="9515520" cy="12960"/>
            <a:chOff x="566640" y="3790800"/>
            <a:chExt cx="9515520" cy="129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66640" y="3790800"/>
              <a:ext cx="9515520" cy="1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66640" y="379728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-50040" bIns="-5004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36240" y="1712880"/>
            <a:ext cx="957564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5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817560" indent="-314280">
              <a:spcBef>
                <a:spcPts val="876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5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258920" indent="-250920">
              <a:spcBef>
                <a:spcPts val="876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5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763640" indent="-250920">
              <a:spcBef>
                <a:spcPts val="876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5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266920" indent="-250920">
              <a:spcBef>
                <a:spcPts val="876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5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266920" indent="-250920">
              <a:spcBef>
                <a:spcPts val="876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5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266920" indent="-250920">
              <a:spcBef>
                <a:spcPts val="876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5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40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7140240" y="84240"/>
            <a:ext cx="2771640" cy="318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444840" y="84240"/>
            <a:ext cx="3695760" cy="318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3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300" spc="-1" strike="noStrike">
                <a:solidFill>
                  <a:srgbClr val="d38e27"/>
                </a:solidFill>
                <a:latin typeface="Times New Roman"/>
              </a:rPr>
              <a:t>www.sliderpoint.or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9072720" y="7138800"/>
            <a:ext cx="839520" cy="269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3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47AA9C5-B429-4FCC-8C2D-D203DB8B7CB1}" type="slidenum">
              <a:rPr b="0" lang="en-GB" sz="13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66640" y="6632640"/>
            <a:ext cx="9515520" cy="12600"/>
            <a:chOff x="566640" y="6632640"/>
            <a:chExt cx="9515520" cy="1260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66640" y="6632640"/>
              <a:ext cx="951552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66640" y="663588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-50040" bIns="-5004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36240" y="1712880"/>
            <a:ext cx="957564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817560" indent="-314280">
              <a:spcBef>
                <a:spcPts val="876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258920" indent="-250920">
              <a:spcBef>
                <a:spcPts val="876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763640" indent="-250920">
              <a:spcBef>
                <a:spcPts val="876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266920" indent="-250920">
              <a:spcBef>
                <a:spcPts val="876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266920" indent="-250920">
              <a:spcBef>
                <a:spcPts val="876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266920" indent="-250920">
              <a:spcBef>
                <a:spcPts val="876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7140240" y="84240"/>
            <a:ext cx="2771640" cy="318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444840" y="84240"/>
            <a:ext cx="3695760" cy="318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3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300" spc="-1" strike="noStrike">
                <a:solidFill>
                  <a:srgbClr val="d38e27"/>
                </a:solidFill>
                <a:latin typeface="Times New Roman"/>
              </a:rPr>
              <a:t>www.sliderpoint.or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9072720" y="7139160"/>
            <a:ext cx="839520" cy="272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3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6AD8088-8DE1-41B5-9892-CF34F36583E5}" type="slidenum">
              <a:rPr b="0" lang="en-GB" sz="13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36240" y="1712880"/>
            <a:ext cx="957564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817560" indent="-314280">
              <a:spcBef>
                <a:spcPts val="876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258920" indent="-250920">
              <a:spcBef>
                <a:spcPts val="876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763640" indent="-250920">
              <a:spcBef>
                <a:spcPts val="876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266920" indent="-250920">
              <a:spcBef>
                <a:spcPts val="876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266920" indent="-250920">
              <a:spcBef>
                <a:spcPts val="876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266920" indent="-250920">
              <a:spcBef>
                <a:spcPts val="876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7140240" y="84240"/>
            <a:ext cx="2771640" cy="318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444840" y="84240"/>
            <a:ext cx="3695760" cy="318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3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300" spc="-1" strike="noStrike">
                <a:solidFill>
                  <a:srgbClr val="d38e27"/>
                </a:solidFill>
                <a:latin typeface="Times New Roman"/>
              </a:rPr>
              <a:t>www.sliderpoint.or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9072720" y="7138800"/>
            <a:ext cx="839520" cy="269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3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679B530-6B93-4BA9-81E9-49FC8911277A}" type="slidenum">
              <a:rPr b="0" lang="en-GB" sz="13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66640" y="6443640"/>
            <a:ext cx="9515520" cy="12600"/>
            <a:chOff x="566640" y="6443640"/>
            <a:chExt cx="9515520" cy="1260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66640" y="6443640"/>
              <a:ext cx="951552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66640" y="644688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-50040" bIns="-50040" anchor="t">
              <a:noAutofit/>
            </a:bodyPr>
            <a:p>
              <a:pPr>
                <a:lnSpc>
                  <a:spcPct val="8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36240" y="1712880"/>
            <a:ext cx="957564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817560" indent="-314280">
              <a:spcBef>
                <a:spcPts val="876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258920" indent="-250920">
              <a:spcBef>
                <a:spcPts val="876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763640" indent="-250920">
              <a:spcBef>
                <a:spcPts val="876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266920" indent="-250920">
              <a:spcBef>
                <a:spcPts val="876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266920" indent="-250920">
              <a:spcBef>
                <a:spcPts val="876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266920" indent="-250920">
              <a:spcBef>
                <a:spcPts val="876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7140240" y="84240"/>
            <a:ext cx="2771640" cy="318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444840" y="84240"/>
            <a:ext cx="3695760" cy="318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3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300" spc="-1" strike="noStrike">
                <a:solidFill>
                  <a:srgbClr val="d38e27"/>
                </a:solidFill>
                <a:latin typeface="Times New Roman"/>
              </a:rPr>
              <a:t>www.sliderpoint.or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9072720" y="7138800"/>
            <a:ext cx="839520" cy="269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3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6250E0A-5556-4DC7-BFB1-EF2C0D669A07}" type="slidenum">
              <a:rPr b="0" lang="en-GB" sz="13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36240" y="1712880"/>
            <a:ext cx="957564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817560" indent="-314280">
              <a:spcBef>
                <a:spcPts val="876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258920" indent="-250920">
              <a:spcBef>
                <a:spcPts val="876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763640" indent="-250920">
              <a:spcBef>
                <a:spcPts val="876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266920" indent="-250920">
              <a:spcBef>
                <a:spcPts val="876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266920" indent="-250920">
              <a:spcBef>
                <a:spcPts val="876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266920" indent="-250920">
              <a:spcBef>
                <a:spcPts val="876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7140240" y="84240"/>
            <a:ext cx="2771640" cy="318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444840" y="84240"/>
            <a:ext cx="3695760" cy="318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3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300" spc="-1" strike="noStrike">
                <a:solidFill>
                  <a:srgbClr val="d38e27"/>
                </a:solidFill>
                <a:latin typeface="Times New Roman"/>
              </a:rPr>
              <a:t>www.sliderpoint.or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9072720" y="7138800"/>
            <a:ext cx="839520" cy="269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3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D9A845F-4923-40A3-8CBA-6CB01790F25C}" type="slidenum">
              <a:rPr b="0" lang="en-GB" sz="13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36240" y="1712880"/>
            <a:ext cx="957564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817560" indent="-314280">
              <a:spcBef>
                <a:spcPts val="876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258920" indent="-250920">
              <a:spcBef>
                <a:spcPts val="876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763640" indent="-250920">
              <a:spcBef>
                <a:spcPts val="876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266920" indent="-250920">
              <a:spcBef>
                <a:spcPts val="876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266920" indent="-250920">
              <a:spcBef>
                <a:spcPts val="876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266920" indent="-250920">
              <a:spcBef>
                <a:spcPts val="876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36240" y="503280"/>
            <a:ext cx="9575640" cy="92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7140240" y="84240"/>
            <a:ext cx="2771640" cy="318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444840" y="84240"/>
            <a:ext cx="3695760" cy="318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3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300" spc="-1" strike="noStrike">
                <a:solidFill>
                  <a:srgbClr val="d38e27"/>
                </a:solidFill>
                <a:latin typeface="Times New Roman"/>
              </a:rPr>
              <a:t>www.sliderpoint.or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9072720" y="7138800"/>
            <a:ext cx="839520" cy="269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3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54F4ED4-7C05-43E7-BEE8-4A19E1E95564}" type="slidenum">
              <a:rPr b="0" lang="en-GB" sz="13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&#1101;&#1082;&#1086;&#1089;&#1080;&#1089;&#1090;&#1077;&#1084;&#1072;%20&#1083;&#1091;&#1075;&#1072;.ppt" TargetMode="External"/><Relationship Id="rId2" Type="http://schemas.openxmlformats.org/officeDocument/2006/relationships/image" Target="../media/image7.jpeg"/><Relationship Id="rId3" Type="http://schemas.openxmlformats.org/officeDocument/2006/relationships/hyperlink" Target="file:///&#1101;&#1082;&#1086;&#1089;&#1080;&#1089;&#1090;&#1077;&#1084;&#1072;%20&#1083;&#1091;&#1075;&#1072;.ppt" TargetMode="External"/><Relationship Id="rId4" Type="http://schemas.openxmlformats.org/officeDocument/2006/relationships/image" Target="../media/image8.jpeg"/><Relationship Id="rId5" Type="http://schemas.openxmlformats.org/officeDocument/2006/relationships/hyperlink" Target="file:///&#1101;&#1082;&#1086;&#1089;&#1080;&#1089;&#1090;&#1077;&#1084;&#1072;%20&#1083;&#1091;&#1075;&#1072;.ppt" TargetMode="External"/><Relationship Id="rId6" Type="http://schemas.openxmlformats.org/officeDocument/2006/relationships/image" Target="../media/image9.jpeg"/><Relationship Id="rId7" Type="http://schemas.openxmlformats.org/officeDocument/2006/relationships/hyperlink" Target="file:///&#1101;&#1082;&#1086;&#1089;&#1080;&#1089;&#1090;&#1077;&#1084;&#1072;%20&#1083;&#1091;&#1075;&#1072;.ppt" TargetMode="External"/><Relationship Id="rId8" Type="http://schemas.openxmlformats.org/officeDocument/2006/relationships/image" Target="../media/image10.jpeg"/><Relationship Id="rId9" Type="http://schemas.openxmlformats.org/officeDocument/2006/relationships/hyperlink" Target="file:///&#1101;&#1082;&#1086;&#1089;&#1080;&#1089;&#1090;&#1077;&#1084;&#1072;%20&#1083;&#1091;&#1075;&#1072;.ppt" TargetMode="External"/><Relationship Id="rId10" Type="http://schemas.openxmlformats.org/officeDocument/2006/relationships/image" Target="../media/image11.jpeg"/><Relationship Id="rId11" Type="http://schemas.openxmlformats.org/officeDocument/2006/relationships/hyperlink" Target="file:///&#1101;&#1082;&#1086;&#1089;&#1080;&#1089;&#1090;&#1077;&#1084;&#1072;%20&#1083;&#1091;&#1075;&#1072;.ppt" TargetMode="External"/><Relationship Id="rId12" Type="http://schemas.openxmlformats.org/officeDocument/2006/relationships/image" Target="../media/image12.jpeg"/><Relationship Id="rId13" Type="http://schemas.openxmlformats.org/officeDocument/2006/relationships/slideLayout" Target="../slideLayouts/slideLayout61.xml"/><Relationship Id="rId1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&#1101;&#1082;&#1086;&#1089;&#1080;&#1089;&#1090;&#1077;&#1084;&#1072;%20&#1083;&#1091;&#1075;&#1072;.ppt" TargetMode="External"/><Relationship Id="rId2" Type="http://schemas.openxmlformats.org/officeDocument/2006/relationships/image" Target="../media/image13.jpeg"/><Relationship Id="rId3" Type="http://schemas.openxmlformats.org/officeDocument/2006/relationships/hyperlink" Target="file:///&#1101;&#1082;&#1086;&#1089;&#1080;&#1089;&#1090;&#1077;&#1084;&#1072;%20&#1083;&#1091;&#1075;&#1072;.ppt" TargetMode="External"/><Relationship Id="rId4" Type="http://schemas.openxmlformats.org/officeDocument/2006/relationships/image" Target="../media/image14.jpeg"/><Relationship Id="rId5" Type="http://schemas.openxmlformats.org/officeDocument/2006/relationships/hyperlink" Target="file:///&#1101;&#1082;&#1086;&#1089;&#1080;&#1089;&#1090;&#1077;&#1084;&#1072;%20&#1083;&#1091;&#1075;&#1072;.ppt" TargetMode="External"/><Relationship Id="rId6" Type="http://schemas.openxmlformats.org/officeDocument/2006/relationships/image" Target="../media/image15.jpeg"/><Relationship Id="rId7" Type="http://schemas.openxmlformats.org/officeDocument/2006/relationships/hyperlink" Target="file:///&#1101;&#1082;&#1086;&#1089;&#1080;&#1089;&#1090;&#1077;&#1084;&#1072;%20&#1083;&#1091;&#1075;&#1072;.ppt" TargetMode="External"/><Relationship Id="rId8" Type="http://schemas.openxmlformats.org/officeDocument/2006/relationships/image" Target="../media/image16.png"/><Relationship Id="rId9" Type="http://schemas.openxmlformats.org/officeDocument/2006/relationships/hyperlink" Target="file:///&#1101;&#1082;&#1086;&#1089;&#1080;&#1089;&#1090;&#1077;&#1084;&#1072;%20&#1083;&#1091;&#1075;&#1072;.ppt" TargetMode="External"/><Relationship Id="rId10" Type="http://schemas.openxmlformats.org/officeDocument/2006/relationships/image" Target="../media/image17.jpeg"/><Relationship Id="rId11" Type="http://schemas.openxmlformats.org/officeDocument/2006/relationships/image" Target="../media/image18.jpeg"/><Relationship Id="rId12" Type="http://schemas.openxmlformats.org/officeDocument/2006/relationships/image" Target="../media/image19.jpeg"/><Relationship Id="rId13" Type="http://schemas.openxmlformats.org/officeDocument/2006/relationships/image" Target="../media/image20.jpeg"/><Relationship Id="rId14" Type="http://schemas.openxmlformats.org/officeDocument/2006/relationships/image" Target="../media/image21.jpeg"/><Relationship Id="rId15" Type="http://schemas.openxmlformats.org/officeDocument/2006/relationships/slideLayout" Target="../slideLayouts/slideLayout61.xml"/><Relationship Id="rId1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6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Picture 1" descr=""/>
          <p:cNvPicPr/>
          <p:nvPr/>
        </p:nvPicPr>
        <p:blipFill>
          <a:blip r:embed="rId1"/>
          <a:stretch/>
        </p:blipFill>
        <p:spPr>
          <a:xfrm>
            <a:off x="0" y="1476360"/>
            <a:ext cx="9540720" cy="5400720"/>
          </a:xfrm>
          <a:prstGeom prst="rect">
            <a:avLst/>
          </a:prstGeom>
          <a:ln w="0">
            <a:noFill/>
          </a:ln>
        </p:spPr>
      </p:pic>
      <p:sp>
        <p:nvSpPr>
          <p:cNvPr id="408" name="Text Box 2"/>
          <p:cNvSpPr/>
          <p:nvPr/>
        </p:nvSpPr>
        <p:spPr>
          <a:xfrm>
            <a:off x="3095640" y="1619280"/>
            <a:ext cx="32400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возду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Text Box 3"/>
          <p:cNvSpPr/>
          <p:nvPr/>
        </p:nvSpPr>
        <p:spPr>
          <a:xfrm>
            <a:off x="3325680" y="351000"/>
            <a:ext cx="3795840" cy="5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Text Box 4"/>
          <p:cNvSpPr/>
          <p:nvPr/>
        </p:nvSpPr>
        <p:spPr>
          <a:xfrm>
            <a:off x="3600360" y="360360"/>
            <a:ext cx="287964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Text Box 5"/>
          <p:cNvSpPr/>
          <p:nvPr/>
        </p:nvSpPr>
        <p:spPr>
          <a:xfrm>
            <a:off x="6119640" y="360360"/>
            <a:ext cx="18108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Text Box 6"/>
          <p:cNvSpPr/>
          <p:nvPr/>
        </p:nvSpPr>
        <p:spPr>
          <a:xfrm>
            <a:off x="0" y="4067280"/>
            <a:ext cx="3672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производител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Text Box 7"/>
          <p:cNvSpPr/>
          <p:nvPr/>
        </p:nvSpPr>
        <p:spPr>
          <a:xfrm>
            <a:off x="900000" y="3419640"/>
            <a:ext cx="18108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Text Box 8"/>
          <p:cNvSpPr/>
          <p:nvPr/>
        </p:nvSpPr>
        <p:spPr>
          <a:xfrm>
            <a:off x="4896000" y="3780000"/>
            <a:ext cx="306072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потребител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Text Box 9"/>
          <p:cNvSpPr/>
          <p:nvPr/>
        </p:nvSpPr>
        <p:spPr>
          <a:xfrm>
            <a:off x="3600360" y="6840360"/>
            <a:ext cx="36036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Text Box 10"/>
          <p:cNvSpPr/>
          <p:nvPr/>
        </p:nvSpPr>
        <p:spPr>
          <a:xfrm>
            <a:off x="3600360" y="0"/>
            <a:ext cx="229716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Text Box 11"/>
          <p:cNvSpPr/>
          <p:nvPr/>
        </p:nvSpPr>
        <p:spPr>
          <a:xfrm>
            <a:off x="4319640" y="360360"/>
            <a:ext cx="18108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Text Box 12"/>
          <p:cNvSpPr/>
          <p:nvPr/>
        </p:nvSpPr>
        <p:spPr>
          <a:xfrm>
            <a:off x="2808360" y="4716360"/>
            <a:ext cx="2786040" cy="6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разрушител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Text Box 13"/>
          <p:cNvSpPr/>
          <p:nvPr/>
        </p:nvSpPr>
        <p:spPr>
          <a:xfrm>
            <a:off x="5940360" y="3959280"/>
            <a:ext cx="18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Text Box 14"/>
          <p:cNvSpPr/>
          <p:nvPr/>
        </p:nvSpPr>
        <p:spPr>
          <a:xfrm>
            <a:off x="7345440" y="6156360"/>
            <a:ext cx="114300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вод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Text Box 15"/>
          <p:cNvSpPr/>
          <p:nvPr/>
        </p:nvSpPr>
        <p:spPr>
          <a:xfrm>
            <a:off x="503280" y="5867280"/>
            <a:ext cx="14637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горны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Text Box 16"/>
          <p:cNvSpPr/>
          <p:nvPr/>
        </p:nvSpPr>
        <p:spPr>
          <a:xfrm>
            <a:off x="720720" y="6480000"/>
            <a:ext cx="144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Text Box 2"/>
          <p:cNvSpPr/>
          <p:nvPr/>
        </p:nvSpPr>
        <p:spPr>
          <a:xfrm>
            <a:off x="3111480" y="351000"/>
            <a:ext cx="33685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Экосистем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Місце для нижнього колонтитула 1"/>
          <p:cNvSpPr/>
          <p:nvPr/>
        </p:nvSpPr>
        <p:spPr>
          <a:xfrm>
            <a:off x="3444840" y="84240"/>
            <a:ext cx="369576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3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Text Box 1"/>
          <p:cNvSpPr/>
          <p:nvPr/>
        </p:nvSpPr>
        <p:spPr>
          <a:xfrm>
            <a:off x="1260360" y="1619280"/>
            <a:ext cx="685188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Arial"/>
              </a:rPr>
              <a:t>планктон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Arial"/>
              </a:rPr>
              <a:t>циклопы и дафнии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Arial"/>
              </a:rPr>
              <a:t>мотыль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Arial"/>
              </a:rPr>
              <a:t>мох - сфагнум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Arial"/>
              </a:rPr>
              <a:t>торф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Arial"/>
              </a:rPr>
              <a:t>экосистема луга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Text Box 2"/>
          <p:cNvSpPr/>
          <p:nvPr/>
        </p:nvSpPr>
        <p:spPr>
          <a:xfrm>
            <a:off x="1440000" y="539640"/>
            <a:ext cx="55800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Продолжи фразы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Місце для нижнього колонтитула 1"/>
          <p:cNvSpPr/>
          <p:nvPr/>
        </p:nvSpPr>
        <p:spPr>
          <a:xfrm>
            <a:off x="3444840" y="84240"/>
            <a:ext cx="369576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3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0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" dur="80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8,100,-91)"/>
                                          </p:val>
                                        </p:tav>
                                        <p:tav tm="50000">
                                          <p:val>
                                            <p:strVal val="rgb(31,31,-8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" dur="80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8,100,-91)"/>
                                          </p:val>
                                        </p:tav>
                                        <p:tav tm="50000">
                                          <p:val>
                                            <p:strVal val="rgb(31,31,-8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" dur="80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900" fill="hold"/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900" fill="hold"/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900" fill="hold"/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4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4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900" fill="hold"/>
                                        <p:tgtEl>
                                          <p:spTgt spid="4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4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4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900" fill="hold"/>
                                        <p:tgtEl>
                                          <p:spTgt spid="4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4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4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900" fill="hold"/>
                                        <p:tgtEl>
                                          <p:spTgt spid="4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Picture 1" descr=""/>
          <p:cNvPicPr/>
          <p:nvPr/>
        </p:nvPicPr>
        <p:blipFill>
          <a:blip r:embed="rId1"/>
          <a:stretch/>
        </p:blipFill>
        <p:spPr>
          <a:xfrm>
            <a:off x="-7920" y="0"/>
            <a:ext cx="10088640" cy="7559640"/>
          </a:xfrm>
          <a:prstGeom prst="rect">
            <a:avLst/>
          </a:prstGeom>
          <a:ln w="0">
            <a:noFill/>
          </a:ln>
        </p:spPr>
      </p:pic>
      <p:sp>
        <p:nvSpPr>
          <p:cNvPr id="429" name="Text Box 2"/>
          <p:cNvSpPr/>
          <p:nvPr/>
        </p:nvSpPr>
        <p:spPr>
          <a:xfrm>
            <a:off x="2641680" y="3738600"/>
            <a:ext cx="18072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Text Box 3"/>
          <p:cNvSpPr/>
          <p:nvPr/>
        </p:nvSpPr>
        <p:spPr>
          <a:xfrm>
            <a:off x="682560" y="1851120"/>
            <a:ext cx="8643960" cy="18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8000" spc="-1" strike="noStrike">
                <a:solidFill>
                  <a:srgbClr val="ffffff"/>
                </a:solidFill>
                <a:latin typeface="Arial"/>
              </a:rPr>
              <a:t>Экосистема луга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Місце для нижнього колонтитула 1"/>
          <p:cNvSpPr/>
          <p:nvPr/>
        </p:nvSpPr>
        <p:spPr>
          <a:xfrm>
            <a:off x="3444840" y="84240"/>
            <a:ext cx="369576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3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Text Box 1"/>
          <p:cNvSpPr/>
          <p:nvPr/>
        </p:nvSpPr>
        <p:spPr>
          <a:xfrm>
            <a:off x="1727280" y="611280"/>
            <a:ext cx="6707160" cy="80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Луговые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производител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3" name="Picture 1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36720" y="4500720"/>
            <a:ext cx="1962000" cy="232884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1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985080" y="1979640"/>
            <a:ext cx="1798560" cy="238284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4" descr="E:\Марьям\Звуки картинки\lopux2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248000" y="4572000"/>
            <a:ext cx="1643040" cy="232092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5" descr="E:\Марьям\Звуки картинки\p200095.jpg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539640" y="2279520"/>
            <a:ext cx="2689200" cy="1832040"/>
          </a:xfrm>
          <a:prstGeom prst="rect">
            <a:avLst/>
          </a:prstGeom>
          <a:ln w="0">
            <a:noFill/>
          </a:ln>
        </p:spPr>
      </p:pic>
      <p:pic>
        <p:nvPicPr>
          <p:cNvPr id="437" name="Picture 6" descr="E:\Марьям\Звуки картинки\medherb101.jpg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4248000" y="1979640"/>
            <a:ext cx="1624320" cy="2367000"/>
          </a:xfrm>
          <a:prstGeom prst="rect">
            <a:avLst/>
          </a:prstGeom>
          <a:ln w="0">
            <a:noFill/>
          </a:ln>
        </p:spPr>
      </p:pic>
      <p:pic>
        <p:nvPicPr>
          <p:cNvPr id="438" name="Picture 7" descr="E:\PICT0102-21_resize.jpg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6985080" y="4500720"/>
            <a:ext cx="1673280" cy="2388960"/>
          </a:xfrm>
          <a:prstGeom prst="rect">
            <a:avLst/>
          </a:prstGeom>
          <a:ln w="0">
            <a:noFill/>
          </a:ln>
        </p:spPr>
      </p:pic>
      <p:sp>
        <p:nvSpPr>
          <p:cNvPr id="439" name="Text Box 10"/>
          <p:cNvSpPr/>
          <p:nvPr/>
        </p:nvSpPr>
        <p:spPr>
          <a:xfrm>
            <a:off x="907560" y="4140360"/>
            <a:ext cx="1153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дуванчи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Text Box 11"/>
          <p:cNvSpPr/>
          <p:nvPr/>
        </p:nvSpPr>
        <p:spPr>
          <a:xfrm>
            <a:off x="1243800" y="6804000"/>
            <a:ext cx="93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асилё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Text Box 12"/>
          <p:cNvSpPr/>
          <p:nvPr/>
        </p:nvSpPr>
        <p:spPr>
          <a:xfrm>
            <a:off x="4565880" y="6967440"/>
            <a:ext cx="726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лопух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Text Box 13"/>
          <p:cNvSpPr/>
          <p:nvPr/>
        </p:nvSpPr>
        <p:spPr>
          <a:xfrm>
            <a:off x="6851160" y="6894360"/>
            <a:ext cx="1945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ышиный гороше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Місце для нижнього колонтитула 1"/>
          <p:cNvSpPr/>
          <p:nvPr/>
        </p:nvSpPr>
        <p:spPr>
          <a:xfrm>
            <a:off x="3444840" y="84240"/>
            <a:ext cx="369576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3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Text Box 1"/>
          <p:cNvSpPr/>
          <p:nvPr/>
        </p:nvSpPr>
        <p:spPr>
          <a:xfrm>
            <a:off x="1397160" y="636480"/>
            <a:ext cx="6421320" cy="7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Луговые потребител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Text Box 2"/>
          <p:cNvSpPr/>
          <p:nvPr/>
        </p:nvSpPr>
        <p:spPr>
          <a:xfrm>
            <a:off x="5940360" y="2700360"/>
            <a:ext cx="18108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Text Box 3"/>
          <p:cNvSpPr/>
          <p:nvPr/>
        </p:nvSpPr>
        <p:spPr>
          <a:xfrm>
            <a:off x="3240000" y="1258920"/>
            <a:ext cx="18108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Text Box 4"/>
          <p:cNvSpPr/>
          <p:nvPr/>
        </p:nvSpPr>
        <p:spPr>
          <a:xfrm>
            <a:off x="1897200" y="2851200"/>
            <a:ext cx="2340000" cy="29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8" name="Picture 6" descr="E:\Марьям\Звуки картинки\sm_529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664000" y="3203640"/>
            <a:ext cx="2143080" cy="1500120"/>
          </a:xfrm>
          <a:prstGeom prst="rect">
            <a:avLst/>
          </a:prstGeom>
          <a:ln w="0">
            <a:noFill/>
          </a:ln>
        </p:spPr>
      </p:pic>
      <p:pic>
        <p:nvPicPr>
          <p:cNvPr id="449" name="Picture 7" descr="E:\Марьям\Звуки картинки\strekoza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327640" y="3203640"/>
            <a:ext cx="1927080" cy="166680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8" descr="E:\Марьям\Звуки картинки\image002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184720" y="1332000"/>
            <a:ext cx="2028960" cy="152064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10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47640" y="3132000"/>
            <a:ext cx="1500120" cy="1660680"/>
          </a:xfrm>
          <a:prstGeom prst="rect">
            <a:avLst/>
          </a:prstGeom>
          <a:ln w="0">
            <a:noFill/>
          </a:ln>
        </p:spPr>
      </p:pic>
      <p:pic>
        <p:nvPicPr>
          <p:cNvPr id="452" name="Picture 12" descr="E:\Марьям\Звуки картинки\1110.jpg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6480000" y="5508720"/>
            <a:ext cx="2167200" cy="1444680"/>
          </a:xfrm>
          <a:prstGeom prst="rect">
            <a:avLst/>
          </a:prstGeom>
          <a:ln w="0">
            <a:noFill/>
          </a:ln>
        </p:spPr>
      </p:pic>
      <p:sp>
        <p:nvSpPr>
          <p:cNvPr id="453" name="Прямоугольник 13"/>
          <p:cNvSpPr/>
          <p:nvPr/>
        </p:nvSpPr>
        <p:spPr>
          <a:xfrm>
            <a:off x="2660040" y="4716360"/>
            <a:ext cx="224856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аб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чк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голубян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Прямоугольник 14"/>
          <p:cNvSpPr/>
          <p:nvPr/>
        </p:nvSpPr>
        <p:spPr>
          <a:xfrm>
            <a:off x="5724000" y="4932360"/>
            <a:ext cx="111204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стрекоз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Прямоугольник 15"/>
          <p:cNvSpPr/>
          <p:nvPr/>
        </p:nvSpPr>
        <p:spPr>
          <a:xfrm>
            <a:off x="6589800" y="7020000"/>
            <a:ext cx="186624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ыш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малют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Прямоугольник 16"/>
          <p:cNvSpPr/>
          <p:nvPr/>
        </p:nvSpPr>
        <p:spPr>
          <a:xfrm>
            <a:off x="5709240" y="2843280"/>
            <a:ext cx="77976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чека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Прямоугольник 17"/>
          <p:cNvSpPr/>
          <p:nvPr/>
        </p:nvSpPr>
        <p:spPr>
          <a:xfrm>
            <a:off x="487800" y="4859280"/>
            <a:ext cx="172620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божья коров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8" name="Picture 13" descr="E:\Марьям\Звуки картинки\16-1.jpg"/>
          <p:cNvPicPr/>
          <p:nvPr/>
        </p:nvPicPr>
        <p:blipFill>
          <a:blip r:embed="rId11"/>
          <a:stretch/>
        </p:blipFill>
        <p:spPr>
          <a:xfrm>
            <a:off x="4103640" y="5508720"/>
            <a:ext cx="1390680" cy="1455480"/>
          </a:xfrm>
          <a:prstGeom prst="rect">
            <a:avLst/>
          </a:prstGeom>
          <a:ln w="0">
            <a:noFill/>
          </a:ln>
        </p:spPr>
      </p:pic>
      <p:sp>
        <p:nvSpPr>
          <p:cNvPr id="459" name="Прямоугольник 19"/>
          <p:cNvSpPr/>
          <p:nvPr/>
        </p:nvSpPr>
        <p:spPr>
          <a:xfrm>
            <a:off x="3997800" y="7020000"/>
            <a:ext cx="180360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ыш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полев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0" name="Picture 14" descr="E:\Марьям\Звуки картинки\Image06.jpg"/>
          <p:cNvPicPr/>
          <p:nvPr/>
        </p:nvPicPr>
        <p:blipFill>
          <a:blip r:embed="rId12"/>
          <a:stretch/>
        </p:blipFill>
        <p:spPr>
          <a:xfrm>
            <a:off x="2592360" y="1332000"/>
            <a:ext cx="2092320" cy="1508040"/>
          </a:xfrm>
          <a:prstGeom prst="rect">
            <a:avLst/>
          </a:prstGeom>
          <a:ln w="0">
            <a:noFill/>
          </a:ln>
        </p:spPr>
      </p:pic>
      <p:sp>
        <p:nvSpPr>
          <p:cNvPr id="461" name="Прямоугольник 21"/>
          <p:cNvSpPr/>
          <p:nvPr/>
        </p:nvSpPr>
        <p:spPr>
          <a:xfrm>
            <a:off x="3002400" y="2843280"/>
            <a:ext cx="130716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трясогу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2" name="Picture 16" descr="E:\Марьям\Звуки картинки\049056054124053048055054053057055.jpg"/>
          <p:cNvPicPr/>
          <p:nvPr/>
        </p:nvPicPr>
        <p:blipFill>
          <a:blip r:embed="rId13"/>
          <a:stretch/>
        </p:blipFill>
        <p:spPr>
          <a:xfrm>
            <a:off x="792000" y="5435640"/>
            <a:ext cx="2357640" cy="1643040"/>
          </a:xfrm>
          <a:prstGeom prst="rect">
            <a:avLst/>
          </a:prstGeom>
          <a:ln w="0">
            <a:noFill/>
          </a:ln>
        </p:spPr>
      </p:pic>
      <p:sp>
        <p:nvSpPr>
          <p:cNvPr id="463" name="Прямоугольник 25"/>
          <p:cNvSpPr/>
          <p:nvPr/>
        </p:nvSpPr>
        <p:spPr>
          <a:xfrm>
            <a:off x="1383480" y="7093080"/>
            <a:ext cx="78264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лас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4" name="Picture 17" descr="E:\27.jpg"/>
          <p:cNvPicPr/>
          <p:nvPr/>
        </p:nvPicPr>
        <p:blipFill>
          <a:blip r:embed="rId14"/>
          <a:stretch/>
        </p:blipFill>
        <p:spPr>
          <a:xfrm>
            <a:off x="7561440" y="3419640"/>
            <a:ext cx="1404720" cy="1089000"/>
          </a:xfrm>
          <a:prstGeom prst="rect">
            <a:avLst/>
          </a:prstGeom>
          <a:ln w="0">
            <a:noFill/>
          </a:ln>
        </p:spPr>
      </p:pic>
      <p:sp>
        <p:nvSpPr>
          <p:cNvPr id="465" name="Прямоугольник 27"/>
          <p:cNvSpPr/>
          <p:nvPr/>
        </p:nvSpPr>
        <p:spPr>
          <a:xfrm>
            <a:off x="7748640" y="4572000"/>
            <a:ext cx="110124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кузнечи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Text Box 1"/>
          <p:cNvSpPr/>
          <p:nvPr/>
        </p:nvSpPr>
        <p:spPr>
          <a:xfrm>
            <a:off x="1539720" y="2351160"/>
            <a:ext cx="642168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Місце для нижнього колонтитула 1"/>
          <p:cNvSpPr/>
          <p:nvPr/>
        </p:nvSpPr>
        <p:spPr>
          <a:xfrm>
            <a:off x="3444840" y="84240"/>
            <a:ext cx="369576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3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Text Box 1"/>
          <p:cNvSpPr/>
          <p:nvPr/>
        </p:nvSpPr>
        <p:spPr>
          <a:xfrm>
            <a:off x="2160720" y="684360"/>
            <a:ext cx="640872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Луговые разрушител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Text Box 2"/>
          <p:cNvSpPr/>
          <p:nvPr/>
        </p:nvSpPr>
        <p:spPr>
          <a:xfrm>
            <a:off x="1368360" y="6732720"/>
            <a:ext cx="113688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навозни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0" name="Picture 4" descr="E:\Марьям\Звуки картинки\LUMBRICIDAE.jpg"/>
          <p:cNvPicPr/>
          <p:nvPr/>
        </p:nvPicPr>
        <p:blipFill>
          <a:blip r:embed="rId1"/>
          <a:stretch/>
        </p:blipFill>
        <p:spPr>
          <a:xfrm>
            <a:off x="6264360" y="4284720"/>
            <a:ext cx="2806560" cy="2143080"/>
          </a:xfrm>
          <a:prstGeom prst="rect">
            <a:avLst/>
          </a:prstGeom>
          <a:ln w="0">
            <a:noFill/>
          </a:ln>
        </p:spPr>
      </p:pic>
      <p:sp>
        <p:nvSpPr>
          <p:cNvPr id="471" name="Прямоугольник 4"/>
          <p:cNvSpPr/>
          <p:nvPr/>
        </p:nvSpPr>
        <p:spPr>
          <a:xfrm>
            <a:off x="6680520" y="6443640"/>
            <a:ext cx="190728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дождевой черв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Прямоугольник 7"/>
          <p:cNvSpPr/>
          <p:nvPr/>
        </p:nvSpPr>
        <p:spPr>
          <a:xfrm>
            <a:off x="3988080" y="3564000"/>
            <a:ext cx="88956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улит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3" name="Picture 6" descr="E:\Марьям\Звуки картинки\навозник.jpg"/>
          <p:cNvPicPr/>
          <p:nvPr/>
        </p:nvPicPr>
        <p:blipFill>
          <a:blip r:embed="rId2"/>
          <a:stretch/>
        </p:blipFill>
        <p:spPr>
          <a:xfrm>
            <a:off x="719280" y="4356000"/>
            <a:ext cx="2984400" cy="2071800"/>
          </a:xfrm>
          <a:prstGeom prst="rect">
            <a:avLst/>
          </a:prstGeom>
          <a:ln w="0">
            <a:noFill/>
          </a:ln>
        </p:spPr>
      </p:pic>
      <p:sp>
        <p:nvSpPr>
          <p:cNvPr id="474" name="Прямоугольник 9"/>
          <p:cNvSpPr/>
          <p:nvPr/>
        </p:nvSpPr>
        <p:spPr>
          <a:xfrm>
            <a:off x="7117560" y="2411280"/>
            <a:ext cx="208260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почвенные клещ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5" name="Picture 1" descr=""/>
          <p:cNvPicPr/>
          <p:nvPr/>
        </p:nvPicPr>
        <p:blipFill>
          <a:blip r:embed="rId3"/>
          <a:stretch/>
        </p:blipFill>
        <p:spPr>
          <a:xfrm>
            <a:off x="3311640" y="1547640"/>
            <a:ext cx="1928520" cy="1984680"/>
          </a:xfrm>
          <a:prstGeom prst="rect">
            <a:avLst/>
          </a:prstGeom>
          <a:ln w="0">
            <a:noFill/>
          </a:ln>
        </p:spPr>
      </p:pic>
      <p:sp>
        <p:nvSpPr>
          <p:cNvPr id="476" name="Місце для нижнього колонтитула 1"/>
          <p:cNvSpPr/>
          <p:nvPr/>
        </p:nvSpPr>
        <p:spPr>
          <a:xfrm>
            <a:off x="3444840" y="84240"/>
            <a:ext cx="369576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3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7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8640" cy="7559640"/>
          </a:xfrm>
          <a:prstGeom prst="rect">
            <a:avLst/>
          </a:prstGeom>
          <a:ln w="0">
            <a:noFill/>
          </a:ln>
        </p:spPr>
      </p:pic>
      <p:sp>
        <p:nvSpPr>
          <p:cNvPr id="478" name="Text Box 2"/>
          <p:cNvSpPr/>
          <p:nvPr/>
        </p:nvSpPr>
        <p:spPr>
          <a:xfrm>
            <a:off x="2641680" y="3738600"/>
            <a:ext cx="18072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Прямоугольник 4"/>
          <p:cNvSpPr/>
          <p:nvPr/>
        </p:nvSpPr>
        <p:spPr>
          <a:xfrm>
            <a:off x="968400" y="2065320"/>
            <a:ext cx="80722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Если луг в благоприятных условиях может смениться лесом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з</a:t>
            </a: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начит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 круговорот веществ на лугах незамкнутый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Місце для нижнього колонтитула 1"/>
          <p:cNvSpPr/>
          <p:nvPr/>
        </p:nvSpPr>
        <p:spPr>
          <a:xfrm>
            <a:off x="3444840" y="84240"/>
            <a:ext cx="369576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3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5" dur="80"/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8,100,-91)"/>
                                          </p:val>
                                        </p:tav>
                                        <p:tav tm="50000">
                                          <p:val>
                                            <p:strVal val="rgb(31,31,-8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6" dur="80"/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8,100,-91)"/>
                                          </p:val>
                                        </p:tav>
                                        <p:tav tm="50000">
                                          <p:val>
                                            <p:strVal val="rgb(31,31,-8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7" dur="80"/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1" dur="80"/>
                                        <p:tgtEl>
                                          <p:spTgt spid="4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8,100,-91)"/>
                                          </p:val>
                                        </p:tav>
                                        <p:tav tm="50000">
                                          <p:val>
                                            <p:strVal val="rgb(31,31,-8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2" dur="80"/>
                                        <p:tgtEl>
                                          <p:spTgt spid="4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8,100,-91)"/>
                                          </p:val>
                                        </p:tav>
                                        <p:tav tm="50000">
                                          <p:val>
                                            <p:strVal val="rgb(31,31,-8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3" dur="80"/>
                                        <p:tgtEl>
                                          <p:spTgt spid="4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checkerboard(across)" transition="out">
                                      <p:cBhvr additive="repl">
                                        <p:cTn id="137" dur="500"/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xit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checkerboard(across)" transition="out">
                                      <p:cBhvr additive="repl">
                                        <p:cTn id="142" dur="500"/>
                                        <p:tgtEl>
                                          <p:spTgt spid="4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EGION</dc:creator>
  <dc:description/>
  <dc:language>en-US</dc:language>
  <cp:lastModifiedBy>LEGION</cp:lastModifiedBy>
  <dcterms:modified xsi:type="dcterms:W3CDTF">2015-01-05T08:53:15Z</dcterms:modified>
  <cp:revision>60</cp:revision>
  <dc:subject/>
  <dc:title>Слайд 1</dc:title>
</cp:coreProperties>
</file>