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B1C6-8A21-41BE-8758-EA066F8561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И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448F-DEB2-459F-8298-EEF99A2B77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1FC5-5F6A-4A42-841E-016BD97941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с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фосф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0256-7A6D-4C89-B017-3658F33DAE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4C77-8CCC-4DB3-9098-42BA29D74E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рь себ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рганизмы поглощают диоксид углерода из атмосф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путем связанный углерод возвращается в атмосфер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ышат организ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рушаются полез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ют микроорганиз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ют аз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ют реак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ения и вос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5E8C-7176-4E61-A546-143725CD87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волюци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как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119B-0A83-4A84-9C3E-F296415E73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нное вещество, создается в процессе жизнедеятельности организма (газы, каменный уголь, нефть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ное вещество, образующееся без участия организма (основные породы, лава вулканов, метеори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косное, представляет собой общий результат жизнедеятельности организма и абиогенных процессов  (поч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4A4B-867A-40A3-B564-9458E4F011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 представляет собой совокупность больших и малых экосистем или всех биоценозов Земли 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4B7B-E851-4C38-97E8-FBEF9B98B1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3957-7B94-465B-8E78-E4675EDCB9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14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FE1C-C464-4E4C-9136-E78476D242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56D-2C18-489D-BB56-36798B16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51A-0B1B-401C-A1F6-EB1F61B8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325-6F76-4245-A807-069388C7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EFD-1CF7-4BF1-ADC6-56863B60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6B64-518E-4B6F-814B-D6134258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6260-54AF-49BF-9752-B3ACBE36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CBDC-BB44-4F25-BFB1-93113035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503C-C087-4816-A373-5E7AF8DD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769F-904B-4955-8262-F18ED616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0A5F-C5C9-4D17-9B36-37A24663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C8EE-C684-4E60-902A-3586B0D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3B6-B06E-4AEC-AD8C-03D4A767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2D67-FB0B-4030-8A10-CEF876F6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92DC-3EB7-4A76-9C1E-2F6AB1EF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F77C-A392-49D7-AEAB-D59AD007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DF0B-D04A-4797-88D0-C28A9758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2FA4-BA98-4305-8A16-D81A3074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7F6B-1D16-4C36-BFFA-5C21C5AE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BCD7-F415-44B3-B683-83A0E30F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F7B54-4FAE-4CD6-862C-DEFF41B3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432F-7A60-49B6-B3AA-FBE88B5F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CD6B-D46D-4A8E-9E3D-1318DBC2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FC9-247A-4A1C-9025-018BCF02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23D7D-F6C2-4C17-9C86-EBCC25EE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FF76-FB7C-43CA-AAA4-8B791D82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B3BB5-1713-42F8-A022-41392460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0947-F94A-4B02-8B9A-4B0063C4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904E-1A05-44BB-9A75-706C2FF3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D00E-47C9-489F-8619-7F9AF3FD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F40A7-41DC-40F4-BCC7-F5634BD8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DD919-209F-4712-AAC6-00715A85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38376-6434-45F5-B0D2-00E22EC0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0CA30-33B4-4F7C-9597-6F0426CB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672-B5B3-4146-B07C-3F0C3EC1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749CD-AB0F-4EC1-8521-7975074A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CF81-BE00-4F6F-B85A-89053B3B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6B3A2-4795-4CA3-9EA3-93CA2CC5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16CC-06CF-456A-A182-708E11E9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8AAC8-657C-4AEC-B798-3C4F227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30093-59A1-4CB9-8BC2-0A3F1D64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B0A4B-CD9C-4650-BE27-B5592FA2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A9A76-58F8-4DFD-B76F-EE57B5D6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7E64-0692-44FE-89C7-6D631264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D5BC-7C47-4A35-9F8C-B078DF88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3CA-DDE3-4AB0-BF6C-2DDFB4BF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8D029-370A-4563-B156-D6E4FA6F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C6CAA-0123-4173-B213-59388EDA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D00D4-428E-41A9-836C-FA8F9B7D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222A0-125A-48F7-8AC1-2C7DE0D9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AD362-46C7-48F5-81F9-EB72AA6A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E3AE0-8B3A-4FF3-BC65-EE4F75EC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114DB-3191-42AB-B469-16BC4DAE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533E7-18CC-4C50-82BA-00051EA4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23A6A-8434-4789-9460-F201CBF0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27282-905E-43B3-AEDA-D9BDEFAD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0D7-8542-452C-AF49-90C06796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AA751-6795-48E2-96AE-349AD80D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FBC53-D048-4A8C-89DE-D5EAEB8C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C2E5C-5261-492A-9827-A59E206A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6898-8AB3-4A15-8349-8770F735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19971-1E8C-4D66-831B-64D18319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55941-7B65-40EE-8B95-9CF50186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C5089-E725-4541-AFB0-29FDF4B9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B8587-DD9F-49B3-B912-964C6DD5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65BED-C7B9-4E9E-B8ED-28E3013C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40E8F-CDAE-4786-A27E-A6F20261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ADE-F29C-4394-BAD3-370B7AE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DB769-AE54-4095-8782-F24EE6AD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79A8C-50F9-4454-B18B-DDF33602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C3BC6-E1B7-4A91-972C-50BAD543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38E6D-D09E-4A7D-B6FE-AB793EA9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B7150-F575-4A54-A68C-1640B20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71C9A-87C4-464E-930A-641F4EFD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3FE57-FDB2-4CE4-80D0-35A4EC20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A3A68-40ED-4646-B9DC-A0618BBE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02755-88A9-4327-858A-4A91C156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5D8B9-5309-4721-8DD2-E3C3A11D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0DF-7E14-4EDC-8D66-6730619A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4F27F-4BD2-4B8F-BC25-3C2740BB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24529-6570-4AD2-8238-02A8E172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086CA-F4DF-4599-B20F-FB5E0628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5EF8B-C54F-47C9-8016-1FD78D50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B18A3-0E50-4EF7-B83E-D0A2A5BD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07358-4A4E-4DD8-91D3-69741079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066C8-8536-4685-8BEC-D7B19C2A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426D9-41CF-40B3-86B8-8CBDE9C0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0B160-417C-4100-BDBB-AA0E3059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8B93C-72C3-4D5C-B9CA-53DABC74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37F-E47C-40B8-B2DC-249EBF4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CF38A-C127-45B8-86FC-6F9D6DE5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3E241-8A1F-4076-BB4F-B7AE0D22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24D35-D0C3-48B4-B106-1FCAA5B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13861-F07C-4F93-A6B7-EEF1BFA1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1C958-0ADB-4E86-B99A-10B672A8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D31FF-253C-4668-AEC1-B1B8C466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431A1-F852-499C-9617-18F70D46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B0A3-78D6-4D2E-83C0-E3B2E81B9D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8192-9B2A-4619-9DE4-2F02DFD97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2D35-C583-4F59-A52A-D254ED08603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8BF8-36D6-49EB-B806-A55E47895BA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5A4B-5291-4666-8721-2958EF1E03C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0D64-D079-41EF-B1B3-B8E3F9E640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254C-7DF3-4EEB-9E80-4FCC5F34BEA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2987-967A-4318-A2AB-3A656C0000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3297-A50E-44D7-BA41-A4C58D6F46C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4A2C-4709-4605-941C-0911331B158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ED18-D640-4157-9F2A-F6BCBE60AA0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61DC-B913-4F29-8EEA-F9CE99260C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FEFE-4B0B-498C-81C4-FD44696E2A4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0077-2F29-4331-B2CD-793029E305D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DED5-7396-4E29-B921-D72991F6AB9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9120-E69F-4A71-986E-8527E87D3B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143160" y="5378400"/>
            <a:ext cx="55008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имова М.Ф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биологии, ГОУ 4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8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Прямоугольник 14" descr=""/>
          <p:cNvPicPr/>
          <p:nvPr/>
        </p:nvPicPr>
        <p:blipFill>
          <a:blip r:embed="rId1"/>
          <a:stretch/>
        </p:blipFill>
        <p:spPr>
          <a:xfrm>
            <a:off x="523800" y="1536840"/>
            <a:ext cx="8334360" cy="30114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1571760" y="214200"/>
            <a:ext cx="65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Схема 3" descr=""/>
          <p:cNvPicPr/>
          <p:nvPr/>
        </p:nvPicPr>
        <p:blipFill>
          <a:blip r:embed="rId1"/>
          <a:stretch/>
        </p:blipFill>
        <p:spPr>
          <a:xfrm>
            <a:off x="444600" y="853920"/>
            <a:ext cx="8040600" cy="5980320"/>
          </a:xfrm>
          <a:prstGeom prst="rect">
            <a:avLst/>
          </a:prstGeom>
          <a:ln w="0">
            <a:noFill/>
          </a:ln>
        </p:spPr>
      </p:pic>
      <p:sp>
        <p:nvSpPr>
          <p:cNvPr id="410" name="Управляющая кнопка: далее 26">
            <a:hlinkClick r:id="rId2" action="ppaction://hlinksldjump"/>
          </p:cNvPr>
          <p:cNvSpPr/>
          <p:nvPr/>
        </p:nvSpPr>
        <p:spPr>
          <a:xfrm>
            <a:off x="8501040" y="61437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5587"/>
                </a:moveTo>
                <a:lnTo>
                  <a:pt x="17806" y="12594"/>
                </a:lnTo>
                <a:lnTo>
                  <a:pt x="3794" y="196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c3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TextBox 1"/>
          <p:cNvGrpSpPr/>
          <p:nvPr/>
        </p:nvGrpSpPr>
        <p:grpSpPr>
          <a:xfrm>
            <a:off x="311040" y="1530360"/>
            <a:ext cx="8534520" cy="5010120"/>
            <a:chOff x="311040" y="1530360"/>
            <a:chExt cx="8534520" cy="5010120"/>
          </a:xfrm>
        </p:grpSpPr>
        <p:pic>
          <p:nvPicPr>
            <p:cNvPr id="413" name="TextBox 1" descr=""/>
            <p:cNvPicPr/>
            <p:nvPr/>
          </p:nvPicPr>
          <p:blipFill>
            <a:blip r:embed="rId1"/>
            <a:stretch/>
          </p:blipFill>
          <p:spPr>
            <a:xfrm>
              <a:off x="311040" y="1530360"/>
              <a:ext cx="853452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00040" y="1571760"/>
              <a:ext cx="8286840" cy="46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о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угле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аз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фосф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Управляющая кнопка: далее 4">
            <a:hlinkClick r:id="rId2" action="ppaction://hlinksldjump"/>
          </p:cNvPr>
          <p:cNvSpPr/>
          <p:nvPr/>
        </p:nvSpPr>
        <p:spPr>
          <a:xfrm>
            <a:off x="5000760" y="27860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Управляющая кнопка: далее 5">
            <a:hlinkClick r:id="rId3" action="ppaction://hlinksldjump"/>
          </p:cNvPr>
          <p:cNvSpPr/>
          <p:nvPr/>
        </p:nvSpPr>
        <p:spPr>
          <a:xfrm>
            <a:off x="5143680" y="56437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Управляющая кнопка: далее 6">
            <a:hlinkClick r:id="rId4" action="ppaction://hlinksldjump"/>
          </p:cNvPr>
          <p:cNvSpPr/>
          <p:nvPr/>
        </p:nvSpPr>
        <p:spPr>
          <a:xfrm>
            <a:off x="5000760" y="3786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Управляющая кнопка: далее 7">
            <a:hlinkClick r:id="rId5" action="ppaction://hlinksldjump"/>
          </p:cNvPr>
          <p:cNvSpPr/>
          <p:nvPr/>
        </p:nvSpPr>
        <p:spPr>
          <a:xfrm>
            <a:off x="5000760" y="18572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9"/>
          <p:cNvSpPr/>
          <p:nvPr/>
        </p:nvSpPr>
        <p:spPr>
          <a:xfrm>
            <a:off x="714240" y="28584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d4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в конец 10">
            <a:hlinkClick r:id="rId6" action="ppaction://hlinksldjump"/>
          </p:cNvPr>
          <p:cNvSpPr/>
          <p:nvPr/>
        </p:nvSpPr>
        <p:spPr>
          <a:xfrm>
            <a:off x="7429680" y="6357960"/>
            <a:ext cx="928440" cy="500040"/>
          </a:xfrm>
          <a:custGeom>
            <a:avLst/>
            <a:gdLst>
              <a:gd name="textAreaLeft" fmla="*/ 32400 w 928440"/>
              <a:gd name="textAreaRight" fmla="*/ 896040 w 9284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092" h="21600">
                <a:moveTo>
                  <a:pt x="0" y="0"/>
                </a:moveTo>
                <a:lnTo>
                  <a:pt x="40092" y="0"/>
                </a:lnTo>
                <a:lnTo>
                  <a:pt x="40092" y="21600"/>
                </a:lnTo>
                <a:lnTo>
                  <a:pt x="0" y="21600"/>
                </a:lnTo>
                <a:close/>
              </a:path>
              <a:path fill="lightenLess" w="40092" h="21600">
                <a:moveTo>
                  <a:pt x="0" y="0"/>
                </a:moveTo>
                <a:lnTo>
                  <a:pt x="40092" y="0"/>
                </a:lnTo>
                <a:lnTo>
                  <a:pt x="38692" y="1400"/>
                </a:lnTo>
                <a:lnTo>
                  <a:pt x="1400" y="1400"/>
                </a:lnTo>
                <a:close/>
              </a:path>
              <a:path fill="darken" w="40092" h="21600">
                <a:moveTo>
                  <a:pt x="40092" y="0"/>
                </a:moveTo>
                <a:lnTo>
                  <a:pt x="40092" y="21600"/>
                </a:lnTo>
                <a:lnTo>
                  <a:pt x="38692" y="20200"/>
                </a:lnTo>
                <a:lnTo>
                  <a:pt x="38692" y="1400"/>
                </a:lnTo>
                <a:close/>
              </a:path>
              <a:path fill="darkenLess" w="40092" h="21600">
                <a:moveTo>
                  <a:pt x="40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2" y="20200"/>
                </a:lnTo>
                <a:close/>
              </a:path>
              <a:path fill="lighten" w="40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2" h="21600">
                <a:moveTo>
                  <a:pt x="23545" y="10800"/>
                </a:moveTo>
                <a:lnTo>
                  <a:pt x="13040" y="17806"/>
                </a:lnTo>
                <a:lnTo>
                  <a:pt x="13040" y="3794"/>
                </a:lnTo>
                <a:close/>
              </a:path>
              <a:path fill="darken" w="40092" h="21600">
                <a:moveTo>
                  <a:pt x="25390" y="3794"/>
                </a:moveTo>
                <a:lnTo>
                  <a:pt x="25390" y="17806"/>
                </a:lnTo>
                <a:lnTo>
                  <a:pt x="27053" y="17806"/>
                </a:lnTo>
                <a:lnTo>
                  <a:pt x="27053" y="3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1214280" y="149400"/>
            <a:ext cx="7929720" cy="72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Управляющая кнопка: домой 2">
            <a:hlinkClick r:id="rId2" action="ppaction://hlinksldjump"/>
          </p:cNvPr>
          <p:cNvSpPr/>
          <p:nvPr/>
        </p:nvSpPr>
        <p:spPr>
          <a:xfrm>
            <a:off x="571680" y="592920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10800" y="5642"/>
                </a:moveTo>
                <a:lnTo>
                  <a:pt x="13376" y="8253"/>
                </a:ln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lnTo>
                  <a:pt x="17763" y="12605"/>
                </a:lnTo>
                <a:lnTo>
                  <a:pt x="16109" y="12605"/>
                </a:lnTo>
                <a:lnTo>
                  <a:pt x="16109" y="19794"/>
                </a:lnTo>
                <a:lnTo>
                  <a:pt x="5491" y="19794"/>
                </a:lnTo>
                <a:lnTo>
                  <a:pt x="5491" y="12605"/>
                </a:lnTo>
                <a:lnTo>
                  <a:pt x="3837" y="12605"/>
                </a:lnTo>
                <a:close/>
              </a:path>
              <a:path fill="darkenLess" w="21600" h="25209">
                <a:moveTo>
                  <a:pt x="13376" y="8253"/>
                </a:move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close/>
              </a:path>
              <a:path fill="darkenLess" w="21600" h="25209">
                <a:moveTo>
                  <a:pt x="9877" y="16103"/>
                </a:moveTo>
                <a:lnTo>
                  <a:pt x="11723" y="16103"/>
                </a:lnTo>
                <a:lnTo>
                  <a:pt x="11723" y="19794"/>
                </a:lnTo>
                <a:lnTo>
                  <a:pt x="16109" y="19794"/>
                </a:lnTo>
                <a:lnTo>
                  <a:pt x="16109" y="12605"/>
                </a:lnTo>
                <a:lnTo>
                  <a:pt x="5491" y="12605"/>
                </a:lnTo>
                <a:lnTo>
                  <a:pt x="5491" y="19794"/>
                </a:lnTo>
                <a:lnTo>
                  <a:pt x="9877" y="19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2" descr="2.gif"/>
          <p:cNvPicPr/>
          <p:nvPr/>
        </p:nvPicPr>
        <p:blipFill>
          <a:blip r:embed="rId2"/>
          <a:stretch/>
        </p:blipFill>
        <p:spPr>
          <a:xfrm>
            <a:off x="1714680" y="357120"/>
            <a:ext cx="5045040" cy="6000840"/>
          </a:xfrm>
          <a:prstGeom prst="rect">
            <a:avLst/>
          </a:prstGeom>
          <a:ln w="0">
            <a:noFill/>
          </a:ln>
        </p:spPr>
      </p:pic>
      <p:sp>
        <p:nvSpPr>
          <p:cNvPr id="426" name="Управляющая кнопка: домой 3">
            <a:hlinkClick r:id="rId3" action="ppaction://hlinksldjump"/>
          </p:cNvPr>
          <p:cNvSpPr/>
          <p:nvPr/>
        </p:nvSpPr>
        <p:spPr>
          <a:xfrm>
            <a:off x="7858080" y="542916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858080" y="6143760"/>
            <a:ext cx="714600" cy="71424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7493"/>
                </a:moveTo>
                <a:lnTo>
                  <a:pt x="7307" y="7493"/>
                </a:lnTo>
                <a:lnTo>
                  <a:pt x="7307" y="12828"/>
                </a:lnTo>
                <a:cubicBezTo>
                  <a:pt x="7307" y="13751"/>
                  <a:pt x="8107" y="14482"/>
                  <a:pt x="9143" y="14482"/>
                </a:cubicBezTo>
                <a:lnTo>
                  <a:pt x="10805" y="14482"/>
                </a:lnTo>
                <a:cubicBezTo>
                  <a:pt x="11841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5" y="7493"/>
                </a:lnTo>
                <a:lnTo>
                  <a:pt x="14313" y="3985"/>
                </a:lnTo>
                <a:lnTo>
                  <a:pt x="17986" y="7493"/>
                </a:lnTo>
                <a:lnTo>
                  <a:pt x="16150" y="7493"/>
                </a:lnTo>
                <a:lnTo>
                  <a:pt x="16150" y="12828"/>
                </a:lnTo>
                <a:cubicBezTo>
                  <a:pt x="16150" y="15596"/>
                  <a:pt x="13573" y="18155"/>
                  <a:pt x="10805" y="18155"/>
                </a:cubicBezTo>
                <a:lnTo>
                  <a:pt x="9143" y="18155"/>
                </a:lnTo>
                <a:cubicBezTo>
                  <a:pt x="6375" y="18155"/>
                  <a:pt x="3799" y="15596"/>
                  <a:pt x="3799" y="12828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3.gif"/>
          <p:cNvPicPr/>
          <p:nvPr/>
        </p:nvPicPr>
        <p:blipFill>
          <a:blip r:embed="rId2"/>
          <a:stretch/>
        </p:blipFill>
        <p:spPr>
          <a:xfrm>
            <a:off x="2071800" y="714240"/>
            <a:ext cx="4714920" cy="5214960"/>
          </a:xfrm>
          <a:prstGeom prst="rect">
            <a:avLst/>
          </a:prstGeom>
          <a:ln w="0">
            <a:noFill/>
          </a:ln>
        </p:spPr>
      </p:pic>
      <p:sp>
        <p:nvSpPr>
          <p:cNvPr id="430" name="Управляющая кнопка: домой 2">
            <a:hlinkClick r:id="rId3" action="ppaction://hlinksldjump"/>
          </p:cNvPr>
          <p:cNvSpPr/>
          <p:nvPr/>
        </p:nvSpPr>
        <p:spPr>
          <a:xfrm>
            <a:off x="7858080" y="542916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12146" y="3837"/>
                </a:moveTo>
                <a:lnTo>
                  <a:pt x="14722" y="6448"/>
                </a:ln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09" y="10800"/>
                </a:lnTo>
                <a:lnTo>
                  <a:pt x="17455" y="10800"/>
                </a:lnTo>
                <a:lnTo>
                  <a:pt x="17455" y="17989"/>
                </a:lnTo>
                <a:lnTo>
                  <a:pt x="6836" y="17989"/>
                </a:lnTo>
                <a:lnTo>
                  <a:pt x="6836" y="10800"/>
                </a:lnTo>
                <a:lnTo>
                  <a:pt x="5183" y="10800"/>
                </a:lnTo>
                <a:close/>
              </a:path>
              <a:path fill="darkenLess" w="24292" h="21600">
                <a:moveTo>
                  <a:pt x="14722" y="6448"/>
                </a:move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2" h="21600">
                <a:moveTo>
                  <a:pt x="11223" y="14299"/>
                </a:moveTo>
                <a:lnTo>
                  <a:pt x="13068" y="14299"/>
                </a:lnTo>
                <a:lnTo>
                  <a:pt x="13068" y="17989"/>
                </a:lnTo>
                <a:lnTo>
                  <a:pt x="17455" y="17989"/>
                </a:lnTo>
                <a:lnTo>
                  <a:pt x="17455" y="10800"/>
                </a:lnTo>
                <a:lnTo>
                  <a:pt x="6836" y="10800"/>
                </a:lnTo>
                <a:lnTo>
                  <a:pt x="6836" y="17989"/>
                </a:lnTo>
                <a:lnTo>
                  <a:pt x="11223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7900920" y="6043680"/>
            <a:ext cx="571680" cy="64296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642960"/>
              <a:gd name="textAreaBottom" fmla="*/ 606240 h 642960"/>
            </a:gdLst>
            <a:ahLst/>
            <a:rect l="textAreaLeft" t="textAreaTop" r="textAreaRight" b="textAreaBottom"/>
            <a:pathLst>
              <a:path w="21600" h="24292">
                <a:moveTo>
                  <a:pt x="0" y="0"/>
                </a:moveTo>
                <a:lnTo>
                  <a:pt x="21600" y="0"/>
                </a:lnTo>
                <a:lnTo>
                  <a:pt x="21600" y="24292"/>
                </a:lnTo>
                <a:lnTo>
                  <a:pt x="0" y="24292"/>
                </a:lnTo>
                <a:close/>
              </a:path>
              <a:path fill="lightenLess" w="21600" h="242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2">
                <a:moveTo>
                  <a:pt x="21600" y="0"/>
                </a:moveTo>
                <a:lnTo>
                  <a:pt x="21600" y="24292"/>
                </a:lnTo>
                <a:lnTo>
                  <a:pt x="20200" y="22892"/>
                </a:lnTo>
                <a:lnTo>
                  <a:pt x="20200" y="1400"/>
                </a:lnTo>
                <a:close/>
              </a:path>
              <a:path fill="darkenLess" w="21600" h="24292">
                <a:moveTo>
                  <a:pt x="21600" y="24292"/>
                </a:moveTo>
                <a:lnTo>
                  <a:pt x="0" y="24292"/>
                </a:lnTo>
                <a:lnTo>
                  <a:pt x="1400" y="22892"/>
                </a:lnTo>
                <a:lnTo>
                  <a:pt x="20200" y="22892"/>
                </a:lnTo>
                <a:close/>
              </a:path>
              <a:path fill="lighten" w="21600" h="24292">
                <a:moveTo>
                  <a:pt x="0" y="242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2"/>
                </a:lnTo>
                <a:close/>
              </a:path>
              <a:path fill="darken" w="21600" h="24292">
                <a:moveTo>
                  <a:pt x="3794" y="8838"/>
                </a:moveTo>
                <a:lnTo>
                  <a:pt x="7301" y="8838"/>
                </a:lnTo>
                <a:lnTo>
                  <a:pt x="7301" y="14174"/>
                </a:lnTo>
                <a:cubicBezTo>
                  <a:pt x="7301" y="15096"/>
                  <a:pt x="8102" y="15827"/>
                  <a:pt x="9138" y="15827"/>
                </a:cubicBezTo>
                <a:lnTo>
                  <a:pt x="10800" y="15827"/>
                </a:lnTo>
                <a:cubicBezTo>
                  <a:pt x="11836" y="15827"/>
                  <a:pt x="12636" y="15096"/>
                  <a:pt x="12636" y="14174"/>
                </a:cubicBezTo>
                <a:lnTo>
                  <a:pt x="12636" y="8838"/>
                </a:lnTo>
                <a:lnTo>
                  <a:pt x="10800" y="8838"/>
                </a:lnTo>
                <a:lnTo>
                  <a:pt x="14308" y="5331"/>
                </a:lnTo>
                <a:lnTo>
                  <a:pt x="17981" y="8838"/>
                </a:lnTo>
                <a:lnTo>
                  <a:pt x="16144" y="8838"/>
                </a:lnTo>
                <a:lnTo>
                  <a:pt x="16144" y="14174"/>
                </a:lnTo>
                <a:cubicBezTo>
                  <a:pt x="16144" y="16941"/>
                  <a:pt x="13568" y="19500"/>
                  <a:pt x="10800" y="19500"/>
                </a:cubicBezTo>
                <a:lnTo>
                  <a:pt x="9138" y="19500"/>
                </a:lnTo>
                <a:cubicBezTo>
                  <a:pt x="6370" y="19500"/>
                  <a:pt x="3794" y="16941"/>
                  <a:pt x="3794" y="14174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4.gif"/>
          <p:cNvPicPr/>
          <p:nvPr/>
        </p:nvPicPr>
        <p:blipFill>
          <a:blip r:embed="rId2"/>
          <a:stretch/>
        </p:blipFill>
        <p:spPr>
          <a:xfrm>
            <a:off x="1785960" y="1214280"/>
            <a:ext cx="5786280" cy="4357800"/>
          </a:xfrm>
          <a:prstGeom prst="rect">
            <a:avLst/>
          </a:prstGeom>
          <a:ln w="0">
            <a:noFill/>
          </a:ln>
        </p:spPr>
      </p:pic>
      <p:sp>
        <p:nvSpPr>
          <p:cNvPr id="434" name="Управляющая кнопка: домой 2">
            <a:hlinkClick r:id="rId3" action="ppaction://hlinksldjump"/>
          </p:cNvPr>
          <p:cNvSpPr/>
          <p:nvPr/>
        </p:nvSpPr>
        <p:spPr>
          <a:xfrm>
            <a:off x="8001000" y="600084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10800" y="5631"/>
                </a:moveTo>
                <a:lnTo>
                  <a:pt x="13376" y="8242"/>
                </a:ln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lnTo>
                  <a:pt x="17763" y="12594"/>
                </a:lnTo>
                <a:lnTo>
                  <a:pt x="16109" y="12594"/>
                </a:lnTo>
                <a:lnTo>
                  <a:pt x="16109" y="19783"/>
                </a:lnTo>
                <a:lnTo>
                  <a:pt x="5491" y="19783"/>
                </a:lnTo>
                <a:lnTo>
                  <a:pt x="5491" y="12594"/>
                </a:lnTo>
                <a:lnTo>
                  <a:pt x="3837" y="12594"/>
                </a:lnTo>
                <a:close/>
              </a:path>
              <a:path fill="darkenLess" w="21600" h="25188">
                <a:moveTo>
                  <a:pt x="13376" y="8242"/>
                </a:move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close/>
              </a:path>
              <a:path fill="darkenLess" w="21600" h="25188">
                <a:moveTo>
                  <a:pt x="9877" y="16093"/>
                </a:moveTo>
                <a:lnTo>
                  <a:pt x="11723" y="16093"/>
                </a:lnTo>
                <a:lnTo>
                  <a:pt x="11723" y="19783"/>
                </a:lnTo>
                <a:lnTo>
                  <a:pt x="16109" y="19783"/>
                </a:lnTo>
                <a:lnTo>
                  <a:pt x="16109" y="12594"/>
                </a:lnTo>
                <a:lnTo>
                  <a:pt x="5491" y="12594"/>
                </a:lnTo>
                <a:lnTo>
                  <a:pt x="5491" y="19783"/>
                </a:lnTo>
                <a:lnTo>
                  <a:pt x="9877" y="19783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2" descr="9.gif"/>
          <p:cNvPicPr/>
          <p:nvPr/>
        </p:nvPicPr>
        <p:blipFill>
          <a:blip r:embed="rId2"/>
          <a:stretch/>
        </p:blipFill>
        <p:spPr>
          <a:xfrm>
            <a:off x="1571760" y="1000080"/>
            <a:ext cx="5302080" cy="4857840"/>
          </a:xfrm>
          <a:prstGeom prst="rect">
            <a:avLst/>
          </a:prstGeom>
          <a:ln w="0">
            <a:noFill/>
          </a:ln>
        </p:spPr>
      </p:pic>
      <p:sp>
        <p:nvSpPr>
          <p:cNvPr id="437" name="Управляющая кнопка: домой 3">
            <a:hlinkClick r:id="rId3" action="ppaction://hlinksldjump"/>
          </p:cNvPr>
          <p:cNvSpPr/>
          <p:nvPr/>
        </p:nvSpPr>
        <p:spPr>
          <a:xfrm>
            <a:off x="8143920" y="600084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extBox 2" descr=""/>
          <p:cNvPicPr/>
          <p:nvPr/>
        </p:nvPicPr>
        <p:blipFill>
          <a:blip r:embed="rId1"/>
          <a:stretch/>
        </p:blipFill>
        <p:spPr>
          <a:xfrm>
            <a:off x="-176040" y="646200"/>
            <a:ext cx="9350280" cy="510228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Улыбка - рожица.wmf"/>
          <p:cNvPicPr/>
          <p:nvPr/>
        </p:nvPicPr>
        <p:blipFill>
          <a:blip r:embed="rId1"/>
          <a:stretch/>
        </p:blipFill>
        <p:spPr>
          <a:xfrm>
            <a:off x="2357280" y="1571760"/>
            <a:ext cx="4316400" cy="371628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ebf1"/>
            </a:gs>
            <a:gs pos="100000">
              <a:srgbClr val="006699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2792520"/>
            <a:ext cx="7364520" cy="15350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2857680" y="71424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TextBox 7"/>
          <p:cNvGrpSpPr/>
          <p:nvPr/>
        </p:nvGrpSpPr>
        <p:grpSpPr>
          <a:xfrm>
            <a:off x="1000080" y="1536840"/>
            <a:ext cx="7278840" cy="4383000"/>
            <a:chOff x="1000080" y="1536840"/>
            <a:chExt cx="7278840" cy="4383000"/>
          </a:xfrm>
        </p:grpSpPr>
        <p:pic>
          <p:nvPicPr>
            <p:cNvPr id="371" name="TextBox 7" descr=""/>
            <p:cNvPicPr/>
            <p:nvPr/>
          </p:nvPicPr>
          <p:blipFill>
            <a:blip r:embed="rId1"/>
            <a:stretch/>
          </p:blipFill>
          <p:spPr>
            <a:xfrm>
              <a:off x="1000080" y="1536840"/>
              <a:ext cx="7278840" cy="43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14280" y="1643040"/>
              <a:ext cx="700092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акторы эволюции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став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 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Биосфера как экосистем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ровни организации живых организм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ещест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верь себ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4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хема 2" descr=""/>
          <p:cNvPicPr/>
          <p:nvPr/>
        </p:nvPicPr>
        <p:blipFill>
          <a:blip r:embed="rId1"/>
          <a:stretch/>
        </p:blipFill>
        <p:spPr>
          <a:xfrm>
            <a:off x="1292400" y="1633680"/>
            <a:ext cx="6510240" cy="41446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"/>
          <p:cNvSpPr/>
          <p:nvPr/>
        </p:nvSpPr>
        <p:spPr>
          <a:xfrm>
            <a:off x="264312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extBox 1" descr=""/>
          <p:cNvPicPr/>
          <p:nvPr/>
        </p:nvPicPr>
        <p:blipFill>
          <a:blip r:embed="rId1"/>
          <a:stretch/>
        </p:blipFill>
        <p:spPr>
          <a:xfrm>
            <a:off x="1847880" y="208080"/>
            <a:ext cx="6510240" cy="8586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с двумя вырезанными противолежащими углами 17"/>
          <p:cNvSpPr/>
          <p:nvPr/>
        </p:nvSpPr>
        <p:spPr>
          <a:xfrm>
            <a:off x="6429240" y="1643040"/>
            <a:ext cx="2071800" cy="1285920"/>
          </a:xfrm>
          <a:custGeom>
            <a:avLst/>
            <a:gdLst/>
            <a:ahLst/>
            <a:rect l="l" t="t" r="r" b="b"/>
            <a:pathLst>
              <a:path w="2071688" h="1285875">
                <a:moveTo>
                  <a:pt x="0" y="0"/>
                </a:moveTo>
                <a:lnTo>
                  <a:pt x="1857371" y="0"/>
                </a:lnTo>
                <a:lnTo>
                  <a:pt x="2071688" y="214317"/>
                </a:lnTo>
                <a:lnTo>
                  <a:pt x="2071688" y="1285875"/>
                </a:lnTo>
                <a:lnTo>
                  <a:pt x="2071688" y="1285875"/>
                </a:lnTo>
                <a:lnTo>
                  <a:pt x="214317" y="1285875"/>
                </a:lnTo>
                <a:lnTo>
                  <a:pt x="0" y="107155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с двумя вырезанными противолежащими углами 18"/>
          <p:cNvSpPr/>
          <p:nvPr/>
        </p:nvSpPr>
        <p:spPr>
          <a:xfrm>
            <a:off x="1143000" y="1571760"/>
            <a:ext cx="2143080" cy="1357200"/>
          </a:xfrm>
          <a:custGeom>
            <a:avLst/>
            <a:gdLst/>
            <a:ahLst/>
            <a:rect l="l" t="t" r="r" b="b"/>
            <a:pathLst>
              <a:path w="2143125" h="1357313">
                <a:moveTo>
                  <a:pt x="0" y="0"/>
                </a:moveTo>
                <a:lnTo>
                  <a:pt x="1916902" y="0"/>
                </a:lnTo>
                <a:lnTo>
                  <a:pt x="2143125" y="226223"/>
                </a:lnTo>
                <a:lnTo>
                  <a:pt x="2143125" y="1357313"/>
                </a:lnTo>
                <a:lnTo>
                  <a:pt x="2143125" y="1357313"/>
                </a:lnTo>
                <a:lnTo>
                  <a:pt x="226223" y="1357313"/>
                </a:lnTo>
                <a:lnTo>
                  <a:pt x="0" y="11310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с двумя вырезанными противолежащими углами 19"/>
          <p:cNvSpPr/>
          <p:nvPr/>
        </p:nvSpPr>
        <p:spPr>
          <a:xfrm>
            <a:off x="3500280" y="5143680"/>
            <a:ext cx="2571840" cy="1143000"/>
          </a:xfrm>
          <a:custGeom>
            <a:avLst/>
            <a:gdLst/>
            <a:ahLst/>
            <a:rect l="l" t="t" r="r" b="b"/>
            <a:pathLst>
              <a:path w="2571750" h="1143000">
                <a:moveTo>
                  <a:pt x="0" y="0"/>
                </a:moveTo>
                <a:lnTo>
                  <a:pt x="2381246" y="0"/>
                </a:lnTo>
                <a:lnTo>
                  <a:pt x="2571750" y="190504"/>
                </a:lnTo>
                <a:lnTo>
                  <a:pt x="2571750" y="1143000"/>
                </a:lnTo>
                <a:lnTo>
                  <a:pt x="2571750" y="1143000"/>
                </a:lnTo>
                <a:lnTo>
                  <a:pt x="190504" y="1143000"/>
                </a:lnTo>
                <a:lnTo>
                  <a:pt x="0" y="9524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Шестиугольник 20"/>
          <p:cNvSpPr/>
          <p:nvPr/>
        </p:nvSpPr>
        <p:spPr>
          <a:xfrm>
            <a:off x="3286080" y="2857680"/>
            <a:ext cx="2786040" cy="1071360"/>
          </a:xfrm>
          <a:prstGeom prst="hexagon">
            <a:avLst>
              <a:gd name="adj" fmla="val 25005"/>
              <a:gd name="vf" fmla="val 115470"/>
            </a:avLst>
          </a:prstGeom>
          <a:gradFill rotWithShape="0">
            <a:gsLst>
              <a:gs pos="0">
                <a:srgbClr val="ebb2a4"/>
              </a:gs>
              <a:gs pos="100000">
                <a:srgbClr val="faeae7"/>
              </a:gs>
            </a:gsLst>
            <a:lin ang="16200000"/>
          </a:gradFill>
          <a:ln w="9360">
            <a:solidFill>
              <a:srgbClr val="96410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право с вырезом 27"/>
          <p:cNvSpPr/>
          <p:nvPr/>
        </p:nvSpPr>
        <p:spPr>
          <a:xfrm rot="2170200">
            <a:off x="3274920" y="1881000"/>
            <a:ext cx="1533600" cy="744480"/>
          </a:xfrm>
          <a:custGeom>
            <a:avLst/>
            <a:gdLst>
              <a:gd name="textAreaLeft" fmla="*/ 176040 w 1533600"/>
              <a:gd name="textAreaRight" fmla="*/ 1357560 w 1533600"/>
              <a:gd name="textAreaTop" fmla="*/ 196200 h 744480"/>
              <a:gd name="textAreaBottom" fmla="*/ 548280 h 744480"/>
            </a:gdLst>
            <a:ahLst/>
            <a:rect l="textAreaLeft" t="textAreaTop" r="textAreaRight" b="textAreaBottom"/>
            <a:pathLst>
              <a:path w="21600" h="21600">
                <a:moveTo>
                  <a:pt x="0" y="5692"/>
                </a:moveTo>
                <a:lnTo>
                  <a:pt x="16357" y="5692"/>
                </a:lnTo>
                <a:lnTo>
                  <a:pt x="16357" y="0"/>
                </a:lnTo>
                <a:lnTo>
                  <a:pt x="21600" y="10800"/>
                </a:lnTo>
                <a:lnTo>
                  <a:pt x="16357" y="21600"/>
                </a:lnTo>
                <a:lnTo>
                  <a:pt x="16357" y="15908"/>
                </a:lnTo>
                <a:lnTo>
                  <a:pt x="0" y="15908"/>
                </a:lnTo>
                <a:lnTo>
                  <a:pt x="2480" y="10800"/>
                </a:lnTo>
                <a:lnTo>
                  <a:pt x="0" y="5692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трелка вправо с вырезом 28"/>
          <p:cNvSpPr/>
          <p:nvPr/>
        </p:nvSpPr>
        <p:spPr>
          <a:xfrm rot="8304600">
            <a:off x="4903560" y="1881360"/>
            <a:ext cx="1563480" cy="691920"/>
          </a:xfrm>
          <a:custGeom>
            <a:avLst/>
            <a:gdLst>
              <a:gd name="textAreaLeft" fmla="*/ 172800 w 1563480"/>
              <a:gd name="textAreaRight" fmla="*/ 1390680 w 1563480"/>
              <a:gd name="textAreaTop" fmla="*/ 172800 h 691920"/>
              <a:gd name="textAreaBottom" fmla="*/ 519120 h 691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19" y="5400"/>
                </a:lnTo>
                <a:lnTo>
                  <a:pt x="16819" y="0"/>
                </a:lnTo>
                <a:lnTo>
                  <a:pt x="21600" y="10800"/>
                </a:lnTo>
                <a:lnTo>
                  <a:pt x="16819" y="21600"/>
                </a:lnTo>
                <a:lnTo>
                  <a:pt x="16819" y="16200"/>
                </a:lnTo>
                <a:lnTo>
                  <a:pt x="0" y="16200"/>
                </a:lnTo>
                <a:lnTo>
                  <a:pt x="239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0"/>
          <p:cNvSpPr/>
          <p:nvPr/>
        </p:nvSpPr>
        <p:spPr>
          <a:xfrm>
            <a:off x="1428840" y="1928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1"/>
          <p:cNvSpPr/>
          <p:nvPr/>
        </p:nvSpPr>
        <p:spPr>
          <a:xfrm>
            <a:off x="6643800" y="2000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3"/>
          <p:cNvSpPr/>
          <p:nvPr/>
        </p:nvSpPr>
        <p:spPr>
          <a:xfrm>
            <a:off x="3571920" y="53578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волю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4"/>
          <p:cNvSpPr/>
          <p:nvPr/>
        </p:nvSpPr>
        <p:spPr>
          <a:xfrm>
            <a:off x="3786120" y="31431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право с вырезом 36"/>
          <p:cNvSpPr/>
          <p:nvPr/>
        </p:nvSpPr>
        <p:spPr>
          <a:xfrm rot="16200000">
            <a:off x="4357800" y="4143600"/>
            <a:ext cx="1071360" cy="785520"/>
          </a:xfrm>
          <a:custGeom>
            <a:avLst/>
            <a:gdLst>
              <a:gd name="textAreaLeft" fmla="*/ 196200 w 1071360"/>
              <a:gd name="textAreaRight" fmla="*/ 875160 w 1071360"/>
              <a:gd name="textAreaTop" fmla="*/ 196200 h 785520"/>
              <a:gd name="textAreaBottom" fmla="*/ 589320 h 785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680" y="5400"/>
                </a:lnTo>
                <a:lnTo>
                  <a:pt x="13680" y="0"/>
                </a:lnTo>
                <a:lnTo>
                  <a:pt x="21600" y="10800"/>
                </a:lnTo>
                <a:lnTo>
                  <a:pt x="13680" y="21600"/>
                </a:lnTo>
                <a:lnTo>
                  <a:pt x="13680" y="16200"/>
                </a:lnTo>
                <a:lnTo>
                  <a:pt x="0" y="16200"/>
                </a:lnTo>
                <a:lnTo>
                  <a:pt x="39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4287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extBox 1" descr=""/>
          <p:cNvPicPr/>
          <p:nvPr/>
        </p:nvPicPr>
        <p:blipFill>
          <a:blip r:embed="rId1"/>
          <a:stretch/>
        </p:blipFill>
        <p:spPr>
          <a:xfrm>
            <a:off x="2060640" y="500040"/>
            <a:ext cx="5960880" cy="1219320"/>
          </a:xfrm>
          <a:prstGeom prst="rect">
            <a:avLst/>
          </a:prstGeom>
          <a:ln w="0">
            <a:noFill/>
          </a:ln>
        </p:spPr>
      </p:pic>
      <p:pic>
        <p:nvPicPr>
          <p:cNvPr id="392" name="Схема 18" descr=""/>
          <p:cNvPicPr/>
          <p:nvPr/>
        </p:nvPicPr>
        <p:blipFill>
          <a:blip r:embed="rId2"/>
          <a:stretch/>
        </p:blipFill>
        <p:spPr>
          <a:xfrm>
            <a:off x="858960" y="1573200"/>
            <a:ext cx="7924680" cy="43578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d0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TextBox 1"/>
          <p:cNvGrpSpPr/>
          <p:nvPr/>
        </p:nvGrpSpPr>
        <p:grpSpPr>
          <a:xfrm>
            <a:off x="768240" y="987480"/>
            <a:ext cx="7747200" cy="5443560"/>
            <a:chOff x="768240" y="987480"/>
            <a:chExt cx="7747200" cy="5443560"/>
          </a:xfrm>
        </p:grpSpPr>
        <p:pic>
          <p:nvPicPr>
            <p:cNvPr id="395" name="TextBox 1" descr=""/>
            <p:cNvPicPr/>
            <p:nvPr/>
          </p:nvPicPr>
          <p:blipFill>
            <a:blip r:embed="rId1"/>
            <a:stretch/>
          </p:blipFill>
          <p:spPr>
            <a:xfrm>
              <a:off x="768240" y="987480"/>
              <a:ext cx="7747200" cy="54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85880" y="1000080"/>
              <a:ext cx="77151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генное вещество, создается в процессе жизнедеятельности организма (газы, каменный уголь, нефть и т.д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Косное вещество, образующееся без участия организма (основные породы, лава вулканов, метеориты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косное, представляет собой общий результат жизнедеятельности организма и абиогенных процессов  (почв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Схема 5" descr=""/>
          <p:cNvPicPr/>
          <p:nvPr/>
        </p:nvPicPr>
        <p:blipFill>
          <a:blip r:embed="rId1"/>
          <a:stretch/>
        </p:blipFill>
        <p:spPr>
          <a:xfrm>
            <a:off x="212760" y="1852560"/>
            <a:ext cx="8931240" cy="4657680"/>
          </a:xfrm>
          <a:prstGeom prst="rect">
            <a:avLst/>
          </a:prstGeom>
          <a:ln w="0">
            <a:noFill/>
          </a:ln>
        </p:spPr>
      </p:pic>
      <p:pic>
        <p:nvPicPr>
          <p:cNvPr id="399" name="TextBox 3" descr=""/>
          <p:cNvPicPr/>
          <p:nvPr/>
        </p:nvPicPr>
        <p:blipFill>
          <a:blip r:embed="rId2"/>
          <a:stretch/>
        </p:blipFill>
        <p:spPr>
          <a:xfrm>
            <a:off x="158760" y="115920"/>
            <a:ext cx="8624880" cy="191448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928800" y="6429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214280" y="1428840"/>
          <a:ext cx="6572520" cy="4429080"/>
        </p:xfrm>
        <a:graphic>
          <a:graphicData uri="http://schemas.openxmlformats.org/drawingml/2006/table">
            <a:tbl>
              <a:tblPr/>
              <a:tblGrid>
                <a:gridCol w="857520"/>
                <a:gridCol w="1714320"/>
                <a:gridCol w="1285920"/>
                <a:gridCol w="1400040"/>
                <a:gridCol w="1314720"/>
              </a:tblGrid>
              <a:tr h="1265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оболочек Зем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тм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идр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т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1582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</a:tr>
              <a:tr h="1581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чение для биологически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786040" y="57168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71720" y="1285920"/>
            <a:ext cx="72864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28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олнце 4"/>
          <p:cNvSpPr/>
          <p:nvPr/>
        </p:nvSpPr>
        <p:spPr>
          <a:xfrm>
            <a:off x="7143840" y="214200"/>
            <a:ext cx="1143000" cy="1071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1:17:21Z</dcterms:created>
  <dc:creator>аа</dc:creator>
  <dc:description/>
  <dc:language>en-US</dc:language>
  <cp:lastModifiedBy>LEGION</cp:lastModifiedBy>
  <dcterms:modified xsi:type="dcterms:W3CDTF">2015-01-05T08:30:05Z</dcterms:modified>
  <cp:revision>181</cp:revision>
  <dc:subject/>
  <dc:title>Слайд 1</dc:title>
</cp:coreProperties>
</file>