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BF9B-F269-4891-87F8-AE4E2F3D93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А. Фр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BE33-D6CC-4AB2-A19D-B774639357E1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друг вздохнул он, как жи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мне матер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воге рощи и ле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а на травах, как слез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ихо просят родн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стит глубокая р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 теряя бере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бя мы верим - не сол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рекрасный и род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гу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берегу, я сберегу вас, сберегу»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.Шкл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977F-8308-4878-87EC-B6FDDB13E12F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ышит   питается      растет    размножается    умира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, необходимые для процветания жизне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дух           вода         питательные вещества      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храна окружающей сре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гулирование потребнос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8736-F35D-437C-A118-0C6FEC798110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тельн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3094-B9AD-4365-8F8A-7D85238E0A1D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рево, трава, цветок и пт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всегда сумеют защит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будут уничтожены о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ланете мы останемся одн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Р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6814-5F3E-41DD-A426-E5E0A4C260D8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5A3-A495-4F15-A6F5-C3433510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131-5809-4D8C-A61A-1D9F9287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CAF-08D1-4CB6-93F6-078D504B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395-326B-4F60-84F6-17A334E3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C6C1-6A23-4F47-A2D3-19A626E2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D111-3295-4F7E-AF4D-6308DC7A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088F-6BFC-4F4F-AD77-0846FC9E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811F-BFB8-4F78-A99C-E38FC64C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D23C-8D08-4E3B-AFA4-F78DBD63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3EC6-AD37-447B-8647-DCC888D4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DC23-068D-4C09-9043-A25D9E5A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0C9-E10A-4D02-BA3A-8DC28922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0473-26F2-444E-813D-4C28EDB9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2B91-7515-4A9F-AEEB-05189D5A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85C0-F156-47C0-9B9E-9F38EA11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989D-B552-4A48-9B8D-8A669354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F6EE-2038-42CE-B943-738B648E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0E2-F2E2-4E1D-9C0D-E97B6A9A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242-9D30-4565-B39D-6365DAAF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B46-2688-4C6A-BD40-92220BD7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84D-3232-4807-8161-ED616E35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ACF-AA1B-4282-9C20-D12BC3F4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ECE-0149-4C63-9D7D-89E15815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F45-A16E-4893-AA41-7CFD7100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989D-1990-4E75-845A-194D75DE54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E43D-513F-49CA-9746-9ABDD939679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(А. Франс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BD07240_"/>
          <p:cNvPicPr/>
          <p:nvPr/>
        </p:nvPicPr>
        <p:blipFill>
          <a:blip r:embed="rId1"/>
          <a:stretch/>
        </p:blipFill>
        <p:spPr>
          <a:xfrm>
            <a:off x="0" y="189000"/>
            <a:ext cx="182088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вдруг вздохнул он, как живой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мне матер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ревоге рощи и лес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оса на травах, как слез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тихо просят родн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рустит глубокая рек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и теряя берег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бя мы верим - не сол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ой прекрасный и родн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губы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берегу, я сберегу вас, сберегу»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.Шкло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6" descr="MP00646_"/>
          <p:cNvPicPr/>
          <p:nvPr/>
        </p:nvPicPr>
        <p:blipFill>
          <a:blip r:embed="rId1"/>
          <a:stretch/>
        </p:blipFill>
        <p:spPr>
          <a:xfrm>
            <a:off x="5292720" y="126828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932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ышит   питается      растет    размножается    умира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условия, необходимые для процветания жизнедея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оздух           вода         питательные вещества      энерг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1. Охрана окружающей сред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2. Регулирование потребност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826920" y="1125360"/>
            <a:ext cx="432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411280" y="126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5867280" y="119700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414036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24720" y="126828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39640" y="2565360"/>
            <a:ext cx="41436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3708360" y="256536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195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12"/>
          <p:cNvSpPr/>
          <p:nvPr/>
        </p:nvSpPr>
        <p:spPr>
          <a:xfrm flipH="1">
            <a:off x="5219640" y="2565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53964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48436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5148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8028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0" b="66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5848" t="32293" r="12876" b="13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циальные потребност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удов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слительн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витие реч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0144484"/>
          <p:cNvPicPr/>
          <p:nvPr/>
        </p:nvPicPr>
        <p:blipFill>
          <a:blip r:embed="rId1"/>
          <a:stretch/>
        </p:blipFill>
        <p:spPr>
          <a:xfrm>
            <a:off x="32400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144687"/>
          <p:cNvPicPr/>
          <p:nvPr/>
        </p:nvPicPr>
        <p:blipFill>
          <a:blip r:embed="rId2"/>
          <a:stretch/>
        </p:blipFill>
        <p:spPr>
          <a:xfrm>
            <a:off x="291636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J0144694"/>
          <p:cNvPicPr/>
          <p:nvPr/>
        </p:nvPicPr>
        <p:blipFill>
          <a:blip r:embed="rId3"/>
          <a:stretch/>
        </p:blipFill>
        <p:spPr>
          <a:xfrm>
            <a:off x="539640" y="4149720"/>
            <a:ext cx="3657600" cy="2416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149283"/>
          <p:cNvPicPr/>
          <p:nvPr/>
        </p:nvPicPr>
        <p:blipFill>
          <a:blip r:embed="rId4"/>
          <a:stretch/>
        </p:blipFill>
        <p:spPr>
          <a:xfrm>
            <a:off x="4859280" y="4149720"/>
            <a:ext cx="3657600" cy="240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PH01958K"/>
          <p:cNvPicPr/>
          <p:nvPr/>
        </p:nvPicPr>
        <p:blipFill>
          <a:blip r:embed="rId5"/>
          <a:stretch/>
        </p:blipFill>
        <p:spPr>
          <a:xfrm>
            <a:off x="5580000" y="189000"/>
            <a:ext cx="3240000" cy="36734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6840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ерево, трава, цветок и пт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е всегда сумеют защититьс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Если будут уничтожены они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 планете мы останемся одни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Д.Родови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BD07242_"/>
          <p:cNvPicPr/>
          <p:nvPr/>
        </p:nvPicPr>
        <p:blipFill>
          <a:blip r:embed="rId1"/>
          <a:stretch/>
        </p:blipFill>
        <p:spPr>
          <a:xfrm>
            <a:off x="6767640" y="476280"/>
            <a:ext cx="2376360" cy="49687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3:41:49Z</dcterms:created>
  <dc:creator>ENA</dc:creator>
  <dc:description/>
  <dc:language>en-US</dc:language>
  <cp:lastModifiedBy>LEGION</cp:lastModifiedBy>
  <dcterms:modified xsi:type="dcterms:W3CDTF">2015-01-05T08:30:54Z</dcterms:modified>
  <cp:revision>8</cp:revision>
  <dc:subject/>
  <dc:title>Слайд 1</dc:title>
</cp:coreProperties>
</file>