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5F7F-B04F-4389-8B1D-CE88530DF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ликация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8B32-FEA7-4800-B07F-1A06D06205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плика́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Н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8BAD-6CEC-4AC5-BF91-0A6E0E6DBA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репликаци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4E97-AF2F-4F9F-A206-8A1631AEDA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E13-29BD-4375-9A7B-D49E3CF3D7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AFF-53EA-4F0B-9CD3-8CA4E08CAB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8677-42BB-46FD-AF73-BCCA22C6DD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CF8-46F0-4D5F-8424-CFA4A064EE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F62-321F-461E-9D4C-2C3CDC1A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D16-74A2-49E8-B5C4-C5E6B69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628-6A44-435D-A858-810460C7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6A0-2E82-4EFE-AFAC-BBEA4F33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28C-938D-4BC3-872C-ACC37BAF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792B-673F-4191-AD5F-FD8299D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D31F-3953-4BBE-A0C5-5227F10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2183-B051-4F52-86F0-C91D5C5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0C17-4CCD-4058-B97C-91FEBDB5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7BCB-773A-4BC6-B4D7-562C47AE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6454-A339-4DC9-BDA5-802D583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816-6EDE-492D-A011-EE9B032C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02D6-38E4-436A-AC59-F59F4B64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CC30-E0FB-40D3-87D1-E1FE77B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8B1B-2989-4E5F-8BF8-E7DEF949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E51E-8B2E-41ED-B894-6BE01A81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9F8-1797-4264-ABBB-2118E481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8BC-FAD5-440F-8B14-10E93665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256-6FAF-4642-A0E7-9F0E2997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83E-756F-4162-9F21-68DA89F6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160-8733-4941-869B-40C28281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648-89ED-4CE0-888B-6CE77E4A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847-E7C7-44C4-B8BC-EC966A1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27B-4140-4C29-ACB7-99AB010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875F-0445-4906-AA2A-6838B134301D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221E-1C8B-43E3-9EB5-D2617D27F44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99CC-D700-42AE-A525-E79E35EF7011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AB29-9E92-46BB-800E-84B99D9E5DC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785960"/>
            <a:ext cx="907560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azid\Рабочий стол\презент\5.JPG"/>
          <p:cNvPicPr/>
          <p:nvPr/>
        </p:nvPicPr>
        <p:blipFill>
          <a:blip r:embed="rId1"/>
          <a:stretch/>
        </p:blipFill>
        <p:spPr>
          <a:xfrm>
            <a:off x="285840" y="428760"/>
            <a:ext cx="862956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azid\Рабочий стол\презент\Безымянный.JPG"/>
          <p:cNvPicPr/>
          <p:nvPr/>
        </p:nvPicPr>
        <p:blipFill>
          <a:blip r:embed="rId1"/>
          <a:stretch/>
        </p:blipFill>
        <p:spPr>
          <a:xfrm>
            <a:off x="428760" y="285840"/>
            <a:ext cx="8404200" cy="6141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еплика́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azid\Рабочий стол\презент\1.JPG"/>
          <p:cNvPicPr/>
          <p:nvPr/>
        </p:nvPicPr>
        <p:blipFill>
          <a:blip r:embed="rId2"/>
          <a:stretch/>
        </p:blipFill>
        <p:spPr>
          <a:xfrm>
            <a:off x="1428840" y="1571760"/>
            <a:ext cx="6500880" cy="4606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col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zid\Рабочий стол\презент\2.JPG"/>
          <p:cNvPicPr/>
          <p:nvPr/>
        </p:nvPicPr>
        <p:blipFill>
          <a:blip r:embed="rId1"/>
          <a:stretch/>
        </p:blipFill>
        <p:spPr>
          <a:xfrm>
            <a:off x="928800" y="357120"/>
            <a:ext cx="7202520" cy="5929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428760"/>
            <a:ext cx="4686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лет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C:\Documents and Settings\azid\Рабочий стол\презент\3.JPG"/>
          <p:cNvPicPr/>
          <p:nvPr/>
        </p:nvPicPr>
        <p:blipFill>
          <a:blip r:embed="rId1"/>
          <a:stretch/>
        </p:blipFill>
        <p:spPr>
          <a:xfrm>
            <a:off x="4572000" y="500040"/>
            <a:ext cx="4324320" cy="57625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azid\Рабочий стол\презент\4.JPG"/>
          <p:cNvPicPr/>
          <p:nvPr/>
        </p:nvPicPr>
        <p:blipFill>
          <a:blip r:embed="rId1"/>
          <a:stretch/>
        </p:blipFill>
        <p:spPr>
          <a:xfrm>
            <a:off x="285840" y="847800"/>
            <a:ext cx="8486640" cy="50101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168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22:27Z</dcterms:created>
  <dc:creator>azid</dc:creator>
  <dc:description/>
  <dc:language>en-US</dc:language>
  <cp:lastModifiedBy>LEGION</cp:lastModifiedBy>
  <dcterms:modified xsi:type="dcterms:W3CDTF">2015-01-05T09:27:29Z</dcterms:modified>
  <cp:revision>8</cp:revision>
  <dc:subject/>
  <dc:title>Репликация ДНК</dc:title>
</cp:coreProperties>
</file>