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780A-BB1A-4576-9D42-D15ACB51C3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ликация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63A3-134A-4943-A44F-A082498F8B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плика́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Н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550E-2143-4EF3-9D65-01AD1A6C1F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репликаци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AA4B-4BCE-4499-AA0D-27A6C473E8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340C-A2AE-4EDE-8554-8CD53FFF5C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CC6B-16DD-486B-8B6B-5B372D964F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1FD7-2F1A-4A0C-9388-2F9E6DDE09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D23B-4CBB-4C3C-BA7E-ECBD0366DE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CA8-8480-446F-84C3-45D3AF9B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32A-91C2-431C-B0DD-BA569CE9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EF6-5668-40FD-B202-83D1FE7C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239-C618-4F34-837B-FBC5A035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E80B-A199-4EE1-8B6A-4B6F1046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52EB-759C-4DF1-942B-30E7EEC6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155A-19D4-49DA-ACC6-24677ED6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BE49-E587-490F-8A45-3DC669E9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AD93-1C26-47FC-AA23-EF08F141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E1FA-415F-4674-8EB3-72929C5A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EAA9-0E4F-4D26-B27B-4DEBD73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20C-E245-4245-BCF4-6A0A011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DAC8-E1DF-4E97-BA3E-30E1CD22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882B-0533-493E-B54B-FBCC6AB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395B-97C3-4EAF-A6C4-86281650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7733-CCC3-49A6-AE64-36303E4D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9F1B-7820-4229-8BE4-5BD05B4D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659-D459-49D9-A13F-0E185173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EFA-3AE4-40B0-9CD7-13E836C6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AF8-15CB-41E3-9721-C0E60B00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AF4-9582-4980-965F-A723D0E0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4FD-AA2B-4ED8-B40F-BD303A6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FED-48D9-48E0-B538-0E25AC92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AE2-2D62-4E90-AC63-0BB0E7F2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A507-2B70-4D16-BD4E-7B1D8B5A5061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431B-66A7-454A-9EF4-1D1D49DAF52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D72A-5AF0-4AB9-92FF-3A3AE8117BEF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CD4C-725A-4B61-BD62-F75450F058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08080" y="1785960"/>
            <a:ext cx="9075600" cy="25970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C:\Documents and Settings\azid\Рабочий стол\презент\5.JPG"/>
          <p:cNvPicPr/>
          <p:nvPr/>
        </p:nvPicPr>
        <p:blipFill>
          <a:blip r:embed="rId1"/>
          <a:stretch/>
        </p:blipFill>
        <p:spPr>
          <a:xfrm>
            <a:off x="285840" y="428760"/>
            <a:ext cx="8629560" cy="59292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C:\Documents and Settings\azid\Рабочий стол\презент\Безымянный.JPG"/>
          <p:cNvPicPr/>
          <p:nvPr/>
        </p:nvPicPr>
        <p:blipFill>
          <a:blip r:embed="rId1"/>
          <a:stretch/>
        </p:blipFill>
        <p:spPr>
          <a:xfrm>
            <a:off x="428760" y="285840"/>
            <a:ext cx="8404200" cy="6141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еплика́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Н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это процесс синтеза дочерней молекулы дезоксирибонуклеиновой кислоты, который происходит в процессе деления клетки на матрице родительской молекулы ДНК. При этом генетический материал, зашифрованный в ДНК, удваивается и делится между дочерними клет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Documents and Settings\azid\Рабочий стол\презент\1.JPG"/>
          <p:cNvPicPr/>
          <p:nvPr/>
        </p:nvPicPr>
        <p:blipFill>
          <a:blip r:embed="rId2"/>
          <a:stretch/>
        </p:blipFill>
        <p:spPr>
          <a:xfrm>
            <a:off x="1428840" y="1571760"/>
            <a:ext cx="6500880" cy="4606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казали существование полуконсервативной модели М. Мезельсон и Ф.Сталь в 1958 году. Они выращивали бактерии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.col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сколько поколений на минимальной среде в которой единственным источником азота бы хлорид аммония  с меченым атомом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езультате все клеточные компоненты бактерий содержали в своем составе тяжелый азот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Documents and Settings\azid\Рабочий стол\презент\2.JPG"/>
          <p:cNvPicPr/>
          <p:nvPr/>
        </p:nvPicPr>
        <p:blipFill>
          <a:blip r:embed="rId1"/>
          <a:stretch/>
        </p:blipFill>
        <p:spPr>
          <a:xfrm>
            <a:off x="928800" y="357120"/>
            <a:ext cx="7202520" cy="5929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428760"/>
            <a:ext cx="4686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лет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пликация начинается со специфической точки в кольцевой ДНК (область начала репликации) и продолжается в обоих направлениях. В результате образуются две репликативные вилки, которые продвигаются в противоположных направлениях, т. е. обе цепи реплицируются одновремен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C:\Documents and Settings\azid\Рабочий стол\презент\3.JPG"/>
          <p:cNvPicPr/>
          <p:nvPr/>
        </p:nvPicPr>
        <p:blipFill>
          <a:blip r:embed="rId1"/>
          <a:stretch/>
        </p:blipFill>
        <p:spPr>
          <a:xfrm>
            <a:off x="4572000" y="500040"/>
            <a:ext cx="4324320" cy="57625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28760" y="785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ая репликативная вилка включает по крайней мере две молекулы ДНК-полимеразы III, ассоциированные с несколькими вспомогательными белками. К последним относятся ДНК-топоизомеразы (гиразы), которые раскручивают плотно свернутую двойную спираль ДНК, и хеликазы, которые расплетают двухтяжевую ДНК на две цепи. Поскольку матричная цепь всегда читается в направлении 3'→5', только одна из цепей может считываться непрерывно. Другая цепь считывается в направлении, противоположном движению репликативной вилки. В результате на матрице вначале синтезируются короткие фрагменты новой цепи ДНК , так называемые фрагменты Оказаки , названные так по имени их первооткрыва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C:\Documents and Settings\azid\Рабочий стол\презент\4.JPG"/>
          <p:cNvPicPr/>
          <p:nvPr/>
        </p:nvPicPr>
        <p:blipFill>
          <a:blip r:embed="rId1"/>
          <a:stretch/>
        </p:blipFill>
        <p:spPr>
          <a:xfrm>
            <a:off x="285840" y="847800"/>
            <a:ext cx="8486640" cy="50101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7168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ый фрагмент начинается с короткой РНК-затравки , необходимой для функционирования ДНК-полимеразы. Праймер синтезируется специальной РНК-полимеразой, ДНК-полимераза III достраивает этот праймер до фрагмента ДНК длиной 1000-2000 дезоксинуклеотидных звеньев. Синтез этого фрагмента далее прерывается, и новый синтез начинается со следующего РНК-праймера. Индивидуальные фрагменты Оказаки первоначально не связаны друг с другом и все еще имеют РНК на 5'-концах. На некотором расстоянии от репликативной вилки ДНК-полимераза I начинает замещать РНК-праймер последовательностью ДНК. В завершение остающиеся одноцепочечные разрывы репарируются ДНК-лигазой. В образованной таким образом двойной спирали ДНК только одна из цепей синтезирована занов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22:27Z</dcterms:created>
  <dc:creator>azid</dc:creator>
  <dc:description/>
  <dc:language>en-US</dc:language>
  <cp:lastModifiedBy>LEGION</cp:lastModifiedBy>
  <dcterms:modified xsi:type="dcterms:W3CDTF">2015-01-05T09:27:29Z</dcterms:modified>
  <cp:revision>8</cp:revision>
  <dc:subject/>
  <dc:title>Репликация ДНК</dc:title>
</cp:coreProperties>
</file>