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FAC8-5543-4C1B-A7CC-A1C0DFA5DA4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Мутационная изменч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C6F3-DC46-4153-9433-C7DFEC970A1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адаптивному значе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ыделяют положительные, отрицательные и нейтральные мутации. Эта классификация связана с оценкой жизнеспособности образовавшегося мутанта. По изменению генотипа. Мутации бывают генные, хромосомные и геном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A3C8-060D-4715-AA60-2A64F9EBF317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локализации в клет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делятся на ядерные и цитоплазматические. Плазматические мутации возникают в результате мутаций в плазмогенах, находящих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итохондриях. Причем такие му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 основном наследуются по женской ли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B869-187C-463F-ACAF-79BFBD708BA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утационная те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онная теория утверждает, что из двух категорий изменчивости - непрерывной и прерывистой, только последня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передаётся по наслед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6915-A8D6-4F8B-A470-A02B3DC329B6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Основные положения этой теор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я возникает внезапно, без всяких пере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нтные формы вполне устойч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- изменения качественные и в отличие от ненаследственных изменений (флуктуаций) не образуют непрерывных рядов, не группируются вокруг среднего тип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возникают в разных направлениях и могут быть как полезными, так и вредны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ыявление мутаций зависит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числа проанализированных особ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дни и те же мутации могут возникать повтор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8815-8297-4B19-A756-B66EC6B8968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Основной ошибкой в мутационной теории Де Фриза было утверждение, что в результате мутации без участия естественного отбора могут сразу возникать новые виды. В действительности мутационная изменчивость наряду с комбинативной создаёт материал для естественного отбора, который формирует виды в процессе э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CDE7-2107-4541-B29D-D3BF7406E4E9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утация-помощь человек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Индуцированные мутации широко используются в селекционной работе для быстрого получения разнообразия исходного материала с последующим применением искусственного отбора в направлении, представляющем интерес дл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В последние десятилетия в народном хозяйстве всех стран широко применяются различные химические соединения и радиоактивные вещества, обладающие в определё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концентрациях мутагенным действием. В сельс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хозяйстве используют минеральные удобр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инсектициды, гербициды, дефолианты, в промышленности - формалин, аммиак, кислоты, щёлочи и другие химические соединения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A514-BEEC-4AB3-BED6-29969A304F38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д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утационный процесс является главным источником изменений, приводящим к различным патологиям. Задачи науки на ближайшие время определяются как уменьшения генетического груза путем предотвращения или снижения вероятности мутаций и устранения возникших в ДНК изменений с помощью генной инжен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2A5A-0777-479F-A4E8-AFBB840E8B2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 короткий срок генетика выросла в разветвленную биологическую науку с широким кругом экспериментальных методов и направлении. Большое внимание уделяется мутационным изменениям клеток и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1CEA-AA58-4063-A3A1-374C68C5084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нети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енетика - наука о наследственности и её изменчивости - получила развитие в начале XX в. , после того как исследователи обратили внимание на законы Г. Менделя , открытые в 1865 г., Название генетика было предложено английским ученым У.Бэтсоном в 1906 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2ED7-AA1D-47CC-A9DE-8AD1E913C3E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 ист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пытки понять природу передачи признаков по наследству от родителей детям предпринимались ещё в древности. Размышления на эту тему встречаются в сочинениях Гиппократа, Аристотеля и других мыслителей. В XVII -XVIII гг., когда биологи начали искать с каким началом - мужским или с женским - связанна тайна оплодотворения, споры о природе наследственности возобновились с нов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DD0A-1927-4262-9267-EB232162F6AE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утац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утационная изменчивость связана с процессом образования мутаций. Мутации – это внезапные скачкообразные стойкие изменения в структуре генот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F2B7-6E05-44B7-BDB7-F944C3C4D91C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ем была создан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Организмы у которых произошла мутация называются мутантами. Мутационная теория была создана Гуго де Фризом в 1901-1903 гг. На основных ее положениях строила современная генетика: мутации, дискретные изменения наследственности, в природе спонтанны, мутации передаются по наследству, встречаются достаточно редко и могут быть различных типов. В зависимости от того какой признак положен в основу, на сегодняшний день существует несколько систем классификации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2628-EF4B-48ED-8311-EC5A5F1B005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раздел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11DE-0C82-412F-9B60-25847C77F787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лассификация мутац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способу возник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отношению к зачатковому пу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адаптивному знач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локализации в кле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2C9F-35A2-4520-B6C9-5172479A5860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способу возникнов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Различают спонтанные и индуцированные мутации. Спонтанные происходят в природе крайне редко с частотой 1-100 на миллион экземпляров данного гена. В настоящие время очевидно, что спонтанный мутационный процесс зависит как от внутренних, так и от внешних факторов, которые называют мутационным давлением среды. Индуцированные мутации возникают при воздействии на человека мутагенами –факторами, вызывающими мутации. Мутагены же бывают трех вид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Физ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Хим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E4FE-BA91-4912-B2DE-925D1E42C077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отношению к зачатковому пу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уществуют соматические и генеративные мутации. Генеративные мутации возникают в репродуктивных тканях и поэтому не всегда выявляются. Для того, чтобы выявилась генеративная мутация, необходимо, чтобы мутантная гамета участвовала в оплодотвор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15D7-4592-459B-A619-A34C2599B8E0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3034-F2F4-4323-8D71-7CD25356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C346-7735-41B9-9113-C98296FB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E93F-1260-4851-A1D5-9A14FE8F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4386-3DA6-49C6-BFFE-2A516C72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181EE-F5A7-4937-AE1C-47CD2AB7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713D3-E123-4AE9-893A-E90D736C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C682F-7BE8-4F06-B5EE-EC3500E9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FC9E7-6963-4969-AB47-B4B20F05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7BDC1-4F09-40CB-9B52-F84E4771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F14B3-7507-4E3A-84C3-BEB3084B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A7228-D100-464A-B89C-F31DE9A6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4CB-1EE4-44B3-ABEB-0DBD5B07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2F339-A669-401F-AAA8-8E92F6DA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78271-D796-46C0-A15E-EF305DA7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DA147-4690-4518-9B84-A1FDC2D2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0429B-8954-4E98-80CE-D48924B7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BE9CA-2CB3-417D-9640-6C97AFC0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5C45-1C6B-4332-A9E6-157561D3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0E2-88C8-4493-961F-5E457288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4B2D-C4EA-40F3-8B06-6B03FE43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993B-AC0F-47F2-B402-56601E78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923-706B-4E54-9F4A-DF316DED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753-D69F-4099-ADD5-9E7ED969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309-405F-40E1-B6F6-7B129FF3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7488-5160-4C1D-A58A-AE4A9CBFFD70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AE3F-7596-46A9-A759-B562AF7D49C0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1835280" y="3430440"/>
            <a:ext cx="74674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утационная изменчивость.</a:t>
            </a:r>
            <a:endParaRPr b="0" lang="en-US" sz="4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-1044720" y="4805280"/>
            <a:ext cx="64087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Выполнила учениц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10 «А» класс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Средней школы №3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Третьякова Светлан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1" name="Picture 13" descr="AN00790_"/>
          <p:cNvPicPr/>
          <p:nvPr/>
        </p:nvPicPr>
        <p:blipFill>
          <a:blip r:embed="rId2"/>
          <a:stretch/>
        </p:blipFill>
        <p:spPr>
          <a:xfrm>
            <a:off x="7308720" y="517680"/>
            <a:ext cx="1551240" cy="1520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NA02125_"/>
          <p:cNvPicPr/>
          <p:nvPr/>
        </p:nvPicPr>
        <p:blipFill>
          <a:blip r:embed="rId3"/>
          <a:stretch/>
        </p:blipFill>
        <p:spPr>
          <a:xfrm rot="20163600">
            <a:off x="318600" y="720360"/>
            <a:ext cx="379440" cy="40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NA02125_"/>
          <p:cNvPicPr/>
          <p:nvPr/>
        </p:nvPicPr>
        <p:blipFill>
          <a:blip r:embed="rId4"/>
          <a:stretch/>
        </p:blipFill>
        <p:spPr>
          <a:xfrm rot="20544000">
            <a:off x="317520" y="246240"/>
            <a:ext cx="582480" cy="61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NA02125_"/>
          <p:cNvPicPr/>
          <p:nvPr/>
        </p:nvPicPr>
        <p:blipFill>
          <a:blip r:embed="rId5"/>
          <a:stretch/>
        </p:blipFill>
        <p:spPr>
          <a:xfrm rot="1433400">
            <a:off x="833400" y="382320"/>
            <a:ext cx="422280" cy="552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адаптивному знач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деляют положительные, отрицательные и нейтральные мутации. Эта классификация связана с оценкой жизнеспособности образовавшегося мутанта. По изменению генотипа. Мутации бывают генные, хромосомные и геномные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8" name="Picture 4" descr="38780"/>
          <p:cNvPicPr/>
          <p:nvPr/>
        </p:nvPicPr>
        <p:blipFill>
          <a:blip r:embed="rId1"/>
          <a:stretch/>
        </p:blipFill>
        <p:spPr>
          <a:xfrm>
            <a:off x="3132000" y="4149720"/>
            <a:ext cx="3229200" cy="1938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локализации в клет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делятся на ядерные и цитоплазматические. Плазматические мутации возникают в результате мутаций в плазмогенах, находящихся в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итохондриях. Причем такие мутац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основном наследуются по женской лин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2" name="Picture 4" descr="dna"/>
          <p:cNvPicPr/>
          <p:nvPr/>
        </p:nvPicPr>
        <p:blipFill>
          <a:blip r:embed="rId1"/>
          <a:stretch/>
        </p:blipFill>
        <p:spPr>
          <a:xfrm>
            <a:off x="3492360" y="4076640"/>
            <a:ext cx="2570400" cy="18414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тационная теор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онная теория утверждает, что из двух категорий изменчивости - непрерывной и прерывистой, только последня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едаётся по наследству.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6" name="Picture 4" descr="19-07-42379"/>
          <p:cNvPicPr/>
          <p:nvPr/>
        </p:nvPicPr>
        <p:blipFill>
          <a:blip r:embed="rId1"/>
          <a:stretch/>
        </p:blipFill>
        <p:spPr>
          <a:xfrm>
            <a:off x="1187280" y="3357720"/>
            <a:ext cx="1940040" cy="2585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0000224839-preview"/>
          <p:cNvPicPr/>
          <p:nvPr/>
        </p:nvPicPr>
        <p:blipFill>
          <a:blip r:embed="rId2"/>
          <a:stretch/>
        </p:blipFill>
        <p:spPr>
          <a:xfrm>
            <a:off x="5219640" y="3429000"/>
            <a:ext cx="2879640" cy="24019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сновные положения этой теор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я возникает внезапно, без всяких переходов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нтные формы вполне устойчивы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- изменения качественные и в отличие от ненаследственных изменений (флуктуаций) не образуют непрерывных рядов, не группируются вокруг среднего типа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возникают в разных направлениях и могут быть как полезными, так и вредными;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явление мутаций зависит от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числа проанализированных особей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дни и те же мутации могут возникать повторно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сновной ошибкой в мутационной теории Де Фриза было утверждение, что в результате мутации без участия естественного отбора могут сразу возникать новые виды. В действительности мутационная изменчивость наряду с комбинативной создаёт материал для естественного отбора, который формирует виды в процессе эволюц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4" name="Picture 4" descr="72399"/>
          <p:cNvPicPr/>
          <p:nvPr/>
        </p:nvPicPr>
        <p:blipFill>
          <a:blip r:embed="rId1"/>
          <a:stretch/>
        </p:blipFill>
        <p:spPr>
          <a:xfrm>
            <a:off x="684360" y="4292640"/>
            <a:ext cx="2722320" cy="1854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утация-помощь человек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ндуцированные мутации широко используются в селекционной работе для быстрого получения разнообразия исходного материала с последующим применением искусственного отбора в направлении, представляющем интерес для человека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В последние десятилетия в народном хозяйстве всех стран широко применяются различные химические соединения и радиоактивные вещества, обладающие в определённых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концентрациях мутагенным действием. В сельском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хозяйстве используют минеральные удобрения,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нсектициды, гербициды, дефолианты, в промышленности - формалин, аммиак, кислоты, щёлочи и другие химические соединения.</a:t>
            </a:r>
            <a:r>
              <a:rPr b="0" lang="ru-RU" sz="10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8" name="Picture 4" descr="normal_medclipart_0359"/>
          <p:cNvPicPr/>
          <p:nvPr/>
        </p:nvPicPr>
        <p:blipFill>
          <a:blip r:embed="rId1"/>
          <a:stretch/>
        </p:blipFill>
        <p:spPr>
          <a:xfrm>
            <a:off x="1116000" y="4941720"/>
            <a:ext cx="2008080" cy="13352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ред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Мутационный процесс является главным источником изменений, приводящим к различным патологиям. Задачи науки на ближайшие время определяются как уменьшения генетического груза путем предотвращения или снижения вероятности мутаций и устранения возникших в ДНК изменений с помощью генной инженер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52" name="Picture 4" descr="programmirovanie-molekul-dnk-0"/>
          <p:cNvPicPr/>
          <p:nvPr/>
        </p:nvPicPr>
        <p:blipFill>
          <a:blip r:embed="rId1"/>
          <a:stretch/>
        </p:blipFill>
        <p:spPr>
          <a:xfrm>
            <a:off x="3203640" y="4653000"/>
            <a:ext cx="2592360" cy="16430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biser_info_4113_dnk-8_070504_preview"/>
          <p:cNvPicPr/>
          <p:nvPr/>
        </p:nvPicPr>
        <p:blipFill>
          <a:blip r:embed="rId1"/>
          <a:stretch/>
        </p:blipFill>
        <p:spPr>
          <a:xfrm>
            <a:off x="3059280" y="4005360"/>
            <a:ext cx="3313080" cy="2198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5ff6"/>
                </a:solidFill>
                <a:latin typeface="Arial"/>
              </a:rPr>
              <a:t>За короткий срок генетика выросла в разветвленную биологическую науку с широким кругом экспериментальных методов и направлении. Большое внимание уделяется мутационным изменениям клеток и организмов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Генетик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Генетика - наука о наследственности и её изменчивости - получила развитие в начале XX в. , после того как исследователи обратили внимание на законы Г. Менделя , открытые в 1865 г., Название генетика было предложено английским ученым У.Бэтсоном в 1906 г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8" name="Picture 5" descr="001"/>
          <p:cNvPicPr/>
          <p:nvPr/>
        </p:nvPicPr>
        <p:blipFill>
          <a:blip r:embed="rId1"/>
          <a:stretch/>
        </p:blipFill>
        <p:spPr>
          <a:xfrm>
            <a:off x="826920" y="4149720"/>
            <a:ext cx="1729080" cy="1639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Из истори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Попытки понять природу передачи признаков по наследству от родителей детям предпринимались ещё в древности. Размышления на эту тему встречаются в сочинениях Гиппократа, Аристотеля и других мыслителей. В XVII -XVIII гг., когда биологи начали искать с каким началом - мужским или с женским - связанна тайна оплодотворения, споры о природе наследственности возобновились с новой силой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тац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Мутационная изменчивость связана с процессом образования мутаций. Мутации – это внезапные скачкообразные стойкие изменения в структуре генотип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5" name="Picture 4" descr="02dfasgcvmkfd"/>
          <p:cNvPicPr/>
          <p:nvPr/>
        </p:nvPicPr>
        <p:blipFill>
          <a:blip r:embed="rId1"/>
          <a:stretch/>
        </p:blipFill>
        <p:spPr>
          <a:xfrm>
            <a:off x="2700360" y="3573360"/>
            <a:ext cx="3594240" cy="23115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ем была создан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рганизмы у которых произошла мутация называются мутантами. Мутационная теория была создана Гуго де Фризом в 1901-1903 гг. На основных ее положениях строила современная генетика: мутации, дискретные изменения наследственности, в природе спонтанны, мутации передаются по наследству, встречаются достаточно редко и могут быть различных типов. В зависимости от того какой признак положен в основу, на сегодняшний день существует несколько систем классификации мутаций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лайд разделит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dnk"/>
          <p:cNvPicPr/>
          <p:nvPr/>
        </p:nvPicPr>
        <p:blipFill>
          <a:blip r:embed="rId1"/>
          <a:stretch/>
        </p:blipFill>
        <p:spPr>
          <a:xfrm>
            <a:off x="1547640" y="1484280"/>
            <a:ext cx="6070680" cy="4508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способу возникновени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отношению к зачатковому пути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адаптивному значению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локализации в клетке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лассификация мутаций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8"/>
          <p:cNvPicPr/>
          <p:nvPr/>
        </p:nvPicPr>
        <p:blipFill>
          <a:blip r:embed="rId1"/>
          <a:stretch/>
        </p:blipFill>
        <p:spPr>
          <a:xfrm>
            <a:off x="3276720" y="3860640"/>
            <a:ext cx="2781360" cy="21463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способу возникнов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Различают спонтанные и индуцированные мутации. Спонтанные происходят в природе крайне редко с частотой 1-100 на миллион экземпляров данного гена. В настоящие время очевидно, что спонтанный мутационный процесс зависит как от внутренних, так и от внешних факторов, которые называют мутационным давлением среды. Индуцированные мутации возникают при воздействии на человека мутагенами –факторами, вызывающими мутации. Мутагены же бывают трех видов: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Физическ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Химическ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Биологические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9" name="Picture 4" descr="080143_0"/>
          <p:cNvPicPr/>
          <p:nvPr/>
        </p:nvPicPr>
        <p:blipFill>
          <a:blip r:embed="rId1"/>
          <a:stretch/>
        </p:blipFill>
        <p:spPr>
          <a:xfrm>
            <a:off x="826920" y="4724280"/>
            <a:ext cx="1524240" cy="14274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ffff"/>
                </a:solidFill>
                <a:latin typeface="Arial"/>
              </a:rPr>
              <a:t>По отношению к зачатковому пут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Существуют соматические и генеративные мутации. Генеративные мутации возникают в репродуктивных тканях и поэтому не всегда выявляются. Для того, чтобы выявилась генеративная мутация, необходимо, чтобы мутантная гамета участвовала в оплодотворен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3" name="Picture 4" descr="PR20040622165041"/>
          <p:cNvPicPr/>
          <p:nvPr/>
        </p:nvPicPr>
        <p:blipFill>
          <a:blip r:embed="rId1"/>
          <a:stretch/>
        </p:blipFill>
        <p:spPr>
          <a:xfrm>
            <a:off x="755640" y="429264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ol4"/>
          <p:cNvPicPr/>
          <p:nvPr/>
        </p:nvPicPr>
        <p:blipFill>
          <a:blip r:embed="rId2"/>
          <a:stretch/>
        </p:blipFill>
        <p:spPr>
          <a:xfrm>
            <a:off x="5940360" y="4149720"/>
            <a:ext cx="2452680" cy="18003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2:52:36Z</dcterms:created>
  <dc:creator>user</dc:creator>
  <dc:description/>
  <cp:keywords>"PowerLexis" - Презентационное агентство</cp:keywords>
  <dc:language>en-US</dc:language>
  <cp:lastModifiedBy>LEGION</cp:lastModifiedBy>
  <dcterms:modified xsi:type="dcterms:W3CDTF">2015-01-05T09:30:40Z</dcterms:modified>
  <cp:revision>9</cp:revision>
  <dc:subject/>
  <dc:title>Слайд 1</dc:title>
</cp:coreProperties>
</file>