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1E38-6509-4AD1-90BE-92A3528009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закономерности модифик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: Мииккулайнен М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4201-8555-4091-B208-BAAA643061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Цель</a:t>
            </a: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сформулировать знания о модификационной изменчивости и ее основных характеристик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главные причины возникновения модифик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основные закономерности взаимодействия организма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ть навыки статистической обработки в изучении изменчивости призн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основные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ие модификационную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AFB3-93E7-4BDF-B281-89C63DA4FD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это результат взаимодействия условий среды и гено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7E1C-3C66-40E1-BC1C-F545E280E1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, в которых возможно изменение признака у данного генотипа называется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нормой реа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яд изменчивости признака называется </a:t>
            </a:r>
            <a:r>
              <a:rPr b="0" lang="ru-RU" sz="1600" spc="-1" strike="noStrike">
                <a:solidFill>
                  <a:srgbClr val="009900"/>
                </a:solidFill>
                <a:latin typeface="Calibri"/>
              </a:rPr>
              <a:t>вариационным ряд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A359-1043-440E-B6E7-4629CADBA5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одификационную изменчивость можно представить граф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вариационной крив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794-E859-42F4-AFC5-42001D7D5D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рафическое выражение изменчивости при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B35-AB8E-402D-A43F-0AB095CFC9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основной параметр и определяется по следующей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A4CE-2C69-4D6D-B2B1-A5099507F0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признаки отличаются пределами изменчивости под влиянием внешних усло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реакции определяется генот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C45F-62F0-42C5-A62D-8B33D6A911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BCE-661E-47DF-ABE8-8D025600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8EE-4464-4871-9007-57BB75E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47F-706D-4C12-A9B7-CA72FA8E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674-3D4E-4E3C-8C90-B101742E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D5F5-B4A6-40FF-859C-CF54E67B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1109-D42E-4AAA-B4D3-A48419A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3EDD-6332-4D5E-9F10-AE1E683A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40A0-977E-417F-AD8D-DC24EDA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393A-CFA4-421B-B3D0-EC848E5B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D52E-90B1-4F35-B4B9-6A3BD1B7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9878-A52B-4868-9ADA-FD54E69E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680-2938-41CF-8A71-8ACF65CE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4FA6-17FA-4099-8603-AD920FE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A1A7-4A2E-4EBB-A609-361F11B5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2174-B517-42F6-9AE4-ED4E8E43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C994-98FA-4DC1-8883-77D04215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8B07-C6B0-44BF-855E-7BD235BB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04C-CFA2-4044-B229-831349DB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F84-6CEF-4943-B288-60987303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048-9EA8-48AC-8E34-D33EAAD3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923-73AB-42FE-86FB-F04FFFCC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474-D376-4A80-A15D-9953E66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629-A0F7-43B5-87FA-F25EEF4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12C-018B-49B6-ACC1-D806880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827-5C64-4FAE-B1AA-15DB6044A2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AED-4946-4CBC-AA16-68BD02BEF1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татистические закономерности модификационной изменчив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к биолог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0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: Мииккулайнен М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ь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сформулировать знания о модификационной изменчивости и ее основных характеристика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главные причины возникновения модифик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снить основные закономерности взаимодействия организма и 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ботать навыки статистической обработки в изучении изменчивости призна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ь основные понят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ющие модификационную изменчив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66680" y="685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одифик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это результат взаимодействия условий среды и гено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198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886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10080" y="2438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65530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й фен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8"/>
          <p:cNvGraphicFramePr/>
          <p:nvPr/>
        </p:nvGraphicFramePr>
        <p:xfrm>
          <a:off x="1752480" y="3581280"/>
          <a:ext cx="26290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26290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9"/>
          <p:cNvGraphicFramePr/>
          <p:nvPr/>
        </p:nvGraphicFramePr>
        <p:xfrm>
          <a:off x="5791320" y="3657600"/>
          <a:ext cx="191448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1914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066680" y="2286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ы, в которых возможно изменение признака у данного генотипа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нормой реа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 изменчивости признака называется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ым ря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лавровишня"/>
          <p:cNvPicPr/>
          <p:nvPr/>
        </p:nvPicPr>
        <p:blipFill>
          <a:blip r:embed="rId1"/>
          <a:stretch/>
        </p:blipFill>
        <p:spPr>
          <a:xfrm>
            <a:off x="1066680" y="3352680"/>
            <a:ext cx="7317000" cy="2727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066680" y="4572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Модификационную изменчивость можно представить графиче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1337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ческое выражение изменчивости признака, отражающее размах вариации и частоту встречаемости называют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вариационной кри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3962520"/>
          <a:ext cx="6095880" cy="1422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46"/>
          <p:cNvSpPr/>
          <p:nvPr/>
        </p:nvSpPr>
        <p:spPr>
          <a:xfrm>
            <a:off x="1447920" y="5715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ли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7"/>
          <p:cNvSpPr/>
          <p:nvPr/>
        </p:nvSpPr>
        <p:spPr>
          <a:xfrm>
            <a:off x="5334120" y="5638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частота встречаем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1219320" y="7621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рафическое выражение изменчивости призн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136520" y="1747800"/>
          <a:ext cx="6910560" cy="3809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6520" y="1747800"/>
                    <a:ext cx="6910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7"/>
          <p:cNvGraphicFramePr/>
          <p:nvPr/>
        </p:nvGraphicFramePr>
        <p:xfrm>
          <a:off x="1143000" y="1828800"/>
          <a:ext cx="6873840" cy="3787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828800"/>
                    <a:ext cx="6873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1" name="AutoShape 11"/>
          <p:cNvCxnSpPr/>
          <p:nvPr/>
        </p:nvCxnSpPr>
        <p:spPr>
          <a:xfrm>
            <a:off x="2133360" y="4876560"/>
            <a:ext cx="571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Text Box 12"/>
          <p:cNvSpPr/>
          <p:nvPr/>
        </p:nvSpPr>
        <p:spPr>
          <a:xfrm>
            <a:off x="2590920" y="51735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388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ах вар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609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Для определения средней величины признака определяется средняя арифметическая – 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16765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представляет собой основной параметр и определяется по следующей форму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8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0" y="3200400"/>
            <a:ext cx="152388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48320" y="274320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64832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95480" y="2666880"/>
            <a:ext cx="4038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914400" y="48769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91440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600200" y="49528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1447920" y="4572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*1 + 3*3 + 4*9 + 5*20 + 6*35 + 7*19 + 8*8 + 9*3 + 10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243828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7467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276720" y="5715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= 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295280" y="685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371600" y="1905120"/>
            <a:ext cx="7086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ные признаки отличаются пределами изменчивости под влиянием внешних усло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 реакции определяется генотип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ификационная изменчивость в естественных условиях носит приспособительный харак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е закономерностей модификационной изменчивости имеет большое практическое значение, так как позволяет предвидеть и заранее планировать многие показа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9:37:51Z</dcterms:created>
  <dc:creator>1</dc:creator>
  <dc:description/>
  <dc:language>en-US</dc:language>
  <cp:lastModifiedBy>LEGION</cp:lastModifiedBy>
  <dcterms:modified xsi:type="dcterms:W3CDTF">2015-01-05T09:32:06Z</dcterms:modified>
  <cp:revision>21</cp:revision>
  <dc:subject/>
  <dc:title>Статистические закономерности модификационной изменчивости</dc:title>
</cp:coreProperties>
</file>