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6B08-179C-439C-A21C-584B0E5BEA51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ff"/>
                </a:solidFill>
                <a:latin typeface="Calibri"/>
              </a:rPr>
              <a:t>Гипертиреоз-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болевание в основе , которого лежит гиперфункция щитовидной железы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ff"/>
                </a:solidFill>
                <a:latin typeface="Calibri"/>
              </a:rPr>
              <a:t>Причин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80% больных имеют в анамнезе острую хроническую психическую травму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екционный фактор: тяжелая ангина, грипп, корь, коклюш, ревмат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ледственная предрасполож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резмерная инсоляция и эндокринные сдви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1AA0-7AB5-49E8-8CD1-9D9FF04D73A0}" type="slidenum">
              <a:rPr b="0" lang="uk-UA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ffff"/>
                </a:solidFill>
                <a:latin typeface="Calibri"/>
              </a:rPr>
              <a:t>Изменения  в других систем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5B38-C8C9-4946-B7FB-4B457B612FF7}" type="slidenum">
              <a:rPr b="0" lang="uk-UA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ff"/>
                </a:solidFill>
                <a:latin typeface="Calibri"/>
              </a:rPr>
              <a:t>Течение заболевания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ериод компенсаций и декомпенс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928F-9E94-46AD-B641-3631E7A28B07}" type="slidenum">
              <a:rPr b="0" lang="uk-UA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ff"/>
                </a:solidFill>
                <a:latin typeface="Calibri"/>
              </a:rPr>
              <a:t>Лечение -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угнетение синтеза тиреойдных горм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психический покой, полноценный сон, пит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егать инсоля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ета с высоким содержанием бел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ить чай , кофе , шокола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каментозный мет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теройдные препараты – « Мерказолил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араты йода – « Йод активны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мптоматическая терапия: гипотензивные , антигистаминные, транквилизаторы, анабол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рургический метод – резекция части ткани щитовидной желе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7891-B353-44B7-B80E-20CCA347FEA6}" type="slidenum">
              <a:rPr b="0" lang="uk-UA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Calibri"/>
              </a:rPr>
              <a:t>Степени увелич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-щитовидная железа не прощупыв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щитовидная железа прощупывается особенно ее переше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-увеличение железы определяется при ощупывании и глот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-увеличение железы заметно при осмот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-изменение конфигурации или зоб ясен вид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-зоб достигает больших разм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2184-DEE2-4037-AA58-A659550C577A}" type="slidenum">
              <a:rPr b="0" lang="uk-UA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F04D-FE4F-421C-94FC-D8E4AB3D0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C386-F8D4-44B3-981C-C8958E91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FCB1-C7C1-46EF-BC31-766505C6C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E8E4-23DB-4B1B-A5B4-47410356B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6230-3B9F-48E9-8990-C2E4C3803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3665-D2FA-433A-906E-E8E0B8D6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C228-BE19-4C6F-8DB2-55F61D27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7271-E547-468A-9BC3-DFE4FFA2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46F5-734D-4C4F-B820-31003D40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223B-F2EA-483D-801E-7F25203B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FEFE-FE45-42E8-8596-0E5C24DE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931B-77B0-46D6-A7B1-20F0A809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0F833-36CD-4267-A3BD-81877817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AA95-6D5D-4432-9EEF-732D6717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A5767-860A-44C0-9FCB-3A590C11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F9B9-2099-4D09-A32A-2DA899072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373C-702E-4695-AECC-5614F7E79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443F-9BD3-4CB8-8D2C-950A51D1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AB09-F8FB-40A6-927E-91EF4386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7F80-9E21-4E8C-89E0-821061D4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60CE-4F77-4D20-8E43-706AECCC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6E88-DEC8-4A99-91CF-0A2E7CC8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7D69-7BBB-45AB-8CCC-E6E4CC5E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A8B0-4064-4C17-98FD-67D1D4CF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CC04-25E0-46B9-A147-F7CC4458437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CCE0-C2B5-4EB7-9C4C-849D467E46FC}" type="slidenum">
              <a:rPr b="0" lang="ru-RU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iensmed.ru/news/post_new1466.htm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21&amp;text=&#1090;&#1080;&#1088;&#1077;&#1086;&#1090;&#1086;&#1082;&#1089;&#1080;&#1082;&#1086;&#1079;&amp;spsite=fictionbook.ru&amp;img_url=lib.rus.ec%2Fi%2F90%2F157290%2Fi_014.jpg&amp;rpt=simage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ffff"/>
                </a:solidFill>
                <a:latin typeface="Arial"/>
              </a:rPr>
              <a:t>Гипертиреоз-</a:t>
            </a:r>
            <a:r>
              <a:rPr b="0" lang="ru-RU" sz="2400" spc="-1" strike="noStrike">
                <a:solidFill>
                  <a:srgbClr val="d1ddd4"/>
                </a:solidFill>
                <a:latin typeface="Arial"/>
              </a:rPr>
              <a:t>заболевание в основе , которого лежит гиперфункция щитовидной железы.</a:t>
            </a:r>
            <a:br>
              <a:rPr sz="2400"/>
            </a:br>
            <a:endParaRPr b="0" lang="en-US" sz="2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ffff"/>
                </a:solidFill>
                <a:latin typeface="Verdana"/>
              </a:rPr>
              <a:t>Причины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86c0c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До 80% больных имеют в анамнезе острую хроническую психическую травму</a:t>
            </a:r>
            <a:r>
              <a:rPr b="0" lang="ru-RU" sz="2400" spc="-1" strike="noStrike">
                <a:solidFill>
                  <a:srgbClr val="f8f8f8"/>
                </a:solidFill>
                <a:latin typeface="Verdana"/>
              </a:rPr>
              <a:t>.</a:t>
            </a:r>
            <a:r>
              <a:rPr b="0" lang="ru-RU" sz="2800" spc="-1" strike="noStrike">
                <a:solidFill>
                  <a:srgbClr val="f8f8f8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86c0c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Инфекционный фактор: тяжелая ангина, грипп, корь, коклюш, ревматизм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86c0c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Наследственная предрасположенность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86c0c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Чрезмерная инсоляция и эндокринные сдвиги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23" name="Picture 14" descr="html_pic"/>
          <p:cNvPicPr/>
          <p:nvPr/>
        </p:nvPicPr>
        <p:blipFill>
          <a:blip r:embed="rId1"/>
          <a:stretch/>
        </p:blipFill>
        <p:spPr>
          <a:xfrm>
            <a:off x="4932360" y="2060640"/>
            <a:ext cx="3887640" cy="324144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000" y="277560"/>
            <a:ext cx="8002440" cy="48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ffff"/>
                </a:solidFill>
                <a:latin typeface="Arial"/>
              </a:rPr>
              <a:t>Изменения  в других системах</a:t>
            </a:r>
            <a:endParaRPr b="0" lang="en-US" sz="3600" spc="-1" strike="noStrike">
              <a:solidFill>
                <a:srgbClr val="d1ddd4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539640" y="981000"/>
          <a:ext cx="8229600" cy="5962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311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Глазные симптомы: </a:t>
                      </a: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глазные щели широко раскрыты, экзофтальм, повышен блеск глаз, редкое мигание, отставание верхнего века от края радужки, нарушение конвергенции. 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Расстройства нервно психической   деятельности и ЦНС: </a:t>
                      </a: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конфликтные, капризные, неусидчивые, характерно дрожание пальцев вытянутых рук, дрожание головы, губ , языка , головные боли, головокружение, светобоязнь, нарушение сна, двоение, резь в глазах.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944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Нарушение со стороны ССС:  </a:t>
                      </a: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тахикардия , АД- систолическое увеличено,  диастолическое понижено , границы сердца расширены в лево. У 15-20% развивается недостаточность кровообращения.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Нарушение со стороны органов дыхания: </a:t>
                      </a: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аллергические заболевания, бронхиальная астма, одышка. 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706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Нарушение со стороны органов пищеварения: </a:t>
                      </a: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боли в животе,  иногда рвота, неустойчивый стул. 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Нарушение функции половых желез: </a:t>
                      </a: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у женщин часто развивается менорагия, аменорея, бесплодие. В тяжелых случаях атрофия матки, яичников, молочных желез. У мужчин атрофия яичек, предстательной железы. потонция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7" name="Picture 43" descr="http://im8-tub.yandex.net/i?id=66660830&amp;tov=8"/>
          <p:cNvPicPr/>
          <p:nvPr/>
        </p:nvPicPr>
        <p:blipFill>
          <a:blip r:embed="rId1"/>
          <a:stretch/>
        </p:blipFill>
        <p:spPr>
          <a:xfrm>
            <a:off x="2484360" y="2060640"/>
            <a:ext cx="1987560" cy="100944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ffff"/>
                </a:solidFill>
                <a:latin typeface="Arial"/>
              </a:rPr>
              <a:t>Течение заболевания</a:t>
            </a:r>
            <a:r>
              <a:rPr b="0" lang="ru-RU" sz="1800" spc="-1" strike="noStrike">
                <a:solidFill>
                  <a:srgbClr val="d1ddd4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d1ddd4"/>
                </a:solidFill>
                <a:latin typeface="Arial"/>
              </a:rPr>
              <a:t>- период компенсаций и декомпенсаций.</a:t>
            </a:r>
            <a:endParaRPr b="0" lang="en-US" sz="2400" spc="-1" strike="noStrike">
              <a:solidFill>
                <a:srgbClr val="d1ddd4"/>
              </a:solidFill>
              <a:latin typeface="Arial"/>
            </a:endParaRPr>
          </a:p>
        </p:txBody>
      </p:sp>
      <p:grpSp>
        <p:nvGrpSpPr>
          <p:cNvPr id="150" name="Organization Chart 8"/>
          <p:cNvGrpSpPr/>
          <p:nvPr/>
        </p:nvGrpSpPr>
        <p:grpSpPr>
          <a:xfrm>
            <a:off x="457200" y="1600200"/>
            <a:ext cx="8228880" cy="4529160"/>
            <a:chOff x="457200" y="1600200"/>
            <a:chExt cx="8228880" cy="4529160"/>
          </a:xfrm>
        </p:grpSpPr>
        <p:cxnSp>
          <p:nvCxnSpPr>
            <p:cNvPr id="151" name="_s1028"/>
            <p:cNvCxnSpPr>
              <a:stCxn id="152" idx="0"/>
              <a:endCxn id="153" idx="2"/>
            </p:cNvCxnSpPr>
            <p:nvPr/>
          </p:nvCxnSpPr>
          <p:spPr>
            <a:xfrm flipV="1" rot="16200000">
              <a:off x="5558400" y="2423880"/>
              <a:ext cx="906480" cy="2880720"/>
            </a:xfrm>
            <a:prstGeom prst="bentConnector3">
              <a:avLst>
                <a:gd name="adj1" fmla="val 12594"/>
              </a:avLst>
            </a:prstGeom>
            <a:ln w="9360">
              <a:solidFill>
                <a:srgbClr val="f8f8f8"/>
              </a:solidFill>
              <a:miter/>
            </a:ln>
          </p:spPr>
        </p:cxnSp>
        <p:cxnSp>
          <p:nvCxnSpPr>
            <p:cNvPr id="154" name="_s1029"/>
            <p:cNvCxnSpPr>
              <a:stCxn id="155" idx="0"/>
              <a:endCxn id="153" idx="1"/>
            </p:cNvCxnSpPr>
            <p:nvPr/>
          </p:nvCxnSpPr>
          <p:spPr>
            <a:xfrm flipV="1">
              <a:off x="4571280" y="3411360"/>
              <a:ext cx="3240" cy="906480"/>
            </a:xfrm>
            <a:prstGeom prst="bentConnector2">
              <a:avLst/>
            </a:prstGeom>
            <a:ln w="9360">
              <a:solidFill>
                <a:srgbClr val="f8f8f8"/>
              </a:solidFill>
              <a:miter/>
            </a:ln>
          </p:spPr>
        </p:cxnSp>
        <p:cxnSp>
          <p:nvCxnSpPr>
            <p:cNvPr id="156" name="_s1030"/>
            <p:cNvCxnSpPr>
              <a:stCxn id="157" idx="0"/>
              <a:endCxn id="153" idx="0"/>
            </p:cNvCxnSpPr>
            <p:nvPr/>
          </p:nvCxnSpPr>
          <p:spPr>
            <a:xfrm flipH="1" flipV="1" rot="5400000">
              <a:off x="2678040" y="2424240"/>
              <a:ext cx="906480" cy="2880720"/>
            </a:xfrm>
            <a:prstGeom prst="bentConnector3">
              <a:avLst>
                <a:gd name="adj1" fmla="val 12594"/>
              </a:avLst>
            </a:prstGeom>
            <a:ln w="9360">
              <a:solidFill>
                <a:srgbClr val="f8f8f8"/>
              </a:solidFill>
              <a:miter/>
            </a:ln>
          </p:spPr>
        </p:cxnSp>
        <p:sp>
          <p:nvSpPr>
            <p:cNvPr id="153" name="_s1031"/>
            <p:cNvSpPr/>
            <p:nvPr/>
          </p:nvSpPr>
          <p:spPr>
            <a:xfrm>
              <a:off x="3337200" y="1600200"/>
              <a:ext cx="2468520" cy="1811520"/>
            </a:xfrm>
            <a:prstGeom prst="bevel">
              <a:avLst>
                <a:gd name="adj" fmla="val 12500"/>
              </a:avLst>
            </a:prstGeom>
            <a:solidFill>
              <a:srgbClr val="3399ff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8f8f8"/>
                  </a:solidFill>
                  <a:latin typeface="Verdana"/>
                </a:rPr>
                <a:t>По степени тяжести</a:t>
              </a:r>
              <a:endParaRPr b="0" lang="en-US" sz="20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7" name="_s1032"/>
            <p:cNvSpPr/>
            <p:nvPr/>
          </p:nvSpPr>
          <p:spPr>
            <a:xfrm>
              <a:off x="457200" y="4317840"/>
              <a:ext cx="2468520" cy="1811520"/>
            </a:xfrm>
            <a:prstGeom prst="bevel">
              <a:avLst>
                <a:gd name="adj" fmla="val 12500"/>
              </a:avLst>
            </a:prstGeom>
            <a:solidFill>
              <a:srgbClr val="0066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8f8f8"/>
                  </a:solidFill>
                  <a:latin typeface="Verdana"/>
                </a:rPr>
                <a:t>Легкая</a:t>
              </a:r>
              <a:endParaRPr b="0" lang="en-US" sz="21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5" name="_s1033"/>
            <p:cNvSpPr/>
            <p:nvPr/>
          </p:nvSpPr>
          <p:spPr>
            <a:xfrm>
              <a:off x="3337200" y="4317840"/>
              <a:ext cx="2468520" cy="1811520"/>
            </a:xfrm>
            <a:prstGeom prst="bevel">
              <a:avLst>
                <a:gd name="adj" fmla="val 12500"/>
              </a:avLst>
            </a:prstGeom>
            <a:solidFill>
              <a:srgbClr val="0066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8f8f8"/>
                  </a:solidFill>
                  <a:latin typeface="Verdana"/>
                </a:rPr>
                <a:t>Средняя</a:t>
              </a:r>
              <a:endParaRPr b="0" lang="en-US" sz="21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2" name="_s1034"/>
            <p:cNvSpPr/>
            <p:nvPr/>
          </p:nvSpPr>
          <p:spPr>
            <a:xfrm>
              <a:off x="6217560" y="4317840"/>
              <a:ext cx="2468520" cy="1811520"/>
            </a:xfrm>
            <a:prstGeom prst="bevel">
              <a:avLst>
                <a:gd name="adj" fmla="val 12500"/>
              </a:avLst>
            </a:prstGeom>
            <a:solidFill>
              <a:srgbClr val="0066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8f8f8"/>
                  </a:solidFill>
                  <a:latin typeface="Verdana"/>
                </a:rPr>
                <a:t>Тяжелая</a:t>
              </a:r>
              <a:endParaRPr b="0" lang="en-US" sz="21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ffff"/>
                </a:solidFill>
                <a:latin typeface="Arial"/>
              </a:rPr>
              <a:t>Лечение -</a:t>
            </a:r>
            <a:r>
              <a:rPr b="0" lang="ru-RU" sz="3200" spc="-1" strike="noStrike">
                <a:solidFill>
                  <a:srgbClr val="d1ddd4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d1ddd4"/>
                </a:solidFill>
                <a:latin typeface="Arial"/>
              </a:rPr>
              <a:t>направленно</a:t>
            </a:r>
            <a:r>
              <a:rPr b="0" lang="ru-RU" sz="3200" spc="-1" strike="noStrike">
                <a:solidFill>
                  <a:srgbClr val="d1ddd4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d1ddd4"/>
                </a:solidFill>
                <a:latin typeface="Arial"/>
              </a:rPr>
              <a:t>на угнетение синтеза тиреойдных гормонов.</a:t>
            </a:r>
            <a:endParaRPr b="0" lang="en-US" sz="18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Обеспечить психический покой, полноценный сон, питание.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Избегать инсоляции.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Диета с высоким содержанием белка.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Ограничить чай , кофе , шоколад. 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Медикаментозный метод: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Антитеройдные препараты – « Мерказолил» 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Препараты йода – « Йод активный»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Симптоматическая терапия: гипотензивные , антигистаминные, транквилизаторы, анаболики.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2920" y="142848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Хирургический метод – резекция части ткани щитовидной железы.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62" name="Picture 32" descr="Iodum_enl"/>
          <p:cNvPicPr/>
          <p:nvPr/>
        </p:nvPicPr>
        <p:blipFill>
          <a:blip r:embed="rId1"/>
          <a:stretch/>
        </p:blipFill>
        <p:spPr>
          <a:xfrm>
            <a:off x="4932360" y="3071880"/>
            <a:ext cx="3024360" cy="150012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SpidInfo-192-diffuz_zob"/>
          <p:cNvPicPr/>
          <p:nvPr/>
        </p:nvPicPr>
        <p:blipFill>
          <a:blip r:embed="rId1"/>
          <a:stretch/>
        </p:blipFill>
        <p:spPr>
          <a:xfrm>
            <a:off x="2771640" y="1052640"/>
            <a:ext cx="4248360" cy="43210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hypert012401-122566454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052640"/>
            <a:ext cx="4176720" cy="43210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Thyroid-c-big"/>
          <p:cNvPicPr/>
          <p:nvPr/>
        </p:nvPicPr>
        <p:blipFill>
          <a:blip r:embed="rId1"/>
          <a:stretch/>
        </p:blipFill>
        <p:spPr>
          <a:xfrm>
            <a:off x="3059280" y="1197000"/>
            <a:ext cx="4176720" cy="43210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http://im8-tub.yandex.net/i?id=90711165&amp;tov=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341360"/>
            <a:ext cx="4176720" cy="43912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81054a53b7891780b"/>
          <p:cNvPicPr/>
          <p:nvPr/>
        </p:nvPicPr>
        <p:blipFill>
          <a:blip r:embed="rId1"/>
          <a:stretch/>
        </p:blipFill>
        <p:spPr>
          <a:xfrm>
            <a:off x="2627280" y="981000"/>
            <a:ext cx="4176720" cy="439272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Zob"/>
          <p:cNvPicPr/>
          <p:nvPr/>
        </p:nvPicPr>
        <p:blipFill>
          <a:blip r:embed="rId1"/>
          <a:stretch/>
        </p:blipFill>
        <p:spPr>
          <a:xfrm>
            <a:off x="2916360" y="981000"/>
            <a:ext cx="4176720" cy="439272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Shitovidnaja_zheleza_ru_Gepertireoz"/>
          <p:cNvPicPr/>
          <p:nvPr/>
        </p:nvPicPr>
        <p:blipFill>
          <a:blip r:embed="rId1"/>
          <a:stretch/>
        </p:blipFill>
        <p:spPr>
          <a:xfrm>
            <a:off x="1908000" y="0"/>
            <a:ext cx="540072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ff"/>
                </a:solidFill>
                <a:latin typeface="Arial"/>
              </a:rPr>
              <a:t>Степени увеличения</a:t>
            </a:r>
            <a:endParaRPr b="0" lang="en-US" sz="36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О-щитовидная железа не прощупывается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1-щитовидная железа прощупывается особенно ее перешеек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2-увеличение железы определяется при ощупывании и глотании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3-увеличение железы заметно при осмотре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4-изменение конфигурации или зоб ясен виден 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5-зоб достигает больших размеров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41" name="Picture 66" descr="y0fyluwp_new-1228391469"/>
          <p:cNvPicPr/>
          <p:nvPr/>
        </p:nvPicPr>
        <p:blipFill>
          <a:blip r:embed="rId1"/>
          <a:stretch/>
        </p:blipFill>
        <p:spPr>
          <a:xfrm>
            <a:off x="468360" y="4365720"/>
            <a:ext cx="1800000" cy="1582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7" descr="16719_pub-1228390836"/>
          <p:cNvPicPr/>
          <p:nvPr/>
        </p:nvPicPr>
        <p:blipFill>
          <a:blip r:embed="rId2"/>
          <a:stretch/>
        </p:blipFill>
        <p:spPr>
          <a:xfrm>
            <a:off x="3635280" y="4941720"/>
            <a:ext cx="1905120" cy="1557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9" descr="30024-1228391236"/>
          <p:cNvPicPr/>
          <p:nvPr/>
        </p:nvPicPr>
        <p:blipFill>
          <a:blip r:embed="rId3"/>
          <a:stretch/>
        </p:blipFill>
        <p:spPr>
          <a:xfrm>
            <a:off x="6804000" y="4365720"/>
            <a:ext cx="1905120" cy="158256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4:38:14Z</dcterms:created>
  <dc:creator>Customer</dc:creator>
  <dc:description/>
  <dc:language>en-US</dc:language>
  <cp:lastModifiedBy>LEGION</cp:lastModifiedBy>
  <dcterms:modified xsi:type="dcterms:W3CDTF">2014-11-07T11:14:41Z</dcterms:modified>
  <cp:revision>24</cp:revision>
  <dc:subject/>
  <dc:title>Заболевание щитовидной железы</dc:title>
</cp:coreProperties>
</file>