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4877-0A8A-4AE2-91D1-ECEBF4540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F9AD-7A6C-4CE2-BA4D-A4D1CD745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предложения товар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предложение товара сократится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проведена компьютеризация процесса производства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2) продавцы ожидают в скором будущем повышения цен на свой тов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F024-6994-4AA3-942B-761DC4AB0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A940-14FF-42B9-AC2C-8455D40ED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Деньг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особый товар, выполняющий роль всеобщего эквивалента при обмене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Банк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3CA-B2D5-439C-AA85-E9089CD05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– главный внутренний источник финансирования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ёмные средства других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ое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бюджета на возвр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внебюджетных фо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7A9A-EA0D-4A63-837E-1A9525555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Ценная бумага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ценной бума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лощает част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бличная досто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233D-63EC-4A07-87D0-E075A50A9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работная плата – форма материального вознаграждения за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на рынк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квалификаци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жизненных благ, необходимых для воспроизводства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ость экономических и социальных условий жизн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CF45-99E6-4534-AE14-BB2F512C4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мерение безработицы и уровня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66E9-79DC-49DA-8285-74F66AF71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о-экономическое явление, характеризу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работы для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C412-485E-4B86-A6F3-ED1C52A4B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Инфляци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88D0-FA7C-44E7-916A-288EDBEE4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Экономический рост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ительный пер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773E-AF47-4E8C-AAA1-821DDB710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кодифик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экономическ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рыночный механизм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за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нституты. Банков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инансировани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 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причины и последствия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 и развитие. Понятие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BD2E-B9C9-46CD-9516-AFF42717F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 эффекты и обществен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нешние или побочные эффекты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900B-529E-4FA0-8FED-23E19F155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ЛОГИ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2771-B56C-450C-99D0-61150F3EE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порциональ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сумма налога пропорциональна доходам работни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е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ниже дох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выше дох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826A-754D-41BB-9A41-3BDEE282C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Государственный бюдж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смета доходов и расходов государства на определённ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Сбалансирован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равны доходам. Это самое оптимальное состояние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Де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выше доходов. Дефицит – разность расходов и дохо­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Про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доходы бюджета выше расходов. Профицит – разность доходов и расхо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3C36-08DE-48AF-91D1-80C713AF3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ировая экономика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лобализация экономики — одна из закономерностей мирового развит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взаимозависимость экономик различных стран связ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7C6-6257-4165-A14A-2CF5B81B7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D82C-AD56-43E1-A67D-05311D5A9D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9A8E-CF08-4474-BFC6-42DBFCCCD8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Факторы производства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D5F4-6A67-410F-88C9-4AEEE0FD2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кономическ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6AD3-42D9-40C8-86F1-DFB446AF5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ынок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онкуренция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 (свободная конкуренция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стическая конкуренц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лиг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ует множество мелких фирм, предлагающих на рынок однородную продукци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доступ той или другой фирмы к информации о состоянии рынка, о ценах на товары (услуги), ресурсы, о затратах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вступление новых фирм в отрасль, вход и выход из отрасли свободе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одавец не может осуществить контроль над ценами, конкурентная фирма не может установить рыночную цен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Для вступления других фирм в отрасль существуют значительные барьер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DA7E-3FE3-4C57-AEBD-1042286F6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рос – подкреплённое денежной возможностью желание, намерение покупателей, потребителей приобрести данный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ложение – желание или намерение производителя (продавца) предложить к продаже свои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при которой величина спроса равна величин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 величину пред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35CE-3985-4487-B280-EFB7F28AA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спроса на това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спрос на товар возрастет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товар вышел из моды                   2) доходы покупателей воз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C5D3-B6E1-4256-9CF3-4FC5E528F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B1E-4C5F-4F7A-9F1A-128F41DB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0C0-B275-4612-BE32-723CD178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916-7FC3-49E3-9398-3747F0E9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5AC-2882-4867-A3CE-67807F97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9D76-40A0-48F9-93F0-D5C666F2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EA35-A0F9-4137-BE2D-64E03453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5DDF-536E-4E84-827E-3C8EFFE9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168C-2E84-4737-87E7-1A2AE8C4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43D4-12B6-4271-BAFE-39425A0D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6770-03BB-4CF7-8225-F79EFEFF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A307-6765-4DD2-9709-E2E546B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066-9DA7-4EB8-AAE6-CF4F83AA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DD56-BC43-425F-89CD-AF07AC9A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2DC9-DF38-446B-8730-829F27E1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3C0E-9F89-4CBD-9307-F173F279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37B4-4983-419C-9884-176557BB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7CFF-303D-4439-A59B-E6E76121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3CC-32D5-498B-B664-6097C354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BD8-A57C-4CB4-817E-421F2D83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B76-5C21-4714-8970-7197CF20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602-2BB9-4F78-BBBD-8AEAFC24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2AF-B5A4-4930-9A5D-6C430ECA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7B7-57D8-4B5F-8B1A-9E034D1A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1F9-B88E-458C-AFC6-DC39EC8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9378-D423-41D3-BCAE-CA6092B3E7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7457-E63E-4272-BE38-5DA19763E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/>
            <a:ahLst/>
            <a:rect l="l" t="t" r="r" b="b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/>
            <a:ahLst/>
            <a:rect l="l" t="t" r="r" b="b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8BF1-E858-44D9-A978-ED116ECBC1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CF41-61B9-469E-8AB5-32B346749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tersburgcity.com/images/docs/21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.vigoda.ru/img/offer/pictures/010/801/10801_0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gd-biz.ru/upload/medialibrary/024/2.pn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usedcars.ru/picture/news/large/43496/43496-1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www.media.nakanune.ru/images/pictures/image_big_23604.jpg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inok-truda.narod.ru/images/sostav_rinka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rt-printers.ru/img/11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523880" y="1600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ельная ли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2057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ческая сфер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480" y="1522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Ичалк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181480" y="4191120"/>
            <a:ext cx="3733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нюшин Михаил Евген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Ичалк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Ичалки Перевозского район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1079640" y="14040"/>
            <a:ext cx="67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предложения товар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52280" y="4428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_111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2462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228600" y="4220280"/>
            <a:ext cx="8686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предложение товара сократится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проведена компьютеризация процесса производства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2) продавцы ожидают в скором будущем повышения цен на свой тов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52280" y="5411520"/>
            <a:ext cx="8839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152280" y="2282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57200" y="1382400"/>
            <a:ext cx="3352680" cy="39344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419720" y="1302120"/>
            <a:ext cx="4043160" cy="2562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3520" y="54100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H="1">
            <a:off x="1981080" y="838080"/>
            <a:ext cx="198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4495680" y="83808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Картинка 10 из 9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038480"/>
            <a:ext cx="2102040" cy="25909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3733920" y="152280"/>
            <a:ext cx="525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Деньги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это особый товар, выполняющий роль всеобщего эквивалента при обмене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Organization Chart 7"/>
          <p:cNvGrpSpPr/>
          <p:nvPr/>
        </p:nvGrpSpPr>
        <p:grpSpPr>
          <a:xfrm>
            <a:off x="228600" y="914400"/>
            <a:ext cx="8686440" cy="1675800"/>
            <a:chOff x="228600" y="914400"/>
            <a:chExt cx="8686440" cy="1675800"/>
          </a:xfrm>
        </p:grpSpPr>
        <p:cxnSp>
          <p:nvCxnSpPr>
            <p:cNvPr id="235" name="_s3076"/>
            <p:cNvCxnSpPr>
              <a:stCxn id="236" idx="0"/>
              <a:endCxn id="237" idx="3"/>
            </p:cNvCxnSpPr>
            <p:nvPr/>
          </p:nvCxnSpPr>
          <p:spPr>
            <a:xfrm flipV="1" rot="16200000">
              <a:off x="6192360" y="-73800"/>
              <a:ext cx="335880" cy="36511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38" name="_s3077"/>
            <p:cNvCxnSpPr>
              <a:stCxn id="239" idx="0"/>
              <a:endCxn id="237" idx="3"/>
            </p:cNvCxnSpPr>
            <p:nvPr/>
          </p:nvCxnSpPr>
          <p:spPr>
            <a:xfrm flipV="1" rot="16200000">
              <a:off x="5297040" y="821520"/>
              <a:ext cx="335880" cy="186048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0" name="_s3078"/>
            <p:cNvCxnSpPr>
              <a:stCxn id="241" idx="0"/>
              <a:endCxn id="237" idx="3"/>
            </p:cNvCxnSpPr>
            <p:nvPr/>
          </p:nvCxnSpPr>
          <p:spPr>
            <a:xfrm flipV="1" rot="16200000">
              <a:off x="4403520" y="1715040"/>
              <a:ext cx="335880" cy="7344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2" name="_s3079"/>
            <p:cNvCxnSpPr>
              <a:stCxn id="243" idx="0"/>
              <a:endCxn id="237" idx="3"/>
            </p:cNvCxnSpPr>
            <p:nvPr/>
          </p:nvCxnSpPr>
          <p:spPr>
            <a:xfrm flipH="1" flipV="1" rot="5400000">
              <a:off x="3510360" y="894960"/>
              <a:ext cx="335880" cy="17143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4" name="_s3080"/>
            <p:cNvCxnSpPr>
              <a:stCxn id="245" idx="0"/>
              <a:endCxn id="237" idx="3"/>
            </p:cNvCxnSpPr>
            <p:nvPr/>
          </p:nvCxnSpPr>
          <p:spPr>
            <a:xfrm flipH="1" flipV="1" rot="5400000">
              <a:off x="2615760" y="360"/>
              <a:ext cx="335880" cy="350316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37" name="_s3081"/>
            <p:cNvSpPr/>
            <p:nvPr/>
          </p:nvSpPr>
          <p:spPr>
            <a:xfrm>
              <a:off x="3804480" y="91440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унк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не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2"/>
            <p:cNvSpPr/>
            <p:nvPr/>
          </p:nvSpPr>
          <p:spPr>
            <a:xfrm>
              <a:off x="2286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о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83"/>
            <p:cNvSpPr/>
            <p:nvPr/>
          </p:nvSpPr>
          <p:spPr>
            <a:xfrm>
              <a:off x="201708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084"/>
            <p:cNvSpPr/>
            <p:nvPr/>
          </p:nvSpPr>
          <p:spPr>
            <a:xfrm>
              <a:off x="380592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коп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085"/>
            <p:cNvSpPr/>
            <p:nvPr/>
          </p:nvSpPr>
          <p:spPr>
            <a:xfrm>
              <a:off x="5594760" y="1919880"/>
              <a:ext cx="15314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теж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6"/>
            <p:cNvSpPr/>
            <p:nvPr/>
          </p:nvSpPr>
          <p:spPr>
            <a:xfrm>
              <a:off x="73818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Миро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день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19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2286000" cy="153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" descr="Картинка 33 из 2692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267080"/>
            <a:ext cx="2523960" cy="2076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2"/>
          <p:cNvSpPr/>
          <p:nvPr/>
        </p:nvSpPr>
        <p:spPr>
          <a:xfrm>
            <a:off x="2362320" y="2666880"/>
            <a:ext cx="6629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Бан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Organization Chart 24"/>
          <p:cNvGrpSpPr/>
          <p:nvPr/>
        </p:nvGrpSpPr>
        <p:grpSpPr>
          <a:xfrm>
            <a:off x="228600" y="2895480"/>
            <a:ext cx="2819160" cy="3504960"/>
            <a:chOff x="228600" y="2895480"/>
            <a:chExt cx="2819160" cy="3504960"/>
          </a:xfrm>
        </p:grpSpPr>
        <p:cxnSp>
          <p:nvCxnSpPr>
            <p:cNvPr id="250" name="_s3089"/>
            <p:cNvCxnSpPr>
              <a:stCxn id="251" idx="2"/>
              <a:endCxn id="252" idx="3"/>
            </p:cNvCxnSpPr>
            <p:nvPr/>
          </p:nvCxnSpPr>
          <p:spPr>
            <a:xfrm rot="10800000">
              <a:off x="1054080" y="3771000"/>
              <a:ext cx="302040" cy="2236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53" name="_s3090"/>
            <p:cNvCxnSpPr>
              <a:stCxn id="254" idx="2"/>
              <a:endCxn id="252" idx="3"/>
            </p:cNvCxnSpPr>
            <p:nvPr/>
          </p:nvCxnSpPr>
          <p:spPr>
            <a:xfrm rot="10800000">
              <a:off x="1054080" y="3771000"/>
              <a:ext cx="302040" cy="922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52" name="_s3091"/>
            <p:cNvSpPr/>
            <p:nvPr/>
          </p:nvSpPr>
          <p:spPr>
            <a:xfrm>
              <a:off x="228600" y="289548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нков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92"/>
            <p:cNvSpPr/>
            <p:nvPr/>
          </p:nvSpPr>
          <p:spPr>
            <a:xfrm>
              <a:off x="1356120" y="420984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Централь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сударствен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3093"/>
            <p:cNvSpPr/>
            <p:nvPr/>
          </p:nvSpPr>
          <p:spPr>
            <a:xfrm>
              <a:off x="1356120" y="552420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2"/>
          <p:cNvSpPr/>
          <p:nvPr/>
        </p:nvSpPr>
        <p:spPr>
          <a:xfrm>
            <a:off x="3200400" y="4191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государственную политику в области эмиссии, кредита, денежного обра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3200400" y="5486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 финансово-кредитные операции на коммерческих нач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Organization Chart 6"/>
          <p:cNvGrpSpPr/>
          <p:nvPr/>
        </p:nvGrpSpPr>
        <p:grpSpPr>
          <a:xfrm>
            <a:off x="304920" y="380880"/>
            <a:ext cx="8686080" cy="1295280"/>
            <a:chOff x="304920" y="380880"/>
            <a:chExt cx="8686080" cy="1295280"/>
          </a:xfrm>
        </p:grpSpPr>
        <p:cxnSp>
          <p:nvCxnSpPr>
            <p:cNvPr id="259" name="_s4100"/>
            <p:cNvCxnSpPr>
              <a:stCxn id="260" idx="0"/>
              <a:endCxn id="261" idx="3"/>
            </p:cNvCxnSpPr>
            <p:nvPr/>
          </p:nvCxnSpPr>
          <p:spPr>
            <a:xfrm flipV="1" rot="16200000">
              <a:off x="5686560" y="-169200"/>
              <a:ext cx="259560" cy="23943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62" name="_s4101"/>
            <p:cNvCxnSpPr>
              <a:stCxn id="263" idx="0"/>
              <a:endCxn id="261" idx="3"/>
            </p:cNvCxnSpPr>
            <p:nvPr/>
          </p:nvCxnSpPr>
          <p:spPr>
            <a:xfrm flipH="1" flipV="1" rot="5400000">
              <a:off x="3348720" y="-113760"/>
              <a:ext cx="259560" cy="22838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61" name="_s4102"/>
            <p:cNvSpPr/>
            <p:nvPr/>
          </p:nvSpPr>
          <p:spPr>
            <a:xfrm>
              <a:off x="2643840" y="38088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источники финансирования бизн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4103"/>
            <p:cNvSpPr/>
            <p:nvPr/>
          </p:nvSpPr>
          <p:spPr>
            <a:xfrm>
              <a:off x="30492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04"/>
            <p:cNvSpPr/>
            <p:nvPr/>
          </p:nvSpPr>
          <p:spPr>
            <a:xfrm>
              <a:off x="498204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4"/>
          <p:cNvSpPr/>
          <p:nvPr/>
        </p:nvSpPr>
        <p:spPr>
          <a:xfrm>
            <a:off x="304920" y="182880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ыль – главный внутренний источник финансирования фи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152280" y="2440080"/>
            <a:ext cx="4191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Картинка 99 из 38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807000"/>
            <a:ext cx="4724640" cy="2898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"/>
          <p:cNvSpPr/>
          <p:nvPr/>
        </p:nvSpPr>
        <p:spPr>
          <a:xfrm>
            <a:off x="48769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029200" y="1905120"/>
            <a:ext cx="388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4952880" y="1828800"/>
            <a:ext cx="39625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диты ба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ёмные средства других предприятий и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е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бюджета на возвратной ос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внебюджетных фон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2" descr="Картинка 59 из 389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495680"/>
            <a:ext cx="2595600" cy="21592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228600" y="214560"/>
            <a:ext cx="853452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Ценная бумага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Diagram 5"/>
          <p:cNvGrpSpPr/>
          <p:nvPr/>
        </p:nvGrpSpPr>
        <p:grpSpPr>
          <a:xfrm>
            <a:off x="520200" y="1600200"/>
            <a:ext cx="8179560" cy="2895480"/>
            <a:chOff x="520200" y="1600200"/>
            <a:chExt cx="8179560" cy="2895480"/>
          </a:xfrm>
        </p:grpSpPr>
        <p:sp>
          <p:nvSpPr>
            <p:cNvPr id="274" name="_s5124"/>
            <p:cNvSpPr/>
            <p:nvPr/>
          </p:nvSpPr>
          <p:spPr>
            <a:xfrm flipH="1">
              <a:off x="256464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5125"/>
            <p:cNvSpPr/>
            <p:nvPr/>
          </p:nvSpPr>
          <p:spPr>
            <a:xfrm>
              <a:off x="520200" y="2685960"/>
              <a:ext cx="2044440" cy="723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екс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5126"/>
            <p:cNvSpPr/>
            <p:nvPr/>
          </p:nvSpPr>
          <p:spPr>
            <a:xfrm>
              <a:off x="4609800" y="340992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5127"/>
            <p:cNvSpPr/>
            <p:nvPr/>
          </p:nvSpPr>
          <p:spPr>
            <a:xfrm>
              <a:off x="3587400" y="3771720"/>
              <a:ext cx="2044440" cy="723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5128"/>
            <p:cNvSpPr/>
            <p:nvPr/>
          </p:nvSpPr>
          <p:spPr>
            <a:xfrm>
              <a:off x="563220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5129"/>
            <p:cNvSpPr/>
            <p:nvPr/>
          </p:nvSpPr>
          <p:spPr>
            <a:xfrm>
              <a:off x="6654600" y="2685960"/>
              <a:ext cx="2045160" cy="723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лиг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5130"/>
            <p:cNvSpPr/>
            <p:nvPr/>
          </p:nvSpPr>
          <p:spPr>
            <a:xfrm flipV="1">
              <a:off x="4609800" y="232344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5131"/>
            <p:cNvSpPr/>
            <p:nvPr/>
          </p:nvSpPr>
          <p:spPr>
            <a:xfrm>
              <a:off x="3587400" y="1600200"/>
              <a:ext cx="2044440" cy="723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к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5132"/>
            <p:cNvSpPr/>
            <p:nvPr/>
          </p:nvSpPr>
          <p:spPr>
            <a:xfrm>
              <a:off x="3587400" y="2685960"/>
              <a:ext cx="2044440" cy="723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Ви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ценных бум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5"/>
          <p:cNvSpPr/>
          <p:nvPr/>
        </p:nvSpPr>
        <p:spPr>
          <a:xfrm>
            <a:off x="5105520" y="464832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и ценной бума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а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лощает частны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чная 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Картинка 1 из 3524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6576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Картинка 7 из 992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04920"/>
            <a:ext cx="7772400" cy="347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3"/>
          <p:cNvSpPr/>
          <p:nvPr/>
        </p:nvSpPr>
        <p:spPr>
          <a:xfrm>
            <a:off x="457200" y="3886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Заработная плата – форма материального вознаграждения за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33520" y="4876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ы, влияющие на величину заработной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04920" y="5257800"/>
            <a:ext cx="8458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ос и предложение на рынк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овень квалификации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жизненных благ, необходимых для воспроизводства рабоче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ость экономических и социальных условий жизни населения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762120" y="4495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минальная                                                     Ре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8"/>
          <p:cNvSpPr/>
          <p:nvPr/>
        </p:nvSpPr>
        <p:spPr>
          <a:xfrm flipH="1">
            <a:off x="2666520" y="4267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>
            <a:off x="4419720" y="426708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10082"/>
                </a:solidFill>
                <a:latin typeface="Calibri"/>
              </a:rPr>
              <a:t>Измерение безработицы и уровня безработицы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457200" y="1295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селение ст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2971800" y="15238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352680" y="1219320"/>
            <a:ext cx="5040360" cy="642600"/>
          </a:xfrm>
          <a:prstGeom prst="rect">
            <a:avLst/>
          </a:prstGeom>
          <a:noFill/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457200" y="213372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1219320" y="27432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3716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004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152280" y="380988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2438280" y="380988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>
            <a:off x="0" y="525780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2057400" y="5257800"/>
            <a:ext cx="201600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914400" y="4724280"/>
            <a:ext cx="21600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523880" y="4724280"/>
            <a:ext cx="136872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800600" y="2971800"/>
            <a:ext cx="3527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5638680" y="380988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8"/>
          <p:cNvSpPr txBox="1"/>
          <p:nvPr/>
        </p:nvSpPr>
        <p:spPr>
          <a:xfrm>
            <a:off x="8077320" y="350532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11" name="WordArt 19"/>
          <p:cNvSpPr txBox="1"/>
          <p:nvPr/>
        </p:nvSpPr>
        <p:spPr>
          <a:xfrm rot="5400000">
            <a:off x="7852320" y="3729960"/>
            <a:ext cx="18252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12" name="Picture 21" descr="Картинка 3 из 723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441680"/>
            <a:ext cx="2971800" cy="226404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457200" y="457200"/>
            <a:ext cx="8352000" cy="8650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1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AutoShape 13"/>
          <p:cNvCxnSpPr>
            <a:stCxn id="316" idx="3"/>
            <a:endCxn id="317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26" name="Group 14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327" name="Line 15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330" name="AutoShape 18"/>
            <p:cNvCxnSpPr>
              <a:stCxn id="317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331" name="Line 19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AutoShape 20"/>
            <p:cNvCxnSpPr>
              <a:stCxn id="320" idx="2"/>
              <a:endCxn id="321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3" name="AutoShape 21"/>
            <p:cNvCxnSpPr>
              <a:stCxn id="323" idx="2"/>
              <a:endCxn id="322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334" name="AutoShape 22"/>
          <p:cNvCxnSpPr>
            <a:stCxn id="316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3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10082"/>
                </a:solidFill>
                <a:uFillTx/>
                <a:latin typeface="Arial"/>
              </a:rPr>
              <a:t>Инфляция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809880" y="915480"/>
            <a:ext cx="4953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ие номинальной заработной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цен на сырье и энерг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нало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1066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590920" y="1219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rganization Chart 8"/>
          <p:cNvGrpSpPr/>
          <p:nvPr/>
        </p:nvGrpSpPr>
        <p:grpSpPr>
          <a:xfrm>
            <a:off x="380880" y="2362320"/>
            <a:ext cx="8457120" cy="3123720"/>
            <a:chOff x="380880" y="2362320"/>
            <a:chExt cx="8457120" cy="3123720"/>
          </a:xfrm>
        </p:grpSpPr>
        <p:cxnSp>
          <p:nvCxnSpPr>
            <p:cNvPr id="341" name="_s6148"/>
            <p:cNvCxnSpPr>
              <a:stCxn id="342" idx="0"/>
              <a:endCxn id="343" idx="2"/>
            </p:cNvCxnSpPr>
            <p:nvPr/>
          </p:nvCxnSpPr>
          <p:spPr>
            <a:xfrm flipV="1">
              <a:off x="6886080" y="48175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4" name="_s6149"/>
            <p:cNvCxnSpPr>
              <a:stCxn id="343" idx="0"/>
              <a:endCxn id="345" idx="2"/>
            </p:cNvCxnSpPr>
            <p:nvPr/>
          </p:nvCxnSpPr>
          <p:spPr>
            <a:xfrm flipV="1">
              <a:off x="6886080" y="414648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6" name="_s6150"/>
            <p:cNvCxnSpPr>
              <a:stCxn id="345" idx="0"/>
              <a:endCxn id="347" idx="2"/>
            </p:cNvCxnSpPr>
            <p:nvPr/>
          </p:nvCxnSpPr>
          <p:spPr>
            <a:xfrm flipV="1">
              <a:off x="6886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8" name="_s6151"/>
            <p:cNvCxnSpPr>
              <a:stCxn id="349" idx="0"/>
              <a:endCxn id="350" idx="2"/>
            </p:cNvCxnSpPr>
            <p:nvPr/>
          </p:nvCxnSpPr>
          <p:spPr>
            <a:xfrm flipV="1">
              <a:off x="2332080" y="41479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1" name="_s6152"/>
            <p:cNvCxnSpPr>
              <a:stCxn id="350" idx="0"/>
              <a:endCxn id="352" idx="2"/>
            </p:cNvCxnSpPr>
            <p:nvPr/>
          </p:nvCxnSpPr>
          <p:spPr>
            <a:xfrm flipV="1">
              <a:off x="2332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3" name="_s6153"/>
            <p:cNvCxnSpPr>
              <a:stCxn id="347" idx="0"/>
              <a:endCxn id="354" idx="2"/>
            </p:cNvCxnSpPr>
            <p:nvPr/>
          </p:nvCxnSpPr>
          <p:spPr>
            <a:xfrm flipV="1" rot="16200000">
              <a:off x="5636880" y="1780920"/>
              <a:ext cx="222480" cy="2277000"/>
            </a:xfrm>
            <a:prstGeom prst="bentConnector3">
              <a:avLst>
                <a:gd name="adj1" fmla="val 50405"/>
              </a:avLst>
            </a:prstGeom>
            <a:ln w="38160">
              <a:solidFill>
                <a:srgbClr val="ceb966"/>
              </a:solidFill>
              <a:miter/>
            </a:ln>
          </p:spPr>
        </p:cxnSp>
        <p:cxnSp>
          <p:nvCxnSpPr>
            <p:cNvPr id="355" name="_s6154"/>
            <p:cNvCxnSpPr>
              <a:stCxn id="352" idx="0"/>
              <a:endCxn id="354" idx="2"/>
            </p:cNvCxnSpPr>
            <p:nvPr/>
          </p:nvCxnSpPr>
          <p:spPr>
            <a:xfrm flipH="1" flipV="1" rot="5400000">
              <a:off x="3359160" y="1781280"/>
              <a:ext cx="223920" cy="2278080"/>
            </a:xfrm>
            <a:prstGeom prst="bentConnector3">
              <a:avLst>
                <a:gd name="adj1" fmla="val 50402"/>
              </a:avLst>
            </a:prstGeom>
            <a:ln w="38160">
              <a:solidFill>
                <a:srgbClr val="ceb966"/>
              </a:solidFill>
              <a:miter/>
            </a:ln>
          </p:spPr>
        </p:cxnSp>
        <p:sp>
          <p:nvSpPr>
            <p:cNvPr id="354" name="_s6155"/>
            <p:cNvSpPr/>
            <p:nvPr/>
          </p:nvSpPr>
          <p:spPr>
            <a:xfrm>
              <a:off x="2658240" y="23623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иды инфля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6156"/>
            <p:cNvSpPr/>
            <p:nvPr/>
          </p:nvSpPr>
          <p:spPr>
            <a:xfrm>
              <a:off x="380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характеру протек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6157"/>
            <p:cNvSpPr/>
            <p:nvPr/>
          </p:nvSpPr>
          <p:spPr>
            <a:xfrm>
              <a:off x="4934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 зависимости от темпа роста ц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6158"/>
            <p:cNvSpPr/>
            <p:nvPr/>
          </p:nvSpPr>
          <p:spPr>
            <a:xfrm>
              <a:off x="380880" y="37015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ткрытая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продолжительный рост цен на товар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и услуг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6159"/>
            <p:cNvSpPr/>
            <p:nvPr/>
          </p:nvSpPr>
          <p:spPr>
            <a:xfrm>
              <a:off x="380880" y="437148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крытая (подавленн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неизменные рознич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цены, рост денежных доходов насел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6160"/>
            <p:cNvSpPr/>
            <p:nvPr/>
          </p:nvSpPr>
          <p:spPr>
            <a:xfrm>
              <a:off x="4934880" y="370152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меренная (ползуч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менее 1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161"/>
            <p:cNvSpPr/>
            <p:nvPr/>
          </p:nvSpPr>
          <p:spPr>
            <a:xfrm>
              <a:off x="4934880" y="43714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от 20 до 2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162"/>
            <p:cNvSpPr/>
            <p:nvPr/>
          </p:nvSpPr>
          <p:spPr>
            <a:xfrm>
              <a:off x="4934880" y="50410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до 10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0"/>
          <p:cNvSpPr/>
          <p:nvPr/>
        </p:nvSpPr>
        <p:spPr>
          <a:xfrm>
            <a:off x="228600" y="53341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228600" y="152280"/>
            <a:ext cx="871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рост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ительный пер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од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Organization Chart 11"/>
          <p:cNvGrpSpPr/>
          <p:nvPr/>
        </p:nvGrpSpPr>
        <p:grpSpPr>
          <a:xfrm>
            <a:off x="304920" y="838080"/>
            <a:ext cx="8686080" cy="1295280"/>
            <a:chOff x="304920" y="838080"/>
            <a:chExt cx="8686080" cy="1295280"/>
          </a:xfrm>
        </p:grpSpPr>
        <p:cxnSp>
          <p:nvCxnSpPr>
            <p:cNvPr id="360" name="_s7172"/>
            <p:cNvCxnSpPr>
              <a:stCxn id="361" idx="0"/>
              <a:endCxn id="362" idx="2"/>
            </p:cNvCxnSpPr>
            <p:nvPr/>
          </p:nvCxnSpPr>
          <p:spPr>
            <a:xfrm flipV="1" rot="16200000">
              <a:off x="5687280" y="315720"/>
              <a:ext cx="259560" cy="23385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63" name="_s7173"/>
            <p:cNvCxnSpPr>
              <a:stCxn id="364" idx="0"/>
              <a:endCxn id="362" idx="2"/>
            </p:cNvCxnSpPr>
            <p:nvPr/>
          </p:nvCxnSpPr>
          <p:spPr>
            <a:xfrm flipH="1" flipV="1" rot="5400000">
              <a:off x="3349080" y="315360"/>
              <a:ext cx="259560" cy="23396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62" name="_s7174"/>
            <p:cNvSpPr/>
            <p:nvPr/>
          </p:nvSpPr>
          <p:spPr>
            <a:xfrm>
              <a:off x="2643840" y="838080"/>
              <a:ext cx="4008960" cy="518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ути достижение экономического рос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7175"/>
            <p:cNvSpPr/>
            <p:nvPr/>
          </p:nvSpPr>
          <p:spPr>
            <a:xfrm>
              <a:off x="304920" y="1615320"/>
              <a:ext cx="4008960" cy="51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с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7176"/>
            <p:cNvSpPr/>
            <p:nvPr/>
          </p:nvSpPr>
          <p:spPr>
            <a:xfrm>
              <a:off x="4982040" y="1615320"/>
              <a:ext cx="4008960" cy="51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9"/>
          <p:cNvSpPr/>
          <p:nvPr/>
        </p:nvSpPr>
        <p:spPr>
          <a:xfrm>
            <a:off x="152280" y="22086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 ВВП за счет расширения масштабов использования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4419720" y="2208240"/>
            <a:ext cx="45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чение ВВП за счет качественного улучшения факторов производства и повышения их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228600" y="3429000"/>
            <a:ext cx="8686800" cy="76320"/>
          </a:xfrm>
          <a:prstGeom prst="rect">
            <a:avLst/>
          </a:prstGeom>
          <a:solidFill>
            <a:srgbClr val="41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228600" y="35211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цик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периодические колебания уровней занятости, производства и инфляции; период цикличности деловой активности 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(пик, рециссия, кризис, ожив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Organization Chart 24"/>
          <p:cNvGrpSpPr/>
          <p:nvPr/>
        </p:nvGrpSpPr>
        <p:grpSpPr>
          <a:xfrm>
            <a:off x="152280" y="4419720"/>
            <a:ext cx="8838360" cy="1066320"/>
            <a:chOff x="152280" y="4419720"/>
            <a:chExt cx="8838360" cy="1066320"/>
          </a:xfrm>
        </p:grpSpPr>
        <p:cxnSp>
          <p:nvCxnSpPr>
            <p:cNvPr id="370" name="_s7179"/>
            <p:cNvCxnSpPr>
              <a:stCxn id="371" idx="0"/>
              <a:endCxn id="372" idx="2"/>
            </p:cNvCxnSpPr>
            <p:nvPr/>
          </p:nvCxnSpPr>
          <p:spPr>
            <a:xfrm flipV="1" rot="16200000">
              <a:off x="5654880" y="3763080"/>
              <a:ext cx="213840" cy="23792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73" name="_s7180"/>
            <p:cNvCxnSpPr>
              <a:stCxn id="374" idx="0"/>
              <a:endCxn id="372" idx="2"/>
            </p:cNvCxnSpPr>
            <p:nvPr/>
          </p:nvCxnSpPr>
          <p:spPr>
            <a:xfrm flipH="1" flipV="1" rot="5400000">
              <a:off x="3274560" y="3762360"/>
              <a:ext cx="213840" cy="238068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72" name="_s7181"/>
            <p:cNvSpPr/>
            <p:nvPr/>
          </p:nvSpPr>
          <p:spPr>
            <a:xfrm>
              <a:off x="2532240" y="4419720"/>
              <a:ext cx="4079160" cy="42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макроэкономические показ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7182"/>
            <p:cNvSpPr/>
            <p:nvPr/>
          </p:nvSpPr>
          <p:spPr>
            <a:xfrm>
              <a:off x="152280" y="5059440"/>
              <a:ext cx="4079160" cy="42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внутренни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7183"/>
            <p:cNvSpPr/>
            <p:nvPr/>
          </p:nvSpPr>
          <p:spPr>
            <a:xfrm>
              <a:off x="4911480" y="5059440"/>
              <a:ext cx="4079160" cy="426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национальны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32"/>
          <p:cNvSpPr/>
          <p:nvPr/>
        </p:nvSpPr>
        <p:spPr>
          <a:xfrm>
            <a:off x="4835520" y="5624640"/>
            <a:ext cx="41562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52280" y="5637960"/>
            <a:ext cx="42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304920" y="2971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Экономическое развитие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качественные изменения в жизни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98100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 и экономическая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 производства и факторн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и рыночный механизм. Спрос и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е и переме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ые институты. Банковск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сточники финансирован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труда. Безрабо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, причины и последствия инф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й рост и развитие. Понятие 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государств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83528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11496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45720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 эффекты и обществен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04920" y="76212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Внешние или побочные эффекты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Organization Chart 7"/>
          <p:cNvGrpSpPr/>
          <p:nvPr/>
        </p:nvGrpSpPr>
        <p:grpSpPr>
          <a:xfrm>
            <a:off x="457200" y="1828800"/>
            <a:ext cx="8228520" cy="1599480"/>
            <a:chOff x="457200" y="1828800"/>
            <a:chExt cx="8228520" cy="1599480"/>
          </a:xfrm>
        </p:grpSpPr>
        <p:cxnSp>
          <p:nvCxnSpPr>
            <p:cNvPr id="384" name="_s8196"/>
            <p:cNvCxnSpPr>
              <a:stCxn id="385" idx="0"/>
              <a:endCxn id="386" idx="3"/>
            </p:cNvCxnSpPr>
            <p:nvPr/>
          </p:nvCxnSpPr>
          <p:spPr>
            <a:xfrm flipV="1" rot="16200000">
              <a:off x="5518440" y="1476000"/>
              <a:ext cx="320400" cy="23043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87" name="_s8197"/>
            <p:cNvCxnSpPr>
              <a:stCxn id="388" idx="0"/>
              <a:endCxn id="386" idx="3"/>
            </p:cNvCxnSpPr>
            <p:nvPr/>
          </p:nvCxnSpPr>
          <p:spPr>
            <a:xfrm flipH="1" flipV="1" rot="5400000">
              <a:off x="3303000" y="1564200"/>
              <a:ext cx="320400" cy="21279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86" name="_s8198"/>
            <p:cNvSpPr/>
            <p:nvPr/>
          </p:nvSpPr>
          <p:spPr>
            <a:xfrm>
              <a:off x="2673000" y="182880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эффек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8199"/>
            <p:cNvSpPr/>
            <p:nvPr/>
          </p:nvSpPr>
          <p:spPr>
            <a:xfrm>
              <a:off x="45720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ожи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8200"/>
            <p:cNvSpPr/>
            <p:nvPr/>
          </p:nvSpPr>
          <p:spPr>
            <a:xfrm>
              <a:off x="488808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риц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6"/>
          <p:cNvSpPr/>
          <p:nvPr/>
        </p:nvSpPr>
        <p:spPr>
          <a:xfrm>
            <a:off x="457200" y="358128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4876920" y="365760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228600" y="51055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0" descr="Картинка 9 из 60503"/>
          <p:cNvPicPr/>
          <p:nvPr/>
        </p:nvPicPr>
        <p:blipFill>
          <a:blip r:embed="rId1"/>
          <a:stretch/>
        </p:blipFill>
        <p:spPr>
          <a:xfrm>
            <a:off x="5029200" y="4648320"/>
            <a:ext cx="35719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Картинка 8 из 82929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461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291960" y="228600"/>
            <a:ext cx="862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НАЛОГИ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Картинка 14 из 82929"/>
          <p:cNvPicPr/>
          <p:nvPr/>
        </p:nvPicPr>
        <p:blipFill>
          <a:blip r:embed="rId1"/>
          <a:stretch/>
        </p:blipFill>
        <p:spPr>
          <a:xfrm>
            <a:off x="3200400" y="152280"/>
            <a:ext cx="5762520" cy="40388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228600" y="457200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порциональ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сумма налога пропорциональна доходам работ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е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ниже до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выше до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Картинка 15 из 161774"/>
          <p:cNvPicPr/>
          <p:nvPr/>
        </p:nvPicPr>
        <p:blipFill>
          <a:blip r:embed="rId2"/>
          <a:stretch/>
        </p:blipFill>
        <p:spPr>
          <a:xfrm>
            <a:off x="22860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Картинка 65 из 161774"/>
          <p:cNvPicPr/>
          <p:nvPr/>
        </p:nvPicPr>
        <p:blipFill>
          <a:blip r:embed="rId3"/>
          <a:stretch/>
        </p:blipFill>
        <p:spPr>
          <a:xfrm>
            <a:off x="533520" y="380880"/>
            <a:ext cx="2309760" cy="17290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6543720" cy="45309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152280" y="304920"/>
            <a:ext cx="3886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Государственный бюдж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мета доходов и расходов государства на определённый период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04920" y="373392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52280" y="4803840"/>
            <a:ext cx="8610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балансирован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равны доходам. Это самое оптимальное состояние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е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выше доходов. Дефицит – разность расходов и дохо­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о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доходы бюджета выше расходов. Профицит – разность доходов и расхо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04920" y="15228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Мировая экономика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28600" y="15238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191120" y="990720"/>
            <a:ext cx="380880" cy="533160"/>
          </a:xfrm>
          <a:prstGeom prst="upDownArrow">
            <a:avLst>
              <a:gd name="adj1" fmla="val 50000"/>
              <a:gd name="adj2" fmla="val 27866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rganization Chart 8"/>
          <p:cNvGrpSpPr/>
          <p:nvPr/>
        </p:nvGrpSpPr>
        <p:grpSpPr>
          <a:xfrm>
            <a:off x="380880" y="2209680"/>
            <a:ext cx="8609760" cy="990360"/>
            <a:chOff x="380880" y="2209680"/>
            <a:chExt cx="8609760" cy="990360"/>
          </a:xfrm>
        </p:grpSpPr>
        <p:cxnSp>
          <p:nvCxnSpPr>
            <p:cNvPr id="412" name="_s9220"/>
            <p:cNvCxnSpPr>
              <a:stCxn id="413" idx="0"/>
              <a:endCxn id="414" idx="2"/>
            </p:cNvCxnSpPr>
            <p:nvPr/>
          </p:nvCxnSpPr>
          <p:spPr>
            <a:xfrm flipV="1" rot="16200000">
              <a:off x="5745600" y="1545480"/>
              <a:ext cx="198720" cy="231804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415" name="_s9221"/>
            <p:cNvCxnSpPr>
              <a:stCxn id="416" idx="0"/>
              <a:endCxn id="414" idx="2"/>
            </p:cNvCxnSpPr>
            <p:nvPr/>
          </p:nvCxnSpPr>
          <p:spPr>
            <a:xfrm flipH="1" flipV="1" rot="5400000">
              <a:off x="3427560" y="1545120"/>
              <a:ext cx="198720" cy="231912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414" name="_s9222"/>
            <p:cNvSpPr/>
            <p:nvPr/>
          </p:nvSpPr>
          <p:spPr>
            <a:xfrm>
              <a:off x="2699280" y="2209680"/>
              <a:ext cx="3973680" cy="396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струменты мировой эконом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9223"/>
            <p:cNvSpPr/>
            <p:nvPr/>
          </p:nvSpPr>
          <p:spPr>
            <a:xfrm>
              <a:off x="380880" y="2804040"/>
              <a:ext cx="3973680" cy="396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ждународная торгов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9224"/>
            <p:cNvSpPr/>
            <p:nvPr/>
          </p:nvSpPr>
          <p:spPr>
            <a:xfrm>
              <a:off x="5016960" y="2804040"/>
              <a:ext cx="3973680" cy="396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ровая валютная 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16"/>
          <p:cNvSpPr/>
          <p:nvPr/>
        </p:nvSpPr>
        <p:spPr>
          <a:xfrm>
            <a:off x="4648320" y="3587040"/>
            <a:ext cx="434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обализация экономики — одна из закономерностей мирового разв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заимозависимость экономик различных стран связ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352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25909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 flipH="1">
            <a:off x="121932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0"/>
          <p:cNvSpPr/>
          <p:nvPr/>
        </p:nvSpPr>
        <p:spPr>
          <a:xfrm>
            <a:off x="2209680" y="3276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2" descr="Картинка 92 из 20232"/>
          <p:cNvPicPr/>
          <p:nvPr/>
        </p:nvPicPr>
        <p:blipFill>
          <a:blip r:embed="rId4"/>
          <a:stretch/>
        </p:blipFill>
        <p:spPr>
          <a:xfrm>
            <a:off x="762120" y="3886200"/>
            <a:ext cx="2895480" cy="27129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908000" y="189000"/>
            <a:ext cx="5472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762120" y="1066680"/>
            <a:ext cx="32400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4800600" y="1066680"/>
            <a:ext cx="32418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80060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рганизации деятельности людей по созданию благ, необходимых им для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76212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изучающая поведение участников процесса 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36232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594360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362320" y="1676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594360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2971800" y="3505320"/>
            <a:ext cx="2665440" cy="5032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52280" y="4648320"/>
            <a:ext cx="20894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438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724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4648320"/>
            <a:ext cx="208728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9"/>
          <p:cNvCxnSpPr/>
          <p:nvPr/>
        </p:nvCxnSpPr>
        <p:spPr>
          <a:xfrm flipH="1">
            <a:off x="1136160" y="4016520"/>
            <a:ext cx="3169440" cy="58464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2" name="Прямая со стрелкой 11"/>
          <p:cNvCxnSpPr>
            <a:endCxn id="138" idx="0"/>
          </p:cNvCxnSpPr>
          <p:nvPr/>
        </p:nvCxnSpPr>
        <p:spPr>
          <a:xfrm flipH="1">
            <a:off x="3482640" y="4016160"/>
            <a:ext cx="8229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3" name="Прямая со стрелкой 13"/>
          <p:cNvCxnSpPr>
            <a:endCxn id="139" idx="0"/>
          </p:cNvCxnSpPr>
          <p:nvPr/>
        </p:nvCxnSpPr>
        <p:spPr>
          <a:xfrm>
            <a:off x="4305240" y="4016160"/>
            <a:ext cx="146448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4" name="Прямая со стрелкой 15"/>
          <p:cNvCxnSpPr>
            <a:endCxn id="140" idx="0"/>
          </p:cNvCxnSpPr>
          <p:nvPr/>
        </p:nvCxnSpPr>
        <p:spPr>
          <a:xfrm>
            <a:off x="4305240" y="4016160"/>
            <a:ext cx="36741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45" name="Прямоугольник 16"/>
          <p:cNvSpPr/>
          <p:nvPr/>
        </p:nvSpPr>
        <p:spPr>
          <a:xfrm>
            <a:off x="152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ы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7"/>
          <p:cNvSpPr/>
          <p:nvPr/>
        </p:nvSpPr>
        <p:spPr>
          <a:xfrm>
            <a:off x="2438280" y="5334120"/>
            <a:ext cx="20876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"/>
          <p:cNvSpPr/>
          <p:nvPr/>
        </p:nvSpPr>
        <p:spPr>
          <a:xfrm>
            <a:off x="4724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ударственной власти, ба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"/>
          <p:cNvSpPr/>
          <p:nvPr/>
        </p:nvSpPr>
        <p:spPr>
          <a:xfrm>
            <a:off x="6934320" y="5334120"/>
            <a:ext cx="2087280" cy="12366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21"/>
          <p:cNvCxnSpPr>
            <a:stCxn id="137" idx="2"/>
            <a:endCxn id="145" idx="0"/>
          </p:cNvCxnSpPr>
          <p:nvPr/>
        </p:nvCxnSpPr>
        <p:spPr>
          <a:xfrm>
            <a:off x="1196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0" name="Прямая со стрелкой 23"/>
          <p:cNvCxnSpPr>
            <a:stCxn id="138" idx="2"/>
            <a:endCxn id="146" idx="0"/>
          </p:cNvCxnSpPr>
          <p:nvPr/>
        </p:nvCxnSpPr>
        <p:spPr>
          <a:xfrm>
            <a:off x="3482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1" name="Прямая со стрелкой 25"/>
          <p:cNvCxnSpPr>
            <a:stCxn id="139" idx="2"/>
            <a:endCxn id="147" idx="0"/>
          </p:cNvCxnSpPr>
          <p:nvPr/>
        </p:nvCxnSpPr>
        <p:spPr>
          <a:xfrm>
            <a:off x="5768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2" name="Прямая со стрелкой 27"/>
          <p:cNvCxnSpPr>
            <a:stCxn id="140" idx="2"/>
            <a:endCxn id="148" idx="0"/>
          </p:cNvCxnSpPr>
          <p:nvPr/>
        </p:nvCxnSpPr>
        <p:spPr>
          <a:xfrm>
            <a:off x="797832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230040" y="189000"/>
            <a:ext cx="8663040" cy="647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вопросами в экономик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228600" y="990720"/>
            <a:ext cx="3262320" cy="86508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3505320" y="990720"/>
            <a:ext cx="5400720" cy="8650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нужно покупателю, доступно по цене, выгодно производи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228600" y="1981080"/>
            <a:ext cx="326232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505320" y="1981080"/>
            <a:ext cx="540072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как позволяет 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28600" y="2971800"/>
            <a:ext cx="326088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05320" y="2971800"/>
            <a:ext cx="538308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кто имеет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380880" y="4038480"/>
            <a:ext cx="8425080" cy="7858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ческой науке существует два раздел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380880" y="5181480"/>
            <a:ext cx="3810240" cy="1295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экономика занимается исследование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кономики семьи, фирмы, региона, рынков (факторов производства, товаров, усл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2133720" y="48769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6781680" y="48769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029200" y="5181480"/>
            <a:ext cx="3733920" cy="1191240"/>
          </a:xfrm>
          <a:prstGeom prst="rect">
            <a:avLst/>
          </a:prstGeom>
          <a:noFill/>
          <a:ln w="1908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щеэкономические процессы, влияющие на экономику страны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610480" cy="5273640"/>
        </p:xfrm>
        <a:graphic>
          <a:graphicData uri="http://schemas.openxmlformats.org/drawingml/2006/table">
            <a:tbl>
              <a:tblPr/>
              <a:tblGrid>
                <a:gridCol w="6451560"/>
                <a:gridCol w="21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Фактор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с фактора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Труд (совокупность физических и умственных способностей людей для создания экономических благ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арпл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емля (все виды природных ресур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Р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Капитал: 1) физический (реальный) – произведенные человеком средства 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           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) финансовый (денежный) – деньги для покупки факторов 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 (инвестици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ц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едпринимательские 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авильно соединить факторы производства и организовать производство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инимать решения и брать ответственность на себ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идти на риск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быть восприимчивым к нововвед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ибы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69"/>
          <p:cNvSpPr/>
          <p:nvPr/>
        </p:nvSpPr>
        <p:spPr>
          <a:xfrm>
            <a:off x="304920" y="304920"/>
            <a:ext cx="838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Факторы производства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0"/>
          <p:cNvSpPr/>
          <p:nvPr/>
        </p:nvSpPr>
        <p:spPr>
          <a:xfrm>
            <a:off x="304920" y="63244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– новый вид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3" descr="j0187423"/>
          <p:cNvPicPr/>
          <p:nvPr/>
        </p:nvPicPr>
        <p:blipFill>
          <a:blip r:embed="rId1"/>
          <a:stretch/>
        </p:blipFill>
        <p:spPr>
          <a:xfrm>
            <a:off x="7010280" y="4800600"/>
            <a:ext cx="1762200" cy="1827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280" y="15228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кономическая система</a:t>
            </a:r>
            <a:r>
              <a:rPr b="0" lang="ru-RU" sz="1600" spc="-1" strike="noStrike">
                <a:solidFill>
                  <a:srgbClr val="410082"/>
                </a:solidFill>
                <a:latin typeface="Arial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Organization Chart 6"/>
          <p:cNvGrpSpPr/>
          <p:nvPr/>
        </p:nvGrpSpPr>
        <p:grpSpPr>
          <a:xfrm>
            <a:off x="304920" y="1371600"/>
            <a:ext cx="8609760" cy="1370880"/>
            <a:chOff x="304920" y="1371600"/>
            <a:chExt cx="8609760" cy="1370880"/>
          </a:xfrm>
        </p:grpSpPr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6146640" y="380520"/>
              <a:ext cx="274680" cy="33519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V="1" rot="16200000">
              <a:off x="5030280" y="1496880"/>
              <a:ext cx="274680" cy="11192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9" name="_s1030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914280" y="1499400"/>
              <a:ext cx="274680" cy="11145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81" name="_s1031"/>
            <p:cNvCxnSpPr>
              <a:stCxn id="182" idx="0"/>
              <a:endCxn id="176" idx="2"/>
            </p:cNvCxnSpPr>
            <p:nvPr/>
          </p:nvCxnSpPr>
          <p:spPr>
            <a:xfrm flipH="1" flipV="1" rot="5400000">
              <a:off x="2797920" y="382680"/>
              <a:ext cx="274680" cy="33476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3651840" y="1371600"/>
              <a:ext cx="1913760" cy="548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3"/>
            <p:cNvSpPr/>
            <p:nvPr/>
          </p:nvSpPr>
          <p:spPr>
            <a:xfrm>
              <a:off x="304920" y="2194200"/>
              <a:ext cx="1913760" cy="54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4"/>
            <p:cNvSpPr/>
            <p:nvPr/>
          </p:nvSpPr>
          <p:spPr>
            <a:xfrm>
              <a:off x="2537640" y="2194200"/>
              <a:ext cx="1913760" cy="548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анд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4770360" y="2194200"/>
              <a:ext cx="1913760" cy="548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6"/>
            <p:cNvSpPr/>
            <p:nvPr/>
          </p:nvSpPr>
          <p:spPr>
            <a:xfrm>
              <a:off x="7003080" y="2194200"/>
              <a:ext cx="1911600" cy="548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меша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8"/>
          <p:cNvSpPr/>
          <p:nvPr/>
        </p:nvSpPr>
        <p:spPr>
          <a:xfrm>
            <a:off x="152280" y="2897640"/>
            <a:ext cx="213372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система, в которой все основные экономические вопросы решаются на основе традиций и обычаев. Она базируется на отсталой технологии, широком распространении ручного труда, ярко выраженной многоукладности экономики (различные формы хозяй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438280" y="2897640"/>
            <a:ext cx="2133720" cy="371700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в которой доминируют общественная (государственная) собственность на средства производства, коллективное принятие экономических решений, централизованное руководство экономикой посредством государственного план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4724280" y="2891520"/>
            <a:ext cx="205740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основанная на принципах свободного предпринимательства, многообразия форм собственности на средства производства, рыночного ценообразования, конкуренции, ограниченного вмешательства государства в хозяйственную деятель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7010280" y="2892240"/>
            <a:ext cx="1905120" cy="3138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с элементами других экономических систем. Основные черты : экономическая деятельность на базе количественной частной и государственной собственности; активное государ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152280" y="990720"/>
            <a:ext cx="1371600" cy="9968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228600" y="152280"/>
            <a:ext cx="868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ыно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rganization Chart 9"/>
          <p:cNvGrpSpPr/>
          <p:nvPr/>
        </p:nvGrpSpPr>
        <p:grpSpPr>
          <a:xfrm>
            <a:off x="152280" y="1143000"/>
            <a:ext cx="3733200" cy="5409360"/>
            <a:chOff x="152280" y="1143000"/>
            <a:chExt cx="3733200" cy="5409360"/>
          </a:xfrm>
        </p:grpSpPr>
        <p:cxnSp>
          <p:nvCxnSpPr>
            <p:cNvPr id="191" name="_s2052"/>
            <p:cNvCxnSpPr>
              <a:stCxn id="192" idx="0"/>
              <a:endCxn id="193" idx="2"/>
            </p:cNvCxnSpPr>
            <p:nvPr/>
          </p:nvCxnSpPr>
          <p:spPr>
            <a:xfrm flipV="1">
              <a:off x="2765520" y="3074040"/>
              <a:ext cx="2880" cy="38700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4" name="_s2053"/>
            <p:cNvCxnSpPr>
              <a:stCxn id="195" idx="1"/>
              <a:endCxn id="196" idx="2"/>
            </p:cNvCxnSpPr>
            <p:nvPr/>
          </p:nvCxnSpPr>
          <p:spPr>
            <a:xfrm rot="10800000">
              <a:off x="1271520" y="1914840"/>
              <a:ext cx="374040" cy="42512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7" name="_s2054"/>
            <p:cNvCxnSpPr>
              <a:stCxn id="198" idx="1"/>
              <a:endCxn id="196" idx="2"/>
            </p:cNvCxnSpPr>
            <p:nvPr/>
          </p:nvCxnSpPr>
          <p:spPr>
            <a:xfrm rot="10800000">
              <a:off x="1271520" y="1914840"/>
              <a:ext cx="374040" cy="30920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9" name="_s2055"/>
            <p:cNvCxnSpPr>
              <a:stCxn id="193" idx="1"/>
              <a:endCxn id="196" idx="2"/>
            </p:cNvCxnSpPr>
            <p:nvPr/>
          </p:nvCxnSpPr>
          <p:spPr>
            <a:xfrm rot="10800000">
              <a:off x="1271520" y="1914840"/>
              <a:ext cx="374040" cy="77328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96" name="_s2056"/>
            <p:cNvSpPr/>
            <p:nvPr/>
          </p:nvSpPr>
          <p:spPr>
            <a:xfrm>
              <a:off x="152280" y="1143000"/>
              <a:ext cx="2239920" cy="77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ын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7"/>
            <p:cNvSpPr/>
            <p:nvPr/>
          </p:nvSpPr>
          <p:spPr>
            <a:xfrm>
              <a:off x="1645560" y="2302200"/>
              <a:ext cx="2239920" cy="77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законод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ств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1645560" y="4620600"/>
              <a:ext cx="2239920" cy="772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пространств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ному признак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9"/>
            <p:cNvSpPr/>
            <p:nvPr/>
          </p:nvSpPr>
          <p:spPr>
            <a:xfrm>
              <a:off x="1645560" y="5779800"/>
              <a:ext cx="2239920" cy="772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ип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конкурен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60"/>
            <p:cNvSpPr/>
            <p:nvPr/>
          </p:nvSpPr>
          <p:spPr>
            <a:xfrm>
              <a:off x="1645560" y="3461400"/>
              <a:ext cx="2239920" cy="772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eb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оварам 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услуга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9"/>
          <p:cNvSpPr/>
          <p:nvPr/>
        </p:nvSpPr>
        <p:spPr>
          <a:xfrm>
            <a:off x="4267080" y="1219320"/>
            <a:ext cx="4724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Конкуренция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67080" y="2362320"/>
          <a:ext cx="4586400" cy="4297320"/>
        </p:xfrm>
        <a:graphic>
          <a:graphicData uri="http://schemas.openxmlformats.org/drawingml/2006/table">
            <a:tbl>
              <a:tblPr/>
              <a:tblGrid>
                <a:gridCol w="1503360"/>
                <a:gridCol w="1027080"/>
                <a:gridCol w="1092240"/>
                <a:gridCol w="963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(свободная конкуренц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стическая конкурен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лиг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ет множество мелких фирм, предлагающих на рынок однородную продукци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доступ той или другой фирмы к информации о состоянии рынка, о ценах на товары (услуги), ресурсы, о затратах и т.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вступление новых фирм в отрасль, вход и выход из отрасли свобод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авец не может осуществить контроль над ценами, конкурентная фирма не может установить рыночную цен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вступления других фирм в отрасль существуют значительные барьер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_111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78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28600" y="152280"/>
            <a:ext cx="411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Спрос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подкреплённое денежной возможностью желание, намерение покупателей, потребителей приобрести данный т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800600" y="152280"/>
            <a:ext cx="403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Предложение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желание или намерение производителя (продавца) предложить к продаже свои това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52280" y="152388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05740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678168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343400" y="53352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28600" y="2361600"/>
            <a:ext cx="87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 – цена, при которой величина спроса равна величине пред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28600" y="3172680"/>
            <a:ext cx="43434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у предлож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382760" y="-7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спроса на товар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52280" y="381960"/>
            <a:ext cx="868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_111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29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228600" y="4572360"/>
            <a:ext cx="8686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спрос на товар возрастет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товар вышел из моды                   2) доходы покупателей возро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52280" y="5514840"/>
            <a:ext cx="8686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10:36:00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53789990</vt:lpwstr>
  </property>
</Properties>
</file>