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DA11-20B7-4A10-9835-DAD79EAF9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DF2E-117F-44C4-B803-AEBA9923A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предложения товар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предложение товара сократится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проведена компьютеризация процесса производства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2) продавцы ожидают в скором будущем повышения цен на свой тов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261A-DF55-4782-A475-F8C2B4D87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DB02-40E8-44E0-9227-0E3795207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Деньг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особый товар, выполняющий роль всеобщего эквивалента при обмене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Банк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8091-3C08-4C96-922D-E856599F4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– главный внутренний источник финансирования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ёмные средства других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ое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бюджета на возвр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внебюджетных фо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6568-6ABC-4FE4-886D-C63AE443F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Ценная бумага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ценной бума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лощает част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бличная 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8D8-4626-41FB-AAE1-D468D7AC8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работная плата – форма материального вознаграждения за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на рынк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квалификаци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жизненных благ, необходимых для воспроизводства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ость экономических и социальных условий жизн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FF72-B30D-4550-948E-F26102E2D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мерение безработицы и уровня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F181-C3CE-43FB-97F6-7DE54EFC7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о-экономическое явление, характеризу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работы для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12DE-F657-4DB5-9AB1-B004BC7AF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Инфляци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ADD7-581E-4684-AF15-60434317A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Экономический рост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ительный пер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262D-7BAC-4594-8C5A-504C0E08D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кодифик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экономическ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рыночный механизм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за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. Банков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инансировани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 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причины и последствия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 и развитие. Понятие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8997-D43F-46F7-9CF8-84564D434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 эффекты и обществен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нешние или побочные эффекты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D782-48CE-49F6-8C12-FC8207AB0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ЛОГИ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D502-D8FE-4894-AB70-BF27B8FB0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порциональ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сумма налога пропорциональна доходам работни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е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ниже дох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выше дох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2B2B-0096-48E8-8412-0F6B20D0C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Государственный бюдж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смета доходов и расходов государства на определённ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балансирован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равны доходам. Это самое оптимальное состояние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Де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выше доходов. Дефицит – разность расходов и дохо­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Про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доходы бюджета выше расходов. Профицит – разность доходов и расхо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3F33-A6E5-4F9E-A401-2523B42F5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ировая экономика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лобализация экономики — одна из закономерностей мирового развит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взаимозависимость экономик различных стран связ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A387-D3CB-4D8F-8BEF-0FC672118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0749-080F-47C4-AEA7-6B9A930071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4674-F4F6-45C3-936F-C5AF0A8B9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Факторы производства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D78E-5266-479C-812D-511CDD4C2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кономическ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90BC-48AD-4013-BF5A-C15D046A5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ынок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нкуренция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 (свободная конкуренция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ует множество мелких фирм, предлагающих на рынок однородную продукц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доступ той или другой фирмы к информации о состоянии рынка, о ценах на товары (услуги), ресурсы, о затратах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вступление новых фирм в отрасль, вход и выход из отрасли свободе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авец не может осуществить контроль над ценами, конкурентная фирма не может установить рыночную цен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Для вступления других фирм в отрасль существуют значительные барьер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BF4-94ED-4B90-9F24-509D0707E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рос – подкреплённое денежной возможностью желание, намерение покупателей, потребителей приобрести данный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ложение – желание или намерение производителя (продавца) предложить к продаже свои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при которой величина спроса равна величин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 величину пред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3B4F-956B-472B-8093-2727B2614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спроса на това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спрос на товар возрастет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товар вышел из моды                   2) доходы покупателей воз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6F7A-3F09-452C-947F-D5D4E0A06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6C9-BABF-4E78-8E96-4B9CF5E9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461-5726-4ECD-8310-FEB615B6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E1B-4601-4AB5-BCB3-F04990D3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E96-7CC8-4CC3-9828-160CB116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4A28-CA24-4DC1-86D1-CB5C8CC6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2F76-11AD-4E26-80B3-5398EEFD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7992-9B95-409D-88AF-EE795613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F061-8A5F-44C2-82F6-F149D976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BD36-B90F-4C57-936A-A0D652E9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2CDD-7A95-4503-B553-3559C312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9FCD-FF8F-4A3E-9581-6E1664E7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343-0D18-4620-BAA9-5DE6D211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A036-C72B-4EDF-97DA-FCD16EC5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8098-3898-4CFB-8272-C983572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68C9-7AA5-4E54-BF0C-1DF4429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23EE-BEBE-40B3-B87B-9F56A9D2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438A-3674-41EA-98FA-47916ECF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424-790A-4D10-BB1B-385A69B2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B29-C3B9-440D-9CB3-7C84614F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F57-CC02-4E57-9FD5-9050F5C0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DB1-E7F8-42D3-8CC0-B19C780B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8B9-8B5F-4523-972E-DA44DAA3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85B-0BF1-4A48-9FB7-BCD0AF75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AC5-ACBB-4163-99FF-73942258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E9D8-2F6F-49D1-91EC-6DBCE337E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3CB7-B258-42F2-9F53-AD9894052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2F44-282D-45AD-8CBD-63374F01B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92F0-4C5F-4A09-8A9D-A5FFFF823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tersburgcity.com/images/docs/21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.vigoda.ru/img/offer/pictures/010/801/10801_0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gd-biz.ru/upload/medialibrary/024/2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usedcars.ru/picture/news/large/43496/43496-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media.nakanune.ru/images/pictures/image_big_23604.jpg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inok-truda.narod.ru/images/sostav_rinka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t-printers.ru/img/11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2388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ельна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057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ческая сфер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480" y="1522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Ичалк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181480" y="4191120"/>
            <a:ext cx="3733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юшин Михаил Евген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Ичалк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чалки Перевоз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079640" y="14040"/>
            <a:ext cx="67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предложения товар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2280" y="4428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_111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228600" y="4220280"/>
            <a:ext cx="868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предложение товара сократится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проведена компьютеризация процесса производства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2) продавцы ожидают в скором будущем повышения цен на свой тов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52280" y="5411520"/>
            <a:ext cx="8839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152280" y="2282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7200" y="1382400"/>
            <a:ext cx="3352680" cy="39344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419720" y="1302120"/>
            <a:ext cx="4043160" cy="2562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352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981080" y="8380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495680" y="8380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Картинка 10 из 9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2102040" cy="25909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3733920" y="152280"/>
            <a:ext cx="525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Деньги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это особый товар, выполняющий роль всеобщего эквивалента при обмене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Organization Chart 7"/>
          <p:cNvGrpSpPr/>
          <p:nvPr/>
        </p:nvGrpSpPr>
        <p:grpSpPr>
          <a:xfrm>
            <a:off x="228600" y="914400"/>
            <a:ext cx="8686440" cy="1675800"/>
            <a:chOff x="228600" y="914400"/>
            <a:chExt cx="8686440" cy="1675800"/>
          </a:xfrm>
        </p:grpSpPr>
        <p:cxnSp>
          <p:nvCxnSpPr>
            <p:cNvPr id="235" name="_s3076"/>
            <p:cNvCxnSpPr>
              <a:stCxn id="236" idx="0"/>
              <a:endCxn id="237" idx="3"/>
            </p:cNvCxnSpPr>
            <p:nvPr/>
          </p:nvCxnSpPr>
          <p:spPr>
            <a:xfrm flipV="1" rot="16200000">
              <a:off x="6192360" y="-73800"/>
              <a:ext cx="335880" cy="36511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38" name="_s3077"/>
            <p:cNvCxnSpPr>
              <a:stCxn id="239" idx="0"/>
              <a:endCxn id="237" idx="3"/>
            </p:cNvCxnSpPr>
            <p:nvPr/>
          </p:nvCxnSpPr>
          <p:spPr>
            <a:xfrm flipV="1" rot="16200000">
              <a:off x="5297040" y="821520"/>
              <a:ext cx="335880" cy="186048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0" name="_s3078"/>
            <p:cNvCxnSpPr>
              <a:stCxn id="241" idx="0"/>
              <a:endCxn id="237" idx="3"/>
            </p:cNvCxnSpPr>
            <p:nvPr/>
          </p:nvCxnSpPr>
          <p:spPr>
            <a:xfrm flipV="1" rot="16200000">
              <a:off x="4403520" y="1715040"/>
              <a:ext cx="335880" cy="7344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2" name="_s3079"/>
            <p:cNvCxnSpPr>
              <a:stCxn id="243" idx="0"/>
              <a:endCxn id="237" idx="3"/>
            </p:cNvCxnSpPr>
            <p:nvPr/>
          </p:nvCxnSpPr>
          <p:spPr>
            <a:xfrm flipH="1" flipV="1" rot="5400000">
              <a:off x="3510360" y="894960"/>
              <a:ext cx="335880" cy="17143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4" name="_s3080"/>
            <p:cNvCxnSpPr>
              <a:stCxn id="245" idx="0"/>
              <a:endCxn id="237" idx="3"/>
            </p:cNvCxnSpPr>
            <p:nvPr/>
          </p:nvCxnSpPr>
          <p:spPr>
            <a:xfrm flipH="1" flipV="1" rot="5400000">
              <a:off x="2615760" y="360"/>
              <a:ext cx="335880" cy="350316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37" name="_s3081"/>
            <p:cNvSpPr/>
            <p:nvPr/>
          </p:nvSpPr>
          <p:spPr>
            <a:xfrm>
              <a:off x="3804480" y="91440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н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2"/>
            <p:cNvSpPr/>
            <p:nvPr/>
          </p:nvSpPr>
          <p:spPr>
            <a:xfrm>
              <a:off x="2286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о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3"/>
            <p:cNvSpPr/>
            <p:nvPr/>
          </p:nvSpPr>
          <p:spPr>
            <a:xfrm>
              <a:off x="201708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84"/>
            <p:cNvSpPr/>
            <p:nvPr/>
          </p:nvSpPr>
          <p:spPr>
            <a:xfrm>
              <a:off x="380592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5"/>
            <p:cNvSpPr/>
            <p:nvPr/>
          </p:nvSpPr>
          <p:spPr>
            <a:xfrm>
              <a:off x="5594760" y="1919880"/>
              <a:ext cx="15314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т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6"/>
            <p:cNvSpPr/>
            <p:nvPr/>
          </p:nvSpPr>
          <p:spPr>
            <a:xfrm>
              <a:off x="73818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Мир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день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9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Картинка 33 из 269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267080"/>
            <a:ext cx="2523960" cy="2076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2362320" y="2666880"/>
            <a:ext cx="662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Бан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Organization Chart 24"/>
          <p:cNvGrpSpPr/>
          <p:nvPr/>
        </p:nvGrpSpPr>
        <p:grpSpPr>
          <a:xfrm>
            <a:off x="228600" y="2895480"/>
            <a:ext cx="2819160" cy="3504960"/>
            <a:chOff x="228600" y="2895480"/>
            <a:chExt cx="2819160" cy="3504960"/>
          </a:xfrm>
        </p:grpSpPr>
        <p:cxnSp>
          <p:nvCxnSpPr>
            <p:cNvPr id="250" name="_s3089"/>
            <p:cNvCxnSpPr>
              <a:stCxn id="251" idx="2"/>
              <a:endCxn id="252" idx="3"/>
            </p:cNvCxnSpPr>
            <p:nvPr/>
          </p:nvCxnSpPr>
          <p:spPr>
            <a:xfrm rot="10800000">
              <a:off x="1054080" y="3771000"/>
              <a:ext cx="302040" cy="2236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53" name="_s3090"/>
            <p:cNvCxnSpPr>
              <a:stCxn id="254" idx="2"/>
              <a:endCxn id="252" idx="3"/>
            </p:cNvCxnSpPr>
            <p:nvPr/>
          </p:nvCxnSpPr>
          <p:spPr>
            <a:xfrm rot="10800000">
              <a:off x="1054080" y="3771000"/>
              <a:ext cx="302040" cy="922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52" name="_s3091"/>
            <p:cNvSpPr/>
            <p:nvPr/>
          </p:nvSpPr>
          <p:spPr>
            <a:xfrm>
              <a:off x="228600" y="289548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нков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92"/>
            <p:cNvSpPr/>
            <p:nvPr/>
          </p:nvSpPr>
          <p:spPr>
            <a:xfrm>
              <a:off x="1356120" y="420984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аль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3093"/>
            <p:cNvSpPr/>
            <p:nvPr/>
          </p:nvSpPr>
          <p:spPr>
            <a:xfrm>
              <a:off x="1356120" y="552420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3200400" y="4191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 области эмиссии, кредита, денежного обра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00400" y="5486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финансово-кредитные операции на коммерческих нач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Organization Chart 6"/>
          <p:cNvGrpSpPr/>
          <p:nvPr/>
        </p:nvGrpSpPr>
        <p:grpSpPr>
          <a:xfrm>
            <a:off x="304920" y="380880"/>
            <a:ext cx="8686080" cy="1295280"/>
            <a:chOff x="304920" y="380880"/>
            <a:chExt cx="8686080" cy="1295280"/>
          </a:xfrm>
        </p:grpSpPr>
        <p:cxnSp>
          <p:nvCxnSpPr>
            <p:cNvPr id="259" name="_s4100"/>
            <p:cNvCxnSpPr>
              <a:stCxn id="260" idx="0"/>
              <a:endCxn id="261" idx="3"/>
            </p:cNvCxnSpPr>
            <p:nvPr/>
          </p:nvCxnSpPr>
          <p:spPr>
            <a:xfrm flipV="1" rot="16200000">
              <a:off x="5686560" y="-169200"/>
              <a:ext cx="259560" cy="23943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62" name="_s4101"/>
            <p:cNvCxnSpPr>
              <a:stCxn id="263" idx="0"/>
              <a:endCxn id="261" idx="3"/>
            </p:cNvCxnSpPr>
            <p:nvPr/>
          </p:nvCxnSpPr>
          <p:spPr>
            <a:xfrm flipH="1" flipV="1" rot="5400000">
              <a:off x="3348720" y="-113760"/>
              <a:ext cx="259560" cy="22838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61" name="_s4102"/>
            <p:cNvSpPr/>
            <p:nvPr/>
          </p:nvSpPr>
          <p:spPr>
            <a:xfrm>
              <a:off x="2643840" y="38088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источники финансирован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4103"/>
            <p:cNvSpPr/>
            <p:nvPr/>
          </p:nvSpPr>
          <p:spPr>
            <a:xfrm>
              <a:off x="30492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04"/>
            <p:cNvSpPr/>
            <p:nvPr/>
          </p:nvSpPr>
          <p:spPr>
            <a:xfrm>
              <a:off x="498204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04920" y="182880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ыль – главный внутренний источник финансирования фи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52280" y="244008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Картинка 99 из 38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807000"/>
            <a:ext cx="4724640" cy="2898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48769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029200" y="19051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952880" y="1828800"/>
            <a:ext cx="3962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диты б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ёмные средства других предприятий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е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бюджета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2" descr="Картинка 59 из 389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495680"/>
            <a:ext cx="259560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28600" y="214560"/>
            <a:ext cx="853452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Ценная бумага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Diagram 5"/>
          <p:cNvGrpSpPr/>
          <p:nvPr/>
        </p:nvGrpSpPr>
        <p:grpSpPr>
          <a:xfrm>
            <a:off x="520200" y="1600200"/>
            <a:ext cx="8179560" cy="2895480"/>
            <a:chOff x="520200" y="1600200"/>
            <a:chExt cx="8179560" cy="2895480"/>
          </a:xfrm>
        </p:grpSpPr>
        <p:sp>
          <p:nvSpPr>
            <p:cNvPr id="274" name="_s5124"/>
            <p:cNvSpPr/>
            <p:nvPr/>
          </p:nvSpPr>
          <p:spPr>
            <a:xfrm flipH="1">
              <a:off x="256464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5125"/>
            <p:cNvSpPr/>
            <p:nvPr/>
          </p:nvSpPr>
          <p:spPr>
            <a:xfrm>
              <a:off x="520200" y="2685960"/>
              <a:ext cx="2044440" cy="723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екс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5126"/>
            <p:cNvSpPr/>
            <p:nvPr/>
          </p:nvSpPr>
          <p:spPr>
            <a:xfrm>
              <a:off x="4609800" y="340992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5127"/>
            <p:cNvSpPr/>
            <p:nvPr/>
          </p:nvSpPr>
          <p:spPr>
            <a:xfrm>
              <a:off x="3587400" y="3771720"/>
              <a:ext cx="2044440" cy="723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5128"/>
            <p:cNvSpPr/>
            <p:nvPr/>
          </p:nvSpPr>
          <p:spPr>
            <a:xfrm>
              <a:off x="563220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5129"/>
            <p:cNvSpPr/>
            <p:nvPr/>
          </p:nvSpPr>
          <p:spPr>
            <a:xfrm>
              <a:off x="6654600" y="2685960"/>
              <a:ext cx="2045160" cy="723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лиг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5130"/>
            <p:cNvSpPr/>
            <p:nvPr/>
          </p:nvSpPr>
          <p:spPr>
            <a:xfrm flipV="1">
              <a:off x="4609800" y="232344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5131"/>
            <p:cNvSpPr/>
            <p:nvPr/>
          </p:nvSpPr>
          <p:spPr>
            <a:xfrm>
              <a:off x="3587400" y="1600200"/>
              <a:ext cx="2044440" cy="723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5132"/>
            <p:cNvSpPr/>
            <p:nvPr/>
          </p:nvSpPr>
          <p:spPr>
            <a:xfrm>
              <a:off x="3587400" y="2685960"/>
              <a:ext cx="2044440" cy="723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ценных бум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105520" y="46483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ценной бум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лощает част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ая 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Картинка 1 из 3524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тинка 7 из 99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04920"/>
            <a:ext cx="7772400" cy="347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3"/>
          <p:cNvSpPr/>
          <p:nvPr/>
        </p:nvSpPr>
        <p:spPr>
          <a:xfrm>
            <a:off x="457200" y="3886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Заработная плата – форма материального вознаграждения за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3352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ы, влияющие на величину заработной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04920" y="5257800"/>
            <a:ext cx="8458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ос и предложение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валификации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жизненных благ, необходимых для воспроизводства рабоче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ость экономических и социальных условий жизни насел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762120" y="4495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минальная                                                     Ре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H="1">
            <a:off x="2666520" y="4267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419720" y="42670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Calibri"/>
              </a:rPr>
              <a:t>Измерение безработицы и уровня безработицы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селени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523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352680" y="1219320"/>
            <a:ext cx="5040360" cy="642600"/>
          </a:xfrm>
          <a:prstGeom prst="rect">
            <a:avLst/>
          </a:prstGeom>
          <a:noFill/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57200" y="213372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1219320" y="27432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3716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004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152280" y="380988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2438280" y="380988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0" y="525780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057400" y="525780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914400" y="4724280"/>
            <a:ext cx="21600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23880" y="4724280"/>
            <a:ext cx="136872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800600" y="2971800"/>
            <a:ext cx="3527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5638680" y="38098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8077320" y="350532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11" name="WordArt 19"/>
          <p:cNvSpPr txBox="1"/>
          <p:nvPr/>
        </p:nvSpPr>
        <p:spPr>
          <a:xfrm rot="5400000">
            <a:off x="7852320" y="3729960"/>
            <a:ext cx="18252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21" descr="Картинка 3 из 723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41680"/>
            <a:ext cx="2971800" cy="226404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457200" y="457200"/>
            <a:ext cx="8352000" cy="8650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1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3"/>
          <p:cNvCxnSpPr>
            <a:stCxn id="316" idx="3"/>
            <a:endCxn id="317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26" name="Group 14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327" name="Line 15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330" name="AutoShape 18"/>
            <p:cNvCxnSpPr>
              <a:stCxn id="317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331" name="Line 19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20"/>
            <p:cNvCxnSpPr>
              <a:stCxn id="320" idx="2"/>
              <a:endCxn id="321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AutoShape 21"/>
            <p:cNvCxnSpPr>
              <a:stCxn id="323" idx="2"/>
              <a:endCxn id="322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334" name="AutoShape 22"/>
          <p:cNvCxnSpPr>
            <a:stCxn id="316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3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10082"/>
                </a:solidFill>
                <a:uFillTx/>
                <a:latin typeface="Arial"/>
              </a:rPr>
              <a:t>Инфляция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809880" y="915480"/>
            <a:ext cx="4953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номинальной заработной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цен на сырье и энер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н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90920" y="1219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rganization Chart 8"/>
          <p:cNvGrpSpPr/>
          <p:nvPr/>
        </p:nvGrpSpPr>
        <p:grpSpPr>
          <a:xfrm>
            <a:off x="380880" y="2362320"/>
            <a:ext cx="8457120" cy="3123720"/>
            <a:chOff x="380880" y="2362320"/>
            <a:chExt cx="8457120" cy="3123720"/>
          </a:xfrm>
        </p:grpSpPr>
        <p:cxnSp>
          <p:nvCxnSpPr>
            <p:cNvPr id="341" name="_s6148"/>
            <p:cNvCxnSpPr>
              <a:stCxn id="342" idx="0"/>
              <a:endCxn id="343" idx="2"/>
            </p:cNvCxnSpPr>
            <p:nvPr/>
          </p:nvCxnSpPr>
          <p:spPr>
            <a:xfrm flipV="1">
              <a:off x="6886080" y="48175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4" name="_s6149"/>
            <p:cNvCxnSpPr>
              <a:stCxn id="343" idx="0"/>
              <a:endCxn id="345" idx="2"/>
            </p:cNvCxnSpPr>
            <p:nvPr/>
          </p:nvCxnSpPr>
          <p:spPr>
            <a:xfrm flipV="1">
              <a:off x="6886080" y="414648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6" name="_s6150"/>
            <p:cNvCxnSpPr>
              <a:stCxn id="345" idx="0"/>
              <a:endCxn id="347" idx="2"/>
            </p:cNvCxnSpPr>
            <p:nvPr/>
          </p:nvCxnSpPr>
          <p:spPr>
            <a:xfrm flipV="1">
              <a:off x="6886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8" name="_s6151"/>
            <p:cNvCxnSpPr>
              <a:stCxn id="349" idx="0"/>
              <a:endCxn id="350" idx="2"/>
            </p:cNvCxnSpPr>
            <p:nvPr/>
          </p:nvCxnSpPr>
          <p:spPr>
            <a:xfrm flipV="1">
              <a:off x="2332080" y="41479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1" name="_s6152"/>
            <p:cNvCxnSpPr>
              <a:stCxn id="350" idx="0"/>
              <a:endCxn id="352" idx="2"/>
            </p:cNvCxnSpPr>
            <p:nvPr/>
          </p:nvCxnSpPr>
          <p:spPr>
            <a:xfrm flipV="1">
              <a:off x="2332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3" name="_s6153"/>
            <p:cNvCxnSpPr>
              <a:stCxn id="347" idx="0"/>
              <a:endCxn id="354" idx="2"/>
            </p:cNvCxnSpPr>
            <p:nvPr/>
          </p:nvCxnSpPr>
          <p:spPr>
            <a:xfrm flipV="1" rot="16200000">
              <a:off x="5636880" y="1780920"/>
              <a:ext cx="222480" cy="2277000"/>
            </a:xfrm>
            <a:prstGeom prst="bentConnector3">
              <a:avLst>
                <a:gd name="adj1" fmla="val 50405"/>
              </a:avLst>
            </a:prstGeom>
            <a:ln w="38160">
              <a:solidFill>
                <a:srgbClr val="ceb966"/>
              </a:solidFill>
              <a:miter/>
            </a:ln>
          </p:spPr>
        </p:cxnSp>
        <p:cxnSp>
          <p:nvCxnSpPr>
            <p:cNvPr id="355" name="_s6154"/>
            <p:cNvCxnSpPr>
              <a:stCxn id="352" idx="0"/>
              <a:endCxn id="354" idx="2"/>
            </p:cNvCxnSpPr>
            <p:nvPr/>
          </p:nvCxnSpPr>
          <p:spPr>
            <a:xfrm flipH="1" flipV="1" rot="5400000">
              <a:off x="3359160" y="1781280"/>
              <a:ext cx="223920" cy="2278080"/>
            </a:xfrm>
            <a:prstGeom prst="bentConnector3">
              <a:avLst>
                <a:gd name="adj1" fmla="val 50402"/>
              </a:avLst>
            </a:prstGeom>
            <a:ln w="38160">
              <a:solidFill>
                <a:srgbClr val="ceb966"/>
              </a:solidFill>
              <a:miter/>
            </a:ln>
          </p:spPr>
        </p:cxnSp>
        <p:sp>
          <p:nvSpPr>
            <p:cNvPr id="354" name="_s6155"/>
            <p:cNvSpPr/>
            <p:nvPr/>
          </p:nvSpPr>
          <p:spPr>
            <a:xfrm>
              <a:off x="2658240" y="23623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иды инфля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6156"/>
            <p:cNvSpPr/>
            <p:nvPr/>
          </p:nvSpPr>
          <p:spPr>
            <a:xfrm>
              <a:off x="380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характеру протек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6157"/>
            <p:cNvSpPr/>
            <p:nvPr/>
          </p:nvSpPr>
          <p:spPr>
            <a:xfrm>
              <a:off x="4934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 зависимости от темпа роста ц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6158"/>
            <p:cNvSpPr/>
            <p:nvPr/>
          </p:nvSpPr>
          <p:spPr>
            <a:xfrm>
              <a:off x="380880" y="37015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ткрытая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продолжительный рост цен на товар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услуг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6159"/>
            <p:cNvSpPr/>
            <p:nvPr/>
          </p:nvSpPr>
          <p:spPr>
            <a:xfrm>
              <a:off x="380880" y="437148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крытая (подавленн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неизменные рознич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цены, рост денежных доходов насе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6160"/>
            <p:cNvSpPr/>
            <p:nvPr/>
          </p:nvSpPr>
          <p:spPr>
            <a:xfrm>
              <a:off x="4934880" y="370152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меренная (ползуч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менее 1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161"/>
            <p:cNvSpPr/>
            <p:nvPr/>
          </p:nvSpPr>
          <p:spPr>
            <a:xfrm>
              <a:off x="4934880" y="43714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от 20 до 2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162"/>
            <p:cNvSpPr/>
            <p:nvPr/>
          </p:nvSpPr>
          <p:spPr>
            <a:xfrm>
              <a:off x="4934880" y="50410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до 10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0"/>
          <p:cNvSpPr/>
          <p:nvPr/>
        </p:nvSpPr>
        <p:spPr>
          <a:xfrm>
            <a:off x="228600" y="5334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28600" y="152280"/>
            <a:ext cx="871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рост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ительный пер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од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Organization Chart 11"/>
          <p:cNvGrpSpPr/>
          <p:nvPr/>
        </p:nvGrpSpPr>
        <p:grpSpPr>
          <a:xfrm>
            <a:off x="304920" y="838080"/>
            <a:ext cx="8686080" cy="1295280"/>
            <a:chOff x="304920" y="838080"/>
            <a:chExt cx="8686080" cy="1295280"/>
          </a:xfrm>
        </p:grpSpPr>
        <p:cxnSp>
          <p:nvCxnSpPr>
            <p:cNvPr id="360" name="_s7172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687280" y="315720"/>
              <a:ext cx="259560" cy="23385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63" name="_s7173"/>
            <p:cNvCxnSpPr>
              <a:stCxn id="364" idx="0"/>
              <a:endCxn id="362" idx="2"/>
            </p:cNvCxnSpPr>
            <p:nvPr/>
          </p:nvCxnSpPr>
          <p:spPr>
            <a:xfrm flipH="1" flipV="1" rot="5400000">
              <a:off x="3349080" y="315360"/>
              <a:ext cx="259560" cy="23396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62" name="_s7174"/>
            <p:cNvSpPr/>
            <p:nvPr/>
          </p:nvSpPr>
          <p:spPr>
            <a:xfrm>
              <a:off x="2643840" y="838080"/>
              <a:ext cx="4008960" cy="518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ути достижение экономического ро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7175"/>
            <p:cNvSpPr/>
            <p:nvPr/>
          </p:nvSpPr>
          <p:spPr>
            <a:xfrm>
              <a:off x="304920" y="1615320"/>
              <a:ext cx="4008960" cy="51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с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7176"/>
            <p:cNvSpPr/>
            <p:nvPr/>
          </p:nvSpPr>
          <p:spPr>
            <a:xfrm>
              <a:off x="4982040" y="1615320"/>
              <a:ext cx="400896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9"/>
          <p:cNvSpPr/>
          <p:nvPr/>
        </p:nvSpPr>
        <p:spPr>
          <a:xfrm>
            <a:off x="152280" y="2208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 ВВП за счет расширения масштабов 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4419720" y="2208240"/>
            <a:ext cx="45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чение ВВП за счет качественного улучшения факторов производства и повышения их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228600" y="3429000"/>
            <a:ext cx="8686800" cy="76320"/>
          </a:xfrm>
          <a:prstGeom prst="rect">
            <a:avLst/>
          </a:prstGeom>
          <a:solidFill>
            <a:srgbClr val="41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228600" y="35211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цик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периодические колебания уровней занятости, производства и инфляции; период цикличности деловой активности 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(пик, рециссия, кризис, ож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Organization Chart 24"/>
          <p:cNvGrpSpPr/>
          <p:nvPr/>
        </p:nvGrpSpPr>
        <p:grpSpPr>
          <a:xfrm>
            <a:off x="152280" y="4419720"/>
            <a:ext cx="8838360" cy="1066320"/>
            <a:chOff x="152280" y="4419720"/>
            <a:chExt cx="8838360" cy="1066320"/>
          </a:xfrm>
        </p:grpSpPr>
        <p:cxnSp>
          <p:nvCxnSpPr>
            <p:cNvPr id="370" name="_s7179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54880" y="3763080"/>
              <a:ext cx="213840" cy="23792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73" name="_s7180"/>
            <p:cNvCxnSpPr>
              <a:stCxn id="374" idx="0"/>
              <a:endCxn id="372" idx="2"/>
            </p:cNvCxnSpPr>
            <p:nvPr/>
          </p:nvCxnSpPr>
          <p:spPr>
            <a:xfrm flipH="1" flipV="1" rot="5400000">
              <a:off x="3274560" y="3762360"/>
              <a:ext cx="213840" cy="238068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72" name="_s7181"/>
            <p:cNvSpPr/>
            <p:nvPr/>
          </p:nvSpPr>
          <p:spPr>
            <a:xfrm>
              <a:off x="2532240" y="4419720"/>
              <a:ext cx="4079160" cy="42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макроэкономические по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7182"/>
            <p:cNvSpPr/>
            <p:nvPr/>
          </p:nvSpPr>
          <p:spPr>
            <a:xfrm>
              <a:off x="152280" y="5059440"/>
              <a:ext cx="4079160" cy="42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внутренни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7183"/>
            <p:cNvSpPr/>
            <p:nvPr/>
          </p:nvSpPr>
          <p:spPr>
            <a:xfrm>
              <a:off x="4911480" y="5059440"/>
              <a:ext cx="4079160" cy="426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национальны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32"/>
          <p:cNvSpPr/>
          <p:nvPr/>
        </p:nvSpPr>
        <p:spPr>
          <a:xfrm>
            <a:off x="4835520" y="5624640"/>
            <a:ext cx="41562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52280" y="5637960"/>
            <a:ext cx="42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304920" y="2971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Экономическое развитие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качественные изменения в жизн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981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 и экономическая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производства и факторн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и рыночный механизм. Спрос и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и 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институты. Банковск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сточники финанс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труда. Безрабо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, причины и последствия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рост и развитие. Понятие 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государств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11496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 эффекты и обществен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76212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Внешние или побочные эффекты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Organization Chart 7"/>
          <p:cNvGrpSpPr/>
          <p:nvPr/>
        </p:nvGrpSpPr>
        <p:grpSpPr>
          <a:xfrm>
            <a:off x="457200" y="1828800"/>
            <a:ext cx="8228520" cy="1599480"/>
            <a:chOff x="457200" y="1828800"/>
            <a:chExt cx="8228520" cy="1599480"/>
          </a:xfrm>
        </p:grpSpPr>
        <p:cxnSp>
          <p:nvCxnSpPr>
            <p:cNvPr id="384" name="_s8196"/>
            <p:cNvCxnSpPr>
              <a:stCxn id="385" idx="0"/>
              <a:endCxn id="386" idx="3"/>
            </p:cNvCxnSpPr>
            <p:nvPr/>
          </p:nvCxnSpPr>
          <p:spPr>
            <a:xfrm flipV="1" rot="16200000">
              <a:off x="5518440" y="1476000"/>
              <a:ext cx="320400" cy="23043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87" name="_s8197"/>
            <p:cNvCxnSpPr>
              <a:stCxn id="388" idx="0"/>
              <a:endCxn id="386" idx="3"/>
            </p:cNvCxnSpPr>
            <p:nvPr/>
          </p:nvCxnSpPr>
          <p:spPr>
            <a:xfrm flipH="1" flipV="1" rot="5400000">
              <a:off x="3303000" y="1564200"/>
              <a:ext cx="320400" cy="21279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86" name="_s8198"/>
            <p:cNvSpPr/>
            <p:nvPr/>
          </p:nvSpPr>
          <p:spPr>
            <a:xfrm>
              <a:off x="2673000" y="182880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фф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8199"/>
            <p:cNvSpPr/>
            <p:nvPr/>
          </p:nvSpPr>
          <p:spPr>
            <a:xfrm>
              <a:off x="45720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200"/>
            <p:cNvSpPr/>
            <p:nvPr/>
          </p:nvSpPr>
          <p:spPr>
            <a:xfrm>
              <a:off x="488808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457200" y="35812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4876920" y="365760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228600" y="51055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0" descr="Картинка 9 из 60503"/>
          <p:cNvPicPr/>
          <p:nvPr/>
        </p:nvPicPr>
        <p:blipFill>
          <a:blip r:embed="rId1"/>
          <a:stretch/>
        </p:blipFill>
        <p:spPr>
          <a:xfrm>
            <a:off x="5029200" y="4648320"/>
            <a:ext cx="35719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Картинка 8 из 82929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291960" y="228600"/>
            <a:ext cx="862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НАЛОГИ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Картинка 14 из 82929"/>
          <p:cNvPicPr/>
          <p:nvPr/>
        </p:nvPicPr>
        <p:blipFill>
          <a:blip r:embed="rId1"/>
          <a:stretch/>
        </p:blipFill>
        <p:spPr>
          <a:xfrm>
            <a:off x="3200400" y="152280"/>
            <a:ext cx="57625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228600" y="457200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порциональ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сумма налога пропорциональна доходам работ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е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ниже до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выше д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Картинка 15 из 161774"/>
          <p:cNvPicPr/>
          <p:nvPr/>
        </p:nvPicPr>
        <p:blipFill>
          <a:blip r:embed="rId2"/>
          <a:stretch/>
        </p:blipFill>
        <p:spPr>
          <a:xfrm>
            <a:off x="2286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Картинка 65 из 161774"/>
          <p:cNvPicPr/>
          <p:nvPr/>
        </p:nvPicPr>
        <p:blipFill>
          <a:blip r:embed="rId3"/>
          <a:stretch/>
        </p:blipFill>
        <p:spPr>
          <a:xfrm>
            <a:off x="533520" y="380880"/>
            <a:ext cx="2309760" cy="17290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6543720" cy="4530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52280" y="30492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Государственный бюдж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мета доходов и расходов государства на определённый период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4920" y="37339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52280" y="4803840"/>
            <a:ext cx="8610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балансирован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равны доходам. Это самое оптимальное состояние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выше доходов. Дефицит – разность расходов и дохо­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доходы бюджета выше расходов. Профицит – разность доходов и расхо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04920" y="15228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Мировая экономика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8600" y="15238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91120" y="990720"/>
            <a:ext cx="380880" cy="533160"/>
          </a:xfrm>
          <a:prstGeom prst="upDownArrow">
            <a:avLst>
              <a:gd name="adj1" fmla="val 50000"/>
              <a:gd name="adj2" fmla="val 27866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rganization Chart 8"/>
          <p:cNvGrpSpPr/>
          <p:nvPr/>
        </p:nvGrpSpPr>
        <p:grpSpPr>
          <a:xfrm>
            <a:off x="380880" y="2209680"/>
            <a:ext cx="8609760" cy="990360"/>
            <a:chOff x="380880" y="2209680"/>
            <a:chExt cx="8609760" cy="990360"/>
          </a:xfrm>
        </p:grpSpPr>
        <p:cxnSp>
          <p:nvCxnSpPr>
            <p:cNvPr id="412" name="_s9220"/>
            <p:cNvCxnSpPr>
              <a:stCxn id="413" idx="0"/>
              <a:endCxn id="414" idx="2"/>
            </p:cNvCxnSpPr>
            <p:nvPr/>
          </p:nvCxnSpPr>
          <p:spPr>
            <a:xfrm flipV="1" rot="16200000">
              <a:off x="5745600" y="1545480"/>
              <a:ext cx="198720" cy="231804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415" name="_s9221"/>
            <p:cNvCxnSpPr>
              <a:stCxn id="416" idx="0"/>
              <a:endCxn id="414" idx="2"/>
            </p:cNvCxnSpPr>
            <p:nvPr/>
          </p:nvCxnSpPr>
          <p:spPr>
            <a:xfrm flipH="1" flipV="1" rot="5400000">
              <a:off x="3427560" y="1545120"/>
              <a:ext cx="198720" cy="231912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414" name="_s9222"/>
            <p:cNvSpPr/>
            <p:nvPr/>
          </p:nvSpPr>
          <p:spPr>
            <a:xfrm>
              <a:off x="2699280" y="2209680"/>
              <a:ext cx="3973680" cy="396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струменты мировой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23"/>
            <p:cNvSpPr/>
            <p:nvPr/>
          </p:nvSpPr>
          <p:spPr>
            <a:xfrm>
              <a:off x="380880" y="2804040"/>
              <a:ext cx="3973680" cy="39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ждународная торгов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9224"/>
            <p:cNvSpPr/>
            <p:nvPr/>
          </p:nvSpPr>
          <p:spPr>
            <a:xfrm>
              <a:off x="5016960" y="2804040"/>
              <a:ext cx="3973680" cy="396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ровая валют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6"/>
          <p:cNvSpPr/>
          <p:nvPr/>
        </p:nvSpPr>
        <p:spPr>
          <a:xfrm>
            <a:off x="4648320" y="3587040"/>
            <a:ext cx="434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обализация экономики — одна из закономерностей миров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заимозависимость экономик различных стран связ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352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5909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 flipH="1">
            <a:off x="121932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22096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2" descr="Картинка 92 из 20232"/>
          <p:cNvPicPr/>
          <p:nvPr/>
        </p:nvPicPr>
        <p:blipFill>
          <a:blip r:embed="rId4"/>
          <a:stretch/>
        </p:blipFill>
        <p:spPr>
          <a:xfrm>
            <a:off x="762120" y="3886200"/>
            <a:ext cx="2895480" cy="27129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908000" y="189000"/>
            <a:ext cx="5472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62120" y="1066680"/>
            <a:ext cx="32400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4800600" y="1066680"/>
            <a:ext cx="32418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80060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рганизации деятельности людей по созданию благ, необходимых им для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76212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поведение участников процесса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36232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594360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362320" y="1676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9436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971800" y="3505320"/>
            <a:ext cx="2665440" cy="5032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52280" y="4648320"/>
            <a:ext cx="20894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438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724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4648320"/>
            <a:ext cx="208728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9"/>
          <p:cNvCxnSpPr/>
          <p:nvPr/>
        </p:nvCxnSpPr>
        <p:spPr>
          <a:xfrm flipH="1">
            <a:off x="1136160" y="4016520"/>
            <a:ext cx="3169440" cy="58464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>
            <a:endCxn id="138" idx="0"/>
          </p:cNvCxnSpPr>
          <p:nvPr/>
        </p:nvCxnSpPr>
        <p:spPr>
          <a:xfrm flipH="1">
            <a:off x="3482640" y="4016160"/>
            <a:ext cx="8229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>
            <a:endCxn id="139" idx="0"/>
          </p:cNvCxnSpPr>
          <p:nvPr/>
        </p:nvCxnSpPr>
        <p:spPr>
          <a:xfrm>
            <a:off x="4305240" y="4016160"/>
            <a:ext cx="146448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>
            <a:endCxn id="140" idx="0"/>
          </p:cNvCxnSpPr>
          <p:nvPr/>
        </p:nvCxnSpPr>
        <p:spPr>
          <a:xfrm>
            <a:off x="4305240" y="4016160"/>
            <a:ext cx="36741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45" name="Прямоугольник 16"/>
          <p:cNvSpPr/>
          <p:nvPr/>
        </p:nvSpPr>
        <p:spPr>
          <a:xfrm>
            <a:off x="152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7"/>
          <p:cNvSpPr/>
          <p:nvPr/>
        </p:nvSpPr>
        <p:spPr>
          <a:xfrm>
            <a:off x="2438280" y="5334120"/>
            <a:ext cx="20876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"/>
          <p:cNvSpPr/>
          <p:nvPr/>
        </p:nvSpPr>
        <p:spPr>
          <a:xfrm>
            <a:off x="4724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й власти, ба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"/>
          <p:cNvSpPr/>
          <p:nvPr/>
        </p:nvSpPr>
        <p:spPr>
          <a:xfrm>
            <a:off x="6934320" y="5334120"/>
            <a:ext cx="2087280" cy="12366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1"/>
          <p:cNvCxnSpPr>
            <a:stCxn id="137" idx="2"/>
            <a:endCxn id="145" idx="0"/>
          </p:cNvCxnSpPr>
          <p:nvPr/>
        </p:nvCxnSpPr>
        <p:spPr>
          <a:xfrm>
            <a:off x="1196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0" name="Прямая со стрелкой 23"/>
          <p:cNvCxnSpPr>
            <a:stCxn id="138" idx="2"/>
            <a:endCxn id="146" idx="0"/>
          </p:cNvCxnSpPr>
          <p:nvPr/>
        </p:nvCxnSpPr>
        <p:spPr>
          <a:xfrm>
            <a:off x="3482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1" name="Прямая со стрелкой 25"/>
          <p:cNvCxnSpPr>
            <a:stCxn id="139" idx="2"/>
            <a:endCxn id="147" idx="0"/>
          </p:cNvCxnSpPr>
          <p:nvPr/>
        </p:nvCxnSpPr>
        <p:spPr>
          <a:xfrm>
            <a:off x="5768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2" name="Прямая со стрелкой 27"/>
          <p:cNvCxnSpPr>
            <a:stCxn id="140" idx="2"/>
            <a:endCxn id="148" idx="0"/>
          </p:cNvCxnSpPr>
          <p:nvPr/>
        </p:nvCxnSpPr>
        <p:spPr>
          <a:xfrm>
            <a:off x="797832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230040" y="189000"/>
            <a:ext cx="8663040" cy="647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вопросами в экономик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28600" y="990720"/>
            <a:ext cx="3262320" cy="86508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505320" y="990720"/>
            <a:ext cx="5400720" cy="8650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ужно покупателю, доступно по цене, выгодно производ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228600" y="1981080"/>
            <a:ext cx="326232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505320" y="1981080"/>
            <a:ext cx="540072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позволяет 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28600" y="2971800"/>
            <a:ext cx="326088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05320" y="2971800"/>
            <a:ext cx="538308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кто имеет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80880" y="4038480"/>
            <a:ext cx="8425080" cy="7858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науке существует два разд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380880" y="5181480"/>
            <a:ext cx="3810240" cy="1295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экономика занимается исследован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кономики семьи, фирмы, региона, рынков (факторов производства, товаров, 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21337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781680" y="48769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029200" y="5181480"/>
            <a:ext cx="3733920" cy="119124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щеэкономические процессы, влияющие на экономику страны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6451560"/>
                <a:gridCol w="21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Фактор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с фактора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Труд (совокупность физических и умственных способностей людей для создания экономических благ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ар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емля (все виды природных ресур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Р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Капитал: 1) физический (реальный) – произведенные человеком средства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           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) финансовый (денежный) – деньги для покупки факторов 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 (инвестици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едпринимательские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авильно соединить факторы производства и организовать производств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инимать решения и брать ответственность на себ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идти на рис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быть восприимчивым к нововвед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304920" y="30492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Факторы производства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3049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– новый вид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3" descr="j0187423"/>
          <p:cNvPicPr/>
          <p:nvPr/>
        </p:nvPicPr>
        <p:blipFill>
          <a:blip r:embed="rId1"/>
          <a:stretch/>
        </p:blipFill>
        <p:spPr>
          <a:xfrm>
            <a:off x="7010280" y="4800600"/>
            <a:ext cx="1762200" cy="1827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кономическая система</a:t>
            </a:r>
            <a:r>
              <a:rPr b="0" lang="ru-RU" sz="1600" spc="-1" strike="noStrike">
                <a:solidFill>
                  <a:srgbClr val="410082"/>
                </a:solidFill>
                <a:latin typeface="Arial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304920" y="1371600"/>
            <a:ext cx="8609760" cy="1370880"/>
            <a:chOff x="304920" y="1371600"/>
            <a:chExt cx="8609760" cy="137088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6146640" y="380520"/>
              <a:ext cx="274680" cy="33519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5030280" y="1496880"/>
              <a:ext cx="274680" cy="11192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914280" y="1499400"/>
              <a:ext cx="274680" cy="11145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81" name="_s1031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797920" y="382680"/>
              <a:ext cx="274680" cy="33476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3651840" y="1371600"/>
              <a:ext cx="1913760" cy="548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3"/>
            <p:cNvSpPr/>
            <p:nvPr/>
          </p:nvSpPr>
          <p:spPr>
            <a:xfrm>
              <a:off x="304920" y="2194200"/>
              <a:ext cx="1913760" cy="54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4"/>
            <p:cNvSpPr/>
            <p:nvPr/>
          </p:nvSpPr>
          <p:spPr>
            <a:xfrm>
              <a:off x="2537640" y="2194200"/>
              <a:ext cx="1913760" cy="54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анд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4770360" y="2194200"/>
              <a:ext cx="1913760" cy="548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6"/>
            <p:cNvSpPr/>
            <p:nvPr/>
          </p:nvSpPr>
          <p:spPr>
            <a:xfrm>
              <a:off x="7003080" y="2194200"/>
              <a:ext cx="1911600" cy="548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152280" y="2897640"/>
            <a:ext cx="213372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система, в которой все основные экономические вопросы решаются на основе традиций и обычаев. Она базируется на отсталой технологии, широком распространении ручного труда, ярко выраженной многоукладности экономики (различные формы хозя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438280" y="2897640"/>
            <a:ext cx="2133720" cy="371700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в которой доминируют общественная (государственная) собственность на средства производства, коллективное принятие экономических решений, централизованное руководство экономикой посредством государственного план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724280" y="2891520"/>
            <a:ext cx="205740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основанная на принципах свободного предпринимательства, многообразия форм собственности на средства производства, рыночного ценообразования, конкуренции, ограниченного вмешательства государства в хозяйственную деятель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010280" y="2892240"/>
            <a:ext cx="1905120" cy="3138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с элементами других экономических систем. Основные черты : экономическая деятельность на базе количественной частной и государственной собственности; активное государ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152280" y="990720"/>
            <a:ext cx="1371600" cy="9968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228600" y="152280"/>
            <a:ext cx="868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ыно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rganization Chart 9"/>
          <p:cNvGrpSpPr/>
          <p:nvPr/>
        </p:nvGrpSpPr>
        <p:grpSpPr>
          <a:xfrm>
            <a:off x="152280" y="1143000"/>
            <a:ext cx="3733200" cy="5409360"/>
            <a:chOff x="152280" y="1143000"/>
            <a:chExt cx="3733200" cy="5409360"/>
          </a:xfrm>
        </p:grpSpPr>
        <p:cxnSp>
          <p:nvCxnSpPr>
            <p:cNvPr id="191" name="_s2052"/>
            <p:cNvCxnSpPr>
              <a:stCxn id="192" idx="0"/>
              <a:endCxn id="193" idx="2"/>
            </p:cNvCxnSpPr>
            <p:nvPr/>
          </p:nvCxnSpPr>
          <p:spPr>
            <a:xfrm flipV="1">
              <a:off x="2765520" y="3074040"/>
              <a:ext cx="2880" cy="38700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4" name="_s2053"/>
            <p:cNvCxnSpPr>
              <a:stCxn id="195" idx="1"/>
              <a:endCxn id="196" idx="2"/>
            </p:cNvCxnSpPr>
            <p:nvPr/>
          </p:nvCxnSpPr>
          <p:spPr>
            <a:xfrm rot="10800000">
              <a:off x="1271520" y="1914840"/>
              <a:ext cx="374040" cy="42512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7" name="_s2054"/>
            <p:cNvCxnSpPr>
              <a:stCxn id="198" idx="1"/>
              <a:endCxn id="196" idx="2"/>
            </p:cNvCxnSpPr>
            <p:nvPr/>
          </p:nvCxnSpPr>
          <p:spPr>
            <a:xfrm rot="10800000">
              <a:off x="1271520" y="1914840"/>
              <a:ext cx="374040" cy="30920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9" name="_s2055"/>
            <p:cNvCxnSpPr>
              <a:stCxn id="193" idx="1"/>
              <a:endCxn id="196" idx="2"/>
            </p:cNvCxnSpPr>
            <p:nvPr/>
          </p:nvCxnSpPr>
          <p:spPr>
            <a:xfrm rot="10800000">
              <a:off x="1271520" y="1914840"/>
              <a:ext cx="374040" cy="77328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96" name="_s2056"/>
            <p:cNvSpPr/>
            <p:nvPr/>
          </p:nvSpPr>
          <p:spPr>
            <a:xfrm>
              <a:off x="152280" y="1143000"/>
              <a:ext cx="2239920" cy="77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ын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1645560" y="2302200"/>
              <a:ext cx="2239920" cy="77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законод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1645560" y="4620600"/>
              <a:ext cx="2239920" cy="772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пространств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ному признак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9"/>
            <p:cNvSpPr/>
            <p:nvPr/>
          </p:nvSpPr>
          <p:spPr>
            <a:xfrm>
              <a:off x="1645560" y="5779800"/>
              <a:ext cx="2239920" cy="772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ип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конкурен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0"/>
            <p:cNvSpPr/>
            <p:nvPr/>
          </p:nvSpPr>
          <p:spPr>
            <a:xfrm>
              <a:off x="1645560" y="3461400"/>
              <a:ext cx="2239920" cy="772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eb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оварам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услуга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9"/>
          <p:cNvSpPr/>
          <p:nvPr/>
        </p:nvSpPr>
        <p:spPr>
          <a:xfrm>
            <a:off x="4267080" y="121932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Конкуренция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67080" y="2362320"/>
          <a:ext cx="4586400" cy="4297320"/>
        </p:xfrm>
        <a:graphic>
          <a:graphicData uri="http://schemas.openxmlformats.org/drawingml/2006/table">
            <a:tbl>
              <a:tblPr/>
              <a:tblGrid>
                <a:gridCol w="1503360"/>
                <a:gridCol w="1027080"/>
                <a:gridCol w="1092240"/>
                <a:gridCol w="963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(свободная конкуренц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стическая конкурен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лиг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ет множество мелких фирм, предлагающих на рынок однородную продукц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доступ той или другой фирмы к информации о состоянии рынка, о ценах на товары (услуги), ресурсы, о затратах и т.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вступление новых фирм в отрасль, вход и выход из отрасли свобод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авец не может осуществить контроль над ценами, конкурентная фирма не может установить рыночную це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вступления других фирм в отрасль существуют значительные барье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_111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28600" y="15228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Спрос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подкреплённое денежной возможностью желание, намерение покупателей, потребителей приобрести данный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800600" y="15228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Предложение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желание или намерение производителя (продавца) предложить к продаже свои тов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52280" y="15238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05740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78168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343400" y="5335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28600" y="23616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 – цена, при которой величина спроса равна величине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28600" y="3172680"/>
            <a:ext cx="43434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у предлож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382760" y="-7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спроса на това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2280" y="381960"/>
            <a:ext cx="868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_111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29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28600" y="4572360"/>
            <a:ext cx="8686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спрос на товар возрастет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товар вышел из моды                   2) доходы покупателей возро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2280" y="5514840"/>
            <a:ext cx="8686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10:36:00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