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7987-E0EA-4830-8FBC-06FB56D767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в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86CA-B5B5-45CD-BC83-A322BD298A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обесценивания денег, который проявляется в виде долговременного повышения цен на товары и услуги (объем денежной массы значительно возрастает – количество товаров и услуг не увеличивае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ы инфля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лзучая 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ляция, при которой темпы роста цен на товары и услуги не превышает 10-15% в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алопирующая 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ачкообразный рост ц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ипер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ляция с очень высоким темпом роста цен (более 50% в месяц), наиболее тяжелая форма экономическог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E2C5-E6A1-480C-8FD3-01CACDC451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Причины инфля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ляция спрос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, когда спрос превышает предложение, что ведет к росту цен (доходы населения  предприятий растут быстрее реального объема товаров и услу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ляция издерже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как следствие повышения издержек на единицу продукции. На уровень издержек производства могут влиять изменение величины налогов на производителя, увеличение з/п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C09D-5C45-4120-828D-0A9F330DB5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Антиинфляционная политика государ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госрочная денежная политика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жестких ограничений на ежегодные приросты денежной м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кращение государственного бюдже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увеличения доходов и уменьшения расходов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инфляционные мероприят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абилизация и стимул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вершенствование налогов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р по регулированию цен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46FE-B5FB-4EB9-8F8F-B7E8E7CFD2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играют огромную роль в структуре рыночных отношений и механизме их государственного рег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6257-2CB3-42A7-B169-6CDB9AD3B4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43AA-BAFD-43F9-AF02-67EE70348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Финанс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вокупность экономических отношений в процессе использования денежны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75F2-1BB5-4D3B-B630-630E56BB81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Банковская система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действующих в стране банков и других кредитных учреждений и 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F615-C3CD-4732-B99A-8826CAE61F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Основные функции Центрального бан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уществление денежно- кредитной политик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едитование коммерческих ба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еспечение стабильной деятельности банковской и финансовой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держание устойчивости национальной денежной еди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ранение запасов денежных средств и зо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205E-D597-46EF-B3D3-B278251666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Типы коммерческих банк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раслевые ба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определенные отрасли эконом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отраслев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все отрасли эконом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гиональные ба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определенные регионы стра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794A-5AC7-49A0-AD7F-78BB44F461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Операции коммерческого бан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ерации по мобилизации денежных ресурсов: прием вкладов (депозитов); получение кредитов от других банков и центрального банка; выпуск соб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ерации по размещению средств: предоставление различных по срокам и размерам креди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EED6-D42B-42E1-BC29-C459505F79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Финансово- кредитные учрежд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пливают свободные денежные средства и предоставляют их тем, кто нуждается в дополнительном капитале или финансо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Пенсионный фон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, создаваемый частными и государственными компаниями, предприятиями для выплаты пенсий и пособий лицам, вносящим пенсионные взносы в этот фо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Инвестиционные комп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о- кредитный институт, собирающий денежные средства частных инвесторов через продажу им соб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CFAA-DEDD-402D-8FDF-95198F5595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Страховые комп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, оказывающие страховые услуги, предназначены для возмещения ущерба, потерь несчастными случа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Фондовые бирж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уются на продаже и покупке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ежгосударственные финансово-кредитные институ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ировой банк, Международный валютный фонд, Европейский банк реконструкции и развития и др.). Они занимаются финансированием и кредитованием разных стран, содействуют мировой торговле, оказывают помощь в стабилизации финансов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28EF-3089-4F49-B32B-073454E3A1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EA25-C264-447A-A062-B069E338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3DF7-3EF6-4E21-A781-4B73FCE6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B04C-B27D-4616-9EE4-F9F750A9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CAFE-9F43-4354-B4CC-EEE67BE1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8F6D-8C05-4FA7-80AF-1AB11353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AE8C-1030-4D92-B3A5-731C3867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FB53-A19C-474B-A7C5-DD00F5C9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8C36-9A6F-47C1-B5E9-53F8EC0A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1330-9B34-4E1E-AF78-75E6B3E5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43AE-3D70-4D40-9F02-D6119BBE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04AB-5D4F-4495-BA5E-BBE0EFF1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A39A-3C12-4500-B523-6279100A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B0EC-B9DE-423D-A433-F8991BBD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477A-A3B8-4BD8-8B2E-92DA407A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9B6B-3DFA-4A60-961E-403AED7C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25C4-AABE-41F6-A5E1-A0293FC5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D665-A125-4C0C-9420-F8849E43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A2E0-A4D6-433C-9A67-D2DDEBFC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891A-B901-47AA-80E9-AC0E7E4C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620B-8D1D-4373-A0F7-826DC5E9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A809-8A1D-416E-9DB7-81619502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D7A7-CC9B-42F8-B855-77800AE4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236A-7304-4589-9E33-20B23290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03BC-8528-4BCD-9567-9C88ED06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7EDA-15E9-4675-B68A-D15B561081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0928-FB83-49D2-A8E3-E8371EF513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7807320" cy="107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214200" y="1285920"/>
            <a:ext cx="84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инансы в экономи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Object 6"/>
          <p:cNvGraphicFramePr/>
          <p:nvPr/>
        </p:nvGraphicFramePr>
        <p:xfrm>
          <a:off x="2643120" y="2071800"/>
          <a:ext cx="3240000" cy="36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3120" y="2071800"/>
                    <a:ext cx="324000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5" name="Group 10"/>
          <p:cNvGrpSpPr/>
          <p:nvPr/>
        </p:nvGrpSpPr>
        <p:grpSpPr>
          <a:xfrm>
            <a:off x="4786200" y="4357800"/>
            <a:ext cx="3959640" cy="1794240"/>
            <a:chOff x="4786200" y="4357800"/>
            <a:chExt cx="3959640" cy="1794240"/>
          </a:xfrm>
        </p:grpSpPr>
        <p:grpSp>
          <p:nvGrpSpPr>
            <p:cNvPr id="526" name="Group 11"/>
            <p:cNvGrpSpPr/>
            <p:nvPr/>
          </p:nvGrpSpPr>
          <p:grpSpPr>
            <a:xfrm>
              <a:off x="4786200" y="4357800"/>
              <a:ext cx="3959640" cy="1794240"/>
              <a:chOff x="4786200" y="4357800"/>
              <a:chExt cx="3959640" cy="1794240"/>
            </a:xfrm>
          </p:grpSpPr>
          <p:sp>
            <p:nvSpPr>
              <p:cNvPr id="527" name="Freeform 12"/>
              <p:cNvSpPr/>
              <p:nvPr/>
            </p:nvSpPr>
            <p:spPr>
              <a:xfrm>
                <a:off x="4845960" y="4909320"/>
                <a:ext cx="3870720" cy="1242720"/>
              </a:xfrm>
              <a:custGeom>
                <a:avLst/>
                <a:gdLst/>
                <a:ahLst/>
                <a:rect l="l" t="t" r="r" b="b"/>
                <a:pathLst>
                  <a:path w="3638" h="1257">
                    <a:moveTo>
                      <a:pt x="241" y="570"/>
                    </a:moveTo>
                    <a:lnTo>
                      <a:pt x="0" y="623"/>
                    </a:lnTo>
                    <a:lnTo>
                      <a:pt x="213" y="713"/>
                    </a:lnTo>
                    <a:lnTo>
                      <a:pt x="427" y="776"/>
                    </a:lnTo>
                    <a:lnTo>
                      <a:pt x="614" y="817"/>
                    </a:lnTo>
                    <a:lnTo>
                      <a:pt x="734" y="883"/>
                    </a:lnTo>
                    <a:lnTo>
                      <a:pt x="903" y="999"/>
                    </a:lnTo>
                    <a:lnTo>
                      <a:pt x="1052" y="1153"/>
                    </a:lnTo>
                    <a:lnTo>
                      <a:pt x="1210" y="1233"/>
                    </a:lnTo>
                    <a:lnTo>
                      <a:pt x="1313" y="1257"/>
                    </a:lnTo>
                    <a:lnTo>
                      <a:pt x="1453" y="1141"/>
                    </a:lnTo>
                    <a:lnTo>
                      <a:pt x="1591" y="1025"/>
                    </a:lnTo>
                    <a:lnTo>
                      <a:pt x="1871" y="883"/>
                    </a:lnTo>
                    <a:lnTo>
                      <a:pt x="2103" y="790"/>
                    </a:lnTo>
                    <a:lnTo>
                      <a:pt x="2474" y="623"/>
                    </a:lnTo>
                    <a:lnTo>
                      <a:pt x="3053" y="415"/>
                    </a:lnTo>
                    <a:lnTo>
                      <a:pt x="3238" y="350"/>
                    </a:lnTo>
                    <a:lnTo>
                      <a:pt x="3424" y="324"/>
                    </a:lnTo>
                    <a:lnTo>
                      <a:pt x="3638" y="350"/>
                    </a:lnTo>
                    <a:lnTo>
                      <a:pt x="3220" y="246"/>
                    </a:lnTo>
                    <a:lnTo>
                      <a:pt x="2922" y="260"/>
                    </a:lnTo>
                    <a:lnTo>
                      <a:pt x="2502" y="182"/>
                    </a:lnTo>
                    <a:lnTo>
                      <a:pt x="2195" y="65"/>
                    </a:lnTo>
                    <a:lnTo>
                      <a:pt x="1963" y="0"/>
                    </a:lnTo>
                    <a:lnTo>
                      <a:pt x="1684" y="182"/>
                    </a:lnTo>
                    <a:lnTo>
                      <a:pt x="1173" y="389"/>
                    </a:lnTo>
                    <a:lnTo>
                      <a:pt x="698" y="518"/>
                    </a:lnTo>
                    <a:lnTo>
                      <a:pt x="241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3"/>
              <p:cNvSpPr/>
              <p:nvPr/>
            </p:nvSpPr>
            <p:spPr>
              <a:xfrm>
                <a:off x="4836600" y="4805640"/>
                <a:ext cx="3685320" cy="120708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6" y="545"/>
                    </a:lnTo>
                    <a:lnTo>
                      <a:pt x="809" y="506"/>
                    </a:lnTo>
                    <a:lnTo>
                      <a:pt x="1135" y="403"/>
                    </a:lnTo>
                    <a:lnTo>
                      <a:pt x="1442" y="272"/>
                    </a:lnTo>
                    <a:lnTo>
                      <a:pt x="1675" y="182"/>
                    </a:lnTo>
                    <a:lnTo>
                      <a:pt x="1814" y="104"/>
                    </a:lnTo>
                    <a:lnTo>
                      <a:pt x="1908" y="0"/>
                    </a:lnTo>
                    <a:lnTo>
                      <a:pt x="2103" y="90"/>
                    </a:lnTo>
                    <a:lnTo>
                      <a:pt x="2316" y="130"/>
                    </a:lnTo>
                    <a:lnTo>
                      <a:pt x="2642" y="232"/>
                    </a:lnTo>
                    <a:lnTo>
                      <a:pt x="2969" y="272"/>
                    </a:lnTo>
                    <a:lnTo>
                      <a:pt x="3248" y="232"/>
                    </a:lnTo>
                    <a:lnTo>
                      <a:pt x="3461" y="208"/>
                    </a:lnTo>
                    <a:lnTo>
                      <a:pt x="3238" y="350"/>
                    </a:lnTo>
                    <a:lnTo>
                      <a:pt x="3071" y="414"/>
                    </a:lnTo>
                    <a:lnTo>
                      <a:pt x="2875" y="519"/>
                    </a:lnTo>
                    <a:lnTo>
                      <a:pt x="2447" y="648"/>
                    </a:lnTo>
                    <a:lnTo>
                      <a:pt x="2112" y="752"/>
                    </a:lnTo>
                    <a:lnTo>
                      <a:pt x="1842" y="907"/>
                    </a:lnTo>
                    <a:lnTo>
                      <a:pt x="1562" y="1024"/>
                    </a:lnTo>
                    <a:lnTo>
                      <a:pt x="1266" y="1155"/>
                    </a:lnTo>
                    <a:lnTo>
                      <a:pt x="1182" y="1219"/>
                    </a:lnTo>
                    <a:lnTo>
                      <a:pt x="1005" y="1063"/>
                    </a:lnTo>
                    <a:lnTo>
                      <a:pt x="772" y="880"/>
                    </a:lnTo>
                    <a:lnTo>
                      <a:pt x="576" y="817"/>
                    </a:lnTo>
                    <a:lnTo>
                      <a:pt x="335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4"/>
              <p:cNvSpPr/>
              <p:nvPr/>
            </p:nvSpPr>
            <p:spPr>
              <a:xfrm>
                <a:off x="4856400" y="4704840"/>
                <a:ext cx="3684600" cy="120384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4" y="544"/>
                    </a:lnTo>
                    <a:lnTo>
                      <a:pt x="808" y="507"/>
                    </a:lnTo>
                    <a:lnTo>
                      <a:pt x="1136" y="402"/>
                    </a:lnTo>
                    <a:lnTo>
                      <a:pt x="1443" y="273"/>
                    </a:lnTo>
                    <a:lnTo>
                      <a:pt x="1675" y="183"/>
                    </a:lnTo>
                    <a:lnTo>
                      <a:pt x="1814" y="104"/>
                    </a:lnTo>
                    <a:lnTo>
                      <a:pt x="1907" y="0"/>
                    </a:lnTo>
                    <a:lnTo>
                      <a:pt x="2102" y="92"/>
                    </a:lnTo>
                    <a:lnTo>
                      <a:pt x="2317" y="130"/>
                    </a:lnTo>
                    <a:lnTo>
                      <a:pt x="2642" y="234"/>
                    </a:lnTo>
                    <a:lnTo>
                      <a:pt x="2968" y="273"/>
                    </a:lnTo>
                    <a:lnTo>
                      <a:pt x="3247" y="234"/>
                    </a:lnTo>
                    <a:lnTo>
                      <a:pt x="3461" y="208"/>
                    </a:lnTo>
                    <a:lnTo>
                      <a:pt x="3237" y="350"/>
                    </a:lnTo>
                    <a:lnTo>
                      <a:pt x="3070" y="416"/>
                    </a:lnTo>
                    <a:lnTo>
                      <a:pt x="2875" y="518"/>
                    </a:lnTo>
                    <a:lnTo>
                      <a:pt x="2447" y="649"/>
                    </a:lnTo>
                    <a:lnTo>
                      <a:pt x="2113" y="752"/>
                    </a:lnTo>
                    <a:lnTo>
                      <a:pt x="1842" y="908"/>
                    </a:lnTo>
                    <a:lnTo>
                      <a:pt x="1563" y="1025"/>
                    </a:lnTo>
                    <a:lnTo>
                      <a:pt x="1265" y="1156"/>
                    </a:lnTo>
                    <a:lnTo>
                      <a:pt x="1182" y="1219"/>
                    </a:lnTo>
                    <a:lnTo>
                      <a:pt x="1005" y="1065"/>
                    </a:lnTo>
                    <a:lnTo>
                      <a:pt x="772" y="882"/>
                    </a:lnTo>
                    <a:lnTo>
                      <a:pt x="577" y="816"/>
                    </a:lnTo>
                    <a:lnTo>
                      <a:pt x="334" y="765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5"/>
              <p:cNvSpPr/>
              <p:nvPr/>
            </p:nvSpPr>
            <p:spPr>
              <a:xfrm>
                <a:off x="4786200" y="4601160"/>
                <a:ext cx="3873600" cy="1245600"/>
              </a:xfrm>
              <a:custGeom>
                <a:avLst/>
                <a:gdLst/>
                <a:ahLst/>
                <a:rect l="l" t="t" r="r" b="b"/>
                <a:pathLst>
                  <a:path w="3637" h="1261">
                    <a:moveTo>
                      <a:pt x="241" y="573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8" y="779"/>
                    </a:lnTo>
                    <a:lnTo>
                      <a:pt x="613" y="819"/>
                    </a:lnTo>
                    <a:lnTo>
                      <a:pt x="733" y="883"/>
                    </a:lnTo>
                    <a:lnTo>
                      <a:pt x="902" y="999"/>
                    </a:lnTo>
                    <a:lnTo>
                      <a:pt x="1051" y="1156"/>
                    </a:lnTo>
                    <a:lnTo>
                      <a:pt x="1209" y="1233"/>
                    </a:lnTo>
                    <a:lnTo>
                      <a:pt x="1312" y="1261"/>
                    </a:lnTo>
                    <a:lnTo>
                      <a:pt x="1451" y="1144"/>
                    </a:lnTo>
                    <a:lnTo>
                      <a:pt x="1591" y="1026"/>
                    </a:lnTo>
                    <a:lnTo>
                      <a:pt x="1869" y="883"/>
                    </a:lnTo>
                    <a:lnTo>
                      <a:pt x="2102" y="791"/>
                    </a:lnTo>
                    <a:lnTo>
                      <a:pt x="2473" y="623"/>
                    </a:lnTo>
                    <a:lnTo>
                      <a:pt x="3051" y="417"/>
                    </a:lnTo>
                    <a:lnTo>
                      <a:pt x="3238" y="352"/>
                    </a:lnTo>
                    <a:lnTo>
                      <a:pt x="3422" y="325"/>
                    </a:lnTo>
                    <a:lnTo>
                      <a:pt x="3637" y="352"/>
                    </a:lnTo>
                    <a:lnTo>
                      <a:pt x="3219" y="249"/>
                    </a:lnTo>
                    <a:lnTo>
                      <a:pt x="2921" y="262"/>
                    </a:lnTo>
                    <a:lnTo>
                      <a:pt x="2502" y="183"/>
                    </a:lnTo>
                    <a:lnTo>
                      <a:pt x="2195" y="65"/>
                    </a:lnTo>
                    <a:lnTo>
                      <a:pt x="1962" y="0"/>
                    </a:lnTo>
                    <a:lnTo>
                      <a:pt x="1684" y="183"/>
                    </a:lnTo>
                    <a:lnTo>
                      <a:pt x="1172" y="391"/>
                    </a:lnTo>
                    <a:lnTo>
                      <a:pt x="697" y="521"/>
                    </a:lnTo>
                    <a:lnTo>
                      <a:pt x="241" y="573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6"/>
              <p:cNvSpPr/>
              <p:nvPr/>
            </p:nvSpPr>
            <p:spPr>
              <a:xfrm>
                <a:off x="4817880" y="4511520"/>
                <a:ext cx="3684600" cy="120456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4" y="570"/>
                    </a:lnTo>
                    <a:lnTo>
                      <a:pt x="594" y="544"/>
                    </a:lnTo>
                    <a:lnTo>
                      <a:pt x="809" y="506"/>
                    </a:lnTo>
                    <a:lnTo>
                      <a:pt x="1135" y="402"/>
                    </a:lnTo>
                    <a:lnTo>
                      <a:pt x="1442" y="272"/>
                    </a:lnTo>
                    <a:lnTo>
                      <a:pt x="1674" y="180"/>
                    </a:lnTo>
                    <a:lnTo>
                      <a:pt x="1814" y="103"/>
                    </a:lnTo>
                    <a:lnTo>
                      <a:pt x="1907" y="0"/>
                    </a:lnTo>
                    <a:lnTo>
                      <a:pt x="2103" y="89"/>
                    </a:lnTo>
                    <a:lnTo>
                      <a:pt x="2317" y="128"/>
                    </a:lnTo>
                    <a:lnTo>
                      <a:pt x="2641" y="235"/>
                    </a:lnTo>
                    <a:lnTo>
                      <a:pt x="2969" y="272"/>
                    </a:lnTo>
                    <a:lnTo>
                      <a:pt x="3247" y="235"/>
                    </a:lnTo>
                    <a:lnTo>
                      <a:pt x="3461" y="205"/>
                    </a:lnTo>
                    <a:lnTo>
                      <a:pt x="3238" y="351"/>
                    </a:lnTo>
                    <a:lnTo>
                      <a:pt x="3071" y="414"/>
                    </a:lnTo>
                    <a:lnTo>
                      <a:pt x="2876" y="519"/>
                    </a:lnTo>
                    <a:lnTo>
                      <a:pt x="2445" y="648"/>
                    </a:lnTo>
                    <a:lnTo>
                      <a:pt x="2111" y="752"/>
                    </a:lnTo>
                    <a:lnTo>
                      <a:pt x="1843" y="908"/>
                    </a:lnTo>
                    <a:lnTo>
                      <a:pt x="1563" y="1025"/>
                    </a:lnTo>
                    <a:lnTo>
                      <a:pt x="1266" y="1154"/>
                    </a:lnTo>
                    <a:lnTo>
                      <a:pt x="1182" y="1219"/>
                    </a:lnTo>
                    <a:lnTo>
                      <a:pt x="1006" y="1062"/>
                    </a:lnTo>
                    <a:lnTo>
                      <a:pt x="771" y="880"/>
                    </a:lnTo>
                    <a:lnTo>
                      <a:pt x="576" y="817"/>
                    </a:lnTo>
                    <a:lnTo>
                      <a:pt x="334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7"/>
              <p:cNvSpPr/>
              <p:nvPr/>
            </p:nvSpPr>
            <p:spPr>
              <a:xfrm>
                <a:off x="4875120" y="4357800"/>
                <a:ext cx="3870720" cy="1242720"/>
              </a:xfrm>
              <a:custGeom>
                <a:avLst/>
                <a:gdLst/>
                <a:ahLst/>
                <a:rect l="l" t="t" r="r" b="b"/>
                <a:pathLst>
                  <a:path w="3636" h="1258">
                    <a:moveTo>
                      <a:pt x="240" y="570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7" y="778"/>
                    </a:lnTo>
                    <a:lnTo>
                      <a:pt x="613" y="818"/>
                    </a:lnTo>
                    <a:lnTo>
                      <a:pt x="734" y="882"/>
                    </a:lnTo>
                    <a:lnTo>
                      <a:pt x="902" y="999"/>
                    </a:lnTo>
                    <a:lnTo>
                      <a:pt x="1050" y="1152"/>
                    </a:lnTo>
                    <a:lnTo>
                      <a:pt x="1209" y="1232"/>
                    </a:lnTo>
                    <a:lnTo>
                      <a:pt x="1311" y="1258"/>
                    </a:lnTo>
                    <a:lnTo>
                      <a:pt x="1451" y="1141"/>
                    </a:lnTo>
                    <a:lnTo>
                      <a:pt x="1591" y="1024"/>
                    </a:lnTo>
                    <a:lnTo>
                      <a:pt x="1869" y="882"/>
                    </a:lnTo>
                    <a:lnTo>
                      <a:pt x="2102" y="792"/>
                    </a:lnTo>
                    <a:lnTo>
                      <a:pt x="2473" y="623"/>
                    </a:lnTo>
                    <a:lnTo>
                      <a:pt x="3051" y="416"/>
                    </a:lnTo>
                    <a:lnTo>
                      <a:pt x="3238" y="350"/>
                    </a:lnTo>
                    <a:lnTo>
                      <a:pt x="3422" y="324"/>
                    </a:lnTo>
                    <a:lnTo>
                      <a:pt x="3636" y="350"/>
                    </a:lnTo>
                    <a:lnTo>
                      <a:pt x="3218" y="245"/>
                    </a:lnTo>
                    <a:lnTo>
                      <a:pt x="2920" y="259"/>
                    </a:lnTo>
                    <a:lnTo>
                      <a:pt x="2501" y="182"/>
                    </a:lnTo>
                    <a:lnTo>
                      <a:pt x="2194" y="66"/>
                    </a:lnTo>
                    <a:lnTo>
                      <a:pt x="1962" y="0"/>
                    </a:lnTo>
                    <a:lnTo>
                      <a:pt x="1684" y="182"/>
                    </a:lnTo>
                    <a:lnTo>
                      <a:pt x="1173" y="391"/>
                    </a:lnTo>
                    <a:lnTo>
                      <a:pt x="696" y="518"/>
                    </a:lnTo>
                    <a:lnTo>
                      <a:pt x="24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18"/>
            <p:cNvGrpSpPr/>
            <p:nvPr/>
          </p:nvGrpSpPr>
          <p:grpSpPr>
            <a:xfrm>
              <a:off x="6127560" y="4547520"/>
              <a:ext cx="1234800" cy="1040760"/>
              <a:chOff x="6127560" y="4547520"/>
              <a:chExt cx="1234800" cy="1040760"/>
            </a:xfrm>
          </p:grpSpPr>
          <p:sp>
            <p:nvSpPr>
              <p:cNvPr id="534" name="Freeform 19"/>
              <p:cNvSpPr/>
              <p:nvPr/>
            </p:nvSpPr>
            <p:spPr>
              <a:xfrm>
                <a:off x="6127560" y="4547520"/>
                <a:ext cx="1216080" cy="554760"/>
              </a:xfrm>
              <a:custGeom>
                <a:avLst/>
                <a:gdLst/>
                <a:ahLst/>
                <a:rect l="l" t="t" r="r" b="b"/>
                <a:pathLst>
                  <a:path w="1143" h="559">
                    <a:moveTo>
                      <a:pt x="0" y="131"/>
                    </a:moveTo>
                    <a:lnTo>
                      <a:pt x="874" y="559"/>
                    </a:lnTo>
                    <a:lnTo>
                      <a:pt x="1143" y="443"/>
                    </a:lnTo>
                    <a:lnTo>
                      <a:pt x="2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b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0"/>
              <p:cNvSpPr/>
              <p:nvPr/>
            </p:nvSpPr>
            <p:spPr>
              <a:xfrm>
                <a:off x="7065720" y="4974480"/>
                <a:ext cx="296640" cy="613800"/>
              </a:xfrm>
              <a:custGeom>
                <a:avLst/>
                <a:gdLst/>
                <a:ahLst/>
                <a:rect l="l" t="t" r="r" b="b"/>
                <a:pathLst>
                  <a:path w="279" h="621">
                    <a:moveTo>
                      <a:pt x="0" y="129"/>
                    </a:moveTo>
                    <a:lnTo>
                      <a:pt x="270" y="0"/>
                    </a:lnTo>
                    <a:lnTo>
                      <a:pt x="279" y="492"/>
                    </a:lnTo>
                    <a:lnTo>
                      <a:pt x="0" y="621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7f3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218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фля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обесценивания денег, который проявляется в виде долговременного повышения цен на товары и услуги (объем денежной массы значительно возрастает – количество товаров и услуг не увеличивает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ы инфля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зучая 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фляция, при которой темпы роста цен на товары и услуги не превышает 10-15% в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алопирующая 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качкообразный рост 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ипер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фляция с очень высоким темпом роста цен (более 50% в месяц), наиболее тяжелая форма экономического криз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ричины инфля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ляция спро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яется, когда спрос превышает предложение, что ведет к росту цен (доходы населения  предприятий растут быстрее реального объема товаров и услу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ляция издерж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ет как следствие повышения издержек на единицу продукции. На уровень издержек производства могут влиять изменение величины налогов на производителя, увеличение з/п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Антиинфляционная политика государ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осрочная денежная политик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жестких ограничений на ежегодные приросты денежной м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щение государственного бюдже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мощи увеличения доходов и уменьшения расходов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инфляционные мероприя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абилизация и стимулирование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вершенствование налог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дение мер по регулированию цен и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ы играют огромную роль в структуре рыночных отношений и механизме их государственного регулир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Финан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вокупность экономических отношений в процессе использования денеж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8"/>
          <p:cNvGraphicFramePr/>
          <p:nvPr/>
        </p:nvGraphicFramePr>
        <p:xfrm>
          <a:off x="395280" y="2060640"/>
          <a:ext cx="3240000" cy="36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324000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5" name="Group 10"/>
          <p:cNvGrpSpPr/>
          <p:nvPr/>
        </p:nvGrpSpPr>
        <p:grpSpPr>
          <a:xfrm>
            <a:off x="1258920" y="4724280"/>
            <a:ext cx="3959280" cy="1794600"/>
            <a:chOff x="1258920" y="4724280"/>
            <a:chExt cx="3959280" cy="1794600"/>
          </a:xfrm>
        </p:grpSpPr>
        <p:grpSp>
          <p:nvGrpSpPr>
            <p:cNvPr id="546" name="Group 11"/>
            <p:cNvGrpSpPr/>
            <p:nvPr/>
          </p:nvGrpSpPr>
          <p:grpSpPr>
            <a:xfrm>
              <a:off x="1258920" y="4724280"/>
              <a:ext cx="3959280" cy="1794600"/>
              <a:chOff x="1258920" y="4724280"/>
              <a:chExt cx="3959280" cy="1794600"/>
            </a:xfrm>
          </p:grpSpPr>
          <p:sp>
            <p:nvSpPr>
              <p:cNvPr id="547" name="Freeform 12"/>
              <p:cNvSpPr/>
              <p:nvPr/>
            </p:nvSpPr>
            <p:spPr>
              <a:xfrm>
                <a:off x="1318680" y="5275800"/>
                <a:ext cx="3870360" cy="1243080"/>
              </a:xfrm>
              <a:custGeom>
                <a:avLst/>
                <a:gdLst/>
                <a:ahLst/>
                <a:rect l="l" t="t" r="r" b="b"/>
                <a:pathLst>
                  <a:path w="3638" h="1257">
                    <a:moveTo>
                      <a:pt x="241" y="570"/>
                    </a:moveTo>
                    <a:lnTo>
                      <a:pt x="0" y="623"/>
                    </a:lnTo>
                    <a:lnTo>
                      <a:pt x="213" y="713"/>
                    </a:lnTo>
                    <a:lnTo>
                      <a:pt x="427" y="776"/>
                    </a:lnTo>
                    <a:lnTo>
                      <a:pt x="614" y="817"/>
                    </a:lnTo>
                    <a:lnTo>
                      <a:pt x="734" y="883"/>
                    </a:lnTo>
                    <a:lnTo>
                      <a:pt x="903" y="999"/>
                    </a:lnTo>
                    <a:lnTo>
                      <a:pt x="1052" y="1153"/>
                    </a:lnTo>
                    <a:lnTo>
                      <a:pt x="1210" y="1233"/>
                    </a:lnTo>
                    <a:lnTo>
                      <a:pt x="1313" y="1257"/>
                    </a:lnTo>
                    <a:lnTo>
                      <a:pt x="1453" y="1141"/>
                    </a:lnTo>
                    <a:lnTo>
                      <a:pt x="1591" y="1025"/>
                    </a:lnTo>
                    <a:lnTo>
                      <a:pt x="1871" y="883"/>
                    </a:lnTo>
                    <a:lnTo>
                      <a:pt x="2103" y="790"/>
                    </a:lnTo>
                    <a:lnTo>
                      <a:pt x="2474" y="623"/>
                    </a:lnTo>
                    <a:lnTo>
                      <a:pt x="3053" y="415"/>
                    </a:lnTo>
                    <a:lnTo>
                      <a:pt x="3238" y="350"/>
                    </a:lnTo>
                    <a:lnTo>
                      <a:pt x="3424" y="324"/>
                    </a:lnTo>
                    <a:lnTo>
                      <a:pt x="3638" y="350"/>
                    </a:lnTo>
                    <a:lnTo>
                      <a:pt x="3220" y="246"/>
                    </a:lnTo>
                    <a:lnTo>
                      <a:pt x="2922" y="260"/>
                    </a:lnTo>
                    <a:lnTo>
                      <a:pt x="2502" y="182"/>
                    </a:lnTo>
                    <a:lnTo>
                      <a:pt x="2195" y="65"/>
                    </a:lnTo>
                    <a:lnTo>
                      <a:pt x="1963" y="0"/>
                    </a:lnTo>
                    <a:lnTo>
                      <a:pt x="1684" y="182"/>
                    </a:lnTo>
                    <a:lnTo>
                      <a:pt x="1173" y="389"/>
                    </a:lnTo>
                    <a:lnTo>
                      <a:pt x="698" y="518"/>
                    </a:lnTo>
                    <a:lnTo>
                      <a:pt x="241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3"/>
              <p:cNvSpPr/>
              <p:nvPr/>
            </p:nvSpPr>
            <p:spPr>
              <a:xfrm>
                <a:off x="1309320" y="5172120"/>
                <a:ext cx="3684960" cy="120744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6" y="545"/>
                    </a:lnTo>
                    <a:lnTo>
                      <a:pt x="809" y="506"/>
                    </a:lnTo>
                    <a:lnTo>
                      <a:pt x="1135" y="403"/>
                    </a:lnTo>
                    <a:lnTo>
                      <a:pt x="1442" y="272"/>
                    </a:lnTo>
                    <a:lnTo>
                      <a:pt x="1675" y="182"/>
                    </a:lnTo>
                    <a:lnTo>
                      <a:pt x="1814" y="104"/>
                    </a:lnTo>
                    <a:lnTo>
                      <a:pt x="1908" y="0"/>
                    </a:lnTo>
                    <a:lnTo>
                      <a:pt x="2103" y="90"/>
                    </a:lnTo>
                    <a:lnTo>
                      <a:pt x="2316" y="130"/>
                    </a:lnTo>
                    <a:lnTo>
                      <a:pt x="2642" y="232"/>
                    </a:lnTo>
                    <a:lnTo>
                      <a:pt x="2969" y="272"/>
                    </a:lnTo>
                    <a:lnTo>
                      <a:pt x="3248" y="232"/>
                    </a:lnTo>
                    <a:lnTo>
                      <a:pt x="3461" y="208"/>
                    </a:lnTo>
                    <a:lnTo>
                      <a:pt x="3238" y="350"/>
                    </a:lnTo>
                    <a:lnTo>
                      <a:pt x="3071" y="414"/>
                    </a:lnTo>
                    <a:lnTo>
                      <a:pt x="2875" y="519"/>
                    </a:lnTo>
                    <a:lnTo>
                      <a:pt x="2447" y="648"/>
                    </a:lnTo>
                    <a:lnTo>
                      <a:pt x="2112" y="752"/>
                    </a:lnTo>
                    <a:lnTo>
                      <a:pt x="1842" y="907"/>
                    </a:lnTo>
                    <a:lnTo>
                      <a:pt x="1562" y="1024"/>
                    </a:lnTo>
                    <a:lnTo>
                      <a:pt x="1266" y="1155"/>
                    </a:lnTo>
                    <a:lnTo>
                      <a:pt x="1182" y="1219"/>
                    </a:lnTo>
                    <a:lnTo>
                      <a:pt x="1005" y="1063"/>
                    </a:lnTo>
                    <a:lnTo>
                      <a:pt x="772" y="880"/>
                    </a:lnTo>
                    <a:lnTo>
                      <a:pt x="576" y="817"/>
                    </a:lnTo>
                    <a:lnTo>
                      <a:pt x="335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4"/>
              <p:cNvSpPr/>
              <p:nvPr/>
            </p:nvSpPr>
            <p:spPr>
              <a:xfrm>
                <a:off x="1329120" y="5071320"/>
                <a:ext cx="3684240" cy="120420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4" y="544"/>
                    </a:lnTo>
                    <a:lnTo>
                      <a:pt x="808" y="507"/>
                    </a:lnTo>
                    <a:lnTo>
                      <a:pt x="1136" y="402"/>
                    </a:lnTo>
                    <a:lnTo>
                      <a:pt x="1443" y="273"/>
                    </a:lnTo>
                    <a:lnTo>
                      <a:pt x="1675" y="183"/>
                    </a:lnTo>
                    <a:lnTo>
                      <a:pt x="1814" y="104"/>
                    </a:lnTo>
                    <a:lnTo>
                      <a:pt x="1907" y="0"/>
                    </a:lnTo>
                    <a:lnTo>
                      <a:pt x="2102" y="92"/>
                    </a:lnTo>
                    <a:lnTo>
                      <a:pt x="2317" y="130"/>
                    </a:lnTo>
                    <a:lnTo>
                      <a:pt x="2642" y="234"/>
                    </a:lnTo>
                    <a:lnTo>
                      <a:pt x="2968" y="273"/>
                    </a:lnTo>
                    <a:lnTo>
                      <a:pt x="3247" y="234"/>
                    </a:lnTo>
                    <a:lnTo>
                      <a:pt x="3461" y="208"/>
                    </a:lnTo>
                    <a:lnTo>
                      <a:pt x="3237" y="350"/>
                    </a:lnTo>
                    <a:lnTo>
                      <a:pt x="3070" y="416"/>
                    </a:lnTo>
                    <a:lnTo>
                      <a:pt x="2875" y="518"/>
                    </a:lnTo>
                    <a:lnTo>
                      <a:pt x="2447" y="649"/>
                    </a:lnTo>
                    <a:lnTo>
                      <a:pt x="2113" y="752"/>
                    </a:lnTo>
                    <a:lnTo>
                      <a:pt x="1842" y="908"/>
                    </a:lnTo>
                    <a:lnTo>
                      <a:pt x="1563" y="1025"/>
                    </a:lnTo>
                    <a:lnTo>
                      <a:pt x="1265" y="1156"/>
                    </a:lnTo>
                    <a:lnTo>
                      <a:pt x="1182" y="1219"/>
                    </a:lnTo>
                    <a:lnTo>
                      <a:pt x="1005" y="1065"/>
                    </a:lnTo>
                    <a:lnTo>
                      <a:pt x="772" y="882"/>
                    </a:lnTo>
                    <a:lnTo>
                      <a:pt x="577" y="816"/>
                    </a:lnTo>
                    <a:lnTo>
                      <a:pt x="334" y="765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5"/>
              <p:cNvSpPr/>
              <p:nvPr/>
            </p:nvSpPr>
            <p:spPr>
              <a:xfrm>
                <a:off x="1258920" y="4967640"/>
                <a:ext cx="3873240" cy="1245960"/>
              </a:xfrm>
              <a:custGeom>
                <a:avLst/>
                <a:gdLst/>
                <a:ahLst/>
                <a:rect l="l" t="t" r="r" b="b"/>
                <a:pathLst>
                  <a:path w="3637" h="1261">
                    <a:moveTo>
                      <a:pt x="241" y="573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8" y="779"/>
                    </a:lnTo>
                    <a:lnTo>
                      <a:pt x="613" y="819"/>
                    </a:lnTo>
                    <a:lnTo>
                      <a:pt x="733" y="883"/>
                    </a:lnTo>
                    <a:lnTo>
                      <a:pt x="902" y="999"/>
                    </a:lnTo>
                    <a:lnTo>
                      <a:pt x="1051" y="1156"/>
                    </a:lnTo>
                    <a:lnTo>
                      <a:pt x="1209" y="1233"/>
                    </a:lnTo>
                    <a:lnTo>
                      <a:pt x="1312" y="1261"/>
                    </a:lnTo>
                    <a:lnTo>
                      <a:pt x="1451" y="1144"/>
                    </a:lnTo>
                    <a:lnTo>
                      <a:pt x="1591" y="1026"/>
                    </a:lnTo>
                    <a:lnTo>
                      <a:pt x="1869" y="883"/>
                    </a:lnTo>
                    <a:lnTo>
                      <a:pt x="2102" y="791"/>
                    </a:lnTo>
                    <a:lnTo>
                      <a:pt x="2473" y="623"/>
                    </a:lnTo>
                    <a:lnTo>
                      <a:pt x="3051" y="417"/>
                    </a:lnTo>
                    <a:lnTo>
                      <a:pt x="3238" y="352"/>
                    </a:lnTo>
                    <a:lnTo>
                      <a:pt x="3422" y="325"/>
                    </a:lnTo>
                    <a:lnTo>
                      <a:pt x="3637" y="352"/>
                    </a:lnTo>
                    <a:lnTo>
                      <a:pt x="3219" y="249"/>
                    </a:lnTo>
                    <a:lnTo>
                      <a:pt x="2921" y="262"/>
                    </a:lnTo>
                    <a:lnTo>
                      <a:pt x="2502" y="183"/>
                    </a:lnTo>
                    <a:lnTo>
                      <a:pt x="2195" y="65"/>
                    </a:lnTo>
                    <a:lnTo>
                      <a:pt x="1962" y="0"/>
                    </a:lnTo>
                    <a:lnTo>
                      <a:pt x="1684" y="183"/>
                    </a:lnTo>
                    <a:lnTo>
                      <a:pt x="1172" y="391"/>
                    </a:lnTo>
                    <a:lnTo>
                      <a:pt x="697" y="521"/>
                    </a:lnTo>
                    <a:lnTo>
                      <a:pt x="241" y="573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6"/>
              <p:cNvSpPr/>
              <p:nvPr/>
            </p:nvSpPr>
            <p:spPr>
              <a:xfrm>
                <a:off x="1290600" y="4878000"/>
                <a:ext cx="3684240" cy="120492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4" y="570"/>
                    </a:lnTo>
                    <a:lnTo>
                      <a:pt x="594" y="544"/>
                    </a:lnTo>
                    <a:lnTo>
                      <a:pt x="809" y="506"/>
                    </a:lnTo>
                    <a:lnTo>
                      <a:pt x="1135" y="402"/>
                    </a:lnTo>
                    <a:lnTo>
                      <a:pt x="1442" y="272"/>
                    </a:lnTo>
                    <a:lnTo>
                      <a:pt x="1674" y="180"/>
                    </a:lnTo>
                    <a:lnTo>
                      <a:pt x="1814" y="103"/>
                    </a:lnTo>
                    <a:lnTo>
                      <a:pt x="1907" y="0"/>
                    </a:lnTo>
                    <a:lnTo>
                      <a:pt x="2103" y="89"/>
                    </a:lnTo>
                    <a:lnTo>
                      <a:pt x="2317" y="128"/>
                    </a:lnTo>
                    <a:lnTo>
                      <a:pt x="2641" y="235"/>
                    </a:lnTo>
                    <a:lnTo>
                      <a:pt x="2969" y="272"/>
                    </a:lnTo>
                    <a:lnTo>
                      <a:pt x="3247" y="235"/>
                    </a:lnTo>
                    <a:lnTo>
                      <a:pt x="3461" y="205"/>
                    </a:lnTo>
                    <a:lnTo>
                      <a:pt x="3238" y="351"/>
                    </a:lnTo>
                    <a:lnTo>
                      <a:pt x="3071" y="414"/>
                    </a:lnTo>
                    <a:lnTo>
                      <a:pt x="2876" y="519"/>
                    </a:lnTo>
                    <a:lnTo>
                      <a:pt x="2445" y="648"/>
                    </a:lnTo>
                    <a:lnTo>
                      <a:pt x="2111" y="752"/>
                    </a:lnTo>
                    <a:lnTo>
                      <a:pt x="1843" y="908"/>
                    </a:lnTo>
                    <a:lnTo>
                      <a:pt x="1563" y="1025"/>
                    </a:lnTo>
                    <a:lnTo>
                      <a:pt x="1266" y="1154"/>
                    </a:lnTo>
                    <a:lnTo>
                      <a:pt x="1182" y="1219"/>
                    </a:lnTo>
                    <a:lnTo>
                      <a:pt x="1006" y="1062"/>
                    </a:lnTo>
                    <a:lnTo>
                      <a:pt x="771" y="880"/>
                    </a:lnTo>
                    <a:lnTo>
                      <a:pt x="576" y="817"/>
                    </a:lnTo>
                    <a:lnTo>
                      <a:pt x="334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7"/>
              <p:cNvSpPr/>
              <p:nvPr/>
            </p:nvSpPr>
            <p:spPr>
              <a:xfrm>
                <a:off x="1347840" y="4724280"/>
                <a:ext cx="3870360" cy="1243080"/>
              </a:xfrm>
              <a:custGeom>
                <a:avLst/>
                <a:gdLst/>
                <a:ahLst/>
                <a:rect l="l" t="t" r="r" b="b"/>
                <a:pathLst>
                  <a:path w="3636" h="1258">
                    <a:moveTo>
                      <a:pt x="240" y="570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7" y="778"/>
                    </a:lnTo>
                    <a:lnTo>
                      <a:pt x="613" y="818"/>
                    </a:lnTo>
                    <a:lnTo>
                      <a:pt x="734" y="882"/>
                    </a:lnTo>
                    <a:lnTo>
                      <a:pt x="902" y="999"/>
                    </a:lnTo>
                    <a:lnTo>
                      <a:pt x="1050" y="1152"/>
                    </a:lnTo>
                    <a:lnTo>
                      <a:pt x="1209" y="1232"/>
                    </a:lnTo>
                    <a:lnTo>
                      <a:pt x="1311" y="1258"/>
                    </a:lnTo>
                    <a:lnTo>
                      <a:pt x="1451" y="1141"/>
                    </a:lnTo>
                    <a:lnTo>
                      <a:pt x="1591" y="1024"/>
                    </a:lnTo>
                    <a:lnTo>
                      <a:pt x="1869" y="882"/>
                    </a:lnTo>
                    <a:lnTo>
                      <a:pt x="2102" y="792"/>
                    </a:lnTo>
                    <a:lnTo>
                      <a:pt x="2473" y="623"/>
                    </a:lnTo>
                    <a:lnTo>
                      <a:pt x="3051" y="416"/>
                    </a:lnTo>
                    <a:lnTo>
                      <a:pt x="3238" y="350"/>
                    </a:lnTo>
                    <a:lnTo>
                      <a:pt x="3422" y="324"/>
                    </a:lnTo>
                    <a:lnTo>
                      <a:pt x="3636" y="350"/>
                    </a:lnTo>
                    <a:lnTo>
                      <a:pt x="3218" y="245"/>
                    </a:lnTo>
                    <a:lnTo>
                      <a:pt x="2920" y="259"/>
                    </a:lnTo>
                    <a:lnTo>
                      <a:pt x="2501" y="182"/>
                    </a:lnTo>
                    <a:lnTo>
                      <a:pt x="2194" y="66"/>
                    </a:lnTo>
                    <a:lnTo>
                      <a:pt x="1962" y="0"/>
                    </a:lnTo>
                    <a:lnTo>
                      <a:pt x="1684" y="182"/>
                    </a:lnTo>
                    <a:lnTo>
                      <a:pt x="1173" y="391"/>
                    </a:lnTo>
                    <a:lnTo>
                      <a:pt x="696" y="518"/>
                    </a:lnTo>
                    <a:lnTo>
                      <a:pt x="24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18"/>
            <p:cNvGrpSpPr/>
            <p:nvPr/>
          </p:nvGrpSpPr>
          <p:grpSpPr>
            <a:xfrm>
              <a:off x="2600280" y="4914000"/>
              <a:ext cx="1234800" cy="1040760"/>
              <a:chOff x="2600280" y="4914000"/>
              <a:chExt cx="1234800" cy="1040760"/>
            </a:xfrm>
          </p:grpSpPr>
          <p:sp>
            <p:nvSpPr>
              <p:cNvPr id="554" name="Freeform 19"/>
              <p:cNvSpPr/>
              <p:nvPr/>
            </p:nvSpPr>
            <p:spPr>
              <a:xfrm>
                <a:off x="2600280" y="4914000"/>
                <a:ext cx="1216080" cy="554760"/>
              </a:xfrm>
              <a:custGeom>
                <a:avLst/>
                <a:gdLst/>
                <a:ahLst/>
                <a:rect l="l" t="t" r="r" b="b"/>
                <a:pathLst>
                  <a:path w="1143" h="559">
                    <a:moveTo>
                      <a:pt x="0" y="131"/>
                    </a:moveTo>
                    <a:lnTo>
                      <a:pt x="874" y="559"/>
                    </a:lnTo>
                    <a:lnTo>
                      <a:pt x="1143" y="443"/>
                    </a:lnTo>
                    <a:lnTo>
                      <a:pt x="2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b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0"/>
              <p:cNvSpPr/>
              <p:nvPr/>
            </p:nvSpPr>
            <p:spPr>
              <a:xfrm>
                <a:off x="3538440" y="5340960"/>
                <a:ext cx="296640" cy="613800"/>
              </a:xfrm>
              <a:custGeom>
                <a:avLst/>
                <a:gdLst/>
                <a:ahLst/>
                <a:rect l="l" t="t" r="r" b="b"/>
                <a:pathLst>
                  <a:path w="279" h="621">
                    <a:moveTo>
                      <a:pt x="0" y="129"/>
                    </a:moveTo>
                    <a:lnTo>
                      <a:pt x="270" y="0"/>
                    </a:lnTo>
                    <a:lnTo>
                      <a:pt x="279" y="492"/>
                    </a:lnTo>
                    <a:lnTo>
                      <a:pt x="0" y="621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7f3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Банковская система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действующих в стране банков и других кредитных учреждений и орган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6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2411280" y="3573360"/>
            <a:ext cx="396108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АЛЬНЫЙ 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395280" y="5013360"/>
            <a:ext cx="352728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мерческие б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2"/>
          <p:cNvSpPr/>
          <p:nvPr/>
        </p:nvSpPr>
        <p:spPr>
          <a:xfrm>
            <a:off x="4572000" y="5013360"/>
            <a:ext cx="424800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угие финансово-креди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4"/>
          <p:cNvSpPr/>
          <p:nvPr/>
        </p:nvSpPr>
        <p:spPr>
          <a:xfrm flipH="1">
            <a:off x="2050920" y="4292640"/>
            <a:ext cx="2376720" cy="72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5"/>
          <p:cNvSpPr/>
          <p:nvPr/>
        </p:nvSpPr>
        <p:spPr>
          <a:xfrm>
            <a:off x="4356000" y="4292640"/>
            <a:ext cx="223200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новные функции Центрального ба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ение денежно- кредитной политики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дитование коммерческих ба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ение стабильной деятельности банковской и финансовой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держание устойчивости национальной денежной ед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анение запасов денежных средств и зо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Типы коммерческих бан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аслевые ба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определенные отрасли эконом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отраслев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все отрасли эконом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иональные ба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определенные регионы стра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перации коммерческого бан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и по мобилизации денежных ресурсов: прием вкладов (депозитов); получение кредитов от других банков и центрального банка; выпуск собственных ценных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и по размещению средств: предоставление различных по срокам и размерам креди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Финансово- кредитные учреж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пливают свободные денежные средства и предоставляют их тем, кто нуждается в дополнительном капитале или финансов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енсионный фон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д, создаваемый частными и государственными компаниями, предприятиями для выплаты пенсий и пособий лицам, вносящим пенсионные взносы в этот фо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вестиционны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о- кредитный институт, собирающий денежные средства частных инвесторов через продажу им собственных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траховы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и, оказывающие страховые услуги, предназначены для возмещения ущерба, потерь несчастными случа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Фондовые бирж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зируются на продаже и покупке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Межгосударственные финансово-кредитные институ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Мировой банк, Международный валютный фонд, Европейский банк реконструкции и развития и др.). Они занимаются финансированием и кредитованием разных стран, содействуют мировой торговле, оказывают помощь в стабилизации финанс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5:44:14Z</dcterms:created>
  <dc:creator>lubasha</dc:creator>
  <dc:description/>
  <dc:language>en-US</dc:language>
  <cp:lastModifiedBy>LEGION</cp:lastModifiedBy>
  <dcterms:modified xsi:type="dcterms:W3CDTF">2015-01-05T09:58:46Z</dcterms:modified>
  <cp:revision>8</cp:revision>
  <dc:subject/>
  <dc:title>Слайд 1</dc:title>
</cp:coreProperties>
</file>