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4E82-6EA8-423B-8447-EC17FC69686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ый социальный нал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7B9D-A83E-4E8D-AE7E-6BC6F6725B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подлежат обложению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ы страховых платежей по обязательному страхованию работников, некоторые суммы платежей по договорам добровольного личного страхования работни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андировочные расходы и суточные в предела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латы работникам организаций, финансируемых за счет средств бюджетов не превышающих 3000 рублей на одно физическое лицо за налоговый период в виде материальной помощи и суммы возмещения стоимости приобретенных медикаментов, назначенных лечащим врач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D686-7A7E-425C-A622-CD6F00CCB8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й и отчетный пери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м периодом     признается календарный го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четным периодом признается кварт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7AE3-1965-4086-BE8D-FB2031DA15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вки налог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82F3-52F1-426B-BB01-AA9D88523A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е предприним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CA5D-F1D7-4C9B-A746-399B3CDFAD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менение регрессивной шкал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еличина налоговой базы на одно физическое лицо в среднем за месяц менее 2500 рубл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налог уплачивается по максимальной ставк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висимо от фактической величины налоговой базы на каждое физическое лиц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BDA5D-37FB-4149-B4F5-A68170DE77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я с 1 января 2006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   0,3%  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нижае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ставка  ЕСН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исляемая  в  ФСС  РФ, 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0,3%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вышает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вка  ЕСН,  зачисляемая  в  ФФОМС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430C8-DF95-4B60-B2E7-9611B5F421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счет и уплата налог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чение отчетного периода по итогам каждого календарного месяца налогоплательщики исчисляют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жемесячные авансовые платеж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и уплачивают их не позднее 15 числа следующего месяца (общий порядок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665F-178A-4CDA-AE29-8404C665E7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 на доходы физических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условия и порядок исчисления налога на доходы физических лиц  (НДФЛ) определены главой 23 части второй Налогового Кодек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BACF-FA45-4C3B-B2D4-6100DE0396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ательщики налог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е Росс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остранные граждане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а без граждан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выделяют лиц, являющихс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логовыми резиден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проживают на территории РФ не менее 183 дней в году), и лиц не являющихся налоговыми резидентами (проживают на территории РФ менее 183 дней в году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На основе такого деления определяют особенности объекта налогообложения и дифференцируются ставки налог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5DCB-5D52-4133-9520-0E31D62A79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ъект налогообложен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граждан-резидентов являются доходы, полученные как на территории РФ, так и за ее предел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граждан не резидентов только доходы, полученные от источников на территории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872A-6505-4994-8B9C-CC412A0B57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егулируется НК, а именно 24 главой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Н  введен в действие с 1 января 2001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нил отчисления в государственные социальные внебюджетные фон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упления зачисляются в Федеральный бюджет, ПФ РФ, ФСС  и в ФОМ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FE84-A62D-4863-A48C-DF0366E602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логовая ба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логовая база включает в себя доходы в различной форме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нежной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туральной 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виде материальной выгод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пределении доходов в натуральной форме и в форме материальной выгоды должны быть учтены особенности их состава и оце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EAF0-73A8-4BA3-B408-1B232337CA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 доходам в натуральной  форме относят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лата труда в натуральной фор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лата организацией или индивидуальным предпринимателем товаров, работ, услуг, имущественных прав, в том числе коммунальных услуг, питания, отдыха, обучения в интересах работ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ные налогоплательщиком товары, услуги на безвозмездной осно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ходы в натуральной форме оцениваются в рыночных ценах, включающих НДС, акциз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1DFA-F9F9-408C-BA26-3D8A9C5A19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атериальная выгода: определ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 налогоплательщика в результате наиболее выгодного расходования денежных средст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756A-EB0B-4DE8-87FB-1D827FCE2A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атериальная выгода: соста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ыгода, полученная от экономии на процентах за пользование заемными (кредитными средствам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Материальная выгода, полученная от приобретения товаров (работ, услуг) у взаимозависимых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выгода от приобретения ценных бум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7CB0-77BB-4641-A6E2-504C2A783C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ыгода от экономии на процентах: расче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ся как превышение суммы процентов за пользование заемные средствами в рублях, исчисленной исходя из 3/4 ставки рефинансирования ЦБ на дату получения средств, над суммой процентов, исчисленных исходя из условий догов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3DF4-20A9-4F38-AE69-05A6187D0B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ник взял в организации ссуду на покупку машины 150 тыс.руб. под 5% годовых на год. Ставка рефинансирования ЦБ на дату получения ссуды 13%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ая выгода состав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50т.р.*3/4*0,13 - 150 т.р.*0,05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625 р . – 7,5 тыс.руб. = 7125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D03C-CFF4-4490-8B4C-D398FCE23C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ыгода, полученная от приобретения товаров (работ, услуг) у взаимозависимых лиц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ся как превышение цены однородных товаров (работ, услуг), реализуемых в обычных условиях над ценами реализации однородных товаров налогоплательщику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B4DB-38D7-45D5-BBE8-9338FAD2F0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име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родаже предприятием по производству холодильников своему работнику холодильника за 11 тыс.руб. при обычной цене для других покупателей 15 тыс.руб. у работника образуется материальная выгода в сумме 4 тыс.руб. (15 тыс.руб. – 11 тыс.руб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C86C-C2DA-40FE-979B-EE0EEB2463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года от приобретения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ся как превышение рыночной стоимости ценных бумаг, над суммой фактических расходов налогоплательщика на их приобрет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8B9D-B951-4CE6-9A8E-1CB8A12A63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ходы, не подлежащие н/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пособия, за исключением пособий по временной нетрудоспособ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пенсии, стипенд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виды компенсационных выплат, установленных законодательством (исключение - компенсация за неиспользованный отпуск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именты, полученные налогоплательщик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ходы по командировкам и суточные в пределах нор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ы компенсации стоимости путевок в санаторно-курортные учреждения, выплачиваемой полностью или частично работодателями своим работникам и (или) членам их семей за счет средств работодателей, оставшихся в распоряжении после уплаты налога на прибыль организации или за счет средств фонда социального страхования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935F-EC93-408F-94B9-FAD8F4412A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плательщ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и и  индивидуальные предприниматели, производящие выплаты физическим лица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е предпринимате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вок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A243-4974-4EC2-BAA6-D7CAFB1882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ходы, не подлежащие н/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ы единовременной материальной помощи, оказываемой в связи со стихийным бедствием или другим чрезвычайным обстоятель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от продажи выращенных в личных подсобных хозяйствах  скота, птиц, продукции растениеводства, пчело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, полученные от физических лиц в порядке наследования,  дар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, не превышающие 2000 рублей в год, полученные в виде подарков от организаций, призов, материальной помощи, оказываемой работодателями своим работникам, выигрышей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CFC8-D53A-4243-94F2-7E1440BA2E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логовые выче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видность льгот при н/о доходов граждан, т.к. они позволяют уменьшить налоговую баз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применяется четыре вида выче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андарт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циаль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муществен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фессиональ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182D-63D3-44E9-B937-8C48F47D2D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тандартны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выче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ют собой необлагаемый минимум дохода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большей части населения он составляет 400 руб. в месяц на себя. Вычет предоставляется до месяца, в котором доход налогоплательщика, исчисленный нарастающим итогом с начала года не превысил 20000 руб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EA69-8BF2-4775-B9C8-6EB288DF00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тандартные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вычеты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(продолжение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00 руб. в месяц на каждого ребенка в возрасте до 18 лет, и на детей – студентов дневной формы обучения до 24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чет предоставляется до месяца, в котором доход налогоплательщика, исчисленный нарастающим итогом с начала года не превысил 40000 руб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A1D2-D8E8-4C2C-87FC-33AFCE2726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циальные налоговые выче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яются при наличии расходов на определенные це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а благотворительность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не более 25% дохода)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а обучение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до 38000 р.)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лечение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до 38000 р.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552B-DF27-4BB9-B2C2-D2354C9B40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мущественные налоговые выче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оставляются налогоплательщику при реализации и приобретении им имущества (стоимостью не более 1 000 000 руб.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чет предоставляется при наличии у документов, подтверждающих право собственника на приобретенный (построенный) жилой дом или квартиру и платежных документов, подтверждающих факт уплаты денежных сре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32C4-EC9E-40CA-A6FD-19792C6DC0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фессиональные выче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яются определенным категориям налогоплательщиков в сумме фактически подтвержденных рас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м предпринимател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ам, занимающимся частной практик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ам,   получающим    доходы   по   договорам    гражданско -  правового характер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ские вознагра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Если расходы не могут быть подтверждены документально, то они принимаются к вычету по установленным нормативам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447D-D00A-4827-AC40-0DA1617255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й период -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64B2-7160-42EC-9830-1742255E80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е став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AC03-CFD3-4B16-A859-68D48CA173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ме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нику организации начислено за работу в январе – 4800 руб., феврале – 5600 руб., в марте – 6200 рублей. В феврале, в связи с юбилеем он получил материальную помощь 6000 рублей. Организация за счет прибыли оплатила в январе лечение супруги работника в сумме 1400 рублей. Определить на доходы работника за каждый месяц, если известно. что он имеет двух детей в возрасте до 18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асчета налога составим таблиц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77A8-FFFE-4825-B3D8-65AF717E6E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ъект налогооблож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ля организац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латы, начисленные в пользу физических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ля индивидуальных предпринимател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выплаты в пользу физических лиц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акж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оходы от предпринимательской деятельности за вычетом расходов, связанных с их извлеч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26C2-C486-4FD8-822F-2DAF690354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(в руб.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5702-3E16-4C22-8EB1-F5FCE4D0B1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ъект налогообложен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Не относятся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к объекту н/о выплат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 по договорам, предметом которых является переход права собственности или иных вещных прав на имущест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 по договорам, связанных с передачей в пользование имущества (имущественных прав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F4A9-EAC0-4753-BE0C-0CDB0CBB33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ъект налогообложен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Которые не уменьшают налоговую базу у ИП по НДФЛ в текущем отчетном (налоговом) пери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отнесены на расходы, уменьшающие налоговую базу по налогу на прибыль у организаций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(пр-р: питание работников, служебный автотранспорт, форменная одежда и т.п.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4052-EDDC-45E2-8B4D-79411030FF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логовая ба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мма выплат, начисленных за налоговый период в пользу физических лиц.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ываются любые выплаты и вознаграждения, вне зависимости от формы, в которой осуществляются данные выплаты (денежной или натуральной), в том числе оплата товаров (работ, услуг), предназначенных для физического лица (коммунальных услуг, питания, отдыха, обучения в интересах рабочего и т.п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E564-4EB6-4151-8995-5806312787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логовая баз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ся отдельно по каждому работнику с начала налогового периода по истечении каждого месяца нарастающим итог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738D-57BB-45AA-B529-EB09314B93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подлежат обложению 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пособия, установленные Законодательством, в т.ч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временной нетрудоспособ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 уходу за ребенком, по безработице, по беременности и род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енсационные выпла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ы единовременной финансовой помощи, оказываемой в связи с чрезвычайными обстоятельствами в целях возмещения причиненного материального ущерба или вреда их здоровью, смертью члена семь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4B9D-B448-4518-B74D-757CCF9B6B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3796-2132-4CD8-9AE5-B0C84FD77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400" y="38077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CB16-4A69-4BF7-B2ED-11D908E9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9708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C3CA-A1EF-45E0-AC7C-42BCFE769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4240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004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40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4240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004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6272-7881-438A-8FB7-FCC8CF903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F26E-23A9-448B-A8AB-C05F9E26F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0FD2-D474-4CB5-ADA8-AE928A78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7830-83B7-49DB-9152-8E60C7FF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7E94-239D-49B5-A728-63299BB9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7C1D-49D1-4862-AF40-9992756F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00000" y="259920"/>
            <a:ext cx="7772400" cy="29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8D9B3-F20F-40DB-8D7E-65548A9A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C7BC4-76F4-414E-B635-8A8957AC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824E-719C-451D-B0CF-8E75BDAB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7522-4A48-48A2-91F7-0EDDCEAC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0B6B-6039-42D5-984F-2C30E8A2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077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2B1D-4083-4AE0-BF33-69C76E7E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6FC3-E144-4522-8626-EA31E7C89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668A-73CD-42F7-ACE0-FED8C449E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B543-9969-44CB-A657-84C3A5B9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3D58-0F20-4D7C-8524-EC4E4F60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9FA7-D840-4916-B38B-B27C8012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0000" y="259920"/>
            <a:ext cx="7772400" cy="29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2BED-C998-4ED6-9D2B-0FF4EDF0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7D19-2402-46AC-9DBC-4AD19394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9708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FCFA-1F88-4DFD-A6B3-B654D40A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686D-3BA0-4D0B-A383-3D772738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5C15-DCDF-4471-B0BD-19B43B9C90B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оуг. 3"/>
          <p:cNvSpPr/>
          <p:nvPr/>
        </p:nvSpPr>
        <p:spPr>
          <a:xfrm>
            <a:off x="385920" y="297000"/>
            <a:ext cx="591840" cy="3597120"/>
          </a:xfrm>
          <a:prstGeom prst="rect">
            <a:avLst/>
          </a:prstGeom>
          <a:solidFill>
            <a:srgbClr val="95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Группа 15"/>
          <p:cNvGrpSpPr/>
          <p:nvPr/>
        </p:nvGrpSpPr>
        <p:grpSpPr>
          <a:xfrm>
            <a:off x="826920" y="907920"/>
            <a:ext cx="8066160" cy="133200"/>
            <a:chOff x="826920" y="907920"/>
            <a:chExt cx="8066160" cy="133200"/>
          </a:xfrm>
        </p:grpSpPr>
        <p:sp>
          <p:nvSpPr>
            <p:cNvPr id="7" name="Прямоуг. 5"/>
            <p:cNvSpPr/>
            <p:nvPr/>
          </p:nvSpPr>
          <p:spPr>
            <a:xfrm>
              <a:off x="7116480" y="907920"/>
              <a:ext cx="1776600" cy="1332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Линия 6"/>
            <p:cNvSpPr/>
            <p:nvPr/>
          </p:nvSpPr>
          <p:spPr>
            <a:xfrm>
              <a:off x="826920" y="963360"/>
              <a:ext cx="806616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Линия 12"/>
          <p:cNvSpPr/>
          <p:nvPr/>
        </p:nvSpPr>
        <p:spPr>
          <a:xfrm>
            <a:off x="324000" y="4130640"/>
            <a:ext cx="609480" cy="0"/>
          </a:xfrm>
          <a:prstGeom prst="line">
            <a:avLst/>
          </a:prstGeom>
          <a:ln w="442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. 3"/>
          <p:cNvSpPr/>
          <p:nvPr/>
        </p:nvSpPr>
        <p:spPr>
          <a:xfrm>
            <a:off x="0" y="0"/>
            <a:ext cx="1752480" cy="4876920"/>
          </a:xfrm>
          <a:prstGeom prst="rect">
            <a:avLst/>
          </a:prstGeom>
          <a:solidFill>
            <a:srgbClr val="95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Группа 8"/>
          <p:cNvGrpSpPr/>
          <p:nvPr/>
        </p:nvGrpSpPr>
        <p:grpSpPr>
          <a:xfrm>
            <a:off x="635040" y="533520"/>
            <a:ext cx="8077320" cy="304560"/>
            <a:chOff x="635040" y="533520"/>
            <a:chExt cx="8077320" cy="304560"/>
          </a:xfrm>
        </p:grpSpPr>
        <p:sp>
          <p:nvSpPr>
            <p:cNvPr id="48" name="Прямоуг. 9"/>
            <p:cNvSpPr/>
            <p:nvPr/>
          </p:nvSpPr>
          <p:spPr>
            <a:xfrm>
              <a:off x="6273720" y="533520"/>
              <a:ext cx="2438640" cy="30456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Линия 10"/>
            <p:cNvSpPr/>
            <p:nvPr/>
          </p:nvSpPr>
          <p:spPr>
            <a:xfrm>
              <a:off x="635040" y="685800"/>
              <a:ext cx="8077320" cy="0"/>
            </a:xfrm>
            <a:prstGeom prst="line">
              <a:avLst/>
            </a:prstGeom>
            <a:ln w="442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628D-ACC2-4EB8-8C16-AA4DBD825BD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30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33"/>
                </a:solidFill>
                <a:latin typeface="Times New Roman"/>
              </a:rPr>
              <a:t>Единый социальный налог</a:t>
            </a:r>
            <a:endParaRPr b="0" lang="en-US" sz="5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е подлежат обложению:</a:t>
            </a:r>
            <a:br>
              <a:rPr sz="3800"/>
            </a:b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12536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ы страховых платежей по обязательному страхованию работников, некоторые суммы платежей по договорам добровольного личного страхования работ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андировочные расходы и суточные в пределах н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латы работникам организаций, финансируемых за счет средств бюджетов не превышающих 3000 рублей на одно физическое лицо за налоговый период в виде материальной помощи и суммы возмещения стоимости приобретенных медикаментов, назначенных лечащим врач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алоговый и отчетный периоды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логовым периодом     признается календарный год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четным периодом признается кварта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Ставки налога: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125360"/>
          <a:ext cx="8050320" cy="5107320"/>
        </p:xfrm>
        <a:graphic>
          <a:graphicData uri="http://schemas.openxmlformats.org/drawingml/2006/table">
            <a:tbl>
              <a:tblPr/>
              <a:tblGrid>
                <a:gridCol w="1281240"/>
                <a:gridCol w="1368360"/>
                <a:gridCol w="1368360"/>
                <a:gridCol w="1224000"/>
                <a:gridCol w="1224000"/>
                <a:gridCol w="158436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.База нараст. Итогом на 1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ФОМ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ФОМ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28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т.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3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80001 р. До 600 т.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 т.р. + 7,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20 р. + 1,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80 р. + 0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0 р. + 0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800 р. + 10%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∑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ревышающей 280 т.р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2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ыше 600 т.р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280р. + 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20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0 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800 р. + 10%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∑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ревышающей 600 т.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Индивидуальные предприниматели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914400" y="1125360"/>
          <a:ext cx="8050320" cy="5070600"/>
        </p:xfrm>
        <a:graphic>
          <a:graphicData uri="http://schemas.openxmlformats.org/drawingml/2006/table">
            <a:tbl>
              <a:tblPr/>
              <a:tblGrid>
                <a:gridCol w="1609560"/>
                <a:gridCol w="1609920"/>
                <a:gridCol w="1611360"/>
                <a:gridCol w="1609560"/>
                <a:gridCol w="160992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.База нараст. итог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ФОМ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ФОМ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280 т.р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80001 р. До 600 т.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440 р. + 2,7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0 р. + 0,5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20 р. + 0,4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т.р. + 36%  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∑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ревышающей 280 т.р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ыше 600 т.р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080 р. + 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00 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520 р. + 2% 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∑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ревышающей 600 т.р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Применение регрессивной шкалы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величина налоговой базы на одно физическое лицо в среднем за месяц менее 2500 рубле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 налог уплачивается по максимальной ставк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зависимо от фактической величины налоговой базы на каждое физическое лиц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660033"/>
                </a:solidFill>
                <a:latin typeface="Times New Roman"/>
              </a:rPr>
              <a:t>Изменения с 1 января 2006 г.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   0,3%  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нижает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 ставка  ЕСН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числяемая  в  ФСС  РФ, 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0,3%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вышаетс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вка  ЕСН,  зачисляемая  в  ФФОМС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 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Расчет и уплата налога: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течение отчетного периода по итогам каждого календарного месяца налогоплательщики исчисляют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ежемесячные авансовые платеж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и уплачивают их не позднее 15 числа следующего месяца (общий порядок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алог на доходы физических лиц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7280" y="1341000"/>
            <a:ext cx="748512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настоящее время условия и порядок исчисления налога на доходы физических лиц  (НДФЛ) определены главой 23 части второй Налогового Кодекс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Плательщики налога: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ждане Росс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остранные граждан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ца без граждан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тому выделяют лиц, являющихс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логовыми резидента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проживают на территории РФ не менее 183 дней в году), и лиц не являющихся налоговыми резидентами (проживают на территории РФ менее 183 дней в году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снове такого деления определяют особенности объекта налогообложения и дифференцируются ставки нало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Объект налогообложения: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граждан-резидентов являются доходы, полученные как на территории РФ, так и за ее предел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граждан не резидентов только доходы, полученные от источников на территории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Регулируется НК, а именно 24 главой.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12536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СН  введен в действие с 1 января 2001 г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менил отчисления в государственные социальные внебюджетные фонд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тупления зачисляются в Федеральный бюджет, ПФ РФ, ФСС  и в ФОМ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алоговая база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логовая база включает в себя доходы в различной форме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нежно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туральной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виде материальной выго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определении доходов в натуральной форме и в форме материальной выгоды должны быть учтены особенности их состава и оцен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К доходам в натуральной  форме относятся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981000"/>
            <a:ext cx="77724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лата труда в натуральной фор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лата организацией или индивидуальным предпринимателем товаров, работ, услуг, имущественных прав, в том числе коммунальных услуг, питания, отдыха, обучения в интересах работ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ученные налогоплательщиком товары, услуги на безвозмездной осно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ходы в натуральной форме оцениваются в рыночных ценах, включающих НДС, акциз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Материальная выгода: определение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ход налогоплательщика в результате наиболее выгодного расходования денежных средств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Материальная выгода: состав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980640"/>
            <a:ext cx="77724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) выгода, полученная от экономии на процентах за пользование заемными (кредитными средствами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) Материальная выгода, полученная от приобретения товаров (работ, услуг) у взаимозависимых ли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) выгода от приобретения ценных бума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77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Выгода от экономии на процентах: расчет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пределяется как превышение суммы процентов за пользование заемные средствами в рублях, исчисленной исходя из 3/4 ставки рефинансирования ЦБ на дату получения средств, над суммой процентов, исчисленных исходя из условий договор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660033"/>
                </a:solidFill>
                <a:latin typeface="Times New Roman"/>
              </a:rPr>
              <a:t>Например: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0503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Работник взял в организации ссуду на покупку машины 150 тыс.руб. под 5% годовых на год. Ставка рефинансирования ЦБ на дату получения ссуды 13%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Материальная выгода составляет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150т.р.*3/4*0,13 - 150 т.р.*0,05 =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14625 р . – 7,5 тыс.руб. = 7125 руб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848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Выгода, полученная от приобретения товаров (работ, услуг) у взаимозависимых лиц</a:t>
            </a: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052640"/>
            <a:ext cx="77724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пределяется как превышение цены однородных товаров (работ, услуг), реализуемых в обычных условиях над ценами реализации однородных товаров налогоплательщику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660033"/>
                </a:solidFill>
                <a:latin typeface="Times New Roman"/>
              </a:rPr>
              <a:t>Пример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052640"/>
            <a:ext cx="77724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продаже предприятием по производству холодильников своему работнику холодильника за 11 тыс.руб. при обычной цене для других покупателей 15 тыс.руб. у работника образуется материальная выгода в сумме 4 тыс.руб. (15 тыс.руб. – 11 тыс.руб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806472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Times New Roman"/>
              </a:rPr>
              <a:t>Выгода от приобретения ценных бумаг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еделяется как превышение рыночной стоимости ценных бумаг, над суммой фактических расходов налогоплательщика на их приобрет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Доходы, не подлежащие н/о.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05264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сударственные пособия, за исключением пособий по временной нетрудоспособ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сударственные пенсии, стипенд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виды компенсационных выплат, установленных законодательством (исключение - компенсация за неиспользованный отпуск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именты, полученные налогоплательщик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ходы по командировкам и суточные в пределах нор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ы компенсации стоимости путевок в санаторно-курортные учреждения, выплачиваемой полностью или частично работодателями своим работникам и (или) членам их семей за счет средств работодателей, оставшихся в распоряжении после уплаты налога на прибыль организации или за счет средств фонда социального страхования РФ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Times New Roman"/>
              </a:rPr>
              <a:t>Налогоплательщики</a:t>
            </a:r>
            <a:endParaRPr b="0" lang="en-US" sz="40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19664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рганизации и  индивидуальные предприниматели, производящие выплаты физическим лицам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дивидуальные предпринимател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двока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Доходы, не подлежащие н/о.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1052640"/>
            <a:ext cx="797868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ы единовременной материальной помощи, оказываемой в связи со стихийным бедствием или другим чрезвычайным обстоятель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ходы от продажи выращенных в личных подсобных хозяйствах  скота, птиц, продукции растениеводства, пчеловод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ходы, полученные от физических лиц в порядке наследования,  дар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ходы, не превышающие 2000 рублей в год, полученные в виде подарков от организаций, призов, материальной помощи, оказываемой работодателями своим работникам, выигрышей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алоговые вычеты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981000"/>
            <a:ext cx="77724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новидность льгот при н/о доходов граждан, т.к. они позволяют уменьшить налоговую баз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астоящее время применяется четыре вида вычет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андарт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циаль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муществен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фессиональ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660033"/>
                </a:solidFill>
                <a:latin typeface="Times New Roman"/>
              </a:rPr>
              <a:t>Стандартные</a:t>
            </a: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 вычеты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052640"/>
            <a:ext cx="77724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ставляют собой необлагаемый минимум доход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большей части населения он составляет 400 руб. в месяц на себя. Вычет предоставляется до месяца, в котором доход налогоплательщика, исчисленный нарастающим итогом с начала года не превысил 20000 рубл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660033"/>
                </a:solidFill>
                <a:latin typeface="Times New Roman"/>
              </a:rPr>
              <a:t>Стандартные</a:t>
            </a: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 вычеты </a:t>
            </a:r>
            <a:r>
              <a:rPr b="0" lang="ru-RU" sz="1400" spc="-1" strike="noStrike">
                <a:solidFill>
                  <a:srgbClr val="660033"/>
                </a:solidFill>
                <a:latin typeface="Times New Roman"/>
              </a:rPr>
              <a:t>(продолжение)</a:t>
            </a:r>
            <a:endParaRPr b="0" lang="en-US" sz="1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80503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00 руб. в месяц на каждого ребенка в возрасте до 18 лет, и на детей – студентов дневной формы обучения до 24 л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чет предоставляется до месяца, в котором доход налогоплательщика, исчисленный нарастающим итогом с начала года не превысил 40000 рубле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Социальные налоговые вычеты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80503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оставляются при наличии расходов на определенные цел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 на благотворительность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е более 25% дохода),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 на обучени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до 38000 р.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 лечени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до 38000 р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Имущественные налоговые вычеты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052280"/>
            <a:ext cx="80503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оставляются налогоплательщику при реализации и приобретении им имущества (стоимостью не более 1 000 000 руб.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чет предоставляется при наличии у документов, подтверждающих право собственника на приобретенный (построенный) жилой дом или квартиру и платежных документов, подтверждающих факт уплаты денежных средст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Times New Roman"/>
              </a:rPr>
              <a:t>Профессиональные вычеты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052280"/>
            <a:ext cx="77724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оставляются определенным категориям налогоплательщиков в сумме фактически подтвержденных расх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ым предпринимателя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цам, занимающимся частной практик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цам,   получающим    доходы   по   договорам    гражданско -  правового характер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ские вознагра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расходы не могут быть подтверждены документально, то они принимаются к вычету по установленным норматив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052640"/>
            <a:ext cx="77724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логовый период -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алоговые ставки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042920" y="1052640"/>
          <a:ext cx="7643880" cy="4390920"/>
        </p:xfrm>
        <a:graphic>
          <a:graphicData uri="http://schemas.openxmlformats.org/drawingml/2006/table">
            <a:tbl>
              <a:tblPr/>
              <a:tblGrid>
                <a:gridCol w="5400720"/>
                <a:gridCol w="224316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доход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в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игрыши и призы при рекламе товаров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альная выгода по заемным средствам, % по вклад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виден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льные дох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виды доходов граждан-нерезиден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Пример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нику организации начислено за работу в январе – 4800 руб., феврале – 5600 руб., в марте – 6200 рублей. В феврале, в связи с юбилеем он получил материальную помощь 6000 рублей. Организация за счет прибыли оплатила в январе лечение супруги работника в сумме 1400 рублей. Определить на доходы работника за каждый месяц, если известно. что он имеет двух детей в возрасте до 18 л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расчета налога составим табл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3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Объект налогообложения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42560" y="1052640"/>
            <a:ext cx="76438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ля организац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латы, начисленные в пользу физических л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ля индивидуальных предпринимателе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 выплаты в пользу физических лиц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такж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доходы от предпринимательской деятельности за вычетом расходов, связанных с их извлеч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Решение (в руб.):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042920" y="981000"/>
          <a:ext cx="7921800" cy="5905440"/>
        </p:xfrm>
        <a:graphic>
          <a:graphicData uri="http://schemas.openxmlformats.org/drawingml/2006/table">
            <a:tbl>
              <a:tblPr/>
              <a:tblGrid>
                <a:gridCol w="2808360"/>
                <a:gridCol w="1441440"/>
                <a:gridCol w="1943280"/>
                <a:gridCol w="1728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нвар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вра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слена зарплата за меся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 за меся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0+6000-2000=9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 нарастающим итогом с начала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оговые вычеты за меся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+600*2 =1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+600*2 =1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*2 =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оговые вычеты с начала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+600*2 =1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*2+600*2*2=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*2+600*2*3=4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оговая база с начала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 налога с начала г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 налога за меся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Объект налогообложения: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12536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Не относятс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к объекту н/о выпла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договорам, предметом которых является переход права собственности или иных вещных прав на имущест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 по договорам, связанных с передачей в пользование имущества (имущественных прав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Объект налогообложения: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12536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торые не уменьшают налоговую базу у ИП по НДФЛ в текущем отчетном (налоговом) перио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отнесены на расходы, уменьшающие налоговую базу по налогу на прибыль у организаций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р-р: питание работников, служебный автотранспорт, форменная одежда и т.п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алоговая база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умма выплат, начисленных за налоговый период в пользу физических лиц.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ываются любые выплаты и вознаграждения, вне зависимости от формы, в которой осуществляются данные выплаты (денежной или натуральной), в том числе оплата товаров (работ, услуг), предназначенных для физического лица (коммунальных услуг, питания, отдыха, обучения в интересах рабочего и т.п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алоговая база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еделяется отдельно по каждому работнику с начала налогового периода по истечении каждого месяца нарастающим итого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е подлежат обложению :</a:t>
            </a:r>
            <a:br>
              <a:rPr sz="3800"/>
            </a:b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ударственные пособия, установленные Законодательством, в т.ч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 временной нетрудоспособ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о уходу за ребенком, по безработице, по беременности и рода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енсационные выпла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ммы единовременной финансовой помощи, оказываемой в связи с чрезвычайными обстоятельствами в целях возмещения причиненного материального ущерба или вреда их здоровью, смертью члена семь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05:45:25Z</dcterms:created>
  <dc:creator>Riabova Elena</dc:creator>
  <dc:description/>
  <dc:language>en-US</dc:language>
  <cp:lastModifiedBy>LEGION</cp:lastModifiedBy>
  <dcterms:modified xsi:type="dcterms:W3CDTF">2015-01-05T10:01:05Z</dcterms:modified>
  <cp:revision>52</cp:revision>
  <dc:subject/>
  <dc:title>Единый социальный налог</dc:title>
</cp:coreProperties>
</file>