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C4AB-8A2C-45E5-9DD7-7030BEE2CB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социальный н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9B8B-33A4-47F3-93BE-4528C1A78C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одлежат обложению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страховых платежей по обязательному страхованию работников, некоторые суммы платежей по договорам добровольного личного страхования работ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овочные расходы и суточные в предела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работникам организаций, финансируемых за счет средств бюджетов не превышающих 3000 рублей на одно физическое лицо за налоговый период в виде материальной помощи и суммы возмещения стоимости приобретенных медикаментов, назначенных лечащим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37D6-8BF7-4E5C-BFC8-7489A2C51D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и отчетный пери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м периодом     признается календарный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ным периодом признается квар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979D-E0A5-48BF-933A-861BE745EE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ки нало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22B8-286B-456C-9CAD-FBB3B84FB3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F14C-8DFD-449C-B509-BF0664D96B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е регрессивной шка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еличина налоговой базы на одно физическое лицо в среднем за месяц менее 2500 руб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налог уплачивается по максимальной ставк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 от фактической величины налоговой базы на каждое физическое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923E-ADD8-44FD-8E4E-B69DA871BB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с 1 января 200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   0,3%  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ж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ставка  ЕСН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сляемая  в  ФСС  РФ, 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0,3%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а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ка  ЕСН,  зачисляемая  в  ФФОМС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6C53-7CF5-43C9-9B80-F2414D44D4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чет и уплата нало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отчетного периода по итогам каждого календарного месяца налогоплательщики исчисляю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жемесячные авансовые платеж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уплачивают их не позднее 15 числа следующего месяца (общий порядо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31D9-9C56-476F-8A43-152E6EFFE5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на доходы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условия и порядок исчисления налога на доходы физических лиц  (НДФЛ) определены главой 23 части второй Налогового Кодек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76AB-0033-484E-B151-39874F009B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тельщики налог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осс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е граждан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 без гражда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ыделяют лиц, являющих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оговыми резид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роживают на территории РФ не менее 183 дней в году), и лиц не являющихся налоговыми резидентами (проживают на территории РФ менее 183 дней в год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основе такого деления определяют особенности объекта налогообложения и дифференцируются ставки налог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6D6C-E906-4088-BB75-0515D1B7B6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граждан-резидентов являются доходы, полученные как на территории РФ, так и за ее преде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граждан не резидентов только доходы, полученные от источников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197D-5450-4BDE-890E-4E49AE5A8F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егулируется НК, а именно 24 главой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Н  введен в действие с 1 января 200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нил отчисления в государственные социальные внебюджетные фон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ления зачисляются в Федеральный бюджет, ПФ РФ, ФСС  и в ФОМ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E743-46BF-4498-BE80-E970B84FC2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ая база включает в себя доходы в различной форм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ежно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туральной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виде материальной выг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доходов в натуральной форме и в форме материальной выгоды должны быть учтены особенности их состава и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2B38-6303-4E8E-A686-66F0840FEC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доходам в натуральной  форме относя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в натураль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организацией или индивидуальным предпринимателем товаров, работ, услуг, имущественных прав, в том числе коммунальных услуг, питания, отдыха, обучения в интересах работ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логоплательщиком товары, услуги на 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ходы в натуральной форме оцениваются в рыночных ценах, включающих НДС, акци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7953-26B6-4A92-990A-820B5B6009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ая выгода: опреде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налогоплательщика в результате наиболее выгодного расходования денежных сред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C6E2-BD32-4995-AF91-7F699ACFB1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ая выгода: соста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ыгода, полученная от экономии на процентах за пользование заемными (кредитными средств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териальная выгода, полученная от приобретения товаров (работ, услуг) у взаимозависимы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ыгода от приобретени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8DB3-B42F-4DFE-9290-8E204EE2FA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года от экономии на процентах: расче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суммы процентов за пользование заемные средствами в рублях, исчисленной исходя из 3/4 ставки рефинансирования ЦБ на дату получения средств, над суммой процентов, исчисленных исходя из условий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F3A4-2728-404B-BFB3-919A3AFC3E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 взял в организации ссуду на покупку машины 150 тыс.руб. под 5% годовых на год. Ставка рефинансирования ЦБ на дату получения ссуды 13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ая выгода соста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0т.р.*3/4*0,13 - 150 т.р.*0,05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625 р . – 7,5 тыс.руб. = 7125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7869-5CD7-4ED3-A3CC-34E1377AC9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года, полученная от приобретения товаров (работ, услуг) у взаимозависимых лиц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цены однородных товаров (работ, услуг), реализуемых в обычных условиях над ценами реализации однородных товаров налогоплательщику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DDE8-0854-4075-B5DB-7A3AA9CD90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даже предприятием по производству холодильников своему работнику холодильника за 11 тыс.руб. при обычной цене для других покупателей 15 тыс.руб. у работника образуется материальная выгода в сумме 4 тыс.руб. (15 тыс.руб. – 11 тыс.руб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DAB9-B67A-4C3A-99C1-652D3B9669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да от приобретен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рыночной стоимости ценных бумаг, над суммой фактических расходов налогоплательщика на их приобре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EE5E-60A4-45C1-8909-59AB8D6CE5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ы, не подлежащие н/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особия, за исключением пособий по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енсии, стипенд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иды компенсационных выплат, установленных законодательством (исключение - компенсация за неиспользованный отпус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именты, полученные налогоплательщи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по командировкам и суточные в пределах нор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компенсации стоимости путевок в санаторно-курортные учреждения, выплачиваемой полностью или частично работодателями своим работникам и (или) членам их семей за счет средств работодателей, оставшихся в распоряжении после уплаты налога на прибыль организации или за счет средств фонда социального страхования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73B7-B76A-483C-B33D-CAA2716097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плательщ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и  индивидуальные предприниматели, производящие выплаты физическим лица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предпринима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B55D-14AC-4B5B-A462-D319B5372C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ы, не подлежащие н/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единовременной материальной помощи, оказываемой в связи со стихийным бедствием или другим чрезвычайным обстоя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продажи выращенных в личных подсобных хозяйствах  скота, птиц, продукции растениеводства, пчело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, полученные от физических лиц в порядке наследования,  да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, не превышающие 2000 рублей в год, полученные в виде подарков от организаций, призов, материальной помощи, оказываемой работодателями своим работникам, выигрышей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20A5-A536-4985-9E70-EFF7AA7660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ые вы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ь льгот при н/о доходов граждан, т.к. они позволяют уменьшить налоговую ба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рименяется четыре вида выч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ессион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49D0-6376-4532-B40A-80BFD82A5C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ыч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необлагаемый минимум доход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ьшей части населения он составляет 400 руб. в месяц на себя. Вычет предоставляется до месяца, в котором доход налогоплательщика, исчисленный нарастающим итогом с начала года не превысил 20000 руб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E60E-ED90-4180-8BD9-C097A671FC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ычеты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0 руб. в месяц на каждого ребенка в возрасте до 18 лет, и на детей – студентов дневной формы обучения до 2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ет предоставляется до месяца, в котором доход налогоплательщика, исчисленный нарастающим итогом с начала года не превысил 40000 руб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3E15-2182-4BA4-AAF3-93441B8329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 налоговые вы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при наличии расходов на определенные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благотворительность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не более 25% дохода)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обучени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о 38000 р.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лечени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о 38000 р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9624-D9AB-4616-9686-A90E824CE9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ущественные налоговые выче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яются налогоплательщику при реализации и приобретении им имущества (стоимостью не более 1 000 000 руб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ет предоставляется при наличии у документов, подтверждающих право собственника на приобретенный (построенный) жилой дом или квартиру и платежных документов, подтверждающих факт уплаты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3D03-FA20-4D56-9553-6C5E98CD28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ессиональные выч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определенным категориям налогоплательщиков в сумме фактически подтвержденных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м предприним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, занимающимся частной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,   получающим    доходы   по   договорам    гражданско -  правового характе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ские вознагра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расходы не могут быть подтверждены документально, то они принимаются к вычету по установленным норматива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A688-2F2C-432A-BD87-383B98E59D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период -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4EB7-6A6C-4B76-BF33-2FEDC7602E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617F-C4B1-4933-AEDB-D6D94A89DA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у организации начислено за работу в январе – 4800 руб., феврале – 5600 руб., в марте – 6200 рублей. В феврале, в связи с юбилеем он получил материальную помощь 6000 рублей. Организация за счет прибыли оплатила в январе лечение супруги работника в сумме 1400 рублей. Определить на доходы работника за каждый месяц, если известно. что он имеет двух детей в возрасте до 18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чета налога составим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782F-C248-4BAA-BF0A-D2DD02FABB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ля организ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, начисленные в пользу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ля индивидуальных предпринимате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ыплаты в пользу физических лиц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оходы от предпринимательской деятельности за вычетом расходов, связанных с их извлеч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7742-0D9B-4FA6-92A4-4025BDACE8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(в руб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2A42-5513-4FD6-B291-0BD5EBAF6E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Не относятс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к объекту н/о выпла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 по договорам, предметом которых является переход права собственности или иных вещных прав на имуще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 по договорам, связанных с передачей в пользование имущества (имущественных пра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A9B7-63C2-4698-AB3A-90BC1EE626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оторые не уменьшают налоговую базу у ИП по НДФЛ в текущем отчетном (налоговом)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тнесены на расходы, уменьшающие налоговую базу по налогу на прибыль у организаций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-р: питание работников, служебный автотранспорт, форменная одежда и т.п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AE25-A7F3-4499-B65A-684FA1C1C1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выплат, начисленных за налоговый период в пользу физических лиц.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ются любые выплаты и вознаграждения, вне зависимости от формы, в которой осуществляются данные выплаты (денежной или натуральной), в том числе оплата товаров (работ, услуг), предназначенных для физического лица (коммунальных услуг, питания, отдыха, обучения в интересах рабочег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4CF6-01FA-4B94-B6A9-D74713F72A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отдельно по каждому работнику с начала налогового периода по истечении каждого месяца нарастающим итог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4545-E94F-42DE-A442-86347A1AF4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одлежат обложению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особия, установленные Законодательством, в т.ч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ной нетрудоспособ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уходу за ребенком, по безработице, по беременности и род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вы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единовременной финансовой помощи, оказываемой в связи с чрезвычайными обстоятельствами в целях возмещения причиненного материального ущерба или вреда их здоровью, смертью члена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5706-74D7-4CEF-A070-D72A4515F4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F99-546D-475C-9CC2-C160422A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F41-D238-4C0B-A428-E7087652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2AA-060C-40D3-B500-8F7CACCB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529-BB2B-4EA8-8F57-E7B833CC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34C4-93CB-4429-A57A-6C85DC67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AE2E-51A9-44DB-8B05-F0F50909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01D9-A73C-42E3-A487-776165B1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6A3C-CC26-4C1E-B356-12073860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E2D2-3608-4C40-A0C2-A63F2022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AAEE-2258-4F68-8858-53A5799C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72BC-B387-4D81-AA99-7494AAC3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BC8-4182-41A9-A15F-918A76CB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6715-029C-465C-BF3F-B51DAF43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1C3C-79CC-4EA8-B9D3-7F9BB68C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9665-9574-4C5A-8BA0-274409FC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E60E-E993-4A87-B5BF-4374307D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B6E7-4A08-4C8A-BF71-537DC4B5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A056-F3DE-4132-B0AA-91CF8778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3DA-8BF2-4D18-8CE1-5E063B07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C7E-4AD9-4DF1-9C5B-E2345E26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1F0-FA49-4D21-8495-492EBA31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030-DBAA-48B0-AB77-D0C46BCD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90C-C931-44CD-ACA0-DC37D998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5884-373D-4EBD-9F61-15F0F605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4A0C-CFBA-46CD-A5DA-B9D70F2882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. 3"/>
          <p:cNvSpPr/>
          <p:nvPr/>
        </p:nvSpPr>
        <p:spPr>
          <a:xfrm>
            <a:off x="385920" y="297000"/>
            <a:ext cx="591840" cy="35971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Группа 15"/>
          <p:cNvGrpSpPr/>
          <p:nvPr/>
        </p:nvGrpSpPr>
        <p:grpSpPr>
          <a:xfrm>
            <a:off x="826920" y="907920"/>
            <a:ext cx="8066160" cy="133200"/>
            <a:chOff x="826920" y="907920"/>
            <a:chExt cx="8066160" cy="133200"/>
          </a:xfrm>
        </p:grpSpPr>
        <p:sp>
          <p:nvSpPr>
            <p:cNvPr id="7" name="Прямоуг. 5"/>
            <p:cNvSpPr/>
            <p:nvPr/>
          </p:nvSpPr>
          <p:spPr>
            <a:xfrm>
              <a:off x="7116480" y="907920"/>
              <a:ext cx="1776600" cy="1332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Линия 6"/>
            <p:cNvSpPr/>
            <p:nvPr/>
          </p:nvSpPr>
          <p:spPr>
            <a:xfrm>
              <a:off x="826920" y="963360"/>
              <a:ext cx="806616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Линия 12"/>
          <p:cNvSpPr/>
          <p:nvPr/>
        </p:nvSpPr>
        <p:spPr>
          <a:xfrm>
            <a:off x="324000" y="413064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. 3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8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48" name="Прямоуг. 9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Линия 10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531B-6E8A-4C2F-884B-F04CE6F0BE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Times New Roman"/>
              </a:rPr>
              <a:t>Единый социальный налог</a:t>
            </a:r>
            <a:endParaRPr b="0" lang="en-US" sz="5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е подлежат обложению: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страховых платежей по обязательному страхованию работников, некоторые суммы платежей по договорам добровольного личного страхования работ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ировочные расходы и суточные в пределах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латы работникам организаций, финансируемых за счет средств бюджетов не превышающих 3000 рублей на одно физическое лицо за налоговый период в виде материальной помощи и суммы возмещения стоимости приобретенных медикаментов, назначенных лечащим вра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й и отчетный период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логовым периодом     признается календарный год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четным периодом признается кварт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Ставки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125360"/>
          <a:ext cx="8050320" cy="5107320"/>
        </p:xfrm>
        <a:graphic>
          <a:graphicData uri="http://schemas.openxmlformats.org/drawingml/2006/table">
            <a:tbl>
              <a:tblPr/>
              <a:tblGrid>
                <a:gridCol w="1281240"/>
                <a:gridCol w="1368360"/>
                <a:gridCol w="1368360"/>
                <a:gridCol w="1224000"/>
                <a:gridCol w="1224000"/>
                <a:gridCol w="15843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.База нараст. Итогом на 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8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80001 р. До 60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т.р. + 7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0 р. + 1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0 р. + 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 р. + 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800 р. + 10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28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80р. + 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2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800 р. + 10%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60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Индивидуальные предприниматели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14400" y="1125360"/>
          <a:ext cx="8050320" cy="5070600"/>
        </p:xfrm>
        <a:graphic>
          <a:graphicData uri="http://schemas.openxmlformats.org/drawingml/2006/table">
            <a:tbl>
              <a:tblPr/>
              <a:tblGrid>
                <a:gridCol w="1609560"/>
                <a:gridCol w="1609920"/>
                <a:gridCol w="1611360"/>
                <a:gridCol w="1609560"/>
                <a:gridCol w="16099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.База нараст. итог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8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80001 р. До 600 т.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40 р. + 2,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 р. + 0,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20 р. + 0,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т.р. + 36% 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28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80 р. + 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0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20 р. + 2%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60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рименение регрессивной шкал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еличина налоговой базы на одно физическое лицо в среднем за месяц менее 2500 рубл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налог уплачивается по максимальной став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 от фактической величины налоговой базы на каждое физическое ли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Изменения с 1 января 2006 г.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   0,3%  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ниж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ставка  ЕСН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числяемая  в  ФСС  РФ, 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0,3%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вышает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ка  ЕСН,  зачисляемая  в  ФФОМС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Расчет и уплата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течение отчетного периода по итогам каждого календарного месяца налогоплательщики исчисляю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ежемесячные авансовые платеж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и уплачивают их не позднее 15 числа следующего месяца (общий порядок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 на доходы физических лиц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7280" y="1341000"/>
            <a:ext cx="748512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астоящее время условия и порядок исчисления налога на доходы физических лиц  (НДФЛ) определены главой 23 части второй Налогового Кодек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лательщики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ждане Рос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странные граждан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 без гражда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выделяют лиц, являющих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логовыми резидент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оживают на территории РФ не менее 183 дней в году), и лиц не являющихся налоговыми резидентами (проживают на территории РФ менее 183 дней в год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такого деления определяют особенности объекта налогообложения и дифференцируются ставки на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граждан-резидентов являются доходы, полученные как на территории РФ, так и за ее предел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граждан не резидентов только доходы, полученные от источников на территории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Регулируется НК, а именно 24 главой.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Н  введен в действие с 1 января 2001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менил отчисления в государственные социальные внебюджетные фонд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упления зачисляются в Федеральный бюджет, ПФ РФ, ФСС  и в ФОМ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логовая база включает в себя доходы в различной форм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нежн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туральной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виде материальной выг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определении доходов в натуральной форме и в форме материальной выгоды должны быть учтены особенности их состава и оце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К доходам в натуральной  форме относятся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лата труда в натураль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лата организацией или индивидуальным предпринимателем товаров, работ, услуг, имущественных прав, в том числе коммунальных услуг, питания, отдыха, обучения в интересах рабо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ные налогоплательщиком товары, услуги на безвозмездной осн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ы в натуральной форме оцениваются в рыночных ценах, включающих НДС, акциз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Материальная выгода: определение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ход налогоплательщика в результате наиболее выгодного расходования денежных средст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Материальная выгода: состав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выгода, полученная от экономии на процентах за пользование заемными (кредитными средствами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) Материальная выгода, полученная от приобретения товаров (работ, услуг) у взаимозависимых л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) выгода от приобретения ценных бума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77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Выгода от экономии на процентах: расчет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пределяется как превышение суммы процентов за пользование заемные средствами в рублях, исчисленной исходя из 3/4 ставки рефинансирования ЦБ на дату получения средств, над суммой процентов, исчисленных исходя из условий договор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Например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0503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ботник взял в организации ссуду на покупку машины 150 тыс.руб. под 5% годовых на год. Ставка рефинансирования ЦБ на дату получения ссуды 13%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териальная выгода соста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150т.р.*3/4*0,13 - 150 т.р.*0,05 =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4625 р . – 7,5 тыс.руб. = 7125 руб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Выгода, полученная от приобретения товаров (работ, услуг) у взаимозависимых лиц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яется как превышение цены однородных товаров (работ, услуг), реализуемых в обычных условиях над ценами реализации однородных товаров налогоплательщик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Пример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родаже предприятием по производству холодильников своему работнику холодильника за 11 тыс.руб. при обычной цене для других покупателей 15 тыс.руб. у работника образуется материальная выгода в сумме 4 тыс.руб. (15 тыс.руб. – 11 тыс.руб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0647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Выгода от приобретения ценных бумаг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ся как превышение рыночной стоимости ценных бумаг, над суммой фактических расходов налогоплательщика на их приобрет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Доходы, не подлежащие н/о.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пособия, за исключением пособий по временной нетрудо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пенсии, стипенд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иды компенсационных выплат, установленных законодательством (исключение - компенсация за неиспользованный отпус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именты, полученные налогоплательщ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ы по командировкам и суточные в пределах нор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компенсации стоимости путевок в санаторно-курортные учреждения, выплачиваемой полностью или частично работодателями своим работникам и (или) членам их семей за счет средств работодателей, оставшихся в распоряжении после уплаты налога на прибыль организации или за счет средств фонда социального страхования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Налогоплательщики</a:t>
            </a:r>
            <a:endParaRPr b="0" lang="en-US" sz="4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ганизации и  индивидуальные предприниматели, производящие выплаты физическим лицам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дивидуальные предпринимател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двок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Доходы, не подлежащие н/о.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052640"/>
            <a:ext cx="79786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единовременной материальной помощи, оказываемой в связи со стихийным бедствием или другим чрезвычайным обстоятель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 от продажи выращенных в личных подсобных хозяйствах  скота, птиц, продукции растениеводства, пчелово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, полученные от физических лиц в порядке наследования,  да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, не превышающие 2000 рублей в год, полученные в виде подарков от организаций, призов, материальной помощи, оказываемой работодателями своим работникам, выигрыше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видность льгот при н/о доходов граждан, т.к. они позволяют уменьшить налоговую баз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применяется четыре вида выч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ндар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фессион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Стандартные</a:t>
            </a: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ют собой необлагаемый минимум дохо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большей части населения он составляет 400 руб. в месяц на себя. Вычет предоставляется до месяца, в котором доход налогоплательщика, исчисленный нарастающим итогом с начала года не превысил 20000 руб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Стандартные</a:t>
            </a: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 вычеты </a:t>
            </a:r>
            <a:r>
              <a:rPr b="0" lang="ru-RU" sz="1400" spc="-1" strike="noStrike">
                <a:solidFill>
                  <a:srgbClr val="660033"/>
                </a:solidFill>
                <a:latin typeface="Times New Roman"/>
              </a:rPr>
              <a:t>(продолжение)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0503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0 руб. в месяц на каждого ребенка в возрасте до 18 лет, и на детей – студентов дневной формы обучения до 2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ет предоставляется до месяца, в котором доход налогоплательщика, исчисленный нарастающим итогом с начала года не превысил 40000 руб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Социальные 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050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яются при наличии расходов на определенные 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на благотворительность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 более 25% дохода),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на обу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 38000 р.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ле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 38000 р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Имущественные 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80503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оставляются налогоплательщику при реализации и приобретении им имущества (стоимостью не более 1 000 000 руб.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ет предоставляется при наличии у документов, подтверждающих право собственника на приобретенный (построенный) жилой дом или квартиру и платежных документов, подтверждающих факт уплаты денежных сред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Профессиональные вычеты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яются определенным категориям налогоплательщиков в сумме фактически подтвержденных рас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м предпринимател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занимающимся частной практи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  получающим    доходы   по   договорам    гражданско -  правового характе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ские вознагра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асходы не могут быть подтверждены документально, то они принимаются к вычету по установленным нормати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логовый период -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е ставки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42920" y="1052640"/>
          <a:ext cx="7643880" cy="4390920"/>
        </p:xfrm>
        <a:graphic>
          <a:graphicData uri="http://schemas.openxmlformats.org/drawingml/2006/table">
            <a:tbl>
              <a:tblPr/>
              <a:tblGrid>
                <a:gridCol w="5400720"/>
                <a:gridCol w="22431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дох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игрыши и призы при рекламе товаров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ая выгода по заемным средствам, % по вклад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виден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ьные до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виды доходов граждан-нерезид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ример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нику организации начислено за работу в январе – 4800 руб., феврале – 5600 руб., в марте – 6200 рублей. В феврале, в связи с юбилеем он получил материальную помощь 6000 рублей. Организация за счет прибыли оплатила в январе лечение супруги работника в сумме 1400 рублей. Определить на доходы работника за каждый месяц, если известно. что он имеет двух детей в возрасте до 18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счета налога составим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643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организац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латы, начисленные в пользу физических 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индивидуальных предпринимате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выплаты в пользу физических лиц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оходы от предпринимательской деятельности за вычетом расходов, связанных с их извле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Решение (в руб.)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042920" y="981000"/>
          <a:ext cx="7921800" cy="5905440"/>
        </p:xfrm>
        <a:graphic>
          <a:graphicData uri="http://schemas.openxmlformats.org/drawingml/2006/table">
            <a:tbl>
              <a:tblPr/>
              <a:tblGrid>
                <a:gridCol w="2808360"/>
                <a:gridCol w="1441440"/>
                <a:gridCol w="1943280"/>
                <a:gridCol w="1728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а зарплата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+6000-2000=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нарастающим итогом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вычеты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*2 =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вычеты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*2+600*2*2=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*2+600*2*3=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ая база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налога с начала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налога за 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относят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 объекту н/о выпл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оговорам, предметом которых является переход права собственности или иных вещных прав на имуще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 по договорам, связанных с передачей в пользование имущества (имущественных прав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не уменьшают налоговую базу у ИП по НДФЛ в текущем отчетном (налоговом) пери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тнесены на расходы, уменьшающие налоговую базу по налогу на прибыль у организац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-р: питание работников, служебный автотранспорт, форменная одежда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умма выплат, начисленных за налоговый период в пользу физических лиц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ываются любые выплаты и вознаграждения, вне зависимости от формы, в которой осуществляются данные выплаты (денежной или натуральной), в том числе оплата товаров (работ, услуг), предназначенных для физического лица (коммунальных услуг, питания, отдыха, обучения в интересах рабочего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ся отдельно по каждому работнику с начала налогового периода по истечении каждого месяца нарастающим итог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е подлежат обложению :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ые пособия, установленные Законодательством, в т.ч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временной нетрудоспособ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 уходу за ребенком, по безработице, по беременности и род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енсационные выпла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мы единовременной финансовой помощи, оказываемой в связи с чрезвычайными обстоятельствами в целях возмещения причиненного материального ущерба или вреда их здоровью, смертью члена семь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5:45:25Z</dcterms:created>
  <dc:creator>Riabova Elena</dc:creator>
  <dc:description/>
  <dc:language>en-US</dc:language>
  <cp:lastModifiedBy>LEGION</cp:lastModifiedBy>
  <dcterms:modified xsi:type="dcterms:W3CDTF">2015-01-05T10:01:05Z</dcterms:modified>
  <cp:revision>52</cp:revision>
  <dc:subject/>
  <dc:title>Единый социальный налог</dc:title>
</cp:coreProperties>
</file>