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1D2D-E68F-40F5-AA90-9986820F6CE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ый социальный нал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1A4A-BE28-4B67-9C8C-C1BDF3A927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подлежат обложению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ы страховых платежей по обязательному страхованию работников, некоторые суммы платежей по договорам добровольного личного страхования работни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андировочные расходы и суточные в предела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латы работникам организаций, финансируемых за счет средств бюджетов не превышающих 3000 рублей на одно физическое лицо за налоговый период в виде материальной помощи и суммы возмещения стоимости приобретенных медикаментов, назначенных лечащим врач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2E22-4B36-4BE3-A3AA-F315F3EC11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й и отчетный пери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м периодом     признается календарный го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четным периодом признается кварт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4CB2-0100-4179-9DDD-88F8BC854C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вки налог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F60A-CB61-4AD4-B2E8-57983DFCFA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е предприним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94FF-C1A0-40F2-9D48-3D91B05B8A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менение регрессивной шкал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еличина налоговой базы на одно физическое лицо в среднем за месяц менее 2500 рубле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налог уплачивается по максимальной ставк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висимо от фактической величины налоговой базы на каждое физическое лиц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FD90-7662-49DB-BD5E-935F9D52C5C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я с 1 января 2006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   0,3%  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нижае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 ставка  ЕСН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исляемая  в  ФСС  РФ, 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0,3%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вышает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вка  ЕСН,  зачисляемая  в  ФФОМС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9079-BE60-46AC-974C-6205099DF8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счет и уплата налог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чение отчетного периода по итогам каждого календарного месяца налогоплательщики исчисляют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жемесячные авансовые платеж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и уплачивают их не позднее 15 числа следующего месяца (общий порядок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3513-52E1-4029-86D7-1DF5521673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 на доходы физических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условия и порядок исчисления налога на доходы физических лиц  (НДФЛ) определены главой 23 части второй Налогового Кодек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11FA-3A24-46AF-946D-1967978F189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ательщики налога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е Росс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остранные граждане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а без граждан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выделяют лиц, являющихся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логовыми резидент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проживают на территории РФ не менее 183 дней в году), и лиц не являющихся налоговыми резидентами (проживают на территории РФ менее 183 дней в году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На основе такого деления определяют особенности объекта налогообложения и дифференцируются ставки налог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0D5B-DD93-408E-B0FC-C93D9A936B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ъект налогообложен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граждан-резидентов являются доходы, полученные как на территории РФ, так и за ее предел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граждан не резидентов только доходы, полученные от источников на территории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A773-37A8-4F75-9F43-4B975721647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егулируется НК, а именно 24 главой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Н  введен в действие с 1 января 2001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енил отчисления в государственные социальные внебюджетные фон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упления зачисляются в Федеральный бюджет, ПФ РФ, ФСС  и в ФОМ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F5E0-BFB9-4F40-86F3-04173E68E8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логовая ба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логовая база включает в себя доходы в различной форме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нежной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туральной 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виде материальной выгод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пределении доходов в натуральной форме и в форме материальной выгоды должны быть учтены особенности их состава и оце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A871-08CB-41A1-AFD9-80DCBE0901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 доходам в натуральной  форме относят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лата труда в натуральной фор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лата организацией или индивидуальным предпринимателем товаров, работ, услуг, имущественных прав, в том числе коммунальных услуг, питания, отдыха, обучения в интересах работ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ные налогоплательщиком товары, услуги на безвозмездной осно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ходы в натуральной форме оцениваются в рыночных ценах, включающих НДС, акциз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0A00-EDEA-416F-9E2A-5C755A0594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атериальная выгода: определ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 налогоплательщика в результате наиболее выгодного расходования денежных средст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29CC-002D-4EE9-B251-3F482FDD6D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атериальная выгода: соста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ыгода, полученная от экономии на процентах за пользование заемными (кредитными средствам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Материальная выгода, полученная от приобретения товаров (работ, услуг) у взаимозависимых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выгода от приобретения ценных бума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5409C-96E3-4C9B-9D97-AAAA8E8DEF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ыгода от экономии на процентах: расче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ся как превышение суммы процентов за пользование заемные средствами в рублях, исчисленной исходя из 3/4 ставки рефинансирования ЦБ на дату получения средств, над суммой процентов, исчисленных исходя из условий догов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65A8-7A07-4C4F-89C1-28371BBE5D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апример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ник взял в организации ссуду на покупку машины 150 тыс.руб. под 5% годовых на год. Ставка рефинансирования ЦБ на дату получения ссуды 13%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ая выгода составля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50т.р.*3/4*0,13 - 150 т.р.*0,05 =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625 р . – 7,5 тыс.руб. = 7125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045E-2211-4042-A723-D8885CF725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Выгода, полученная от приобретения товаров (работ, услуг) у взаимозависимых лиц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ся как превышение цены однородных товаров (работ, услуг), реализуемых в обычных условиях над ценами реализации однородных товаров налогоплательщику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E9AB-1D14-4080-8C51-A8E13F6559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име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родаже предприятием по производству холодильников своему работнику холодильника за 11 тыс.руб. при обычной цене для других покупателей 15 тыс.руб. у работника образуется материальная выгода в сумме 4 тыс.руб. (15 тыс.руб. – 11 тыс.руб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CCE1-F2D5-47C3-B476-C9C8E505F2C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года от приобретения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ся как превышение рыночной стоимости ценных бумаг, над суммой фактических расходов налогоплательщика на их приобрет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F25B-0A57-4E04-8515-4C267CA88B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ходы, не подлежащие н/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пособия, за исключением пособий по временной нетрудоспособ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пенсии, стипенд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виды компенсационных выплат, установленных законодательством (исключение - компенсация за неиспользованный отпуск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именты, полученные налогоплательщик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ходы по командировкам и суточные в пределах нор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ы компенсации стоимости путевок в санаторно-курортные учреждения, выплачиваемой полностью или частично работодателями своим работникам и (или) членам их семей за счет средств работодателей, оставшихся в распоряжении после уплаты налога на прибыль организации или за счет средств фонда социального страхования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9888-37E7-4DD8-BAC4-F54F97E408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плательщ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и и  индивидуальные предприниматели, производящие выплаты физическим лица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е предпринимате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вок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1D75-5C7C-417E-ADD7-B0600176B1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ходы, не подлежащие н/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ы единовременной материальной помощи, оказываемой в связи со стихийным бедствием или другим чрезвычайным обстоятель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 от продажи выращенных в личных подсобных хозяйствах  скота, птиц, продукции растениеводства, пчело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, полученные от физических лиц в порядке наследования,  дар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ы, не превышающие 2000 рублей в год, полученные в виде подарков от организаций, призов, материальной помощи, оказываемой работодателями своим работникам, выигрышей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9314-9075-4A8F-B2FE-9B49882688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логовые выче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видность льгот при н/о доходов граждан, т.к. они позволяют уменьшить налоговую баз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применяется четыре вида вычет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андарт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циаль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муществен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фессиональны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8B67-DDBA-43B2-B1DD-1ED0DFF951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тандартные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выче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яют собой необлагаемый минимум дохода.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большей части населения он составляет 400 руб. в месяц на себя. Вычет предоставляется до месяца, в котором доход налогоплательщика, исчисленный нарастающим итогом с начала года не превысил 20000 руб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C08F-4300-49F0-8025-599CF420CB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тандартные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вычеты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(продолжение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00 руб. в месяц на каждого ребенка в возрасте до 18 лет, и на детей – студентов дневной формы обучения до 24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чет предоставляется до месяца, в котором доход налогоплательщика, исчисленный нарастающим итогом с начала года не превысил 40000 руб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C2B8-7B53-4A5B-8606-6F62C558AC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циальные налоговые выче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яются при наличии расходов на определенные це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а благотворительность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не более 25% дохода)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а обучение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до 38000 р.)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лечение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до 38000 р.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DC2F-7974-4F9B-BDDA-BEBDF2D40C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мущественные налоговые выче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едоставляются налогоплательщику при реализации и приобретении им имущества (стоимостью не более 1 000 000 руб.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чет предоставляется при наличии у документов, подтверждающих право собственника на приобретенный (построенный) жилой дом или квартиру и платежных документов, подтверждающих факт уплаты денежных сре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767D-D063-4C9A-961D-E261E562BB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фессиональные вычет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оставляются определенным категориям налогоплательщиков в сумме фактически подтвержденных расх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м предпринимател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ам, занимающимся частной практик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ам,   получающим    доходы   по   договорам    гражданско -  правового характер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ские вознаграж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Если расходы не могут быть подтверждены документально, то они принимаются к вычету по установленным нормативам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86097-F825-4572-A833-81E9D1C01F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й период -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7D7D-6B27-4AC7-8146-BDB5DB1653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е став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2E79-AF8A-4D64-8B7F-E7BC799510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ме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нику организации начислено за работу в январе – 4800 руб., феврале – 5600 руб., в марте – 6200 рублей. В феврале, в связи с юбилеем он получил материальную помощь 6000 рублей. Организация за счет прибыли оплатила в январе лечение супруги работника в сумме 1400 рублей. Определить на доходы работника за каждый месяц, если известно. что он имеет двух детей в возрасте до 18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асчета налога составим таблиц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84E5-45DF-45F1-A616-BEF748211E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ъект налогооблож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ля организац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латы, начисленные в пользу физических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ля индивидуальных предпринимател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выплаты в пользу физических лиц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акж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доходы от предпринимательской деятельности за вычетом расходов, связанных с их извлеч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CADD0-5849-43B5-81BA-E979FED30E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(в руб.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68E2-62AD-4819-9237-9301E61170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ъект налогообложен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alibri"/>
              </a:rPr>
              <a:t>Не относятся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к объекту н/о выплат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 по договорам, предметом которых является переход права собственности или иных вещных прав на имущест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 по договорам, связанных с передачей в пользование имущества (имущественных прав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8639-5C48-43DE-9B77-17D521AA03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ъект налогообложени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Которые не уменьшают налоговую базу у ИП по НДФЛ в текущем отчетном (налоговом) пери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отнесены на расходы, уменьшающие налоговую базу по налогу на прибыль у организаций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(пр-р: питание работников, служебный автотранспорт, форменная одежда и т.п.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4DF4-F50A-449D-828F-D0959785EE8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логовая ба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умма выплат, начисленных за налоговый период в пользу физических лиц.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ываются любые выплаты и вознаграждения, вне зависимости от формы, в которой осуществляются данные выплаты (денежной или натуральной), в том числе оплата товаров (работ, услуг), предназначенных для физического лица (коммунальных услуг, питания, отдыха, обучения в интересах рабочего и т.п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6FCC6-4AA5-4528-8229-9DECEF5D2F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логовая баз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ся отдельно по каждому работнику с начала налогового периода по истечении каждого месяца нарастающим итог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92EFB-B1DC-4D79-8EBA-D36B294A91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подлежат обложению 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е пособия, установленные Законодательством, в т.ч.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о временной нетрудоспособ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 уходу за ребенком, по безработице, по беременности и род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енсационные выпла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ммы единовременной финансовой помощи, оказываемой в связи с чрезвычайными обстоятельствами в целях возмещения причиненного материального ущерба или вреда их здоровью, смертью члена семь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7CFE-6C3F-4CB9-81F7-0A132B1AE4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0311-6E29-41E6-9612-75A3ADC88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14400" y="38077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1E4E-C0BC-441E-B710-A34C4A23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9708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5DC3-A546-4388-87B0-FEE0058B3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4240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7004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91440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4240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7004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004E-E5E6-4068-B110-E58B91FB9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D189-1DAC-40F8-9A48-D13136DF3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FFA22-7AE4-49BD-A3CE-380A554E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512B-5713-4C02-AF46-86A66B4B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8641D-DFDE-4AFA-8888-39CBEB0B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8A7F-D9E8-4EA7-8274-AF366371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00000" y="259920"/>
            <a:ext cx="7772400" cy="29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BFC6-6EB8-41A5-9855-5A1B9130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821E-DDB1-4AB7-B57E-E67A23D8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5CA0-7D8A-47D9-A5BB-37C5C02A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9708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96B11-C24F-4B26-AE55-7EE5F6F7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B220F-E9F2-4723-B25F-51F797A4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400" y="38077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EB3F8-FAC4-4B5C-829E-6B337EC2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9708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2B35A-93E0-47BA-BC15-5E90A78F8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240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70040" y="12679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40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240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70040" y="3807720"/>
            <a:ext cx="250236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A65F-19D5-4195-AB17-DE5A0527F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FAB6-19BF-412B-8564-2FF1CA84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B7D9-DCE9-4D98-B41B-FD7B70C0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777D-416E-4BD6-AD13-0C72E5C0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0000" y="259920"/>
            <a:ext cx="7772400" cy="292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7F0C-AC11-431F-BFDF-3CEE73324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4E4B-2B14-4EDA-8E8F-119747A4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97080" y="38077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F8CA-AFDB-470E-B697-3BB3DB7E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267920"/>
            <a:ext cx="3792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14400" y="3807720"/>
            <a:ext cx="77724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590C-99DC-409A-858A-00340A36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048D-6722-4A3C-99A0-307A58B843D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оуг. 3"/>
          <p:cNvSpPr/>
          <p:nvPr/>
        </p:nvSpPr>
        <p:spPr>
          <a:xfrm>
            <a:off x="385920" y="297000"/>
            <a:ext cx="591840" cy="3597120"/>
          </a:xfrm>
          <a:prstGeom prst="rect">
            <a:avLst/>
          </a:prstGeom>
          <a:solidFill>
            <a:srgbClr val="95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Группа 15"/>
          <p:cNvGrpSpPr/>
          <p:nvPr/>
        </p:nvGrpSpPr>
        <p:grpSpPr>
          <a:xfrm>
            <a:off x="826920" y="907920"/>
            <a:ext cx="8066160" cy="133200"/>
            <a:chOff x="826920" y="907920"/>
            <a:chExt cx="8066160" cy="133200"/>
          </a:xfrm>
        </p:grpSpPr>
        <p:sp>
          <p:nvSpPr>
            <p:cNvPr id="7" name="Прямоуг. 5"/>
            <p:cNvSpPr/>
            <p:nvPr/>
          </p:nvSpPr>
          <p:spPr>
            <a:xfrm>
              <a:off x="7116480" y="907920"/>
              <a:ext cx="1776600" cy="1332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Линия 6"/>
            <p:cNvSpPr/>
            <p:nvPr/>
          </p:nvSpPr>
          <p:spPr>
            <a:xfrm>
              <a:off x="826920" y="963360"/>
              <a:ext cx="806616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Линия 12"/>
          <p:cNvSpPr/>
          <p:nvPr/>
        </p:nvSpPr>
        <p:spPr>
          <a:xfrm>
            <a:off x="324000" y="4130640"/>
            <a:ext cx="609480" cy="0"/>
          </a:xfrm>
          <a:prstGeom prst="line">
            <a:avLst/>
          </a:prstGeom>
          <a:ln w="442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. 3"/>
          <p:cNvSpPr/>
          <p:nvPr/>
        </p:nvSpPr>
        <p:spPr>
          <a:xfrm>
            <a:off x="0" y="0"/>
            <a:ext cx="1752480" cy="4876920"/>
          </a:xfrm>
          <a:prstGeom prst="rect">
            <a:avLst/>
          </a:prstGeom>
          <a:solidFill>
            <a:srgbClr val="95a3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Группа 8"/>
          <p:cNvGrpSpPr/>
          <p:nvPr/>
        </p:nvGrpSpPr>
        <p:grpSpPr>
          <a:xfrm>
            <a:off x="635040" y="533520"/>
            <a:ext cx="8077320" cy="304560"/>
            <a:chOff x="635040" y="533520"/>
            <a:chExt cx="8077320" cy="304560"/>
          </a:xfrm>
        </p:grpSpPr>
        <p:sp>
          <p:nvSpPr>
            <p:cNvPr id="48" name="Прямоуг. 9"/>
            <p:cNvSpPr/>
            <p:nvPr/>
          </p:nvSpPr>
          <p:spPr>
            <a:xfrm>
              <a:off x="6273720" y="533520"/>
              <a:ext cx="2438640" cy="30456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Линия 10"/>
            <p:cNvSpPr/>
            <p:nvPr/>
          </p:nvSpPr>
          <p:spPr>
            <a:xfrm>
              <a:off x="635040" y="685800"/>
              <a:ext cx="8077320" cy="0"/>
            </a:xfrm>
            <a:prstGeom prst="line">
              <a:avLst/>
            </a:prstGeom>
            <a:ln w="442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C50B-6098-4291-B5B6-C3964999B66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30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33"/>
                </a:solidFill>
                <a:latin typeface="Times New Roman"/>
              </a:rPr>
              <a:t>Единый социальный налог</a:t>
            </a:r>
            <a:endParaRPr b="0" lang="en-US" sz="5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е подлежат обложению:</a:t>
            </a:r>
            <a:br>
              <a:rPr sz="3800"/>
            </a:b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12536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ы страховых платежей по обязательному страхованию работников, некоторые суммы платежей по договорам добровольного личного страхования работ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андировочные расходы и суточные в пределах н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латы работникам организаций, финансируемых за счет средств бюджетов не превышающих 3000 рублей на одно физическое лицо за налоговый период в виде материальной помощи и суммы возмещения стоимости приобретенных медикаментов, назначенных лечащим врач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алоговый и отчетный периоды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логовым периодом     признается календарный год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четным периодом признается кварта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Ставки налога: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125360"/>
          <a:ext cx="8050320" cy="5107320"/>
        </p:xfrm>
        <a:graphic>
          <a:graphicData uri="http://schemas.openxmlformats.org/drawingml/2006/table">
            <a:tbl>
              <a:tblPr/>
              <a:tblGrid>
                <a:gridCol w="1281240"/>
                <a:gridCol w="1368360"/>
                <a:gridCol w="1368360"/>
                <a:gridCol w="1224000"/>
                <a:gridCol w="1224000"/>
                <a:gridCol w="158436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.База нараст. Итогом на 1 че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ФОМ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ФОМ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28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т.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3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80001 р. До 600 т.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 т.р. + 7,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20 р. + 1,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80 р. + 0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0 р. + 0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800 р. + 10%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∑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ревышающей 280 т.р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2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ыше 600 т.р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280р. + 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20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0 р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800 р. + 10%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∑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ревышающей 600 т.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Индивидуальные предприниматели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914400" y="1125360"/>
          <a:ext cx="8050320" cy="5070600"/>
        </p:xfrm>
        <a:graphic>
          <a:graphicData uri="http://schemas.openxmlformats.org/drawingml/2006/table">
            <a:tbl>
              <a:tblPr/>
              <a:tblGrid>
                <a:gridCol w="1609560"/>
                <a:gridCol w="1609920"/>
                <a:gridCol w="1611360"/>
                <a:gridCol w="1609560"/>
                <a:gridCol w="160992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.База нараст. итог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ФОМ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ФОМ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280 т.р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280001 р. До 600 т.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440 р. + 2,7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0 р. + 0,5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20 р. + 0,4%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 т.р. + 36%  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∑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ревышающей 280 т.р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ыше 600 т.р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080 р. + 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00 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520 р. + 2% 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 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∑</a:t>
                      </a: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ревышающей 600 т.р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Применение регрессивной шкалы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величина налоговой базы на одно физическое лицо в среднем за месяц менее 2500 рубле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 налог уплачивается по максимальной ставк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зависимо от фактической величины налоговой базы на каждое физическое лиц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660033"/>
                </a:solidFill>
                <a:latin typeface="Times New Roman"/>
              </a:rPr>
              <a:t>Изменения с 1 января 2006 г.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   0,3%  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нижает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 ставка  ЕСН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числяемая  в  ФСС  РФ, 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0,3%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вышается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авка  ЕСН,  зачисляемая  в  ФФОМС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  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 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Расчет и уплата налога: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течение отчетного периода по итогам каждого календарного месяца налогоплательщики исчисляют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ежемесячные авансовые платеж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и уплачивают их не позднее 15 числа следующего месяца (общий порядок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алог на доходы физических лиц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7280" y="1341000"/>
            <a:ext cx="7485120" cy="48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 настоящее время условия и порядок исчисления налога на доходы физических лиц  (НДФЛ) определены главой 23 части второй Налогового Кодекс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Плательщики налога: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ждане Росси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остранные граждан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ца без гражданств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тому выделяют лиц, являющихся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логовыми резидента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проживают на территории РФ не менее 183 дней в году), и лиц не являющихся налоговыми резидентами (проживают на территории РФ менее 183 дней в году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снове такого деления определяют особенности объекта налогообложения и дифференцируются ставки нало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Объект налогообложения: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граждан-резидентов являются доходы, полученные как на территории РФ, так и за ее предел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граждан не резидентов только доходы, полученные от источников на территории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Регулируется НК, а именно 24 главой.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12536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ЕСН  введен в действие с 1 января 2001 г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менил отчисления в государственные социальные внебюджетные фонды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тупления зачисляются в Федеральный бюджет, ПФ РФ, ФСС  и в ФОМ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алоговая база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логовая база включает в себя доходы в различной форме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енежно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туральной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виде материальной выго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определении доходов в натуральной форме и в форме материальной выгоды должны быть учтены особенности их состава и оценк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К доходам в натуральной  форме относятся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981000"/>
            <a:ext cx="77724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лата труда в натуральной фор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лата организацией или индивидуальным предпринимателем товаров, работ, услуг, имущественных прав, в том числе коммунальных услуг, питания, отдыха, обучения в интересах работ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ученные налогоплательщиком товары, услуги на безвозмездной осно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ходы в натуральной форме оцениваются в рыночных ценах, включающих НДС, акциз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Материальная выгода: определение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ход налогоплательщика в результате наиболее выгодного расходования денежных средств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Материальная выгода: состав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980640"/>
            <a:ext cx="77724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) выгода, полученная от экономии на процентах за пользование заемными (кредитными средствами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) Материальная выгода, полученная от приобретения товаров (работ, услуг) у взаимозависимых ли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) выгода от приобретения ценных бума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7756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Выгода от экономии на процентах: расчет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пределяется как превышение суммы процентов за пользование заемные средствами в рублях, исчисленной исходя из 3/4 ставки рефинансирования ЦБ на дату получения средств, над суммой процентов, исчисленных исходя из условий договора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660033"/>
                </a:solidFill>
                <a:latin typeface="Times New Roman"/>
              </a:rPr>
              <a:t>Например: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268280"/>
            <a:ext cx="80503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Работник взял в организации ссуду на покупку машины 150 тыс.руб. под 5% годовых на год. Ставка рефинансирования ЦБ на дату получения ссуды 13%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Материальная выгода составляет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150т.р.*3/4*0,13 - 150 т.р.*0,05 =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14625 р . – 7,5 тыс.руб. = 7125 руб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848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Выгода, полученная от приобретения товаров (работ, услуг) у взаимозависимых лиц</a:t>
            </a:r>
            <a:r>
              <a:rPr b="0" lang="ru-RU" sz="3200" spc="-1" strike="noStrike">
                <a:solidFill>
                  <a:srgbClr val="6600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052640"/>
            <a:ext cx="77724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пределяется как превышение цены однородных товаров (работ, услуг), реализуемых в обычных условиях над ценами реализации однородных товаров налогоплательщику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660033"/>
                </a:solidFill>
                <a:latin typeface="Times New Roman"/>
              </a:rPr>
              <a:t>Пример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052640"/>
            <a:ext cx="77724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продаже предприятием по производству холодильников своему работнику холодильника за 11 тыс.руб. при обычной цене для других покупателей 15 тыс.руб. у работника образуется материальная выгода в сумме 4 тыс.руб. (15 тыс.руб. – 11 тыс.руб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806472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Times New Roman"/>
              </a:rPr>
              <a:t>Выгода от приобретения ценных бумаг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еделяется как превышение рыночной стоимости ценных бумаг, над суммой фактических расходов налогоплательщика на их приобрет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Доходы, не подлежащие н/о.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05264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сударственные пособия, за исключением пособий по временной нетрудоспособ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сударственные пенсии, стипенд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виды компенсационных выплат, установленных законодательством (исключение - компенсация за неиспользованный отпуск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именты, полученные налогоплательщик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ходы по командировкам и суточные в пределах нор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ы компенсации стоимости путевок в санаторно-курортные учреждения, выплачиваемой полностью или частично работодателями своим работникам и (или) членам их семей за счет средств работодателей, оставшихся в распоряжении после уплаты налога на прибыль организации или за счет средств фонда социального страхования РФ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0033"/>
                </a:solidFill>
                <a:latin typeface="Times New Roman"/>
              </a:rPr>
              <a:t>Налогоплательщики</a:t>
            </a:r>
            <a:endParaRPr b="0" lang="en-US" sz="40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19664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рганизации и  индивидуальные предприниматели, производящие выплаты физическим лицам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дивидуальные предпринимател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двока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Доходы, не подлежащие н/о.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1052640"/>
            <a:ext cx="797868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ы единовременной материальной помощи, оказываемой в связи со стихийным бедствием или другим чрезвычайным обстоятель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ходы от продажи выращенных в личных подсобных хозяйствах  скота, птиц, продукции растениеводства, пчеловодст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ходы, полученные от физических лиц в порядке наследования,  дар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ходы, не превышающие 2000 рублей в год, полученные в виде подарков от организаций, призов, материальной помощи, оказываемой работодателями своим работникам, выигрышей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алоговые вычеты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981000"/>
            <a:ext cx="77724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новидность льгот при н/о доходов граждан, т.к. они позволяют уменьшить налоговую баз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астоящее время применяется четыре вида вычет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тандарт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циаль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муществен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фессиональ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660033"/>
                </a:solidFill>
                <a:latin typeface="Times New Roman"/>
              </a:rPr>
              <a:t>Стандартные</a:t>
            </a: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 вычеты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052640"/>
            <a:ext cx="77724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ставляют собой необлагаемый минимум доход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большей части населения он составляет 400 руб. в месяц на себя. Вычет предоставляется до месяца, в котором доход налогоплательщика, исчисленный нарастающим итогом с начала года не превысил 20000 рубл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660033"/>
                </a:solidFill>
                <a:latin typeface="Times New Roman"/>
              </a:rPr>
              <a:t>Стандартные</a:t>
            </a: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 вычеты </a:t>
            </a:r>
            <a:r>
              <a:rPr b="0" lang="ru-RU" sz="1400" spc="-1" strike="noStrike">
                <a:solidFill>
                  <a:srgbClr val="660033"/>
                </a:solidFill>
                <a:latin typeface="Times New Roman"/>
              </a:rPr>
              <a:t>(продолжение)</a:t>
            </a:r>
            <a:endParaRPr b="0" lang="en-US" sz="1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80503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00 руб. в месяц на каждого ребенка в возрасте до 18 лет, и на детей – студентов дневной формы обучения до 24 л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чет предоставляется до месяца, в котором доход налогоплательщика, исчисленный нарастающим итогом с начала года не превысил 40000 рубле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Социальные налоговые вычеты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805032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оставляются при наличии расходов на определенные цел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 на благотворительность  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не более 25% дохода),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 на обучени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до 38000 р.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 лечени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до 38000 р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Имущественные налоговые вычеты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052280"/>
            <a:ext cx="80503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оставляются налогоплательщику при реализации и приобретении им имущества (стоимостью не более 1 000 000 руб.)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чет предоставляется при наличии у документов, подтверждающих право собственника на приобретенный (построенный) жилой дом или квартиру и платежных документов, подтверждающих факт уплаты денежных средст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Times New Roman"/>
              </a:rPr>
              <a:t>Профессиональные вычеты</a:t>
            </a: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052280"/>
            <a:ext cx="77724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оставляются определенным категориям налогоплательщиков в сумме фактически подтвержденных расх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ым предпринимателя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цам, занимающимся частной практик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цам,   получающим    доходы   по   договорам    гражданско -  правового характер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ские вознаграж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расходы не могут быть подтверждены документально, то они принимаются к вычету по установленным норматив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00000" y="208080"/>
            <a:ext cx="777240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052640"/>
            <a:ext cx="77724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логовый период -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алоговые ставки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042920" y="1052640"/>
          <a:ext cx="7643880" cy="4390920"/>
        </p:xfrm>
        <a:graphic>
          <a:graphicData uri="http://schemas.openxmlformats.org/drawingml/2006/table">
            <a:tbl>
              <a:tblPr/>
              <a:tblGrid>
                <a:gridCol w="5400720"/>
                <a:gridCol w="224316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ы доход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в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6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игрыши и призы при рекламе товаров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альная выгода по заемным средствам, % по вклад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виден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льные дох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виды доходов граждан-нерезиден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Пример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нику организации начислено за работу в январе – 4800 руб., феврале – 5600 руб., в марте – 6200 рублей. В феврале, в связи с юбилеем он получил материальную помощь 6000 рублей. Организация за счет прибыли оплатила в январе лечение супруги работника в сумме 1400 рублей. Определить на доходы работника за каждый месяц, если известно. что он имеет двух детей в возрасте до 18 л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расчета налога составим табл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3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Объект налогообложения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42560" y="1052640"/>
            <a:ext cx="76438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ля организац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латы, начисленные в пользу физических л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ля индивидуальных предпринимателе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 выплаты в пользу физических лиц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такж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доходы от предпринимательской деятельности за вычетом расходов, связанных с их извлеч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Решение (в руб.):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042920" y="981000"/>
          <a:ext cx="7921800" cy="5905440"/>
        </p:xfrm>
        <a:graphic>
          <a:graphicData uri="http://schemas.openxmlformats.org/drawingml/2006/table">
            <a:tbl>
              <a:tblPr/>
              <a:tblGrid>
                <a:gridCol w="2808360"/>
                <a:gridCol w="1441440"/>
                <a:gridCol w="1943280"/>
                <a:gridCol w="1728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нвар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вра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слена зарплата за меся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 за меся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00+6000-2000=9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 нарастающим итогом с начала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оговые вычеты за меся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+600*2 =1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+600*2 =1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*2 =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оговые вычеты с начала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+600*2 =1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*2+600*2*2=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*2+600*2*3=4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оговая база с начала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 налога с начала г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 налога за меся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Объект налогообложения: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12536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Не относятс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к объекту н/о выплат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договорам, предметом которых является переход права собственности или иных вещных прав на имуществ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 по договорам, связанных с передачей в пользование имущества (имущественных прав)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Объект налогообложения: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125360"/>
            <a:ext cx="7772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торые не уменьшают налоговую базу у ИП по НДФЛ в текущем отчетном (налоговом) период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отнесены на расходы, уменьшающие налоговую базу по налогу на прибыль у организаций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р-р: питание работников, служебный автотранспорт, форменная одежда и т.п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алоговая база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умма выплат, начисленных за налоговый период в пользу физических лиц.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ываются любые выплаты и вознаграждения, вне зависимости от формы, в которой осуществляются данные выплаты (денежной или натуральной), в том числе оплата товаров (работ, услуг), предназначенных для физического лица (коммунальных услуг, питания, отдыха, обучения в интересах рабочего и т.п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алоговая база</a:t>
            </a: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еделяется отдельно по каждому работнику с начала налогового периода по истечении каждого месяца нарастающим итого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63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ru-RU" sz="3800" spc="-1" strike="noStrike">
                <a:solidFill>
                  <a:srgbClr val="660033"/>
                </a:solidFill>
                <a:latin typeface="Times New Roman"/>
              </a:rPr>
              <a:t>Не подлежат обложению :</a:t>
            </a:r>
            <a:br>
              <a:rPr sz="3800"/>
            </a:br>
            <a:endParaRPr b="0" lang="en-US" sz="38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267920"/>
            <a:ext cx="77724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сударственные пособия, установленные Законодательством, в т.ч.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по временной нетрудоспособ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о уходу за ребенком, по безработице, по беременности и рода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енсационные выплат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ммы единовременной финансовой помощи, оказываемой в связи с чрезвычайными обстоятельствами в целях возмещения причиненного материального ущерба или вреда их здоровью, смертью члена семь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05:45:25Z</dcterms:created>
  <dc:creator>Riabova Elena</dc:creator>
  <dc:description/>
  <dc:language>en-US</dc:language>
  <cp:lastModifiedBy>LEGION</cp:lastModifiedBy>
  <dcterms:modified xsi:type="dcterms:W3CDTF">2015-01-05T10:01:05Z</dcterms:modified>
  <cp:revision>52</cp:revision>
  <dc:subject/>
  <dc:title>Единый социальный налог</dc:title>
</cp:coreProperties>
</file>