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35D4-CBF0-4ED8-8D75-76AABDEA44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инансы населения или финансы домохозяй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0F94-EB12-41A9-9C13-7EE58363D7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419-AD1A-4007-93A5-79D9304637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AAA-AD4A-429C-82B6-80800CCE00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инансовые отношения, в результате которых образуются доходы населения и формируются направления их расхо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F2D5-7EA0-4B6D-B608-DAF782FE96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е назначение личных финансов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2E0B-04AB-4139-97A0-B3ECCF1A7F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017C-1167-49B6-8C35-ACB7A3770A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948-C9B0-4D53-9F9F-AFE312FAE1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тношения с государств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 иной организацией по поводу выплаты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ые отношения с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е отношения со страхов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1D5A-EF92-408C-AC85-5394A7D75A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ормирования личных финан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C59E-B003-47CC-9873-FD2410AE6B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населения и доходы, соответствующие их месту в процессе вос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437-08FD-4A6C-9669-1E087D8761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ТЬ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, которые живут на доходы от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D6D-617F-4283-A04F-19C87DE8A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BC4-96A2-4736-8A85-F6E4F319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CE6-66DB-4321-9890-17903D98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29F-5934-441A-9D94-FF9458E3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D59-8E44-4CAE-84B3-70D84B4C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08C-6409-4CE8-BE32-1D298D1A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B4B8-340C-4220-AADA-6DDD9CB2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BF0A-3878-4C26-B32E-E3A38EF0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469A-0390-4123-9DA2-7340ED06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4E96-4E03-43C8-A949-AD229D9B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B697-F37A-4CC3-A7CD-4612AF71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7035-6CC0-4B24-A6BA-132F434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DB4-F990-43B7-BB21-EA0B7BD0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2B1D-C764-43CC-B592-A478C3DB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8E8E-B27D-443E-98F7-7F8ACC2E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3621-5199-4060-B890-909949FA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791E-7B09-40FB-AD4C-9156A7B4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BF5-DAB6-42C7-B2D1-E6A16FCF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7BB-A96A-45B5-8579-A965727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F2F-A7C9-425E-A231-39E88297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FE4-1C8C-4FCD-AD98-104E8755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75C-2829-45DD-8019-9E90D7D7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AD2-60F6-4490-950B-62BEADC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88F-CC1C-4379-AD11-159AFCC4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8C8-A4E1-4DC4-8E66-55CC424A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0052-374A-4A31-9194-EDED0A2314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AEC0-CF19-462C-8EDA-AFD136979C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Личные финанс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нансы населения или финансы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рас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чные финансы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финансовые отношения, в результате которых образуются доходы населения и формируются направления их расход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Основное назначение личных финансов-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48880" y="2714400"/>
            <a:ext cx="62485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0066"/>
                </a:solidFill>
                <a:latin typeface="Arial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оговые отношения с государств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 с иной организацией по поводу выплаты заработной пл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говые отношения с ба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ховые отношения со страховыми организац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Основные источники формирования личных финанс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Organization Chart 7"/>
          <p:cNvGrpSpPr/>
          <p:nvPr/>
        </p:nvGrpSpPr>
        <p:grpSpPr>
          <a:xfrm>
            <a:off x="431640" y="1585800"/>
            <a:ext cx="8208000" cy="4463280"/>
            <a:chOff x="431640" y="1585800"/>
            <a:chExt cx="8208000" cy="4463280"/>
          </a:xfrm>
        </p:grpSpPr>
        <p:cxnSp>
          <p:nvCxnSpPr>
            <p:cNvPr id="176" name="_s1028"/>
            <p:cNvCxnSpPr>
              <a:stCxn id="177" idx="1"/>
              <a:endCxn id="178" idx="2"/>
            </p:cNvCxnSpPr>
            <p:nvPr/>
          </p:nvCxnSpPr>
          <p:spPr>
            <a:xfrm rot="10800000">
              <a:off x="2893320" y="2396520"/>
              <a:ext cx="8215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29"/>
            <p:cNvCxnSpPr>
              <a:stCxn id="180" idx="1"/>
              <a:endCxn id="178" idx="2"/>
            </p:cNvCxnSpPr>
            <p:nvPr/>
          </p:nvCxnSpPr>
          <p:spPr>
            <a:xfrm rot="10800000">
              <a:off x="2893320" y="2396520"/>
              <a:ext cx="8215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30"/>
            <p:cNvCxnSpPr>
              <a:stCxn id="182" idx="1"/>
              <a:endCxn id="178" idx="2"/>
            </p:cNvCxnSpPr>
            <p:nvPr/>
          </p:nvCxnSpPr>
          <p:spPr>
            <a:xfrm rot="10800000">
              <a:off x="2893320" y="2396520"/>
              <a:ext cx="8215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031"/>
            <p:cNvSpPr/>
            <p:nvPr/>
          </p:nvSpPr>
          <p:spPr>
            <a:xfrm>
              <a:off x="431640" y="158580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ЛИЧНЫЕ ФИНАН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2"/>
            <p:cNvSpPr/>
            <p:nvPr/>
          </p:nvSpPr>
          <p:spPr>
            <a:xfrm>
              <a:off x="3714840" y="280296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рплата, премии и другие выпла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3714840" y="402048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нсии, стипендии, зарпла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3714840" y="523764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ходы от ценных бумаг, вклад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Группы населения и доходы, соответствующие их месту в процессе воспроизводств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41480"/>
          <a:ext cx="7696080" cy="46972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принимате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имательский доход ( прибыль плюс зар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ёмные работни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нт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капитала (проценты, дивиденды, арендная 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работающие л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мощь(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НТЬЕ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раждане, которые живут на доходы от собственного капит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2:27Z</dcterms:created>
  <dc:creator>User</dc:creator>
  <dc:description/>
  <dc:language>en-US</dc:language>
  <cp:lastModifiedBy>LEGION</cp:lastModifiedBy>
  <dcterms:modified xsi:type="dcterms:W3CDTF">2015-01-05T10:01:40Z</dcterms:modified>
  <cp:revision>11</cp:revision>
  <dc:subject/>
  <dc:title>Личные финансы</dc:title>
</cp:coreProperties>
</file>