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15D9-F4BD-4479-AC89-8D19ACE9AE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../slides/slide6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инансы населения или финансы домохозяй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00FF-040D-46EA-B1EB-FCF941EC8D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1B0F-33BF-40E7-B7FD-78D8E469BA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90C3-BB98-4708-8FF0-DBFD551FE3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инансовые отношения, в результате которых образуются доходы населения и формируются направления их расхо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8531-026F-4DEE-BE8C-E680220BB9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ое назначение личных финансов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F703-9DBF-4021-BCA2-8289707EE6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3935-9502-49DC-9712-45F7ED28C7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B0E3-C6FD-4079-BAFC-0E8DB7FBC6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отношения с государств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 иной организацией по поводу выплаты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ые отношения с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е отношения со страховыми организ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1961-71A9-4112-90D0-1F31A8A958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ормирования личных финан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0C4A-E198-4D1A-9DB8-469CA84BE3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населения и доходы, соответствующие их месту в процессе вос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ED94-3DF7-46C8-9BA8-FA827F0324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ТЬ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, которые живут на доходы от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C19D-EEDC-4887-9433-70C6E63243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F7C-E574-40C5-9E99-33B0A9B9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741-2531-4496-9840-201AD7BD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FC3-A808-45F1-8660-B3400D96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2A8-5279-411B-975F-CD5B464F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D568-5F87-4FF1-8925-9FBA20A5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A902-36AE-4564-93C9-F45CEED8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0F37-577D-49C8-AA84-10A2B1DD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F40E-DF6C-45AF-A88D-D8417395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7E42-A3DF-4FFE-92E1-612AC99C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CCFE-E054-4245-94CE-18F2B7E3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DAF6-2D0A-4F66-BC66-BC7537D5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167-E5B8-4234-97E9-620CF96E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16A0-07F4-4729-8200-E389888B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623C-9F53-4211-8BCA-5D756469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74F3-94A8-43FB-87BF-9C55C83C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AD33-96BC-4172-B944-8FCBF938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E5F3-17F3-4C78-A951-8BBD13B2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0188-7CAF-420A-B67E-2803127C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83A-38DD-4E44-A909-2722F275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F082-7FF3-43E5-AE98-8AC8FFDF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B97-2A90-4D8F-BE07-BC32B1B6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EA3D-6E14-4D0D-B69A-C54FCF85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C87-1687-419E-9EB1-7A4CE511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3A7-F4E1-486A-A064-338BABB0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A14A-09AC-493D-915B-D7FA568AC7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DEF6-10C4-4D76-86E8-2DA1E3DA0C1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Личные финанс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Финансы населения или финансы домохозяй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719360"/>
          <a:ext cx="8229600" cy="441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рас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чные финансы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то финансовые отношения, в результате которых образуются доходы населения и формируются направления их расходов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Основное назначение личных финансов-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48880" y="2714400"/>
            <a:ext cx="62485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1600200"/>
            <a:ext cx="76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1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357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0066"/>
                </a:solidFill>
                <a:latin typeface="Arial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44944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логовые отношения с государством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ношения с иной организацией по поводу выплаты заработной пл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говые отношения с бан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аховые отношения со страховыми организац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Основные источники формирования личных финансов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5" name="Organization Chart 7"/>
          <p:cNvGrpSpPr/>
          <p:nvPr/>
        </p:nvGrpSpPr>
        <p:grpSpPr>
          <a:xfrm>
            <a:off x="431640" y="1585800"/>
            <a:ext cx="8208000" cy="4463280"/>
            <a:chOff x="431640" y="1585800"/>
            <a:chExt cx="8208000" cy="4463280"/>
          </a:xfrm>
        </p:grpSpPr>
        <p:cxnSp>
          <p:nvCxnSpPr>
            <p:cNvPr id="176" name="_s1028"/>
            <p:cNvCxnSpPr>
              <a:stCxn id="177" idx="1"/>
              <a:endCxn id="178" idx="2"/>
            </p:cNvCxnSpPr>
            <p:nvPr/>
          </p:nvCxnSpPr>
          <p:spPr>
            <a:xfrm rot="10800000">
              <a:off x="2893320" y="2396520"/>
              <a:ext cx="821520" cy="324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29"/>
            <p:cNvCxnSpPr>
              <a:stCxn id="180" idx="1"/>
              <a:endCxn id="178" idx="2"/>
            </p:cNvCxnSpPr>
            <p:nvPr/>
          </p:nvCxnSpPr>
          <p:spPr>
            <a:xfrm rot="10800000">
              <a:off x="2893320" y="2396520"/>
              <a:ext cx="821520" cy="202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30"/>
            <p:cNvCxnSpPr>
              <a:stCxn id="182" idx="1"/>
              <a:endCxn id="178" idx="2"/>
            </p:cNvCxnSpPr>
            <p:nvPr/>
          </p:nvCxnSpPr>
          <p:spPr>
            <a:xfrm rot="10800000">
              <a:off x="2893320" y="2396520"/>
              <a:ext cx="82152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1031"/>
            <p:cNvSpPr/>
            <p:nvPr/>
          </p:nvSpPr>
          <p:spPr>
            <a:xfrm>
              <a:off x="431640" y="158580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ЛИЧНЫЕ ФИНАН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2"/>
            <p:cNvSpPr/>
            <p:nvPr/>
          </p:nvSpPr>
          <p:spPr>
            <a:xfrm>
              <a:off x="3714840" y="280296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рплата, премии и другие выплат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3714840" y="402048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енсии, стипендии, зарплат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34"/>
            <p:cNvSpPr/>
            <p:nvPr/>
          </p:nvSpPr>
          <p:spPr>
            <a:xfrm>
              <a:off x="3714840" y="523764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оходы от ценных бумаг, вклад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0066"/>
                </a:solidFill>
                <a:latin typeface="Arial"/>
              </a:rPr>
              <a:t>Группы населения и доходы, соответствующие их месту в процессе воспроизводства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1941480"/>
          <a:ext cx="7696080" cy="46972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12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ГРУППЫ НАСЕЛ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едпринимател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нимательский доход ( прибыль плюс зар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ёмные работни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нть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капитала (проценты, дивиденды, арендная 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работающие лиц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ая помощь(?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АНТЬЕ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Граждане, которые живут на доходы от собственного капитал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0:32:27Z</dcterms:created>
  <dc:creator>User</dc:creator>
  <dc:description/>
  <dc:language>en-US</dc:language>
  <cp:lastModifiedBy>LEGION</cp:lastModifiedBy>
  <dcterms:modified xsi:type="dcterms:W3CDTF">2015-01-05T10:01:40Z</dcterms:modified>
  <cp:revision>11</cp:revision>
  <dc:subject/>
  <dc:title>Личные финансы</dc:title>
</cp:coreProperties>
</file>