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A134-0382-43C5-A7F6-82F1337EBD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../slides/slide6.xml"/><Relationship Id="rId6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инансы населения или финансы домохозяй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096A-29A9-4A3C-A13D-4641965FD8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6574-922E-4B5E-A7E9-4B72BBAEF7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денежных доходов и рас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E560-692C-4A98-AF18-0DEFB2038A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финансовые отношения, в результате которых образуются доходы населения и формируются направления их расхо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5C20-7347-4585-A2F0-047CE7317D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ое назначение личных финансов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EF75-3954-43E0-92CD-9C9DE9EACB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8D5E-9DD4-45B0-9152-334EE06D31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D439-FEEF-4E50-AE57-D3E2C3F0F7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отношения с государств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 иной организацией по поводу выплаты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вые отношения с бан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овые отношения со страховыми организ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6273-D39C-436D-BF7F-F3B657938A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ормирования личных финан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9AF0-E1F2-433D-94C4-79DEB5AE8E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населения и доходы, соответствующие их месту в процессе вос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80A9-848C-468E-A92B-1445F393B1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ТЬ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ждане, которые живут на доходы от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6AE7-D454-4B91-8F28-BD61CB9127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A5D-7819-49EE-896F-273B21E9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10C-9469-42A1-BED1-65A23873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E13-BED2-46F2-A1B0-430B9307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A100-0AD2-4E73-BEFC-AE3580A24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C8DA-B0B2-4332-BE79-2E1A2426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1D1A-871C-4F99-A883-D1AD5828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950D-B00F-4E97-BC68-8CC1DDC4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74C7-F565-4CA1-8092-87932C4D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6A55-A521-45A4-8CE9-5C8CC5FC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41AC-2F49-4E30-B1B3-DC607C02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5034-9BFB-4F8E-81F2-3B96B40F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8C0-71B3-47B4-A2D2-4CBDE8B6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D642-E054-4329-BDB3-771B5C1A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5C70-4E73-4FE6-8C77-E03FACA8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BE17-F59B-4990-A053-ABDFA257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EEA1-AFBB-41A1-BF07-B934569C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5114-5173-4131-A0CC-31777963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842-C6F4-4927-AE98-F49FF7C2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458D-AD28-4AC2-B4BA-077952A9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8CE-1768-41E0-A671-DB710734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06E1-A7FC-47AE-9AD4-C42E92F0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556-F326-402C-B4F8-F07076B2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61A-91F9-4ABB-88DB-9AEBB81A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D04-CFCA-48FA-9A53-F2BA413F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D7EA-4D0C-4AA6-AF4C-F1FC0263DB0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203E-369A-4B03-9203-B4AE7BF22D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Личные финансы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Финансы населения или финансы домохозяй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Это свод денежных доходов и расходов населения по видам и на условиях обеспечения их равенства за го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Баланс денежных доходов и расходов насел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57200" y="1719360"/>
          <a:ext cx="8229600" cy="441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е рас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Личные финансы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то финансовые отношения, в результате которых образуются доходы населения и формируются направления их расходовани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13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Основное назначение личных финансов-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848880" y="2714400"/>
            <a:ext cx="62485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ение процессов потребления, поскольку потребление есть результат процесса производства, постольку личные финансы являются производными корпоративных и государственных финанс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1600200"/>
            <a:ext cx="76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Личные финансы находятся в неразрывной связи с финансами государства и корпоративными финансам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16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Подавляющая часть личных доходов населения ведёт своё происхождение от корпоративных  и государственных финансов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ые финансы направлены на потребление, а не употребление в качестве капитала, т.е. источника чистого до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330066"/>
                </a:solidFill>
                <a:latin typeface="Arial"/>
              </a:rPr>
              <a:t>Личные финансы- это все типы финансовых отношений, стороной которых может стать отдельный человек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4494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логовые отношения с государством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ношения с иной организацией по поводу выплаты заработной пл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лговые отношения с банк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аховые отношения со страховыми организация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Основные источники формирования личных финансов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75" name="Organization Chart 7"/>
          <p:cNvGrpSpPr/>
          <p:nvPr/>
        </p:nvGrpSpPr>
        <p:grpSpPr>
          <a:xfrm>
            <a:off x="431640" y="1585800"/>
            <a:ext cx="8208000" cy="4463280"/>
            <a:chOff x="431640" y="1585800"/>
            <a:chExt cx="8208000" cy="4463280"/>
          </a:xfrm>
        </p:grpSpPr>
        <p:cxnSp>
          <p:nvCxnSpPr>
            <p:cNvPr id="176" name="_s1028"/>
            <p:cNvCxnSpPr>
              <a:stCxn id="177" idx="1"/>
              <a:endCxn id="178" idx="2"/>
            </p:cNvCxnSpPr>
            <p:nvPr/>
          </p:nvCxnSpPr>
          <p:spPr>
            <a:xfrm rot="10800000">
              <a:off x="2893320" y="2396520"/>
              <a:ext cx="821520" cy="324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29"/>
            <p:cNvCxnSpPr>
              <a:stCxn id="180" idx="1"/>
              <a:endCxn id="178" idx="2"/>
            </p:cNvCxnSpPr>
            <p:nvPr/>
          </p:nvCxnSpPr>
          <p:spPr>
            <a:xfrm rot="10800000">
              <a:off x="2893320" y="2396520"/>
              <a:ext cx="821520" cy="202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30"/>
            <p:cNvCxnSpPr>
              <a:stCxn id="182" idx="1"/>
              <a:endCxn id="178" idx="2"/>
            </p:cNvCxnSpPr>
            <p:nvPr/>
          </p:nvCxnSpPr>
          <p:spPr>
            <a:xfrm rot="10800000">
              <a:off x="2893320" y="2396520"/>
              <a:ext cx="821520" cy="81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1031"/>
            <p:cNvSpPr/>
            <p:nvPr/>
          </p:nvSpPr>
          <p:spPr>
            <a:xfrm>
              <a:off x="431640" y="158580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ЛИЧНЫЕ ФИНАН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2"/>
            <p:cNvSpPr/>
            <p:nvPr/>
          </p:nvSpPr>
          <p:spPr>
            <a:xfrm>
              <a:off x="3714840" y="280296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арплата, премии и другие выплат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3"/>
            <p:cNvSpPr/>
            <p:nvPr/>
          </p:nvSpPr>
          <p:spPr>
            <a:xfrm>
              <a:off x="3714840" y="402048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енсии, стипендии, зарплат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1034"/>
            <p:cNvSpPr/>
            <p:nvPr/>
          </p:nvSpPr>
          <p:spPr>
            <a:xfrm>
              <a:off x="3714840" y="5237640"/>
              <a:ext cx="4924800" cy="811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оходы от ценных бумаг, вклад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0066"/>
                </a:solidFill>
                <a:latin typeface="Arial"/>
              </a:rPr>
              <a:t>Группы населения и доходы, соответствующие их месту в процессе воспроизводства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5800" y="1941480"/>
          <a:ext cx="7696080" cy="46972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712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ad5cff"/>
                          </a:solidFill>
                          <a:latin typeface="Arial"/>
                        </a:rPr>
                        <a:t>ГРУППЫ НАСЕЛЕНИЯ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едпринимател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ринимательский доход ( прибыль плюс зар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ёмные работник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нть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от капитала (проценты, дивиденды, арендная плат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работающие лиц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альная помощь(?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РАНТЬЕ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Граждане, которые живут на доходы от собственного капитал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0:32:27Z</dcterms:created>
  <dc:creator>User</dc:creator>
  <dc:description/>
  <dc:language>en-US</dc:language>
  <cp:lastModifiedBy>LEGION</cp:lastModifiedBy>
  <dcterms:modified xsi:type="dcterms:W3CDTF">2015-01-05T10:01:40Z</dcterms:modified>
  <cp:revision>11</cp:revision>
  <dc:subject/>
  <dc:title>Личные финансы</dc:title>
</cp:coreProperties>
</file>