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2.wmf" ContentType="image/x-wmf"/>
  <Override PartName="/ppt/media/cashreg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ACEB-5D06-4F0F-AE62-DBE7BA374DC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стовская средняя  шко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стовского  райо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Урок  по  обществознанию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асибулл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льнур Хайда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75DE-CC81-4CC3-949B-9D8AC6472F0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гиональные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имущество 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ой  на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 с  юридических лиц  на  нужды  образовательных 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F6D4-4154-402E-AA5E-DE370EDDDFF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 – Насибулли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ульнур Хайдар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спублики Татарс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пастово, 2003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984D-0C39-40D9-BE1E-EB0490A2907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и  как  источник  доходов государ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 можешь  и   не заметить, что  у тебя  всё  идёт хорошо, но  налоговая  служба напомн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 Дани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7DCD-CCB4-46F1-B293-5AF47F9CA56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лог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78E3-06D0-457E-A17A-C14B6EFA47F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ff00"/>
                </a:solidFill>
                <a:uFillTx/>
                <a:latin typeface="Calibri"/>
              </a:rPr>
              <a:t>Экономическая сущность  налога</a:t>
            </a: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алового  внутренне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 себестоимости 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личного  дохода  работ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етоды  налогооб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св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й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декла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7C63-E0C2-4CEB-9063-BA1605500FF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нал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AAC4-A894-4E5B-AA9E-3AE61F4E88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ucida Console"/>
              </a:rPr>
              <a:t>Прям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прибы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 на 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 на 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ные  плате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CA03-B778-4133-990F-EE95A35EBC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лог  на  добавленную 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кци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Таможенные  пош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лог  на  операции с  ценными  бума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CA4E-CC94-4EC5-A2BE-877D30B2F6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ru-RU" sz="12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Федеральные 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Региональные 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Местные  налоги</a:t>
            </a:r>
            <a:r>
              <a:rPr b="0" lang="ru-RU" sz="11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58E7-B33C-4F0B-89F1-D89FA858C0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добавленную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зы  на  отдельные  группы и  виды 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ходный  на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ая  пош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бовый  сб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наследуемое  и  даримое 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C8CA-97A3-46C5-A5A1-F8CCD57A1D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0DD-2453-43BF-907F-213C590F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899-CEB7-46F4-9AFA-D2B3EE31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330-DD85-4ECD-8B3A-F3CC9DC1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721B-219B-4734-A29B-12C09565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530C-A6CC-4567-B8C9-FD2BFE04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36CB-AEE0-46F7-A154-C453BD45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D23C-54EC-4C54-AE02-D1D2F26B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2B62-3BFE-4884-998B-62D4609F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05ED-B7C7-453C-A263-C2A21931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B43A-7A04-49F1-A85B-2C76B235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203C-8122-49E2-8675-FF1F3F12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F59-CEB3-483E-8017-CBEF7BA1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61A7-F435-49F6-8A9D-EB25E202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F021-C075-4ECF-B11F-69B371FA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A7BF-A818-47AC-987E-1ECDB717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0754-BBBB-4ACB-A406-4A207723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D783-452E-40F6-AB26-7364ADEC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7CA-8844-401A-9A8A-7583C8F3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D31-9AC3-4A2B-A0A2-DFDFB87A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A72-3101-4357-BA45-C595AEA3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2BC8-AAEB-4C90-BB4D-22D03CBD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F5C-3032-4C17-9F5A-89F54A5F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52B-9F2F-4E20-B04A-0276140C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BB7-D759-478A-AB19-B6895DED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9219-A8DB-458F-93CF-602DB21D9C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FBB1-6046-4721-B776-BC5CABE167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астовская средняя  шко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астовского  райо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еспублики Татарстан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рок  по  обществознан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Учител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 Насибуллин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ульнур Хайда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Региональные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г  на  имущество  предприят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ной  нало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  с  юридических лиц  на  нужды  образовательных  учреж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PE03254_"/>
          <p:cNvPicPr/>
          <p:nvPr/>
        </p:nvPicPr>
        <p:blipFill>
          <a:blip r:embed="rId1"/>
          <a:stretch/>
        </p:blipFill>
        <p:spPr>
          <a:xfrm>
            <a:off x="5105520" y="1600200"/>
            <a:ext cx="3657600" cy="4191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D21308_"/>
          <p:cNvPicPr/>
          <p:nvPr/>
        </p:nvPicPr>
        <p:blipFill>
          <a:blip r:embed="rId2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09880" y="685800"/>
            <a:ext cx="1828800" cy="21337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Элемен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нало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3200400" y="1676520"/>
            <a:ext cx="609480" cy="4572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867280" y="1066680"/>
            <a:ext cx="3048120" cy="152424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Носитель налога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лицо, с котор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удерживается налог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4952880" y="3886200"/>
            <a:ext cx="3733920" cy="220968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Источник  налог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доход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из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котор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уплач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налог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04920" y="1295280"/>
            <a:ext cx="3276360" cy="129564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457200" y="3886200"/>
            <a:ext cx="3124080" cy="220968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  налог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ход, имуществ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ов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27400" y="186228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24"/>
          <p:cNvSpPr/>
          <p:nvPr/>
        </p:nvSpPr>
        <p:spPr>
          <a:xfrm flipH="1">
            <a:off x="3352680" y="2743200"/>
            <a:ext cx="4572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25"/>
          <p:cNvSpPr/>
          <p:nvPr/>
        </p:nvSpPr>
        <p:spPr>
          <a:xfrm>
            <a:off x="5638680" y="2819520"/>
            <a:ext cx="533520" cy="106668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26"/>
          <p:cNvSpPr/>
          <p:nvPr/>
        </p:nvSpPr>
        <p:spPr>
          <a:xfrm flipV="1">
            <a:off x="5638680" y="2133360"/>
            <a:ext cx="228600" cy="7596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286000" y="838080"/>
            <a:ext cx="4648320" cy="1447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Налоговые  системы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4"/>
          <p:cNvSpPr/>
          <p:nvPr/>
        </p:nvSpPr>
        <p:spPr>
          <a:xfrm flipH="1">
            <a:off x="1447560" y="2286000"/>
            <a:ext cx="99036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419720" y="2286000"/>
            <a:ext cx="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6934320" y="2286000"/>
            <a:ext cx="838080" cy="1447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09480" y="3886200"/>
            <a:ext cx="1828800" cy="23623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Пропор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циона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657600" y="3962520"/>
            <a:ext cx="190512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Прогрес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934320" y="4038480"/>
            <a:ext cx="182880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Регрес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2"/>
          <p:cNvSpPr/>
          <p:nvPr/>
        </p:nvSpPr>
        <p:spPr>
          <a:xfrm>
            <a:off x="2666880" y="609480"/>
            <a:ext cx="3581640" cy="16002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ahoma"/>
              </a:rPr>
              <a:t>Бюдж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066680" y="3200400"/>
            <a:ext cx="266724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Дох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налоги, сбо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562720" y="3200400"/>
            <a:ext cx="243828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Расх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социаль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выпл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14"/>
          <p:cNvSpPr/>
          <p:nvPr/>
        </p:nvSpPr>
        <p:spPr>
          <a:xfrm flipH="1">
            <a:off x="2286000" y="2057400"/>
            <a:ext cx="9144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5791320" y="2057400"/>
            <a:ext cx="1143000" cy="11430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024" descr="J0237202"/>
          <p:cNvPicPr/>
          <p:nvPr/>
        </p:nvPicPr>
        <p:blipFill>
          <a:blip r:embed="rId1"/>
          <a:stretch/>
        </p:blipFill>
        <p:spPr>
          <a:xfrm>
            <a:off x="3492360" y="2276640"/>
            <a:ext cx="2283120" cy="22478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Автор – Насибуллина </a:t>
            </a:r>
            <a:br>
              <a:rPr sz="4000"/>
            </a:b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Гульнур Хайдаров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Республики Татарс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Апастово, 2003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алоги  как  источник  доходов государства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ы  можешь  и   не заметить, что  у тебя  всё  идёт хорошо, но  налоговая  служба напомн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ьер  Данино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6" descr="PE01460_"/>
          <p:cNvPicPr/>
          <p:nvPr/>
        </p:nvPicPr>
        <p:blipFill>
          <a:blip r:embed="rId1"/>
          <a:stretch/>
        </p:blipFill>
        <p:spPr>
          <a:xfrm>
            <a:off x="4761000" y="1641600"/>
            <a:ext cx="3584520" cy="4454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</a:rPr>
              <a:t>Налоговая система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 flipH="1">
            <a:off x="1904760" y="3505320"/>
            <a:ext cx="16002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5562720" y="3505320"/>
            <a:ext cx="152388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762120" y="4114800"/>
            <a:ext cx="228600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172200" y="4114800"/>
            <a:ext cx="213372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14400" y="42242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Налог  как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финансо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систе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6461280" y="4495680"/>
            <a:ext cx="1672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Элемен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4568"/>
                </a:solidFill>
                <a:uFillTx/>
                <a:latin typeface="Tahoma"/>
                <a:hlinkClick r:id="rId1" action="ppaction://hlinksldjump"/>
              </a:rPr>
              <a:t>налога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4568"/>
                </a:solidFill>
                <a:uFillTx/>
                <a:latin typeface="Times New Roman"/>
                <a:hlinkClick r:id="rId1" action="ppaction://hlinksldjump"/>
              </a:rPr>
              <a:t>Экономическая</a:t>
            </a:r>
            <a:r>
              <a:rPr b="0" i="1" lang="ru-RU" sz="4000" spc="-1" strike="noStrike" u="sng">
                <a:solidFill>
                  <a:srgbClr val="00ff00"/>
                </a:solidFill>
                <a:uFillTx/>
                <a:latin typeface="Times New Roman"/>
              </a:rPr>
              <a:t> сущность  налога</a:t>
            </a:r>
            <a:r>
              <a:rPr b="0" lang="ru-RU" sz="4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валового  внутреннего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 себестоимости 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прибы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личного  дохода  работ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Методы  налогообложения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ям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Косвен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ой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говая деклара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4">
            <a:hlinkClick r:id="rId2" action="ppaction://hlinksldjump"/>
          </p:cNvPr>
          <p:cNvSpPr/>
          <p:nvPr/>
        </p:nvSpPr>
        <p:spPr>
          <a:xfrm>
            <a:off x="7696080" y="6019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Функции налогов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ск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гулирующ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ро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PE01561_"/>
          <p:cNvPicPr/>
          <p:nvPr/>
        </p:nvPicPr>
        <p:blipFill>
          <a:blip r:embed="rId1"/>
          <a:stretch/>
        </p:blipFill>
        <p:spPr>
          <a:xfrm>
            <a:off x="4114800" y="304812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5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Lucida Console"/>
              </a:rPr>
              <a:t>Прям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Вид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  на  прибы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и  на  имуществ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и  на  дох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сурсные  платеж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BD06455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48520" y="3886200"/>
            <a:ext cx="1888920" cy="18748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алог  на  добавленную  стои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Акци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Таможенные  пошл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алог  на  операции с  ценными  бумаг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PE01616_"/>
          <p:cNvPicPr/>
          <p:nvPr/>
        </p:nvPicPr>
        <p:blipFill>
          <a:blip r:embed="rId1"/>
          <a:stretch/>
        </p:blipFill>
        <p:spPr>
          <a:xfrm>
            <a:off x="6818400" y="2590920"/>
            <a:ext cx="194472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ru-RU" sz="44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Федеральные  нало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Региональные  налог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Местные  налоги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BD05515_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080" y="1295280"/>
            <a:ext cx="2590920" cy="2971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Федераль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лог  на  добавленную стоим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Акцизы  на  отдельные  группы и  виды  това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Подоходный  нал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Таможенная  пошл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Гербовый  сб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лог  на  наследуемое  и  даримое  имущество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4">
            <a:hlinkClick r:id="" action="ppaction://hlinkshowjump?jump=previousslide"/>
          </p:cNvPr>
          <p:cNvSpPr/>
          <p:nvPr/>
        </p:nvSpPr>
        <p:spPr>
          <a:xfrm>
            <a:off x="7696080" y="53341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9:36:13Z</dcterms:created>
  <dc:creator>User</dc:creator>
  <dc:description/>
  <dc:language>en-US</dc:language>
  <cp:lastModifiedBy>LEGION</cp:lastModifiedBy>
  <dcterms:modified xsi:type="dcterms:W3CDTF">2015-01-05T10:02:53Z</dcterms:modified>
  <cp:revision>12</cp:revision>
  <dc:subject/>
  <dc:title>Апастовская средняя  школа.</dc:title>
</cp:coreProperties>
</file>