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4FD7-D2D9-4FDF-9940-062D447A9F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0537-8C50-47FC-BEF0-7DBE0C54A2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4F58-FF07-4439-B81D-2503CC5A12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лиоцентрическая сист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дновременно движется и вокруг своей оси, и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1F87-3177-45C7-8E8D-E39F47A88C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Копер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73 – 1543гг. Великий польский астроном, создатель гелиоцентрической системы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5109-C528-4113-9A75-C2C3EB7025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411B-C455-4183-99F2-070BD4FF55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 существует единого центра для всех небесных орбит или сф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2C13-E4BE-458F-B0B4-C8E37373B4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тр Земли является не центром мира, а лишь центром тяготения Земли и лунной орб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4538-02C3-45D4-8AF6-FBA4B462B6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55F5-0133-454B-9EE4-75856AA3DD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F93F-95D0-4E6E-A6FF-D8BB3C04C7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C624-A2BC-404C-8CCD-73E7B75A95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F276-C56C-417F-ADC6-7B7968DCC0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F8D-B6D6-409F-8F2F-44F1C6D7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266-112B-4031-9AEF-4BA2E012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BE7-65C6-4178-BF6D-5C69256E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32D-54AE-44A4-B82F-3B610A64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9152-7C5B-4E60-966A-90A9073D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FF6B-8928-4957-8111-ABD4C010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42CD-7155-45BC-B1CA-7713B6E4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B915-8FDF-4BEF-B9AA-B7553E1C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5323-C59C-4BA3-BF7C-FF7F4B2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2C8F-DDB9-4280-87ED-4E0DBECA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1027-8841-4891-A494-7D21E884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343-FB59-4459-9F0A-EAB64AE1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3134-9565-48F1-8862-6ACC5392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E6B7-0197-49A4-9FA0-872C3365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C678-0C5C-4F1C-B79D-2CE49DBF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B51C-3C55-45BD-BE45-67560194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A0B9-DB94-4020-BA6B-4E6B27AD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B99-D100-4A23-8DCF-24FDFFE2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FA7-B4AD-4EEC-8A54-6AB37264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171-FE73-48AE-AF2E-A99ACDC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749-573E-4FBC-BF91-F8822B9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B52-4252-42CC-8E9E-43E07918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004-198D-4D3B-9B5A-19839D1F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3E9-5720-407C-AEB4-5A5D4CA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DC44-CDFA-49D6-A206-5BF83D7F6068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3EAC-4B34-41CB-8019-508E1E1193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5AF7-3540-49DD-B56F-2F1A3B6EF08B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1063-6218-452C-B613-E351BB95BF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Теории Коперни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елиоцентрическая систем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емля одновременно движется и вокруг своей оси, и вокруг Солн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систума тел"/>
          <p:cNvPicPr/>
          <p:nvPr/>
        </p:nvPicPr>
        <p:blipFill>
          <a:blip r:embed="rId1"/>
          <a:stretch/>
        </p:blipFill>
        <p:spPr>
          <a:xfrm>
            <a:off x="758880" y="2028960"/>
            <a:ext cx="3541680" cy="3714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n00-008"/>
          <p:cNvPicPr/>
          <p:nvPr/>
        </p:nvPicPr>
        <p:blipFill>
          <a:blip r:embed="rId1"/>
          <a:stretch/>
        </p:blipFill>
        <p:spPr>
          <a:xfrm>
            <a:off x="1038240" y="10224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сисетма миар н к"/>
          <p:cNvPicPr/>
          <p:nvPr/>
        </p:nvPicPr>
        <p:blipFill>
          <a:blip r:embed="rId1"/>
          <a:stretch/>
        </p:blipFill>
        <p:spPr>
          <a:xfrm>
            <a:off x="1752480" y="760320"/>
            <a:ext cx="5715000" cy="48196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иколай Коперник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73 – 1543гг. Великий польский астроном, создатель гелиоцентрической системы ми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1" descr="PH03181"/>
          <p:cNvPicPr/>
          <p:nvPr/>
        </p:nvPicPr>
        <p:blipFill>
          <a:blip r:embed="rId1"/>
          <a:stretch/>
        </p:blipFill>
        <p:spPr>
          <a:xfrm>
            <a:off x="1127160" y="1773360"/>
            <a:ext cx="2805120" cy="42256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ория Копер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4" descr="8"/>
          <p:cNvPicPr/>
          <p:nvPr/>
        </p:nvPicPr>
        <p:blipFill>
          <a:blip r:embed="rId1"/>
          <a:stretch/>
        </p:blipFill>
        <p:spPr>
          <a:xfrm>
            <a:off x="4641840" y="2301840"/>
            <a:ext cx="3925800" cy="3168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Не существует единого центра для всех небесных орбит или сфер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2. Центр Земли является не центром мира, а лишь центром тяготения Земли и лунной орби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678204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6781680" cy="3854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3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