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AFC9-9001-424A-8ABD-832FB26542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Копер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0088-0C13-461D-8DA7-3469D36B25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жущиеся прямые и попятные движения планет, обусловлены не их движениями, а движением Земли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одного лишь движения самой Земли достаточно для объяснения многих кажущихся неравномерностей на н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7312-8F16-488B-9F4C-4C856C2F3B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елиоцентрическая систе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одновременно движется и вокруг своей оси, и вокруг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6935-B13E-47FA-BA46-B7A79517A3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Копер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73 – 1543гг. Великий польский астроном, создатель гелиоцентрической системы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C05C-4831-454C-8849-0340550BCC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Копер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воспринимает движение небесных тел так же, как и перемещение различных предметов на Земле, когда он сам находится в движен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842C-E8AD-4FD2-8430-3079B16881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 существует единого центра для всех небесных орбит или сф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80FA-8AEA-4354-9701-05395EC153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нтр Земли является не центром мира, а лишь центром тяготения Земли и лунной орб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17EB-C96E-406D-A129-CFC91453EE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се сферы движутся вокруг Солнца, как вокруг своего центра, вследствие чего Солнце является центром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AE43-E062-43E6-AAFA-1E5329ED9A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ношение расстояния от Земли до Солнца к высоте небесной тверди меньше отношения радиуса Земли к расстоянию от нее до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5A6C-9B97-43B3-BF6F-431017FE26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Всякое движение, замечаемое у небесной тверди, связано не с каким- либо движением самой тверди, а самой Земл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я же совершает в течение суток полный оборот вокруг своих неизменных полюсов, в то время, как твердь небесная и расположенное на ней небо, остаются неподвиж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1725-E61F-4495-B1B5-0764A06A55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То, что кажется нам движением Солнца, на самом деле связано с движениями Земли и нашей сферы, вместе с которой мы обращаемся вокруг Солнца, как всякая другая план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55A5-8B8D-448C-9370-DD3BCE1768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D0A-63F4-4E13-B2F6-71888D00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5CE-2B84-4F63-B4BF-5D0EB504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318-2080-412C-8D1B-C247807D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B7A-2760-4B5A-9C5D-3D60D414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5FC2-B1C1-41A1-AC54-DF4164E0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D941-A26E-4249-AC09-D6994262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8066-4D04-46CA-AED1-F7235C0D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50AF-792F-45F1-9F9D-C993EEBD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F9A7-E5F1-447A-B4E3-FE8D7C8D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276F-B13C-4675-A377-4C82CC03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A61A-47FA-4718-A4C5-E138184D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C2E-074A-49A2-A7B2-7B244178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3287-060C-4006-ADFB-EFF127D5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EBBF-C313-46AE-B5F4-E1964C06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0B31-43D7-4E91-917B-F2B52B0F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CD73-163E-4B5B-9311-3FB6223F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83AD-79D1-4DDD-A551-6A0864CB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6BB-374F-4F02-978D-B7E04EBE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59C-9F43-456E-9819-EBDC216A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151-4312-44CD-8584-323AB0DA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AFF-951C-481E-8550-DA59059F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6D6-E2DF-42CF-82E1-6BA60C18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A86-CD0D-4EBC-B91C-8BFB95A8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504-1D00-4822-AE42-BB977CFC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1E8C-021D-403A-AFC0-B58BECF54F37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6951-D916-4BEC-A118-375EA659F29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C8A1-A63C-4639-9B88-EBCED964FB2A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3D15-A72A-4316-82D3-5D615E00EA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Verdana"/>
              </a:rPr>
              <a:t>Теории Коперника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жущиеся прямые и попятные движения планет, обусловлены не их движениями, а движением Земли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Следовательно, одного лишь движения самой Земли достаточно для объяснения многих кажущихся неравномерностей на небе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елиоцентрическая система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емля одновременно движется и вокруг своей оси, и вокруг Солнц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7" descr="систума тел"/>
          <p:cNvPicPr/>
          <p:nvPr/>
        </p:nvPicPr>
        <p:blipFill>
          <a:blip r:embed="rId1"/>
          <a:stretch/>
        </p:blipFill>
        <p:spPr>
          <a:xfrm>
            <a:off x="758880" y="2028960"/>
            <a:ext cx="3541680" cy="3714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3n00-008"/>
          <p:cNvPicPr/>
          <p:nvPr/>
        </p:nvPicPr>
        <p:blipFill>
          <a:blip r:embed="rId1"/>
          <a:stretch/>
        </p:blipFill>
        <p:spPr>
          <a:xfrm>
            <a:off x="1038240" y="1022400"/>
            <a:ext cx="7143840" cy="4295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сисетма миар н к"/>
          <p:cNvPicPr/>
          <p:nvPr/>
        </p:nvPicPr>
        <p:blipFill>
          <a:blip r:embed="rId1"/>
          <a:stretch/>
        </p:blipFill>
        <p:spPr>
          <a:xfrm>
            <a:off x="1752480" y="760320"/>
            <a:ext cx="5715000" cy="48196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иколай Коперник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473 – 1543гг. Великий польский астроном, создатель гелиоцентрической системы мир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1" descr="PH03181"/>
          <p:cNvPicPr/>
          <p:nvPr/>
        </p:nvPicPr>
        <p:blipFill>
          <a:blip r:embed="rId1"/>
          <a:stretch/>
        </p:blipFill>
        <p:spPr>
          <a:xfrm>
            <a:off x="1127160" y="1773360"/>
            <a:ext cx="2805120" cy="42256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еория Копер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Человек воспринимает движение небесных тел так же, как и перемещение различных предметов на Земле, когда он сам находится в движени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4" descr="8"/>
          <p:cNvPicPr/>
          <p:nvPr/>
        </p:nvPicPr>
        <p:blipFill>
          <a:blip r:embed="rId1"/>
          <a:stretch/>
        </p:blipFill>
        <p:spPr>
          <a:xfrm>
            <a:off x="4641840" y="2301840"/>
            <a:ext cx="3925800" cy="3168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590920"/>
            <a:ext cx="6781680" cy="25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1. Не существует единого центра для всех небесных орбит или сфер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2. Центр Земли является не центром мира, а лишь центром тяготения Земли и лунной орбит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2743200"/>
            <a:ext cx="6782040" cy="25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 Все сферы движутся вокруг Солнца, как вокруг своего центра, вследствие чего Солнце является центром всего мир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6781680" cy="3854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 Отношение расстояния от Земли до Солнца к высоте небесной тверди меньше отношения радиуса Земли к расстоянию от нее до Солнц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Всякое движение, замечаемое у небесной тверди, связано не с каким- либо движением самой тверди, а самой Земл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емля же совершает в течение суток полный оборот вокруг своих неизменных полюсов, в то время, как твердь небесная и расположенное на ней небо, остаются неподвижным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6. То, что кажется нам движением Солнца, на самом деле связано с движениями Земли и нашей сферы, вместе с которой мы обращаемся вокруг Солнца, как всякая другая планета.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2T09:38:3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