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6C04-6B5E-4E8A-9363-73F2679C4F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prezentacii.com/" TargetMode="External"/><Relationship Id="rId2" Type="http://schemas.openxmlformats.org/officeDocument/2006/relationships/slide" Target="../slides/slide19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cffff"/>
                </a:solidFill>
                <a:latin typeface="Calibri"/>
              </a:rPr>
              <a:t>Тема урока: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Законы Кеплера – законы движения небесных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A10-2BE3-49C1-B2C1-7CDB132C1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ольшая полуось орбиты планеты – это ее среднее расстояние от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1 а.е. = 149 600 000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ую к Солнцу точку орбиты называю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пери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возле, около;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лиос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Солнце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ую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фели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апо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– вдал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9AE-AE5F-44AC-8C45-46D89BEE0C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 эллипсам движутся не только плане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их естественные и искусственные спут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ериге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(греч. 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Гея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или</a:t>
            </a:r>
            <a:r>
              <a:rPr b="0" i="1" lang="ru-RU" sz="1200" spc="-1" strike="noStrike">
                <a:solidFill>
                  <a:srgbClr val="ccffff"/>
                </a:solidFill>
                <a:latin typeface="Calibri"/>
              </a:rPr>
              <a:t> Ге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 – Земля),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а наиболее удаленная –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апогеем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DD8-EAC9-4D3B-8893-7A57755B70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диус-вектор планеты за равные промежутки време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писывает равные площад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5510-54DB-4AD5-8E4B-F67BE00FD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еты движутся вокруг Солнца неравномер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линейная скорость планет вблизи перигелия больше, чем вблизи афел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Марса вблизи перигелия скорость равна 26,5 км/с, а около афелия - 22 к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У некоторых комет орбиты настолько вытянуты, что вблизи Солнца 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cffff"/>
                </a:solidFill>
                <a:latin typeface="Calibri"/>
              </a:rPr>
              <a:t>скорость доходит до 500 км/с, а в афелии снижается до 1 см/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B2A0-74D9-4430-A4C7-FB2E88EF72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DC5F-ECE1-43C4-8DFA-785B5F91A9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корости близких к Солнцу планет значительно больше, чем скорости дале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E6BC-3EBD-4365-B036-D63CFA0E9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73C3-5BA6-4757-A7C5-970473BE75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ое расстоя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строномической единицей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реднее расстояние Земли от Солнца называется астрономической един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Чему равна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дна астрономическая единица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 а.е. = 149 600 000 к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ccffff"/>
                </a:solidFill>
                <a:latin typeface="Calibri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752C-B748-4904-9249-631C22C4FC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вадраты сидерических периодов обращений двух планет относятс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как кубы больших полуосей их ор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CE7E-EF4C-44C1-873D-03030C5BD0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rezentacii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71E-A5EF-4AA0-AFB7-070A1171C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древнейших времен считалось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то небесные тела движутся по «идеальным кривым» - окружностя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B2FF-536A-4853-BE77-144C32DAA4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теории Николая Коперника, создателя гелиоцентрической системы мира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е движение также не подвергалось сом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3471-9F9D-4A56-8870-6F8C0FAD5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блюдаемое положение плане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 соответствовало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вычисленному в соответствии с теорией кругового движени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ланет вокруг Солн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07C1-AFA3-484A-9F86-2F2239A95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оганн Кепл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1F0-A573-4AFA-A1DF-66A0EC631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Эллипс 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есть величина постоянная и равная длине большой оси.</a:t>
            </a:r>
            <a:br>
              <a:rPr sz="1200"/>
            </a:br>
            <a:br>
              <a:rPr sz="5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Линия, соединяющая любую точку эллипса с одним из его фокусов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радиусом-векторо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той точк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828-BAD1-4B14-90D8-66850A20DE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оны Кеплера применимы не только к движению планет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о и к движению их естественных и искусственных спу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88C-AF27-4FFC-8A0E-1088074FA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ждая планета движется по эллипсу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дном из фокусов которого находится Солнц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7BB-B853-4B68-89CD-84D15D9725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рбиты планет – эллипсы, мало отличающиеся от окружностей,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к как их эксцентриситеты ма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536E-F635-46FE-90A0-DA0D46519E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FF01-C358-47DE-93BD-1CEB953A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102-6A7F-4573-8EED-702CD51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0CA4-3A02-4BCF-8448-3928A01E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FC5-3DA4-4433-BF12-A32694A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95B-2608-4247-BE9A-8FC6D90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BE41-D95E-43B4-BA32-3CB0715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198-79DE-43E5-99C5-721CD4B4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55C-7CB2-4C74-B16C-BBA8AE15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E53-097E-4979-B9FC-5E32B33A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18B-5C5D-46B6-858F-004CF071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D50-509A-465E-B6BA-6B076CF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E65-53BE-47E0-BC56-51632D8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427-1E38-48FD-A5ED-285F64364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hyperlink" Target="http://prezentacii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Тема урока: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коны Кеплера – законы движения небесных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lide0001_image002"/>
          <p:cNvPicPr/>
          <p:nvPr/>
        </p:nvPicPr>
        <p:blipFill>
          <a:blip r:embed="rId1"/>
          <a:stretch/>
        </p:blipFill>
        <p:spPr>
          <a:xfrm>
            <a:off x="1763640" y="1628640"/>
            <a:ext cx="5780160" cy="46245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0" y="260280"/>
            <a:ext cx="9144000" cy="24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ая полуось орбиты планеты – это ее среднее расстояние от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принято в астрономии за единицу расстояния и 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 а.е. = 149 600 0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ую к Солнцу точку орбиты называют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пер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возле, около;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лиос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Солнце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ую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фели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апо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– вдал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slide0008_image033"/>
          <p:cNvPicPr/>
          <p:nvPr/>
        </p:nvPicPr>
        <p:blipFill>
          <a:blip r:embed="rId1"/>
          <a:stretch/>
        </p:blipFill>
        <p:spPr>
          <a:xfrm>
            <a:off x="1979640" y="2924280"/>
            <a:ext cx="5059440" cy="3359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260280"/>
            <a:ext cx="914400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эллипсам движутся не только пла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их естественные и искусственные спут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ижайшая к Земле точка орбиты Луны или искусственного спутника Земли называется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игее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греч. 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Ге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или</a:t>
            </a:r>
            <a:r>
              <a:rPr b="0" i="1" lang="ru-RU" sz="1800" spc="-1" strike="noStrike">
                <a:solidFill>
                  <a:srgbClr val="ccffff"/>
                </a:solidFill>
                <a:latin typeface="Arial"/>
              </a:rPr>
              <a:t> Ге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Земля)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 наиболее удаленная –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апогеем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Рисунок3"/>
          <p:cNvPicPr/>
          <p:nvPr/>
        </p:nvPicPr>
        <p:blipFill>
          <a:blip r:embed="rId1"/>
          <a:stretch/>
        </p:blipFill>
        <p:spPr>
          <a:xfrm>
            <a:off x="2411280" y="2349360"/>
            <a:ext cx="4386240" cy="297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2"/>
          <p:cNvSpPr/>
          <p:nvPr/>
        </p:nvSpPr>
        <p:spPr>
          <a:xfrm>
            <a:off x="1763640" y="3716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и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6300720" y="3789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пог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закон равных площад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344"/>
          <p:cNvPicPr/>
          <p:nvPr/>
        </p:nvPicPr>
        <p:blipFill>
          <a:blip r:embed="rId1"/>
          <a:stretch/>
        </p:blipFill>
        <p:spPr>
          <a:xfrm>
            <a:off x="1619280" y="1844640"/>
            <a:ext cx="5759280" cy="3166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1619280" y="4869000"/>
            <a:ext cx="583236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692360" y="4941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втор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а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Рисунок1"/>
          <p:cNvPicPr/>
          <p:nvPr/>
        </p:nvPicPr>
        <p:blipFill>
          <a:blip r:embed="rId1"/>
          <a:srcRect l="2071" t="1959" r="0" b="1959"/>
          <a:stretch/>
        </p:blipFill>
        <p:spPr>
          <a:xfrm>
            <a:off x="2627280" y="1341360"/>
            <a:ext cx="47530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95640" y="299736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Периг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877080" y="2924280"/>
            <a:ext cx="11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Афел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2627280" y="256536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3851280" y="126828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659640" y="2060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77080" y="263700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ffff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cc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468360" y="260280"/>
            <a:ext cx="849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еты движутся вокруг Солнца неравном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линейная скорость планет вблизи перигелия больше, чем вблизи афел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826920" y="5157720"/>
            <a:ext cx="8066160" cy="9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Марса вблизи перигелия скорость равна 26,5 км/с, а около афелия - 22 к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У некоторых комет орбиты настолько вытянуты, что вблизи Солнца 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скорость доходит до 500 км/с, а в афелии снижается до 1 см/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708360" y="285264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0"/>
          <p:cNvSpPr/>
          <p:nvPr/>
        </p:nvSpPr>
        <p:spPr>
          <a:xfrm>
            <a:off x="3708360" y="2852640"/>
            <a:ext cx="71640" cy="7164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260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343"/>
          <p:cNvPicPr/>
          <p:nvPr/>
        </p:nvPicPr>
        <p:blipFill>
          <a:blip r:embed="rId1"/>
          <a:stretch/>
        </p:blipFill>
        <p:spPr>
          <a:xfrm>
            <a:off x="7596360" y="1125360"/>
            <a:ext cx="1331640" cy="100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345"/>
          <p:cNvPicPr/>
          <p:nvPr/>
        </p:nvPicPr>
        <p:blipFill>
          <a:blip r:embed="rId2"/>
          <a:stretch/>
        </p:blipFill>
        <p:spPr>
          <a:xfrm>
            <a:off x="2050920" y="213372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третье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6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050920" y="5516640"/>
            <a:ext cx="5616720" cy="36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корости близких к Солнцу планет значительно больше, чем скорости далек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03010301"/>
          <p:cNvPicPr/>
          <p:nvPr/>
        </p:nvPicPr>
        <p:blipFill>
          <a:blip r:embed="rId1"/>
          <a:stretch/>
        </p:blipFill>
        <p:spPr>
          <a:xfrm>
            <a:off x="971640" y="83664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0" y="184464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059280" y="1268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313200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314172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0" y="333360"/>
            <a:ext cx="914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плер исследовал движения всех известных в то время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эмпиричес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ывел три закона движения планет относительно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755640" y="83664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акое расстоя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строномической единиц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0" y="162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ее расстояние Земли от Солнца называется астрономической единиц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684360" y="2708280"/>
            <a:ext cx="7777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Чему рав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дна астрономическая единиц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0" y="3429000"/>
            <a:ext cx="9144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а.е. = 149 600 000 к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c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3657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вадраты сидерических периодов обращений двух планет относятс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 кубы больших полуосей их ор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132000" y="386064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Трети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1343"/>
          <p:cNvPicPr/>
          <p:nvPr/>
        </p:nvPicPr>
        <p:blipFill>
          <a:blip r:embed="rId1"/>
          <a:stretch/>
        </p:blipFill>
        <p:spPr>
          <a:xfrm>
            <a:off x="3780000" y="5013360"/>
            <a:ext cx="1331640" cy="1000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0" y="907920"/>
            <a:ext cx="9144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132000" y="333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132000" y="2133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Второй закон Кеп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2708280"/>
            <a:ext cx="9144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ус-вектор планеты за равные промежутки времен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писывает равные площад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979640" y="0"/>
            <a:ext cx="7164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ено, что противостояния некоторой              планеты повторяются через 2 год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а большая полуось ее орби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948360" y="2133720"/>
            <a:ext cx="2195640" cy="205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2089080" cy="2076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0" y="2205000"/>
            <a:ext cx="2195640" cy="2151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2211480" cy="2239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0" y="45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50920" y="189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ffff"/>
                </a:solidFill>
                <a:latin typeface="Arial"/>
              </a:rPr>
              <a:t>Зад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395280" y="2276640"/>
            <a:ext cx="1297080" cy="2016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2268360" y="3141720"/>
            <a:ext cx="2376720" cy="3585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>
            <a:off x="4643280" y="3213000"/>
            <a:ext cx="2376720" cy="14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>
            <a:off x="7596360" y="2133720"/>
            <a:ext cx="792000" cy="2087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3492360" y="6458040"/>
            <a:ext cx="2735280" cy="40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rezentacii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0.00301 L -0.37986 0.12277 E">
                                      <p:cBhvr>
                                        <p:cTn id="11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древнейших времен считалось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то небесные тела движутся по «идеальным кривым» - окружностя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4716360" y="5516640"/>
            <a:ext cx="388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оцентрическая система Птолем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191"/>
          <p:cNvPicPr/>
          <p:nvPr/>
        </p:nvPicPr>
        <p:blipFill>
          <a:blip r:embed="rId1"/>
          <a:stretch/>
        </p:blipFill>
        <p:spPr>
          <a:xfrm>
            <a:off x="4859280" y="170028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250920" y="5516640"/>
            <a:ext cx="39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Клавдий Птолем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(ок. 90 – ок. 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lide0016_image006"/>
          <p:cNvPicPr/>
          <p:nvPr/>
        </p:nvPicPr>
        <p:blipFill>
          <a:blip r:embed="rId2"/>
          <a:stretch/>
        </p:blipFill>
        <p:spPr>
          <a:xfrm>
            <a:off x="826920" y="1700280"/>
            <a:ext cx="3054600" cy="3709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теории Николая Коперника, создателя гелиоцентрической системы мира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уговое движение также не подвергалось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900000" y="5734080"/>
            <a:ext cx="23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Николай Копер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473–1543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0040301"/>
          <p:cNvPicPr/>
          <p:nvPr/>
        </p:nvPicPr>
        <p:blipFill>
          <a:blip r:embed="rId1"/>
          <a:stretch/>
        </p:blipFill>
        <p:spPr>
          <a:xfrm>
            <a:off x="826920" y="184464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1199"/>
          <p:cNvPicPr/>
          <p:nvPr/>
        </p:nvPicPr>
        <p:blipFill>
          <a:blip r:embed="rId2"/>
          <a:stretch/>
        </p:blipFill>
        <p:spPr>
          <a:xfrm>
            <a:off x="4643280" y="184464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4211640" y="57340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Гелиоцентрическая система мира Копер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57960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емое положение планет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 соответствовало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вычисленному в соответствии с теорией кругового движения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ланет вокруг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0" y="198900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3213000"/>
            <a:ext cx="57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ке ответ на этот вопрос искал немецкий астроном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00040601"/>
          <p:cNvPicPr/>
          <p:nvPr/>
        </p:nvPicPr>
        <p:blipFill>
          <a:blip r:embed="rId1"/>
          <a:stretch/>
        </p:blipFill>
        <p:spPr>
          <a:xfrm>
            <a:off x="5867280" y="1341360"/>
            <a:ext cx="3025800" cy="4032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7"/>
          <p:cNvSpPr/>
          <p:nvPr/>
        </p:nvSpPr>
        <p:spPr>
          <a:xfrm>
            <a:off x="5867280" y="5445000"/>
            <a:ext cx="2881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оганн Кепле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71–163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00040401"/>
          <p:cNvPicPr/>
          <p:nvPr/>
        </p:nvPicPr>
        <p:blipFill>
          <a:blip r:embed="rId1"/>
          <a:stretch/>
        </p:blipFill>
        <p:spPr>
          <a:xfrm>
            <a:off x="684360" y="1628640"/>
            <a:ext cx="3078000" cy="4104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5"/>
          <p:cNvSpPr/>
          <p:nvPr/>
        </p:nvSpPr>
        <p:spPr>
          <a:xfrm>
            <a:off x="684360" y="5950080"/>
            <a:ext cx="28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Тихо Браг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(1546-16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ал движение Марса по результатам многолетних наблюдений датского астронома Тихо Браг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2" descr="5"/>
          <p:cNvPicPr/>
          <p:nvPr/>
        </p:nvPicPr>
        <p:blipFill>
          <a:blip r:embed="rId2"/>
          <a:stretch/>
        </p:blipFill>
        <p:spPr>
          <a:xfrm>
            <a:off x="4788000" y="1197000"/>
            <a:ext cx="3898800" cy="5079960"/>
          </a:xfrm>
          <a:prstGeom prst="rect">
            <a:avLst/>
          </a:prstGeom>
          <a:ln w="9360">
            <a:solidFill>
              <a:srgbClr val="333333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ется как геометрическое место точек, для которых сумма расстояний от двух заданных точек (фокусов F1 и F2)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ть величина постоянная и равная длине большой оси.</a:t>
            </a:r>
            <a:br>
              <a:rPr sz="1800"/>
            </a:br>
            <a:br>
              <a:rPr sz="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иния, соединяющая любую точку эллипса с одним из его фокусов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радиусом-векто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этой точк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205"/>
          <p:cNvPicPr/>
          <p:nvPr/>
        </p:nvPicPr>
        <p:blipFill>
          <a:blip r:embed="rId1"/>
          <a:stretch/>
        </p:blipFill>
        <p:spPr>
          <a:xfrm>
            <a:off x="4211640" y="2781360"/>
            <a:ext cx="4753080" cy="35654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8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ганн Кеплер обнаружил, чт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рбита Марса не окружность, а эллип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95280" y="2924280"/>
            <a:ext cx="378000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 отличия эллипса от окружности характеризует его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ксцентрисит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ношению расстояний между фокусами к большой оси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е 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F1F2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 /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A1A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 совпадении фокусов (е = 0) эллипс превращается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i="1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8"/>
          <p:cNvSpPr/>
          <p:nvPr/>
        </p:nvSpPr>
        <p:spPr>
          <a:xfrm>
            <a:off x="0" y="189000"/>
            <a:ext cx="9144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 Кеплера применимы не только к движению планет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 и к движению их естественных и искусственных спу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4" descr="slide0025_image019"/>
          <p:cNvPicPr/>
          <p:nvPr/>
        </p:nvPicPr>
        <p:blipFill>
          <a:blip r:embed="rId1"/>
          <a:stretch/>
        </p:blipFill>
        <p:spPr>
          <a:xfrm>
            <a:off x="0" y="1074600"/>
            <a:ext cx="6877080" cy="4291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"/>
          <p:cNvPicPr/>
          <p:nvPr/>
        </p:nvPicPr>
        <p:blipFill>
          <a:blip r:embed="rId2"/>
          <a:srcRect l="2104" t="2954" r="0" b="0"/>
          <a:stretch/>
        </p:blipFill>
        <p:spPr>
          <a:xfrm>
            <a:off x="5183280" y="3573360"/>
            <a:ext cx="396072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ждая планета движется по эллипсу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дном из фокусов которого находится Солнц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0" y="260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ервый закон Кепле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1345"/>
          <p:cNvPicPr/>
          <p:nvPr/>
        </p:nvPicPr>
        <p:blipFill>
          <a:blip r:embed="rId1"/>
          <a:stretch/>
        </p:blipFill>
        <p:spPr>
          <a:xfrm>
            <a:off x="2050920" y="2060640"/>
            <a:ext cx="5256360" cy="3465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1835280" y="2133720"/>
            <a:ext cx="433080" cy="370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50920" y="5445000"/>
            <a:ext cx="561672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835280" y="5589720"/>
            <a:ext cx="568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ffff"/>
                </a:solidFill>
                <a:latin typeface="Arial"/>
              </a:rPr>
              <a:t>Иллюстрация первого закона Кепле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ccffff"/>
                </a:solidFill>
                <a:latin typeface="Arial"/>
              </a:rPr>
              <a:t>на примере движения спутников Земл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биты планет – эллипсы, мало отличающиеся от окружностей,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 как их эксцентриситеты м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981000"/>
            <a:ext cx="3132000" cy="2782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403"/>
          <p:cNvPicPr/>
          <p:nvPr/>
        </p:nvPicPr>
        <p:blipFill>
          <a:blip r:embed="rId2"/>
          <a:srcRect l="50601" t="0" r="0" b="0"/>
          <a:stretch/>
        </p:blipFill>
        <p:spPr>
          <a:xfrm>
            <a:off x="2625840" y="3933720"/>
            <a:ext cx="2595600" cy="262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5219640" y="3048120"/>
            <a:ext cx="3924360" cy="380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2403"/>
          <p:cNvPicPr/>
          <p:nvPr/>
        </p:nvPicPr>
        <p:blipFill>
          <a:blip r:embed="rId4"/>
          <a:srcRect l="0" t="0" r="49989" b="0"/>
          <a:stretch/>
        </p:blipFill>
        <p:spPr>
          <a:xfrm>
            <a:off x="3203640" y="907920"/>
            <a:ext cx="2560680" cy="25923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33:46Z</dcterms:created>
  <dc:creator>Victor</dc:creator>
  <dc:description/>
  <dc:language>en-US</dc:language>
  <cp:lastModifiedBy>LEGION</cp:lastModifiedBy>
  <dcterms:modified xsi:type="dcterms:W3CDTF">2015-01-12T09:12:44Z</dcterms:modified>
  <cp:revision>58</cp:revision>
  <dc:subject/>
  <dc:title>Законы Кеплера - законы движения небесных тел</dc:title>
</cp:coreProperties>
</file>