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8.gif" ContentType="image/gif"/>
  <Override PartName="/ppt/media/image23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4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5890-D1F0-487D-83D3-D5E9D8ECDB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" Target="../slides/slide19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ffff"/>
                </a:solidFill>
                <a:latin typeface="Calibri"/>
              </a:rPr>
              <a:t>Тема урока: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Законы Кеплера – законы движения небесных т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E0E6-FBD4-454B-A602-839207744E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ольшая полуось орбиты планеты – это ее среднее расстояние от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реднее расстояние Земли от Солнца принято в астрономии за единицу расстояния и называется 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астрономической единицей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1 а.е. = 149 600 000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лижайшую к Солнцу точку орбиты называю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еригелие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(греч. 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пери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– возле, около; 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Гелиос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– Солнце),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а наиболее удаленную –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фелие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(греч. 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апо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– вдал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4015-0102-4802-A43D-D0902A458C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 эллипсам движутся не только планет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о и их естественные и искусственные спут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лижайшая к Земле точка орбиты Луны или искусственного спутника Земли называется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еригее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(греч. 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Гея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или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 Ге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– Земля),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а наиболее удаленная –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погеем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DF7E-129D-49E2-A38D-480C4AF225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диус-вектор планеты за равные промежутки времен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описывает равные площад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491E-3FEA-4BED-9020-4A4CDDE353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ланеты движутся вокруг Солнца неравномер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линейная скорость планет вблизи перигелия больше, чем вблизи афел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ff"/>
                </a:solidFill>
                <a:latin typeface="Calibri"/>
              </a:rPr>
              <a:t>У Марса вблизи перигелия скорость равна 26,5 км/с, а около афелия - 22 км/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ff"/>
                </a:solidFill>
                <a:latin typeface="Calibri"/>
              </a:rPr>
              <a:t>У некоторых комет орбиты настолько вытянуты, что вблизи Солнца 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cffff"/>
                </a:solidFill>
                <a:latin typeface="Calibri"/>
              </a:rPr>
              <a:t>скорость доходит до 500 км/с, а в афелии снижается до 1 см/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CE4B-4382-400C-8FF6-D8D1D05C01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вадраты сидерических периодов обращений двух планет относятс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как кубы больших полуосей их орб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0393-619F-462E-87A8-1F1E31FC65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корости близких к Солнцу планет значительно больше, чем скорости далек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84E4-822F-4ABC-B316-48ECE75753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вадраты сидерических периодов обращений двух планет относятс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как кубы больших полуосей их орб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8A31-DC70-4B88-ACA0-23CFB1C38D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ое расстояние н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строномической единицей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реднее расстояние Земли от Солнца называется астрономической един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Чему равна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дна астрономическая единица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 а.е. = 149 600 000 к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ccffff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CEF3-33B4-4500-83E7-342A27DD58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вадраты сидерических периодов обращений двух планет относятс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как кубы больших полуосей их орб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8AEE-0DD8-4FC3-9496-176BFBAC7F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мечено, что противостояния некоторой              планеты повторяются через 2 года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ему равна большая полуось ее орбит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rezentacii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5AB9-FCA5-4D09-A785-70CD4C3844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древнейших времен считалось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что небесные тела движутся по «идеальным кривым» - окружностя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C0F7-CDB8-4C86-8134-AED38E351B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теории Николая Коперника, создателя гелиоцентрической системы мира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уговое движение также не подвергалось сомн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BA49-C965-4CA2-BA02-3DA1F62A7E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блюдаемое положение планет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не соответствовало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едвычисленному в соответствии с теорией кругового движени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планет вокруг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9B87-CF62-4849-9AB5-DE099CC34F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оганн Кепл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зучал движение Марса по результатам многолетних наблюдений датского астронома Тихо Браг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92A6-9118-4202-A5D9-5022C82228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Эллипс 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пределяется как геометрическое место точек, для которых сумма расстояний от двух заданных точек (фокусов F1 и F2)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есть величина постоянная и равная длине большой оси.</a:t>
            </a:r>
            <a:br>
              <a:rPr sz="1200"/>
            </a:br>
            <a:br>
              <a:rPr sz="5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Линия, соединяющая любую точку эллипса с одним из его фокусов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зывается 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радиусом-векторо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этой точ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1610-CAEA-4D14-AEAB-EDB09399F1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аконы Кеплера применимы не только к движению планет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о и к движению их естественных и искусственных спут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B299-9EF0-49E8-AC21-23FE59D5E6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ждая планета движется по эллипсу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одном из фокусов которого находится Солнц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C404-E5C0-4ABD-AC10-53F0AED48B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рбиты планет – эллипсы, мало отличающиеся от окружностей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ак как их эксцентриситеты м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DF5B-C44D-463D-82C0-B544103D25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4EF7-DBE8-44CE-BDFA-B79A0C1E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B2E8-CE4C-4C49-B552-CD656300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2EE4-F0CC-4000-A979-DF7747116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B597-2AEF-4329-AA05-0DF61F07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2F70-3CBF-4734-87D0-342C85D9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5CCF-F79A-4749-B5A0-185C3198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EF2-3B6A-4460-8E28-95A9D855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D9BA-92B7-479F-ACDD-189AB266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6DA1-8122-4508-8253-E96C4A1E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80E7-7C3E-4CFC-AA59-2C438FAF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DFB2-9A8B-4C58-8DAB-4DF9DA99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5B2B-17B3-4DBF-B838-F8DDBCD1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4E08-6C1F-4E70-BAD9-F06DF085E7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hyperlink" Target="http://prezentacii.com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Тема урока: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коны Кеплера – законы движения небесных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lide0001_image002"/>
          <p:cNvPicPr/>
          <p:nvPr/>
        </p:nvPicPr>
        <p:blipFill>
          <a:blip r:embed="rId1"/>
          <a:stretch/>
        </p:blipFill>
        <p:spPr>
          <a:xfrm>
            <a:off x="1763640" y="1628640"/>
            <a:ext cx="5780160" cy="46245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6"/>
          <p:cNvSpPr/>
          <p:nvPr/>
        </p:nvSpPr>
        <p:spPr>
          <a:xfrm>
            <a:off x="0" y="260280"/>
            <a:ext cx="914400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ая полуось орбиты планеты – это ее среднее расстояние от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ее расстояние Земли от Солнца принято в астрономии за единицу расстояния и называется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астрономической единицей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 а.е. = 149 600 000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ижайшую к Солнцу точку орбиты называют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игелие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греч.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пери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– возле, около;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Гелиос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– Солнце)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 наиболее удаленную –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афелие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греч.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апо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– вдал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slide0008_image033"/>
          <p:cNvPicPr/>
          <p:nvPr/>
        </p:nvPicPr>
        <p:blipFill>
          <a:blip r:embed="rId1"/>
          <a:stretch/>
        </p:blipFill>
        <p:spPr>
          <a:xfrm>
            <a:off x="1979640" y="2924280"/>
            <a:ext cx="5059440" cy="33591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260280"/>
            <a:ext cx="914400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эллипсам движутся не только плане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и их естественные и искусственные спут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ижайшая к Земле точка орбиты Луны или искусственного спутника Земли называется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игее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греч.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Гея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или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 Ге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– Земля)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 наиболее удаленная –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апогеем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1" descr="Рисунок3"/>
          <p:cNvPicPr/>
          <p:nvPr/>
        </p:nvPicPr>
        <p:blipFill>
          <a:blip r:embed="rId1"/>
          <a:stretch/>
        </p:blipFill>
        <p:spPr>
          <a:xfrm>
            <a:off x="2411280" y="2349360"/>
            <a:ext cx="4386240" cy="29718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2"/>
          <p:cNvSpPr/>
          <p:nvPr/>
        </p:nvSpPr>
        <p:spPr>
          <a:xfrm>
            <a:off x="1763640" y="3716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иг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6300720" y="3789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пог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ус-вектор планеты за равные промежутки времен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писывает равные площад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Второй закон Кеплер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закон равных площадей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1344"/>
          <p:cNvPicPr/>
          <p:nvPr/>
        </p:nvPicPr>
        <p:blipFill>
          <a:blip r:embed="rId1"/>
          <a:stretch/>
        </p:blipFill>
        <p:spPr>
          <a:xfrm>
            <a:off x="1619280" y="1844640"/>
            <a:ext cx="5759280" cy="3166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1619280" y="4869000"/>
            <a:ext cx="583236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692360" y="4941720"/>
            <a:ext cx="568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ллюстрация второго закона Кепл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ffff"/>
                </a:solidFill>
                <a:latin typeface="Arial"/>
              </a:rPr>
              <a:t>на примере движения спутника Зем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Рисунок1"/>
          <p:cNvPicPr/>
          <p:nvPr/>
        </p:nvPicPr>
        <p:blipFill>
          <a:blip r:embed="rId1"/>
          <a:srcRect l="2071" t="1959" r="0" b="1959"/>
          <a:stretch/>
        </p:blipFill>
        <p:spPr>
          <a:xfrm>
            <a:off x="2627280" y="1341360"/>
            <a:ext cx="4753080" cy="3095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"/>
          <p:cNvSpPr/>
          <p:nvPr/>
        </p:nvSpPr>
        <p:spPr>
          <a:xfrm>
            <a:off x="2195640" y="299736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еригел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6877080" y="292428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фел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2627280" y="256536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3851280" y="126828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6659640" y="206064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6877080" y="263700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468360" y="260280"/>
            <a:ext cx="849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неты движутся вокруг Солнца неравномер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линейная скорость планет вблизи перигелия больше, чем вблизи афел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826920" y="5157720"/>
            <a:ext cx="806616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У Марса вблизи перигелия скорость равна 26,5 км/с, а около афелия - 22 км/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У некоторых комет орбиты настолько вытянуты, что вблизи Солнца 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скорость доходит до 500 км/с, а в афелии снижается до 1 см/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3708360" y="2852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0"/>
          <p:cNvSpPr/>
          <p:nvPr/>
        </p:nvSpPr>
        <p:spPr>
          <a:xfrm>
            <a:off x="3708360" y="2852640"/>
            <a:ext cx="71640" cy="7164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вадраты сидерических периодов обращений двух планет относятс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 кубы больших полуосей их орб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276720" y="260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етий закон Кепле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1343"/>
          <p:cNvPicPr/>
          <p:nvPr/>
        </p:nvPicPr>
        <p:blipFill>
          <a:blip r:embed="rId1"/>
          <a:stretch/>
        </p:blipFill>
        <p:spPr>
          <a:xfrm>
            <a:off x="7596360" y="1125360"/>
            <a:ext cx="1331640" cy="1000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1345"/>
          <p:cNvPicPr/>
          <p:nvPr/>
        </p:nvPicPr>
        <p:blipFill>
          <a:blip r:embed="rId2"/>
          <a:stretch/>
        </p:blipFill>
        <p:spPr>
          <a:xfrm>
            <a:off x="2050920" y="2133720"/>
            <a:ext cx="5256360" cy="34653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1835280" y="2133720"/>
            <a:ext cx="433080" cy="37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050920" y="5516640"/>
            <a:ext cx="561672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1835280" y="5589720"/>
            <a:ext cx="568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ллюстрация третьего закона Кепл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ffff"/>
                </a:solidFill>
                <a:latin typeface="Arial"/>
              </a:rPr>
              <a:t>на примере движения спутников Зем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6"/>
          <p:cNvSpPr/>
          <p:nvPr/>
        </p:nvSpPr>
        <p:spPr>
          <a:xfrm>
            <a:off x="1835280" y="2133720"/>
            <a:ext cx="433080" cy="37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050920" y="5516640"/>
            <a:ext cx="561672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0" y="333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рости близких к Солнцу планет значительно больше, чем скорости далек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03010301"/>
          <p:cNvPicPr/>
          <p:nvPr/>
        </p:nvPicPr>
        <p:blipFill>
          <a:blip r:embed="rId1"/>
          <a:stretch/>
        </p:blipFill>
        <p:spPr>
          <a:xfrm>
            <a:off x="971640" y="836640"/>
            <a:ext cx="7272360" cy="54547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43657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вадраты сидерических периодов обращений двух планет относятс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 кубы больших полуосей их орб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132000" y="3860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ети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1343"/>
          <p:cNvPicPr/>
          <p:nvPr/>
        </p:nvPicPr>
        <p:blipFill>
          <a:blip r:embed="rId1"/>
          <a:stretch/>
        </p:blipFill>
        <p:spPr>
          <a:xfrm>
            <a:off x="3780000" y="5013360"/>
            <a:ext cx="1331640" cy="10000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0" y="184464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ая планета движется по эллипсу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дном из фокусов которого находится Солнц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3059280" y="1268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вы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313200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торо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0" y="314172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ус-вектор планеты за равные промежутки времен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писывает равные площад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0" y="333360"/>
            <a:ext cx="914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еплер исследовал движения всех известных в то время плане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эмпиричес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ывел три закона движения планет относительно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755640" y="836640"/>
            <a:ext cx="777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акое расстояние называ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строномической единицей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0" y="162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ее расстояние Земли от Солнца называется астрономической единиц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684360" y="2708280"/>
            <a:ext cx="777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Чему рав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дна астрономическая единиц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0" y="3429000"/>
            <a:ext cx="9144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а.е. = 149 600 000 к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43657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вадраты сидерических периодов обращений двух планет относятс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 кубы больших полуосей их орб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132000" y="3860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ети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1343"/>
          <p:cNvPicPr/>
          <p:nvPr/>
        </p:nvPicPr>
        <p:blipFill>
          <a:blip r:embed="rId1"/>
          <a:stretch/>
        </p:blipFill>
        <p:spPr>
          <a:xfrm>
            <a:off x="3780000" y="5013360"/>
            <a:ext cx="1331640" cy="1000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0" y="907920"/>
            <a:ext cx="914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ая планета движется по эллипсу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дном из фокусов которого находится Солнц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132000" y="333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вы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132000" y="2133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торо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0" y="270828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ус-вектор планеты за равные промежутки времен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писывает равные площад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979640" y="0"/>
            <a:ext cx="7164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мечено, что противостояния некоторой              планеты повторяются через 2 года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у равна большая полуось ее орби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6948360" y="2133720"/>
            <a:ext cx="2195640" cy="2057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2"/>
          <a:stretch/>
        </p:blipFill>
        <p:spPr>
          <a:xfrm>
            <a:off x="4788000" y="2205000"/>
            <a:ext cx="2089080" cy="2076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"/>
          <p:cNvPicPr/>
          <p:nvPr/>
        </p:nvPicPr>
        <p:blipFill>
          <a:blip r:embed="rId3"/>
          <a:stretch/>
        </p:blipFill>
        <p:spPr>
          <a:xfrm>
            <a:off x="0" y="2205000"/>
            <a:ext cx="2195640" cy="2151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"/>
          <p:cNvPicPr/>
          <p:nvPr/>
        </p:nvPicPr>
        <p:blipFill>
          <a:blip r:embed="rId4"/>
          <a:stretch/>
        </p:blipFill>
        <p:spPr>
          <a:xfrm>
            <a:off x="2340000" y="2133720"/>
            <a:ext cx="2211480" cy="22399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1"/>
          <p:cNvSpPr/>
          <p:nvPr/>
        </p:nvSpPr>
        <p:spPr>
          <a:xfrm>
            <a:off x="0" y="45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50920" y="18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ffff"/>
                </a:solidFill>
                <a:latin typeface="Arial"/>
              </a:rPr>
              <a:t>Зад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4"/>
          <p:cNvSpPr/>
          <p:nvPr/>
        </p:nvSpPr>
        <p:spPr>
          <a:xfrm flipV="1">
            <a:off x="395280" y="2276640"/>
            <a:ext cx="1297080" cy="2016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2268360" y="3141720"/>
            <a:ext cx="2376720" cy="3585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6"/>
          <p:cNvSpPr/>
          <p:nvPr/>
        </p:nvSpPr>
        <p:spPr>
          <a:xfrm>
            <a:off x="4643280" y="3213000"/>
            <a:ext cx="2376720" cy="14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7"/>
          <p:cNvSpPr/>
          <p:nvPr/>
        </p:nvSpPr>
        <p:spPr>
          <a:xfrm>
            <a:off x="7596360" y="2133720"/>
            <a:ext cx="792000" cy="2087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3492360" y="6458040"/>
            <a:ext cx="2735280" cy="40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rezentacii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0.00301 L -0.37986 0.12277 E">
                                      <p:cBhvr>
                                        <p:cTn id="11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древнейших времен считалось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небесные тела движутся по «идеальным кривым» - окружностя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4716360" y="5516640"/>
            <a:ext cx="38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Геоцентрическая система Птолем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1191"/>
          <p:cNvPicPr/>
          <p:nvPr/>
        </p:nvPicPr>
        <p:blipFill>
          <a:blip r:embed="rId1"/>
          <a:stretch/>
        </p:blipFill>
        <p:spPr>
          <a:xfrm>
            <a:off x="4859280" y="1700280"/>
            <a:ext cx="3598920" cy="3598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250920" y="5516640"/>
            <a:ext cx="392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Клавдий Птолем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(ок. 90 – ок. 1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slide0016_image006"/>
          <p:cNvPicPr/>
          <p:nvPr/>
        </p:nvPicPr>
        <p:blipFill>
          <a:blip r:embed="rId2"/>
          <a:stretch/>
        </p:blipFill>
        <p:spPr>
          <a:xfrm>
            <a:off x="826920" y="1700280"/>
            <a:ext cx="3054600" cy="370980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еории Николая Коперника, создателя гелиоцентрической системы мира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уговое движение также не подвергалось сом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00000" y="5734080"/>
            <a:ext cx="230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Николай Коперн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(1473–1543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00040301"/>
          <p:cNvPicPr/>
          <p:nvPr/>
        </p:nvPicPr>
        <p:blipFill>
          <a:blip r:embed="rId1"/>
          <a:stretch/>
        </p:blipFill>
        <p:spPr>
          <a:xfrm>
            <a:off x="826920" y="1844640"/>
            <a:ext cx="2862360" cy="381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1199"/>
          <p:cNvPicPr/>
          <p:nvPr/>
        </p:nvPicPr>
        <p:blipFill>
          <a:blip r:embed="rId2"/>
          <a:stretch/>
        </p:blipFill>
        <p:spPr>
          <a:xfrm>
            <a:off x="4643280" y="184464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4211640" y="573408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Гелиоцентрическая система мира Копер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57960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блюдаемое положение плане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е соответствовало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вычисленному в соответствии с теорией кругового движени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ланет вокруг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0" y="198900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0" y="321300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ке ответ на этот вопрос искал немецкий астроном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оганн Кепле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00040601"/>
          <p:cNvPicPr/>
          <p:nvPr/>
        </p:nvPicPr>
        <p:blipFill>
          <a:blip r:embed="rId1"/>
          <a:stretch/>
        </p:blipFill>
        <p:spPr>
          <a:xfrm>
            <a:off x="5867280" y="1341360"/>
            <a:ext cx="3025800" cy="4032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7"/>
          <p:cNvSpPr/>
          <p:nvPr/>
        </p:nvSpPr>
        <p:spPr>
          <a:xfrm>
            <a:off x="5867280" y="5445000"/>
            <a:ext cx="288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оганн Кепле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(1571–163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4" descr="00040401"/>
          <p:cNvPicPr/>
          <p:nvPr/>
        </p:nvPicPr>
        <p:blipFill>
          <a:blip r:embed="rId1"/>
          <a:stretch/>
        </p:blipFill>
        <p:spPr>
          <a:xfrm>
            <a:off x="684360" y="1628640"/>
            <a:ext cx="3078000" cy="4104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5"/>
          <p:cNvSpPr/>
          <p:nvPr/>
        </p:nvSpPr>
        <p:spPr>
          <a:xfrm>
            <a:off x="684360" y="5950080"/>
            <a:ext cx="28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Тихо Браг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(1546-16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оганн Кепл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ал движение Марса по результатам многолетних наблюдений датского астронома Тихо Браг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2" descr="5"/>
          <p:cNvPicPr/>
          <p:nvPr/>
        </p:nvPicPr>
        <p:blipFill>
          <a:blip r:embed="rId2"/>
          <a:stretch/>
        </p:blipFill>
        <p:spPr>
          <a:xfrm>
            <a:off x="4788000" y="1197000"/>
            <a:ext cx="3898800" cy="507996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ллипс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яется как геометрическое место точек, для которых сумма расстояний от двух заданных точек (фокусов F1 и F2)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ть величина постоянная и равная длине большой оси.</a:t>
            </a:r>
            <a:br>
              <a:rPr sz="1800"/>
            </a:br>
            <a:br>
              <a:rPr sz="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Линия, соединяющая любую точку эллипса с одним из его фокусов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ывается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радиусом-вектор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этой точк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1205"/>
          <p:cNvPicPr/>
          <p:nvPr/>
        </p:nvPicPr>
        <p:blipFill>
          <a:blip r:embed="rId1"/>
          <a:stretch/>
        </p:blipFill>
        <p:spPr>
          <a:xfrm>
            <a:off x="4211640" y="2781360"/>
            <a:ext cx="4753080" cy="35654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8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оганн Кеплер обнаружил, ч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орбита Марса не окружность, а эллип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95280" y="2924280"/>
            <a:ext cx="37800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епень отличия эллипса от окружности характеризует его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ксцентрисите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ра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ношению расстояний между фокусами к большой оси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е 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F1F2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 /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A1A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 совпадении фокусов (е = 0) эллипс превращается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 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окруж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8"/>
          <p:cNvSpPr/>
          <p:nvPr/>
        </p:nvSpPr>
        <p:spPr>
          <a:xfrm>
            <a:off x="0" y="189000"/>
            <a:ext cx="9144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ы Кеплера применимы не только к движению планет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и к движению их естественных и искусственных спут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slide0025_image019"/>
          <p:cNvPicPr/>
          <p:nvPr/>
        </p:nvPicPr>
        <p:blipFill>
          <a:blip r:embed="rId1"/>
          <a:stretch/>
        </p:blipFill>
        <p:spPr>
          <a:xfrm>
            <a:off x="0" y="1074600"/>
            <a:ext cx="6877080" cy="4291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"/>
          <p:cNvPicPr/>
          <p:nvPr/>
        </p:nvPicPr>
        <p:blipFill>
          <a:blip r:embed="rId2"/>
          <a:srcRect l="2104" t="2954" r="0" b="0"/>
          <a:stretch/>
        </p:blipFill>
        <p:spPr>
          <a:xfrm>
            <a:off x="5183280" y="3573360"/>
            <a:ext cx="3960720" cy="27972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ая планета движется по эллипсу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дном из фокусов которого находится Солнц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вый закон Кепле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1345"/>
          <p:cNvPicPr/>
          <p:nvPr/>
        </p:nvPicPr>
        <p:blipFill>
          <a:blip r:embed="rId1"/>
          <a:stretch/>
        </p:blipFill>
        <p:spPr>
          <a:xfrm>
            <a:off x="2050920" y="2060640"/>
            <a:ext cx="5256360" cy="3465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835280" y="2133720"/>
            <a:ext cx="433080" cy="37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050920" y="5445000"/>
            <a:ext cx="561672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835280" y="5589720"/>
            <a:ext cx="568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ллюстрация первого закона Кепл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ffff"/>
                </a:solidFill>
                <a:latin typeface="Arial"/>
              </a:rPr>
              <a:t>на примере движения спутников Зем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биты планет – эллипсы, мало отличающиеся от окружностей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как их эксцентриситеты ма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981000"/>
            <a:ext cx="3132000" cy="2782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2403"/>
          <p:cNvPicPr/>
          <p:nvPr/>
        </p:nvPicPr>
        <p:blipFill>
          <a:blip r:embed="rId2"/>
          <a:srcRect l="50601" t="0" r="0" b="0"/>
          <a:stretch/>
        </p:blipFill>
        <p:spPr>
          <a:xfrm>
            <a:off x="2625840" y="3933720"/>
            <a:ext cx="2595600" cy="262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>
            <a:off x="5219640" y="3048120"/>
            <a:ext cx="3924360" cy="3809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2403"/>
          <p:cNvPicPr/>
          <p:nvPr/>
        </p:nvPicPr>
        <p:blipFill>
          <a:blip r:embed="rId4"/>
          <a:srcRect l="0" t="0" r="49989" b="0"/>
          <a:stretch/>
        </p:blipFill>
        <p:spPr>
          <a:xfrm>
            <a:off x="3203640" y="907920"/>
            <a:ext cx="2560680" cy="25923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13:33:46Z</dcterms:created>
  <dc:creator>Victor</dc:creator>
  <dc:description/>
  <dc:language>en-US</dc:language>
  <cp:lastModifiedBy>LEGION</cp:lastModifiedBy>
  <dcterms:modified xsi:type="dcterms:W3CDTF">2015-01-12T09:12:44Z</dcterms:modified>
  <cp:revision>58</cp:revision>
  <dc:subject/>
  <dc:title>Законы Кеплера - законы движения небесных тел</dc:title>
</cp:coreProperties>
</file>