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D564-A0E2-4656-9744-A4652B68A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DECE-EB1D-4955-8129-98D3DC468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830B-892D-4367-B56A-4FC8C1D6FA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A937-50AB-4859-888D-9F4C6387C9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0FAA-BF30-4848-B5C7-28B2D15D9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9A2E-1481-4C48-9125-E599539E6A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CB36-318E-4A88-9EDD-5736DB7228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10EA-61A4-454D-A241-86D265217D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CA33-F9DA-434F-8E3F-7F6404B4A0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F6AC-A016-4C23-A223-C8A27C298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6C4C-334A-42E2-9F31-95759C590A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BF59-12BF-47FA-BF4C-1DEA35F00A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051-6FE6-4378-B49A-A57118F604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E9C-5D8D-4873-937E-8570BABC46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E569-A8CE-408A-901C-C822D1128F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D78-4370-4A4C-A744-37976B670AF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249-2F05-4110-98D7-436AC96B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6AD-F3B8-4B2B-AD8E-56BA9AA0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8DE-A8D7-418F-8952-FB5EBAFF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92F-46FC-43E1-A3A1-6C13E84F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D00A-E40E-438F-A3C2-32FE4100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B98-9D0C-4170-AC06-981E5201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919-D8C6-4004-A6E0-F241643A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D65-DA77-42AD-82E5-B6694934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EBC-FE3C-4370-9D50-EEFDCDBF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10D-830F-4547-8459-0B9DBF1D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137-ABF1-49F1-9558-63C46A9A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8F1-A7E7-4B29-A212-4B9B3D62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A1A8-0D02-4F86-9C16-960AF7008F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witaly\My Documents\Lena\Prezentacii\Moi\Luna\Luna i Zemla.jpg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34120" y="63403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сноске первого слайда – дополнительная информация о Лу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D:\Documents and Settings\witaly\My Documents\Lena\Prezentacii\Moi\Luna\Luna2_new.jpg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Documents and Settings\witaly\My Documents\Lena\Prezentacii\Moi\Luna\Temnaja storona Luni_new.jpg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F:\jpeg\solar system\Lunar eclipse.jpg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jpeg\solar system\Moon phases.jpg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ELENA\PowerPoint\Materiali dla prezentacij\KOSMOS\Luna\20050411-ar2.jpg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F:\ELENA\PowerPoint\Materiali dla prezentacij\KOSMOS\Luna\full moon.jpg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F:\jpeg\space factfile\Moon cutaway.jpg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jpeg\space factfile\Earth cutaway.jpg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21" name="Line 16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:\Documents and Settings\witaly\My Documents\Lena\Prezentacii\Moi\Luna\Zemlja s Lunoi_new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F:\ELENA\PowerPoint\Materiali dla prezentacij\KOSMOS\Luna\RomaColosseo.jpg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F:\ELENA\PowerPoint\Materiali dla prezentacij\KOSMOS\Luna\Fotos\Poverhnost\Luna1_new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:\ELENA\PowerPoint\Materiali dla prezentacij\KOSMOS\Luna\Dr_grecija.jpg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jpeg\space factfile\Earth Moon.jpg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Documents and Settings\witaly\My Documents\Lena\Prezentacii\Moi\Luna\Luna1_new.jpg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D:\Documents and Settings\witaly\My Documents\Lena\Prezentacii\Moi\Luna\Krateri_new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Documents and Settings\witaly\My Documents\Lena\Prezentacii\Moi\Luna\Krateri3_new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:\Documents and Settings\witaly\My Documents\Lena\Prezentacii\Moi\Luna\Krateri2_new.jpg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jpeg\space factfile\Crater forms.jpg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 and Settings\witaly\My Documents\Lena\Prezentacii\Moi\Luna\Meteorit na Lune_new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LEGION</cp:lastModifiedBy>
  <dcterms:modified xsi:type="dcterms:W3CDTF">2015-01-12T09:14:00Z</dcterms:modified>
  <cp:revision>27</cp:revision>
  <dc:subject/>
  <dc:title>PowerPoint Presentation</dc:title>
</cp:coreProperties>
</file>