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927-DF33-47E8-8A5E-0074B3D46E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BE7C-FC0B-46B6-B62A-B381E80C5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14B-766A-4B5C-9870-AB989342A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742-777D-483A-9635-503221B028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7083-7CAD-48BA-9E15-1DEE76E0E1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653-A860-408B-B7F8-D40ECC5E1A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505-C161-4E69-A2E6-2AB1B750B9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23E-083A-44FC-8157-58BE24CFA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F991-6ECD-4965-8F66-8D260F525D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1A7B-0E05-433A-81AE-E0F224929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7E6-5AC5-48F2-9A89-68E442FBE5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10AA-0953-4C61-823C-68AA89366B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651-3DA8-4166-A03A-75621305F6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A606-26D0-4C71-A58A-D6B380518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F653-9B50-4988-B6A9-D7951C968B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691-39C1-41E6-AF1E-634EE3C774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B37-2D37-44CF-85CD-52D6EF44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AC3-CF2E-407C-8DC3-81835FA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FFC-0782-43AF-8359-81667106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11D-DF29-40D2-93F9-3204B84D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E17-28A7-467D-AC5D-7103F2A4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644-D3CD-406B-9F85-BBDAC879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A54-C1B5-4863-8A99-0648A53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9E2-69F7-4AD2-8422-ABE2D4E7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16C-8B5B-4F80-8FC8-CDF2263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125-09F6-4CEA-B3AB-7DA7F6C4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FB5-9A3D-4C03-853D-BD7168AA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DF3-7707-4C30-9995-E911530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303-2840-4E69-89D8-157D31C79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witaly\My Documents\Lena\Prezentacii\Moi\Luna\Luna i Zemla.jpg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34120" y="63403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сноске первого слайда – дополнительная информация о Лу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D:\Documents and Settings\witaly\My Documents\Lena\Prezentacii\Moi\Luna\Luna2_new.jpg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Documents and Settings\witaly\My Documents\Lena\Prezentacii\Moi\Luna\Temnaja storona Luni_new.jpg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F:\jpeg\solar system\Lunar eclipse.jpg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jpeg\solar system\Moon phases.jpg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ELENA\PowerPoint\Materiali dla prezentacij\KOSMOS\Luna\20050411-ar2.jpg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F:\ELENA\PowerPoint\Materiali dla prezentacij\KOSMOS\Luna\full moon.jpg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F:\jpeg\space factfile\Moon cutaway.jpg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jpeg\space factfile\Earth cutaway.jpg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21" name="Line 16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:\Documents and Settings\witaly\My Documents\Lena\Prezentacii\Moi\Luna\Zemlja s Lunoi_new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F:\ELENA\PowerPoint\Materiali dla prezentacij\KOSMOS\Luna\RomaColosseo.jpg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F:\ELENA\PowerPoint\Materiali dla prezentacij\KOSMOS\Luna\Fotos\Poverhnost\Luna1_new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:\ELENA\PowerPoint\Materiali dla prezentacij\KOSMOS\Luna\Dr_grecija.jpg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jpeg\space factfile\Earth Moon.jpg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Documents and Settings\witaly\My Documents\Lena\Prezentacii\Moi\Luna\Luna1_new.jpg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D:\Documents and Settings\witaly\My Documents\Lena\Prezentacii\Moi\Luna\Krateri_new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Documents and Settings\witaly\My Documents\Lena\Prezentacii\Moi\Luna\Krateri3_new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:\Documents and Settings\witaly\My Documents\Lena\Prezentacii\Moi\Luna\Krateri2_new.jpg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jpeg\space factfile\Crater forms.jpg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 and Settings\witaly\My Documents\Lena\Prezentacii\Moi\Luna\Meteorit na Lune_new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LEGION</cp:lastModifiedBy>
  <dcterms:modified xsi:type="dcterms:W3CDTF">2015-01-12T09:14:00Z</dcterms:modified>
  <cp:revision>27</cp:revision>
  <dc:subject/>
  <dc:title>PowerPoint Presentation</dc:title>
</cp:coreProperties>
</file>