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20C9C-05AB-475B-81BA-915B655D81A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F40D4-4FC2-4CBB-8263-C88354F28F6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аметр 3476 к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сса Луны в 81 раз меньше массы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ее расстояние до Земли 384400 к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мпература поверхности от –170 лунной ночью до +160 лунным днем, но лунный грунт плохо проводит тепло и поэтому уже на глубине около 10 см эти колебания выравниваются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тки длятся 708 ча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следняя экспедиция на Луне побывала в 1972 год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еориты перестали бомбордировать Луну примерно 4 миллиарда лет наза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движется по орбите против часовой стрелки со скоростью 1 км/се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сама не светится, а лишь отражает солнечные луч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ные моря носят такие названия (Ясности, Нежности и пр.) поскольку люди считали, что Луна управляет погодой и чувств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Земля всегда видна над Лунным горизон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уна в 400 раз меньше Солнца, но примерно в 400 раз ближе к Земле. Поэтому видимые размеры Солнца и Луны примерно одинако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 южном полюсе Луны мог сохраниться лед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10280-C2DC-4EBF-BD35-63EFEC34FF8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F7637-C0A6-4686-BBE8-B7519416B73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7666-050E-4E96-9239-00D0F6B2D0C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74C0-8D14-48BA-8C89-7E0AE43DB11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4356B-0DD9-42C2-A353-1A0D096D6C9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BCD7-6EF9-4E7D-8D7F-7B88F49734D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8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2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9AAA4-2DB8-4D08-89EC-3868EBE548F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8205-983D-45FE-A6A5-B9532B26432D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D602-B46F-464A-880B-20178542FD7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B762-5734-4CCE-8566-54F659E6AD44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70D-AED0-435F-8A78-87223144B05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6A1F-3832-4071-897B-F5193945946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D9040-ECB1-4B65-A59D-2D270AD51D5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1488-48BB-485D-BA44-47A030EB8C2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23B8-FE3A-4AAC-975C-C6020A91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5DA9-5A7E-4E87-AC48-C82D5ED15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CC6A-7419-468D-A112-A659070BB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7F83-340F-4204-A255-64C975769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A019-243D-4B9D-8074-2BB84715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DCE5-157D-45BA-B76C-CC870B6F2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D8A4-304C-47A5-8C08-97634921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2BBC-0C2A-4368-8524-ACAAC7AA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C417-C588-453E-B4E6-27DAD86C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10FD-35CB-49C8-9C55-F0969AC4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AD32-AAB8-4D71-AB29-5AABD093F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D13-CD38-4628-8A7A-3218B11B1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F1CD-590B-4CD3-AF78-183AB5D84C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914400"/>
            <a:ext cx="556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6600"/>
                </a:solidFill>
                <a:latin typeface="Tahoma"/>
              </a:rPr>
              <a:t>ЛУ</a:t>
            </a:r>
            <a:r>
              <a:rPr b="1" lang="ru-RU" sz="8800" spc="-1" strike="noStrike">
                <a:solidFill>
                  <a:srgbClr val="000000"/>
                </a:solidFill>
                <a:latin typeface="Tahoma"/>
              </a:rPr>
              <a:t>НА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C:\Documents and Settings\witaly\My Documents\Lena\Prezentacii\Moi\Luna\Luna i Zemla.jpg"/>
          <p:cNvPicPr/>
          <p:nvPr/>
        </p:nvPicPr>
        <p:blipFill>
          <a:blip r:embed="rId1"/>
          <a:stretch/>
        </p:blipFill>
        <p:spPr>
          <a:xfrm>
            <a:off x="0" y="3638520"/>
            <a:ext cx="4476600" cy="3219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5334120" y="6340320"/>
            <a:ext cx="365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сноске первого слайда – дополнительная информация о Лун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7" descr="D:\Documents and Settings\witaly\My Documents\Lena\Prezentacii\Moi\Luna\Luna2_new.jpg"/>
          <p:cNvPicPr/>
          <p:nvPr/>
        </p:nvPicPr>
        <p:blipFill>
          <a:blip r:embed="rId2"/>
          <a:stretch/>
        </p:blipFill>
        <p:spPr>
          <a:xfrm>
            <a:off x="5969160" y="0"/>
            <a:ext cx="3174840" cy="30481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0" y="0"/>
            <a:ext cx="83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ffcc"/>
                </a:solidFill>
                <a:latin typeface="Times New Roman"/>
              </a:rPr>
              <a:t>Елена Ленной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3"/>
          <p:cNvSpPr/>
          <p:nvPr/>
        </p:nvSpPr>
        <p:spPr>
          <a:xfrm>
            <a:off x="0" y="4952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Хотя Луна и вращается вокруг своей собственной оси, но делает это очень медленно - 27.3 суток. Почти за это же время она оборачивается вокруг Земли. И поскольку направления вращения совпадают, то получается так, что к Земле она всегда повернута только одной стороно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4495680" y="30492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темная, никогда не видимая с Земли сторона Лун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4495680" y="1676520"/>
            <a:ext cx="464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юди впервые увидели темную сторону Луны только в 1959 году, когда станция «Луна 3» сделала ее сним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8" descr="D:\Documents and Settings\witaly\My Documents\Lena\Prezentacii\Moi\Luna\Temnaja storona Luni_new.jpg"/>
          <p:cNvPicPr/>
          <p:nvPr/>
        </p:nvPicPr>
        <p:blipFill>
          <a:blip r:embed="rId1"/>
          <a:stretch/>
        </p:blipFill>
        <p:spPr>
          <a:xfrm>
            <a:off x="228600" y="228600"/>
            <a:ext cx="4162320" cy="42670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0" y="4343400"/>
            <a:ext cx="91440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ногда мы можем наблюдать явление, которое называется лунное затмение. Оно происходит тогда, когда Солнце, Земля и Луна оказываются на одной прямой и Земля закрывает Луну от Солнца своей тенью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Затмение может быть не только полным, но и частичным. В этом случае тень Земли попадает не всю Луну, а только на ее кусочек. Лунное затмение может продолжаться до 1 часа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F:\jpeg\solar system\Lunar eclipse.jpg"/>
          <p:cNvPicPr/>
          <p:nvPr/>
        </p:nvPicPr>
        <p:blipFill>
          <a:blip r:embed="rId1"/>
          <a:stretch/>
        </p:blipFill>
        <p:spPr>
          <a:xfrm>
            <a:off x="1066680" y="762120"/>
            <a:ext cx="6661440" cy="29779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1752480" y="152280"/>
            <a:ext cx="5410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Лунные затмен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E:\jpeg\solar system\Moon phases.jpg"/>
          <p:cNvPicPr/>
          <p:nvPr/>
        </p:nvPicPr>
        <p:blipFill>
          <a:blip r:embed="rId1"/>
          <a:stretch/>
        </p:blipFill>
        <p:spPr>
          <a:xfrm>
            <a:off x="304920" y="0"/>
            <a:ext cx="8610480" cy="43354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3"/>
          <p:cNvSpPr/>
          <p:nvPr/>
        </p:nvSpPr>
        <p:spPr>
          <a:xfrm>
            <a:off x="762120" y="22860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азы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5800" y="4952880"/>
            <a:ext cx="784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ты будешь внимательно наблюдать за Луной в течении месяца, то заметишь, что Луна всегда видна по-разному – то тоненький серп, то круглый блин. Иногда ее «концы» направлены в одну сторону, а иногда в другую. Эти изменения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азами Луны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F:\ELENA\PowerPoint\Materiali dla prezentacij\KOSMOS\Luna\20050411-ar2.jpg"/>
          <p:cNvPicPr/>
          <p:nvPr/>
        </p:nvPicPr>
        <p:blipFill>
          <a:blip r:embed="rId1"/>
          <a:stretch/>
        </p:blipFill>
        <p:spPr>
          <a:xfrm>
            <a:off x="1905120" y="1219320"/>
            <a:ext cx="5410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0" y="22860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На этой фотографии очень хорошо видна Луна в новолуни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2"/>
          <p:cNvSpPr/>
          <p:nvPr/>
        </p:nvSpPr>
        <p:spPr>
          <a:xfrm>
            <a:off x="533520" y="0"/>
            <a:ext cx="80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А тут - полнолу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3" descr="F:\ELENA\PowerPoint\Materiali dla prezentacij\KOSMOS\Luna\full moon.jpg"/>
          <p:cNvPicPr/>
          <p:nvPr/>
        </p:nvPicPr>
        <p:blipFill>
          <a:blip r:embed="rId1"/>
          <a:stretch/>
        </p:blipFill>
        <p:spPr>
          <a:xfrm>
            <a:off x="0" y="914400"/>
            <a:ext cx="7924680" cy="594360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295280" y="1752480"/>
            <a:ext cx="358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5486400" y="1676520"/>
            <a:ext cx="3429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д корой находится мантия и малое ядро. Его радиус около 340 км, а масса примерно 2 </a:t>
            </a:r>
            <a:r>
              <a:rPr b="0" lang="en-IE" sz="1800" spc="-1" strike="noStrike">
                <a:solidFill>
                  <a:srgbClr val="000000"/>
                </a:solidFill>
                <a:latin typeface="Verdana"/>
              </a:rPr>
              <a:t>%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от массы всей  Луны. Мантия Луны не расплавлена полностью, как мантия Земли. Поэтому на Луне нет вулкан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5" descr="F:\jpeg\space factfile\Moon cutaway.jpg"/>
          <p:cNvPicPr/>
          <p:nvPr/>
        </p:nvPicPr>
        <p:blipFill>
          <a:blip r:embed="rId1"/>
          <a:stretch/>
        </p:blipFill>
        <p:spPr>
          <a:xfrm>
            <a:off x="3048120" y="1066680"/>
            <a:ext cx="2342880" cy="3810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F:\jpeg\space factfile\Earth cutaway.jpg"/>
          <p:cNvPicPr/>
          <p:nvPr/>
        </p:nvPicPr>
        <p:blipFill>
          <a:blip r:embed="rId2"/>
          <a:stretch/>
        </p:blipFill>
        <p:spPr>
          <a:xfrm>
            <a:off x="0" y="2057400"/>
            <a:ext cx="843120" cy="1371600"/>
          </a:xfrm>
          <a:prstGeom prst="rect">
            <a:avLst/>
          </a:prstGeom>
          <a:ln w="0">
            <a:noFill/>
          </a:ln>
        </p:spPr>
      </p:pic>
      <p:sp>
        <p:nvSpPr>
          <p:cNvPr id="113" name="Line 7"/>
          <p:cNvSpPr/>
          <p:nvPr/>
        </p:nvSpPr>
        <p:spPr>
          <a:xfrm flipH="1" flipV="1">
            <a:off x="3809880" y="2971440"/>
            <a:ext cx="1828800" cy="20574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8"/>
          <p:cNvSpPr/>
          <p:nvPr/>
        </p:nvSpPr>
        <p:spPr>
          <a:xfrm flipH="1" flipV="1">
            <a:off x="456840" y="2743200"/>
            <a:ext cx="685800" cy="914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3505320"/>
            <a:ext cx="29718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Так выглядит структура Земли. Желтое - это раплавленная магма внутри земного шара. Иногда она вырывается на поверхность. Люди называют это извержением вулкан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4191120" y="2286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лщина лунной коры около 60 к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3"/>
          <p:cNvSpPr/>
          <p:nvPr/>
        </p:nvSpPr>
        <p:spPr>
          <a:xfrm flipH="1">
            <a:off x="4876560" y="838080"/>
            <a:ext cx="1143000" cy="10670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0" y="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труктура Лу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5"/>
          <p:cNvSpPr/>
          <p:nvPr/>
        </p:nvSpPr>
        <p:spPr>
          <a:xfrm>
            <a:off x="533520" y="19810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емл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9"/>
          <p:cNvGrpSpPr/>
          <p:nvPr/>
        </p:nvGrpSpPr>
        <p:grpSpPr>
          <a:xfrm>
            <a:off x="5638680" y="1981080"/>
            <a:ext cx="3352680" cy="3047760"/>
            <a:chOff x="5638680" y="1981080"/>
            <a:chExt cx="3352680" cy="3047760"/>
          </a:xfrm>
        </p:grpSpPr>
        <p:sp>
          <p:nvSpPr>
            <p:cNvPr id="121" name="Line 16"/>
            <p:cNvSpPr/>
            <p:nvPr/>
          </p:nvSpPr>
          <p:spPr>
            <a:xfrm>
              <a:off x="5638680" y="5028840"/>
              <a:ext cx="3352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7"/>
            <p:cNvSpPr/>
            <p:nvPr/>
          </p:nvSpPr>
          <p:spPr>
            <a:xfrm flipV="1">
              <a:off x="8991360" y="1981080"/>
              <a:ext cx="0" cy="304776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8"/>
            <p:cNvSpPr/>
            <p:nvPr/>
          </p:nvSpPr>
          <p:spPr>
            <a:xfrm>
              <a:off x="8601840" y="1981080"/>
              <a:ext cx="38952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3"/>
          <p:cNvSpPr/>
          <p:nvPr/>
        </p:nvSpPr>
        <p:spPr>
          <a:xfrm>
            <a:off x="380880" y="3808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это единственный спутник нашей планеты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04920" y="571500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Луна вращается вокруг Земли по</a:t>
            </a:r>
            <a:r>
              <a:rPr b="1" lang="en-IE" sz="1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воей собственной </a:t>
            </a:r>
            <a:r>
              <a:rPr b="1" lang="ru-RU" sz="900" spc="-1" strike="noStrike">
                <a:solidFill>
                  <a:srgbClr val="ffffff"/>
                </a:solidFill>
                <a:latin typeface="Verdana"/>
              </a:rPr>
              <a:t>(эллипсовидной)</a:t>
            </a: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 орбите. Полный круг вокруг Земли Луна делает за 29,5 дней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D:\Documents and Settings\witaly\My Documents\Lena\Prezentacii\Moi\Luna\Zemlja s Lunoi_new.jpg"/>
          <p:cNvPicPr/>
          <p:nvPr/>
        </p:nvPicPr>
        <p:blipFill>
          <a:blip r:embed="rId1"/>
          <a:stretch/>
        </p:blipFill>
        <p:spPr>
          <a:xfrm>
            <a:off x="2514600" y="1219320"/>
            <a:ext cx="4191120" cy="38401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457200" y="42670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название «Луна» пришло к нам от древних римля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581280" y="3808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ревние греки называли Луну Селеной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F:\ELENA\PowerPoint\Materiali dla prezentacij\KOSMOS\Luna\RomaColosseo.jpg"/>
          <p:cNvPicPr/>
          <p:nvPr/>
        </p:nvPicPr>
        <p:blipFill>
          <a:blip r:embed="rId1"/>
          <a:stretch/>
        </p:blipFill>
        <p:spPr>
          <a:xfrm>
            <a:off x="4800600" y="3384720"/>
            <a:ext cx="4343400" cy="3473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F:\ELENA\PowerPoint\Materiali dla prezentacij\KOSMOS\Luna\Fotos\Poverhnost\Luna1_new.jpg"/>
          <p:cNvPicPr/>
          <p:nvPr/>
        </p:nvPicPr>
        <p:blipFill>
          <a:blip r:embed="rId2"/>
          <a:stretch/>
        </p:blipFill>
        <p:spPr>
          <a:xfrm>
            <a:off x="7010280" y="0"/>
            <a:ext cx="2133720" cy="1971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:\ELENA\PowerPoint\Materiali dla prezentacij\KOSMOS\Luna\Dr_grecija.jpg"/>
          <p:cNvPicPr/>
          <p:nvPr/>
        </p:nvPicPr>
        <p:blipFill>
          <a:blip r:embed="rId3"/>
          <a:stretch/>
        </p:blipFill>
        <p:spPr>
          <a:xfrm>
            <a:off x="0" y="0"/>
            <a:ext cx="3581280" cy="2682720"/>
          </a:xfrm>
          <a:prstGeom prst="rect">
            <a:avLst/>
          </a:prstGeom>
          <a:ln w="0">
            <a:noFill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F:\jpeg\space factfile\Earth Moon.jpg"/>
          <p:cNvPicPr/>
          <p:nvPr/>
        </p:nvPicPr>
        <p:blipFill>
          <a:blip r:embed="rId1"/>
          <a:stretch/>
        </p:blipFill>
        <p:spPr>
          <a:xfrm>
            <a:off x="2209680" y="380880"/>
            <a:ext cx="4876920" cy="47116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80880" y="548640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Диаметр Луны почти в 4 раза меньше диаметра Зем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0" y="54100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Если смотреть на Луну с Земли, то она выглядит небольшим пятнистым шаром, но в телескоп, или даже в хороший бинокль, видно, что это не так – на Луне есть горы и много кратер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4" descr="D:\Documents and Settings\witaly\My Documents\Lena\Prezentacii\Moi\Luna\Luna1_new.jpg"/>
          <p:cNvPicPr/>
          <p:nvPr/>
        </p:nvPicPr>
        <p:blipFill>
          <a:blip r:embed="rId1"/>
          <a:stretch/>
        </p:blipFill>
        <p:spPr>
          <a:xfrm>
            <a:off x="2286000" y="457200"/>
            <a:ext cx="4724280" cy="43657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0" y="4572000"/>
            <a:ext cx="9144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Много лет назад ученый Галилео Галилей назвал их морями. Теперь мы уже знаем, что никаких морей на луне нет, но по традиции кратеры сохранили свои названия. У многих из них необычны для Земли – Море Изобилия, Море Холода, Море Дождей, Море Ясности, Море Паро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Кратеры поменьше носят имена знаменитых людей – Тихо Браге, Коперника, Птоломея, Юрия Гагарин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4495680" y="2971800"/>
            <a:ext cx="464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Углубления в поверхности Луны называются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ерами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D:\Documents and Settings\witaly\My Documents\Lena\Prezentacii\Moi\Luna\Krateri_new.jpg"/>
          <p:cNvPicPr/>
          <p:nvPr/>
        </p:nvPicPr>
        <p:blipFill>
          <a:blip r:embed="rId1"/>
          <a:stretch/>
        </p:blipFill>
        <p:spPr>
          <a:xfrm>
            <a:off x="0" y="0"/>
            <a:ext cx="4572000" cy="4065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D:\Documents and Settings\witaly\My Documents\Lena\Prezentacii\Moi\Luna\Krateri3_new.jpg"/>
          <p:cNvPicPr/>
          <p:nvPr/>
        </p:nvPicPr>
        <p:blipFill>
          <a:blip r:embed="rId2"/>
          <a:stretch/>
        </p:blipFill>
        <p:spPr>
          <a:xfrm>
            <a:off x="5587920" y="0"/>
            <a:ext cx="3556080" cy="267984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0" y="5410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А это Лунные горы. Их названия вполне земные – Кавказ, Алтай, Карпаты, Альпы, Апенины, Перинеи, Тенерифе. Высота гор может доходить до 8 км, но обычно она составляет 3-5 км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D:\Documents and Settings\witaly\My Documents\Lena\Prezentacii\Moi\Luna\Krateri2_new.jpg"/>
          <p:cNvPicPr/>
          <p:nvPr/>
        </p:nvPicPr>
        <p:blipFill>
          <a:blip r:embed="rId1"/>
          <a:stretch/>
        </p:blipFill>
        <p:spPr>
          <a:xfrm>
            <a:off x="2133720" y="380880"/>
            <a:ext cx="4952880" cy="444024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3" descr="F:\jpeg\space factfile\Crater forms.jpg"/>
          <p:cNvPicPr/>
          <p:nvPr/>
        </p:nvPicPr>
        <p:blipFill>
          <a:blip r:embed="rId1"/>
          <a:stretch/>
        </p:blipFill>
        <p:spPr>
          <a:xfrm>
            <a:off x="152280" y="2362320"/>
            <a:ext cx="8686800" cy="34750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4"/>
          <p:cNvSpPr/>
          <p:nvPr/>
        </p:nvSpPr>
        <p:spPr>
          <a:xfrm>
            <a:off x="228600" y="228600"/>
            <a:ext cx="86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смотри, как, по предположению ученых много лет назад образовались лунные кратеры. В наши времена новые кратеры уже не образуются, потому что в космосе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почти не осталось крупных метеорит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629400" y="1600200"/>
            <a:ext cx="2514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1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ближается метеори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 flipH="1">
            <a:off x="7772400" y="2209680"/>
            <a:ext cx="7632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095880" y="4114800"/>
            <a:ext cx="3048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2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Он сталкивается с поверхностью и образует столп пыл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Line 8"/>
          <p:cNvSpPr/>
          <p:nvPr/>
        </p:nvSpPr>
        <p:spPr>
          <a:xfrm flipH="1" flipV="1">
            <a:off x="6324480" y="3352320"/>
            <a:ext cx="914400" cy="838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57200" y="213372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3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ле того, как пыль осядет, становится видно, что на поверхности образовалась вмятина, а в ее центре -  возвышенность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3"/>
          <p:cNvSpPr/>
          <p:nvPr/>
        </p:nvSpPr>
        <p:spPr>
          <a:xfrm>
            <a:off x="304920" y="5638680"/>
            <a:ext cx="7086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66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cc0066"/>
                </a:solidFill>
                <a:latin typeface="Tahoma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оскольку в то время на Луне еще были вулканы, то потоки лавы во время извержений заполнили кратеры и они стали менее глубоки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D:\Documents and Settings\witaly\My Documents\Lena\Prezentacii\Moi\Luna\Meteorit na Lune_new.jpg"/>
          <p:cNvPicPr/>
          <p:nvPr/>
        </p:nvPicPr>
        <p:blipFill>
          <a:blip r:embed="rId1"/>
          <a:stretch/>
        </p:blipFill>
        <p:spPr>
          <a:xfrm>
            <a:off x="1219320" y="1295280"/>
            <a:ext cx="6476760" cy="492768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>
            <a:off x="914400" y="3808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Это небольшой осколок одного из метеоритов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16:33:26Z</dcterms:created>
  <dc:creator>wl</dc:creator>
  <dc:description/>
  <dc:language>en-US</dc:language>
  <cp:lastModifiedBy>LEGION</cp:lastModifiedBy>
  <dcterms:modified xsi:type="dcterms:W3CDTF">2015-01-12T09:14:00Z</dcterms:modified>
  <cp:revision>27</cp:revision>
  <dc:subject/>
  <dc:title>PowerPoint Presentation</dc:title>
</cp:coreProperties>
</file>