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whoosh.wav" ContentType="audio/x-wav"/>
  <Override PartName="/ppt/media/image28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9.gif" ContentType="image/gif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gif" ContentType="image/gif"/>
  <Override PartName="/ppt/media/image26.jpeg" ContentType="image/jpeg"/>
  <Override PartName="/ppt/media/image32.jpeg" ContentType="image/jpeg"/>
  <Override PartName="/ppt/media/image7.gif" ContentType="image/gif"/>
  <Override PartName="/ppt/media/image29.jpeg" ContentType="image/jpeg"/>
  <Override PartName="/ppt/media/image35.png" ContentType="image/png"/>
  <Override PartName="/ppt/media/image5.png" ContentType="image/png"/>
  <Override PartName="/ppt/media/explode.wav" ContentType="audio/x-wav"/>
  <Override PartName="/ppt/media/image33.png" ContentType="image/png"/>
  <Override PartName="/ppt/media/image34.jpeg" ContentType="image/jpeg"/>
  <Override PartName="/ppt/media/image36.jpeg" ContentType="image/jpeg"/>
  <Override PartName="/ppt/media/image38.jpeg" ContentType="image/jpeg"/>
  <Override PartName="/ppt/media/image39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2.gif" ContentType="image/gif"/>
  <Override PartName="/ppt/media/image18.jpeg" ContentType="image/jpeg"/>
  <Override PartName="/ppt/media/image15.png" ContentType="image/png"/>
  <Override PartName="/ppt/media/image24.jpeg" ContentType="image/jpeg"/>
  <Override PartName="/ppt/media/image10.png" ContentType="image/png"/>
  <Override PartName="/ppt/media/image11.jpeg" ContentType="image/jpeg"/>
  <Override PartName="/ppt/media/image1.gif" ContentType="image/gif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89ED-392C-43E3-AB3D-07AC773963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ECA9-E719-4B16-A7D0-900B682F2A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арад  пл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1F77-A933-458A-B9EA-3FF3809D4B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99ccff"/>
                </a:solidFill>
                <a:latin typeface="Impact"/>
              </a:rPr>
              <a:t>лу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7,35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3476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3,343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инимальная -15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спутника до планеты=384400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движения вокруг планеты=1,03 км/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1,62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FCC8-CF20-4EF5-B306-3479390E4D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</a:rPr>
              <a:t>Фазы 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D659-1EAB-42F8-81D1-2A4DEF9B5B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еркур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Масса = 33 1023 кг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Расстояние от солнца 58 мил.км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Температура поверхности = от - 180° до +440 С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Плотность = 5.4 г/см3Год = 88 дней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Диаметр = 4879 км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Сила тяжести = 3,8 g ( на Земле 9,81)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Скорость движения по орбите = 48 км/с.Спутников не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AAE0-B177-41B9-9059-004583B5C7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ркурий - самая близкая к Солнцу плане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ерхность Меркурия покрыта тысячами кратер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вшихся от столкновений с метеори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яд признаков говорит о возможности существование 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ркурия атмосферы, но в тысячи раз бол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ряженной,чем земная. Поэтому дневное полушар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ьно накаляется.Поскольку планета очень близко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лнца, и она практически не имеет атмосфер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особной сохранять тепло ночью, темпер.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ерхности колеблется от -18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до +44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B15C-9BFC-4970-A4D6-264048FA47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243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69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 1,7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тки = 16 часов 04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ол орбиты = 29,6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= - 218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утники = 2 шту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B662-0A19-420C-9002-8E5884DFB9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крытие Нептуна блестяще подтвердило правильность закона всемирного тяготения, положенного в основу расчётов орбит. Было замечено, что Уран движется не совсем так, как ему полагается двигаться под действием притяжения Солнца и известных в то время планет. Тогда заподозрили существование еще одной массивной планеты и попытались вычислить ее по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небе. Эту чрезвычайно сложную математическую задачу независимо друг от друга успешно решили английский астроном Дж. Адамс и французский астроном У. Леверье. Получив данные Леверье, ассистент Берлинской обсерватории И. Галле 23 сентября1846 года обнаружил плане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7C12-D80F-43A7-AD80-57118DDC5A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ур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8,7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Диаметр=51300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1,27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=-22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17,23 часа Расстояние от Cолнца=19,2а.е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84 г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6,8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9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2632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85C1-443A-4A50-8DAA-688F3FA9D0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ак и у других планет-гигантов, в атмосфере Урана обнаруж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ихри,струйные течения, пятна, но их гораздо меньше чем у други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иний цвет Урана является результатом поглощения красного св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метаном в верхней части атмосферы. Вероятно, существуют обл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других цветов, но они прячутся от наблюдателей перекрывающ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лоем метана. Атмосфера Урана состоит примерно из 83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одорода,15% гелия и 2% метана. Зарегистрировано свеч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атмосферы Уранав ультрафиолетовой области спектр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ростирающееся на 50000 км от планеты и фотохимический смо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около освещённого солнцем полю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A530-78F7-4407-B183-ED83EE0790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атур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600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69х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кг (5.69Е26 к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 0,7 г/см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тки = 10 часов 14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ол орбиты = 26,73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= - 150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утники = 30 штуки (Тита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9C44-9D31-4086-A179-7FB25246CD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атурн с его кольцом - самая удивительная планета в солнечной системе. Широкое, совершенно плоское кольцо окружает экватор планеты, как шляпу - ее поля.Оно расположено наклонно к тому кругу, по которому Сатурн обходит Солнце за 29,5лет.Поэтому в зависимости от положения Сатурна на его пути кольцо поворачивается к нам то одной стороной, то другой. Каждые 15 лет оно располагается к нам ребром, и тогда его нельзя разглядеть даже в самые сильные телескопы, а это значит, что кольцо очень тонкое:его толщина не более 10-15к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F892-4091-4807-A730-134B64AD7E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B4BB-4194-4111-BA43-141C5FA74A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юпи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Maccа=1,9*10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27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к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Диаметр=143760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лотность=1,31 г/см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емпература верхних облаков=-160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Длина суток=9,93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Расстояние от Cолнца=5,203а.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иод обращения по орбите(г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=11,86 л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корость вращения по орбите=13,1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Ускорение свободного падения=25,8 м/c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22E3-F055-478A-968E-BCED9803D4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питер, пятая и самая большая планета Солнечной сист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лее чем в два раза тяжелее, чем все другие план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месте взятые и почти в 318 раз тяжелее Земли. Облад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"солнечным" химическим составом, самая крупная план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лнечной системы имеет массу в 70 - 80 раз меньше т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которой небесное тело может стать звездой. Тем не мене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недрах Юпитера происходят процессы с достаточно мощ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ергетикой: тепловое излучение планеты, эквивалентн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х1017 Вт, примерно в два раза превышает энергию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аемую этой планетой от Солн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8708-B413-4F26-A537-DEF0F132FC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а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а= 6,4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6670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3,95 г/см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-23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t=-150oC на полюсах,0oC на эква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24,6229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Cолнца(среднее)=1,5237а.е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687 земных су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24,1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3,7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B7EE-2406-45FE-AA91-7D7071C916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лижайший сосед Земли со стороны, противоположной Солнц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мечателен своим красным цветом, напоминающим ого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роятно, за этот цвет древние римляне дали планет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я бога войны Мар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рс удален от Солнца в среднем на 228 млн. к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сь свой путь вокруг Солнца Марс проходит за 687 дне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ли за 1 год и 11 месяцев. Поскольку Марс и Земля движу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дну и ту же сторону, Земля через каждые 2 года и 50 д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гоняет Марс на целый оборот; в это время Марс и Зем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ходятся по одну сторону от Солнца.Такое положение Мар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тношению к Земле астрономы называют противостоя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E6B4-D221-4E34-ABE9-04EB5CF800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лу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1,3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Диаметр=2324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2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=-23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6,4 земных суток .Расстояние от Cолнца=29,6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минимальное) и 49,28 (максимальное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247,7 л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4,7 км/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CF46-A812-4E40-A2BF-77967427A3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утон был открыт в 1930 году американским астрономом К. Томбо, но наши знания о нем начали формироваться лишь с развитием техники исследований( с 1976 года). Космические аппараты ещё не появлялись в окрестностях Плутона, поэтомувся информация получена наземными средствами.Орбита Плутона очень вытянута, поэтому иногда Плутон оказывается ближе к Солнцу, чем Нептун.Плутону при такой низкой температуре, какая царит так далеко от Солнца (-233° по Цельсию), под силу удержать атмосферу из  тяжелых  газов, и, судя по всему, она у него есть. В 1976 году на Плутоне обнаружили метановый лед. В 1992-м - азот и углерод, тоже замерзшие. Подобно Урану, Плутон вращается вобратном обычному направлении. Ось его вращения наклонена к плоскости эклиптики на 122°, так что планета движется "лежа на боку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3A71-E8A0-4DE1-8875-ADCADA72AF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1BAD-92B6-4EA9-B842-962D179F25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олнце - это обычная звезда, возраст ее около 5 мил л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солнечном ядре происходит превращение водорода в гелий с выделением огромного количества энергии. На поверхности Солнце имеет пятна, происходят яркие вспышки и можно увидеть взрывы. Солнечная атмосфера имеет толщину 500 км. и называется фотосферой. Благодоря конвекции в солнечной атмосфере, тепловая энергия из нижних слоев переносится в фотосферу, придавая ей пенистое строение. В отличие от Земли различные части Солнца вращаются с различными скоростями. Солнце будет еще существовать 5 миллиардов лет, постепенно нагреваясь и увеличиваясь в размер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2B1B-DDDA-4E74-8CA2-C986A2B45C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E797-0128-4BAE-ADEF-80E782D4B4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.97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12756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5,518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а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+58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,мин-9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 23ч 56мин4,1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Cолнца= 150 млн.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365,2су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: 29,8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: 9,8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6378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C02E-B3EE-4346-90A0-EBCCF4DA74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емля- одна из планет Солнечной системы. Подобно другим планетам, она движется вокруг Солнца по эллиптической орби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процессе движения нашей планеты по орбите вокруг Солнца плоскость земного экватора (наклоненная к плоскости орбиты на угол 23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7') перемещается параллельно самой себе таким образом, что в одних участках орбиты земной шар наклонен к Солнцу своим северным полушарием, а в других- южны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современным космогоническим представлениям, Земля образовалась 4,5 млрд. лет назад путем гравитационной конденсации из рассеянного в околосолнечном пространстве газопылевого вещества, содержавшегося все известные в природе химические элемент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ED87-EC39-4E5E-8376-E6952E0696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вен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487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10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к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 =+48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5.25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 =12104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а тяжести = 9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тмосфера =Углекислый газ [96%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зот [3,5%] Прочее [0,5%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д =224 д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E923-1191-440C-A228-95CCFF4B3F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нера, вторая по близости к Солнцу планета, почти такого же размера, как Земля. Орбита Венеры ближе к окружности, чем у любой другой планеты Солнечной Системы. Временами Венера подходит к Земле на расстояние, меньшее 40 млн. км. Венера вращается в обратном направлении - с востока на запад, а не с запада на восток, как Земля и большинство других планет, кроме Венеры и Урана. Период вращения Венеры вокруг оси относительно звёзд, звёздные сутки - длительный, около 243 земных сут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7A9-8DEF-49DB-92C6-1B14471D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7664-A202-41B7-986D-C35F2BCD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B89-8C33-4BE8-B9B3-D0589666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600-B0B1-4FD0-B3C2-A463A54A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25D-DE62-4C90-AFD9-078BC900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F09-DFD7-4770-B44C-3AB31371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996-9A69-4B62-9B66-9528A14D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A62-B89D-4993-BC93-D2CD2BF4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270-A8EC-49C8-BA5C-F6543A55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62D-0536-4353-B20B-0FD30652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237-73B9-4F8C-A4AC-6A0C1A2F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55B-2F4B-4790-8B82-ED4429A3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E67D-7FF1-419A-BA24-AF1E013B68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1.xml"/><Relationship Id="rId3" Type="http://schemas.openxmlformats.org/officeDocument/2006/relationships/image" Target="../media/image16.jpeg"/><Relationship Id="rId4" Type="http://schemas.openxmlformats.org/officeDocument/2006/relationships/slide" Target="slide2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" Target="slide10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gif"/><Relationship Id="rId3" Type="http://schemas.openxmlformats.org/officeDocument/2006/relationships/slide" Target="slide13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8.jpeg"/><Relationship Id="rId3" Type="http://schemas.openxmlformats.org/officeDocument/2006/relationships/slide" Target="slide12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slide" Target="slide15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gif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" Target="slide17.xml"/><Relationship Id="rId6" Type="http://schemas.openxmlformats.org/officeDocument/2006/relationships/image" Target="../media/image16.jpeg"/><Relationship Id="rId7" Type="http://schemas.openxmlformats.org/officeDocument/2006/relationships/slide" Target="slide2.xml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1.jpeg"/><Relationship Id="rId3" Type="http://schemas.openxmlformats.org/officeDocument/2006/relationships/slide" Target="slide16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gi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0.xml"/><Relationship Id="rId3" Type="http://schemas.openxmlformats.org/officeDocument/2006/relationships/image" Target="../media/image4.jpeg"/><Relationship Id="rId4" Type="http://schemas.openxmlformats.org/officeDocument/2006/relationships/slide" Target="slide8.xml"/><Relationship Id="rId5" Type="http://schemas.openxmlformats.org/officeDocument/2006/relationships/image" Target="../media/image5.png"/><Relationship Id="rId6" Type="http://schemas.openxmlformats.org/officeDocument/2006/relationships/slide" Target="slide18.xml"/><Relationship Id="rId7" Type="http://schemas.openxmlformats.org/officeDocument/2006/relationships/image" Target="../media/image6.gif"/><Relationship Id="rId8" Type="http://schemas.openxmlformats.org/officeDocument/2006/relationships/slide" Target="slide16.xml"/><Relationship Id="rId9" Type="http://schemas.openxmlformats.org/officeDocument/2006/relationships/image" Target="../media/image7.gif"/><Relationship Id="rId10" Type="http://schemas.openxmlformats.org/officeDocument/2006/relationships/slide" Target="slide12.xml"/><Relationship Id="rId11" Type="http://schemas.openxmlformats.org/officeDocument/2006/relationships/image" Target="../media/image8.gif"/><Relationship Id="rId12" Type="http://schemas.openxmlformats.org/officeDocument/2006/relationships/slide" Target="slide3.xml"/><Relationship Id="rId13" Type="http://schemas.openxmlformats.org/officeDocument/2006/relationships/image" Target="../media/image9.gif"/><Relationship Id="rId14" Type="http://schemas.openxmlformats.org/officeDocument/2006/relationships/slide" Target="slide14.xml"/><Relationship Id="rId15" Type="http://schemas.openxmlformats.org/officeDocument/2006/relationships/image" Target="../media/image10.png"/><Relationship Id="rId16" Type="http://schemas.openxmlformats.org/officeDocument/2006/relationships/slide" Target="slide22.xml"/><Relationship Id="rId17" Type="http://schemas.openxmlformats.org/officeDocument/2006/relationships/image" Target="../media/image11.jpeg"/><Relationship Id="rId18" Type="http://schemas.openxmlformats.org/officeDocument/2006/relationships/slide" Target="slide20.xml"/><Relationship Id="rId19" Type="http://schemas.openxmlformats.org/officeDocument/2006/relationships/image" Target="../media/image12.jpeg"/><Relationship Id="rId20" Type="http://schemas.openxmlformats.org/officeDocument/2006/relationships/slide" Target="slide3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slide6.xml"/><Relationship Id="rId25" Type="http://schemas.openxmlformats.org/officeDocument/2006/relationships/image" Target="../media/image13.gif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8.jpe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9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" Target="slide4.xml"/><Relationship Id="rId5" Type="http://schemas.openxmlformats.org/officeDocument/2006/relationships/image" Target="../media/image16.jpeg"/><Relationship Id="rId6" Type="http://schemas.openxmlformats.org/officeDocument/2006/relationships/slide" Target="slide2.xml"/><Relationship Id="rId7" Type="http://schemas.openxmlformats.org/officeDocument/2006/relationships/image" Target="../media/image17.jpe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gif"/><Relationship Id="rId3" Type="http://schemas.openxmlformats.org/officeDocument/2006/relationships/slide" Target="slide5.xml"/><Relationship Id="rId4" Type="http://schemas.openxmlformats.org/officeDocument/2006/relationships/image" Target="../media/image16.jpeg"/><Relationship Id="rId5" Type="http://schemas.openxmlformats.org/officeDocument/2006/relationships/slide" Target="slide3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slide" Target="slide4.xm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gif"/><Relationship Id="rId3" Type="http://schemas.openxmlformats.org/officeDocument/2006/relationships/slide" Target="slide7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20.jpeg"/><Relationship Id="rId7" Type="http://schemas.openxmlformats.org/officeDocument/2006/relationships/slide" Target="slide2.xml"/><Relationship Id="rId8" Type="http://schemas.openxmlformats.org/officeDocument/2006/relationships/image" Target="../media/image17.jpeg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gif"/><Relationship Id="rId3" Type="http://schemas.openxmlformats.org/officeDocument/2006/relationships/slide" Target="slide8.xml"/><Relationship Id="rId4" Type="http://schemas.openxmlformats.org/officeDocument/2006/relationships/image" Target="../media/image16.jpeg"/><Relationship Id="rId5" Type="http://schemas.openxmlformats.org/officeDocument/2006/relationships/slide" Target="slide6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9.xml"/><Relationship Id="rId3" Type="http://schemas.openxmlformats.org/officeDocument/2006/relationships/image" Target="../media/image16.jpeg"/><Relationship Id="rId4" Type="http://schemas.openxmlformats.org/officeDocument/2006/relationships/slide" Target="slide2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8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Ракета"/>
          <p:cNvPicPr/>
          <p:nvPr/>
        </p:nvPicPr>
        <p:blipFill>
          <a:blip r:embed="rId3"/>
          <a:stretch/>
        </p:blipFill>
        <p:spPr>
          <a:xfrm>
            <a:off x="5410080" y="-2819520"/>
            <a:ext cx="403200" cy="2811600"/>
          </a:xfrm>
          <a:prstGeom prst="rect">
            <a:avLst/>
          </a:prstGeom>
          <a:ln w="0">
            <a:noFill/>
          </a:ln>
        </p:spPr>
      </p:pic>
      <p:sp>
        <p:nvSpPr>
          <p:cNvPr id="50" name="WordArt 3"/>
          <p:cNvSpPr txBox="1"/>
          <p:nvPr/>
        </p:nvSpPr>
        <p:spPr>
          <a:xfrm>
            <a:off x="685800" y="2133720"/>
            <a:ext cx="78487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арад  план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"/>
          <p:cNvPicPr/>
          <p:nvPr/>
        </p:nvPicPr>
        <p:blipFill>
          <a:blip r:embed="rId1"/>
          <a:stretch/>
        </p:blipFill>
        <p:spPr>
          <a:xfrm>
            <a:off x="0" y="3232080"/>
            <a:ext cx="4000680" cy="36259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7"/>
          <p:cNvSpPr txBox="1"/>
          <p:nvPr/>
        </p:nvSpPr>
        <p:spPr>
          <a:xfrm>
            <a:off x="380880" y="129528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лун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495680" y="5472000"/>
            <a:ext cx="47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спутников=0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495680" y="685800"/>
            <a:ext cx="47246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7,35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3476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3,343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инимальная -15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спутника до планеты=384400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движения вокруг планеты=1,03 км/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1,62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9" descr="Впере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Наза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moon_fase"/>
          <p:cNvPicPr/>
          <p:nvPr/>
        </p:nvPicPr>
        <p:blipFill>
          <a:blip r:embed="rId2"/>
          <a:stretch/>
        </p:blipFill>
        <p:spPr>
          <a:xfrm>
            <a:off x="2209680" y="1600200"/>
            <a:ext cx="55627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1752480" y="228600"/>
            <a:ext cx="624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cc"/>
                </a:solidFill>
                <a:latin typeface="Times New Roman"/>
              </a:rPr>
              <a:t>Фазы  лун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372600" cy="778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p1"/>
          <p:cNvPicPr/>
          <p:nvPr/>
        </p:nvPicPr>
        <p:blipFill>
          <a:blip r:embed="rId2"/>
          <a:stretch/>
        </p:blipFill>
        <p:spPr>
          <a:xfrm>
            <a:off x="0" y="1901880"/>
            <a:ext cx="3124080" cy="3051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3635280" y="0"/>
            <a:ext cx="411480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3b61f"/>
                    </a:gs>
                    <a:gs pos="50000">
                      <a:srgbClr val="ef7f23"/>
                    </a:gs>
                    <a:gs pos="100000">
                      <a:srgbClr val="f3b61f"/>
                    </a:gs>
                  </a:gsLst>
                  <a:lin ang="2700000"/>
                </a:gradFill>
                <a:latin typeface="Impact"/>
              </a:rPr>
              <a:t>меркурий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3b61f"/>
                  </a:gs>
                  <a:gs pos="50000">
                    <a:srgbClr val="ef7f23"/>
                  </a:gs>
                  <a:gs pos="100000">
                    <a:srgbClr val="f3b61f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048120" y="1989000"/>
            <a:ext cx="609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Масса = 33 1023 кг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Расстояние от солнца 58 мил.км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Температура поверхности = от - 180° до +440 С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Плотность = 5.4 г/см3Год = 88 дне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Диаметр = 4879 км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Сила тяжести = 3,8 g ( на Земле 9,81)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Скорость движения по орбите = 48 км/с.Спутников не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0"/>
          <p:cNvPicPr/>
          <p:nvPr/>
        </p:nvPicPr>
        <p:blipFill>
          <a:blip r:embed="rId2"/>
          <a:stretch/>
        </p:blipFill>
        <p:spPr>
          <a:xfrm>
            <a:off x="1943280" y="800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152280" y="355680"/>
            <a:ext cx="88394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ркурий - самая близкая к Солнцу плане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ерхность Меркурия покрыта тысячами кратер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зовавшихся от столкновений с метеорит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яд признаков говорит о возможности существование 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ркурия атмосферы, но в тысячи раз бол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яженной,чем земная. Поэтому дневное полушар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ьно накаляется.Поскольку планета очень близко о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лнца, и она практически не имеет атмосфер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й сохранять тепло ночью, темпер.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ерхности колеблется от -18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C до +44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2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4267080" y="1066680"/>
            <a:ext cx="58676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диус = 24300 к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сса = 569*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отность = 1,7 г/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утки = 16 часов 04 мину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ол орбиты = 29,6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пература = - 218°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утники = 2 шт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762120" y="152280"/>
            <a:ext cx="3124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33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    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33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Picture 8" descr="0"/>
          <p:cNvPicPr/>
          <p:nvPr/>
        </p:nvPicPr>
        <p:blipFill>
          <a:blip r:embed="rId2"/>
          <a:stretch/>
        </p:blipFill>
        <p:spPr>
          <a:xfrm>
            <a:off x="0" y="2935440"/>
            <a:ext cx="4075200" cy="3998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0" y="83808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рытие Нептуна блестяще подтвердило правильность закона всемирного тяготения, положенного в основу расчётов орбит. Было замечено, что Уран движется не совсем так, как ему полагается двигаться под действием притяжения Солнца и известных в то время планет. Тогда заподозрили существование еще одной массивной планеты и попытались вычислить ее поло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небе. Эту чрезвычайно сложную математическую задачу независимо друг от друга успешно решили английский астроном Дж. Адамс и французский астроном У. Леверье. Получив данные Леверье, ассистент Берлинской обсерватории И. Галле 23 сентября1846 года обнаружил плане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9" descr="Наза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676520" y="2490840"/>
            <a:ext cx="80769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8,7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Диаметр=51300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1,27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=-22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17,23 часа Расстояние от Cолнца=19,2а.е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84 г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6,8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9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диус =2632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Uranv"/>
          <p:cNvPicPr/>
          <p:nvPr/>
        </p:nvPicPr>
        <p:blipFill>
          <a:blip r:embed="rId2"/>
          <a:stretch/>
        </p:blipFill>
        <p:spPr>
          <a:xfrm>
            <a:off x="0" y="838080"/>
            <a:ext cx="1676520" cy="3124440"/>
          </a:xfrm>
          <a:prstGeom prst="rect">
            <a:avLst/>
          </a:prstGeom>
          <a:ln w="0">
            <a:noFill/>
          </a:ln>
        </p:spPr>
      </p:pic>
      <p:sp>
        <p:nvSpPr>
          <p:cNvPr id="161" name="WordArt 7"/>
          <p:cNvSpPr txBox="1"/>
          <p:nvPr/>
        </p:nvSpPr>
        <p:spPr>
          <a:xfrm rot="838200">
            <a:off x="3696840" y="837720"/>
            <a:ext cx="4303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ура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162" name="Picture 13" descr="Впере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Назад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Уран"/>
          <p:cNvPicPr/>
          <p:nvPr/>
        </p:nvPicPr>
        <p:blipFill>
          <a:blip r:embed="rId2"/>
          <a:stretch/>
        </p:blipFill>
        <p:spPr>
          <a:xfrm>
            <a:off x="7954920" y="4503600"/>
            <a:ext cx="1189080" cy="2354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0" y="93816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ак и у других планет-гигантов, в атмосфере Урана обнаруже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ихри,струйные течения, пятна, но их гораздо меньше чем у друг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иний цвет Урана является результатом поглощения красного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етаном в верхней части атмосферы. Вероятно, существуют обл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ругих цветов, но они прячутся от наблюдателей перекрывающ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лоем метана. Атмосфера Урана состоит примерно из 8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одорода,15% гелия и 2% метана. Зарегистрировано све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атмосферы Уранав ультрафиолетовой области спектр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ростирающееся на 50000 км от планеты и фотохимический смо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коло освещённого солнцем полю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9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satring"/>
          <p:cNvPicPr/>
          <p:nvPr/>
        </p:nvPicPr>
        <p:blipFill>
          <a:blip r:embed="rId2"/>
          <a:stretch/>
        </p:blipFill>
        <p:spPr>
          <a:xfrm>
            <a:off x="2895480" y="228600"/>
            <a:ext cx="3353040" cy="2035080"/>
          </a:xfrm>
          <a:prstGeom prst="rect">
            <a:avLst/>
          </a:prstGeom>
          <a:ln w="0">
            <a:noFill/>
          </a:ln>
        </p:spPr>
      </p:pic>
      <p:sp>
        <p:nvSpPr>
          <p:cNvPr id="171" name="WordArt 4"/>
          <p:cNvSpPr txBox="1"/>
          <p:nvPr/>
        </p:nvSpPr>
        <p:spPr>
          <a:xfrm rot="5400000">
            <a:off x="-491040" y="3005280"/>
            <a:ext cx="441036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764700"/>
                    </a:gs>
                    <a:gs pos="50000">
                      <a:srgbClr val="ff9900"/>
                    </a:gs>
                    <a:gs pos="100000">
                      <a:srgbClr val="7647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атурн</a:t>
            </a:r>
            <a:endParaRPr b="0" lang="en-US" sz="24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764700"/>
                  </a:gs>
                  <a:gs pos="50000">
                    <a:srgbClr val="ff9900"/>
                  </a:gs>
                  <a:gs pos="100000">
                    <a:srgbClr val="7647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657600" y="1697040"/>
            <a:ext cx="5181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диус = 60000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а = 569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г (5.69Е26 кг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тность = 0,7 г/см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тки = 10 часов 14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 орбиты = 26,73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= - 150°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утники = 30 штуки (Тита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2" descr="Вперед"/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Назад"/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aturn-ir"/>
          <p:cNvPicPr/>
          <p:nvPr/>
        </p:nvPicPr>
        <p:blipFill>
          <a:blip r:embed="rId1"/>
          <a:stretch/>
        </p:blipFill>
        <p:spPr>
          <a:xfrm>
            <a:off x="0" y="0"/>
            <a:ext cx="7924680" cy="63244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3"/>
          <p:cNvSpPr/>
          <p:nvPr/>
        </p:nvSpPr>
        <p:spPr>
          <a:xfrm>
            <a:off x="457200" y="353880"/>
            <a:ext cx="83818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турн с его кольцом - самая удивительная планета в солнечной системе. Широкое, совершенно плоское кольцо окружает экватор планеты, как шляпу - ее поля.Оно расположено наклонно к тому кругу, по которому Сатурн обходит Солнце за 29,5лет.Поэтому в зависимости от положения Сатурна на его пути кольцо поворачивается к нам то одной стороной, то другой. Каждые 15 лет оно располагается к нам ребром, и тогда его нельзя разглядеть даже в самые сильные телескопы, а это значит, что кольцо очень тонкое:его толщина не более 10-15к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9" descr="Назад"/>
          <p:cNvPicPr/>
          <p:nvPr/>
        </p:nvPicPr>
        <p:blipFill>
          <a:blip r:embed="rId2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124000" y="2781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5077440" y="119700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мерку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516720" y="3357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ур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8" descr="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27280" y="1052640"/>
            <a:ext cx="457200" cy="414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9"/>
          <p:cNvSpPr/>
          <p:nvPr/>
        </p:nvSpPr>
        <p:spPr>
          <a:xfrm>
            <a:off x="2556000" y="1341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лу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1" descr="Венер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620640"/>
            <a:ext cx="561960" cy="579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2"/>
          <p:cNvSpPr/>
          <p:nvPr/>
        </p:nvSpPr>
        <p:spPr>
          <a:xfrm>
            <a:off x="3924360" y="1125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вен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4140360" y="5734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юпит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2268360" y="3933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мар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8" descr="satri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867280" y="4508640"/>
            <a:ext cx="914400" cy="636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0"/>
          <p:cNvSpPr/>
          <p:nvPr/>
        </p:nvSpPr>
        <p:spPr>
          <a:xfrm>
            <a:off x="6230160" y="19890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непту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5940360" y="4941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сатур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4" descr="Uranv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rot="5400000">
            <a:off x="6644160" y="2580480"/>
            <a:ext cx="446040" cy="99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5" descr="p1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35640" y="9079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6" descr="sun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200400" y="1905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7"/>
          <p:cNvSpPr/>
          <p:nvPr/>
        </p:nvSpPr>
        <p:spPr>
          <a:xfrm>
            <a:off x="4114800" y="30621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4"/>
          <p:cNvSpPr/>
          <p:nvPr/>
        </p:nvSpPr>
        <p:spPr>
          <a:xfrm>
            <a:off x="1835280" y="6338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fea0d"/>
                </a:solidFill>
                <a:latin typeface="Times New Roman"/>
              </a:rPr>
              <a:t>Затм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0"/>
          <p:cNvSpPr/>
          <p:nvPr/>
        </p:nvSpPr>
        <p:spPr>
          <a:xfrm>
            <a:off x="6227640" y="6338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fea0d"/>
                </a:solidFill>
                <a:latin typeface="Times New Roman"/>
              </a:rPr>
              <a:t>Уч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1" descr="0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43640" y="1844640"/>
            <a:ext cx="304920" cy="3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2" descr="0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340000" y="350028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3" descr="jupiter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211640" y="4724280"/>
            <a:ext cx="892080" cy="1008360"/>
          </a:xfrm>
          <a:prstGeom prst="rect">
            <a:avLst/>
          </a:prstGeom>
          <a:ln w="0">
            <a:noFill/>
          </a:ln>
        </p:spPr>
      </p:pic>
      <p:sp>
        <p:nvSpPr>
          <p:cNvPr id="74" name="Oval 64"/>
          <p:cNvSpPr/>
          <p:nvPr/>
        </p:nvSpPr>
        <p:spPr>
          <a:xfrm>
            <a:off x="2057400" y="205740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5">
            <a:hlinkClick r:id="rId20" action="ppaction://hlinksldjump"/>
          </p:cNvPr>
          <p:cNvSpPr/>
          <p:nvPr/>
        </p:nvSpPr>
        <p:spPr>
          <a:xfrm>
            <a:off x="4067280" y="306864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8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57240">
            <a:solidFill>
              <a:srgbClr val="efea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0">
            <a:hlinkClick r:id="rId21" action="ppaction://hlinksldjump"/>
          </p:cNvPr>
          <p:cNvSpPr/>
          <p:nvPr/>
        </p:nvSpPr>
        <p:spPr>
          <a:xfrm>
            <a:off x="190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1">
            <a:hlinkClick r:id="rId22" action="ppaction://hlinksldjump"/>
          </p:cNvPr>
          <p:cNvSpPr/>
          <p:nvPr/>
        </p:nvSpPr>
        <p:spPr>
          <a:xfrm>
            <a:off x="60847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4">
            <a:hlinkClick r:id="rId23" action="ppaction://hlinksldjump"/>
          </p:cNvPr>
          <p:cNvSpPr/>
          <p:nvPr/>
        </p:nvSpPr>
        <p:spPr>
          <a:xfrm>
            <a:off x="2627280" y="4581360"/>
            <a:ext cx="1143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Десят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план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5" descr="ch13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1908000" y="177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jupiter"/>
          <p:cNvPicPr/>
          <p:nvPr/>
        </p:nvPicPr>
        <p:blipFill>
          <a:blip r:embed="rId2"/>
          <a:stretch/>
        </p:blipFill>
        <p:spPr>
          <a:xfrm>
            <a:off x="141120" y="343080"/>
            <a:ext cx="2525760" cy="2857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2743200" y="490680"/>
            <a:ext cx="723888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Maccа=1,9*10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27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иаметр=143760 к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лотность=1,31 г/см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Температура верхних облаков=-160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C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лина суток=9,93 ча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асстояние от Cолнца=5,203а.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ериод обращения по орбите(г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=11,86 л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корость вращения по орбите=13,1 км/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Ускорение свободного падения=25,8 м/c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7"/>
          <p:cNvSpPr txBox="1"/>
          <p:nvPr/>
        </p:nvSpPr>
        <p:spPr>
          <a:xfrm rot="5400000">
            <a:off x="-571680" y="430524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юпитер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Picture 11" descr="Вперед"/>
          <p:cNvPicPr/>
          <p:nvPr/>
        </p:nvPicPr>
        <p:blipFill>
          <a:blip r:embed="rId5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Назад"/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0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228600" y="1143000"/>
            <a:ext cx="8839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Юпитер, пятая и самая большая планета Солнечной систем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ее чем в два раза тяжелее, чем все другие план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месте взятые и почти в 318 раз тяжелее Земли. Облад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"солнечным" химическим составом, самая крупная план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ой системы имеет массу в 70 - 80 раз меньше то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которой небесное тело может стать звездой. Тем не мене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едрах Юпитера происходят процессы с достаточно мощ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нергетикой: тепловое излучение планеты, эквивалент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х1017 Вт, примерно в два раза превышает энерги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аемую этой планетой от Сол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Назад"/>
          <p:cNvPicPr/>
          <p:nvPr/>
        </p:nvPicPr>
        <p:blipFill>
          <a:blip r:embed="rId2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3276720" y="-228600"/>
            <a:ext cx="624816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а= 6,4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6670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3,95 г/см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-2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t=-150oC на полюсах,0oC на экватор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24,6229 ча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Cолнца(среднее)=1,5237а.е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687 земных су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24,1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3,7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WordArt 7"/>
          <p:cNvSpPr txBox="1"/>
          <p:nvPr/>
        </p:nvSpPr>
        <p:spPr>
          <a:xfrm rot="5400000">
            <a:off x="-485640" y="4162320"/>
            <a:ext cx="3429000" cy="1200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арс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966960" y="24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Марс"/>
          <p:cNvPicPr/>
          <p:nvPr/>
        </p:nvPicPr>
        <p:blipFill>
          <a:blip r:embed="rId4"/>
          <a:stretch/>
        </p:blipFill>
        <p:spPr>
          <a:xfrm>
            <a:off x="361800" y="636480"/>
            <a:ext cx="2000520" cy="1954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Вперед"/>
          <p:cNvPicPr/>
          <p:nvPr/>
        </p:nvPicPr>
        <p:blipFill>
          <a:blip r:embed="rId5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Назад"/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3"/>
          <p:cNvSpPr/>
          <p:nvPr/>
        </p:nvSpPr>
        <p:spPr>
          <a:xfrm>
            <a:off x="194328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0"/>
          <p:cNvPicPr/>
          <p:nvPr/>
        </p:nvPicPr>
        <p:blipFill>
          <a:blip r:embed="rId2"/>
          <a:stretch/>
        </p:blipFill>
        <p:spPr>
          <a:xfrm>
            <a:off x="1943280" y="800280"/>
            <a:ext cx="5257800" cy="525780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7"/>
          <p:cNvGrpSpPr/>
          <p:nvPr/>
        </p:nvGrpSpPr>
        <p:grpSpPr>
          <a:xfrm>
            <a:off x="3902040" y="800280"/>
            <a:ext cx="5224320" cy="360"/>
            <a:chOff x="3902040" y="800280"/>
            <a:chExt cx="5224320" cy="360"/>
          </a:xfrm>
        </p:grpSpPr>
        <p:sp>
          <p:nvSpPr>
            <p:cNvPr id="203" name="Rectangle 4"/>
            <p:cNvSpPr/>
            <p:nvPr/>
          </p:nvSpPr>
          <p:spPr>
            <a:xfrm>
              <a:off x="3902040" y="800280"/>
              <a:ext cx="522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3902040" y="800280"/>
              <a:ext cx="522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247680" y="847800"/>
            <a:ext cx="8648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ижайший сосед Земли со стороны, противоположной Солнц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мечателен своим красным цветом, напоминающим ого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роятно, за этот цвет древние римляне дали плане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я бога войны Мар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рс удален от Солнца в среднем на 228 млн. 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сь свой путь вокруг Солнца Марс проходит за 687 дн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 за 1 год и 11 месяцев. Поскольку Марс и Земля движу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дну и ту же сторону, Земля через каждые 2 года и 50 д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гоняет Марс на целый оборот; в это время Марс и Зем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ходятся по одну сторону от Солнца.Такое положение Мар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отношению к Земле астрономы называют противостоя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6" descr="Назад"/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Плутон и Херон"/>
          <p:cNvPicPr/>
          <p:nvPr/>
        </p:nvPicPr>
        <p:blipFill>
          <a:blip r:embed="rId2"/>
          <a:stretch/>
        </p:blipFill>
        <p:spPr>
          <a:xfrm>
            <a:off x="666720" y="609480"/>
            <a:ext cx="2457360" cy="21337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4"/>
          <p:cNvSpPr txBox="1"/>
          <p:nvPr/>
        </p:nvSpPr>
        <p:spPr>
          <a:xfrm>
            <a:off x="4572000" y="685800"/>
            <a:ext cx="4281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5e4776"/>
                    </a:gs>
                    <a:gs pos="100000">
                      <a:srgbClr val="cc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лутон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50000">
                    <a:srgbClr val="5e4776"/>
                  </a:gs>
                  <a:gs pos="100000">
                    <a:srgbClr val="cc99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80880" y="2809800"/>
            <a:ext cx="8610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1,3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Диаметр=2324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2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=-23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6,4 земных суток .Расстояние от Cолнца=29,6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инимальное) и 49,28 (максимальное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247,7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4,7 км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Вперед"/>
          <p:cNvPicPr/>
          <p:nvPr/>
        </p:nvPicPr>
        <p:blipFill>
          <a:blip r:embed="rId3"/>
          <a:stretch/>
        </p:blipFill>
        <p:spPr>
          <a:xfrm>
            <a:off x="104292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Меню"/>
          <p:cNvPicPr/>
          <p:nvPr/>
        </p:nvPicPr>
        <p:blipFill>
          <a:blip r:embed="rId4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Назад"/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Плутон  "/>
          <p:cNvPicPr/>
          <p:nvPr/>
        </p:nvPicPr>
        <p:blipFill>
          <a:blip r:embed="rId2"/>
          <a:stretch/>
        </p:blipFill>
        <p:spPr>
          <a:xfrm>
            <a:off x="3657600" y="0"/>
            <a:ext cx="1905120" cy="1593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0" y="1295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утон был открыт в 1930 году американским астрономом К. Томбо, но наши знания о нем начали формироваться лишь с развитием техники исследований( с 1976 года). Космические аппараты ещё не появлялись в окрестностях Плутона, поэтомувся информация получена наземными средствами.Орбита Плутона очень вытянута, поэтому иногда Плутон оказывается ближе к Солнцу, чем Нептун.Плутону при такой низкой температуре, какая царит так далеко от Солнца (-233° по Цельсию), под силу удержать атмосферу из  тяжелых  газов, и, судя по всему, она у него есть. В 1976 году на Плутоне обнаружили метановый лед. В 1992-м - азот и углерод, тоже замерзшие. Подобно Урану, Плутон вращается вобратном обычному направлении. Ось его вращения наклонена к плоскости эклиптики на 122°, так что планета движется "лежа на боку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5" descr="Назад"/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Солнце"/>
          <p:cNvPicPr/>
          <p:nvPr/>
        </p:nvPicPr>
        <p:blipFill>
          <a:blip r:embed="rId1"/>
          <a:stretch/>
        </p:blipFill>
        <p:spPr>
          <a:xfrm>
            <a:off x="0" y="0"/>
            <a:ext cx="9144000" cy="7267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228600" y="998640"/>
            <a:ext cx="86868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Масса  = 1.99* 10</a:t>
            </a:r>
            <a:r>
              <a:rPr b="0" lang="ru-RU" sz="2400" spc="-1" strike="noStrike" baseline="30000">
                <a:solidFill>
                  <a:srgbClr val="e8f220"/>
                </a:solidFill>
                <a:latin typeface="Times New Roman"/>
              </a:rPr>
              <a:t>30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Диаметр  = 1.392.000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Температура поверхности  =  5800</a:t>
            </a:r>
            <a:r>
              <a:rPr b="0" lang="ru-RU" sz="2400" spc="-1" strike="noStrike" baseline="30000">
                <a:solidFill>
                  <a:srgbClr val="e8f22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 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Период обращения вокруг оси  =  25 ч(полюса) -</a:t>
            </a:r>
            <a:r>
              <a:rPr b="0" lang="en-US" sz="2400" spc="-1" strike="noStrike">
                <a:solidFill>
                  <a:srgbClr val="e8f22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35 ч(экватор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Период обращения вокруг центра галактики  = 200.000.000 ле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Расстояние до центра галактики =25000 свет.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3886200" y="0"/>
            <a:ext cx="3429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лнце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3" descr="Впере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128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Назад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sun"/>
          <p:cNvPicPr/>
          <p:nvPr/>
        </p:nvPicPr>
        <p:blipFill>
          <a:blip r:embed="rId2"/>
          <a:stretch/>
        </p:blipFill>
        <p:spPr>
          <a:xfrm>
            <a:off x="3962520" y="15228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914400" y="1295280"/>
            <a:ext cx="769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олнце - это обычная звезда, возраст ее около 5 мил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олнечном ядре происходит превращение водорода в гелий с выделением огромного количества энергии. На поверхности Солнце имеет пятна, происходят яркие вспышки и можно увидеть взрывы. Солнечная атмосфера имеет толщину 500 км. и называется фотосферой. Благодоря конвекции в солнечной атмосфере, тепловая энергия из нижних слоев переносится в фотосферу, придавая ей пенистое строение. В отличие от Земли различные части Солнца вращаются с различными скоростями. Солнце будет еще существовать 5 миллиардов лет, постепенно нагреваясь и увеличиваясь в размер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3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7"/>
          <p:cNvSpPr txBox="1"/>
          <p:nvPr/>
        </p:nvSpPr>
        <p:spPr>
          <a:xfrm>
            <a:off x="380880" y="0"/>
            <a:ext cx="34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44c1e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роение солнца</a:t>
            </a:r>
            <a:endParaRPr b="0" lang="en-US" sz="2400" spc="1" strike="noStrike">
              <a:ln w="9360">
                <a:solidFill>
                  <a:srgbClr val="f44c1e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14" descr="меню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назад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sh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4"/>
          <p:cNvSpPr txBox="1"/>
          <p:nvPr/>
        </p:nvSpPr>
        <p:spPr>
          <a:xfrm>
            <a:off x="3324240" y="228600"/>
            <a:ext cx="421956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емля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72" descr="ch13"/>
          <p:cNvPicPr/>
          <p:nvPr/>
        </p:nvPicPr>
        <p:blipFill>
          <a:blip r:embed="rId2"/>
          <a:stretch/>
        </p:blipFill>
        <p:spPr>
          <a:xfrm>
            <a:off x="7772400" y="5257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5"/>
          <p:cNvSpPr/>
          <p:nvPr/>
        </p:nvSpPr>
        <p:spPr>
          <a:xfrm>
            <a:off x="609480" y="1523880"/>
            <a:ext cx="73915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са = 5.97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12756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5,518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58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,мин-9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 23ч 56мин4,1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Cолнца= 150 млн.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365,2су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: 29,8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: 9,8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диус = 6378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6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7" descr="меню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8" descr="назад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e14"/>
          <p:cNvPicPr/>
          <p:nvPr/>
        </p:nvPicPr>
        <p:blipFill>
          <a:blip r:embed="rId2"/>
          <a:stretch/>
        </p:blipFill>
        <p:spPr>
          <a:xfrm>
            <a:off x="2590920" y="1143000"/>
            <a:ext cx="441936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457200" y="685800"/>
            <a:ext cx="82296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я- одна из планет Солнечной системы. Подобно другим планетам, она движется вокруг Солнца по эллиптической орби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движения нашей планеты по орбите вокруг Солнца плоскость земного экватора (наклоненная к плоскости орбиты на угол 2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7') перемещается параллельно самой себе таким образом, что в одних участках орбиты земной шар наклонен к Солнцу своим северным полушарием, а в других- южны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57200" y="41148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гласно современным космогоническим представлениям, Земля образовалась 4,5 млрд. лет назад путем гравитационной конденсации из рассеянного в околосолнечном пространстве газопылевого вещества, содержавшегося все известные в природе химические элемент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9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venu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4"/>
          <p:cNvSpPr/>
          <p:nvPr/>
        </p:nvSpPr>
        <p:spPr>
          <a:xfrm>
            <a:off x="228600" y="890640"/>
            <a:ext cx="5867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а =48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поверхности =+48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тность =5.25 г/с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аметр =12104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а тяжести = 9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мосфера =Углекислый газ [96%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зот [3,5%] Прочее [0,5%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д =224 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15"/>
          <p:cNvSpPr txBox="1"/>
          <p:nvPr/>
        </p:nvSpPr>
        <p:spPr>
          <a:xfrm rot="2060400">
            <a:off x="5943240" y="609120"/>
            <a:ext cx="28954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енера</a:t>
            </a:r>
            <a:endParaRPr b="0" lang="en-US" sz="2400" spc="1" strike="noStrike">
              <a:ln w="38160">
                <a:solidFill>
                  <a:srgbClr val="0033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9" descr="впере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наза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Венера"/>
          <p:cNvPicPr/>
          <p:nvPr/>
        </p:nvPicPr>
        <p:blipFill>
          <a:blip r:embed="rId1"/>
          <a:stretch/>
        </p:blipFill>
        <p:spPr>
          <a:xfrm>
            <a:off x="1638360" y="0"/>
            <a:ext cx="6243480" cy="6324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914400" y="1184400"/>
            <a:ext cx="7391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нера, вторая по близости к Солнцу планета, почти такого же размера, как Земля. Орбита Венеры ближе к окружности, чем у любой другой планеты Солнечной Системы. Временами Венера подходит к Земле на расстояние, меньшее 40 млн. км. Венера вращается в обратном направлении - с востока на запад, а не с запада на восток, как Земля и большинство других планет, кроме Венеры и Урана. Период вращения Венеры вокруг оси относительно звёзд, звёздные сутки - длительный, около 243 земных сут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1" descr="наза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14:53:34Z</dcterms:created>
  <dc:creator>CyganokEI</dc:creator>
  <dc:description/>
  <dc:language>en-US</dc:language>
  <cp:lastModifiedBy>LEGION</cp:lastModifiedBy>
  <dcterms:modified xsi:type="dcterms:W3CDTF">2015-01-12T09:16:00Z</dcterms:modified>
  <cp:revision>82</cp:revision>
  <dc:subject/>
  <dc:title>Презентация PowerPoint</dc:title>
</cp:coreProperties>
</file>