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9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142640" y="447840"/>
            <a:ext cx="4568760" cy="390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56922-5D5F-454A-829C-27ED163203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3E97C-3AC6-41E7-83BF-0C2B19238F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DF2A-5BC0-4271-B685-4185160622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C9CF5-2308-4BE0-8D89-693E89DFD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6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Этиловый спирт относится к депрессантам ЦНС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воздействует на рецепторы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гамма-аминомаслянной кислоты (ГАМК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, одного из нейромедиаторов в центральной нервной системе и вызывает успокаивающий и снижающий тревогу эффек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44440">
              <a:lnSpc>
                <a:spcPct val="70000"/>
              </a:lnSpc>
              <a:spcBef>
                <a:spcPts val="300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тсюда следует, что совместное использование алкоголя и бензодиазепинов может привести к тяжелым последствиям в виде передозировки и излишнего подавления деятельности мозговых цен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Этанол блокирует действие нейротрансмиттера глютамата , который, как считается, обладает стимулирующим действие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DejaVu Sans"/>
              </a:rPr>
              <a:t>Алкогол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пособствует действию основного «успокаивающего» нейротрансмиттера мозга (ГАМК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подавляет действие основного «возбуждающего» нейротрансмиттера (глютамат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244440">
              <a:lnSpc>
                <a:spcPct val="70000"/>
              </a:lnSpc>
              <a:spcBef>
                <a:spcPts val="3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 результате, общее действие этанола определяется его успокаивающим и, в какой-то степени, снотворным действием. Подавление активности многочисленных центров центральной нервной системы приводит к снижению чувствительности к боли, или, как говорят, к анальгезирующему эффекту этанол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D8A87-6731-4FA1-8E6B-229F35B31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AF65E-C08D-4072-BEBC-6F0EA36121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Токсикогенная ста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когольная 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ушения внешнего дых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A61A4-E675-42B0-B7AE-8C824FAC94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D90C7-18B7-45AC-8C21-293BEDBF0F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18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AF080-F22D-4CF4-81DA-1FF1C907C1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́ти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читается что термин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ркот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Наркотики знакомы людям уже несколько тысяч лет. Их потребляли люди разных культур, в разных целях: во время религиозных обрядов, для восстановления сил, для изменения сознания, для снятия боли и неприятных ощущений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 Уже в дописьменный период мы имеем свидетельства того, что люди знали и использовали психоактивные химические вещества: алкоголь и растения, потребление которых влияет на сознание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Археологические исследования показали, что уже в 6400 г. до н.э. люди знали пиво и некоторые другие алкогольные напитки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Очевидно, процессы брожения были открыты случайно (виноградное вино, между прочим, появилось только в 4-3 вв. до н.э.). Первое письменное свидетельство использования интоксикантов – рассказ о пьянстве Ноя из Книги Бытия. Использовались и различные растения, вызывающие физиологические и психические изменения, обычно в религиозных обрядах или при проведении медицинских процедур. Пример – использование на Ближнем Востоке в 5 тыс. до н.э. "злака радости" (по всей видимости, опиумного мака). Около 2700 г. до н.э. в Китае уже использовали коноплю (в виде настоя, как чай): император Шен Нунг предписывал своим подданным принимать ее в качестве лекарства от подагры и рассеянности. Люди каменного века знали опиум, гашиш и кокаин и использовали эти наркотики для изменения сознания (в ходе религиозных обрядов) и при подготовке к сражению. На стенах погребальных комплексов индейцев Центральной и Южной Америки есть изображения людей, жующих листья коки (один из способов приема кокаина), датируемые серединой 3 тыс. до нашей эры. Нужно иметь в виду, что факт использования наркотика в одной культуре не дает нам права предполагать, что и в других культурах в это же самое время люди знали этот наркотик и употребляли его. Как и сейчас, в употреблении наркотиков людьми разных культур есть и сходства и различ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DejaVu San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85D23-1FF2-4F0F-97CC-0EE8A95120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1E91A-8B33-41B8-8D68-23E43647E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овременное представление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еречень наркотических средств, психотропных веществ и их прекурсоров,  подлежащих контролю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3 группы 1  в зависимости от мер контроля…особые,общие ,некоторые ме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ссмотрим таблицу лек препаратов способных вызывать к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EDEA1-EF3C-4633-84A6-1885F0091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611D2-49EC-4766-A429-BC069E5C4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A7742-7872-4B66-B423-9AF6F75CF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ятся к психотропным снотворным средст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стадии интокс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-засып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- поверхностн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- глубокой ко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- пробу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 настоящее время острые отравления снотворными преп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ами занимают одно из ведущих мест среди острых бы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интоксик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Препараты барбитуратовой кислоты (барбиту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раты), наиболее часто применяемые в медицине, следующ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енобарбитал (люминал), барбитал (веронал), барбитал-н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трий (мединал), этаминал-натрий (нембутал), гексобарбитал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др. Эта группа включает в себя препараты длительного дей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вия (8—12 часов) — барбитал, барбитал-натрий, фенобарб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средней продолжительности действия (6—8 часов) — барбами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этаминал-натрий; короткого действия (4—6 часов) — гексобар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бит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85998-F8ED-46D2-9C83-8D75C0E241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933D4-748F-4D5F-9960-75F9E05658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1 Через 30—60 м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бщая слаб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онлив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арушается координация движени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чь становится невнятн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меренно расширены, реагируют на св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мечается гиперсалив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ункции дыхания и кровообращения не наруш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степенно наступает глубокий сон или потеря созн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2 В состоянии п о в е р х н о с т н о 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жение зрачк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ы глотательный и кашлевой рефлек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нус мышц и сухожильные рефлексы снижа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аноз, тахикардия,гипото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2FDDC-04F8-4978-85F2-14BA1822A3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E46A0-1C3F-4DFD-8D6E-59D75B4F7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з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ступление нейротропных экзотоксинов извн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догенн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EA437-8CB9-4B4B-A401-6B82D8582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3    Для стадии г л у б о к о й ко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ы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лабление мускулатуры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рачки сужены (при асфиксии расширены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а гипертермия центрального гене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жа бледная, сух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Constanti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рушается резко гемодинамика (тахикардия, затем брадикардия, гипотония,коллапс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SzPct val="9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53548a"/>
                </a:solidFill>
                <a:latin typeface="Times New Roman"/>
              </a:rPr>
              <a:t>4     В периоде п о с т к о м а т о з н о г о состоя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3868D-457B-4607-BA16-0622E7BDB6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ом опия является опийный мак Papaver somnife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7CD4-5915-4942-AC1E-C15826661A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26920" y="447840"/>
            <a:ext cx="5200920" cy="3900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нешн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ие изменения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озировка            ко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следовательность лечебных мероприятий при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равлениях опиатами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) обеспечение адекватной вентиляции легких (туалет дыхательных путей, оксигенация, ИВ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) назначение адреномиметиков при снижении артериального давления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) мероприятия по удалению опиатов - промывание желудка, форсированный диурез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) дегидратационная терапия (маннит, лазикс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6) ощелачивание крови (3% раствор гидрокарбоната натрия 200-400 мл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) применение медикаментов, улучшающих метаболизм в ЦНС (пирацетам, актовегин и пр.);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) профилактика воспалительных осложнений (антибиотики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6E74B-74F9-4758-89D2-7069380901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A6766-BF83-4F61-AEB9-21A140C825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ченочно-клето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следствие  массивного некроза ,дистрофии гепатоцит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-Гепатит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ронические алкогольные интокс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a04da3"/>
              </a:buClr>
              <a:buSzPct val="95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окавальные шунты(при заболеваниях с портокавальным сбросом крови ,минуя печень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! –цирроз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ромбоз воротной в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пухоли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9EB54-D3C6-4896-AB2E-6E9B006EF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тогенез печеночной ко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Основ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факторы патогенеза печёночных 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 представлены на рисун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Гипогликемия. Является результатом нарушения гликогенеза и гликогенолиз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Ацидоз (метаболический, на финальных стадиях дополнительно развивается респираторный и выделительный ацидоз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Дисбаланс ионов в клетках, интерстициальной жидкости и в крови (в крови нарастает [К+], в клетках — [Na+], [Ca2+], [Н+]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Интоксикация организма — эндотоксинемия (особенно продуктами белкового и липидного обмена (!гипераммониемия,меркаптанемия,высокая концентрация свободных жирных кислот), а также непрямым билирубином, что обусловлено нарушением его трансформации и конъюгации с глюкуроновой кислотой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Нарушения центральной, органотканевой и микрогемоциркуляции как следствие сердечной недостаточности, нарушения тонуса артериол, развития феномена сладж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• Полиорганная недостаточность. Ранее всего и наиболее выраженно нарушается функции сердца, дыхательного и кардиовазомоторного центров. Последнее приводит к смешанной гипоксии, прекращению сердечной деятельности, дыхания и смерти пациен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7D882-1DD8-4CB9-8856-CF20F202B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643BB-C94A-4F85-A42A-4E1B603CF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стадии развития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1- преко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2-угрожающая ко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воеобразный хлопающий тремор пальцев рук,тремор век и г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3548a"/>
                </a:solidFill>
                <a:latin typeface="Times New Roman"/>
              </a:rPr>
              <a:t>3- собственно ко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«печеночный» запах , желтуха ,кожный зуд , расчёсы ,печёночные ладо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еморрагический синдром (язык малиновый , сосочки сглаже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ёчно-асцитический синдром,; олигу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типа Куссмау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лихорадка ,пальпация печени болезнен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232F1-543C-4626-ABA6-5BC25D7027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B4953-D0FC-465A-A1CC-BE774FA27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лейкоцитоз , анем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иперазотемия , ускорение СОЭ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и снижении уровня общего белка и альбуминов ,  высокий уровень гамма-глобулинов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факторов свёртыван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уровня калия , ↓ холестер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↑↑↑ билируб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↓ аминотрансфераз и холинэстеразы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ча :темно-желт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a04da3"/>
                </a:solidFill>
                <a:latin typeface="Times New Roman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BE29F-95B0-4BEE-8555-2A70367473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нальная стадия ХП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a04da3"/>
                </a:solidFill>
                <a:latin typeface="Times New Roman"/>
              </a:rPr>
              <a:t>Этиология ХП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гломеру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иело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стициальный нефр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иабетический неф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милоид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ликистоз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ллагено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миелом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20CC8-41E8-482D-9600-9A27D820D2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ическое нарушение функции по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ой фильтрации до 10 мл/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↑↑↑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ови мочевины выше 30 ммоль/л,креатинин выше 1000 ммоль /л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ше 150 ммоль/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a04da3"/>
              </a:buClr>
              <a:buSzPct val="95000"/>
              <a:buFont typeface="Symbol" charset="2"/>
              <a:buChar char="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AAFA6-05CF-4842-879B-C299A99F11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28720" y="449280"/>
            <a:ext cx="5200560" cy="3902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смотр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чечные  отё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рачки узк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фибриллярные подёргивания мышц,судороги.сухожильные рефлексы повышены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зо рта запах амми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оны сердца громкие, можно выслушать шум трения перика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Характерна олигурия или анур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абораторные 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  мочевина  выше 30 м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атинин - выше1000 мкмоль/л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АМ     Осмолярность   ниже 500 мосм/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убочковая фильтрация ниже 10 мл/м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336C-D41A-4B22-A24A-BE1F3F0E5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CF3BA-AD5F-4C2D-A75D-51BEC11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B64E-3403-4119-B5F4-9ED68E6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3EDF-5BD5-433A-AE28-3BD30602E8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E9E2-2880-48EF-AF14-9B26F1B807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CD550-6C9C-41F2-A339-EC141AC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B67E-60CB-434B-B2AF-F0B78A35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128E-9858-497B-9F46-658D874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C821-7365-4567-9053-EBC37C0C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7E84F-3FA8-461C-A7E0-B1449EF1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C4DBE-58AF-492D-BFDF-E464184C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F2EC-8A12-484B-8B3D-F805EF4E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8F08-CEA4-46AF-BB18-F43444C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E936D-9BCD-4C36-96EE-80C3E209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0288-A490-48F4-890E-5C2A11E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C711A-BFBE-44DC-AE13-ED180767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BCAE-9AE8-45AC-850C-5393F57CBA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CF73-34B1-40D0-B120-C1C8D7B1E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0B0E-9149-415A-BD9E-9905E196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2A6B-67B4-41C1-B1EA-812E5E6B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955-2AB3-4894-BDB8-FEC0C0C8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FEAC-24D2-4F0B-B6F9-91B3A13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EC20-9CD7-4E93-A421-86044F7A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FCDE-D5BE-4747-B597-D7CCB1AF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C521-4E3F-4F51-AEC6-8EBBDC81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8D79-2B55-4B96-B3A8-F08757F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0F17-861C-471D-9407-42636C7E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3819-B68D-40BF-BC58-7311B87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FFBA-AA89-41BD-A23C-7C0E21F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2A32-4821-4DC8-9FB7-91A4DBCA04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44EE9-C634-4816-9F52-9EF7298BF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1319D-9F02-46F3-9087-40D0E6D5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2D732-10C3-4368-943F-BB1B9C65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447E-24A5-4F53-80EC-2053A524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A0EFC-82D6-490B-A75A-5396804B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100AD-82B9-4838-A7FA-FF9DE126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01D86-1C7B-487D-82C4-B8CE0BD6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86B8E-8355-472C-8BE4-069FF26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249E1-7FC9-4C76-B671-2DFF6D4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8E383-5828-4CF1-A82E-BC387ECE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0C408-545B-4BC6-B7C5-716F2E5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62494-29D1-4792-B69D-0D396B1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B70D8-B4A5-4641-B579-BEF3A4C9A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F4F4-6F65-4816-8958-B40F62AE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486000"/>
            <a:ext cx="822636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AC35-1178-4E0A-BC47-CC801DF3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2D6D-BB58-4B1F-8AA6-F3E9D11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5853-BFB7-41AD-9D0E-F5C4C8A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065C-8FE7-440E-B2A6-49069A8F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760A8-F701-4005-9301-7C291725BF9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8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8" name="Group 9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Group 12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5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5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5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9F9F93E-003F-43F1-AE7C-6D373BF5E7F4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-19080" y="203040"/>
            <a:ext cx="9178920" cy="646200"/>
            <a:chOff x="-19080" y="203040"/>
            <a:chExt cx="9178920" cy="646200"/>
          </a:xfrm>
        </p:grpSpPr>
        <p:grpSp>
          <p:nvGrpSpPr>
            <p:cNvPr id="103" name="Group 4"/>
            <p:cNvGrpSpPr/>
            <p:nvPr/>
          </p:nvGrpSpPr>
          <p:grpSpPr>
            <a:xfrm>
              <a:off x="-19080" y="203040"/>
              <a:ext cx="9159480" cy="646200"/>
              <a:chOff x="-19080" y="203040"/>
              <a:chExt cx="9159480" cy="646200"/>
            </a:xfrm>
          </p:grpSpPr>
          <p:pic>
            <p:nvPicPr>
              <p:cNvPr id="10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0" y="203040"/>
                <a:ext cx="913752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6"/>
              <p:cNvSpPr/>
              <p:nvPr/>
            </p:nvSpPr>
            <p:spPr>
              <a:xfrm rot="21420000">
                <a:off x="-18720" y="478080"/>
                <a:ext cx="108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Group 7"/>
            <p:cNvGrpSpPr/>
            <p:nvPr/>
          </p:nvGrpSpPr>
          <p:grpSpPr>
            <a:xfrm>
              <a:off x="-19080" y="247680"/>
              <a:ext cx="9178920" cy="563400"/>
              <a:chOff x="-19080" y="247680"/>
              <a:chExt cx="9178920" cy="563400"/>
            </a:xfrm>
          </p:grpSpPr>
          <p:pic>
            <p:nvPicPr>
              <p:cNvPr id="10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308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9"/>
              <p:cNvSpPr/>
              <p:nvPr/>
            </p:nvSpPr>
            <p:spPr>
              <a:xfrm rot="21420000">
                <a:off x="-18720" y="522360"/>
                <a:ext cx="10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4d4d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DF3B36-22A9-4B00-B7C2-7C1AB9C7E327}" type="slidenum">
              <a:rPr b="0" lang="ru-RU" sz="1200" spc="-1" strike="noStrike">
                <a:solidFill>
                  <a:srgbClr val="d4d4d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AutoShape 2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52fa9"/>
              </a:gs>
              <a:gs pos="100000">
                <a:srgbClr val="2a606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e7a81"/>
              </a:gs>
              <a:gs pos="100000">
                <a:srgbClr val="7d2c8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486000"/>
            <a:ext cx="822636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3f405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7F1EFB-7307-48E3-9B8A-31A2CC9DCF2A}" type="slidenum">
              <a:rPr b="0" lang="ru-RU" sz="1200" spc="-1" strike="noStrike">
                <a:solidFill>
                  <a:srgbClr val="3f405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3949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642960" y="4214880"/>
            <a:ext cx="80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уденческий научный кружок кафедры госпитальной терапии № 2 РГМ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а Рейхтман Т.Б.   Гр. 607 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Алкогольн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14200" y="1643040"/>
            <a:ext cx="878688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звана употреблением этилового спирта и его суррогатов (денатураты,одеколоны,лосьоны, морилка,метиловый спирт, этиленкликол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1440" indent="-270000"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 развивается при концентрации этанола в крови около 3 г/л, летальный исход - выше 5 г/л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85840" y="0"/>
            <a:ext cx="86439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53548a"/>
                </a:solidFill>
                <a:latin typeface="Calibri"/>
                <a:ea typeface="Times New Roman"/>
              </a:rPr>
              <a:t>Механизм токсического действия и патогенез интоксикации этанолом</a:t>
            </a:r>
            <a:r>
              <a:rPr b="1" lang="ru-RU" sz="1800" spc="-1" strike="noStrike">
                <a:solidFill>
                  <a:srgbClr val="53548a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26" name="Group 2"/>
          <p:cNvGrpSpPr/>
          <p:nvPr/>
        </p:nvGrpSpPr>
        <p:grpSpPr>
          <a:xfrm>
            <a:off x="2362320" y="1000080"/>
            <a:ext cx="4417920" cy="5856480"/>
            <a:chOff x="2362320" y="1000080"/>
            <a:chExt cx="4417920" cy="5856480"/>
          </a:xfrm>
        </p:grpSpPr>
        <p:pic>
          <p:nvPicPr>
            <p:cNvPr id="227" name="Picture 3" descr=""/>
            <p:cNvPicPr/>
            <p:nvPr/>
          </p:nvPicPr>
          <p:blipFill>
            <a:blip r:embed="rId1"/>
            <a:stretch/>
          </p:blipFill>
          <p:spPr>
            <a:xfrm>
              <a:off x="2362320" y="1000080"/>
              <a:ext cx="4417920" cy="585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4"/>
            <p:cNvSpPr/>
            <p:nvPr/>
          </p:nvSpPr>
          <p:spPr>
            <a:xfrm>
              <a:off x="2362320" y="1000080"/>
              <a:ext cx="4417920" cy="58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28760" y="212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клиник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57200" y="1357200"/>
            <a:ext cx="8229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3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токсикогенной стадии — алкогольная кома, нарушения внешнего дыхания, нарушения гемодинамики;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соматогенной стадии — психоневрологические расстройства, воспалительные поражения органов дыхания, миоренальный синдром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Токсикогенная стад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Алкогольная ком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еспецифична и не зависит от концентрац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сли лечение алкогольной комы не приводит к положительной динамики в состоянии больного в течение 3 часов, то, либо имеются нераспознанные осложнения (например, черепно-мозговая травма), либо причиной комы послужило не алкогольное отравлени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арушения внешнего дыхания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условлены обтурационно-аспирационными осложнениями вследствие гиперсаливации, бронхореи, ларинго-бронхоспазма, аспирации рвотных масс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рушение по центральному типу — причина смерти на догоспитальном этапе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рушения гемодинамик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зможны стойкие нарушения ритма и проводимости сердц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?!  нарушение регуляции сосудистого тонуса и гиповолемией, которые наиболее выражены при глубокой алкогольной ком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Соматогенная стадия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дорож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оренальный синдром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3 стадии алкогольной комы: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адии наблюдается гипертонус мышц конечностей, тризм жевательной мускулатуры, фибрилляции мышц, рефлексы сохранены. Зрачки узкие, глазные яблоки ≪плавают≫, лицо гиперемировано; гиперсаливация, рво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 II стадии мышечный тонус и сухожильные рефлексы исчезают, но двигательная реакция на болевые раздражения сохраняется. Артериальное давление снижается, пульс частый, слабый. Дыхание замедляется. Непроизвольные мочеиспускания и дефекац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III стадии дыхание становится аритмичным, редким, клокочущим; нарастает цианоз лица и акроцианоз, зрачки расширяются, склеры резко инъецированы. Артериальное давление и ЦВД низкие, пульс нитевидный, часто аритмичный. Чувствительность и рефлексы отсутствуют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360360" y="2519280"/>
            <a:ext cx="324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Тактика ведения пациента с острой интоксикац алкоголем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34" name="Group 2"/>
          <p:cNvGrpSpPr/>
          <p:nvPr/>
        </p:nvGrpSpPr>
        <p:grpSpPr>
          <a:xfrm>
            <a:off x="3357720" y="142920"/>
            <a:ext cx="5279760" cy="6713640"/>
            <a:chOff x="3357720" y="142920"/>
            <a:chExt cx="5279760" cy="6713640"/>
          </a:xfrm>
        </p:grpSpPr>
        <p:pic>
          <p:nvPicPr>
            <p:cNvPr id="235" name="Picture 3" descr=""/>
            <p:cNvPicPr/>
            <p:nvPr/>
          </p:nvPicPr>
          <p:blipFill>
            <a:blip r:embed="rId1"/>
            <a:stretch/>
          </p:blipFill>
          <p:spPr>
            <a:xfrm>
              <a:off x="3357720" y="142920"/>
              <a:ext cx="5279760" cy="671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"/>
            <p:cNvSpPr/>
            <p:nvPr/>
          </p:nvSpPr>
          <p:spPr>
            <a:xfrm>
              <a:off x="3357720" y="142920"/>
              <a:ext cx="5279760" cy="67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Наркотическая кома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́ти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греч. narkotikós — приводящий в оцепенение, одурманивающий) — группа веществ вызывающих физическую зависимость, не связанных с нормальной жизнедеятельностью. Как следствие из данного определения: Наркотики — вещества, способные вызвать болезнь наркомани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ется что термин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ркот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ναρκωτικός) был впервые употреблен греческим целителем Галеном, в частности для описания веществ, вызывающих потерю чувствительности или паралич. Данный термин также употреблял Гиппократ. В качестве таких веществ Гален, например, упоминал корень мандрагоры, семена эклаты и мака (опиум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"/>
          <p:cNvGrpSpPr/>
          <p:nvPr/>
        </p:nvGrpSpPr>
        <p:grpSpPr>
          <a:xfrm>
            <a:off x="0" y="142920"/>
            <a:ext cx="9142560" cy="6213600"/>
            <a:chOff x="0" y="142920"/>
            <a:chExt cx="9142560" cy="6213600"/>
          </a:xfrm>
        </p:grpSpPr>
        <p:pic>
          <p:nvPicPr>
            <p:cNvPr id="24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142920"/>
              <a:ext cx="9142560" cy="621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0" y="142920"/>
              <a:ext cx="9142560" cy="62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"/>
          <p:cNvGrpSpPr/>
          <p:nvPr/>
        </p:nvGrpSpPr>
        <p:grpSpPr>
          <a:xfrm>
            <a:off x="214200" y="214200"/>
            <a:ext cx="8642520" cy="6284880"/>
            <a:chOff x="214200" y="214200"/>
            <a:chExt cx="8642520" cy="6284880"/>
          </a:xfrm>
        </p:grpSpPr>
        <p:pic>
          <p:nvPicPr>
            <p:cNvPr id="243" name="Picture 2" descr=""/>
            <p:cNvPicPr/>
            <p:nvPr/>
          </p:nvPicPr>
          <p:blipFill>
            <a:blip r:embed="rId1"/>
            <a:stretch/>
          </p:blipFill>
          <p:spPr>
            <a:xfrm>
              <a:off x="214200" y="214200"/>
              <a:ext cx="8642520" cy="62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"/>
            <p:cNvSpPr/>
            <p:nvPr/>
          </p:nvSpPr>
          <p:spPr>
            <a:xfrm>
              <a:off x="214200" y="214200"/>
              <a:ext cx="8642520" cy="62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барбитурат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457200" y="1500120"/>
            <a:ext cx="82296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носятся к психотропным снотворным средства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енобарбитал (люминал), барбитал (веронал), барбитал-натрий (мединал), этаминал-натрий (нембутал), гексобарбит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 стадии интоксикац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-засыпани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- поверхностн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 глубокой комы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- пробужд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1 Через 30—60 м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бщая слаб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онливость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нарушается координация движений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речь становится невнятной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Зрачки умеренно расширены, реагируют на свет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мечается гиперсаливац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Функции дыхания и кровообращения не наруше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Постепенно наступает глубокий сон или потеря созна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2 В состоянии п о в е р х н о с т н о й комы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ужение зрачков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хранены глотательный и кашлевой рефлекс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онус мышц и сухожильные рефлексы снижаютс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ианоз, тахикардия,гипото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о механическая асфиксия (аспирация слюной, рвотными массами, западение языка, спазм гортани) или угнетения дыхательного центр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687240"/>
            <a:ext cx="822960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424456"/>
                </a:solidFill>
                <a:latin typeface="Calibri"/>
              </a:rPr>
              <a:t>Интоксикация </a:t>
            </a:r>
            <a:r>
              <a:rPr b="0" lang="ru-RU" sz="2800" spc="-1" strike="noStrike">
                <a:solidFill>
                  <a:srgbClr val="424456"/>
                </a:solidFill>
                <a:latin typeface="Calibri"/>
              </a:rPr>
              <a:t>-(от латин. приставки in - «в» и греч. toxikon — яд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з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ступление нейротропных экзотоксинов извн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ндоген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ри недостаточности функции различных органов и =&gt; накоплении нейротропных эндотоксинов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a04da3"/>
              </a:buClr>
              <a:buFont typeface="Wingdings" charset="2"/>
              <a:buChar char="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ксины действуют на межнейрональные связи и приводят к стойким нарушениям сознания  вплоть до ком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57200" y="428760"/>
            <a:ext cx="82296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3    Для стадии г л у б о к о й комы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флексы отсутствую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слабление мускулатур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рачки сужены (при асфиксии расширены)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озможна гипертермия центрального генез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ожа бледная, сух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ыхание учащается или урежается,ритм становится неправильным (типа Чейна-Стокса). Возможны остановка дыхания, отек легких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Constantia"/>
              <a:buChar char="-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ушается резко гемодинамика (тахикардия, затем брадикардия, гипотония,коллапс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3548a"/>
                </a:solidFill>
                <a:latin typeface="Constantia"/>
              </a:rPr>
              <a:t>4     В периоде п о с т к о м а т о з н о г о состоя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тепенновосстанавливается деятельность ЦНС, исчезает арефлексия. Однако нарушена координация движений. Типичны нарушения психической деятельности (депрессия, двигательное беспокойство, эмоциональная лабильность)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6215040" y="0"/>
            <a:ext cx="284148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662400" y="9288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а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357120" y="1928880"/>
            <a:ext cx="842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сточником опия является опийный мак Papaver somniferu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428760" y="2214720"/>
            <a:ext cx="814392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и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Й-СЫРЕЦ — в свежем виде липкая, смолоподобная пластичная масса, темно-коричневого цвета, с характерным лакричным запахом. По мере старения пластичность исчезает, масса становится твердой и хрупкой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БРАБОТАННЫЙ (ЭКСТРАКЦИОННЫЙ) ОПИЙ - продукт, получаемый из опия-сырца путем различной обработки, обычно методом водной экстракции, фильтрования и выпаривания воды. МЕДИЦИНСКИЙ ОПИЙ — тонкий порошок светло-коричневого цвета с содержанием морфина 9,5—10,5%. Включает добавки «разбавителей»: лактозу, крахмал и другие компоненты. Имеет характерный запах оп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АНТОПОН (ОМНОПОН) — светло-коричневый порошок легко растворимый в воде, содержит 48—50% морфин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ПИУМНЫЕ ШЛАКИ — продукт, остающийся в трубке после курения опия, еще содержит значительные количества морфина. Смешивается с сырцом или обработанным опием для дальнейшего использова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2876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Внешн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ильное сужение зрачков; глаза слегка красноватые и сильно блестят; синяки под глазами; поверхностное прерывистое замедленное дыхание; кожный зуд (особенно нос); вялый и сонный вид; сбивчивая речь; пассивность и общая расслабленность; апатичность ко всему, кроме себя; эйфория и беззаботность; чрезмерная "смелость" и решимость; нервозность; и т.п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Физиологические изменения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сухость кожи и слизистых покровов (губ, языка); поверхностный сон; уменьшение выделения мочи; частые запоры; при простуде отсутствует кашель; небольшое понижение температуры те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ередозировка            ко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Стрелка вправо 3"/>
          <p:cNvSpPr/>
          <p:nvPr/>
        </p:nvSpPr>
        <p:spPr>
          <a:xfrm>
            <a:off x="3000240" y="5214960"/>
            <a:ext cx="40644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6760" y="999720"/>
            <a:ext cx="822636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ледовательность лечебных мероприятий при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травлениях опиатам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зависит от состояния больного. Исходя из патогенеза и особенностей развития клиники отравления, целесообразно сочетать следующие группы лечебных мероприятий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обеспечение адекватной вентиляции легких (туалет дыхательных путей, оксигенация, ИВ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) антидотная терапия (введение налоксона (1-2 мл), при его отсутствии кордиамина (2-4 мл) внутривенно струйно) повторно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) назначение адреномиметиков при снижении артериального давления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) мероприятия по удалению опиатов - промывание желудка, форсированный диурез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) дегидратационная терапия (маннит, лазикс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) ощелачивание крови (3% раствор гидрокарбоната натрия 200-400 мл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) применение медикаментов, улучшающих метаболизм в ЦНС (пирацетам, актовегин и пр.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) профилактика воспалительных осложнений (антибиотики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6840" y="2571840"/>
            <a:ext cx="82263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Печёночн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14200" y="1571760"/>
            <a:ext cx="86439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иолог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еченочно-клеточная недостаточност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(вследствие  массивного некроза ,дистрофии гепатоцитов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-Гепатит 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влияние гепатотропных ядов (дихлорэтан,мышьяк,фосфор,этанол,четырёххлористый углерод,толуол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бочные эффекты приема различных медикаментов (антидепрессантов, сульфаниламидов, туберкулостатиков,фторотана,тетрациклин,левомицетин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ронические алкогольные интоксикаци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ртокавальные шунты(при заболеваниях с портокавальным сбросом крови ,минуя печень 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?! –цирроз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ромбоз воротной вены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400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пухоли печен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28760" y="121428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3548a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атогенез печеночной ком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0" y="1857240"/>
            <a:ext cx="8999640" cy="4427640"/>
            <a:chOff x="0" y="1857240"/>
            <a:chExt cx="8999640" cy="442764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857240"/>
              <a:ext cx="89996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0" y="1857240"/>
              <a:ext cx="89996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58104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печёночн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260360" y="20908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 стадии развития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1- преко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2-угрожающая ком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Своеобразный хлопающий тремор пальцев рук,тремор век и гу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53548a"/>
                </a:solidFill>
                <a:latin typeface="Constantia"/>
              </a:rPr>
              <a:t>3- собственно ком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«печеночный» запах , желтуха ,кожный зуд , расчёсы ,печёночные ладо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еморрагический синдром (язык малиновый , сосочки сглажены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отёчно-асцитический синдром,; олигур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дыхание  типа Куссмаул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лихорадка ,пальпация печени болезнен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536400"/>
            <a:ext cx="8229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лейкоцитоз , анемия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гиперазотемия , ускорение СОЭ 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ри снижении уровня общего белка и альбуминов ,  высокий уровень гамма-глобулинов 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факторов свёртывания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уровня калия , ↓ холестерин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↑↑↑ билирубин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↓ аминотрансфераз и холинэстеразы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ча :темно-желта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a04da3"/>
                </a:solidFill>
                <a:latin typeface="Constantia"/>
              </a:rPr>
              <a:t>=&gt; Смерть от остановки дыхания , острого отёка мозга, отёка лёгких ,  почечной недостаточности ,  инфекционно-токсического шок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Уремическая кома.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61880" y="1889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инальная стадия ХП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Wingdings" charset="2"/>
              <a:buChar char="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a04da3"/>
                </a:solidFill>
                <a:latin typeface="Constantia"/>
              </a:rPr>
              <a:t>Этиология ХП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гломеру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иело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интерстициальный нефри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диабетический нефросклер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амилоидоз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поликистоз поче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коллагеноз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миеломная боле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Патогенез уремической комы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итическое нарушение функции поч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лубочковой фильтрации до 10 мл/ми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↑↑↑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рови мочевины выше 30 ммоль/л,креатинин выше 1000 ммоль /л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 150 ммоль/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spcBef>
                <a:spcPts val="649"/>
              </a:spcBef>
              <a:buClr>
                <a:srgbClr val="a04da3"/>
              </a:buClr>
              <a:buFont typeface="Symbol" charset="2"/>
              <a:buChar char="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аболический ацидоз.отёк головного мозга,нарушение микроцеркуляции,нарушение мозгового кровообращ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428760" y="19080"/>
            <a:ext cx="8229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Клинические особенности уремической ком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428760" y="1071720"/>
            <a:ext cx="822960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чало постепенно,предшествуют головные боли,ухудшение зрения,кожный зуд,тошнота,рвота,судороги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осмотр 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кожные покровы и видимые слизистые бледные сухие, на коже возможна «уремическая пудра»,расчёсы геморраги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почечные  отёки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зрачки узк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фибриллярные подёргивания мышц,судороги.сухожильные рефлексы повышены 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дыхание  вначале глубокое шумное (типа Куссмауля ),затем поверхностное,неправильное типа Чейна Стокс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Изо рта запах аммиак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Тоны сердца громкие, можно выслушать шум трения перикарда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-Характерна олигурия или анурия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Лабораторные данны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  мочевина  выше 30 м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атинин - выше1000 мкмоль/л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трии - выше 150 ммоль/л; осмолярность плазмы - выше 330мосм/л.    декомпрессированный метаболический ацидоз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АМ     Осмолярность   ниже 500 мосм/л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69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лубочковая фильтрация ниже 10 мл/м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2:07:46Z</dcterms:created>
  <dc:creator>томсон</dc:creator>
  <dc:description/>
  <dc:language>en-US</dc:language>
  <cp:lastModifiedBy>LEGION</cp:lastModifiedBy>
  <dcterms:modified xsi:type="dcterms:W3CDTF">2014-11-07T11:28:34Z</dcterms:modified>
  <cp:revision>91</cp:revision>
  <dc:subject/>
  <dc:title>Комы при интоксикациях алкогольная наркотическая уремическая печеночная</dc:title>
</cp:coreProperties>
</file>