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dt" idx="9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Img"/>
          </p:nvPr>
        </p:nvSpPr>
        <p:spPr>
          <a:xfrm>
            <a:off x="1142640" y="447840"/>
            <a:ext cx="4568760" cy="390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06BC0-F535-493C-AA7E-FA4D651A40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0543C-2A89-4994-B46F-5418F4A8FE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ED5A2-ACB6-4ACC-B1FF-4C583A35AD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Алкогольная 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звана употреблением этилового спирта и его суррогатов (денатураты,одеколоны,лосьоны, морилка,метиловый спирт, этиленклико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 развивается при концентрации этанола в крови около 3 г/л, летальный исход - выше 5 г/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B8461-0617-4F34-94AF-FDB4F6480F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53548a"/>
                </a:solidFill>
                <a:latin typeface="Calibri"/>
                <a:ea typeface="Times New Roman"/>
              </a:rPr>
              <a:t>Механизм токсического действия и патогенез интоксикации этанолом</a:t>
            </a:r>
            <a:r>
              <a:rPr b="1" lang="ru-RU" sz="1600" spc="-1" strike="noStrike">
                <a:solidFill>
                  <a:srgbClr val="53548a"/>
                </a:solidFill>
                <a:latin typeface="Calibri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Этиловый спирт относится к депрессантам ЦНС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Этанол воздействует на рецепторы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гамма-аминомаслянной кислоты (ГАМК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, одного из нейромедиаторов в центральной нервной системе и вызывает успокаивающий и снижающий тревогу эффек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160" indent="-244440">
              <a:lnSpc>
                <a:spcPct val="7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Отсюда следует, что совместное использование алкоголя и бензодиазепинов может привести к тяжелым последствиям в виде передозировки и излишнего подавления деятельности мозговых цент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Этанол блокирует действие нейротрансмиттера глютамата , который, как считается, обладает стимулирующим действие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Алкогол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способствует действию основного «успокаивающего» нейротрансмиттера мозга (ГАМК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подавляет действие основного «возбуждающего» нейротрансмиттера (глютамата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В результате, общее действие этанола определяется его успокаивающим и, в какой-то степени, снотворным действием. Подавление активности многочисленных центров центральной нервной системы приводит к снижению чувствительности к боли, или, как говорят, к анальгезирующему эффекту этанол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E5D1E-EFEA-4C05-B6A7-F68217D71C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780E8-99CF-487F-8538-5D141B2004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токсикогенной стадии — алкогольная кома, нарушения внешнего дыхания, нарушения гемодинам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оматогенной стадии — психоневрологические расстройства, воспалительные поражения органов дыхания, миоренальный синд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Токсикогенная стад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когольная 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пецифична и не зависит от концентр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лечение алкогольной комы не приводит к положительной динамики в состоянии больного в течение 3 часов, то, либо имеются нераспознанные осложнения (например, черепно-мозговая травма), либо причиной комы послужило не алкогольное отравл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рушения внешнего дых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условлены обтурационно-аспирационными осложнениями вследствие гиперсаливации, бронхореи, ларинго-бронхоспазма, аспирации рвотных мас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ушение по центральному типу — причина смерти на догоспитальном этап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гемодинам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зможны стойкие нарушения ритма и проводимости сердц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?!  нарушение регуляции сосудистого тонуса и гиповолемией, которые наиболее выражены при глубокой алкогольной ком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Соматогенная стад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удорожный синд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оренальный синд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DEE39-9E54-4E10-8FFE-0CECE5078D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3 стадии алкогольной ко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дии наблюдается гипертонус мышц конечностей, тризм жевательной мускулатуры, фибрилляции мышц, рефлексы сохранены. Зрачки узкие, глазные яблоки ≪плавают≫, лицо гиперемировано; гиперсаливация, рво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II стадии мышечный тонус и сухожильные рефлексы исчезают, но двигательная реакция на болевые раздражения сохраняется. Артериальное давление снижается, пульс частый, слабый. Дыхание замедляется. Непроизвольные мочеиспускания и дефек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III стадии дыхание становится аритмичным, редким, клокочущим; нарастает цианоз лица и акроцианоз, зрачки расширяются, склеры резко инъецированы. Артериальное давление и ЦВД низкие, пульс нитевидный, часто аритмичный. Чувствительность и рефлексы отсутствуют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0B468-8A8B-4B37-A584-180899E98C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Тактика ведения пациента с острой интоксикац алкоголем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31290-A43E-444F-8C76-4AF3F68B66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424456"/>
                </a:solidFill>
                <a:latin typeface="Calibri"/>
              </a:rPr>
              <a:t>Наркотическая ком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рко́тики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(от греч. narkotikós — приводящий в оцепенение, одурманивающий) — группа веществ вызывающих физическую зависимость, не связанных с нормальной жизнедеятельностью. Как следствие из данного определения: Наркотики — вещества, способные вызвать болезнь наркоманию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читается что термин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ркотик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(ναρκωτικός) был впервые употреблен греческим целителем Галеном, в частности для описания веществ, вызывающих потерю чувствительности или паралич. Данный термин также употреблял Гиппократ. В качестве таких веществ Гален, например, упоминал корень мандрагоры, семена эклаты и мака (опиум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Наркотики знакомы людям уже несколько тысяч лет. Их потребляли люди разных культур, в разных целях: во время религиозных обрядов, для восстановления сил, для изменения сознания, для снятия боли и неприятных ощущений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 Уже в дописьменный период мы имеем свидетельства того, что люди знали и использовали психоактивные химические вещества: алкоголь и растения, потребление которых влияет на сознание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Археологические исследования показали, что уже в 6400 г. до н.э. люди знали пиво и некоторые другие алкогольные напитк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Очевидно, процессы брожения были открыты случайно (виноградное вино, между прочим, появилось только в 4-3 вв. до н.э.). Первое письменное свидетельство использования интоксикантов – рассказ о пьянстве Ноя из Книги Бытия. Использовались и различные растения, вызывающие физиологические и психические изменения, обычно в религиозных обрядах или при проведении медицинских процедур. Пример – использование на Ближнем Востоке в 5 тыс. до н.э. "злака радости" (по всей видимости, опиумного мака). Около 2700 г. до н.э. в Китае уже использовали коноплю (в виде настоя, как чай): император Шен Нунг предписывал своим подданным принимать ее в качестве лекарства от подагры и рассеянности. Люди каменного века знали опиум, гашиш и кокаин и использовали эти наркотики для изменения сознания (в ходе религиозных обрядов) и при подготовке к сражению. На стенах погребальных комплексов индейцев Центральной и Южной Америки есть изображения людей, жующих листья коки (один из способов приема кокаина), датируемые серединой 3 тыс. до нашей эры. Нужно иметь в виду, что факт использования наркотика в одной культуре не дает нам права предполагать, что и в других культурах в это же самое время люди знали этот наркотик и употребляли его. Как и сейчас, в употреблении наркотиков людьми разных культур есть и сходства и различ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CC377-2360-4F57-BC1F-621E5AD848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F95D4-EAC4-49C2-B375-A6834D8EC1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Современное представление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перечень наркотических средств, психотропных веществ и их прекурсоров,  подлежащих контролю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3 группы 1  в зависимости от мер контроля…особые,общие ,некоторые ме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ссмотрим таблицу лек препаратов способных вызывать к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D0D60-2FB3-4819-96EA-0EC7E2CC27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CAF86-8DD1-4ACB-A194-0C5EA5573A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4C10E-9640-43DB-AD6C-A20246D7CE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барбитур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ятся к психотропным снотворным средств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нобарбитал (люминал), барбитал (веронал), барбитал-натрий (мединал), этаминал-натрий (нембутал), гексобарбита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стадии интоксик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-засыпа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- поверхностной ко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- глубокой ко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- пробуж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В настоящее время острые отравления снотворными преп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тами занимают одно из ведущих мест среди острых бытов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интоксик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Препараты барбитуратовой кислоты (барбиту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ты), наиболее часто применяемые в медицине, следующ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фенобарбитал (люминал), барбитал (веронал), барбитал-н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трий (мединал), этаминал-натрий (нембутал), гексобарбитал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др. Эта группа включает в себя препараты длительного дейст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вия (8—12 часов) — барбитал, барбитал-натрий, фенобарбита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средней продолжительности действия (6—8 часов) — барбами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этаминал-натрий; короткого действия (4—6 часов) — гексобар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бит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3B67C-614A-44F4-A457-3FE788C552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B032A-5502-4D52-A19A-1D7D4C9978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1 Через 30—60 м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бщая слаб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онлив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нарушается координация движений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чь становится невнятн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рачки умеренно расширены, реагируют на св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мечается гиперсалив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ункции дыхания и кровообращения не наруш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степенно наступает глубокий сон или потеря созн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2 В состоянии п о в е р х н о с т н о 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жение зрачк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ы глотательный и кашлевой рефлек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нус мышц и сухожильные рефлексы снижаю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аноз, тахикардия,гипото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 механическая асфиксия (аспирация слюной, рвотными массами, западение языка, спазм гортани) или угнетения дыхательного цент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28A14-B6A2-4903-B95F-0035E5270E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CD01F-A06C-4F41-A297-7D4EF1CD81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Calibri"/>
              </a:rPr>
              <a:t>Интоксикация </a:t>
            </a: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-(от латин. приставки in - «в» и греч. toxikon — я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зогенн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ступление нейротропных экзотоксинов извн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ндогенн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ри недостаточности функции различных органов и =&gt; накоплении нейротропных эндотоксинов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ксины действуют на межнейрональные связи и приводят к стойким нарушениям сознания  вплоть до ко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C0036-57FA-4A70-908D-778BC82357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3    Для стадии г л у б о к о й ко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флексы отсутству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лабление мускулатуры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рачки сужены (при асфиксии расширены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а гипертермия центрального гене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жа бледная, сух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ыхание учащается или урежается,ритм становится неправильным (типа Чейна-Стокса). Возможны остановка дыхания, отек легки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ушается резко гемодинамика (тахикардия, затем брадикардия, гипотония,коллапс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4     В периоде п о с т к о м а т о з н о г о состоя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епенновосстанавливается деятельность ЦНС, исчезает арефлексия. Однако нарушена координация движений. Типичны нарушения психической деятельности (депрессия, двигательное беспокойство, эмоциональная лабильност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3D774-465B-4F4D-A1F4-A7C5C14654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ом опия является опийный мак Papaver somnife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Й-СЫРЕЦ — в свежем виде липкая, смолоподобная пластичная масса, темно-коричневого цвета, с характерным лакричным запахом. По мере старения пластичность исчезает, масса становится твердой и хрупк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АННЫЙ (ЭКСТРАКЦИОННЫЙ) ОПИЙ - продукт, получаемый из опия-сырца путем различной обработки, обычно методом водной экстракции, фильтрования и выпаривания воды. МЕДИЦИНСКИЙ ОПИЙ — тонкий порошок светло-коричневого цвета с содержанием морфина 9,5—10,5%. Включает добавки «разбавителей»: лактозу, крахмал и другие компоненты. Имеет характерный запах оп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ТОПОН (ОМНОПОН) — светло-коричневый порошок легко растворимый в воде, содержит 48—50% морф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УМНЫЕ ШЛАКИ — продукт, остающийся в трубке после курения опия, еще содержит значительные количества морфина. Смешивается с сырцом или обработанным опием для дальнейшего использ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26920" y="447840"/>
            <a:ext cx="5200920" cy="3900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ешн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ологическ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озировка            ком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оследовательность лечебных мероприятий при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отравлениях опиатами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) обеспечение адекватной вентиляции легких (туалет дыхательных путей, оксигенация, ИВ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) назначение адреномиметиков при снижении артериального давления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) мероприятия по удалению опиатов - промывание желудка, форсированный диурез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) дегидратационная терапия (маннит, лазикс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) ощелачивание крови (3% раствор гидрокарбоната натрия 200-400 м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) применение медикаментов, улучшающих метаболизм в ЦНС (пирацетам, актовегин и пр.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) профилактика воспалительных осложнений (антибиотики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304D6-BAD9-46D5-AE7E-CFBBC70A00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26920" y="447840"/>
            <a:ext cx="5200920" cy="3900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ешн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ологическ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озировка            ком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оследовательность лечебных мероприятий при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отравлениях опиатами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) обеспечение адекватной вентиляции легких (туалет дыхательных путей, оксигенация, ИВ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) назначение адреномиметиков при снижении артериального давления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) мероприятия по удалению опиатов - промывание желудка, форсированный диурез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) дегидратационная терапия (маннит, лазикс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) ощелачивание крови (3% раствор гидрокарбоната натрия 200-400 м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) применение медикаментов, улучшающих метаболизм в ЦНС (пирацетам, актовегин и пр.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) профилактика воспалительных осложнений (антибиотики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061A0-1A09-45D5-99CC-D4DCA7F765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48043-31CD-4D46-A523-8265A618EB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Печёночная к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ченочно-клеточная недостаточ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следствие  массивного некроза ,дистрофии гепатоцит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! -Гепатит 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цирроз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лияние гепатотропных ядов (дихлорэтан,мышьяк,фосфор,этанол,четырёххлористый углерод,толуо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бочные эффекты приема различных медикаментов (антидепрессантов, сульфаниламидов, туберкулостатиков,фторотана,тетрациклин,левомицети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хронические алкогольные интоксик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токавальные шунты(при заболеваниях с портокавальным сбросом крови ,минуя печень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! –цирроз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ромбоз воротной в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пухоли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ED4CB-C324-487D-A9CD-E8CE37A16E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тогенез печеночной ко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Основны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факторы патогенеза печёночных 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 представлены на рисунк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Гипогликемия. Является результатом нарушения гликогенеза и гликогенолиз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Ацидоз (метаболический, на финальных стадиях дополнительно развивается респираторный и выделительный ацидоз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Дисбаланс ионов в клетках, интерстициальной жидкости и в крови (в крови нарастает [К+], в клетках — [Na+], [Ca2+], [Н+]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Интоксикация организма — эндотоксинемия (особенно продуктами белкового и липидного обмена (!гипераммониемия,меркаптанемия,высокая концентрация свободных жирных кислот), а также непрямым билирубином, что обусловлено нарушением его трансформации и конъюгации с глюкуроновой кислотой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Нарушения центральной, органотканевой и микрогемоциркуляции как следствие сердечной недостаточности, нарушения тонуса артериол, развития феномена сладж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Полиорганная недостаточность. Ранее всего и наиболее выраженно нарушается функции сердца, дыхательного и кардиовазомоторного центров. Последнее приводит к смешанной гипоксии, прекращению сердечной деятельности, дыхания и смерти пациен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514B4-8CEA-4864-84E5-735FBE4B5D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CB020-DF47-4F2A-875A-65960D260E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ческие особенности печёночн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стадии развития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1- пре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2-угрожающая ко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воеобразный хлопающий тремор пальцев рук,тремор век и гу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3- собственно ко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«печеночный» запах , желтуха ,кожный зуд , расчёсы ,печёночные ладо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еморрагический синдром (язык малиновый , сосочки сглажен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ёчно-асцитический синдром,; олигу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ыхание  типа Куссмау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лихорадка ,пальпация печени болезнен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12E2A-5222-41F5-AD9C-C716BF05A9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E372E-D5B4-48BA-B5B1-9B645D30D7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бораторные 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лейкоцитоз , анем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иперазотемия , ускорение СОЭ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и снижении уровня общего белка и альбуминов ,  высокий уровень гамма-глобулинов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факторов свёртывания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 уровня калия , ↓ холестер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↑↑↑ билируб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 аминотрансфераз и холинэстеразы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ча :темно-желт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a04da3"/>
                </a:solidFill>
                <a:latin typeface="Times New Roman"/>
              </a:rPr>
              <a:t>=&gt; Смерть от остановки дыхания , острого отёка мозга, отёка лёгких ,  почечной недостаточности ,  инфекционно-токсического ш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BBE17-89DE-4B13-ACEC-578523C100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Уремическая к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инальная стадия ХП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a04da3"/>
                </a:solidFill>
                <a:latin typeface="Times New Roman"/>
              </a:rPr>
              <a:t>Этиология ХП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гломеруло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иело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стициальный 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иабетический нефроскле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амилоид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ликистоз по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оллагено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миеломная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45ECA-674F-45CF-B8B8-3A8980A80C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генез уремическ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ическое нарушение функции по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убочковой фильтрации до 10 мл/м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Symbol" charset="2"/>
              <a:buChar char="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↑↑↑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ови мочевины выше 30 ммоль/л,креатинин выше 1000 ммоль /л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ше 150 ммоль/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Symbol" charset="2"/>
              <a:buChar char="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аболический ацидоз.отёк головного мозга,нарушение микроцеркуляции,нарушение мозгового крово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83E0B-DD74-4026-B991-4549EEDFCC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ческие особенности уремическ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ало постепенно,предшествуют головные боли,ухудшение зрения,кожный зуд,тошнота,рвота,судорог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смотр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ожные покровы и видимые слизистые бледные сухие, на коже возможна «уремическая пудра»,расчёсы геморраг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чечные  отё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рачки узк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ибриллярные подёргивания мышц,судороги.сухожильные рефлексы повышены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ыхание  вначале глубокое шумное (типа Куссмауля ),затем поверхностное,неправильное типа Чейна Сток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зо рта запах амми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оны сердца громкие, можно выслушать шум трения перикар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Характерна олигурия или анур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абораторные 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  мочевина  выше 30 ммоль/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атинин - выше1000 мкмоль/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трии - выше 150 ммоль/л; осмолярность плазмы - выше 330мосм/л.    декомпрессированный метаболический ацидо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АМ     Осмолярность   ниже 500 мосм/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убочковая фильтрация ниже 10 мл/м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B7586-E8B0-49F7-B04D-E5010CD8B9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B0CBA-E7E5-4432-A968-E2A9E357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BC74E-950E-43A0-ABD0-2ECF7687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015E-51E8-4312-83F8-7397A57BC8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34069-094E-468F-88A5-351BCC103D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E6A6C-A3E9-4480-A4DA-DFFFD810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B4A2C-50CF-458C-87F7-96732468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8D649-A337-4436-8603-CB23888B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7CB5E-583D-4707-9818-EBB0E0EA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15D03-1DF2-4AE8-890F-41BDBF0B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8BED8-BC8A-4501-871C-5D9AB413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B1888-55BA-4756-A8A6-CF352F48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4A3A5-A746-4D1B-BAB5-14BD89AF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640E7-77AF-4FAD-8192-AE1A692A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395D0-22FE-465F-9FD2-E2E0FA6B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B0DC6-3348-4F16-AE8D-EEFBC897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CF7E5-DF70-4326-ACAB-EACDD09389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B452-02F5-421F-992E-28CD1F74A5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FE51-AB4D-48DF-969A-0115132A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1E63-89C5-4B25-A782-714534C6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80F2-2488-417C-98B2-EFFC051C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F446-BB51-4153-9B73-A761DB10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FCC5-9C31-4EEC-AFBC-B3BA756C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9F65-0B1E-44B5-B017-12F9C2E4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25F5-28C4-40C6-B7A5-6948A3B7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643A-F799-4659-B3F7-9EE129B9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3F65-A06D-48B0-AB00-344BD805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7EDE-365E-4D36-A386-963E850D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A94B-159F-4D61-9BDC-7F2DBFE9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B617-D059-4D34-8A2C-3097842A9B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A64A2-8FF5-4A25-B07D-6EBC3C5FE9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93B1A-CDCA-4022-A995-13CDF682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C3DBD-96A5-4728-98C6-CC13B5FC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E5E8E-19C2-4183-943E-30724B2B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B4807-59AA-4EC3-8DE0-BBD0F226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390AD-7511-4263-9255-829C93D7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D1A04-07C1-4A83-BD61-9836D2BD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C6D14-5E21-4450-A3AA-63820669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44F8D-9C95-42DF-B0C9-ECD2AF23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4C0C2-4188-48B4-99AA-FFE257F9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6D0FF-F601-44C7-AADD-6D6F7017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C63D5-4144-4809-9A82-2424C389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03544-7C67-4A6D-9902-E6F9017DBB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F3B1-7648-4C01-8300-A75C1FF8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D3DE-4C65-4F9F-B399-4E11A361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DE23-A063-40B0-A12D-8429A43A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CD183-8ACE-4CB8-8D28-F800CDA9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5AE1C-C548-448A-8AFD-C565B889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181E2-93B3-4BD4-ACFC-8794D45A664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56DB08C-2B4B-41FF-A42E-499B4FD87FC5}" type="slidenum">
              <a:rPr b="0" lang="ru-RU" sz="1200" spc="-1" strike="noStrike">
                <a:solidFill>
                  <a:srgbClr val="d4d4d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1BDF4E9-688A-4BEF-B5C0-B0BFECE333C8}" type="slidenum">
              <a:rPr b="0" lang="ru-RU" sz="1200" spc="-1" strike="noStrike">
                <a:solidFill>
                  <a:srgbClr val="d4d4d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AutoShape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AutoShape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6DB4C9-20F1-4882-9326-5094D67E16DA}" type="slidenum"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479080" cy="3949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642960" y="4214880"/>
            <a:ext cx="80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туденческий научный кружок кафедры госпитальной терапии № 2 РГМУ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ыполнила Рейхтман Т.Б.   Гр. 607 Б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Алкогольная ком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14200" y="1643040"/>
            <a:ext cx="878688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звана употреблением этилового спирта и его суррогатов (денатураты,одеколоны,лосьоны, морилка,метиловый спирт, этиленкликоль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 развивается при концентрации этанола в крови около 3 г/л, летальный исход - выше 5 г/л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285840" y="0"/>
            <a:ext cx="86439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3548a"/>
                </a:solidFill>
                <a:latin typeface="Calibri"/>
                <a:ea typeface="Times New Roman"/>
              </a:rPr>
              <a:t>Механизм токсического действия и патогенез интоксикации этанолом</a:t>
            </a:r>
            <a:r>
              <a:rPr b="1" lang="ru-RU" sz="1800" spc="-1" strike="noStrike">
                <a:solidFill>
                  <a:srgbClr val="53548a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26" name="Group 2"/>
          <p:cNvGrpSpPr/>
          <p:nvPr/>
        </p:nvGrpSpPr>
        <p:grpSpPr>
          <a:xfrm>
            <a:off x="2362320" y="1000080"/>
            <a:ext cx="4417920" cy="5856480"/>
            <a:chOff x="2362320" y="1000080"/>
            <a:chExt cx="4417920" cy="5856480"/>
          </a:xfrm>
        </p:grpSpPr>
        <p:pic>
          <p:nvPicPr>
            <p:cNvPr id="227" name="Picture 3" descr=""/>
            <p:cNvPicPr/>
            <p:nvPr/>
          </p:nvPicPr>
          <p:blipFill>
            <a:blip r:embed="rId1"/>
            <a:stretch/>
          </p:blipFill>
          <p:spPr>
            <a:xfrm>
              <a:off x="2362320" y="1000080"/>
              <a:ext cx="4417920" cy="585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4"/>
            <p:cNvSpPr/>
            <p:nvPr/>
          </p:nvSpPr>
          <p:spPr>
            <a:xfrm>
              <a:off x="2362320" y="1000080"/>
              <a:ext cx="4417920" cy="58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428760" y="212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клиник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57200" y="135720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3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токсикогенной стадии — алкогольная кома, нарушения внешнего дыхания, нарушения гемодинамики;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соматогенной стадии — психоневрологические расстройства, воспалительные поражения органов дыхания, миоренальный синдром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1. Токсикогенная стадия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Алкогольная ком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еспецифична и не зависит от концентрации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Если лечение алкогольной комы не приводит к положительной динамики в состоянии больного в течение 3 часов, то, либо имеются нераспознанные осложнения (например, черепно-мозговая травма), либо причиной комы послужило не алкогольное отравление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Нарушения внешнего дыхания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бусловлены обтурационно-аспирационными осложнениями вследствие гиперсаливации, бронхореи, ларинго-бронхоспазма, аспирации рвотных масс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рушение по центральному типу — причина смерти на догоспитальном этапе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гемодинамики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зможны стойкие нарушения ритма и проводимости сердца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?!  нарушение регуляции сосудистого тонуса и гиповолемией, которые наиболее выражены при глубокой алкогольной коме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Соматогенная стади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удорожный синдром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оренальный синдром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3 стадии алкогольной комы: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тадии наблюдается гипертонус мышц конечностей, тризм жевательной мускулатуры, фибрилляции мышц, рефлексы сохранены. Зрачки узкие, глазные яблоки ≪плавают≫, лицо гиперемировано; гиперсаливация, рвот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 II стадии мышечный тонус и сухожильные рефлексы исчезают, но двигательная реакция на болевые раздражения сохраняется. Артериальное давление снижается, пульс частый, слабый. Дыхание замедляется. Непроизвольные мочеиспускания и дефекац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III стадии дыхание становится аритмичным, редким, клокочущим; нарастает цианоз лица и акроцианоз, зрачки расширяются, склеры резко инъецированы. Артериальное давление и ЦВД низкие, пульс нитевидный, часто аритмичный. Чувствительность и рефлексы отсутствуют 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360360" y="2519280"/>
            <a:ext cx="3240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Тактика ведения пациента с острой интоксикац алкоголем</a:t>
            </a: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34" name="Group 2"/>
          <p:cNvGrpSpPr/>
          <p:nvPr/>
        </p:nvGrpSpPr>
        <p:grpSpPr>
          <a:xfrm>
            <a:off x="3357720" y="142920"/>
            <a:ext cx="5279760" cy="6713640"/>
            <a:chOff x="3357720" y="142920"/>
            <a:chExt cx="5279760" cy="6713640"/>
          </a:xfrm>
        </p:grpSpPr>
        <p:pic>
          <p:nvPicPr>
            <p:cNvPr id="235" name="Picture 3" descr=""/>
            <p:cNvPicPr/>
            <p:nvPr/>
          </p:nvPicPr>
          <p:blipFill>
            <a:blip r:embed="rId1"/>
            <a:stretch/>
          </p:blipFill>
          <p:spPr>
            <a:xfrm>
              <a:off x="3357720" y="142920"/>
              <a:ext cx="5279760" cy="671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4"/>
            <p:cNvSpPr/>
            <p:nvPr/>
          </p:nvSpPr>
          <p:spPr>
            <a:xfrm>
              <a:off x="3357720" y="142920"/>
              <a:ext cx="5279760" cy="67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Наркотическая ком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рко́тик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от греч. narkotikós — приводящий в оцепенение, одурманивающий) — группа веществ вызывающих физическую зависимость, не связанных с нормальной жизнедеятельностью. Как следствие из данного определения: Наркотики — вещества, способные вызвать болезнь наркоманию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читается что термин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ркотик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ναρκωτικός) был впервые употреблен греческим целителем Галеном, в частности для описания веществ, вызывающих потерю чувствительности или паралич. Данный термин также употреблял Гиппократ. В качестве таких веществ Гален, например, упоминал корень мандрагоры, семена эклаты и мака (опиум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"/>
          <p:cNvGrpSpPr/>
          <p:nvPr/>
        </p:nvGrpSpPr>
        <p:grpSpPr>
          <a:xfrm>
            <a:off x="0" y="142920"/>
            <a:ext cx="9142560" cy="6213600"/>
            <a:chOff x="0" y="142920"/>
            <a:chExt cx="9142560" cy="6213600"/>
          </a:xfrm>
        </p:grpSpPr>
        <p:pic>
          <p:nvPicPr>
            <p:cNvPr id="240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142920"/>
              <a:ext cx="9142560" cy="621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3"/>
            <p:cNvSpPr/>
            <p:nvPr/>
          </p:nvSpPr>
          <p:spPr>
            <a:xfrm>
              <a:off x="0" y="142920"/>
              <a:ext cx="9142560" cy="62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1"/>
          <p:cNvGrpSpPr/>
          <p:nvPr/>
        </p:nvGrpSpPr>
        <p:grpSpPr>
          <a:xfrm>
            <a:off x="214200" y="214200"/>
            <a:ext cx="8642520" cy="6284880"/>
            <a:chOff x="214200" y="214200"/>
            <a:chExt cx="8642520" cy="6284880"/>
          </a:xfrm>
        </p:grpSpPr>
        <p:pic>
          <p:nvPicPr>
            <p:cNvPr id="243" name="Picture 2" descr=""/>
            <p:cNvPicPr/>
            <p:nvPr/>
          </p:nvPicPr>
          <p:blipFill>
            <a:blip r:embed="rId1"/>
            <a:stretch/>
          </p:blipFill>
          <p:spPr>
            <a:xfrm>
              <a:off x="214200" y="214200"/>
              <a:ext cx="8642520" cy="62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3"/>
            <p:cNvSpPr/>
            <p:nvPr/>
          </p:nvSpPr>
          <p:spPr>
            <a:xfrm>
              <a:off x="214200" y="214200"/>
              <a:ext cx="8642520" cy="62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            </a:t>
            </a: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барбитураты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457200" y="1500120"/>
            <a:ext cx="822960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носятся к психотропным снотворным средства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енобарбитал (люминал), барбитал (веронал), барбитал-натрий (мединал), этаминал-натрий (нембутал), гексобарбита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 стадии интоксикаци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-засыпания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- поверхностной комы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- глубокой комы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- пробужд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17146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457200" y="357120"/>
            <a:ext cx="8229600" cy="60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1 Через 30—60 мин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бщая слабость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сонливость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нарушается координация движений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речь становится невнятной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Зрачки умеренно расширены, реагируют на свет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тмечается гиперсаливация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Функции дыхания и кровообращения не нарушен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Постепенно наступает глубокий сон или потеря сознан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2 В состоянии п о в е р х н о с т н о й комы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ужение зрачков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хранены глотательный и кашлевой рефлекс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Тонус мышц и сухожильные рефлексы снижаютс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Цианоз, тахикардия,гипотон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зможно механическая асфиксия (аспирация слюной, рвотными массами, западение языка, спазм гортани) или угнетения дыхательного центр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457200" y="687240"/>
            <a:ext cx="82296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500" spc="-1" strike="noStrike">
                <a:solidFill>
                  <a:srgbClr val="424456"/>
                </a:solidFill>
                <a:latin typeface="Calibri"/>
              </a:rPr>
              <a:t>Интоксикация </a:t>
            </a:r>
            <a:r>
              <a:rPr b="0" lang="ru-RU" sz="2800" spc="-1" strike="noStrike">
                <a:solidFill>
                  <a:srgbClr val="424456"/>
                </a:solidFill>
                <a:latin typeface="Calibri"/>
              </a:rPr>
              <a:t>-(от латин. приставки in - «в» и греч. toxikon — яд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зогенны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поступление нейротропных экзотоксинов извне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ндогенны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при недостаточности функции различных органов и =&gt; накоплении нейротропных эндотоксинов 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" charset="2"/>
              <a:buChar char="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ксины действуют на межнейрональные связи и приводят к стойким нарушениям сознания  вплоть до ком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457200" y="428760"/>
            <a:ext cx="822960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3    Для стадии г л у б о к о й комы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ефлексы отсутствую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слабление мускулатуры;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рачки сужены (при асфиксии расширены)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зможна гипертермия центрального генез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ожа бледная, суха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ыхание учащается или урежается,ритм становится неправильным (типа Чейна-Стокса). Возможны остановка дыхания, отек легких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рушается резко гемодинамика (тахикардия, затем брадикардия, гипотония,коллапс)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4     В периоде п о с т к о м а т о з н о г о состоя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степенновосстанавливается деятельность ЦНС, исчезает арефлексия. Однако нарушена координация движений. Типичны нарушения психической деятельности (депрессия, двигательное беспокойство, эмоциональная лабильность)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6215040" y="0"/>
            <a:ext cx="2841480" cy="18572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4"/>
          <p:cNvSpPr/>
          <p:nvPr/>
        </p:nvSpPr>
        <p:spPr>
          <a:xfrm>
            <a:off x="662400" y="92880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иат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Прямоугольник 5"/>
          <p:cNvSpPr/>
          <p:nvPr/>
        </p:nvSpPr>
        <p:spPr>
          <a:xfrm>
            <a:off x="357120" y="1928880"/>
            <a:ext cx="8429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сточником опия является опийный мак Papaver somniferu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Прямоугольник 6"/>
          <p:cNvSpPr/>
          <p:nvPr/>
        </p:nvSpPr>
        <p:spPr>
          <a:xfrm>
            <a:off x="428760" y="2214720"/>
            <a:ext cx="814392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ид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ПИЙ-СЫРЕЦ — в свежем виде липкая, смолоподобная пластичная масса, темно-коричневого цвета, с характерным лакричным запахом. По мере старения пластичность исчезает, масса становится твердой и хрупко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БРАБОТАННЫЙ (ЭКСТРАКЦИОННЫЙ) ОПИЙ - продукт, получаемый из опия-сырца путем различной обработки, обычно методом водной экстракции, фильтрования и выпаривания воды. МЕДИЦИНСКИЙ ОПИЙ — тонкий порошок светло-коричневого цвета с содержанием морфина 9,5—10,5%. Включает добавки «разбавителей»: лактозу, крахмал и другие компоненты. Имеет характерный запах оп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АНТОПОН (ОМНОПОН) — светло-коричневый порошок легко растворимый в воде, содержит 48—50% морфина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ПИУМНЫЕ ШЛАКИ — продукт, остающийся в трубке после курения опия, еще содержит значительные количества морфина. Смешивается с сырцом или обработанным опием для дальнейшего использован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28760" y="1214280"/>
            <a:ext cx="82152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Внешние изменения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Физиологические изменения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ередозировка            ко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Стрелка вправо 3"/>
          <p:cNvSpPr/>
          <p:nvPr/>
        </p:nvSpPr>
        <p:spPr>
          <a:xfrm>
            <a:off x="3000240" y="5214960"/>
            <a:ext cx="406440" cy="270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56760" y="999720"/>
            <a:ext cx="822636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следовательность лечебных мероприятий при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травлениях опиатам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) обеспечение адекватной вентиляции легких (туалет дыхательных путей, оксигенация, ИВЛ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) назначение адреномиметиков при снижении артериального давления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) мероприятия по удалению опиатов - промывание желудка, форсированный диурез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) дегидратационная терапия (маннит, лазикс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) ощелачивание крови (3% раствор гидрокарбоната натрия 200-400 мл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) применение медикаментов, улучшающих метаболизм в ЦНС (пирацетам, актовегин и пр.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8) профилактика воспалительных осложнений (антибиотики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6840" y="2571840"/>
            <a:ext cx="822636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50004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Печёночная кома.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214200" y="1571760"/>
            <a:ext cx="864396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Этиологи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еченочно-клеточная недостаточность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(вследствие  массивного некроза ,дистрофии гепатоцитов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?! -Гепатит В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цирроз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влияние гепатотропных ядов (дихлорэтан,мышьяк,фосфор,этанол,четырёххлористый углерод,толуол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побочные эффекты приема различных медикаментов (антидепрессантов, сульфаниламидов, туберкулостатиков,фторотана,тетрациклин,левомицетин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хронические алкогольные интоксикаци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ртокавальные шунты(при заболеваниях с портокавальным сбросом крови ,минуя печень 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?! –цирроз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тромбоз воротной вены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опухоли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28760" y="121428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3548a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Патогенез печеночной ком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11" name="Group 2"/>
          <p:cNvGrpSpPr/>
          <p:nvPr/>
        </p:nvGrpSpPr>
        <p:grpSpPr>
          <a:xfrm>
            <a:off x="0" y="1857240"/>
            <a:ext cx="8999640" cy="4427640"/>
            <a:chOff x="0" y="1857240"/>
            <a:chExt cx="8999640" cy="4427640"/>
          </a:xfrm>
        </p:grpSpPr>
        <p:pic>
          <p:nvPicPr>
            <p:cNvPr id="21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1857240"/>
              <a:ext cx="8999640" cy="44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4"/>
            <p:cNvSpPr/>
            <p:nvPr/>
          </p:nvSpPr>
          <p:spPr>
            <a:xfrm>
              <a:off x="0" y="1857240"/>
              <a:ext cx="8999640" cy="44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57200" y="581040"/>
            <a:ext cx="8229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Клинические особенности печёночной комы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1260360" y="2090880"/>
            <a:ext cx="8229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 стадии развития 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1- преко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2-угрожающая ком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Своеобразный хлопающий тремор пальцев рук,тремор век и губ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3- собственно ком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«печеночный» запах , желтуха ,кожный зуд , расчёсы ,печёночные ладон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геморрагический синдром (язык малиновый , сосочки сглажены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тёчно-асцитический синдром,; олигур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дыхание  типа Куссмаул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лихорадка ,пальпация печени болезнен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57200" y="536400"/>
            <a:ext cx="82296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Лабораторные данны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лейкоцитоз , анемия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гиперазотемия , ускорение СОЭ 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при снижении уровня общего белка и альбуминов ,  высокий уровень гамма-глобулинов 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факторов свёртывания 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 уровня калия , ↓ холестерин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↑↑↑ билирубин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 аминотрансфераз и холинэстеразы 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оча :темно-желта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a04da3"/>
                </a:solidFill>
                <a:latin typeface="Constantia"/>
              </a:rPr>
              <a:t>=&gt; Смерть от остановки дыхания , острого отёка мозга, отёка лёгких ,  почечной недостаточности ,  инфекционно-токсического шок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Уремическая кома.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461880" y="1889280"/>
            <a:ext cx="8229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финальная стадия ХПН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Font typeface="Wingdings" charset="2"/>
              <a:buChar char="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a04da3"/>
                </a:solidFill>
                <a:latin typeface="Constantia"/>
              </a:rPr>
              <a:t>Этиология ХПН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гломеруло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пиело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интерстициальный 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диабетический нефросклероз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амилоидоз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поликистоз почек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коллагеноз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миеломная болезн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buClr>
                <a:srgbClr val="4244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Патогенез уремической комы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итическое нарушение функции поче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↓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лубочковой фильтрации до 10 мл/ми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buClr>
                <a:srgbClr val="a04da3"/>
              </a:buClr>
              <a:buFont typeface="Symbol" charset="2"/>
              <a:buChar char="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↑↑↑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рови мочевины выше 30 ммоль/л,креатинин выше 1000 ммоль /л,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 –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ше 150 ммоль/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buClr>
                <a:srgbClr val="a04da3"/>
              </a:buClr>
              <a:buFont typeface="Symbol" charset="2"/>
              <a:buChar char="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таболический ацидоз.отёк головного мозга,нарушение микроцеркуляции,нарушение мозгового кровообращ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428760" y="19080"/>
            <a:ext cx="8229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Клинические особенности уремической комы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428760" y="1071720"/>
            <a:ext cx="822960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чало постепенно,предшествуют головные боли,ухудшение зрения,кожный зуд,тошнота,рвота,судороги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осмотр 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кожные покровы и видимые слизистые бледные сухие, на коже возможна «уремическая пудра»,расчёсы геморраги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почечные  отёк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зрачки узки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фибриллярные подёргивания мышц,судороги.сухожильные рефлексы повышены 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дыхание  вначале глубокое шумное (типа Куссмауля ),затем поверхностное,неправильное типа Чейна Стокса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Изо рта запах аммиак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Тоны сердца громкие, можно выслушать шум трения перикарда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Характерна олигурия или анурия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Лабораторные данные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:   мочевина  выше 30 ммоль/л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реатинин - выше1000 мкмоль/л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трии - выше 150 ммоль/л; осмолярность плазмы - выше 330мосм/л.    декомпрессированный метаболический ацидоз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АМ     Осмолярность   ниже 500 мосм/л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лубочковая фильтрация ниже 10 мл/мин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2:07:46Z</dcterms:created>
  <dc:creator>томсон</dc:creator>
  <dc:description/>
  <dc:language>en-US</dc:language>
  <cp:lastModifiedBy>LEGION</cp:lastModifiedBy>
  <dcterms:modified xsi:type="dcterms:W3CDTF">2014-11-07T11:28:34Z</dcterms:modified>
  <cp:revision>91</cp:revision>
  <dc:subject/>
  <dc:title>Комы при интоксикациях алкогольная наркотическая уремическая печеночная</dc:title>
</cp:coreProperties>
</file>