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8630-4F2D-46D7-9C77-C13F4913077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лава 1. Вселенная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 неб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0BDBA-CC0A-413C-B207-36EE47892F8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Созвезд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A5E95-B897-4096-892A-DE5EB3C0445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A4B04-52B0-4B06-8516-AF54525B21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вездие Большая медведиц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D986-E6F0-4F43-AB1D-39580659975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00F4E-55C0-4D89-B012-D4064A017C1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лескоп "Хаббл"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E5A2-E22F-4843-9131-44341B5A2E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диотелеско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8005-BF24-4910-A0EF-55DCF8E739F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звез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то такое созвезди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ие созвездия вы знает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461E-5F56-41F0-8360-E1040C64FE2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по Аристоте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384 - 322 до н.э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B28B-22B1-40FC-AA0F-9A1A966BCD3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Клавдия Птолеме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ок. 90 - 160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A56C-DA4E-4C60-BA6B-4CB05EBA808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ира Николая Коперн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1473 – 1543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015F-71A3-47D9-AAB7-6E70266ED86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строном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наука, изучающая небесные те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Астро» в переводе с греческого -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DF8-2C1F-43CC-A26A-87704AC88E2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везд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78FF-CFF5-4C6A-8444-E22DA3711F0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30C2-8AE8-41B9-99D0-39E49D7046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0FBFB-E97F-434E-8461-C6603DE83DC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E1D96-9A29-4395-8B2D-A1D759269F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B5DC-DCD6-4278-A677-3DDB4EED6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9D56-D263-47EE-BCD8-BAC305DDF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88B3-4E68-418D-9897-319D47B7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3A9-ABA6-48E3-A9F3-AAD5E543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6EBD-0D17-4BFC-B633-13C86676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AE1F-749F-4651-A7B6-218B0982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230E9-7773-4F49-903F-2E9FA5CB0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FDA4A-4BB8-4999-BE5C-CABE2CC6E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B3AC-8D06-4BBA-A2DA-FAFE53CD3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938A5-87A7-4AF5-91C3-E56471213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1655-AC49-47AB-9381-A18AF880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E54E-AD4C-4B50-BC37-DBCE7CA2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257D9-8AD6-40D6-B91E-C2DAA5E94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4A859-574E-4468-BE36-EBD1E765B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CE72B-46CA-4FFA-B976-955EC005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EBBCF-2B93-47D0-A0D6-374384DE8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FE7C-3200-4425-B2B3-2A790E3EA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9FD7-EFBD-4C75-A593-3B15BDAAB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B37F-E162-4A0D-ACF6-E724D5B78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69B8-3B7C-402E-9C21-F32F981ED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6527-C345-43CE-976A-3974AB4D2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F6E0-74A2-47AE-902C-BEB7ACB6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E3ED-E06D-4C22-81B5-1DDA6FF32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BEA2-7D65-4904-AFFA-D9D4F6F5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7519-9F8F-45CE-936C-95A157B8BC57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09AC-D167-49CB-AA3F-6F3BD49B530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1844640"/>
            <a:ext cx="7772400" cy="226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Глава 1. Вселенная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aeaea"/>
                </a:solidFill>
                <a:latin typeface="Times New Roman"/>
              </a:rPr>
              <a:t>Звезды на небе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Созвездия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 – группы звезд, выделенные условно и представляют фигуры животных (Скорпион, Козерог), героев мифологии (Единорог, Кентавр) или какие-либо предметы (Весы, Микроскоп)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214280" y="2274840"/>
            <a:ext cx="7267680" cy="18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В настоящее время насчитывают 88 созвездий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5" name="Picture 4" descr="скорпион"/>
          <p:cNvPicPr/>
          <p:nvPr/>
        </p:nvPicPr>
        <p:blipFill>
          <a:blip r:embed="rId1"/>
          <a:stretch/>
        </p:blipFill>
        <p:spPr>
          <a:xfrm>
            <a:off x="324000" y="0"/>
            <a:ext cx="8424720" cy="679464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Скорпион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549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Picture 4" descr="козерог"/>
          <p:cNvPicPr/>
          <p:nvPr/>
        </p:nvPicPr>
        <p:blipFill>
          <a:blip r:embed="rId1"/>
          <a:stretch/>
        </p:blipFill>
        <p:spPr>
          <a:xfrm>
            <a:off x="250920" y="33480"/>
            <a:ext cx="8496360" cy="682452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179280" y="602136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imes New Roman"/>
              </a:rPr>
              <a:t>Созвездие Козерог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aeaea"/>
                </a:solidFill>
                <a:latin typeface="Times New Roman"/>
              </a:rPr>
              <a:t>Созвездие Большая медведица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Картинка 18 из 1493"/>
          <p:cNvPicPr/>
          <p:nvPr/>
        </p:nvPicPr>
        <p:blipFill>
          <a:blip r:embed="rId1"/>
          <a:stretch/>
        </p:blipFill>
        <p:spPr>
          <a:xfrm>
            <a:off x="0" y="1784520"/>
            <a:ext cx="9144000" cy="507348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Картинка 5 из 121653"/>
          <p:cNvPicPr/>
          <p:nvPr/>
        </p:nvPicPr>
        <p:blipFill>
          <a:blip r:embed="rId1"/>
          <a:stretch/>
        </p:blipFill>
        <p:spPr>
          <a:xfrm>
            <a:off x="2700360" y="1773360"/>
            <a:ext cx="3981600" cy="508464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6"/>
          <p:cNvSpPr/>
          <p:nvPr/>
        </p:nvSpPr>
        <p:spPr>
          <a:xfrm>
            <a:off x="539640" y="404640"/>
            <a:ext cx="82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Звезды наблюдают и изучают с помощью телескоп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626920" y="476280"/>
            <a:ext cx="4513320" cy="82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Телескоп "Хаббл".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60" name="Picture 5" descr="Картинка 0 из 121653"/>
          <p:cNvPicPr/>
          <p:nvPr/>
        </p:nvPicPr>
        <p:blipFill>
          <a:blip r:embed="rId1"/>
          <a:stretch/>
        </p:blipFill>
        <p:spPr>
          <a:xfrm>
            <a:off x="1547640" y="1886040"/>
            <a:ext cx="6624720" cy="4971960"/>
          </a:xfrm>
          <a:prstGeom prst="rect">
            <a:avLst/>
          </a:prstGeom>
          <a:ln w="0">
            <a:noFill/>
          </a:ln>
        </p:spPr>
      </p:pic>
      <p:sp>
        <p:nvSpPr>
          <p:cNvPr id="16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08968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Радиотелескопы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6" descr="радиотелескопы"/>
          <p:cNvPicPr/>
          <p:nvPr/>
        </p:nvPicPr>
        <p:blipFill>
          <a:blip r:embed="rId1"/>
          <a:stretch/>
        </p:blipFill>
        <p:spPr>
          <a:xfrm>
            <a:off x="1619280" y="1914480"/>
            <a:ext cx="6480000" cy="494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1042560" y="1844640"/>
            <a:ext cx="754380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звезды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 различаются звезды по цвету, яркости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Что такое созвезди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Какие созвездия вы знаете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 помощью каких приборов можно наблюдать и изучать звездное небо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Аристотель"/>
          <p:cNvPicPr/>
          <p:nvPr/>
        </p:nvPicPr>
        <p:blipFill>
          <a:blip r:embed="rId1"/>
          <a:stretch/>
        </p:blipFill>
        <p:spPr>
          <a:xfrm>
            <a:off x="2484360" y="1889280"/>
            <a:ext cx="4969080" cy="49687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2050920" y="620640"/>
            <a:ext cx="597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1332000" y="189000"/>
            <a:ext cx="68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по Аристотелю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384 - 322 до н.э.)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4" descr="Птолемей"/>
          <p:cNvPicPr/>
          <p:nvPr/>
        </p:nvPicPr>
        <p:blipFill>
          <a:blip r:embed="rId1"/>
          <a:stretch/>
        </p:blipFill>
        <p:spPr>
          <a:xfrm>
            <a:off x="2195640" y="1976400"/>
            <a:ext cx="5329080" cy="488160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5"/>
          <p:cNvSpPr/>
          <p:nvPr/>
        </p:nvSpPr>
        <p:spPr>
          <a:xfrm>
            <a:off x="0" y="333360"/>
            <a:ext cx="914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Клавдия Птолемея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ок. 90 - 160 н.э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Коперник"/>
          <p:cNvPicPr/>
          <p:nvPr/>
        </p:nvPicPr>
        <p:blipFill>
          <a:blip r:embed="rId1"/>
          <a:stretch/>
        </p:blipFill>
        <p:spPr>
          <a:xfrm>
            <a:off x="2411280" y="1817640"/>
            <a:ext cx="5040360" cy="5040360"/>
          </a:xfrm>
          <a:prstGeom prst="rect">
            <a:avLst/>
          </a:prstGeom>
          <a:ln w="0">
            <a:noFill/>
          </a:ln>
        </p:spPr>
      </p:pic>
      <p:sp>
        <p:nvSpPr>
          <p:cNvPr id="126" name="Text Box 5"/>
          <p:cNvSpPr/>
          <p:nvPr/>
        </p:nvSpPr>
        <p:spPr>
          <a:xfrm>
            <a:off x="1042920" y="260280"/>
            <a:ext cx="7634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истема мира Николая Коперника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(1473 – 1543 гг.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строномия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наука, изучающая небесные тел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«Астро» в переводе с греческого - звезд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339920" y="2608200"/>
            <a:ext cx="7269120" cy="18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Звезды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– раскаленные газовые тела шарообразной форм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26920" y="2060640"/>
            <a:ext cx="813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Видимые звёзды делятся по яркости. Для этого используют шкалу от 1 до 6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Самые яркие звёзды неба называют «звёздами первой величины», а самые слабые из тех, которые можно видеть, — «шестой величины».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По величине звезды разные. Многие из них гораздо больше Солнца. Это звезды-гиганты. Звезды, которые меньше Солнца называются звезды – карлики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aeaea"/>
                </a:solidFill>
                <a:latin typeface="Times New Roman"/>
              </a:rPr>
              <a:t>Звёзды гиганты - Арктур, Ригель, Альдебаран, Бетельгейзе и Антарес</a:t>
            </a:r>
            <a:r>
              <a:rPr b="1" lang="ru-RU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Picture 5" descr="Картинка 9 из 103"/>
          <p:cNvPicPr/>
          <p:nvPr/>
        </p:nvPicPr>
        <p:blipFill>
          <a:blip r:embed="rId1"/>
          <a:stretch/>
        </p:blipFill>
        <p:spPr>
          <a:xfrm>
            <a:off x="971640" y="1571760"/>
            <a:ext cx="7850160" cy="5286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3T18:43:51Z</dcterms:created>
  <dc:creator>админ</dc:creator>
  <dc:description/>
  <dc:language>en-US</dc:language>
  <cp:lastModifiedBy>LEGION</cp:lastModifiedBy>
  <dcterms:modified xsi:type="dcterms:W3CDTF">2015-01-12T09:25:27Z</dcterms:modified>
  <cp:revision>17</cp:revision>
  <dc:subject/>
  <dc:title>Глава 1. Вселенная  Звезды на небе</dc:title>
</cp:coreProperties>
</file>