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39F9-B961-4FAB-9BD6-B28439EA8F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1. Вселенная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 н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3C76-B1E0-424C-BC06-891ECA7C8F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везд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419D-D914-407A-AA1F-AD97126817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A6EF-FEBA-4AB7-8B6B-E53CE1973F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 Большая медвед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80EC-39BB-4FC6-8865-F01412E6AD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1B4-CC18-49AF-AE03-D1DA709FEA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скоп "Хаббл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1E91-5A85-4135-8797-FB25933A54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ио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FE9A-CDE7-448E-AFAF-4033E63BEA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ве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звезд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созвездия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5C9B-28C0-4553-8FFD-4093779E2D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по Аристо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384 - 322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0679-D091-4DD3-BE5E-F49CFA23A5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Клавдия Птолем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к. 90 - 160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9053-3BF4-43B8-B6A4-CB915A4B16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Николая Копер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473 – 154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CF7-C7BB-48F1-A566-4196731858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троном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аука, изучающая небес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стро» в переводе с греческого -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94E5-246B-47E0-880A-3D921FEF56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87AA-EBAC-40E7-AD93-D1A9C0A353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3678-3469-41C2-9FC1-9032D2EE89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37DC-5B1B-4C3F-B8A8-ED3F4E49B1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DF9-8217-412E-B5A3-1C138CDB6C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D7C-9A68-4C24-A548-6265B036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652-8A4F-4102-B77C-BE61747D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E84-35F6-49F2-BE36-5DDBFA1E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246-BB28-4E47-B5A6-2C8494EF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B58-C8EA-473E-A07B-236D2C31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0AF7-BD22-450D-9A1B-69283663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BD0B-4E3E-4BE8-819E-CC5DE02F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4BCE-5B95-4D3D-B99D-2BC92A17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57DB-DF80-49E2-A163-84B1311D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E5CE-DB0E-421E-9DAB-C0E149C3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D351-344A-4BD4-A790-3578956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3C6-CAAA-4136-A5DB-9AD656D0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F4BD-1F03-4008-8340-383310EF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CDF8-E948-438D-AB60-26DB5F5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63F6-FF32-4078-9211-F0433905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3402-5C38-4948-BC0F-3629C560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F184-D344-49DA-B7A0-C9C82338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59D-3863-4DB1-AA2C-D11E62A9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9CB-1BB8-46B2-86FA-BDAFBF19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929-D157-470E-AF52-EB68F9FD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68E-C3D6-470F-AF97-1B90466E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355-073E-4D60-A314-7CEDEFC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39A-7B53-45E7-8965-4BB04222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06C-A178-44AB-AA6B-FD8080ED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D7E0-4894-41CA-B40F-062CFE8E28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9505-6B91-489E-AC17-C2AD203872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Глава 1. Вселенная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езды на неб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2274840"/>
            <a:ext cx="726768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4" descr="скорпион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79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Скорп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козерог"/>
          <p:cNvPicPr/>
          <p:nvPr/>
        </p:nvPicPr>
        <p:blipFill>
          <a:blip r:embed="rId1"/>
          <a:stretch/>
        </p:blipFill>
        <p:spPr>
          <a:xfrm>
            <a:off x="250920" y="33480"/>
            <a:ext cx="8496360" cy="6824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Козе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звездие Большая медведиц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Картинка 18 из 1493"/>
          <p:cNvPicPr/>
          <p:nvPr/>
        </p:nvPicPr>
        <p:blipFill>
          <a:blip r:embed="rId1"/>
          <a:stretch/>
        </p:blipFill>
        <p:spPr>
          <a:xfrm>
            <a:off x="0" y="178452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Картинка 5 из 121653"/>
          <p:cNvPicPr/>
          <p:nvPr/>
        </p:nvPicPr>
        <p:blipFill>
          <a:blip r:embed="rId1"/>
          <a:stretch/>
        </p:blipFill>
        <p:spPr>
          <a:xfrm>
            <a:off x="2700360" y="1773360"/>
            <a:ext cx="398160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9640" y="40464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451332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Телескоп "Хаббл".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5" descr="Картинка 0 из 121653"/>
          <p:cNvPicPr/>
          <p:nvPr/>
        </p:nvPicPr>
        <p:blipFill>
          <a:blip r:embed="rId1"/>
          <a:stretch/>
        </p:blipFill>
        <p:spPr>
          <a:xfrm>
            <a:off x="1547640" y="188604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0896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адиотелескоп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радиотелескопы"/>
          <p:cNvPicPr/>
          <p:nvPr/>
        </p:nvPicPr>
        <p:blipFill>
          <a:blip r:embed="rId1"/>
          <a:stretch/>
        </p:blipFill>
        <p:spPr>
          <a:xfrm>
            <a:off x="1619280" y="1914480"/>
            <a:ext cx="6480000" cy="494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звезд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созвезд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созвездия вы знает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Аристотель"/>
          <p:cNvPicPr/>
          <p:nvPr/>
        </p:nvPicPr>
        <p:blipFill>
          <a:blip r:embed="rId1"/>
          <a:stretch/>
        </p:blipFill>
        <p:spPr>
          <a:xfrm>
            <a:off x="2484360" y="188928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050920" y="620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32000" y="1890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по Аристотел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384 - 322 до н.э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Птолемей"/>
          <p:cNvPicPr/>
          <p:nvPr/>
        </p:nvPicPr>
        <p:blipFill>
          <a:blip r:embed="rId1"/>
          <a:stretch/>
        </p:blipFill>
        <p:spPr>
          <a:xfrm>
            <a:off x="2195640" y="1976400"/>
            <a:ext cx="53290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333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Клавдия Птолеме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ок. 90 - 160 н.э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перник"/>
          <p:cNvPicPr/>
          <p:nvPr/>
        </p:nvPicPr>
        <p:blipFill>
          <a:blip r:embed="rId1"/>
          <a:stretch/>
        </p:blipFill>
        <p:spPr>
          <a:xfrm>
            <a:off x="241128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042920" y="260280"/>
            <a:ext cx="76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Николая Коперн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1473 – 154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строном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наука, изучающая небесные те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Астро» в переводе с греческого - звез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9920" y="2608200"/>
            <a:ext cx="72691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Картинка 9 из 103"/>
          <p:cNvPicPr/>
          <p:nvPr/>
        </p:nvPicPr>
        <p:blipFill>
          <a:blip r:embed="rId1"/>
          <a:stretch/>
        </p:blipFill>
        <p:spPr>
          <a:xfrm>
            <a:off x="971640" y="1571760"/>
            <a:ext cx="785016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43:51Z</dcterms:created>
  <dc:creator>админ</dc:creator>
  <dc:description/>
  <dc:language>en-US</dc:language>
  <cp:lastModifiedBy>LEGION</cp:lastModifiedBy>
  <dcterms:modified xsi:type="dcterms:W3CDTF">2015-01-12T09:25:27Z</dcterms:modified>
  <cp:revision>17</cp:revision>
  <dc:subject/>
  <dc:title>Глава 1. Вселенная  Звезды на небе</dc:title>
</cp:coreProperties>
</file>