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99CC-FA29-4479-947C-A207912B880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8080"/>
                </a:solidFill>
                <a:latin typeface="Calibri"/>
              </a:rPr>
              <a:t>Презентация на тему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«Луна - спутница Земл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5FEB-E21C-41AC-B766-AA383255FB6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Изменяющийся облик Лу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Так как Луна светится отражённым светом Солнца, с Земли видна только освещённая   Солнцем часть лунной поверх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5F4C-9055-4180-A856-A362E860D47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Луна обращается по орбите вокруг Земли и тем самым угол между Землёй, Луной и Солнцем изменяется и мы наблюдаем это явление как цикл лунных ф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C411-4BC7-47AE-B002-1882251422C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99"/>
                </a:solidFill>
                <a:latin typeface="Calibri"/>
              </a:rPr>
              <a:t>А что внутр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Твёрдая кора Луны состоит из породы, напоминающей гранит. Под ней - мантия, частично расплавленная зона «лунотрясений» и ядр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5072-04DB-4763-AECE-50970C52A4A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99"/>
                </a:solidFill>
                <a:latin typeface="Calibri"/>
              </a:rPr>
              <a:t>Лунный грун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Интенсивная бомбардировка  метеоритами сделала верхний слой лунной коры мелко раздробленным, а наружные несколько метров превратила в порошок (реголи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549C-9AB8-49F1-B6ED-FB57A3D13BF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cc99"/>
                </a:solidFill>
                <a:latin typeface="Calibri"/>
              </a:rPr>
              <a:t>Битва за Луну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Первый космический аппарат- советская «Луна-2»-Достиг лунной поверхности в 1959 году, а «Луна-3» облетела наш естественный спутник и сфотографировала его обратную сторон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3F4E-3B01-48AF-B9D7-65E86A7FE13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21 июля 1969 года американские астронавты Нил Амстронг и Эдвин Олдрин совершили первую посадку на Лун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2D2A-1884-4B90-8AB8-6DDBFF80A5E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Этот экипаж привёз на Землю пробы лунного грунта весом 42 к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A49D-EEBD-4DA0-B157-F47BE76E45E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Естественный спутник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Рождение Лу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Изменяющийся облик Лу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Обратная сторона Лу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А что внутр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Лунный гру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Битва за Лу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А что дальш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9EEF-4FAB-4A9E-A9A4-A7874FAB959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Естественный спутник Земл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Луна - самое близкое к Земле небесное тело, естественный спутник нашей планеты. Она находится на расстоянии 380 440 км от Земли. Её диаметр 3500 км, а масса равна 1/10 массы нашей план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5952-FB58-470E-9C34-9D58BCA1465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На Луне нет атмосферы, поэтому на поверхности Луны днём жара достигает 130</a:t>
            </a:r>
            <a:r>
              <a:rPr b="1" lang="ru-RU" sz="800" spc="-1" strike="noStrike" baseline="100000">
                <a:solidFill>
                  <a:srgbClr val="006666"/>
                </a:solidFill>
                <a:latin typeface="Calibri"/>
              </a:rPr>
              <a:t>0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 С,</a:t>
            </a:r>
            <a:r>
              <a:rPr b="1" lang="en-US" sz="12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а в тени - -170</a:t>
            </a:r>
            <a:r>
              <a:rPr b="1" lang="ru-RU" sz="800" spc="-1" strike="noStrike" baseline="100000">
                <a:solidFill>
                  <a:srgbClr val="006666"/>
                </a:solidFill>
                <a:latin typeface="Calibri"/>
              </a:rPr>
              <a:t>0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641E-6602-4723-9062-760536B429E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Calibri"/>
              </a:rPr>
              <a:t>Обратная сторона Лу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Период вращения Луны вокруг своей оси совпадает с периодом вращения вокруг Земли      ( 27 суток 7 часов 43 минуты), поэтому на Земле всегда видна только одна её стор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19B9-7455-4996-9629-1A2349754BB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99"/>
                </a:solidFill>
                <a:latin typeface="Calibri"/>
              </a:rPr>
              <a:t>Рождение Лу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Луне 4,5 миллиарда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FC5B-C152-442A-9582-FF60F0B171A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Согласно первой теории Земля и Луна родились из одного небесного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FFB6-0327-4D9C-A354-89BFE1DEABA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По второй теории, в результате столкновения юной Земли с Огромным космическим телом была выбита часть земной коры и мантии, и из этого материала сформировалась Лу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AC90-4205-4E3B-8D9F-69B33EFF350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По третьей теор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Луна сформировалась в другом месте и впоследствии была захвачена Землё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4C0E-ECAE-4373-8644-66DABF62892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2713-4215-4598-AB86-4734F7E24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9CCA-D387-4C06-A7C4-CE4A1DC3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12F7-0942-437B-86ED-6757FBC87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1E95-BCFD-4DA8-8258-3306A60BD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D5AB-203F-4933-A2BB-0475ABC46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9CF2-07CA-4FD5-84B5-2145B4A5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D384-A8ED-4B29-A810-6E9DA43A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1B36-5834-4A0D-9635-03EE1ECD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A95D-482C-4DCF-8E85-A88E5375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450D0-EF1B-4E6D-B85D-1374077C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ED5D-678D-4E8F-9FE5-FD1FFDD7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00CC-58D3-488D-BA2A-5BD9D7FC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B647B-2EA8-43B0-95C9-44AA2456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1165-8955-4074-A8A1-47A0DA70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32BC-62EA-4343-8F7C-8E139829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90286-3AD5-4BDC-ACB2-CA6D8933F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4692-600B-4329-B079-67C142C49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4CED-B3CC-4494-8CF3-BD736832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8AD8-2965-493E-8E28-927672B4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0E59-16E9-41BB-9BE4-4275BF51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7B8E-F734-4FC8-B306-30A386E8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8926-F5CB-45F8-9349-9E3BB94C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F21C-DBA6-47D7-8F4A-D9009AB1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AAD9-4E21-4804-886D-84840CD5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949F-D467-4C92-8CE1-52B44088B07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514E-0BC6-4C9C-85C8-2B98C2EC595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80"/>
                </a:solidFill>
                <a:latin typeface="Arial"/>
              </a:rPr>
              <a:t>Презентация на тему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55280" y="2060280"/>
            <a:ext cx="799308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cc99"/>
                </a:solidFill>
                <a:latin typeface="Arial"/>
              </a:rPr>
              <a:t>«Луна - спутница Земли»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Arial"/>
              </a:rPr>
              <a:t>Изменяющийся облик Лун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6" name="Picture 9" descr="bluemoon_icstars_big"/>
          <p:cNvPicPr/>
          <p:nvPr/>
        </p:nvPicPr>
        <p:blipFill>
          <a:blip r:embed="rId1"/>
          <a:stretch/>
        </p:blipFill>
        <p:spPr>
          <a:xfrm>
            <a:off x="3059280" y="1197000"/>
            <a:ext cx="4537080" cy="340200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68000" y="4653000"/>
            <a:ext cx="6875640" cy="18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Так как Луна светится отражённым светом Солнца, с Земли видна только освещённая   Солнцем часть лунной поверх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3640" y="476280"/>
            <a:ext cx="388764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Луна обращается по орбите вокруг Земли и тем самым угол между Землёй, Луной и Солнцем изменяется и мы наблюдаем это явление как цикл лунных фа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7" descr="Moon_phases"/>
          <p:cNvPicPr/>
          <p:nvPr/>
        </p:nvPicPr>
        <p:blipFill>
          <a:blip r:embed="rId1"/>
          <a:stretch/>
        </p:blipFill>
        <p:spPr>
          <a:xfrm>
            <a:off x="4211640" y="404640"/>
            <a:ext cx="4465800" cy="604872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99"/>
                </a:solidFill>
                <a:latin typeface="Arial"/>
              </a:rPr>
              <a:t>А что внутри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Твёрдая кора Луны состоит из породы, напоминающей гранит. Под ней - мантия, частично расплавленная зона «лунотрясений» и ядр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7" descr="moonint"/>
          <p:cNvPicPr/>
          <p:nvPr/>
        </p:nvPicPr>
        <p:blipFill>
          <a:blip r:embed="rId1"/>
          <a:stretch/>
        </p:blipFill>
        <p:spPr>
          <a:xfrm>
            <a:off x="3348000" y="2565360"/>
            <a:ext cx="5291280" cy="396072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99"/>
                </a:solidFill>
                <a:latin typeface="Arial"/>
              </a:rPr>
              <a:t>Лунный грунт</a:t>
            </a:r>
            <a:br>
              <a:rPr sz="4800"/>
            </a:b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3516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Интенсивная бомбардировка  метеоритами сделала верхний слой лунной коры мелко раздробленным, а наружные несколько метров превратила в порошок (реголит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7" descr="surface"/>
          <p:cNvPicPr/>
          <p:nvPr/>
        </p:nvPicPr>
        <p:blipFill>
          <a:blip r:embed="rId1"/>
          <a:stretch/>
        </p:blipFill>
        <p:spPr>
          <a:xfrm>
            <a:off x="3419640" y="2924280"/>
            <a:ext cx="4967280" cy="368136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692280"/>
            <a:ext cx="8147160" cy="28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ffcc99"/>
                </a:solidFill>
                <a:latin typeface="Arial"/>
              </a:rPr>
              <a:t>Битва за Луну</a:t>
            </a:r>
            <a:br>
              <a:rPr sz="5400"/>
            </a:b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45370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Первый космический аппарат- советская «Луна-2»-Достиг лунной поверхности в 1959 году, а «Луна-3» облетела наш естественный спутник и сфотографировала его обратную сторон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7" descr="images1"/>
          <p:cNvPicPr/>
          <p:nvPr/>
        </p:nvPicPr>
        <p:blipFill>
          <a:blip r:embed="rId1"/>
          <a:stretch/>
        </p:blipFill>
        <p:spPr>
          <a:xfrm>
            <a:off x="4643280" y="2060640"/>
            <a:ext cx="4235760" cy="439272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8200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21 июля 1969 года американские астронавты Нил Амстронг и Эдвин Олдрин совершили первую посадку на Лун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42341i"/>
          <p:cNvPicPr/>
          <p:nvPr/>
        </p:nvPicPr>
        <p:blipFill>
          <a:blip r:embed="rId1"/>
          <a:stretch/>
        </p:blipFill>
        <p:spPr>
          <a:xfrm>
            <a:off x="3851280" y="1700280"/>
            <a:ext cx="4321080" cy="489744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7" descr="Apollo_15_Lunar_Rover_and_Irwin"/>
          <p:cNvPicPr/>
          <p:nvPr/>
        </p:nvPicPr>
        <p:blipFill>
          <a:blip r:embed="rId1"/>
          <a:stretch/>
        </p:blipFill>
        <p:spPr>
          <a:xfrm>
            <a:off x="2050920" y="260280"/>
            <a:ext cx="6481800" cy="482436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916000" y="5157360"/>
            <a:ext cx="583236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Этот экипаж привёз на Землю пробы лунного грунта весом 42 к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050920" y="765000"/>
            <a:ext cx="64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Естественный спутник Зем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Рождение Лу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Изменяющийся облик Лу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Обратная сторона Лу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А что внутр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Лунный грун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Битва за Лун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А что дальш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Arial"/>
              </a:rPr>
              <a:t>Естественный спутник Земли</a:t>
            </a:r>
            <a:br>
              <a:rPr sz="4400"/>
            </a:b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4176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Луна - самое близкое к Земле небесное тело, естественный спутник нашей планеты. Она находится на расстоянии 380 440 км от Земли. Её диаметр 3500 км, а масса равна 1/10 массы нашей плане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6" descr="249_b"/>
          <p:cNvPicPr/>
          <p:nvPr/>
        </p:nvPicPr>
        <p:blipFill>
          <a:blip r:embed="rId1"/>
          <a:stretch/>
        </p:blipFill>
        <p:spPr>
          <a:xfrm>
            <a:off x="4788000" y="1052640"/>
            <a:ext cx="4032000" cy="547200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55280" y="404280"/>
            <a:ext cx="80643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На Луне нет атмосферы, поэтому на поверхности Луны днём жара достигает 130</a:t>
            </a:r>
            <a:r>
              <a:rPr b="1" lang="ru-RU" sz="1400" spc="-1" strike="noStrike" baseline="100000">
                <a:solidFill>
                  <a:srgbClr val="006666"/>
                </a:solidFill>
                <a:latin typeface="Arial"/>
              </a:rPr>
              <a:t>0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С,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а в тени - -170</a:t>
            </a:r>
            <a:r>
              <a:rPr b="1" lang="ru-RU" sz="1400" spc="-1" strike="noStrike" baseline="100000">
                <a:solidFill>
                  <a:srgbClr val="006666"/>
                </a:solidFill>
                <a:latin typeface="Arial"/>
              </a:rPr>
              <a:t>0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8" descr="surface"/>
          <p:cNvPicPr/>
          <p:nvPr/>
        </p:nvPicPr>
        <p:blipFill>
          <a:blip r:embed="rId1"/>
          <a:stretch/>
        </p:blipFill>
        <p:spPr>
          <a:xfrm>
            <a:off x="2987640" y="2060640"/>
            <a:ext cx="5616720" cy="403236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99"/>
                </a:solidFill>
                <a:latin typeface="Arial"/>
              </a:rPr>
              <a:t>Обратная сторона Луны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8208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Период вращения Луны вокруг своей оси совпадает с периодом вращения вокруг Земли      ( 27 суток 7 часов 43 минуты), поэтому на Земле всегда видна только одна её сторо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7" descr="file_post_726_600w"/>
          <p:cNvPicPr/>
          <p:nvPr/>
        </p:nvPicPr>
        <p:blipFill>
          <a:blip r:embed="rId1"/>
          <a:stretch/>
        </p:blipFill>
        <p:spPr>
          <a:xfrm>
            <a:off x="3203640" y="2781360"/>
            <a:ext cx="5616360" cy="374472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99"/>
                </a:solidFill>
                <a:latin typeface="Arial"/>
              </a:rPr>
              <a:t>Рождение Луны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52675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Луне 4,5 миллиарда л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11" descr="луна1"/>
          <p:cNvPicPr/>
          <p:nvPr/>
        </p:nvPicPr>
        <p:blipFill>
          <a:blip r:embed="rId1"/>
          <a:stretch/>
        </p:blipFill>
        <p:spPr>
          <a:xfrm>
            <a:off x="3492360" y="2205000"/>
            <a:ext cx="5329440" cy="410364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4000" y="333000"/>
            <a:ext cx="799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Согласно первой теории Земля и Луна родились из одного небесного те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15" descr="luna-inside-1"/>
          <p:cNvPicPr/>
          <p:nvPr/>
        </p:nvPicPr>
        <p:blipFill>
          <a:blip r:embed="rId1"/>
          <a:stretch/>
        </p:blipFill>
        <p:spPr>
          <a:xfrm>
            <a:off x="2916360" y="1557360"/>
            <a:ext cx="5759280" cy="439272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446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 второй теории, в результате столкновения юной Земли с Огромным космическим телом была выбита часть земной коры и мантии, и из этого материала сформировалась Лу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11" descr="5"/>
          <p:cNvPicPr/>
          <p:nvPr/>
        </p:nvPicPr>
        <p:blipFill>
          <a:blip r:embed="rId1"/>
          <a:stretch/>
        </p:blipFill>
        <p:spPr>
          <a:xfrm>
            <a:off x="4716360" y="620640"/>
            <a:ext cx="4103640" cy="554508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920" y="620640"/>
            <a:ext cx="417672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7" descr="20090318_moon"/>
          <p:cNvPicPr/>
          <p:nvPr/>
        </p:nvPicPr>
        <p:blipFill>
          <a:blip r:embed="rId1"/>
          <a:stretch/>
        </p:blipFill>
        <p:spPr>
          <a:xfrm>
            <a:off x="4643280" y="692280"/>
            <a:ext cx="4249800" cy="576108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33" name="Rectangle 8"/>
          <p:cNvSpPr/>
          <p:nvPr/>
        </p:nvSpPr>
        <p:spPr>
          <a:xfrm>
            <a:off x="395280" y="692280"/>
            <a:ext cx="4390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 третьей теори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Луна сформировалась в другом месте и впоследствии была захвачена Землёй.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10:17:44Z</dcterms:created>
  <dc:creator>Admin</dc:creator>
  <dc:description/>
  <dc:language>en-US</dc:language>
  <cp:lastModifiedBy>LEGION</cp:lastModifiedBy>
  <dcterms:modified xsi:type="dcterms:W3CDTF">2015-01-12T09:26:08Z</dcterms:modified>
  <cp:revision>9</cp:revision>
  <dc:subject/>
  <dc:title>Слайд 1</dc:title>
</cp:coreProperties>
</file>