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7C64-D50C-4B23-A6EA-F9B08EC9B79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80"/>
                </a:solidFill>
                <a:latin typeface="Calibri"/>
              </a:rPr>
              <a:t>Презентация на тем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«Луна - спутница Зем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E0E3-DA98-4331-A86D-C6A7FD9E7E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D2DC-07DF-432B-AAB1-3321ECAD18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20BC-9257-435D-B5EF-033D971F87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C4E2-629B-46FD-9BB9-187EBAEFF8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Лунный гру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F4A1-BD6F-4D60-8085-88766C3AA3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99"/>
                </a:solidFill>
                <a:latin typeface="Calibri"/>
              </a:rPr>
              <a:t>Битва за Лу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08B7-A178-4B42-BB73-30309A850A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F921-AEB0-4924-8388-58BBE55A19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Этот экипаж привёз на Землю пробы лунного грунта весом 42 к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D027-3F7D-4684-8C79-60D1953346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Рождение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братная сторона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Лунный гру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Битва за Лу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FE75-D298-4704-9CF8-8F22EB6004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C5FC-1405-48D1-9AE6-18E79FB368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На Луне нет атмосферы, поэтому на поверхности Луны днём жара достигает 13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,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а в тени - -17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EDC4-9D65-426C-84FF-3F07DC4C3F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Calibri"/>
              </a:rPr>
              <a:t>Обратная сторона Л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31A7-C591-4CD1-A4AD-33B698CF41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Рождение Л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е 4,5 миллиарда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A185-6A10-4C12-A8AA-0360E97CA4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Согласно первой теории Земля и Луна родились из одного небесн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AB54-8428-462E-97A9-19F4EC5766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804-1430-4505-9B3F-3DA0E3DBCA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третьей тео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сформировалась в другом месте и впоследствии была захвачена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4996-64ED-45CE-A8A7-C5FB541CD1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141B-9501-433F-A179-86E5E7E1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06A-2AB2-467A-B4FC-BECE51FC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7B31-D8F8-456F-BBA7-9DD904DB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E6D-C58D-4B17-A0B0-379B12A0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361D-88F1-4EF9-8D88-CF1E4F55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9979-E3DF-46FE-B455-3BC6BCBB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4F2A-D0AC-4731-8A21-717F34AA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59C3-4B71-4730-97AD-83F53BA2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E2DB-5179-465D-B27D-29886EA9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B7EA-B43F-4FE1-B9FF-B43B6E2B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AE0F-9E07-40FB-A7D6-EB2383B5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848-2B02-4F34-83F4-34A89B1B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749B-5073-4BE0-87DC-B723B688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4846-252F-431B-8BA6-303CB1FD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C733-EACA-4475-B6D0-8ED10E55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4DBC-BCAA-4335-8B76-98366B9B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ED66-5A13-42E2-ABA6-3D4A3877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0A2-15A1-4EA7-80ED-12A481CB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46A-2CC7-4212-B030-BE74005C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4CD-3176-401E-B4F3-EF65DCC5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69A-9CFE-4C1A-B8F4-0B597D42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E6F-0176-4DF9-9575-FC72DEC2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9738-01B2-4976-A35F-E52775DA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185-D096-4FB9-9D06-DE2AB65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1537-37D0-4268-93AC-10234B22BC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D77C-DBBE-4A20-9F58-E1B3912999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9930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99"/>
                </a:solidFill>
                <a:latin typeface="Arial"/>
              </a:rPr>
              <a:t>«Луна - спутница Земл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Изменяющийся облик Лу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9" descr="bluemoon_icstars_big"/>
          <p:cNvPicPr/>
          <p:nvPr/>
        </p:nvPicPr>
        <p:blipFill>
          <a:blip r:embed="rId1"/>
          <a:stretch/>
        </p:blipFill>
        <p:spPr>
          <a:xfrm>
            <a:off x="3059280" y="1197000"/>
            <a:ext cx="4537080" cy="340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4653000"/>
            <a:ext cx="68756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3887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Moon_phases"/>
          <p:cNvPicPr/>
          <p:nvPr/>
        </p:nvPicPr>
        <p:blipFill>
          <a:blip r:embed="rId1"/>
          <a:stretch/>
        </p:blipFill>
        <p:spPr>
          <a:xfrm>
            <a:off x="4211640" y="404640"/>
            <a:ext cx="4465800" cy="6048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moonint"/>
          <p:cNvPicPr/>
          <p:nvPr/>
        </p:nvPicPr>
        <p:blipFill>
          <a:blip r:embed="rId1"/>
          <a:stretch/>
        </p:blipFill>
        <p:spPr>
          <a:xfrm>
            <a:off x="3348000" y="2565360"/>
            <a:ext cx="5291280" cy="396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Лунный грунт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urface"/>
          <p:cNvPicPr/>
          <p:nvPr/>
        </p:nvPicPr>
        <p:blipFill>
          <a:blip r:embed="rId1"/>
          <a:stretch/>
        </p:blipFill>
        <p:spPr>
          <a:xfrm>
            <a:off x="3419640" y="2924280"/>
            <a:ext cx="4967280" cy="3681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28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Битва за Луну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537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images1"/>
          <p:cNvPicPr/>
          <p:nvPr/>
        </p:nvPicPr>
        <p:blipFill>
          <a:blip r:embed="rId1"/>
          <a:stretch/>
        </p:blipFill>
        <p:spPr>
          <a:xfrm>
            <a:off x="4643280" y="2060640"/>
            <a:ext cx="423576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42341i"/>
          <p:cNvPicPr/>
          <p:nvPr/>
        </p:nvPicPr>
        <p:blipFill>
          <a:blip r:embed="rId1"/>
          <a:stretch/>
        </p:blipFill>
        <p:spPr>
          <a:xfrm>
            <a:off x="3851280" y="1700280"/>
            <a:ext cx="4321080" cy="48974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Apollo_15_Lunar_Rover_and_Irwin"/>
          <p:cNvPicPr/>
          <p:nvPr/>
        </p:nvPicPr>
        <p:blipFill>
          <a:blip r:embed="rId1"/>
          <a:stretch/>
        </p:blipFill>
        <p:spPr>
          <a:xfrm>
            <a:off x="2050920" y="260280"/>
            <a:ext cx="6481800" cy="482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16000" y="5157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Этот экипаж привёз на Землю пробы лунного грунта весом 4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050920" y="76500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Есте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Рождение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Изменяющийся облик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Обратная сторона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Лунный гру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Битва за Лу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Естественный спутник Земли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17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49_b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547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Луне нет атмосферы, поэтому на поверхности Луны днём жара достигает 13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,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 в тени - -17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surface"/>
          <p:cNvPicPr/>
          <p:nvPr/>
        </p:nvPicPr>
        <p:blipFill>
          <a:blip r:embed="rId1"/>
          <a:stretch/>
        </p:blipFill>
        <p:spPr>
          <a:xfrm>
            <a:off x="2987640" y="2060640"/>
            <a:ext cx="5616720" cy="40323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Обратная сторона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file_post_726_600w"/>
          <p:cNvPicPr/>
          <p:nvPr/>
        </p:nvPicPr>
        <p:blipFill>
          <a:blip r:embed="rId1"/>
          <a:stretch/>
        </p:blipFill>
        <p:spPr>
          <a:xfrm>
            <a:off x="3203640" y="2781360"/>
            <a:ext cx="5616360" cy="3744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Рождение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5267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е 4,5 миллиарда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луна1"/>
          <p:cNvPicPr/>
          <p:nvPr/>
        </p:nvPicPr>
        <p:blipFill>
          <a:blip r:embed="rId1"/>
          <a:stretch/>
        </p:blipFill>
        <p:spPr>
          <a:xfrm>
            <a:off x="3492360" y="2205000"/>
            <a:ext cx="5329440" cy="41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огласно первой теории Земля и Луна родились из одного небесн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5" descr="luna-inside-1"/>
          <p:cNvPicPr/>
          <p:nvPr/>
        </p:nvPicPr>
        <p:blipFill>
          <a:blip r:embed="rId1"/>
          <a:stretch/>
        </p:blipFill>
        <p:spPr>
          <a:xfrm>
            <a:off x="2916360" y="1557360"/>
            <a:ext cx="575928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5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54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176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20090318_moon"/>
          <p:cNvPicPr/>
          <p:nvPr/>
        </p:nvPicPr>
        <p:blipFill>
          <a:blip r:embed="rId1"/>
          <a:stretch/>
        </p:blipFill>
        <p:spPr>
          <a:xfrm>
            <a:off x="4643280" y="692280"/>
            <a:ext cx="4249800" cy="576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395280" y="692280"/>
            <a:ext cx="43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третьей те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а сформировалась в другом месте и впоследствии была захвачена Землёй.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0:17:44Z</dcterms:created>
  <dc:creator>Admin</dc:creator>
  <dc:description/>
  <dc:language>en-US</dc:language>
  <cp:lastModifiedBy>LEGION</cp:lastModifiedBy>
  <dcterms:modified xsi:type="dcterms:W3CDTF">2015-01-12T09:26:08Z</dcterms:modified>
  <cp:revision>9</cp:revision>
  <dc:subject/>
  <dc:title>Слайд 1</dc:title>
</cp:coreProperties>
</file>