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9.jpeg" ContentType="image/jpeg"/>
  <Override PartName="/ppt/media/image8.jpeg" ContentType="image/jpeg"/>
  <Override PartName="/ppt/media/image10.jpeg" ContentType="image/jpeg"/>
  <Override PartName="/ppt/media/image17.gif" ContentType="image/gif"/>
  <Override PartName="/ppt/media/image2.wmf" ContentType="image/x-wmf"/>
  <Override PartName="/ppt/media/image16.gif" ContentType="image/gif"/>
  <Override PartName="/ppt/media/image15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7.gif" ContentType="image/gif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524B-222E-44D6-84CA-AF4C270BAB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5DC8-48F2-410A-9D10-92CDE3071E6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Comic Sans MS"/>
              </a:rPr>
              <a:t>Путешествие в галакти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Comic Sans MS"/>
              </a:rPr>
              <a:t>"Простые и составные числа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Задание 4</a:t>
            </a: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еник выполнил сложение: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548+7256+8108=18 911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756+8322+6565=24 642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жно ли, не выполняя вычислений, определить, что в примере допущена ошиб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E414-0F8F-4A6C-99CB-2D8165AA1BB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разменять 20 р. семью монетами по 1р. и 5р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7ED0-FDE3-495C-8DB2-34B8989BBB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4E47-A7F4-4510-A335-D0D040F6AF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Я нашёл в натуральном ряде такие три числа, идущие подряд, что каждое из них прост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 хочет опровергну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крытие клоуна?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CDF3-8D3C-4A8B-B10B-1F3A92C453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каз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 сентября числ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шило пригласить в гости всех своих делителей, меньших, чем оно сам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Кто пойдёт к нему в гос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все гости собрались,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горчилось и предложило, чтобы каждый из своих гостей привёл ещё своих делителей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колько придёт новых гостей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BDB9-2E0E-4271-9CFB-C549D68A11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утешить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го гости соединились знаком «+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, о чудо, сумма оказалась равной самому числ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 Единица сказала, что всякое число, которое равно сумме своих меньших делителей, называется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овершенны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ч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вершенное чис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ECDC-88F7-4C48-80D7-3826811ACB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2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радовалось и спросило, какие есть ещё совершенные числа. Всезнающая  единица объяснила, что совершенные числа встречаются очень редко: среди чисел до миллиона только четыре совершенных. Числ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единственное двузначное совершенное число, есть только одно трёхзначное совершенное число –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96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только одно однозначн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роверьте, что число 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496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 совершенное, и найдите однозначное совершенн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7ED0-0158-4C34-9F4F-2ED29BF93E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ам понравилось приглашать в гости своих меньших делителей. </a:t>
            </a:r>
            <a:r>
              <a:rPr b="0" lang="ru-RU" sz="1200" spc="-1" strike="noStrike">
                <a:solidFill>
                  <a:srgbClr val="6600ff"/>
                </a:solidFill>
                <a:latin typeface="Arial"/>
              </a:rPr>
              <a:t>Кто пришёл в гости 30 сентябр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58F4-AF57-4221-9D02-AAA1F07173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Фокус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ячьте в одной руке 5-ти рублёвую монету, а в другой - 2-х рублёвую, а я смогу легко определить, в какой руке спрятана 2-х рублёвая монета. Для этого я прошу умножить число рублей в правой руке на 2, а в левой на – на 3 и результаты сложить, а мне сообщить лишь, является сумма чётной или нет.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DE04-BA2B-4D8C-95E9-5C450A0A3D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тветьте на вопрос и приобретите билет на звездол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.Признаки делимости на 2, на3, на 4, на5, на 9,на 1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2.Какие числа называются прост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3.Какие числа называются составн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E6B0-A795-4829-AFFF-F67A038DC0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любого натурального числ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ис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0" lang="ru-RU" sz="1200" spc="-1" strike="noStrike">
                <a:solidFill>
                  <a:srgbClr val="f4f03c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«эн факториал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значает произведение натуральных чисел от 1 д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! = 1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2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 3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ahoma"/>
              </a:rPr>
              <a:t> …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ahoma"/>
              </a:rPr>
              <a:t>·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ислите 2!, 3!, 4!, 5!, 7!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0416-68CA-4986-8B6D-F72F27C77F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нового вы узна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608D-CE8B-4E09-94CA-7C46448E41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Найдите или придумайте сами математический фокус, который основан на свойствах натуральных чисел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 и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Никольский С.М «Арифметика 6», «Просвещение»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Шеврин Л.Н. «Математика 5-6» учебник-собеседник, «Просвещение»,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ttp://le-savchen.ucoz.ru/load/0-0-0-4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1B14-B0E5-4122-91C6-C00037373A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608C-EE8B-46A6-A306-0287B9D2F2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be0e3"/>
                </a:solidFill>
                <a:latin typeface="Arial"/>
              </a:rPr>
              <a:t>Счастливого пут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2FCF-07CD-474D-B671-F1E4DA3EF52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Эратосф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EB2B-5A58-41AA-AB3B-D277500CA0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6 класс. Н.Я.Виленкин.   Стр. 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38F9-2B2B-4AD3-86FE-A7338AE45B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ета Решай-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таблицы простых чисел определите, является ли простым числ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7, 69,127, 301, 447, 517, 673, 879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5749-E58B-42EA-96E9-38618EA844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ую цифру мож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авить вместо звёздоч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полученное число делилось на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*  ; 6*7 ; 5*4 ; 7*2 ; 85*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4*0; 738* ; 2090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5C98-1B6D-493D-9DC7-C96BD18F93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дание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Алёши 80 марок, у Бори на 20 марок больше, а у Вовы – третья часть всех марок Алёши и Бори. Сколько марок у Вов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0224-5CDF-44DE-B272-E87C4E8F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C000-5C74-4751-990E-F4CBC252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6CC-7752-4F34-AF04-2933B8F0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AA8-4DF5-455B-B3E7-BDD66340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D28D-70E4-46A0-8C7D-28F9B410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544C-2C6B-4DFA-97AB-D550F8D0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8E53-9A6D-443E-9F77-D4E43ECF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0633-E2A8-4B63-96A3-662C01A6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31E0-D12A-4293-9775-3A8076D3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E56-C8EE-4D34-8F3D-C20D2285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F57-5ED5-49F2-AD4B-29A5F51D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F997-AF7A-497F-BE12-5C24EA0C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12CF-79B1-465A-8C81-13E5EDEBC5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4"/>
          <p:cNvSpPr/>
          <p:nvPr/>
        </p:nvSpPr>
        <p:spPr>
          <a:xfrm>
            <a:off x="0" y="1557360"/>
            <a:ext cx="9144000" cy="4392720"/>
          </a:xfrm>
          <a:custGeom>
            <a:avLst/>
            <a:gdLst>
              <a:gd name="textAreaLeft" fmla="*/ 0 w 9144000"/>
              <a:gd name="textAreaRight" fmla="*/ 9144360 w 9144000"/>
              <a:gd name="textAreaTop" fmla="*/ 1813680 h 4392720"/>
              <a:gd name="textAreaBottom" fmla="*/ 2579040 h 4392720"/>
            </a:gdLst>
            <a:ahLst/>
            <a:rect l="textAreaLeft" t="textAreaTop" r="textAreaRight" b="textAreaBottom"/>
            <a:pathLst>
              <a:path w="21600" h="21600">
                <a:moveTo>
                  <a:pt x="0" y="4459"/>
                </a:moveTo>
                <a:cubicBezTo>
                  <a:pt x="7200" y="-11337"/>
                  <a:pt x="14400" y="20255"/>
                  <a:pt x="21600" y="4459"/>
                </a:cubicBezTo>
                <a:lnTo>
                  <a:pt x="21600" y="17141"/>
                </a:lnTo>
                <a:cubicBezTo>
                  <a:pt x="14400" y="32937"/>
                  <a:pt x="7200" y="1345"/>
                  <a:pt x="0" y="17141"/>
                </a:cubicBez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ccec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WordArt 25"/>
          <p:cNvSpPr txBox="1"/>
          <p:nvPr/>
        </p:nvSpPr>
        <p:spPr>
          <a:xfrm rot="765000">
            <a:off x="323640" y="2420640"/>
            <a:ext cx="84405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6366"/>
                <a:gd name="adj2" fmla="val 1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e4c"/>
                </a:solidFill>
                <a:latin typeface="Comic Sans MS"/>
              </a:rPr>
              <a:t>Путешествие в галактик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4e4c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4e4c"/>
                </a:solidFill>
                <a:latin typeface="Comic Sans MS"/>
              </a:rPr>
              <a:t>"Простые и составные числ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4e4c"/>
              </a:solidFill>
              <a:latin typeface="Comic Sans MS"/>
              <a:ea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7"/>
          <p:cNvSpPr/>
          <p:nvPr/>
        </p:nvSpPr>
        <p:spPr>
          <a:xfrm>
            <a:off x="395280" y="404640"/>
            <a:ext cx="8209080" cy="2951280"/>
          </a:xfrm>
          <a:prstGeom prst="wedgeRoundRectCallout">
            <a:avLst>
              <a:gd name="adj1" fmla="val -1342"/>
              <a:gd name="adj2" fmla="val 59953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848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Задание 4</a:t>
            </a:r>
            <a:br>
              <a:rPr sz="2800"/>
            </a:b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еник выполнил сложени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548+7256+8108=18 91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9756+8322+6565=24 642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жно ли, не выполняя вычислений, определить, что в примере допущена ошибка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3" name="Picture 4" descr="BD13631_"/>
          <p:cNvPicPr/>
          <p:nvPr/>
        </p:nvPicPr>
        <p:blipFill>
          <a:blip r:embed="rId2"/>
          <a:stretch/>
        </p:blipFill>
        <p:spPr>
          <a:xfrm>
            <a:off x="5580000" y="3141720"/>
            <a:ext cx="2421000" cy="3933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j0354673"/>
          <p:cNvPicPr/>
          <p:nvPr/>
        </p:nvPicPr>
        <p:blipFill>
          <a:blip r:embed="rId3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6"/>
          <p:cNvSpPr/>
          <p:nvPr/>
        </p:nvSpPr>
        <p:spPr>
          <a:xfrm>
            <a:off x="468360" y="404640"/>
            <a:ext cx="8209080" cy="2592720"/>
          </a:xfrm>
          <a:prstGeom prst="wedgeRoundRectCallout">
            <a:avLst>
              <a:gd name="adj1" fmla="val -1615"/>
              <a:gd name="adj2" fmla="val 83800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71640" y="620280"/>
            <a:ext cx="7416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дание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и разменять 20 р. семью монетами по 1р. и 5р.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BD13631_"/>
          <p:cNvPicPr/>
          <p:nvPr/>
        </p:nvPicPr>
        <p:blipFill>
          <a:blip r:embed="rId2"/>
          <a:stretch/>
        </p:blipFill>
        <p:spPr>
          <a:xfrm>
            <a:off x="4500720" y="3141720"/>
            <a:ext cx="2852640" cy="3286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j0354673"/>
          <p:cNvPicPr/>
          <p:nvPr/>
        </p:nvPicPr>
        <p:blipFill>
          <a:blip r:embed="rId3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AG00356_"/>
          <p:cNvPicPr/>
          <p:nvPr/>
        </p:nvPicPr>
        <p:blipFill>
          <a:blip r:embed="rId1"/>
          <a:stretch/>
        </p:blipFill>
        <p:spPr>
          <a:xfrm>
            <a:off x="179280" y="0"/>
            <a:ext cx="3457800" cy="53452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4"/>
          <p:cNvSpPr/>
          <p:nvPr/>
        </p:nvSpPr>
        <p:spPr>
          <a:xfrm>
            <a:off x="3851280" y="260280"/>
            <a:ext cx="5041800" cy="3600360"/>
          </a:xfrm>
          <a:prstGeom prst="wedgeEllipseCallout">
            <a:avLst>
              <a:gd name="adj1" fmla="val -86273"/>
              <a:gd name="adj2" fmla="val 26277"/>
            </a:avLst>
          </a:prstGeom>
          <a:solidFill>
            <a:srgbClr val="00b0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11280" y="380520"/>
            <a:ext cx="4475160" cy="297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Я нашёл в натуральном ряде такие три числа, идущие подряд, что каждое из них просто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907640" y="4941720"/>
            <a:ext cx="707724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то хочет опровергнуть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крытие клоуна?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1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900000" y="333360"/>
            <a:ext cx="7056720" cy="158292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40000" y="380880"/>
            <a:ext cx="316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Сказ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00000" y="2205000"/>
            <a:ext cx="763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8 сентября число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решило пригласить в гости всех своих делителей, меньших, чем оно само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то пойдёт к нему в гост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гда все гости собрались, числ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горчилось и предложило, чтобы каждый из своих гостей привёл ещё своих делителе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Сколько придёт новых гостей?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0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6"/>
          <p:cNvSpPr/>
          <p:nvPr/>
        </p:nvSpPr>
        <p:spPr>
          <a:xfrm>
            <a:off x="324000" y="168264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8" descr="Картинка 9 из 2046"/>
          <p:cNvPicPr/>
          <p:nvPr/>
        </p:nvPicPr>
        <p:blipFill>
          <a:blip r:embed="rId1"/>
          <a:stretch/>
        </p:blipFill>
        <p:spPr>
          <a:xfrm>
            <a:off x="1042920" y="2492280"/>
            <a:ext cx="1411200" cy="2009880"/>
          </a:xfrm>
          <a:prstGeom prst="rect">
            <a:avLst/>
          </a:prstGeom>
          <a:ln w="0">
            <a:noFill/>
          </a:ln>
        </p:spPr>
      </p:pic>
      <p:sp>
        <p:nvSpPr>
          <p:cNvPr id="215" name="WordArt 9"/>
          <p:cNvSpPr txBox="1"/>
          <p:nvPr/>
        </p:nvSpPr>
        <p:spPr>
          <a:xfrm>
            <a:off x="2843280" y="299736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WordArt 10"/>
          <p:cNvSpPr txBox="1"/>
          <p:nvPr/>
        </p:nvSpPr>
        <p:spPr>
          <a:xfrm>
            <a:off x="4427640" y="2708280"/>
            <a:ext cx="50472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WordArt 11"/>
          <p:cNvSpPr txBox="1"/>
          <p:nvPr/>
        </p:nvSpPr>
        <p:spPr>
          <a:xfrm>
            <a:off x="5867280" y="4076640"/>
            <a:ext cx="5050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WordArt 12"/>
          <p:cNvSpPr txBox="1"/>
          <p:nvPr/>
        </p:nvSpPr>
        <p:spPr>
          <a:xfrm>
            <a:off x="7596360" y="2708280"/>
            <a:ext cx="6490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AutoShape 13"/>
          <p:cNvSpPr/>
          <p:nvPr/>
        </p:nvSpPr>
        <p:spPr>
          <a:xfrm>
            <a:off x="3132000" y="0"/>
            <a:ext cx="3311640" cy="2205000"/>
          </a:xfrm>
          <a:custGeom>
            <a:avLst/>
            <a:gdLst>
              <a:gd name="textAreaLeft" fmla="*/ 756000 w 3311640"/>
              <a:gd name="textAreaRight" fmla="*/ 2555640 w 3311640"/>
              <a:gd name="textAreaTop" fmla="*/ 503280 h 2205000"/>
              <a:gd name="textAreaBottom" fmla="*/ 170172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WordArt 14"/>
          <p:cNvSpPr txBox="1"/>
          <p:nvPr/>
        </p:nvSpPr>
        <p:spPr>
          <a:xfrm>
            <a:off x="4067280" y="260280"/>
            <a:ext cx="12952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Picture 15" descr="Картинка 9 из 2046"/>
          <p:cNvPicPr/>
          <p:nvPr/>
        </p:nvPicPr>
        <p:blipFill>
          <a:blip r:embed="rId2"/>
          <a:stretch/>
        </p:blipFill>
        <p:spPr>
          <a:xfrm>
            <a:off x="1042920" y="2492280"/>
            <a:ext cx="1411200" cy="20098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8"/>
          <p:cNvSpPr/>
          <p:nvPr/>
        </p:nvSpPr>
        <p:spPr>
          <a:xfrm>
            <a:off x="324000" y="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86800" cy="36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утешить числ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его гости соединились знаком «+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, о чудо, сумма оказалась равной самому числу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! Единица сказала, что всякое число, которое равно сумме своих меньших делителей, называется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совершенным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 чт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совершенное число.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5" name="Picture 10" descr="Картинка 9 из 2046"/>
          <p:cNvPicPr/>
          <p:nvPr/>
        </p:nvPicPr>
        <p:blipFill>
          <a:blip r:embed="rId1"/>
          <a:stretch/>
        </p:blipFill>
        <p:spPr>
          <a:xfrm>
            <a:off x="7380360" y="3573360"/>
            <a:ext cx="2249280" cy="328464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250920" y="1341360"/>
            <a:ext cx="8424720" cy="517536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4" descr="Картинка 9 из 2046"/>
          <p:cNvPicPr/>
          <p:nvPr/>
        </p:nvPicPr>
        <p:blipFill>
          <a:blip r:embed="rId1"/>
          <a:stretch/>
        </p:blipFill>
        <p:spPr>
          <a:xfrm>
            <a:off x="900000" y="2421000"/>
            <a:ext cx="1411560" cy="2009880"/>
          </a:xfrm>
          <a:prstGeom prst="rect">
            <a:avLst/>
          </a:prstGeom>
          <a:ln w="0">
            <a:noFill/>
          </a:ln>
        </p:spPr>
      </p:pic>
      <p:sp>
        <p:nvSpPr>
          <p:cNvPr id="230" name="WordArt 5"/>
          <p:cNvSpPr txBox="1"/>
          <p:nvPr/>
        </p:nvSpPr>
        <p:spPr>
          <a:xfrm>
            <a:off x="2627280" y="242100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3780000" y="299736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WordArt 7"/>
          <p:cNvSpPr txBox="1"/>
          <p:nvPr/>
        </p:nvSpPr>
        <p:spPr>
          <a:xfrm>
            <a:off x="5219640" y="2924280"/>
            <a:ext cx="50472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8"/>
          <p:cNvSpPr txBox="1"/>
          <p:nvPr/>
        </p:nvSpPr>
        <p:spPr>
          <a:xfrm>
            <a:off x="6300720" y="2852640"/>
            <a:ext cx="6494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9"/>
          <p:cNvSpPr txBox="1"/>
          <p:nvPr/>
        </p:nvSpPr>
        <p:spPr>
          <a:xfrm>
            <a:off x="2050920" y="2924280"/>
            <a:ext cx="50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10"/>
          <p:cNvSpPr txBox="1"/>
          <p:nvPr/>
        </p:nvSpPr>
        <p:spPr>
          <a:xfrm>
            <a:off x="3276720" y="299736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11"/>
          <p:cNvSpPr txBox="1"/>
          <p:nvPr/>
        </p:nvSpPr>
        <p:spPr>
          <a:xfrm>
            <a:off x="4500720" y="3141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12"/>
          <p:cNvSpPr txBox="1"/>
          <p:nvPr/>
        </p:nvSpPr>
        <p:spPr>
          <a:xfrm>
            <a:off x="5796000" y="3357720"/>
            <a:ext cx="50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13"/>
          <p:cNvSpPr txBox="1"/>
          <p:nvPr/>
        </p:nvSpPr>
        <p:spPr>
          <a:xfrm>
            <a:off x="7093080" y="3429000"/>
            <a:ext cx="50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=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14"/>
          <p:cNvSpPr txBox="1"/>
          <p:nvPr/>
        </p:nvSpPr>
        <p:spPr>
          <a:xfrm>
            <a:off x="7667640" y="2852640"/>
            <a:ext cx="6494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2987640" y="0"/>
            <a:ext cx="3311640" cy="2205000"/>
          </a:xfrm>
          <a:custGeom>
            <a:avLst/>
            <a:gdLst>
              <a:gd name="textAreaLeft" fmla="*/ 756000 w 3311640"/>
              <a:gd name="textAreaRight" fmla="*/ 2555640 w 3311640"/>
              <a:gd name="textAreaTop" fmla="*/ 503280 h 2205000"/>
              <a:gd name="textAreaBottom" fmla="*/ 1701720 h 22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WordArt 16"/>
          <p:cNvSpPr txBox="1"/>
          <p:nvPr/>
        </p:nvSpPr>
        <p:spPr>
          <a:xfrm>
            <a:off x="3995640" y="333360"/>
            <a:ext cx="129564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8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4"/>
          <p:cNvSpPr/>
          <p:nvPr/>
        </p:nvSpPr>
        <p:spPr>
          <a:xfrm>
            <a:off x="250920" y="0"/>
            <a:ext cx="8424720" cy="651672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900000" y="1052640"/>
            <a:ext cx="73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исло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28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брадовалось и спросило, какие есть ещё совершенные числа. Всезнающая  единица объяснила, что совершенные числа встречаются очень редко: среди чисел до миллиона только четыре совершенных. Числ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единственное двузначное совершенное число, есть только одно трёхзначное совершенное число –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496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и только одно однозначно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   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Проверьте, что число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496</a:t>
            </a:r>
            <a:r>
              <a:rPr b="0" i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 совершенное, и найдите однозначное совершенное чис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Picture 6" descr="Картинка 9 из 2046"/>
          <p:cNvPicPr/>
          <p:nvPr/>
        </p:nvPicPr>
        <p:blipFill>
          <a:blip r:embed="rId1"/>
          <a:stretch/>
        </p:blipFill>
        <p:spPr>
          <a:xfrm>
            <a:off x="7246800" y="2997360"/>
            <a:ext cx="2249640" cy="3860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Картинка 9 из 2046"/>
          <p:cNvPicPr/>
          <p:nvPr/>
        </p:nvPicPr>
        <p:blipFill>
          <a:blip r:embed="rId2"/>
          <a:stretch/>
        </p:blipFill>
        <p:spPr>
          <a:xfrm>
            <a:off x="7236000" y="2997360"/>
            <a:ext cx="2249280" cy="38606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4"/>
          <p:cNvSpPr/>
          <p:nvPr/>
        </p:nvSpPr>
        <p:spPr>
          <a:xfrm>
            <a:off x="324000" y="2997360"/>
            <a:ext cx="8424720" cy="294300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3816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042920" y="3357720"/>
            <a:ext cx="712944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слам понравилось приглашать в гости своих меньших делителей. </a:t>
            </a:r>
            <a:r>
              <a:rPr b="0" lang="ru-RU" sz="3200" spc="-1" strike="noStrike">
                <a:solidFill>
                  <a:srgbClr val="6600ff"/>
                </a:solidFill>
                <a:latin typeface="Tahoma"/>
              </a:rPr>
              <a:t>Кто пришёл в гости 30 сентябр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843280" y="765000"/>
            <a:ext cx="3311280" cy="220536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503280 h 2205360"/>
              <a:gd name="textAreaBottom" fmla="*/ 1702080 h 2205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WordArt 6"/>
          <p:cNvSpPr txBox="1"/>
          <p:nvPr/>
        </p:nvSpPr>
        <p:spPr>
          <a:xfrm>
            <a:off x="3851280" y="1125360"/>
            <a:ext cx="1295280" cy="15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4e4c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0</a:t>
            </a:r>
            <a:endParaRPr b="0" lang="en-US" sz="1800" spc="1" strike="noStrike">
              <a:ln w="38160">
                <a:solidFill>
                  <a:srgbClr val="004e4c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AutoShape 10"/>
          <p:cNvSpPr/>
          <p:nvPr/>
        </p:nvSpPr>
        <p:spPr>
          <a:xfrm>
            <a:off x="468360" y="1700280"/>
            <a:ext cx="5616360" cy="4681440"/>
          </a:xfrm>
          <a:prstGeom prst="wedgeRoundRectCallout">
            <a:avLst>
              <a:gd name="adj1" fmla="val 73912"/>
              <a:gd name="adj2" fmla="val -24671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2411280" y="0"/>
            <a:ext cx="4537080" cy="177336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8000" y="1915920"/>
            <a:ext cx="561636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прячьте в одной руке 5-ти рублёвую монету, а в другой - 2-х рублёвую, а я смогу легко определить, в какой руке спрятана 2-х рублёвая монета. Для этого я прошу умножить число рублей в правой руке на 2, а в левой на – на 3 и результаты сложить, а мне сообщить лишь, является сумма чётной или нет.</a:t>
            </a:r>
            <a:r>
              <a:rPr b="0" lang="ru-RU" sz="2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834920" y="40428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Фокусник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57" name="Picture 6" descr="AG00352_"/>
          <p:cNvPicPr/>
          <p:nvPr/>
        </p:nvPicPr>
        <p:blipFill>
          <a:blip r:embed="rId1"/>
          <a:stretch/>
        </p:blipFill>
        <p:spPr>
          <a:xfrm>
            <a:off x="5940360" y="1916280"/>
            <a:ext cx="2936880" cy="37432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8"/>
          <p:cNvSpPr/>
          <p:nvPr/>
        </p:nvSpPr>
        <p:spPr>
          <a:xfrm>
            <a:off x="2195640" y="3860640"/>
            <a:ext cx="6553080" cy="273708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284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179280" y="0"/>
            <a:ext cx="8713800" cy="1989000"/>
          </a:xfrm>
          <a:prstGeom prst="cloudCallout">
            <a:avLst>
              <a:gd name="adj1" fmla="val 40583"/>
              <a:gd name="adj2" fmla="val 53273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643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ahoma"/>
              </a:rPr>
              <a:t>Ответьте на вопрос и приобретите билет на звездолёт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84360" y="4149720"/>
            <a:ext cx="6516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1.Признаки делимости на 2, на3, на 4, на5, на 9,на 10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2.Какие числа называются просты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3.Какие числа называются составным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9" descr="j0293234"/>
          <p:cNvPicPr/>
          <p:nvPr/>
        </p:nvPicPr>
        <p:blipFill>
          <a:blip r:embed="rId1"/>
          <a:stretch/>
        </p:blipFill>
        <p:spPr>
          <a:xfrm>
            <a:off x="7308720" y="5516640"/>
            <a:ext cx="1079640" cy="77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BD13693_"/>
          <p:cNvPicPr/>
          <p:nvPr/>
        </p:nvPicPr>
        <p:blipFill>
          <a:blip r:embed="rId2"/>
          <a:stretch/>
        </p:blipFill>
        <p:spPr>
          <a:xfrm flipH="1">
            <a:off x="468000" y="1557360"/>
            <a:ext cx="6985080" cy="238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j0254500"/>
          <p:cNvPicPr/>
          <p:nvPr/>
        </p:nvPicPr>
        <p:blipFill>
          <a:blip r:embed="rId3"/>
          <a:stretch/>
        </p:blipFill>
        <p:spPr>
          <a:xfrm>
            <a:off x="826920" y="4941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5"/>
          <p:cNvSpPr/>
          <p:nvPr/>
        </p:nvSpPr>
        <p:spPr>
          <a:xfrm>
            <a:off x="1476360" y="2852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Организатор путешествия Кутищева Н.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16" descr="BD13693_"/>
          <p:cNvPicPr/>
          <p:nvPr/>
        </p:nvPicPr>
        <p:blipFill>
          <a:blip r:embed="rId4"/>
          <a:stretch/>
        </p:blipFill>
        <p:spPr>
          <a:xfrm flipH="1">
            <a:off x="610920" y="1557360"/>
            <a:ext cx="6985080" cy="2384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150"/>
                            </p:stCondLst>
                            <p:childTnLst>
                              <p:par>
                                <p:cTn id="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150"/>
                            </p:stCondLst>
                            <p:childTnLst>
                              <p:par>
                                <p:cTn id="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15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915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12"/>
          <p:cNvSpPr/>
          <p:nvPr/>
        </p:nvSpPr>
        <p:spPr>
          <a:xfrm>
            <a:off x="179280" y="1989000"/>
            <a:ext cx="7309080" cy="4319640"/>
          </a:xfrm>
          <a:prstGeom prst="flowChartOnlineStorag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2484360" y="476280"/>
            <a:ext cx="4537080" cy="177336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5843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ля любого натурального числ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пис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0" lang="ru-RU" sz="3200" spc="-1" strike="noStrike">
                <a:solidFill>
                  <a:srgbClr val="f4f03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итаетс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эн факториал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означает произведение натуральных чисел от 1 д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! = 1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2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 3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 …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·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числите 2!, 3!, 4!, 5!, 7!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Picture 6" descr="j0336915"/>
          <p:cNvPicPr/>
          <p:nvPr/>
        </p:nvPicPr>
        <p:blipFill>
          <a:blip r:embed="rId1"/>
          <a:stretch/>
        </p:blipFill>
        <p:spPr>
          <a:xfrm>
            <a:off x="6254640" y="2565360"/>
            <a:ext cx="2889360" cy="35290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j0288869"/>
          <p:cNvPicPr/>
          <p:nvPr/>
        </p:nvPicPr>
        <p:blipFill>
          <a:blip r:embed="rId2"/>
          <a:stretch/>
        </p:blipFill>
        <p:spPr>
          <a:xfrm>
            <a:off x="539640" y="333360"/>
            <a:ext cx="1177920" cy="17272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0"/>
          <p:cNvSpPr/>
          <p:nvPr/>
        </p:nvSpPr>
        <p:spPr>
          <a:xfrm>
            <a:off x="3276720" y="907920"/>
            <a:ext cx="31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Факториа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9" descr="j0174012"/>
          <p:cNvPicPr/>
          <p:nvPr/>
        </p:nvPicPr>
        <p:blipFill>
          <a:blip r:embed="rId1"/>
          <a:stretch/>
        </p:blipFill>
        <p:spPr>
          <a:xfrm>
            <a:off x="-1044720" y="1341360"/>
            <a:ext cx="6193080" cy="61675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Что нового вы узнали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7" descr="BD13693_"/>
          <p:cNvPicPr/>
          <p:nvPr/>
        </p:nvPicPr>
        <p:blipFill>
          <a:blip r:embed="rId2"/>
          <a:stretch/>
        </p:blipFill>
        <p:spPr>
          <a:xfrm>
            <a:off x="2158920" y="2781360"/>
            <a:ext cx="6985080" cy="238428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0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4"/>
          <p:cNvSpPr/>
          <p:nvPr/>
        </p:nvSpPr>
        <p:spPr>
          <a:xfrm>
            <a:off x="324000" y="3141720"/>
            <a:ext cx="6048360" cy="3344760"/>
          </a:xfrm>
          <a:prstGeom prst="wedgeRoundRectCallout">
            <a:avLst>
              <a:gd name="adj1" fmla="val 68004"/>
              <a:gd name="adj2" fmla="val -88064"/>
              <a:gd name="adj3" fmla="val 16667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2400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3284280"/>
            <a:ext cx="5904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Tahoma"/>
              </a:rPr>
              <a:t>Найдите или придумайте сами математический фокус, который основан на свойствах натуральных чисел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Picture 5" descr="AG00352_"/>
          <p:cNvPicPr/>
          <p:nvPr/>
        </p:nvPicPr>
        <p:blipFill>
          <a:blip r:embed="rId1"/>
          <a:stretch/>
        </p:blipFill>
        <p:spPr>
          <a:xfrm>
            <a:off x="6207120" y="907920"/>
            <a:ext cx="2936880" cy="37432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Литература и ресурс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. Никольский С.М «Арифметика 6», «Просвещение», 200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. Шеврин Л.Н. «Математика 5-6» учебник-собеседник, «Просвещение», 198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http://le-savchen.ucoz.ru/load/0-0-0-41-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j0174012"/>
          <p:cNvPicPr/>
          <p:nvPr/>
        </p:nvPicPr>
        <p:blipFill>
          <a:blip r:embed="rId1"/>
          <a:stretch/>
        </p:blipFill>
        <p:spPr>
          <a:xfrm>
            <a:off x="1619280" y="1341360"/>
            <a:ext cx="6192720" cy="6167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BD13693_"/>
          <p:cNvPicPr/>
          <p:nvPr/>
        </p:nvPicPr>
        <p:blipFill>
          <a:blip r:embed="rId2"/>
          <a:stretch/>
        </p:blipFill>
        <p:spPr>
          <a:xfrm flipH="1">
            <a:off x="-360" y="4292640"/>
            <a:ext cx="5761080" cy="1828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5867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cc00"/>
                </a:solidFill>
                <a:latin typeface="Tahoma"/>
              </a:rPr>
              <a:t>Счастливого пути!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0023 C 0.01146 0.00555 -0.00122 -0.00232 0.00677 0.01828 C 0.00764 0.02037 0.01007 0.02013 0.0118 0.02037 C 0.03958 0.02245 0.06736 0.02314 0.09514 0.025 C 0.10347 0.02847 0.11111 0.03726 0.12014 0.03819 C 0.13003 0.03888 0.1401 0.03981 0.15 0.04051 C 0.15173 0.04189 0.15382 0.04259 0.15503 0.04467 C 0.15625 0.04745 0.15573 0.05092 0.15677 0.0537 C 0.1585 0.0581 0.16458 0.07013 0.1684 0.07152 C 0.17274 0.07314 0.17725 0.07314 0.18177 0.07384 C 0.18941 0.08055 0.19062 0.08726 0.2 0.09166 C 0.2118 0.10671 0.22552 0.12129 0.24166 0.125 C 0.24774 0.12893 0.25364 0.13078 0.26007 0.13356 C 0.29826 0.17268 0.42534 0.1581 0.43837 0.15833 C 0.49357 0.16527 0.46284 0.16226 0.57673 0.15833 C 0.59548 0.15763 0.61684 0.14884 0.63507 0.14259 C 0.66337 0.13287 0.69288 0.1243 0.7217 0.11828 C 0.73385 0.11296 0.74271 0.10763 0.75347 0.09814 C 0.75486 0.09699 0.75677 0.09699 0.75833 0.09606 C 0.76927 0.08912 0.77934 0.08078 0.7901 0.07384 C 0.79739 0.06412 0.80642 0.05694 0.8151 0.0493 C 0.81684 0.04791 0.8184 0.04629 0.82014 0.04467 C 0.8217 0.04351 0.825 0.04051 0.825 0.04051 C 0.82621 0.03819 0.82725 0.03588 0.82847 0.03356 C 0.83003 0.03148 0.83194 0.02963 0.83333 0.02708 C 0.83576 0.02291 0.8401 0.01388 0.8401 0.01388 C 0.84184 0.00625 0.84444 0.0037 0.84843 -0.00186 C 0.85017 -0.00926 0.85347 -0.01297 0.85677 -0.01968 C 0.85729 -0.02199 0.85746 -0.02408 0.85833 -0.02639 C 0.8592 -0.02824 0.86146 -0.02848 0.8618 -0.03079 C 0.86319 -0.03889 0.86284 -0.04699 0.86337 -0.05533 C 0.86284 -0.13218 0.86337 -0.20926 0.8618 -0.28635 C 0.86163 -0.29491 0.8559 -0.30718 0.85173 -0.31297 C 0.85052 -0.31737 0.85017 -0.32199 0.84843 -0.32639 C 0.84653 -0.33079 0.84166 -0.33959 0.84166 -0.33959 C 0.83993 -0.34699 0.83906 -0.35186 0.83507 -0.35741 C 0.83194 -0.36899 0.8342 -0.36227 0.82673 -0.37755 C 0.82361 -0.3838 0.82153 -0.3926 0.8184 -0.39954 C 0.81632 -0.40417 0.81406 -0.40857 0.8118 -0.41297 C 0.81076 -0.41528 0.80833 -0.41968 0.80833 -0.41968 C 0.8059 -0.42987 0.80121 -0.43936 0.7967 -0.44838 C 0.79271 -0.46574 0.78281 -0.47709 0.775 -0.49074 C 0.76528 -0.50787 0.77274 -0.50024 0.76337 -0.50857 C 0.75451 -0.52616 0.76007 -0.51875 0.7467 -0.53079 C 0.7408 -0.53565 0.74305 -0.54028 0.73507 -0.54399 C 0.72621 -0.55579 0.71718 -0.56783 0.70833 -0.57963 C 0.70555 -0.58334 0.70225 -0.58704 0.69843 -0.58843 C 0.69514 -0.59005 0.68837 -0.59283 0.68837 -0.59283 C 0.68316 -0.6 0.68038 -0.60116 0.67343 -0.60394 C 0.65885 -0.61667 0.63854 -0.61875 0.6217 -0.62176 C 0.52396 -0.62037 0.43055 -0.61389 0.33333 -0.60857 C 0.3243 -0.60602 0.3158 -0.60209 0.30677 -0.59954 C 0.29479 -0.5919 0.28003 -0.58542 0.27014 -0.57315 C 0.26371 -0.56482 0.25694 -0.55417 0.24843 -0.55093 C 0.24514 -0.54769 0.24166 -0.54468 0.23837 -0.5419 C 0.22239 -0.52778 0.22847 -0.53287 0.2 -0.53079 C 0.14166 -0.53149 0.08333 -0.53149 0.025 -0.53287 C 0.01805 -0.53334 0.00503 -0.5419 0.00503 -0.5419 C 0.00399 -0.54352 0.00312 -0.54537 0.00173 -0.5463 C 0.00017 -0.54746 -0.00191 -0.54723 -0.0033 -0.54838 C -0.00486 -0.55 -0.00521 -0.55324 -0.0066 -0.5551 C -0.00799 -0.55695 -0.0099 -0.55834 -0.01163 -0.55949 C -0.01459 -0.57246 -0.01181 -0.60741 0.00173 -0.61297 C 0.0085 -0.61598 0.00503 -0.61436 0.0118 -0.6176 C 0.01909 -0.625 0.02118 -0.62362 0.02847 -0.62871 C 0.0368 -0.63449 0.04236 -0.64445 0.05173 -0.64838 C 0.07274 -0.66667 0.10451 -0.68612 0.13003 -0.68843 C 0.14218 -0.68982 0.15451 -0.69005 0.16666 -0.69074 C 0.31718 -0.72871 0.25712 -0.69769 0.5901 -0.69954 C 0.60642 -0.70695 0.62465 -0.71204 0.64166 -0.71505 C 0.66597 -0.72616 0.69982 -0.72246 0.72673 -0.72616 C 0.74132 -0.73149 0.74635 -0.73149 0.7651 -0.73287 C 0.78159 -0.73889 0.79809 -0.74491 0.8151 -0.74838 C 0.81944 -0.75047 0.8243 -0.75024 0.82847 -0.75278 C 0.82986 -0.75371 0.83038 -0.75649 0.83177 -0.75741 C 0.83472 -0.75973 0.83837 -0.76019 0.84166 -0.76204 C 0.84618 -0.7676 0.85087 -0.77037 0.85677 -0.77315 C 0.8618 -0.77963 0.86493 -0.78334 0.8717 -0.78612 C 0.87778 -0.79468 0.87361 -0.78982 0.88507 -0.79954 C 0.8868 -0.80093 0.8901 -0.80394 0.8901 -0.80394 C 0.89357 -0.81875 0.90677 -0.83056 0.9151 -0.84167 C 0.91909 -0.84699 0.92847 -0.8551 0.92847 -0.8551 C 0.92951 -0.85741 0.93038 -0.85996 0.93177 -0.86181 C 0.93316 -0.86366 0.93541 -0.86412 0.9368 -0.86621 C 0.94444 -0.87778 0.94653 -0.89213 0.95833 -0.89723 C 0.96475 -0.90579 0.97465 -0.90764 0.98333 -0.91065 C 0.98646 -0.91343 0.99028 -0.91459 0.9934 -0.91737 C 0.99531 -0.91922 0.99653 -0.92246 0.99843 -0.92408 C 1.00278 -0.92778 1.01041 -0.92871 1.0151 -0.93056 C 1.02795 -0.93565 1.02083 -0.93519 1.02847 -0.93519 E">
                                      <p:cBhvr>
                                        <p:cTn id="101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10"/>
          <p:cNvSpPr/>
          <p:nvPr/>
        </p:nvSpPr>
        <p:spPr>
          <a:xfrm>
            <a:off x="900000" y="333360"/>
            <a:ext cx="7056720" cy="158292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7640" y="764640"/>
            <a:ext cx="431964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Эратосфен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7" name="Picture 6" descr="Рисунок1"/>
          <p:cNvPicPr/>
          <p:nvPr/>
        </p:nvPicPr>
        <p:blipFill>
          <a:blip r:embed="rId1"/>
          <a:stretch/>
        </p:blipFill>
        <p:spPr>
          <a:xfrm>
            <a:off x="324000" y="2421000"/>
            <a:ext cx="2670120" cy="2994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J0076228"/>
          <p:cNvPicPr/>
          <p:nvPr/>
        </p:nvPicPr>
        <p:blipFill>
          <a:blip r:embed="rId2"/>
          <a:stretch/>
        </p:blipFill>
        <p:spPr>
          <a:xfrm flipH="1" rot="10800000">
            <a:off x="2484360" y="1699560"/>
            <a:ext cx="9647280" cy="310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BD13693_"/>
          <p:cNvPicPr/>
          <p:nvPr/>
        </p:nvPicPr>
        <p:blipFill>
          <a:blip r:embed="rId3"/>
          <a:stretch/>
        </p:blipFill>
        <p:spPr>
          <a:xfrm flipH="1">
            <a:off x="0" y="4724280"/>
            <a:ext cx="5472000" cy="18781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фон"/>
          <p:cNvPicPr/>
          <p:nvPr/>
        </p:nvPicPr>
        <p:blipFill>
          <a:blip r:embed="rId1"/>
          <a:stretch/>
        </p:blipFill>
        <p:spPr>
          <a:xfrm>
            <a:off x="0" y="-592200"/>
            <a:ext cx="10812600" cy="8110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1340280" y="324000"/>
            <a:ext cx="8038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      3     4     5    6    7    8   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1     12     13     14     15     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7      18     19      20       21      22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3    24     25      26      27     28      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0      31      32     33      34      35     3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7     38     39     40     41     42     43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4       45     46       47      48      49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1943280" y="596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41781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6"/>
          <p:cNvSpPr/>
          <p:nvPr/>
        </p:nvSpPr>
        <p:spPr>
          <a:xfrm>
            <a:off x="5473800" y="6476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7"/>
          <p:cNvSpPr/>
          <p:nvPr/>
        </p:nvSpPr>
        <p:spPr>
          <a:xfrm>
            <a:off x="66927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1955880" y="14731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3759120" y="144792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Group 10"/>
          <p:cNvGrpSpPr/>
          <p:nvPr/>
        </p:nvGrpSpPr>
        <p:grpSpPr>
          <a:xfrm>
            <a:off x="2022840" y="-402840"/>
            <a:ext cx="624600" cy="1117800"/>
            <a:chOff x="2022840" y="-402840"/>
            <a:chExt cx="624600" cy="1117800"/>
          </a:xfrm>
        </p:grpSpPr>
        <p:sp>
          <p:nvSpPr>
            <p:cNvPr id="80" name="Freeform 11"/>
            <p:cNvSpPr/>
            <p:nvPr/>
          </p:nvSpPr>
          <p:spPr>
            <a:xfrm rot="1159200">
              <a:off x="2196000" y="-38988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12"/>
            <p:cNvSpPr/>
            <p:nvPr/>
          </p:nvSpPr>
          <p:spPr>
            <a:xfrm rot="1159200">
              <a:off x="2479320" y="-33876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Oval 13"/>
          <p:cNvSpPr/>
          <p:nvPr/>
        </p:nvSpPr>
        <p:spPr>
          <a:xfrm>
            <a:off x="5600880" y="14097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7480440" y="14349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3314880" y="23241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5168880" y="23749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Oval 17"/>
          <p:cNvSpPr/>
          <p:nvPr/>
        </p:nvSpPr>
        <p:spPr>
          <a:xfrm>
            <a:off x="7353360" y="2324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18"/>
          <p:cNvSpPr/>
          <p:nvPr/>
        </p:nvSpPr>
        <p:spPr>
          <a:xfrm>
            <a:off x="3086280" y="33400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4991040" y="32893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20"/>
          <p:cNvSpPr/>
          <p:nvPr/>
        </p:nvSpPr>
        <p:spPr>
          <a:xfrm>
            <a:off x="692136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21"/>
          <p:cNvSpPr/>
          <p:nvPr/>
        </p:nvSpPr>
        <p:spPr>
          <a:xfrm>
            <a:off x="448308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22"/>
          <p:cNvSpPr/>
          <p:nvPr/>
        </p:nvSpPr>
        <p:spPr>
          <a:xfrm>
            <a:off x="643896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23"/>
          <p:cNvSpPr/>
          <p:nvPr/>
        </p:nvSpPr>
        <p:spPr>
          <a:xfrm>
            <a:off x="8318520" y="4178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24"/>
          <p:cNvSpPr/>
          <p:nvPr/>
        </p:nvSpPr>
        <p:spPr>
          <a:xfrm>
            <a:off x="3441600" y="5168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714996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534672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252720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4737240" y="60832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6870600" y="6058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30"/>
          <p:cNvSpPr/>
          <p:nvPr/>
        </p:nvSpPr>
        <p:spPr>
          <a:xfrm>
            <a:off x="7327800" y="622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31"/>
          <p:cNvSpPr/>
          <p:nvPr/>
        </p:nvSpPr>
        <p:spPr>
          <a:xfrm>
            <a:off x="6438960" y="1486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32"/>
          <p:cNvSpPr/>
          <p:nvPr/>
        </p:nvSpPr>
        <p:spPr>
          <a:xfrm>
            <a:off x="603252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33"/>
          <p:cNvSpPr/>
          <p:nvPr/>
        </p:nvSpPr>
        <p:spPr>
          <a:xfrm>
            <a:off x="5372280" y="4280040"/>
            <a:ext cx="12672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34"/>
          <p:cNvSpPr/>
          <p:nvPr/>
        </p:nvSpPr>
        <p:spPr>
          <a:xfrm>
            <a:off x="4368960" y="5168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35"/>
          <p:cNvSpPr/>
          <p:nvPr/>
        </p:nvSpPr>
        <p:spPr>
          <a:xfrm>
            <a:off x="2654280" y="61088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36"/>
          <p:cNvSpPr/>
          <p:nvPr/>
        </p:nvSpPr>
        <p:spPr>
          <a:xfrm>
            <a:off x="3809880" y="615960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37"/>
          <p:cNvSpPr/>
          <p:nvPr/>
        </p:nvSpPr>
        <p:spPr>
          <a:xfrm>
            <a:off x="6286680" y="23749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38"/>
          <p:cNvSpPr/>
          <p:nvPr/>
        </p:nvSpPr>
        <p:spPr>
          <a:xfrm>
            <a:off x="4000680" y="32893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39"/>
          <p:cNvSpPr/>
          <p:nvPr/>
        </p:nvSpPr>
        <p:spPr>
          <a:xfrm>
            <a:off x="7454880" y="42544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Group 40"/>
          <p:cNvGrpSpPr/>
          <p:nvPr/>
        </p:nvGrpSpPr>
        <p:grpSpPr>
          <a:xfrm>
            <a:off x="6202440" y="-383760"/>
            <a:ext cx="625320" cy="1118160"/>
            <a:chOff x="6202440" y="-383760"/>
            <a:chExt cx="625320" cy="1118160"/>
          </a:xfrm>
        </p:grpSpPr>
        <p:sp>
          <p:nvSpPr>
            <p:cNvPr id="110" name="Freeform 41"/>
            <p:cNvSpPr/>
            <p:nvPr/>
          </p:nvSpPr>
          <p:spPr>
            <a:xfrm rot="1159200">
              <a:off x="6375600" y="-370800"/>
              <a:ext cx="26388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42"/>
            <p:cNvSpPr/>
            <p:nvPr/>
          </p:nvSpPr>
          <p:spPr>
            <a:xfrm rot="1159200">
              <a:off x="6659280" y="-319680"/>
              <a:ext cx="15552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Oval 43"/>
          <p:cNvSpPr/>
          <p:nvPr/>
        </p:nvSpPr>
        <p:spPr>
          <a:xfrm>
            <a:off x="7912080" y="61340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44"/>
          <p:cNvGrpSpPr/>
          <p:nvPr/>
        </p:nvGrpSpPr>
        <p:grpSpPr>
          <a:xfrm>
            <a:off x="7447320" y="-345600"/>
            <a:ext cx="624600" cy="1117800"/>
            <a:chOff x="7447320" y="-345600"/>
            <a:chExt cx="624600" cy="1117800"/>
          </a:xfrm>
        </p:grpSpPr>
        <p:sp>
          <p:nvSpPr>
            <p:cNvPr id="114" name="Freeform 45"/>
            <p:cNvSpPr/>
            <p:nvPr/>
          </p:nvSpPr>
          <p:spPr>
            <a:xfrm rot="1159200">
              <a:off x="7620480" y="-33264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46"/>
            <p:cNvSpPr/>
            <p:nvPr/>
          </p:nvSpPr>
          <p:spPr>
            <a:xfrm rot="1159200">
              <a:off x="7903800" y="-28152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Group 47"/>
          <p:cNvGrpSpPr/>
          <p:nvPr/>
        </p:nvGrpSpPr>
        <p:grpSpPr>
          <a:xfrm>
            <a:off x="4932720" y="-205920"/>
            <a:ext cx="624600" cy="1117800"/>
            <a:chOff x="4932720" y="-205920"/>
            <a:chExt cx="624600" cy="1117800"/>
          </a:xfrm>
        </p:grpSpPr>
        <p:sp>
          <p:nvSpPr>
            <p:cNvPr id="117" name="Freeform 48"/>
            <p:cNvSpPr/>
            <p:nvPr/>
          </p:nvSpPr>
          <p:spPr>
            <a:xfrm rot="1159200">
              <a:off x="5105880" y="-192960"/>
              <a:ext cx="263520" cy="1092240"/>
            </a:xfrm>
            <a:custGeom>
              <a:avLst/>
              <a:gdLst/>
              <a:ahLst/>
              <a:rect l="l" t="t" r="r" b="b"/>
              <a:pathLst>
                <a:path w="272" h="1360">
                  <a:moveTo>
                    <a:pt x="272" y="96"/>
                  </a:moveTo>
                  <a:lnTo>
                    <a:pt x="16" y="1360"/>
                  </a:lnTo>
                  <a:lnTo>
                    <a:pt x="0" y="1280"/>
                  </a:lnTo>
                  <a:lnTo>
                    <a:pt x="128" y="0"/>
                  </a:lnTo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49"/>
            <p:cNvSpPr/>
            <p:nvPr/>
          </p:nvSpPr>
          <p:spPr>
            <a:xfrm rot="1159200">
              <a:off x="5389200" y="-141840"/>
              <a:ext cx="155160" cy="102600"/>
            </a:xfrm>
            <a:custGeom>
              <a:avLst/>
              <a:gdLst/>
              <a:ahLst/>
              <a:rect l="l" t="t" r="r" b="b"/>
              <a:pathLst>
                <a:path w="160" h="128">
                  <a:moveTo>
                    <a:pt x="0" y="0"/>
                  </a:moveTo>
                  <a:lnTo>
                    <a:pt x="32" y="112"/>
                  </a:lnTo>
                  <a:lnTo>
                    <a:pt x="112" y="128"/>
                  </a:lnTo>
                  <a:lnTo>
                    <a:pt x="16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Text Box 50"/>
          <p:cNvSpPr/>
          <p:nvPr/>
        </p:nvSpPr>
        <p:spPr>
          <a:xfrm>
            <a:off x="775800" y="2616120"/>
            <a:ext cx="373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Решет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Эратосфен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1" descr="Eratosthenes"/>
          <p:cNvPicPr/>
          <p:nvPr/>
        </p:nvPicPr>
        <p:blipFill>
          <a:blip r:embed="rId2"/>
          <a:stretch/>
        </p:blipFill>
        <p:spPr>
          <a:xfrm>
            <a:off x="717480" y="4191120"/>
            <a:ext cx="1486080" cy="2259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4.07407E-006 L 0.38611 0.01111 E">
                                      <p:cBhvr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611 0.01111 L 0.51944 0.01111 E">
                                      <p:cBhvr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944 0.01111 L -0.00556 0.12963 E">
                                      <p:cBhvr>
                                        <p:cTn id="19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0.12963 L 0.19722 0.12592 E">
                                      <p:cBhvr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722 0.12592 L 0.4 0.12592 E">
                                      <p:cBhvr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 0.12592 L 0.6 0.11851 E">
                                      <p:cBhvr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 0.11851 L 0.13333 0.25926 E">
                                      <p:cBhvr>
                                        <p:cTn id="23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33 0.25926 L 0.35555 0.25185 E">
                                      <p:cBhvr>
                                        <p:cTn id="24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555 0.25185 L 0.58611 0.25926 E">
                                      <p:cBhvr>
                                        <p:cTn id="25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611 0.25926 L 0.11389 0.38888 E">
                                      <p:cBhvr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89 0.38888 L 0.33889 0.38518 E">
                                      <p:cBhvr>
                                        <p:cTn id="2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889 0.38518 L 0.55277 0.38518 E">
                                      <p:cBhvr>
                                        <p:cTn id="2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278 0.38518 L 0.04723 0.52592 E">
                                      <p:cBhvr>
                                        <p:cTn id="29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52592 L 0.29444 0.51851 E">
                                      <p:cBhvr>
                                        <p:cTn id="30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444 0.51851 L 0.50277 0.51851 E">
                                      <p:cBhvr>
                                        <p:cTn id="31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277 0.51851 L 0.71666 0.51851 E">
                                      <p:cBhvr>
                                        <p:cTn id="32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33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66 0.51851 L 0.15555 0.65926 E">
                                      <p:cBhvr>
                                        <p:cTn id="33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55 0.65926 L 0.38055 0.64814 E">
                                      <p:cBhvr>
                                        <p:cTn id="34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5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055 0.64814 L 0.58055 0.65555 E">
                                      <p:cBhvr>
                                        <p:cTn id="35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3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55 0.65555 L 0.08611 0.8074 E">
                                      <p:cBhvr>
                                        <p:cTn id="36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3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11 0.8074 L 0.30555 0.8 E">
                                      <p:cBhvr>
                                        <p:cTn id="37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555 0.8 L 0.56111 0.79629 E">
                                      <p:cBhvr>
                                        <p:cTn id="38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3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-0.08611 0.12592 E">
                                      <p:cBhvr>
                                        <p:cTn id="42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0.12592 L -0.11389 0.25925 E">
                                      <p:cBhvr>
                                        <p:cTn id="43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389 0.25925 L -0.13611 0.38518 E">
                                      <p:cBhvr>
                                        <p:cTn id="44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611 0.38518 L -0.21389 0.53333 E">
                                      <p:cBhvr>
                                        <p:cTn id="45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89 0.53333 L -0.32222 0.67777 E">
                                      <p:cBhvr>
                                        <p:cTn id="46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22 0.67777 L -0.38333 0.82222 E">
                                      <p:cBhvr>
                                        <p:cTn id="474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L -0.10833 0.37778 E">
                                      <p:cBhvr>
                                        <p:cTn id="507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833 0.37778 L 0.27778 0.51852 E">
                                      <p:cBhvr>
                                        <p:cTn id="518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18611 0.8037 E">
                                      <p:cBhvr>
                                        <p:cTn id="55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фон"/>
          <p:cNvPicPr/>
          <p:nvPr/>
        </p:nvPicPr>
        <p:blipFill>
          <a:blip r:embed="rId1"/>
          <a:stretch/>
        </p:blipFill>
        <p:spPr>
          <a:xfrm>
            <a:off x="0" y="-592200"/>
            <a:ext cx="10812600" cy="8110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340280" y="324000"/>
            <a:ext cx="8038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      3     4     5    6    7    8   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1     12     13      14     15      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7      18     19      20       21      22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3    24     25      26      27     28      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0      31      32     33      34      35     3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7     38     39     40     41     42     43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4       45     46       47      48      49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38572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1943280" y="596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6"/>
          <p:cNvSpPr/>
          <p:nvPr/>
        </p:nvSpPr>
        <p:spPr>
          <a:xfrm>
            <a:off x="41781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5473800" y="6476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6692760" y="596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1955880" y="14731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3822840" y="14097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5600880" y="138420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7556400" y="14097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13"/>
          <p:cNvSpPr/>
          <p:nvPr/>
        </p:nvSpPr>
        <p:spPr>
          <a:xfrm>
            <a:off x="3314880" y="232416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14"/>
          <p:cNvSpPr/>
          <p:nvPr/>
        </p:nvSpPr>
        <p:spPr>
          <a:xfrm>
            <a:off x="5168880" y="23749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7353360" y="2324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6"/>
          <p:cNvSpPr/>
          <p:nvPr/>
        </p:nvSpPr>
        <p:spPr>
          <a:xfrm>
            <a:off x="3086280" y="33400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17"/>
          <p:cNvSpPr/>
          <p:nvPr/>
        </p:nvSpPr>
        <p:spPr>
          <a:xfrm>
            <a:off x="4991040" y="328932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18"/>
          <p:cNvSpPr/>
          <p:nvPr/>
        </p:nvSpPr>
        <p:spPr>
          <a:xfrm>
            <a:off x="692136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19"/>
          <p:cNvSpPr/>
          <p:nvPr/>
        </p:nvSpPr>
        <p:spPr>
          <a:xfrm>
            <a:off x="448308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20"/>
          <p:cNvSpPr/>
          <p:nvPr/>
        </p:nvSpPr>
        <p:spPr>
          <a:xfrm>
            <a:off x="643896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21"/>
          <p:cNvSpPr/>
          <p:nvPr/>
        </p:nvSpPr>
        <p:spPr>
          <a:xfrm>
            <a:off x="8318520" y="417816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22"/>
          <p:cNvSpPr/>
          <p:nvPr/>
        </p:nvSpPr>
        <p:spPr>
          <a:xfrm>
            <a:off x="3441600" y="51688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714996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24"/>
          <p:cNvSpPr/>
          <p:nvPr/>
        </p:nvSpPr>
        <p:spPr>
          <a:xfrm>
            <a:off x="5346720" y="5194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25"/>
          <p:cNvSpPr/>
          <p:nvPr/>
        </p:nvSpPr>
        <p:spPr>
          <a:xfrm>
            <a:off x="2527200" y="42292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26"/>
          <p:cNvSpPr/>
          <p:nvPr/>
        </p:nvSpPr>
        <p:spPr>
          <a:xfrm>
            <a:off x="4737240" y="60832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6870600" y="6058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28"/>
          <p:cNvSpPr/>
          <p:nvPr/>
        </p:nvSpPr>
        <p:spPr>
          <a:xfrm>
            <a:off x="7327800" y="6224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29"/>
          <p:cNvSpPr/>
          <p:nvPr/>
        </p:nvSpPr>
        <p:spPr>
          <a:xfrm>
            <a:off x="6438960" y="148608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30"/>
          <p:cNvSpPr/>
          <p:nvPr/>
        </p:nvSpPr>
        <p:spPr>
          <a:xfrm>
            <a:off x="6032520" y="33400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31"/>
          <p:cNvSpPr/>
          <p:nvPr/>
        </p:nvSpPr>
        <p:spPr>
          <a:xfrm>
            <a:off x="5372280" y="4280040"/>
            <a:ext cx="12672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32"/>
          <p:cNvSpPr/>
          <p:nvPr/>
        </p:nvSpPr>
        <p:spPr>
          <a:xfrm>
            <a:off x="4368960" y="516888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33"/>
          <p:cNvSpPr/>
          <p:nvPr/>
        </p:nvSpPr>
        <p:spPr>
          <a:xfrm>
            <a:off x="2654280" y="6108840"/>
            <a:ext cx="127080" cy="12672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34"/>
          <p:cNvSpPr/>
          <p:nvPr/>
        </p:nvSpPr>
        <p:spPr>
          <a:xfrm>
            <a:off x="3809880" y="615960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35"/>
          <p:cNvSpPr/>
          <p:nvPr/>
        </p:nvSpPr>
        <p:spPr>
          <a:xfrm>
            <a:off x="6286680" y="23749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36"/>
          <p:cNvSpPr/>
          <p:nvPr/>
        </p:nvSpPr>
        <p:spPr>
          <a:xfrm>
            <a:off x="4000680" y="3289320"/>
            <a:ext cx="12672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37"/>
          <p:cNvSpPr/>
          <p:nvPr/>
        </p:nvSpPr>
        <p:spPr>
          <a:xfrm>
            <a:off x="7454880" y="425448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38"/>
          <p:cNvSpPr/>
          <p:nvPr/>
        </p:nvSpPr>
        <p:spPr>
          <a:xfrm>
            <a:off x="7912080" y="6134040"/>
            <a:ext cx="127080" cy="127080"/>
          </a:xfrm>
          <a:prstGeom prst="ellipse">
            <a:avLst/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338904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481140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1"/>
          <p:cNvSpPr/>
          <p:nvPr/>
        </p:nvSpPr>
        <p:spPr>
          <a:xfrm>
            <a:off x="6030720" y="22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2"/>
          <p:cNvSpPr/>
          <p:nvPr/>
        </p:nvSpPr>
        <p:spPr>
          <a:xfrm>
            <a:off x="2678040" y="10764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43"/>
          <p:cNvSpPr/>
          <p:nvPr/>
        </p:nvSpPr>
        <p:spPr>
          <a:xfrm>
            <a:off x="4506840" y="10764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4"/>
          <p:cNvSpPr/>
          <p:nvPr/>
        </p:nvSpPr>
        <p:spPr>
          <a:xfrm>
            <a:off x="2119320" y="19908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45"/>
          <p:cNvSpPr/>
          <p:nvPr/>
        </p:nvSpPr>
        <p:spPr>
          <a:xfrm>
            <a:off x="5775480" y="5861160"/>
            <a:ext cx="107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46"/>
          <p:cNvSpPr/>
          <p:nvPr/>
        </p:nvSpPr>
        <p:spPr>
          <a:xfrm>
            <a:off x="4049640" y="19908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1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7"/>
          <p:cNvSpPr/>
          <p:nvPr/>
        </p:nvSpPr>
        <p:spPr>
          <a:xfrm>
            <a:off x="2119320" y="29052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8"/>
          <p:cNvSpPr/>
          <p:nvPr/>
        </p:nvSpPr>
        <p:spPr>
          <a:xfrm>
            <a:off x="7808760" y="29052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29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9"/>
          <p:cNvSpPr/>
          <p:nvPr/>
        </p:nvSpPr>
        <p:spPr>
          <a:xfrm>
            <a:off x="3338280" y="38703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50"/>
          <p:cNvSpPr/>
          <p:nvPr/>
        </p:nvSpPr>
        <p:spPr>
          <a:xfrm>
            <a:off x="2422440" y="4883040"/>
            <a:ext cx="8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37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1"/>
          <p:cNvSpPr/>
          <p:nvPr/>
        </p:nvSpPr>
        <p:spPr>
          <a:xfrm>
            <a:off x="6080040" y="4883040"/>
            <a:ext cx="87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2"/>
          <p:cNvSpPr/>
          <p:nvPr/>
        </p:nvSpPr>
        <p:spPr>
          <a:xfrm>
            <a:off x="7908840" y="4883040"/>
            <a:ext cx="94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43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9"/>
          <p:cNvSpPr/>
          <p:nvPr/>
        </p:nvSpPr>
        <p:spPr>
          <a:xfrm>
            <a:off x="468360" y="404640"/>
            <a:ext cx="8064360" cy="2592720"/>
          </a:xfrm>
          <a:prstGeom prst="wedgeRoundRectCallout">
            <a:avLst>
              <a:gd name="adj1" fmla="val -1652"/>
              <a:gd name="adj2" fmla="val 97703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Задание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помощью таблицы простых чисел определите, является ли простым числ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7, 69,127, 301, 447, 517, 673, 879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5" descr="BD13631_"/>
          <p:cNvPicPr/>
          <p:nvPr/>
        </p:nvPicPr>
        <p:blipFill>
          <a:blip r:embed="rId2"/>
          <a:stretch/>
        </p:blipFill>
        <p:spPr>
          <a:xfrm>
            <a:off x="4716360" y="3429000"/>
            <a:ext cx="2398680" cy="3429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-468360" y="5300280"/>
            <a:ext cx="651672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Планета Решай-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11" descr="j0354673"/>
          <p:cNvPicPr/>
          <p:nvPr/>
        </p:nvPicPr>
        <p:blipFill>
          <a:blip r:embed="rId3"/>
          <a:stretch/>
        </p:blipFill>
        <p:spPr>
          <a:xfrm>
            <a:off x="6877080" y="4653000"/>
            <a:ext cx="3240000" cy="23763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9"/>
          <p:cNvSpPr/>
          <p:nvPr/>
        </p:nvSpPr>
        <p:spPr>
          <a:xfrm>
            <a:off x="2987640" y="0"/>
            <a:ext cx="5905440" cy="4365720"/>
          </a:xfrm>
          <a:prstGeom prst="wedgeRoundRectCallout">
            <a:avLst>
              <a:gd name="adj1" fmla="val -69379"/>
              <a:gd name="adj2" fmla="val 46365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76360" y="188640"/>
            <a:ext cx="56163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Задание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кую цифру мож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оставить вместо звёздочк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чтобы полученное число делилось на 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4*  ; 6*7 ; 5*4 ; 7*2 ; 85*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4*0; 738* ; 2090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BD13631_"/>
          <p:cNvPicPr/>
          <p:nvPr/>
        </p:nvPicPr>
        <p:blipFill>
          <a:blip r:embed="rId2"/>
          <a:stretch/>
        </p:blipFill>
        <p:spPr>
          <a:xfrm flipH="1">
            <a:off x="0" y="3141720"/>
            <a:ext cx="2038320" cy="3429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1" descr="j0354673"/>
          <p:cNvPicPr/>
          <p:nvPr/>
        </p:nvPicPr>
        <p:blipFill>
          <a:blip r:embed="rId3"/>
          <a:stretch/>
        </p:blipFill>
        <p:spPr>
          <a:xfrm>
            <a:off x="6588000" y="4724280"/>
            <a:ext cx="3240360" cy="237672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9"/>
          <p:cNvSpPr/>
          <p:nvPr/>
        </p:nvSpPr>
        <p:spPr>
          <a:xfrm>
            <a:off x="468360" y="404640"/>
            <a:ext cx="8209080" cy="2592720"/>
          </a:xfrm>
          <a:prstGeom prst="wedgeRoundRectCallout">
            <a:avLst>
              <a:gd name="adj1" fmla="val -1615"/>
              <a:gd name="adj2" fmla="val 83800"/>
              <a:gd name="adj3" fmla="val 16667"/>
            </a:avLst>
          </a:prstGeom>
          <a:solidFill>
            <a:srgbClr val="ffffcc"/>
          </a:solidFill>
          <a:ln w="57240">
            <a:solidFill>
              <a:srgbClr val="004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Задание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 Алёши 80 марок, у Бори на 20 марок больше, а у Вовы – третья часть всех марок Алёши и Бори. Сколько марок у Вовы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j0354673"/>
          <p:cNvPicPr/>
          <p:nvPr/>
        </p:nvPicPr>
        <p:blipFill>
          <a:blip r:embed="rId2"/>
          <a:stretch/>
        </p:blipFill>
        <p:spPr>
          <a:xfrm>
            <a:off x="6877080" y="4149720"/>
            <a:ext cx="2951280" cy="3070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BD13631_"/>
          <p:cNvPicPr/>
          <p:nvPr/>
        </p:nvPicPr>
        <p:blipFill>
          <a:blip r:embed="rId3"/>
          <a:stretch/>
        </p:blipFill>
        <p:spPr>
          <a:xfrm>
            <a:off x="4500720" y="3141720"/>
            <a:ext cx="2852640" cy="3286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j0354673"/>
          <p:cNvPicPr/>
          <p:nvPr/>
        </p:nvPicPr>
        <p:blipFill>
          <a:blip r:embed="rId4"/>
          <a:stretch/>
        </p:blipFill>
        <p:spPr>
          <a:xfrm>
            <a:off x="6948360" y="4149720"/>
            <a:ext cx="2951280" cy="30700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1:27:59Z</dcterms:created>
  <dc:creator>Кутищева</dc:creator>
  <dc:description/>
  <dc:language>en-US</dc:language>
  <cp:lastModifiedBy>LEGION</cp:lastModifiedBy>
  <dcterms:modified xsi:type="dcterms:W3CDTF">2015-01-12T09:29:07Z</dcterms:modified>
  <cp:revision>19</cp:revision>
  <dc:subject/>
  <dc:title>Путешествие в страну «Простые и составные числа»</dc:title>
</cp:coreProperties>
</file>