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CE4D-5B09-4CD5-81CC-980CBF051A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slide" Target="../slides/slide3.xml"/><Relationship Id="rId18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slide" Target="../slides/slide4.xml"/><Relationship Id="rId9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Презентацию подготовила 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ученица 6 - а класса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МБОУ  СОШ №28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станицы Тамань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Остапенко И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A920-19DD-4D29-8B40-BA9C1068AB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Calibri"/>
              </a:rPr>
              <a:t>Космонав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5110-6F35-4485-BE63-DB88624C2E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Хобби, спорт и развлече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452E-B18E-4778-8182-5A5D3312F3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сточники: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нтернет – Википедия.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Слов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D087-61A8-4ADF-A7B7-509C0D1DAF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слова «Ракета» – слайд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 слова – слайды №4,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– слайды №6 –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– слайд №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F296-1D05-4AB6-8E44-F046FFC8BF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Раке́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та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it-IT" sz="1200" spc="-1" strike="noStrike">
                <a:solidFill>
                  <a:srgbClr val="4f81bd"/>
                </a:solidFill>
                <a:latin typeface="Calibri"/>
              </a:rPr>
              <a:t>rocchetta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— маленькое веретено через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ем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de-DE" sz="1200" spc="-1" strike="noStrike">
                <a:solidFill>
                  <a:srgbClr val="4f81bd"/>
                </a:solidFill>
                <a:latin typeface="Calibri"/>
              </a:rPr>
              <a:t>Rakete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дер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nl-NL" sz="1200" spc="-1" strike="noStrike">
                <a:solidFill>
                  <a:srgbClr val="4f81bd"/>
                </a:solidFill>
                <a:latin typeface="Calibri"/>
              </a:rPr>
              <a:t>raket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тательный аппара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двигающийся в пространстве за счёт действ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еактивной тяги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возникающей при отбросе ракетой части собствен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сс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рабочего тела)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олё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атмосфер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но и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куум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 Словом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ют широкий спектр летающих устройств от празднич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тард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до космическ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акеты-носител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военной терминологии слово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ет класс, как правило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беспилотных летательных аппаратов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применяемых для поражения удалённых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целе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вооружённых силах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различным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родами войск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образовался широкий класс различных тип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ракетного оруж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57BB-8DBE-4D1F-9ED4-9BF8BCA50A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соответствии со свидетельств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ревнеримского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писате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ла Гелл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Aulus Gellius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00 году до н. э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рече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философом-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ифагорейце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рхитом Тарент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заставлявшим деревянного голубя двигаться вдоль проволоки с помощью п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A596-736A-46D0-A98B-411C6D9B23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III веке вместе с монгольскими завоевателями ракеты попали в Европу, и в 1248 г. английский философ и естествоиспытатель Роджер Бэкон опубликовал труд по их приме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ракеты применялись запорожскими казаками, начиная с XVI—XVII 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2618-708D-4E5B-905E-DAA3114BB8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6F34-CDA4-4A4C-BFF5-C0C3DB140F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Воен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ное оруж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FBC-7C9A-4BD9-9954-5633A57B0A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Науч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4511-F87F-4B7A-9DE9-73CD42FAEE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765-9DF1-4C90-B6E6-947742CC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9FC-04A1-4D5F-A317-0EFFA2CC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AF1-9F6D-4C66-A480-303BC286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A38-3164-4614-B71D-18F92C22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5743-DD91-4143-900F-7BF7A2FE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CD28-84E7-4660-9ACD-D1126224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4DCE-7698-4158-83E6-6239717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F902-03E5-4953-9360-F7A9B52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9B5-9643-4194-814D-C934B25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D656-86BB-425B-9686-E5074D95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40CC-F52A-44D9-B9C5-E0C0644F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963-86ED-4FE6-809D-3AC1A83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024-65F5-41F1-95E6-607E1D4A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1E3D-E63A-4EBE-86E3-060ED18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2987-0AA0-478F-8742-848D2C67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BDDE-7BAD-4040-9FE8-DDF4221F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EE52-E988-44AC-9FE7-184293C0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807-3561-44B0-8FBB-3CA008F5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332-856A-4586-98F7-24192B0B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87A-A366-4A86-944C-38F8E4F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D64-CB60-4970-86F8-36A36C21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453-2F7B-4570-99FD-7F952032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334-0F96-42B1-A62A-4AD62F2A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B5F-9D93-4CC5-8973-BF2E4E9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74EA-05A8-4BA7-BAFD-95711FF47D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8F08-1CAE-448D-A312-C4933813349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hyperlink" Target="http://ru.wikipedia.org/wiki/&#1050;&#1080;&#1090;&#1072;&#1081;" TargetMode="External"/><Relationship Id="rId9" Type="http://schemas.openxmlformats.org/officeDocument/2006/relationships/hyperlink" Target="http://ru.wikipedia.org/wiki/&#1044;&#1080;&#1085;&#1072;&#1089;&#1090;&#1080;&#1103;_&#1061;&#1072;&#1085;&#1100;" TargetMode="External"/><Relationship Id="rId10" Type="http://schemas.openxmlformats.org/officeDocument/2006/relationships/hyperlink" Target="http://ru.wikipedia.org/wiki/206_&#1076;&#1086;_&#1085;._&#1101;." TargetMode="External"/><Relationship Id="rId11" Type="http://schemas.openxmlformats.org/officeDocument/2006/relationships/hyperlink" Target="http://ru.wikipedia.org/wiki/220" TargetMode="External"/><Relationship Id="rId12" Type="http://schemas.openxmlformats.org/officeDocument/2006/relationships/hyperlink" Target="http://ru.wikipedia.org/wiki/&#1055;&#1086;&#1088;&#1086;&#1093;" TargetMode="External"/><Relationship Id="rId13" Type="http://schemas.openxmlformats.org/officeDocument/2006/relationships/hyperlink" Target="http://ru.wikipedia.org/wiki/&#1060;&#1077;&#1081;&#1077;&#1088;&#1074;&#1077;&#1088;&#1082;" TargetMode="External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5;&#1075;&#1086;&#1083;&#1100;&#1089;&#1082;&#1080;&#1077;_&#1079;&#1072;&#1074;&#1086;&#1077;&#1074;&#1072;&#1085;&#1080;&#1103;" TargetMode="External"/><Relationship Id="rId2" Type="http://schemas.openxmlformats.org/officeDocument/2006/relationships/hyperlink" Target="http://ru.wikipedia.org/wiki/&#1041;&#1101;&#1082;&#1086;&#1085;,_&#1056;&#1086;&#1076;&#1078;&#1077;&#1088;" TargetMode="External"/><Relationship Id="rId3" Type="http://schemas.openxmlformats.org/officeDocument/2006/relationships/hyperlink" Target="http://ru.wikipedia.org/wiki/&#1047;&#1072;&#1087;&#1086;&#1088;&#1086;&#1078;&#1089;&#1082;&#1072;&#1103;_&#1089;&#1077;&#1095;&#1100;" TargetMode="External"/><Relationship Id="rId4" Type="http://schemas.openxmlformats.org/officeDocument/2006/relationships/hyperlink" Target="http://ru.wikipedia.org/wiki/XVI" TargetMode="External"/><Relationship Id="rId5" Type="http://schemas.openxmlformats.org/officeDocument/2006/relationships/hyperlink" Target="http://ru.wikipedia.org/wiki/XVII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907920"/>
            <a:ext cx="5113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 Unicode MS"/>
              </a:rPr>
              <a:t>Ра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 Unicode MS"/>
              <a:ea typeface="Arial Unicode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788160" y="48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" descr="   "/>
          <p:cNvPicPr/>
          <p:nvPr/>
        </p:nvPicPr>
        <p:blipFill>
          <a:blip r:embed="rId1"/>
          <a:stretch/>
        </p:blipFill>
        <p:spPr>
          <a:xfrm>
            <a:off x="5643720" y="1500120"/>
            <a:ext cx="3230280" cy="4918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5214960"/>
            <a:ext cx="38574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ученица 6 - а класса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МБОУ  СОШ №28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станицы Тамань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Остапенко Ирина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осмонав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7036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   "/>
          <p:cNvPicPr/>
          <p:nvPr/>
        </p:nvPicPr>
        <p:blipFill>
          <a:blip r:embed="rId1"/>
          <a:stretch/>
        </p:blipFill>
        <p:spPr>
          <a:xfrm>
            <a:off x="469800" y="2293920"/>
            <a:ext cx="4816440" cy="334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i"/>
          <p:cNvPicPr/>
          <p:nvPr/>
        </p:nvPicPr>
        <p:blipFill>
          <a:blip r:embed="rId2"/>
          <a:stretch/>
        </p:blipFill>
        <p:spPr>
          <a:xfrm>
            <a:off x="5857920" y="1571760"/>
            <a:ext cx="278748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85ff"/>
                </a:solidFill>
                <a:latin typeface="Arial"/>
              </a:rPr>
              <a:t>Хобби, спорт и развлеч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040280" y="426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   "/>
          <p:cNvPicPr/>
          <p:nvPr/>
        </p:nvPicPr>
        <p:blipFill>
          <a:blip r:embed="rId1"/>
          <a:stretch/>
        </p:blipFill>
        <p:spPr>
          <a:xfrm>
            <a:off x="698400" y="1333440"/>
            <a:ext cx="3302280" cy="495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ракета"/>
          <p:cNvPicPr/>
          <p:nvPr/>
        </p:nvPicPr>
        <p:blipFill>
          <a:blip r:embed="rId2"/>
          <a:stretch/>
        </p:blipFill>
        <p:spPr>
          <a:xfrm>
            <a:off x="5391000" y="185724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iанннннн"/>
          <p:cNvPicPr/>
          <p:nvPr/>
        </p:nvPicPr>
        <p:blipFill>
          <a:blip r:embed="rId1"/>
          <a:stretch/>
        </p:blipFill>
        <p:spPr>
          <a:xfrm>
            <a:off x="214200" y="642960"/>
            <a:ext cx="3086280" cy="385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3"/>
          <p:cNvPicPr/>
          <p:nvPr/>
        </p:nvPicPr>
        <p:blipFill>
          <a:blip r:embed="rId2"/>
          <a:stretch/>
        </p:blipFill>
        <p:spPr>
          <a:xfrm>
            <a:off x="3635280" y="642960"/>
            <a:ext cx="5227560" cy="35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лр"/>
          <p:cNvPicPr/>
          <p:nvPr/>
        </p:nvPicPr>
        <p:blipFill>
          <a:blip r:embed="rId3"/>
          <a:stretch/>
        </p:blipFill>
        <p:spPr>
          <a:xfrm>
            <a:off x="2571840" y="1785960"/>
            <a:ext cx="39528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сточники: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нтернет – Википедия.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Словар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6623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слова «Ракета» – слайд №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происхождения слова – слайды №4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– слайды №6 –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– слайд №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671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Раке́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ита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3399ff"/>
                </a:solidFill>
                <a:latin typeface="Arial"/>
              </a:rPr>
              <a:t>rocchetta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— маленькое веретено через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м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de-DE" sz="2000" spc="-1" strike="noStrike">
                <a:solidFill>
                  <a:srgbClr val="3399ff"/>
                </a:solidFill>
                <a:latin typeface="Arial"/>
              </a:rPr>
              <a:t>Rakete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нидер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nl-NL" sz="2000" spc="-1" strike="noStrike">
                <a:solidFill>
                  <a:srgbClr val="3399ff"/>
                </a:solidFill>
                <a:latin typeface="Arial"/>
              </a:rPr>
              <a:t>raket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летательный аппара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двигающийся в пространстве за счёт действи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активной тяги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возникающей при отбросе ракетой части собствен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сс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рабочего тела)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Полё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атмосфер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но и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вакуум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Словом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ют широкий спектр летающих устройств от празднич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петард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до косми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ракеты-носител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военной терминологии слово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ет класс, как правило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беспилотных летательных аппарат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применяемых для поражения удалё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целей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вооружённых силах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различным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одами войск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образовался широкий класс различных типо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ракетного оруж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iапа"/>
          <p:cNvPicPr/>
          <p:nvPr/>
        </p:nvPicPr>
        <p:blipFill>
          <a:blip r:embed="rId17"/>
          <a:stretch/>
        </p:blipFill>
        <p:spPr>
          <a:xfrm>
            <a:off x="6858000" y="3643200"/>
            <a:ext cx="1959120" cy="285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соответствии со свидетельством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древнеримского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писате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вла Гелл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лат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Aulus Gellius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400 году до н. э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рече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философом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ифагорейце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Архитом Тарент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заставлявшим деревянного голубя двигаться вдоль проволоки с помощью па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49236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378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 не менее, большинство историков относят возникновения ракет ко времена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китайской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династии Хан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206 год до н. э.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220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 н. э.), к открытию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порох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началу его использования дл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ейерверков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развле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   "/>
          <p:cNvPicPr/>
          <p:nvPr/>
        </p:nvPicPr>
        <p:blipFill>
          <a:blip r:embed="rId14"/>
          <a:stretch/>
        </p:blipFill>
        <p:spPr>
          <a:xfrm>
            <a:off x="4643280" y="3571920"/>
            <a:ext cx="4356360" cy="286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   "/>
          <p:cNvPicPr/>
          <p:nvPr/>
        </p:nvPicPr>
        <p:blipFill>
          <a:blip r:embed="rId15"/>
          <a:stretch/>
        </p:blipFill>
        <p:spPr>
          <a:xfrm>
            <a:off x="6348240" y="68137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634824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34824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000080" y="56469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е ракеты использовались для фейервер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XIII веке вместе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нгольскими завоевателями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ракеты попали в Европу, и в 1248 г. английский философ и естествоиспытател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оджер Бэкон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опубликовал труд по их применению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но, что ракеты применялис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запорожскими каза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чиная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i9"/>
          <p:cNvPicPr/>
          <p:nvPr/>
        </p:nvPicPr>
        <p:blipFill>
          <a:blip r:embed="rId6"/>
          <a:stretch/>
        </p:blipFill>
        <p:spPr>
          <a:xfrm>
            <a:off x="4500720" y="3860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66"/>
          <p:cNvPicPr/>
          <p:nvPr/>
        </p:nvPicPr>
        <p:blipFill>
          <a:blip r:embed="rId7"/>
          <a:stretch/>
        </p:blipFill>
        <p:spPr>
          <a:xfrm>
            <a:off x="357120" y="3143160"/>
            <a:ext cx="3256200" cy="33004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1197000"/>
            <a:ext cx="62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iln"/>
          <p:cNvPicPr/>
          <p:nvPr/>
        </p:nvPicPr>
        <p:blipFill>
          <a:blip r:embed="rId1"/>
          <a:stretch/>
        </p:blipFill>
        <p:spPr>
          <a:xfrm>
            <a:off x="2643120" y="3571920"/>
            <a:ext cx="360036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d6"/>
                </a:solidFill>
                <a:latin typeface="Arial"/>
              </a:rPr>
              <a:t>Военное дел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кетн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3814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   "/>
          <p:cNvPicPr/>
          <p:nvPr/>
        </p:nvPicPr>
        <p:blipFill>
          <a:blip r:embed="rId1"/>
          <a:stretch/>
        </p:blipFill>
        <p:spPr>
          <a:xfrm>
            <a:off x="285840" y="2143080"/>
            <a:ext cx="378144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856120" y="45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   "/>
          <p:cNvPicPr/>
          <p:nvPr/>
        </p:nvPicPr>
        <p:blipFill>
          <a:blip r:embed="rId2"/>
          <a:stretch/>
        </p:blipFill>
        <p:spPr>
          <a:xfrm>
            <a:off x="4429080" y="2781360"/>
            <a:ext cx="4413240" cy="3647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i4"/>
          <p:cNvPicPr/>
          <p:nvPr/>
        </p:nvPicPr>
        <p:blipFill>
          <a:blip r:embed="rId1"/>
          <a:stretch/>
        </p:blipFill>
        <p:spPr>
          <a:xfrm>
            <a:off x="500040" y="785880"/>
            <a:ext cx="388944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56"/>
          <p:cNvPicPr/>
          <p:nvPr/>
        </p:nvPicPr>
        <p:blipFill>
          <a:blip r:embed="rId2"/>
          <a:stretch/>
        </p:blipFill>
        <p:spPr>
          <a:xfrm>
            <a:off x="4656240" y="285768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Научные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65400" y="42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   "/>
          <p:cNvPicPr/>
          <p:nvPr/>
        </p:nvPicPr>
        <p:blipFill>
          <a:blip r:embed="rId1"/>
          <a:stretch/>
        </p:blipFill>
        <p:spPr>
          <a:xfrm>
            <a:off x="4286160" y="1571760"/>
            <a:ext cx="43815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он"/>
          <p:cNvPicPr/>
          <p:nvPr/>
        </p:nvPicPr>
        <p:blipFill>
          <a:blip r:embed="rId2"/>
          <a:stretch/>
        </p:blipFill>
        <p:spPr>
          <a:xfrm>
            <a:off x="428760" y="2928960"/>
            <a:ext cx="3436920" cy="25891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52:48Z</dcterms:created>
  <dc:creator>Admin</dc:creator>
  <dc:description/>
  <dc:language>en-US</dc:language>
  <cp:lastModifiedBy>LEGION</cp:lastModifiedBy>
  <dcterms:modified xsi:type="dcterms:W3CDTF">2015-01-12T09:29:40Z</dcterms:modified>
  <cp:revision>13</cp:revision>
  <dc:subject/>
  <dc:title>Слайд 1</dc:title>
</cp:coreProperties>
</file>