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F306-A913-4A03-8BA8-6BDC896D34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0;&#1072;&#1083;&#1100;&#1103;&#1085;&#1089;&#1082;&#1080;&#1081;_&#1103;&#1079;&#1099;&#1082;" TargetMode="External"/><Relationship Id="rId2" Type="http://schemas.openxmlformats.org/officeDocument/2006/relationships/hyperlink" Target="http://ru.wikipedia.org/wiki/&#1053;&#1077;&#1084;&#1077;&#1094;&#1082;&#1080;&#1081;_&#1103;&#1079;&#1099;&#1082;" TargetMode="External"/><Relationship Id="rId3" Type="http://schemas.openxmlformats.org/officeDocument/2006/relationships/hyperlink" Target="http://ru.wikipedia.org/wiki/&#1053;&#1080;&#1076;&#1077;&#1088;&#1083;&#1072;&#1085;&#1076;&#1089;&#1082;&#1080;&#1081;_&#1103;&#1079;&#1099;&#1082;" TargetMode="External"/><Relationship Id="rId4" Type="http://schemas.openxmlformats.org/officeDocument/2006/relationships/hyperlink" Target="http://ru.wikipedia.org/wiki/&#1051;&#1077;&#1090;&#1072;&#1090;&#1077;&#1083;&#1100;&#1085;&#1099;&#1081;_&#1072;&#1087;&#1087;&#1072;&#1088;&#1072;&#1090;" TargetMode="External"/><Relationship Id="rId5" Type="http://schemas.openxmlformats.org/officeDocument/2006/relationships/hyperlink" Target="http://ru.wikipedia.org/wiki/&#1056;&#1077;&#1072;&#1082;&#1090;&#1080;&#1074;&#1085;&#1072;&#1103;_&#1090;&#1103;&#1075;&#1072;" TargetMode="External"/><Relationship Id="rId6" Type="http://schemas.openxmlformats.org/officeDocument/2006/relationships/hyperlink" Target="http://ru.wikipedia.org/wiki/&#1052;&#1072;&#1089;&#1089;&#1072;" TargetMode="External"/><Relationship Id="rId7" Type="http://schemas.openxmlformats.org/officeDocument/2006/relationships/hyperlink" Target="http://ru.wikipedia.org/wiki/&#1055;&#1086;&#1083;&#1105;&#1090;" TargetMode="External"/><Relationship Id="rId8" Type="http://schemas.openxmlformats.org/officeDocument/2006/relationships/hyperlink" Target="http://ru.wikipedia.org/wiki/&#1040;&#1090;&#1084;&#1086;&#1089;&#1092;&#1077;&#1088;&#1072;" TargetMode="External"/><Relationship Id="rId9" Type="http://schemas.openxmlformats.org/officeDocument/2006/relationships/hyperlink" Target="http://ru.wikipedia.org/wiki/&#1042;&#1072;&#1082;&#1091;&#1091;&#1084;" TargetMode="External"/><Relationship Id="rId10" Type="http://schemas.openxmlformats.org/officeDocument/2006/relationships/hyperlink" Target="http://ru.wikipedia.org/wiki/&#1055;&#1077;&#1090;&#1072;&#1088;&#1076;&#1072;" TargetMode="External"/><Relationship Id="rId11" Type="http://schemas.openxmlformats.org/officeDocument/2006/relationships/hyperlink" Target="http://ru.wikipedia.org/wiki/&#1056;&#1072;&#1082;&#1077;&#1090;&#1072;-&#1085;&#1086;&#1089;&#1080;&#1090;&#1077;&#1083;&#1100;" TargetMode="External"/><Relationship Id="rId12" Type="http://schemas.openxmlformats.org/officeDocument/2006/relationships/hyperlink" Target="http://ru.wikipedia.org/wiki/&#1041;&#1077;&#1089;&#1087;&#1080;&#1083;&#1086;&#1090;&#1085;&#1099;&#1081;_&#1083;&#1077;&#1090;&#1072;&#1090;&#1077;&#1083;&#1100;&#1085;&#1099;&#1081;_&#1072;&#1087;&#1087;&#1072;&#1088;&#1072;&#1090;" TargetMode="External"/><Relationship Id="rId13" Type="http://schemas.openxmlformats.org/officeDocument/2006/relationships/hyperlink" Target="http://ru.wikipedia.org/wiki/&#1062;&#1077;&#1083;&#1100;" TargetMode="External"/><Relationship Id="rId14" Type="http://schemas.openxmlformats.org/officeDocument/2006/relationships/hyperlink" Target="http://ru.wikipedia.org/wiki/&#1042;&#1086;&#1086;&#1088;&#1091;&#1078;&#1105;&#1085;&#1085;&#1099;&#1077;_&#1089;&#1080;&#1083;&#1099;" TargetMode="External"/><Relationship Id="rId15" Type="http://schemas.openxmlformats.org/officeDocument/2006/relationships/hyperlink" Target="http://ru.wikipedia.org/wiki/&#1056;&#1086;&#1076;&#1072;_&#1074;&#1086;&#1081;&#1089;&#1082;" TargetMode="External"/><Relationship Id="rId16" Type="http://schemas.openxmlformats.org/officeDocument/2006/relationships/hyperlink" Target="http://ru.wikipedia.org/wiki/&#1056;&#1072;&#1082;&#1077;&#1090;&#1085;&#1086;&#1077;_&#1086;&#1088;&#1091;&#1078;&#1080;&#1077;" TargetMode="External"/><Relationship Id="rId17" Type="http://schemas.openxmlformats.org/officeDocument/2006/relationships/slide" Target="../slides/slide3.xml"/><Relationship Id="rId18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80;&#1081;_&#1056;&#1080;&#1084;" TargetMode="External"/><Relationship Id="rId2" Type="http://schemas.openxmlformats.org/officeDocument/2006/relationships/hyperlink" Target="http://ru.wikipedia.org/wiki/&#1043;&#1077;&#1083;&#1083;&#1080;&#1091;&#1089;,_&#1040;&#1091;&#1083;&#1091;&#1089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hyperlink" Target="http://ru.wikipedia.org/wiki/400_&#1076;&#1086;_&#1085;._&#1101;." TargetMode="External"/><Relationship Id="rId5" Type="http://schemas.openxmlformats.org/officeDocument/2006/relationships/hyperlink" Target="http://ru.wikipedia.org/wiki/&#1044;&#1088;&#1077;&#1074;&#1085;&#1103;&#1103;_&#1043;&#1088;&#1077;&#1094;&#1080;&#1103;" TargetMode="External"/><Relationship Id="rId6" Type="http://schemas.openxmlformats.org/officeDocument/2006/relationships/hyperlink" Target="http://ru.wikipedia.org/wiki/&#1055;&#1080;&#1092;&#1072;&#1075;&#1086;&#1088;&#1077;&#1080;&#1079;&#1084;" TargetMode="External"/><Relationship Id="rId7" Type="http://schemas.openxmlformats.org/officeDocument/2006/relationships/hyperlink" Target="http://ru.wikipedia.org/wiki/&#1040;&#1088;&#1093;&#1080;&#1090;_&#1058;&#1072;&#1088;&#1077;&#1085;&#1090;&#1089;&#1082;&#1080;&#1081;" TargetMode="External"/><Relationship Id="rId8" Type="http://schemas.openxmlformats.org/officeDocument/2006/relationships/slide" Target="../slides/slide4.xml"/><Relationship Id="rId9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Презентацию подготовила 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ученица 6 - а класса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МБОУ  СОШ №28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станицы Тамань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Остапенко И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2D9B-FE66-4FB0-8E52-7C515855AB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1859c"/>
                </a:solidFill>
                <a:latin typeface="Calibri"/>
              </a:rPr>
              <a:t>Космонав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CD1E-1DCD-4E4F-AB77-B8792D51B0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Хобби, спорт и развлечен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328F-0E10-420E-97A2-E8416FC569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Источники:</a:t>
            </a:r>
            <a:br>
              <a:rPr sz="1200"/>
            </a:b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Интернет – Википедия.</a:t>
            </a:r>
            <a:br>
              <a:rPr sz="1200"/>
            </a:b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Слова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8242-5F63-4E0E-B2EA-18F138917B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слова «Ракета» – слайд №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роисхождения слова – слайды №4,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– слайды №6 –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– слайд №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07DC-F40A-447D-A22C-134A64EC9E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Раке́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о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тал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it-IT" sz="1200" spc="-1" strike="noStrike">
                <a:solidFill>
                  <a:srgbClr val="4f81bd"/>
                </a:solidFill>
                <a:latin typeface="Calibri"/>
              </a:rPr>
              <a:t>rocchetta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— маленькое веретено через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ем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de-DE" sz="1200" spc="-1" strike="noStrike">
                <a:solidFill>
                  <a:srgbClr val="4f81bd"/>
                </a:solidFill>
                <a:latin typeface="Calibri"/>
              </a:rPr>
              <a:t>Rakete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ил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идерл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nl-NL" sz="1200" spc="-1" strike="noStrike">
                <a:solidFill>
                  <a:srgbClr val="4f81bd"/>
                </a:solidFill>
                <a:latin typeface="Calibri"/>
              </a:rPr>
              <a:t>raket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 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летательный аппарат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двигающийся в пространстве за счёт действи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еактивной тяги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возникающей при отбросе ракетой части собственн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массы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рабочего тела)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Полёт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ракеты не требует обязательного наличия окружающей воздушной или газовой среды и возможен не только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атмосфере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но и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вакууме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 Словом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раке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обозначают широкий спектр летающих устройств от праздничн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петарды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до космическ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ракеты-носител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военной терминологии слово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раке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обозначает класс, как правило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беспилотных летательных аппаратов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применяемых для поражения удалённых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целей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и использующих для полёта принцип реактивного движения. В связи с разнообразным применением ракет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вооружённых силах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различным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родами войск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образовался широкий класс различных тип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ракетного оружи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F048-283D-4721-9970-ADACB0C544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соответствии со свидетельство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древнеримского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писател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вла Гелли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лат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Aulus Gellius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ракета одно из первых реактивных устройств использовалось более 2000 лет назад, ещё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400 году до н. э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гречески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философом-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пифагорейце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Архитом Тарентски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заставлявшим деревянного голубя двигаться вдоль проволоки с помощью п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D755-2248-4C51-8AC0-D7D9E05A24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III веке вместе с монгольскими завоевателями ракеты попали в Европу, и в 1248 г. английский философ и естествоиспытатель Роджер Бэкон опубликовал труд по их приме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ракеты применялись запорожскими казаками, начиная с XVI—XVII в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96B8-B789-4409-9DDB-9597F75740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Приме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B521-C360-4DF0-9901-86475B9FC6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Военное д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Ракетное оруж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7533-B5CE-4635-A71C-BE4EEBFDAE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5f4ed"/>
                </a:solidFill>
                <a:latin typeface="Calibri"/>
              </a:rPr>
              <a:t>Научные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C928-0052-43E6-8DA8-4A91A7DCEF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AD92-66A4-4872-99CC-A57AED91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8E7-85F2-4A25-95F3-3174D9B5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A13-7CF9-4E72-8D7B-1F2A4DFB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2A5-A42F-4530-B22B-F888C30E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6C8C-4C46-4CF3-8935-4C2E3BFE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7676-1F61-4030-B2F4-77A61F39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8ADA-4B06-49C4-A8D6-09BF7FA9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1B5D-4E02-4A10-BE07-AEEDCC4B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1EB7-CC78-4F19-8BE0-835C12B3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3160-90E1-41C9-9BAB-570EF177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62E5-1E81-4FE2-BE0F-261CDEBA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7DC-E1B7-49F6-9FBD-1D53AE30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738C-67C6-478E-B65F-3FCB23F6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CD88-09F2-4979-931F-78750B45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DE2E-7A4B-4F6C-A426-52AB36BB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4786-CAAB-46E6-A063-42116C5C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BEE9-D23D-4DFE-9C4B-75FDDF2F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E5F-331D-4975-844F-210676FC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33C-05BD-41E6-B4E8-8DE6AC0A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1CB9-8B05-4502-B059-496946B6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5CC-69EA-4681-BDE0-92B1A3FE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9C57-44BD-47A9-B97B-5898CF66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E17-9B06-4BBB-B4CE-C74244BA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CC2-B7CF-43A1-843C-D8B3C21E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4878-9B9F-4737-A580-5BED16066A8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98D6-60B2-4039-97CF-4127771B4DE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0;&#1072;&#1083;&#1100;&#1103;&#1085;&#1089;&#1082;&#1080;&#1081;_&#1103;&#1079;&#1099;&#1082;" TargetMode="External"/><Relationship Id="rId2" Type="http://schemas.openxmlformats.org/officeDocument/2006/relationships/hyperlink" Target="http://ru.wikipedia.org/wiki/&#1053;&#1077;&#1084;&#1077;&#1094;&#1082;&#1080;&#1081;_&#1103;&#1079;&#1099;&#1082;" TargetMode="External"/><Relationship Id="rId3" Type="http://schemas.openxmlformats.org/officeDocument/2006/relationships/hyperlink" Target="http://ru.wikipedia.org/wiki/&#1053;&#1080;&#1076;&#1077;&#1088;&#1083;&#1072;&#1085;&#1076;&#1089;&#1082;&#1080;&#1081;_&#1103;&#1079;&#1099;&#1082;" TargetMode="External"/><Relationship Id="rId4" Type="http://schemas.openxmlformats.org/officeDocument/2006/relationships/hyperlink" Target="http://ru.wikipedia.org/wiki/&#1051;&#1077;&#1090;&#1072;&#1090;&#1077;&#1083;&#1100;&#1085;&#1099;&#1081;_&#1072;&#1087;&#1087;&#1072;&#1088;&#1072;&#1090;" TargetMode="External"/><Relationship Id="rId5" Type="http://schemas.openxmlformats.org/officeDocument/2006/relationships/hyperlink" Target="http://ru.wikipedia.org/wiki/&#1056;&#1077;&#1072;&#1082;&#1090;&#1080;&#1074;&#1085;&#1072;&#1103;_&#1090;&#1103;&#1075;&#1072;" TargetMode="External"/><Relationship Id="rId6" Type="http://schemas.openxmlformats.org/officeDocument/2006/relationships/hyperlink" Target="http://ru.wikipedia.org/wiki/&#1052;&#1072;&#1089;&#1089;&#1072;" TargetMode="External"/><Relationship Id="rId7" Type="http://schemas.openxmlformats.org/officeDocument/2006/relationships/hyperlink" Target="http://ru.wikipedia.org/wiki/&#1055;&#1086;&#1083;&#1105;&#1090;" TargetMode="External"/><Relationship Id="rId8" Type="http://schemas.openxmlformats.org/officeDocument/2006/relationships/hyperlink" Target="http://ru.wikipedia.org/wiki/&#1040;&#1090;&#1084;&#1086;&#1089;&#1092;&#1077;&#1088;&#1072;" TargetMode="External"/><Relationship Id="rId9" Type="http://schemas.openxmlformats.org/officeDocument/2006/relationships/hyperlink" Target="http://ru.wikipedia.org/wiki/&#1042;&#1072;&#1082;&#1091;&#1091;&#1084;" TargetMode="External"/><Relationship Id="rId10" Type="http://schemas.openxmlformats.org/officeDocument/2006/relationships/hyperlink" Target="http://ru.wikipedia.org/wiki/&#1055;&#1077;&#1090;&#1072;&#1088;&#1076;&#1072;" TargetMode="External"/><Relationship Id="rId11" Type="http://schemas.openxmlformats.org/officeDocument/2006/relationships/hyperlink" Target="http://ru.wikipedia.org/wiki/&#1056;&#1072;&#1082;&#1077;&#1090;&#1072;-&#1085;&#1086;&#1089;&#1080;&#1090;&#1077;&#1083;&#1100;" TargetMode="External"/><Relationship Id="rId12" Type="http://schemas.openxmlformats.org/officeDocument/2006/relationships/hyperlink" Target="http://ru.wikipedia.org/wiki/&#1041;&#1077;&#1089;&#1087;&#1080;&#1083;&#1086;&#1090;&#1085;&#1099;&#1081;_&#1083;&#1077;&#1090;&#1072;&#1090;&#1077;&#1083;&#1100;&#1085;&#1099;&#1081;_&#1072;&#1087;&#1087;&#1072;&#1088;&#1072;&#1090;" TargetMode="External"/><Relationship Id="rId13" Type="http://schemas.openxmlformats.org/officeDocument/2006/relationships/hyperlink" Target="http://ru.wikipedia.org/wiki/&#1062;&#1077;&#1083;&#1100;" TargetMode="External"/><Relationship Id="rId14" Type="http://schemas.openxmlformats.org/officeDocument/2006/relationships/hyperlink" Target="http://ru.wikipedia.org/wiki/&#1042;&#1086;&#1086;&#1088;&#1091;&#1078;&#1105;&#1085;&#1085;&#1099;&#1077;_&#1089;&#1080;&#1083;&#1099;" TargetMode="External"/><Relationship Id="rId15" Type="http://schemas.openxmlformats.org/officeDocument/2006/relationships/hyperlink" Target="http://ru.wikipedia.org/wiki/&#1056;&#1086;&#1076;&#1072;_&#1074;&#1086;&#1081;&#1089;&#1082;" TargetMode="External"/><Relationship Id="rId16" Type="http://schemas.openxmlformats.org/officeDocument/2006/relationships/hyperlink" Target="http://ru.wikipedia.org/wiki/&#1056;&#1072;&#1082;&#1077;&#1090;&#1085;&#1086;&#1077;_&#1086;&#1088;&#1091;&#1078;&#1080;&#1077;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80;&#1081;_&#1056;&#1080;&#1084;" TargetMode="External"/><Relationship Id="rId2" Type="http://schemas.openxmlformats.org/officeDocument/2006/relationships/hyperlink" Target="http://ru.wikipedia.org/wiki/&#1043;&#1077;&#1083;&#1083;&#1080;&#1091;&#1089;,_&#1040;&#1091;&#1083;&#1091;&#1089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hyperlink" Target="http://ru.wikipedia.org/wiki/400_&#1076;&#1086;_&#1085;._&#1101;." TargetMode="External"/><Relationship Id="rId5" Type="http://schemas.openxmlformats.org/officeDocument/2006/relationships/hyperlink" Target="http://ru.wikipedia.org/wiki/&#1044;&#1088;&#1077;&#1074;&#1085;&#1103;&#1103;_&#1043;&#1088;&#1077;&#1094;&#1080;&#1103;" TargetMode="External"/><Relationship Id="rId6" Type="http://schemas.openxmlformats.org/officeDocument/2006/relationships/hyperlink" Target="http://ru.wikipedia.org/wiki/&#1055;&#1080;&#1092;&#1072;&#1075;&#1086;&#1088;&#1077;&#1080;&#1079;&#1084;" TargetMode="External"/><Relationship Id="rId7" Type="http://schemas.openxmlformats.org/officeDocument/2006/relationships/hyperlink" Target="http://ru.wikipedia.org/wiki/&#1040;&#1088;&#1093;&#1080;&#1090;_&#1058;&#1072;&#1088;&#1077;&#1085;&#1090;&#1089;&#1082;&#1080;&#1081;" TargetMode="External"/><Relationship Id="rId8" Type="http://schemas.openxmlformats.org/officeDocument/2006/relationships/hyperlink" Target="http://ru.wikipedia.org/wiki/&#1050;&#1080;&#1090;&#1072;&#1081;" TargetMode="External"/><Relationship Id="rId9" Type="http://schemas.openxmlformats.org/officeDocument/2006/relationships/hyperlink" Target="http://ru.wikipedia.org/wiki/&#1044;&#1080;&#1085;&#1072;&#1089;&#1090;&#1080;&#1103;_&#1061;&#1072;&#1085;&#1100;" TargetMode="External"/><Relationship Id="rId10" Type="http://schemas.openxmlformats.org/officeDocument/2006/relationships/hyperlink" Target="http://ru.wikipedia.org/wiki/206_&#1076;&#1086;_&#1085;._&#1101;." TargetMode="External"/><Relationship Id="rId11" Type="http://schemas.openxmlformats.org/officeDocument/2006/relationships/hyperlink" Target="http://ru.wikipedia.org/wiki/220" TargetMode="External"/><Relationship Id="rId12" Type="http://schemas.openxmlformats.org/officeDocument/2006/relationships/hyperlink" Target="http://ru.wikipedia.org/wiki/&#1055;&#1086;&#1088;&#1086;&#1093;" TargetMode="External"/><Relationship Id="rId13" Type="http://schemas.openxmlformats.org/officeDocument/2006/relationships/hyperlink" Target="http://ru.wikipedia.org/wiki/&#1060;&#1077;&#1081;&#1077;&#1088;&#1074;&#1077;&#1088;&#1082;" TargetMode="External"/><Relationship Id="rId14" Type="http://schemas.openxmlformats.org/officeDocument/2006/relationships/image" Target="../media/image3.jpe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5;&#1075;&#1086;&#1083;&#1100;&#1089;&#1082;&#1080;&#1077;_&#1079;&#1072;&#1074;&#1086;&#1077;&#1074;&#1072;&#1085;&#1080;&#1103;" TargetMode="External"/><Relationship Id="rId2" Type="http://schemas.openxmlformats.org/officeDocument/2006/relationships/hyperlink" Target="http://ru.wikipedia.org/wiki/&#1041;&#1101;&#1082;&#1086;&#1085;,_&#1056;&#1086;&#1076;&#1078;&#1077;&#1088;" TargetMode="External"/><Relationship Id="rId3" Type="http://schemas.openxmlformats.org/officeDocument/2006/relationships/hyperlink" Target="http://ru.wikipedia.org/wiki/&#1047;&#1072;&#1087;&#1086;&#1088;&#1086;&#1078;&#1089;&#1082;&#1072;&#1103;_&#1089;&#1077;&#1095;&#1100;" TargetMode="External"/><Relationship Id="rId4" Type="http://schemas.openxmlformats.org/officeDocument/2006/relationships/hyperlink" Target="http://ru.wikipedia.org/wiki/XVI" TargetMode="External"/><Relationship Id="rId5" Type="http://schemas.openxmlformats.org/officeDocument/2006/relationships/hyperlink" Target="http://ru.wikipedia.org/wiki/XVII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971640" y="907920"/>
            <a:ext cx="51130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Arial Unicode MS"/>
              </a:rPr>
              <a:t>Раке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Arial Unicode MS"/>
              <a:ea typeface="Arial Unicode MS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6788160" y="481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0" descr="   "/>
          <p:cNvPicPr/>
          <p:nvPr/>
        </p:nvPicPr>
        <p:blipFill>
          <a:blip r:embed="rId1"/>
          <a:stretch/>
        </p:blipFill>
        <p:spPr>
          <a:xfrm>
            <a:off x="5643720" y="1500120"/>
            <a:ext cx="3230280" cy="4918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480" y="5214960"/>
            <a:ext cx="3857400" cy="13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Презентацию подготовила 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ученица 6 - а класса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МБОУ  СОШ №28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станицы Тамань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Остапенко Ирина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Космонавт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870360" y="385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   "/>
          <p:cNvPicPr/>
          <p:nvPr/>
        </p:nvPicPr>
        <p:blipFill>
          <a:blip r:embed="rId1"/>
          <a:stretch/>
        </p:blipFill>
        <p:spPr>
          <a:xfrm>
            <a:off x="469800" y="2293920"/>
            <a:ext cx="4816440" cy="3349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4i"/>
          <p:cNvPicPr/>
          <p:nvPr/>
        </p:nvPicPr>
        <p:blipFill>
          <a:blip r:embed="rId2"/>
          <a:stretch/>
        </p:blipFill>
        <p:spPr>
          <a:xfrm>
            <a:off x="5857920" y="1571760"/>
            <a:ext cx="2787480" cy="342900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07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85ff"/>
                </a:solidFill>
                <a:latin typeface="Arial"/>
              </a:rPr>
              <a:t>Хобби, спорт и развлечения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040280" y="426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   "/>
          <p:cNvPicPr/>
          <p:nvPr/>
        </p:nvPicPr>
        <p:blipFill>
          <a:blip r:embed="rId1"/>
          <a:stretch/>
        </p:blipFill>
        <p:spPr>
          <a:xfrm>
            <a:off x="698400" y="1333440"/>
            <a:ext cx="3302280" cy="4953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iракета"/>
          <p:cNvPicPr/>
          <p:nvPr/>
        </p:nvPicPr>
        <p:blipFill>
          <a:blip r:embed="rId2"/>
          <a:stretch/>
        </p:blipFill>
        <p:spPr>
          <a:xfrm>
            <a:off x="5391000" y="1857240"/>
            <a:ext cx="2857680" cy="42865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38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iанннннн"/>
          <p:cNvPicPr/>
          <p:nvPr/>
        </p:nvPicPr>
        <p:blipFill>
          <a:blip r:embed="rId1"/>
          <a:stretch/>
        </p:blipFill>
        <p:spPr>
          <a:xfrm>
            <a:off x="214200" y="642960"/>
            <a:ext cx="3086280" cy="3857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i3"/>
          <p:cNvPicPr/>
          <p:nvPr/>
        </p:nvPicPr>
        <p:blipFill>
          <a:blip r:embed="rId2"/>
          <a:stretch/>
        </p:blipFill>
        <p:spPr>
          <a:xfrm>
            <a:off x="3635280" y="642960"/>
            <a:ext cx="5227560" cy="3571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iлр"/>
          <p:cNvPicPr/>
          <p:nvPr/>
        </p:nvPicPr>
        <p:blipFill>
          <a:blip r:embed="rId3"/>
          <a:stretch/>
        </p:blipFill>
        <p:spPr>
          <a:xfrm>
            <a:off x="2571840" y="1785960"/>
            <a:ext cx="3952800" cy="46800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Источники:</a:t>
            </a:r>
            <a:br>
              <a:rPr sz="4000"/>
            </a:b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Интернет – Википедия.</a:t>
            </a:r>
            <a:br>
              <a:rPr sz="4000"/>
            </a:b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Словари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071800" y="2214720"/>
            <a:ext cx="4662360" cy="42861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одержани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слова «Ракета» – слайд №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 происхождения слова – слайды №4,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нение – слайды №6 – 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 – слайд №1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6715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Раке́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от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итал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it-IT" sz="2000" spc="-1" strike="noStrike">
                <a:solidFill>
                  <a:srgbClr val="3399ff"/>
                </a:solidFill>
                <a:latin typeface="Arial"/>
              </a:rPr>
              <a:t>rocchetta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— маленькое веретено через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нем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de-DE" sz="2000" spc="-1" strike="noStrike">
                <a:solidFill>
                  <a:srgbClr val="3399ff"/>
                </a:solidFill>
                <a:latin typeface="Arial"/>
              </a:rPr>
              <a:t>Rakete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ил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нидерл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nl-NL" sz="2000" spc="-1" strike="noStrike">
                <a:solidFill>
                  <a:srgbClr val="3399ff"/>
                </a:solidFill>
                <a:latin typeface="Arial"/>
              </a:rPr>
              <a:t>raket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) —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летательный аппарат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двигающийся в пространстве за счёт действи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реактивной тяги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возникающей при отбросе ракетой части собственн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массы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рабочего тела).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Полёт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ракеты не требует обязательного наличия окружающей воздушной или газовой среды и возможен не только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атмосфер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но и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вакуум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 Словом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раке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обозначают широкий спектр летающих устройств от праздничн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петарды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до космическ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ракеты-носител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В военной терминологии слово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раке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обозначает класс, как правило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2"/>
              </a:rPr>
              <a:t>беспилотных летательных аппаратов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применяемых для поражения удалённ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3"/>
              </a:rPr>
              <a:t>целей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и использующих для полёта принцип реактивного движения. В связи с разнообразным применением ракет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4"/>
              </a:rPr>
              <a:t>вооружённых силах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различным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5"/>
              </a:rPr>
              <a:t>родами войск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образовался широкий класс различных типо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6"/>
              </a:rPr>
              <a:t>ракетного оружи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iапа"/>
          <p:cNvPicPr/>
          <p:nvPr/>
        </p:nvPicPr>
        <p:blipFill>
          <a:blip r:embed="rId17"/>
          <a:stretch/>
        </p:blipFill>
        <p:spPr>
          <a:xfrm>
            <a:off x="6858000" y="3643200"/>
            <a:ext cx="1959120" cy="2853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70200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В соответствии со свидетельством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древнеримского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писател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Авла Гелли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лат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Aulus Gellius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ракета одно из первых реактивных устройств использовалось более 2000 лет назад, ещё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400 году до н. э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гречески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философом-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пифагорейце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Архитом Тарентски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заставлявшим деревянного голубя двигаться вдоль проволоки с помощью па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3492360" y="260280"/>
            <a:ext cx="511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79280" y="378936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Тем не менее, большинство историков относят возникновения ракет ко временам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китайской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династии Хань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206 год до н. э.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—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220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 н. э.), к открытию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2"/>
              </a:rPr>
              <a:t>пороха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и началу его использования для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3"/>
              </a:rPr>
              <a:t>фейерверков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и развлеч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   "/>
          <p:cNvPicPr/>
          <p:nvPr/>
        </p:nvPicPr>
        <p:blipFill>
          <a:blip r:embed="rId14"/>
          <a:stretch/>
        </p:blipFill>
        <p:spPr>
          <a:xfrm>
            <a:off x="4643280" y="3571920"/>
            <a:ext cx="4356360" cy="2863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   "/>
          <p:cNvPicPr/>
          <p:nvPr/>
        </p:nvPicPr>
        <p:blipFill>
          <a:blip r:embed="rId15"/>
          <a:stretch/>
        </p:blipFill>
        <p:spPr>
          <a:xfrm>
            <a:off x="6348240" y="681372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6348240" y="496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348240" y="681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000080" y="564696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вые ракеты использовались для фейервер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В XIII веке вместе с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монгольскими завоевателями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 ракеты попали в Европу, и в 1248 г. английский философ и естествоиспытатель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Роджер Бэкон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 опубликовал труд по их применению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вестно, что ракеты применялись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запорожскими казак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ачиная с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XV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XV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i9"/>
          <p:cNvPicPr/>
          <p:nvPr/>
        </p:nvPicPr>
        <p:blipFill>
          <a:blip r:embed="rId6"/>
          <a:stretch/>
        </p:blipFill>
        <p:spPr>
          <a:xfrm>
            <a:off x="4500720" y="386064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i66"/>
          <p:cNvPicPr/>
          <p:nvPr/>
        </p:nvPicPr>
        <p:blipFill>
          <a:blip r:embed="rId7"/>
          <a:stretch/>
        </p:blipFill>
        <p:spPr>
          <a:xfrm>
            <a:off x="357120" y="3143160"/>
            <a:ext cx="3256200" cy="33004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1258920" y="1197000"/>
            <a:ext cx="626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мен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Picture 6" descr="iln"/>
          <p:cNvPicPr/>
          <p:nvPr/>
        </p:nvPicPr>
        <p:blipFill>
          <a:blip r:embed="rId1"/>
          <a:stretch/>
        </p:blipFill>
        <p:spPr>
          <a:xfrm>
            <a:off x="2643120" y="3571920"/>
            <a:ext cx="3600360" cy="25686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4176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d6"/>
                </a:solidFill>
                <a:latin typeface="Arial"/>
              </a:rPr>
              <a:t>Военное дел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51280" y="1412640"/>
            <a:ext cx="33224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Ракетное оруж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38140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   "/>
          <p:cNvPicPr/>
          <p:nvPr/>
        </p:nvPicPr>
        <p:blipFill>
          <a:blip r:embed="rId1"/>
          <a:stretch/>
        </p:blipFill>
        <p:spPr>
          <a:xfrm>
            <a:off x="285840" y="2143080"/>
            <a:ext cx="3781440" cy="3791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5856120" y="450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6" descr="   "/>
          <p:cNvPicPr/>
          <p:nvPr/>
        </p:nvPicPr>
        <p:blipFill>
          <a:blip r:embed="rId2"/>
          <a:stretch/>
        </p:blipFill>
        <p:spPr>
          <a:xfrm>
            <a:off x="4429080" y="2781360"/>
            <a:ext cx="4413240" cy="3647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i4"/>
          <p:cNvPicPr/>
          <p:nvPr/>
        </p:nvPicPr>
        <p:blipFill>
          <a:blip r:embed="rId1"/>
          <a:stretch/>
        </p:blipFill>
        <p:spPr>
          <a:xfrm>
            <a:off x="500040" y="785880"/>
            <a:ext cx="3889440" cy="3111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i56"/>
          <p:cNvPicPr/>
          <p:nvPr/>
        </p:nvPicPr>
        <p:blipFill>
          <a:blip r:embed="rId2"/>
          <a:stretch/>
        </p:blipFill>
        <p:spPr>
          <a:xfrm>
            <a:off x="4656240" y="2857680"/>
            <a:ext cx="4286160" cy="3000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b2bfe"/>
                </a:solidFill>
                <a:latin typeface="Arial"/>
              </a:rPr>
              <a:t>Научные исследова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965400" y="427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   "/>
          <p:cNvPicPr/>
          <p:nvPr/>
        </p:nvPicPr>
        <p:blipFill>
          <a:blip r:embed="rId1"/>
          <a:stretch/>
        </p:blipFill>
        <p:spPr>
          <a:xfrm>
            <a:off x="4286160" y="1571760"/>
            <a:ext cx="4381560" cy="4808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iон"/>
          <p:cNvPicPr/>
          <p:nvPr/>
        </p:nvPicPr>
        <p:blipFill>
          <a:blip r:embed="rId2"/>
          <a:stretch/>
        </p:blipFill>
        <p:spPr>
          <a:xfrm>
            <a:off x="428760" y="2928960"/>
            <a:ext cx="3436920" cy="25891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52:48Z</dcterms:created>
  <dc:creator>Admin</dc:creator>
  <dc:description/>
  <dc:language>en-US</dc:language>
  <cp:lastModifiedBy>LEGION</cp:lastModifiedBy>
  <dcterms:modified xsi:type="dcterms:W3CDTF">2015-01-12T09:29:40Z</dcterms:modified>
  <cp:revision>13</cp:revision>
  <dc:subject/>
  <dc:title>Слайд 1</dc:title>
</cp:coreProperties>
</file>