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20.jpeg" ContentType="image/jpeg"/>
  <Override PartName="/ppt/media/image14.gif" ContentType="image/gif"/>
  <Override PartName="/ppt/media/image19.jpeg" ContentType="image/jpeg"/>
  <Override PartName="/ppt/media/image18.gif" ContentType="image/gif"/>
  <Override PartName="/ppt/media/image17.gif" ContentType="image/gif"/>
  <Override PartName="/ppt/media/image16.gif" ContentType="image/gif"/>
  <Override PartName="/ppt/media/image1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4.jpeg" ContentType="image/jpeg"/>
  <Override PartName="/ppt/media/image1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9AF4-503D-40B5-B4B1-48D3825A80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slide" Target="../slides/slide21.xml"/><Relationship Id="rId4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BC6A-B0BA-4AB7-AFC8-F46E653030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ками разной величины на карте показа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от ярчайших до менее заме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звезда имеет своё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яркие из них – Полярная звез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B0D1B-78C2-4BAB-AA9F-891DC36BB7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 1-ый абзац на стр. 31 и отв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3595-24C1-4A0D-B5FF-043CED3B3B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Кассиоп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47DB-5A57-4E36-9027-1044F00DF21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W» [дабл ю] к ЦЕФЕЮ близ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 «woman» по-англий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жена царя ЦЕФЕ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дая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КАССИОПЕ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C3A3-3F23-48C1-9FBF-CBB031FC15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Ор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D4D2-32E3-48A5-B955-D450DAAF1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поясавшись потуж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хоты снаряжё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упает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РИО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звезды из высшей л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РИОНЕ - это РИГ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авом нижнем уголк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но бант на башма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на левом эполете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ЕЛЬГЕЙЗЕ ярко свети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звезды наиско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ашают поя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8DF7-A461-470E-BCC1-2202D25C11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вездие Лебед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BCED-7802-4072-A83E-D3E1A0C4EC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 ЦЕФЕЕМ и ЛИ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ылья раскинув над мир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ЛЕБЕД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еспеш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ит в высот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ко сверк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Б на хво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ю ноч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лечном Пу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верный Кр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райся найт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2E8C-F0D6-40BB-ABD5-9099FC9DDFE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по Зодиа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735B-3898-4379-AEB5-43EFDE590D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тёмному небу рассыпан горош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ной карамели из сахарной кро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олько тогда, когда утро настан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карамель та внезапно 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5D26-8880-4C3C-86BE-57AFEF000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тветь на вопрос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Зодиа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всего созвездий в Зодиа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лько «гостит» солнце у каждого созвезд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какого созвездия принято начинать путешествие по Зодиак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B32C-34C6-4CDD-B845-DE84E43AB0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unhome.ru/prose/153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onbass.ua/news/technology/space/2009/08/06/zvezda-pljuetsja-v-nebo-foto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unhome.ru/tags/publications/звезды+гиг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is.3dn.ru/load/31-3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astrogalaxy.ru/736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karaoke.ru/user/Nektok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goodfon.ru/wallpaper/43024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http://sovestilizator.bestpersons.ru/feed/post8413951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laneta.rambler.ru/community/astrologica/47938398.html?parent_id=4794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EF00-4DE4-46E1-A011-DAE408CB92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анова Окса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учитель начальных клас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ОУ «Гимназия №4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г. Великого Новг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136B-4ECA-46B7-B774-51D422E929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- Что вы знаете о звёзд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3629-9CBA-4D0A-AE38-15EE10B3D2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699C-0878-4547-A790-6A159AAE51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горячие звёзды  голуб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а, другие, менее горячие – крас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4A20-2FA7-42AA-96CF-94625CEDD3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звёзды – гиганты, а е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ё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1955-059C-4043-9DF4-A5F43E6268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лнце – это…</a:t>
            </a: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одна из звёз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1C07-3933-4C5B-9AD3-A3E4631217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глаз вооруж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о звездами дружи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лечный путь увидеть чт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ен мощный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D962-DE7A-492C-87BE-5A272F89CA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лескопом сотни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ют жизнь пла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м расскажет обо вс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ный дядя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0C96-D2F1-48C0-BFCD-F637E6658A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24E-57AE-4455-A477-F74710D5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0BF-A756-478A-AC01-A4C54047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13F3-A17A-4AB0-8AE9-0109F24F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21F-924C-4CE5-A36C-25B8C7B1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68C2-19C3-4316-90D1-0F205B2E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3EA2-659F-4C1B-8B67-27DD2E74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78D1-C36E-4A6D-B05B-C9504464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497E-9502-4F31-8909-8BF8C0D9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44CD-F447-412F-86F2-4E6D118D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8104-7CA3-4694-AF7D-E2D5EFFF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7178-5FB2-4C3F-99CE-12098352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D68E-05AB-4B13-A5B8-33FD82B13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0967-7B4C-4733-AF29-5E0BB301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442A-4B5E-41F9-890F-DAFDC4F8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68B7-FF91-40FD-9149-EF1B7A19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536A-83A7-4459-AF81-72E8B263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8B4E-572C-4845-9872-37C44812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94BD-0879-4B15-B684-A379BEE4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6122-7062-4611-A609-764F4E9D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97D3-8EA7-4ED1-BC93-73917FA6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2268-9E90-45AF-98C2-F58BE4E8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46D-C8BB-42FB-B49B-6634A7C9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7FCE-8499-4492-8004-FF1FC50E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CEF2-0990-4CAF-8216-9B688505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F834-6B3B-4C65-9D81-BA2CCF3334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ubPieSlice"/>
          <p:cNvSpPr/>
          <p:nvPr/>
        </p:nvSpPr>
        <p:spPr>
          <a:xfrm>
            <a:off x="6972480" y="5553000"/>
            <a:ext cx="4343400" cy="261000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381960 h 2610000"/>
              <a:gd name="textAreaBottom" fmla="*/ 2228040 h 2610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>
              <a:alpha val="62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055"/>
          <p:cNvPicPr/>
          <p:nvPr/>
        </p:nvPicPr>
        <p:blipFill>
          <a:blip r:embed="rId2"/>
          <a:stretch/>
        </p:blipFill>
        <p:spPr>
          <a:xfrm>
            <a:off x="8077320" y="5257800"/>
            <a:ext cx="61092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" name="AutoShape 10"/>
          <p:cNvSpPr/>
          <p:nvPr/>
        </p:nvSpPr>
        <p:spPr>
          <a:xfrm>
            <a:off x="1219320" y="3808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3049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1066680" y="152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3"/>
          <p:cNvSpPr/>
          <p:nvPr/>
        </p:nvSpPr>
        <p:spPr>
          <a:xfrm>
            <a:off x="838080" y="4572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2133720"/>
            <a:ext cx="9144000" cy="2286000"/>
          </a:xfrm>
          <a:prstGeom prst="rect">
            <a:avLst/>
          </a:prstGeom>
          <a:gradFill rotWithShape="0">
            <a:gsLst>
              <a:gs pos="0">
                <a:srgbClr val="00478e"/>
              </a:gs>
              <a:gs pos="100000">
                <a:srgbClr val="2d9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gradFill rotWithShape="0">
            <a:gsLst>
              <a:gs pos="0">
                <a:srgbClr val="2d9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gradFill rotWithShape="0">
            <a:gsLst>
              <a:gs pos="0">
                <a:srgbClr val="002346"/>
              </a:gs>
              <a:gs pos="100000">
                <a:srgbClr val="00478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7924680" y="2209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6"/>
          <p:cNvSpPr/>
          <p:nvPr/>
        </p:nvSpPr>
        <p:spPr>
          <a:xfrm>
            <a:off x="5410080" y="8380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84582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8"/>
          <p:cNvSpPr/>
          <p:nvPr/>
        </p:nvSpPr>
        <p:spPr>
          <a:xfrm>
            <a:off x="75438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609588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>
            <a:off x="8839080" y="1295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>
            <a:off x="876312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83059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7086600" y="10666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4"/>
          <p:cNvSpPr/>
          <p:nvPr/>
        </p:nvSpPr>
        <p:spPr>
          <a:xfrm>
            <a:off x="3200400" y="2514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1600200" y="3049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6934320" y="2286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7"/>
          <p:cNvSpPr/>
          <p:nvPr/>
        </p:nvSpPr>
        <p:spPr>
          <a:xfrm>
            <a:off x="3048120" y="9907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28600" y="17524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9"/>
          <p:cNvSpPr/>
          <p:nvPr/>
        </p:nvSpPr>
        <p:spPr>
          <a:xfrm>
            <a:off x="4343400" y="12193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0"/>
          <p:cNvSpPr/>
          <p:nvPr/>
        </p:nvSpPr>
        <p:spPr>
          <a:xfrm>
            <a:off x="4572000" y="53352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1"/>
          <p:cNvSpPr/>
          <p:nvPr/>
        </p:nvSpPr>
        <p:spPr>
          <a:xfrm>
            <a:off x="3809880" y="91440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22"/>
          <p:cNvSpPr/>
          <p:nvPr/>
        </p:nvSpPr>
        <p:spPr>
          <a:xfrm>
            <a:off x="1752480" y="2438280"/>
            <a:ext cx="155520" cy="155520"/>
          </a:xfrm>
          <a:custGeom>
            <a:avLst/>
            <a:gdLst>
              <a:gd name="textAreaLeft" fmla="*/ 64080 w 155520"/>
              <a:gd name="textAreaRight" fmla="*/ 91440 w 155520"/>
              <a:gd name="textAreaTop" fmla="*/ 64080 h 155520"/>
              <a:gd name="textAreaBottom" fmla="*/ 914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61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3" descr="29r1"/>
          <p:cNvPicPr/>
          <p:nvPr/>
        </p:nvPicPr>
        <p:blipFill>
          <a:blip r:embed="rId2"/>
          <a:stretch/>
        </p:blipFill>
        <p:spPr>
          <a:xfrm>
            <a:off x="609480" y="685800"/>
            <a:ext cx="838440" cy="349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4" descr="fire14"/>
          <p:cNvPicPr/>
          <p:nvPr/>
        </p:nvPicPr>
        <p:blipFill>
          <a:blip r:embed="rId3"/>
          <a:stretch/>
        </p:blipFill>
        <p:spPr>
          <a:xfrm>
            <a:off x="79246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fire14"/>
          <p:cNvPicPr/>
          <p:nvPr/>
        </p:nvPicPr>
        <p:blipFill>
          <a:blip r:embed="rId4"/>
          <a:stretch/>
        </p:blipFill>
        <p:spPr>
          <a:xfrm>
            <a:off x="1905120" y="114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6" descr="fire14"/>
          <p:cNvPicPr/>
          <p:nvPr/>
        </p:nvPicPr>
        <p:blipFill>
          <a:blip r:embed="rId5"/>
          <a:stretch/>
        </p:blipFill>
        <p:spPr>
          <a:xfrm>
            <a:off x="5257800" y="22096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73" name="PubPieSlice"/>
          <p:cNvSpPr/>
          <p:nvPr/>
        </p:nvSpPr>
        <p:spPr>
          <a:xfrm>
            <a:off x="6629400" y="5391000"/>
            <a:ext cx="5029200" cy="2934000"/>
          </a:xfrm>
          <a:custGeom>
            <a:avLst/>
            <a:gdLst>
              <a:gd name="textAreaLeft" fmla="*/ 736200 w 5029200"/>
              <a:gd name="textAreaRight" fmla="*/ 4293000 w 5029200"/>
              <a:gd name="textAreaTop" fmla="*/ 429480 h 2934000"/>
              <a:gd name="textAreaBottom" fmla="*/ 2504520 h 2934000"/>
            </a:gdLst>
            <a:ahLst/>
            <a:rect l="textAreaLeft" t="textAreaTop" r="textAreaRight" b="textAreaBottom"/>
            <a:pathLst>
              <a:path w="21600" h="21600">
                <a:moveTo>
                  <a:pt x="10698" y="0"/>
                </a:moveTo>
                <a:cubicBezTo>
                  <a:pt x="4773" y="56"/>
                  <a:pt x="0" y="4875"/>
                  <a:pt x="0" y="10799"/>
                </a:cubicBezTo>
                <a:lnTo>
                  <a:pt x="10800" y="10800"/>
                </a:lnTo>
                <a:lnTo>
                  <a:pt x="10698" y="0"/>
                </a:lnTo>
                <a:close/>
              </a:path>
            </a:pathLst>
          </a:custGeom>
          <a:solidFill>
            <a:srgbClr val="ffff6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3" descr="055"/>
          <p:cNvPicPr/>
          <p:nvPr/>
        </p:nvPicPr>
        <p:blipFill>
          <a:blip r:embed="rId6"/>
          <a:stretch/>
        </p:blipFill>
        <p:spPr>
          <a:xfrm>
            <a:off x="7543800" y="5105520"/>
            <a:ext cx="611280" cy="12952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BE7C-E90B-4EF8-8B07-EA72AF7764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sunhome.ru/prose/15330" TargetMode="External"/><Relationship Id="rId2" Type="http://schemas.openxmlformats.org/officeDocument/2006/relationships/hyperlink" Target="http://www.donbass.ua/news/technology/space/2009/08/06/zvezda-pljuetsja-v-nebo-foto.html" TargetMode="External"/><Relationship Id="rId3" Type="http://schemas.openxmlformats.org/officeDocument/2006/relationships/hyperlink" Target="http://www.sunhome.ru/tags/publications/&#1079;&#1074;&#1077;&#1079;&#1076;&#1099;+&#1075;&#1080;&#1075;&#1072;&#1085;&#1090;&#1099;" TargetMode="External"/><Relationship Id="rId4" Type="http://schemas.openxmlformats.org/officeDocument/2006/relationships/hyperlink" Target="http://sis.3dn.ru/load/31-3-2" TargetMode="External"/><Relationship Id="rId5" Type="http://schemas.openxmlformats.org/officeDocument/2006/relationships/hyperlink" Target="http://www.astrogalaxy.ru/736.html" TargetMode="External"/><Relationship Id="rId6" Type="http://schemas.openxmlformats.org/officeDocument/2006/relationships/hyperlink" Target="http://www.karaoke.ru/user/Nektokto" TargetMode="External"/><Relationship Id="rId7" Type="http://schemas.openxmlformats.org/officeDocument/2006/relationships/hyperlink" Target="http://www.goodfon.ru/wallpaper/43024.html" TargetMode="External"/><Relationship Id="rId8" Type="http://schemas.openxmlformats.org/officeDocument/2006/relationships/hyperlink" Target="http://sovestilizator.bestpersons.ru/feed/post8413951/" TargetMode="External"/><Relationship Id="rId9" Type="http://schemas.openxmlformats.org/officeDocument/2006/relationships/hyperlink" Target="http://planeta.rambler.ru/community/astrologica/47938398.html?parent_id=47941000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255600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420000" y="2060640"/>
            <a:ext cx="404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вёздное неб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c96b04db3307a94bbec3db7ee0fadce4"/>
          <p:cNvPicPr/>
          <p:nvPr/>
        </p:nvPicPr>
        <p:blipFill>
          <a:blip r:embed="rId1"/>
          <a:stretch/>
        </p:blipFill>
        <p:spPr>
          <a:xfrm>
            <a:off x="179280" y="3933720"/>
            <a:ext cx="3060720" cy="2730600"/>
          </a:xfrm>
          <a:prstGeom prst="rect">
            <a:avLst/>
          </a:prstGeom>
          <a:ln w="38160">
            <a:solidFill>
              <a:srgbClr val="6699ff"/>
            </a:solidFill>
            <a:miter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4320720"/>
            <a:ext cx="871380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ками разной величины на карте показ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вёзды от ярчайших до менее заме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ая звезда имеет своё наз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е яркие из них – Полярная звезд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га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48410907_sever_skymap"/>
          <p:cNvPicPr/>
          <p:nvPr/>
        </p:nvPicPr>
        <p:blipFill>
          <a:blip r:embed="rId1"/>
          <a:stretch/>
        </p:blipFill>
        <p:spPr>
          <a:xfrm>
            <a:off x="2411280" y="260280"/>
            <a:ext cx="4762800" cy="3962520"/>
          </a:xfrm>
          <a:prstGeom prst="rect">
            <a:avLst/>
          </a:prstGeom>
          <a:ln w="0">
            <a:noFill/>
          </a:ln>
        </p:spPr>
      </p:pic>
      <p:sp>
        <p:nvSpPr>
          <p:cNvPr id="171" name="Line 5"/>
          <p:cNvSpPr/>
          <p:nvPr/>
        </p:nvSpPr>
        <p:spPr>
          <a:xfrm flipH="1" flipV="1">
            <a:off x="5003280" y="2491920"/>
            <a:ext cx="2737080" cy="1368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 flipH="1" flipV="1">
            <a:off x="6804000" y="691920"/>
            <a:ext cx="1728720" cy="8650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99ff"/>
          </a:solidFill>
          <a:ln w="5724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1-ый абзац на стр. 31 и отв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опрос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Что такое созвезди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65200" y="3716280"/>
            <a:ext cx="7963920" cy="10688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вездие – это группа наиболее ярки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тных на тёмном небе звёз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88160" y="5130720"/>
            <a:ext cx="7610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С какими созвездиями м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Monotype Corsiva"/>
              </a:rPr>
              <a:t>познакомились в 1 класс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48414444_volopas"/>
          <p:cNvPicPr/>
          <p:nvPr/>
        </p:nvPicPr>
        <p:blipFill>
          <a:blip r:embed="rId1"/>
          <a:stretch/>
        </p:blipFill>
        <p:spPr>
          <a:xfrm>
            <a:off x="3059280" y="260280"/>
            <a:ext cx="5736960" cy="4781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48405365_lev"/>
          <p:cNvPicPr/>
          <p:nvPr/>
        </p:nvPicPr>
        <p:blipFill>
          <a:blip r:embed="rId2"/>
          <a:stretch/>
        </p:blipFill>
        <p:spPr>
          <a:xfrm>
            <a:off x="179280" y="1773360"/>
            <a:ext cx="5399280" cy="453528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 flipV="1">
            <a:off x="3492360" y="5734080"/>
            <a:ext cx="0" cy="1008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7"/>
          <p:cNvSpPr/>
          <p:nvPr/>
        </p:nvSpPr>
        <p:spPr>
          <a:xfrm flipV="1">
            <a:off x="7667640" y="2133360"/>
            <a:ext cx="0" cy="31669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Кассиоп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7"/>
          <p:cNvPicPr/>
          <p:nvPr/>
        </p:nvPicPr>
        <p:blipFill>
          <a:blip r:embed="rId1"/>
          <a:stretch/>
        </p:blipFill>
        <p:spPr>
          <a:xfrm>
            <a:off x="1619280" y="1413000"/>
            <a:ext cx="5905440" cy="44892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2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692000" y="4508640"/>
            <a:ext cx="5986440" cy="204768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W» [дабл ю] к ЦЕФЕЮ близ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чит «woman» по-англий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жена царя ЦЕФЕ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рдая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КАССИОПЕ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7"/>
          <p:cNvPicPr/>
          <p:nvPr/>
        </p:nvPicPr>
        <p:blipFill>
          <a:blip r:embed="rId1"/>
          <a:stretch/>
        </p:blipFill>
        <p:spPr>
          <a:xfrm>
            <a:off x="2124000" y="404640"/>
            <a:ext cx="4969080" cy="37785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Ори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6"/>
          <p:cNvPicPr/>
          <p:nvPr/>
        </p:nvPicPr>
        <p:blipFill>
          <a:blip r:embed="rId1"/>
          <a:stretch/>
        </p:blipFill>
        <p:spPr>
          <a:xfrm>
            <a:off x="1476360" y="1413000"/>
            <a:ext cx="6097680" cy="4573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3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6"/>
          <p:cNvPicPr/>
          <p:nvPr/>
        </p:nvPicPr>
        <p:blipFill>
          <a:blip r:embed="rId1"/>
          <a:stretch/>
        </p:blipFill>
        <p:spPr>
          <a:xfrm>
            <a:off x="4859280" y="907920"/>
            <a:ext cx="4033800" cy="43214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324000" y="907920"/>
            <a:ext cx="4248000" cy="484884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поясавшись поту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снаряж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ает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РИ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е звезды из высшей л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РИОНЕ - это РИГ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авом нижнем угол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бант на башм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на левом эполет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ТЕЛЬГЕЙЗЕ ярко све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и звезды наиск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шают пояс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вездие Лебе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4"/>
          <p:cNvPicPr/>
          <p:nvPr/>
        </p:nvPicPr>
        <p:blipFill>
          <a:blip r:embed="rId1"/>
          <a:stretch/>
        </p:blipFill>
        <p:spPr>
          <a:xfrm>
            <a:off x="1403280" y="1341360"/>
            <a:ext cx="6031080" cy="45165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248400" y="6021360"/>
            <a:ext cx="794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 4-й абзац в учебнике на стр.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4464000" cy="40640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4572000" y="1052640"/>
            <a:ext cx="4392720" cy="4117320"/>
          </a:xfrm>
          <a:prstGeom prst="rect">
            <a:avLst/>
          </a:prstGeom>
          <a:solidFill>
            <a:srgbClr val="ffff66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 ЦЕФЕЕМ и ЛИР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ылья раскинув над мир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ЛЕБЕД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еспеш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ит в высо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ко сверк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НЕБ на хво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сною ноч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лечном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верный Кр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арайся най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утешествие по Зодиа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1"/>
          <p:cNvPicPr/>
          <p:nvPr/>
        </p:nvPicPr>
        <p:blipFill>
          <a:blip r:embed="rId1"/>
          <a:stretch/>
        </p:blipFill>
        <p:spPr>
          <a:xfrm>
            <a:off x="468360" y="1557360"/>
            <a:ext cx="7775640" cy="42051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320400" y="6021360"/>
            <a:ext cx="81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йте текст в учебнике на стр.32-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147160" cy="2549520"/>
          </a:xfrm>
          <a:prstGeom prst="rect">
            <a:avLst/>
          </a:prstGeom>
          <a:solidFill>
            <a:srgbClr val="6699ff"/>
          </a:solidFill>
          <a:ln w="38160">
            <a:solidFill>
              <a:srgbClr val="3333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тёмному небу рассыпан гороше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ной карамели из сахарной крош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только тогда, когда утро настан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я карамель та внезапно раста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3277080" y="5373720"/>
            <a:ext cx="211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ь н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067280" y="1267920"/>
            <a:ext cx="540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такое Зодиа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всего созвездий в Зодиа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«гостит» солнце у каждого созвезд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какого созвездия принято начинать путешествие по Зодиа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5" descr="6"/>
          <p:cNvPicPr/>
          <p:nvPr/>
        </p:nvPicPr>
        <p:blipFill>
          <a:blip r:embed="rId1"/>
          <a:stretch/>
        </p:blipFill>
        <p:spPr>
          <a:xfrm>
            <a:off x="250920" y="1773360"/>
            <a:ext cx="3676680" cy="3809880"/>
          </a:xfrm>
          <a:prstGeom prst="rect">
            <a:avLst/>
          </a:prstGeom>
          <a:ln w="57240">
            <a:solidFill>
              <a:srgbClr val="6699ff"/>
            </a:solidFill>
            <a:miter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unhome.ru/prose/153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bass.ua/news/technology/space/2009/08/06/zvezda-pljuetsja-v-nebo-foto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sunhome.ru/tags/publications/звезды+гиг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sis.3dn.ru/load/31-3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strogalaxy.ru/73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karaoke.ru/user/Nektok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goodfon.ru/wallpaper/43024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sovestilizator.bestpersons.ru/feed/post841395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planeta.rambler.ru/community/astrologica/47938398.html?parent_id=4794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анова Оксана Владими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учитель начальных клас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АОУ «Гимназия №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. Великого Нов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684360" y="580536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Monotype Corsiva"/>
              </a:rPr>
              <a:t>- Что вы знаете о звёздах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6"/>
          <p:cNvPicPr/>
          <p:nvPr/>
        </p:nvPicPr>
        <p:blipFill>
          <a:blip r:embed="rId1"/>
          <a:stretch/>
        </p:blipFill>
        <p:spPr>
          <a:xfrm>
            <a:off x="900000" y="692280"/>
            <a:ext cx="7201080" cy="482112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р звёзд очень разнообразен. В безоблачный ясный вечер небо над вашей головой усыпано множеством звёзд. Они кажутся маленькими сверкающими точками, потому что находятся очень далеко от Земли. В действительности каждая звезда – это огромный светящийся раскалённый ша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"/>
          <p:cNvPicPr/>
          <p:nvPr/>
        </p:nvPicPr>
        <p:blipFill>
          <a:blip r:embed="rId1"/>
          <a:stretch/>
        </p:blipFill>
        <p:spPr>
          <a:xfrm>
            <a:off x="2916360" y="4365720"/>
            <a:ext cx="3311280" cy="23842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5075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ые горячие звёзды  голуб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вета, другие, менее горячие – красн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2005-0322cluster-full"/>
          <p:cNvPicPr/>
          <p:nvPr/>
        </p:nvPicPr>
        <p:blipFill>
          <a:blip r:embed="rId1"/>
          <a:stretch/>
        </p:blipFill>
        <p:spPr>
          <a:xfrm>
            <a:off x="1979640" y="1557360"/>
            <a:ext cx="4979880" cy="49291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ть звёзды – гиганты, а е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ёзды – кар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2"/>
          <p:cNvPicPr/>
          <p:nvPr/>
        </p:nvPicPr>
        <p:blipFill>
          <a:blip r:embed="rId1"/>
          <a:stretch/>
        </p:blipFill>
        <p:spPr>
          <a:xfrm>
            <a:off x="5508720" y="333360"/>
            <a:ext cx="2879640" cy="2230560"/>
          </a:xfrm>
          <a:prstGeom prst="rect">
            <a:avLst/>
          </a:prstGeom>
          <a:ln w="0">
            <a:noFill/>
          </a:ln>
        </p:spPr>
      </p:pic>
      <p:sp>
        <p:nvSpPr>
          <p:cNvPr id="146" name="Line 5"/>
          <p:cNvSpPr/>
          <p:nvPr/>
        </p:nvSpPr>
        <p:spPr>
          <a:xfrm flipV="1">
            <a:off x="4067280" y="1052280"/>
            <a:ext cx="1655640" cy="36036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5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20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776160" y="1125360"/>
            <a:ext cx="314172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гиг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8"/>
          <p:cNvSpPr/>
          <p:nvPr/>
        </p:nvSpPr>
        <p:spPr>
          <a:xfrm flipH="1">
            <a:off x="1692360" y="5300640"/>
            <a:ext cx="151272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512160" y="5013360"/>
            <a:ext cx="3268440" cy="642600"/>
          </a:xfrm>
          <a:prstGeom prst="rect">
            <a:avLst/>
          </a:prstGeom>
          <a:solidFill>
            <a:srgbClr val="33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везда-кар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6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лнце –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cme-x-class-26oct03"/>
          <p:cNvPicPr/>
          <p:nvPr/>
        </p:nvPicPr>
        <p:blipFill>
          <a:blip r:embed="rId1"/>
          <a:stretch/>
        </p:blipFill>
        <p:spPr>
          <a:xfrm>
            <a:off x="1979640" y="1484280"/>
            <a:ext cx="4716360" cy="471636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155" name="Text Box 6"/>
          <p:cNvSpPr/>
          <p:nvPr/>
        </p:nvSpPr>
        <p:spPr>
          <a:xfrm>
            <a:off x="4788000" y="434880"/>
            <a:ext cx="376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одна из звёз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050920" y="259920"/>
            <a:ext cx="555480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глаз вооруж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со звездами дружи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лечный путь увидеть чт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жен мощный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4427640" y="3429000"/>
            <a:ext cx="194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653440" y="1989000"/>
            <a:ext cx="209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леско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Drawn_wallpapers_Vector_Wallpapers_Telescope_015787_"/>
          <p:cNvPicPr/>
          <p:nvPr/>
        </p:nvPicPr>
        <p:blipFill>
          <a:blip r:embed="rId1"/>
          <a:stretch/>
        </p:blipFill>
        <p:spPr>
          <a:xfrm>
            <a:off x="1763640" y="2781360"/>
            <a:ext cx="5040360" cy="377964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708000" y="836640"/>
            <a:ext cx="519444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скопом сотни л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ают жизнь план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расскажет обо вс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ный дяд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588720" y="249228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аст"/>
          <p:cNvPicPr/>
          <p:nvPr/>
        </p:nvPicPr>
        <p:blipFill>
          <a:blip r:embed="rId1"/>
          <a:stretch/>
        </p:blipFill>
        <p:spPr>
          <a:xfrm>
            <a:off x="395280" y="3357720"/>
            <a:ext cx="3384720" cy="331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6T13:44:07Z</dcterms:created>
  <dc:creator>мама</dc:creator>
  <dc:description/>
  <dc:language>en-US</dc:language>
  <cp:lastModifiedBy>LEGION</cp:lastModifiedBy>
  <dcterms:modified xsi:type="dcterms:W3CDTF">2015-01-12T09:32:10Z</dcterms:modified>
  <cp:revision>7</cp:revision>
  <dc:subject/>
  <dc:title>Слайд 1</dc:title>
</cp:coreProperties>
</file>