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himes.wav" ContentType="audio/x-wav"/>
  <Override PartName="/ppt/media/image1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B5E8-F178-45B2-A354-2B6A8FC61F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Компьютеры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4EB-3BFF-457F-ADF8-16D238AC7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стройства диагностики и локализации почечных и желчных кам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ечение зубов и проте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компью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сист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микрокомпьютерным управлением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интенсивного медицинского контроля пациента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C49D-FC6A-4A73-9E49-4CF5FE52EB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Calibri"/>
              </a:rPr>
              <a:t>Что и как мы узнали  о применении компьютеров в медицин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Взяли интервью у местных работников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ровели опрос зна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Нашли сообщения  в печатных изданиях о применении ЭВМ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Подобрали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5199-2117-48AA-A335-76366EEDDA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Calibri"/>
              </a:rPr>
              <a:t>РЕЗУЛЬТАТЫ О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6E6D-7CA7-4FDF-B6DD-A71D75DDCA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Чем раньше выявить заболевание, тем проще его ле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Люди стали больше доверять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0F3-D00C-4051-BA35-BC159994C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F74B-592B-499D-9E61-25D903FDAF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используютс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храня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в своей памяти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стории болезней пациен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1AEB-4A2F-4378-8444-FD10D6D874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ы позволяют установить, как влияет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загрязненность воздух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заболеваемость населения данного район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с их помощью можно изучать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влияние уда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071-F091-47EC-B59D-97AE863B1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24100"/>
                </a:solidFill>
                <a:latin typeface="Calibri"/>
              </a:rPr>
              <a:t>Компьютер - паци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ая техника используе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E72C-CBD5-487D-9806-B1C7DA6F6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24100"/>
                </a:solidFill>
                <a:latin typeface="Calibri"/>
              </a:rPr>
              <a:t>Кроме т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ьютерные сети используются для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жидающие операции транспла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Банки медицински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A1C6-6B23-477D-8A8B-2F7FCF5F4C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К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142-C123-4F92-B70C-866C92BD8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М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икрокомпьютерные технологии рентгеновских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запомненные в цифровой форме рентгеновские снимки могут быть быстро и качественно обработаны, воспроизведены и занесены в архив для сравнения с последующими снимками этого паци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З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адатчик</a:t>
            </a:r>
            <a:r>
              <a:rPr b="0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 (водитель) 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ердечного рит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6B9F-DA66-499A-948D-AC69A65920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У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стройства дыхания и нарко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a00"/>
                </a:solidFill>
                <a:latin typeface="Calibri"/>
              </a:rPr>
              <a:t>Л</a:t>
            </a:r>
            <a:r>
              <a:rPr b="1" lang="ru-RU" sz="1200" spc="-1" strike="noStrike">
                <a:solidFill>
                  <a:srgbClr val="004a00"/>
                </a:solidFill>
                <a:latin typeface="Calibri"/>
                <a:ea typeface="Times New Roman"/>
              </a:rPr>
              <a:t>учевая терапия с микропроцессорным управл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EC4B-B593-4311-BFE1-6924170E74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6E0-027A-4CE5-BF66-88BDFB96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073-AECE-4532-91F5-3F2C3983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F56-204A-4E66-A058-487219FA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31B-32E0-438D-85E1-346A7E47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1829-5432-4C25-AE45-6035537F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4281-CF4F-4813-B362-98362DC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709D-FAC3-49AA-BD38-E799DB91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F4D-1ABA-4868-876B-E70C6B9E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992-5155-4B81-A17A-5E4E5D7C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F09B-0C0F-455B-A23A-AA006FF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DF2E-A1C2-4F35-9B47-F9848F3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CFB-DE4B-489B-8677-E3E5DE1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41B-22C4-47E6-B0BD-995F98A2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D7DE-EBFC-4420-9B35-BD064BDD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897-B386-4B6B-B487-E3EBB60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9D8-E81D-4116-83F4-6A3B617C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032F-BB8D-4547-B905-5FA19494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EFF8-5627-4C09-9729-EB1FEF34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FE8C-24EA-4F7E-B674-4950227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630C-9E96-4DFB-83A3-56ABD698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6BF2-556E-4ED0-A888-D1F02CF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B07B-D46C-4E5C-B10F-5E63CB93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0DD-FD27-4735-989A-41A455F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B363-1582-4A2C-B6E0-CB62745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BD41-B2DC-49CC-8209-F3A1309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3895-2B1C-4CA3-9033-E3E6C7F2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E969-4F9A-49DE-B789-4CD5930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E1AB-740E-4559-93BC-963A1B9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DE46-7A50-4065-AD43-B5991966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81EE-05FC-43E0-89B8-4D5E04D4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DB76-9E3E-45B9-B255-5D95720A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4F07-12AA-4E8B-AC5F-C2462D24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61D4-6AAA-4EE5-A111-4EE5F60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A3D-C65E-4710-960F-902786EE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3E54-492E-4198-9A4C-FCC8771D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49A4-34BA-4811-AA5F-14F49CB6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A5AC-FD46-47B0-A6AD-B2282C5E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1126-EF44-42B2-A15B-BBF8AAB4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B679-255E-4CAA-80AF-1F3CB2F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3104-844E-4985-B563-041EC93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0EFA-106A-4F54-9E67-FB72D82C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7203-B48C-4C34-BBF0-08873E9E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93577-62EA-43A7-B5A8-FA1DD0CF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92F3-1690-4924-B25B-A8392E10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B65-94D7-4ECE-B53C-94E72776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ECD4-5B10-43E5-B5EC-CCA99827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68F2-D1F7-4546-B4A2-EFF37BDD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28FD-DD82-48DC-AF56-09EBC2B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2F5CF-BF8B-4409-83C1-4D5F8A6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77A0-C480-4051-9434-04A37769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2553F-683E-467B-A9FF-C90717C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9C053-BB7B-4C3E-8369-655CA71A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D804-7451-4722-9517-0415A0D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6400-5404-46AE-A8D8-C5EAFB1B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E6496-9C49-431D-B999-D20B37E9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2D7-6899-4495-95F3-A8AD9EF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9B96-BA18-4DBE-841D-5B5C73EE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CD997-F9DD-45DA-AB65-34EB1D44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F0994-CB28-423B-B5A5-7C99BB04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EE7A-695E-4669-96BA-5BB454F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003F-B2E1-4139-846A-F90C9A0B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27E9-AE18-454C-95AF-CAE1EA38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42C41-2941-41CD-8BC3-5BE335A1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BD91-A7DB-4A39-89A4-003EC18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68834-9596-4A7D-A2D0-7845840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33AD3-70D0-42B1-9DAB-C89E0A0B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EBD-8979-4DAF-9C41-435FBB04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59883-9738-43CF-A852-BED1CDFF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9F78-0206-487B-A865-6C3D2738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42C0-729D-4410-A534-37DE0DAB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67754-11B9-4BE5-9219-7E599CA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7AB4A-11B3-441A-9698-9A54B604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B9CA-EF68-4505-85DE-AFD1AB70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F8B1-17BA-46E6-A0DC-4CB57DC9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19FDB-A03F-4ADF-8541-B77FCFF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49444-A749-40DA-A574-D8277D7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B3A27-FA8C-43D3-8C65-1E9B8E95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5AF-184D-470B-8C89-45E2DFBB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1DD1-95BD-4E09-A26B-DE6CB64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D3BA-7CA7-4C77-8A01-FE2CC10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51853-48A0-4098-BBD9-203D9283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BA3D-6E4B-4DAF-8B6A-7FB629EF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A0A7-E464-45D8-8DAA-B3268940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CCED3-AECE-470E-ABB1-D6234168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E597-0C78-4119-B2F5-8999241D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2EA18-44C0-4B87-9A0E-CBD23BD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9BA84-28DC-4CD1-9D93-15D2831F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796B-950B-465F-86B3-837BAF9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F30-2279-44A7-A478-90820BF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CDD9C-0771-42E6-82B0-87ADCE31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D96C-1A7F-43DF-ABD5-6DF70744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F2DF2-14F5-4849-B67C-845B14E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605D-5B29-4CA8-AFD2-3E38E1A5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01EB9-FCDB-4663-A19D-286E919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7A150-7B9E-462B-9ECA-D8576BCF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2540-6582-49DA-B0A2-D6966A2D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кутний трикут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 сполучна ліні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16D6-B1E9-4F84-A840-D948E62B1B80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675-48BD-4332-AC03-7B77911B60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кутний трикут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увати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іліні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іліні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іліні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іліні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 сполучна ліні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B7D2-337E-48F7-86FF-B9A95B037165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2431-CB26-4BD8-90DA-BE35158F39A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A5E-49EE-44F8-8FB1-78D327DEF3C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971F-0C6D-41BA-998E-DEF57DCB53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36C5-61E0-4A7A-95FA-217758BE39B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790C-E43F-44F3-ADFB-7CD64269E7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D623-8230-4C71-9C42-22A0EEE5AA5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13B2-4F1B-4FCB-BE47-F048830B71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іліні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іліні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кутний трикут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кутний трикут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 сполучна ліні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951-7F26-4D5C-851D-0274E0DF8CFA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2FDD-1F5D-45E7-845E-C00D0A2F8D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4B3-83F2-49E2-990F-48913831842D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F58F-829B-45B7-B5B7-7C348B706C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іліні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іліні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кутний трикут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кутний трикут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 сполучна ліні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5BEE-7640-4703-AA3A-CA6FF6BF1B9F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7DA-FF04-422B-A65B-D526A455DA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-384120" y="115920"/>
            <a:ext cx="8235720" cy="2462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M00361_"/>
          <p:cNvPicPr/>
          <p:nvPr/>
        </p:nvPicPr>
        <p:blipFill>
          <a:blip r:embed="rId2"/>
          <a:stretch/>
        </p:blipFill>
        <p:spPr>
          <a:xfrm>
            <a:off x="5334120" y="2666880"/>
            <a:ext cx="3538440" cy="319428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устройства диагностики и локализации почечных и желчных камней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а также контроля процесса их разрушения при помощи наружных ударных волн (литотрипсия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лечение зубов и протез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помощью компьютера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систем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 микрокомпьютерным управлением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</a:rPr>
              <a:t>интенсивного медицинского контроля пациента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838080" y="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a00"/>
                </a:solidFill>
                <a:latin typeface="Times New Roman"/>
              </a:rPr>
              <a:t>А такж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8583840" cy="22366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-360" y="2149200"/>
            <a:ext cx="79246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Взяли интервью у местных работников здравоохран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ровели опрос знакомы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Нашли сообщения  в печатных изданиях о применении ЭВМ в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4680" indent="27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24100"/>
                </a:solidFill>
                <a:latin typeface="Lucida Sans Unicode"/>
              </a:rPr>
              <a:t>Подобрали фотограф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-255600" y="189000"/>
            <a:ext cx="8028000" cy="124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Object 8"/>
          <p:cNvGraphicFramePr/>
          <p:nvPr/>
        </p:nvGraphicFramePr>
        <p:xfrm>
          <a:off x="0" y="1071720"/>
          <a:ext cx="7616880" cy="55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71720"/>
                    <a:ext cx="7616880" cy="55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-324000" y="96840"/>
            <a:ext cx="8340840" cy="1403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Чем раньше выявить заболевание, тем проще его лечить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</a:rPr>
              <a:t>Люди стали больше доверять ЭВМ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-291960" y="-268200"/>
            <a:ext cx="8180280" cy="26938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Lucida Sans Unicode"/>
                <a:ea typeface="Times New Roman"/>
              </a:rPr>
              <a:t>Компьютерная аппаратура широко используется при постановке диагноза, проведении обследований и профилактических осмотров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именение компьютеров переводит медицину на иной, более высокий качественный уровень и способствует дальнейшему повышению уровня и качества жизни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210024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D:\TOCD\Ищенко\Электронная версия учебника по информатике 10-11\0014-2.jpg"/>
          <p:cNvPicPr/>
          <p:nvPr/>
        </p:nvPicPr>
        <p:blipFill>
          <a:blip r:embed="rId1"/>
          <a:stretch/>
        </p:blipFill>
        <p:spPr>
          <a:xfrm>
            <a:off x="714240" y="99072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В компьютеризированном отделении лечеб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используются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для создания карт, показывающих скорость распространения эпидемий.</a:t>
            </a:r>
            <a:r>
              <a:rPr b="0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хранят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в своей памяти </a:t>
            </a:r>
            <a:r>
              <a:rPr b="1" lang="ru-RU" sz="36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истории болезней пациентов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что освобождает врачей от бумажной работы, на которую уходит много времени, и позволяет больше времени уделять самим больным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ы позволяют установить, как влияет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загрязненность воздуха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заболеваемость населения данного района. 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роме того, с их помощью можно изучать 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влияние ударов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на различные части тела, в частности, последствия удара при автомобильной катастрофе для черепа и позвоночника человека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ая техника используе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бучения медицинских работников практическим навыка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 На этот раз компьютер выступает в роли больного, которому требуется немедленная помощь. На основании симптомов, выданных компьютером, обучающийся должен определить курс лечения. Если он ошибся, компьютер сразу показывает эт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-255600" y="201600"/>
            <a:ext cx="8272440" cy="11574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омпьютерные сети используются для </a:t>
            </a: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пересылки сообщений о донорских органах, в которых нуждаются больные</a:t>
            </a:r>
            <a:r>
              <a:rPr b="0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,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ожидающие операции трансплантаци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Банки медицинских данны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позволяют медикам быть в курсе последних научных и практических достижени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11280" y="2852640"/>
            <a:ext cx="4932360" cy="19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Lucida Sans Unicode"/>
              </a:rPr>
              <a:t>К</a:t>
            </a:r>
            <a:r>
              <a:rPr b="1" lang="ru-RU" sz="24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омпьютерная томография и ядерная медицинская 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дают точные послойные изображения структур внутренних органов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Picture 7" descr="D:\TOCD\Ищенко\Электронная версия учебника по информатике 10-11\0011-3.jpg"/>
          <p:cNvPicPr/>
          <p:nvPr/>
        </p:nvPicPr>
        <p:blipFill>
          <a:blip r:embed="rId1"/>
          <a:stretch/>
        </p:blipFill>
        <p:spPr>
          <a:xfrm>
            <a:off x="0" y="228600"/>
            <a:ext cx="3684600" cy="37051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6860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04920" y="44956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a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4a00"/>
                </a:solidFill>
                <a:latin typeface="Times New Roman"/>
                <a:ea typeface="Times New Roman"/>
              </a:rPr>
              <a:t>льтразвуковая диагностика и зон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используя эффекты взаимодействия падающих и отраженных ультразвуковых волн, открывает бесчисленные возможности для получения изображений внутренних органов и исследования их состо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4140360" y="0"/>
            <a:ext cx="50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24100"/>
                </a:solidFill>
                <a:latin typeface="Times New Roman"/>
              </a:rPr>
              <a:t>Примеры компьютерных устройств и методов лечения и диагно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011240" y="573120"/>
            <a:ext cx="8334360" cy="3376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36800" y="4628880"/>
            <a:ext cx="450684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a00"/>
                </a:solidFill>
                <a:latin typeface="Lucida Sans Unicode"/>
              </a:rPr>
              <a:t>З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адатчик</a:t>
            </a:r>
            <a:r>
              <a:rPr b="0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 (водитель) </a:t>
            </a:r>
            <a:r>
              <a:rPr b="1" lang="ru-RU" sz="28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сердечного ритма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7" descr="D:\TOCD\Ищенко\Электронная версия учебника по информатике 10-11\0012-2.jpg"/>
          <p:cNvPicPr/>
          <p:nvPr/>
        </p:nvPicPr>
        <p:blipFill>
          <a:blip r:embed="rId2"/>
          <a:stretch/>
        </p:blipFill>
        <p:spPr>
          <a:xfrm>
            <a:off x="0" y="3733920"/>
            <a:ext cx="3073320" cy="3124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369576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-201600" y="4724280"/>
            <a:ext cx="790092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419360" y="-36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4a00"/>
                </a:solidFill>
                <a:latin typeface="Lucida Sans Unicode"/>
              </a:rPr>
              <a:t>Л</a:t>
            </a:r>
            <a:r>
              <a:rPr b="1" lang="ru-RU" sz="3300" spc="-1" strike="noStrike">
                <a:solidFill>
                  <a:srgbClr val="004a00"/>
                </a:solidFill>
                <a:latin typeface="Lucida Sans Unicode"/>
                <a:ea typeface="Times New Roman"/>
              </a:rPr>
              <a:t>учевая терапия с микропроцессорным управлением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— обеспечивает возможность применения более надежных и щадящих методов облучения</a:t>
            </a:r>
            <a:r>
              <a:rPr b="0" lang="ru-RU" sz="3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Picture 8" descr="D:\TOCD\Ищенко\Электронная версия учебника по информатике 10-11\0013-2.jpg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38304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36910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19:39Z</dcterms:created>
  <dc:creator>user</dc:creator>
  <dc:description/>
  <dc:language>en-US</dc:language>
  <cp:lastModifiedBy>RomaK</cp:lastModifiedBy>
  <dcterms:modified xsi:type="dcterms:W3CDTF">2014-10-31T12:41:37Z</dcterms:modified>
  <cp:revision>20</cp:revision>
  <dc:subject/>
  <dc:title>Компьютеры в медицине</dc:title>
</cp:coreProperties>
</file>