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chimes.wav" ContentType="audio/x-wav"/>
  <Override PartName="/ppt/media/image16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F9EA-8B7D-4D2A-809B-347A58FDDD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Calibri"/>
              </a:rPr>
              <a:t>Компьютеры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02C0-1A01-48B3-A5AF-B2428303B6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устройства диагностики и локализации почечных и желчных кам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контроля процесса их разрушения при помощи наружных ударных волн (литотрипс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лечение зубов и протез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компьют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сист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микрокомпьютерным управлением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интенсивного медицинского контроля пациента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7216-4EB7-4F30-BAFC-B982037DAE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Calibri"/>
              </a:rPr>
              <a:t>Что и как мы узнали  о применении компьютеров в медицине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Взяли интервью у местных работников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Провели опрос зна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Нашли сообщения  в печатных изданиях о применении ЭВМ в медиц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Подобрали фот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0058-DF61-4E97-8A22-95E45B5D3D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Calibri"/>
              </a:rPr>
              <a:t>РЕЗУЛЬТАТЫ О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699A-8703-4884-96B8-7B157D96FC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Calibri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Чем раньше выявить заболевание, тем проще его ле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Люди стали больше доверять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1CBA-DEC2-40FD-9644-07A537D0C8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Times New Roman"/>
              </a:rPr>
              <a:t>В компьютеризированном отделении лечеб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DA1F-072F-41A3-8D99-53D4D717FD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используютс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для создания карт, показывающих скорость распространения эпидемий.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храня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в своей памяти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истории болезней пациен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что освобождает врачей от бумажной работы, на которую уходит много времени, и позволяет больше времени уделять самим бо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0F14-765E-4A15-8A1E-52A9E244CC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позволяют установить, как влияет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загрязненность воздух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заболеваемость населения данного район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оме того, с их помощью можно изучать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влияние уда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различные части тела, в частности, последствия удара при автомобильной катастрофе для черепа и позвоночника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C3F4-D0D8-4B56-9AEE-82E246A0EE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Компьютер - паци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ая техника используется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обучения медицинских работников практическим навык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На этот раз компьютер выступает в роли больного, которому требуется немедленная помощь. На основании симптомов, выданных компьютером, обучающийся должен определить курс лечения. Если он ошибся, компьютер сразу показывает э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047C-7329-47C7-8F84-1AAF02E3AC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24100"/>
                </a:solidFill>
                <a:latin typeface="Calibri"/>
              </a:rPr>
              <a:t>Кроме т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ые сети используются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пересылки сообщений о донорских органах, в которых нуждаются больные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жидающие операции трансплан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Банки медицинских дан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озволяют медикам быть в курсе последних научных и практических достиж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D4B5-12E5-4893-9477-3B4AC15F82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00"/>
                </a:solidFill>
                <a:latin typeface="Times New Roman"/>
              </a:rPr>
              <a:t>Примеры компьютерных устройств и методов лечения и диагнос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К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омпьютерная томография и ядерная медицинская диагнос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дают точные послойные изображения структур внутренних орга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Times New Roman"/>
              </a:rPr>
              <a:t>У</a:t>
            </a:r>
            <a:r>
              <a:rPr b="1" lang="ru-RU" sz="1200" spc="-1" strike="noStrike">
                <a:solidFill>
                  <a:srgbClr val="004a00"/>
                </a:solidFill>
                <a:latin typeface="Times New Roman"/>
                <a:ea typeface="Times New Roman"/>
              </a:rPr>
              <a:t>льтразвуковая диагностика и зондировани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спользуя эффекты взаимодействия падающих и отраженных ультразвуковых волн, открывает бесчисленные возможности для получения изображений внутренних органов и исследования их состоя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B59D-E9FD-4CE3-AF28-04EABEFE8D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М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икрокомпьютерные технологии рентгеновских исследо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запомненные в цифровой форме рентгеновские снимки могут быть быстро и качественно обработаны, воспроизведены и занесены в архив для сравнения с последующими снимками этого паци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З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адатчик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 (водитель)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сердечного рит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06AF-0915-43EC-BF36-C5BA85500F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У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стройства дыхания и нарко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Л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учевая терапия с микропроцессорным управл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обеспечивает возможность применения более надежных и щадящих методов об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838C-455B-450A-BF21-E74801D527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65D-DF47-4C76-868C-5F812CB7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DAB-F112-40A7-A2E8-B526D257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620-0846-4EB7-B60B-C9BB88F3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67D-F33B-4A16-B828-37CB2043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E977-524E-4C44-87F6-92695D78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20B8-62A7-47AB-A286-CBF49D04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09ED-4D29-4186-B627-E169390A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3A72-D775-4CDE-87B5-DFDF2958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E0C4-0C0C-4F48-83FD-382843C5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5D0A-99AA-4BB5-A3C9-ED47989C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1897-E7B7-43B8-B707-4857EFE7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10EC-1D35-4020-8378-68F6CA57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347C-C2EF-4D16-90D6-6A7B4C85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A9B6-B60A-4D50-8A8B-6E486B29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E489-FCB0-4117-9159-1CB35735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958B-AEFB-4A25-88C3-86E3E758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AE61-1CDA-43DC-BE6B-ED1BF0B1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9BB6A-CD14-4B9E-9A73-82FB4C1D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B993A-4BA3-4376-A6E7-B4D68287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37F84-76A2-47CB-B8C8-8069E542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51153-3031-4E6B-AC26-E279D861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63C7E-69D7-4389-8CC9-3F1FCDB3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B1D1-9D6E-4D65-A511-B082E7A1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DCB44-A0F6-4CF9-9F9E-1FBE4087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2E691-B09C-4DF6-92C1-705BA44A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2D5E3-C762-44F6-AA50-08243048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D0AD3-D23E-4586-B1D0-F2570714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E6326-823C-44F5-9CB1-A0318EC6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3E360-A1F5-43B1-A66A-76D3D36B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77B30-F351-4EEE-8F2C-8FD12924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C5935-A93B-4196-971C-A0CAA349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B40A2-B3D6-423D-B8CE-8067D46F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34CEF-0B1F-4CAA-B8F8-06A62585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3073-9116-46BD-96EE-57D2B822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85189-CB0D-4873-9D29-09928260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CD31E-B658-43FC-8BBB-49FD42FB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F94A1-F3D6-402C-A8B6-A6646C5E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EC3CE-1582-4CDD-B6F2-61C30ADF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31FC5-EF24-48DA-9649-71864C11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3327C-F75A-4BC4-8138-931AC624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B6C54-4738-4FFD-83B4-B604FE0D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DB506-F3C1-4921-A2D9-ED2F3CCB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59CC5-8BC9-48CB-AE61-891F14A3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87060-7BD4-4F1C-8378-0EBAA67B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06E-06FC-4CDC-B850-8FE7E4CF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18B64-2698-4B49-BCC9-C5E393E1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68EAD-4657-4EF8-A821-8EFF253A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EFB38-EA10-4D7A-91D1-92427505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B58AD-CAA0-47E2-9EF6-316AE00A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E0D87-A143-4182-91D2-9C75A37C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15307-EB18-4986-95FB-A37AE609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ED03F-7836-41BE-B4E9-82BD13CD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49E53-04EB-45B6-AC90-72AAC9A4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DBA03-0F1A-4C4A-B9E4-6EFF2258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5C66A-11A0-4756-8286-ADCBC4BB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55D-0E5E-43A6-A525-EE889C4D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AC92C-33FC-4CD7-AC68-5004DB8C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DFB98-F321-4238-ABEC-D4B702C9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7BC3C-68C0-482F-BDE0-1670C4F2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C50EE-E197-49FD-98D0-88AE261C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9EB68-A5DC-429C-B05A-D6340822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202DF-8494-4F08-B09E-052ECA04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A9A13-B921-4A15-9611-97ACF53D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EA270-C6C8-47CB-8D07-D05E8A10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0D098-1084-42D8-A556-CC8237AF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147DD-796F-4DE4-8B8A-FA549C21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743-426B-4616-991D-F0B7F246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07633-634A-411E-8AB2-AC321D77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8D04A-56C3-477D-9EB4-1A750A69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D25B3-1D19-4E2B-AC28-372D69E1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AB285-7B9A-4799-B682-5F94CBC6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89F93-1131-4508-9623-887F95BE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5124E-943C-4636-B4CF-187C9145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24F85-AE2D-466F-997D-AE61BFA9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12C34-AB44-45AB-BADC-628F4B43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E9218-71FB-4D74-9D9B-6A7A63BA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6A37C-1AF4-4A0D-B884-75A6EC22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F990-45FC-4ED7-BEF4-34EB7573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25F77-2B3A-4853-ABEA-D1A0D889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26225-68FC-45B4-BFFE-03945BE3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A6E7F-4A97-436C-9277-D99072CD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E347D-A1DA-4566-8B6D-8AAF6B01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9EDF4-B2EF-47AA-88B2-E6607714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39006-B151-46CF-8BBD-69E44972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556E0-8047-4A2A-95D6-F9BAAD9B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25CDB-395D-47DD-9191-CFDC138A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91DAA-A7A8-4C06-81C9-00AE416D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C92E4-2907-4843-B16C-9E0E0514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A3C-2899-4B47-AFF2-95FB4176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AAAEB-83FA-49F3-9BE0-260849FF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03A4D-B371-4351-80BF-97B9B4B0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B4D86-3CC7-4315-9F29-65087684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D1EA7-F339-4030-A7AF-E958DB18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E4A33-447C-40F4-8D3A-923ED1CB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4E200-0280-4819-B647-7B44B811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51C96-9308-46CC-9932-328E5913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кутний трикут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 сполучна ліні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63F8-CB63-47A6-8325-FB4E7A60D403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A301-3FC3-4BE1-85AE-681B01D6450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кутний трикут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увати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іліні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іліні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іліні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іліні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 сполучна ліні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9BCF-B6B9-498D-ADA9-902647700CAF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A8CD-A94F-436B-B4DF-E47A6673336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9319-39BE-4823-BE62-6F2A3A3EE57A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A412-5C8A-4795-95E4-66D3A4BF296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1D69-0D5E-4C2B-B285-FE7D16CD4B0F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E343-D87F-49E1-8200-EC7ACA7666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2DAD-CAF5-45EB-A3F6-7A2116212F98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625D-8AA1-4765-936D-03B134E7CC0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F91B-06C7-44A1-A221-E71404147E03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3222-8A45-45A3-9109-E92EEF2327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1448-E8CB-4853-83B0-C94FA6B8F054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9C16-B024-41A8-A4C4-EEB293BD8E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іліні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іліні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кутний трикут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кутний трикут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 сполучна ліні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0246-C428-4370-A0A1-0A71ACC0BBAA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88AA-1F66-4D6E-85E2-105A4561DC5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-384120" y="115920"/>
            <a:ext cx="8235720" cy="2462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M00361_"/>
          <p:cNvPicPr/>
          <p:nvPr/>
        </p:nvPicPr>
        <p:blipFill>
          <a:blip r:embed="rId2"/>
          <a:stretch/>
        </p:blipFill>
        <p:spPr>
          <a:xfrm>
            <a:off x="5334120" y="2666880"/>
            <a:ext cx="3538440" cy="319428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устройства диагностики и локализации почечных и желчных камней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а также контроля процесса их разрушения при помощи наружных ударных волн (литотрипсия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лечение зубов и протезировани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 помощью компьютер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систем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 микрокомпьютерным управлением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интенсивного медицинского контроля пациента</a:t>
            </a:r>
            <a:r>
              <a:rPr b="0" lang="ru-RU" sz="2700" spc="-1" strike="noStrike">
                <a:solidFill>
                  <a:srgbClr val="004a00"/>
                </a:solidFill>
                <a:latin typeface="Lucida Sans Unicode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838080" y="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4a00"/>
                </a:solidFill>
                <a:latin typeface="Times New Roman"/>
              </a:rPr>
              <a:t>А также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-231840" y="0"/>
            <a:ext cx="8583840" cy="22366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-360" y="2149200"/>
            <a:ext cx="79246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Взяли интервью у местных работников здравоохран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Провели опрос знакомы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Нашли сообщения  в печатных изданиях о применении ЭВМ в медицин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Подобрали фотограф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-255600" y="189000"/>
            <a:ext cx="802800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Object 8"/>
          <p:cNvGraphicFramePr/>
          <p:nvPr/>
        </p:nvGraphicFramePr>
        <p:xfrm>
          <a:off x="0" y="1071720"/>
          <a:ext cx="7616880" cy="553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1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71720"/>
                    <a:ext cx="7616880" cy="55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-324000" y="96840"/>
            <a:ext cx="8340840" cy="14032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</a:rPr>
              <a:t>Чем раньше выявить заболевание, тем проще его лечить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</a:rPr>
              <a:t>Люди стали больше доверять ЭВМ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-291960" y="-268200"/>
            <a:ext cx="8180280" cy="26938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  <a:ea typeface="Times New Roman"/>
              </a:rPr>
              <a:t>Компьютерная аппаратура широко используется при постановке диагноза, проведении обследований и профилактических осмотров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рименение компьютеров переводит медицину на иной, более высокий качественный уровень и способствует дальнейшему повышению уровня и качества жизни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210024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D:\TOCD\Ищенко\Электронная версия учебника по информатике 10-11\0014-2.jpg"/>
          <p:cNvPicPr/>
          <p:nvPr/>
        </p:nvPicPr>
        <p:blipFill>
          <a:blip r:embed="rId1"/>
          <a:stretch/>
        </p:blipFill>
        <p:spPr>
          <a:xfrm>
            <a:off x="714240" y="990720"/>
            <a:ext cx="7772400" cy="58672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В компьютеризированном отделении лечебного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используются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для создания карт, показывающих скорость распространения эпидемий.</a:t>
            </a:r>
            <a:r>
              <a:rPr b="0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хранят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в своей памяти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истории болезней пациентов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что освобождает врачей от бумажной работы, на которую уходит много времени, и позволяет больше времени уделять самим больным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-360" y="533520"/>
            <a:ext cx="8001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позволяют установить, как влияет 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загрязненность воздуха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на заболеваемость населения данного района. 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роме того, с их помощью можно изучать 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влияние ударов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на различные части тела, в частности, последствия удара при автомобильной катастрофе для черепа и позвоночника человека.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ная техника используется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обучения медицинских работников практическим навыкам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. На этот раз компьютер выступает в роли больного, которому требуется немедленная помощь. На основании симптомов, выданных компьютером, обучающийся должен определить курс лечения. Если он ошибся, компьютер сразу показывает это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ные сети используются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пересылки сообщений о донорских органах, в которых нуждаются больные</a:t>
            </a:r>
            <a:r>
              <a:rPr b="0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,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ожидающие операции трансплантаци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Банки медицинских данных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позволяют медикам быть в курсе последних научных и практических достижений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211280" y="2852640"/>
            <a:ext cx="4932360" cy="19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00"/>
                </a:solidFill>
                <a:latin typeface="Lucida Sans Unicode"/>
              </a:rPr>
              <a:t>К</a:t>
            </a:r>
            <a:r>
              <a:rPr b="1" lang="ru-RU" sz="24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омпьютерная томография и ядерная медицинская диагностика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— дают точные послойные изображения структур внутренних органов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7" descr="D:\TOCD\Ищенко\Электронная версия учебника по информатике 10-11\0011-3.jpg"/>
          <p:cNvPicPr/>
          <p:nvPr/>
        </p:nvPicPr>
        <p:blipFill>
          <a:blip r:embed="rId1"/>
          <a:stretch/>
        </p:blipFill>
        <p:spPr>
          <a:xfrm>
            <a:off x="0" y="228600"/>
            <a:ext cx="3684600" cy="37051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6"/>
          <p:cNvSpPr/>
          <p:nvPr/>
        </p:nvSpPr>
        <p:spPr>
          <a:xfrm>
            <a:off x="368604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304920" y="4495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4a00"/>
                </a:solidFill>
                <a:latin typeface="Times New Roman"/>
                <a:ea typeface="Times New Roman"/>
              </a:rPr>
              <a:t>льтразвуковая диагностика и зондир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спользуя эффекты взаимодействия падающих и отраженных ультразвуковых волн, открывает бесчисленные возможности для получения изображений внутренних органов и исследования их состоя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4140360" y="0"/>
            <a:ext cx="50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Times New Roman"/>
              </a:rPr>
              <a:t>Примеры компьютерных устройств и методов лечения и диагно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1011240" y="573120"/>
            <a:ext cx="8334360" cy="33764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36800" y="4628880"/>
            <a:ext cx="450684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a00"/>
                </a:solidFill>
                <a:latin typeface="Lucida Sans Unicode"/>
              </a:rPr>
              <a:t>З</a:t>
            </a:r>
            <a:r>
              <a:rPr b="1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адатчик</a:t>
            </a:r>
            <a:r>
              <a:rPr b="0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 (водитель) </a:t>
            </a:r>
            <a:r>
              <a:rPr b="1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сердечного ритма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7" descr="D:\TOCD\Ищенко\Электронная версия учебника по информатике 10-11\0012-2.jpg"/>
          <p:cNvPicPr/>
          <p:nvPr/>
        </p:nvPicPr>
        <p:blipFill>
          <a:blip r:embed="rId2"/>
          <a:stretch/>
        </p:blipFill>
        <p:spPr>
          <a:xfrm>
            <a:off x="0" y="3733920"/>
            <a:ext cx="3073320" cy="31240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369576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-201600" y="4724280"/>
            <a:ext cx="7900920" cy="145116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19360" y="-36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4a00"/>
                </a:solidFill>
                <a:latin typeface="Lucida Sans Unicode"/>
              </a:rPr>
              <a:t>Л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учевая терапия с микропроцессорным управлением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— обеспечивает возможность применения более надежных и щадящих методов облучения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Picture 8" descr="D:\TOCD\Ищенко\Электронная версия учебника по информатике 10-11\0013-2.jpg"/>
          <p:cNvPicPr/>
          <p:nvPr/>
        </p:nvPicPr>
        <p:blipFill>
          <a:blip r:embed="rId2"/>
          <a:stretch/>
        </p:blipFill>
        <p:spPr>
          <a:xfrm>
            <a:off x="0" y="304920"/>
            <a:ext cx="3809880" cy="38304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369108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7:19:39Z</dcterms:created>
  <dc:creator>user</dc:creator>
  <dc:description/>
  <dc:language>en-US</dc:language>
  <cp:lastModifiedBy>RomaK</cp:lastModifiedBy>
  <dcterms:modified xsi:type="dcterms:W3CDTF">2014-10-31T12:41:37Z</dcterms:modified>
  <cp:revision>20</cp:revision>
  <dc:subject/>
  <dc:title>Компьютеры в медицине</dc:title>
</cp:coreProperties>
</file>