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6EC-4BA1-4684-A5BE-3F48C36E79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Компьютеры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F8B8-02D9-4D46-8D83-14A70B05E8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стройства диагностики и локализации почечных и желчных кам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ечение зубов и проте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компью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микрокомпьютерным управлением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интенсивного медицинского контроля пациента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9C32-301B-4691-A452-EC475F5EF0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libri"/>
              </a:rPr>
              <a:t>Что и как мы узнали  о применении компьютеров в медицин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Взяли интервью у местных работников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ровели опрос зна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Нашли сообщения  в печатных изданиях о применении ЭВМ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одобрали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68C1-014A-494C-94B3-4D731CE3C2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Calibri"/>
              </a:rPr>
              <a:t>РЕЗУЛЬТАТЫ О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9E1F-B356-4209-BE33-1DB24BF58D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Чем раньше выявить заболевание, тем проще его ле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Люди стали больше доверять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E1C4-45F5-4BB0-9EDB-1510E6AB69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7EC4-67EA-4CDB-891D-E17687AF1F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используютс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храня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в своей памяти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стории болезней пацие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EFA3-09E9-4B0E-AF7E-17809E8ED1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позволяют установить, как влияет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загрязненность воздух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заболеваемость населения данного район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с их помощью можно изучать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влияние уда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14A8-8460-471C-B562-2A9C6A87E3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Компьютер - па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ая техника используе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AB5B-4C4A-4DC3-B595-81017058A6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24100"/>
                </a:solidFill>
                <a:latin typeface="Calibri"/>
              </a:rPr>
              <a:t>Кроме т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ые сети использую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жидающие операции транспла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Банки медицински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5A65-FE51-478D-936C-0F34BDD50D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К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037B-3664-4A39-96E0-9969A5BC58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М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крокомпьютерные технологии рентгеновских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помненные в цифровой форме рентгеновские снимки могут быть быстро и качественно обработаны, воспроизведены и занесены в архив для сравнения с последующими снимками этого паци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З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адатчик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(водитель)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ердечного рит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2410-F286-4F71-939F-231A6F3A50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тройства дыхания и нарко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учевая терапия с микропроцессорным управл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BECE-8002-4CE0-B198-C7329F4492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C85-2B19-49F1-9AD8-739EBEBC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AD7-FC79-4141-B64B-2232FD7E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9DB-0B44-4596-8211-5C25BB0E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0C0-2F7F-478D-92D4-5737D6D0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42EC-DCCD-4B47-83C2-D7FA83D3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B998-C1EB-4BF7-A4A3-08E4A7AD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64E4-AABF-4EB1-9F69-87E9640E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783D-F6C3-4C4B-B217-DF290A64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0869-E94F-403A-961C-76C11C0F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4D13-08A3-4D3B-B67B-7900AE35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9612-9392-473D-B32C-A0790D4D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371-1E3C-4634-B9ED-B2FD9417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FB58-FCB2-40BC-BA22-1C7AFA8C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4C11-5E58-4579-AB4C-D3092A45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7268-0D18-4AA8-9582-BF19963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CAEF-9E63-47CB-A7CB-756053E8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38CF-94DA-49F3-BC43-8B3FCC50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A12E-BBF6-41A9-88D8-BF4BBE90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3F19-87F1-4579-A52E-3C8D5FCF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30CA-2CF5-44F7-9038-584A03E1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911E-B6B1-48DC-A8CB-3F6A1C46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5C5F6-8FBE-41C2-8C4C-59A35DF3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C09-6B1A-467D-850D-89BB4975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07E9-7C5E-4343-9789-BE8BBF44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90B7-BEDC-4689-BC9B-EC7E0C1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B8FC-3398-4A32-BBFB-165BA12B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1780-A5E7-4C05-88A2-F1DC03C1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2F10-01B8-40F3-A079-6E3A4FE1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79079-86A0-4F99-B216-77540E75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6EBD-54EA-4450-8CC1-408618E9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17FFA-3827-4A78-B94E-F419C1BF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713D-21C1-4689-A0B0-54122C78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66F5-D802-4FA1-961A-98D07C6F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6C5-6C9F-4248-9627-2A656D1A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AE89C-6192-444E-ACEF-B55CEB9F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85D71-6018-4AE8-995E-18D9AA9B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E5C77-CA9E-4CAA-86E9-66D2141B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6E7E-5BDD-4910-92F4-831C173D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99E82-0AE1-4F30-AC4D-1EFBF072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1CA35-3E17-4644-8E30-16E0AC35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9A1B6-DB96-431F-9C61-142FFF3C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6C99-E1B8-4AC1-9658-26C372E5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977BC-8231-4728-936A-BE1E5AD7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8BE6D-53BA-4EDD-B1E9-29CE9D9F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DDF-E315-47DA-83A3-C80172B7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D06BF-F365-4361-80A1-DF1C17D2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30BC4-764C-4551-A1CF-AAA6BD7B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F16A-4003-470F-BCDF-557B3DA1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AAA31-FAFF-437D-ACB4-6981B1B6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BE3B6-5DF4-4761-A81F-D1F083A2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676B-80EF-413D-896D-11FEF5A0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F2F2C-6413-4B04-BD74-FE3B4773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A071-8690-4130-92C7-5198E38B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25DF2-EA7D-4D38-A181-9DBABB78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9E92A-B2E2-4D3D-A662-13B1D346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CF5-891E-4F75-A623-6C4738AC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DD7C-3F28-4477-99D8-F8DD7B48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AC118-8BF7-4D12-98F2-CE451769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F463B-134B-4569-8959-D5828FCD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E7959-6A1B-4D84-9D4F-064EFF49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E45A2-BB95-4B34-B6E0-CA74CF32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F3691-9D37-4B43-9712-20286521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F8385-6572-4F15-8CDD-B3032E83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418F-1C80-43EA-9337-5FADE3D8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1E9D9-808A-4534-B181-742F3A12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D6F1-2C86-4FE5-8D17-DD0147AA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E96-224C-40E5-B2B1-5901DEDD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923E5-7703-4396-9D86-C0C01606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AC37E-2A5B-43FF-B8A2-45B09130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A49DC-2493-4831-B2D0-8CA3A294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6670B-2313-4A5D-86FA-AADFE42F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56D16-8C14-4FC2-BDDF-A60CECB5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B9567-DF9A-4B8C-9207-F219147D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AB5A5-7299-4332-AA38-9F5D9877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9DF4D-5CBA-461C-A19B-6A2CB81F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11C6E-6C9D-4C89-9B08-89734A66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C85FC-0F38-4505-A13F-9AE37A56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502-7120-443E-86A9-D4699F0A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E84CE-533D-4C2D-887C-16AAEE3B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62446-6277-4A12-BC83-AE5EE208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AAD74-9DEB-47F5-BA21-B87914FE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CA4CC-D2E4-4089-B796-BB149F89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DF690-8D1C-47D4-B509-8EF7FFF7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C372F-D482-4B70-9F63-45683FAC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5A0A4-EA2E-489C-B8A5-C41FDF4A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AA048-F322-4D1D-8423-8D457C69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0AA9D-24C4-487F-9B47-DE64DFA8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CFC45-0A3C-4570-83F0-C6A35E3A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F78-C602-47E1-9248-DD4D95B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1728E-B5EF-4C5A-BA76-63534C53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47275-B817-42C7-9809-0EBD89F3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0A6B4-426E-4F95-826D-1051F881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6D9BD-D32E-4937-A17B-A8D8B45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65722-B151-4FA8-A8F7-FC8A69CC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FFF69-8236-4A0A-A2B7-FF66E2DA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3D9D4-D0E5-4EAF-BDF1-DE262C77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кутний трикут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 сполучна ліні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A959-0DD9-405B-96D0-95C8E5BDABDE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FB2E-CC1A-4BEA-8FE8-98EF58E466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й трикут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увати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іліні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іліні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іліні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іліні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 сполучна ліні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989E-7DC9-4AC1-8AED-743DBE8CA072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8BD5-7A80-4192-8335-CC9C88338CC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5465-D2D1-411F-9C49-A42F8928EA3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60C-CF85-40F1-8F43-5A061EB1D9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09C6-FADE-4777-8FC6-7B168FBF9182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36E8-90FD-407E-A881-C743139F80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823A-64FC-4664-8136-933AA3C2B29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FB8E-4E97-412A-AF11-649A30D4DC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2294-663D-41E0-8F59-40FE9BD41BAB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3736-DE32-4F78-A5E8-F84697D8C7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5E23-208B-46B9-A1F1-824383A634B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C0AC-9E0E-4352-9283-AEB5F429A4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іліні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іліні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кутний трикут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кутний трикут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 сполучна ліні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7402-CCCB-4296-9A9D-5E72380AB684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1FF8-5905-43FC-B62A-4ACF78DC873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384120" y="115920"/>
            <a:ext cx="8235720" cy="246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M00361_"/>
          <p:cNvPicPr/>
          <p:nvPr/>
        </p:nvPicPr>
        <p:blipFill>
          <a:blip r:embed="rId2"/>
          <a:stretch/>
        </p:blipFill>
        <p:spPr>
          <a:xfrm>
            <a:off x="5334120" y="2666880"/>
            <a:ext cx="3538440" cy="319428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устройства диагностики и локализации почечных и желчных камне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лечение зубов и протез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помощью компьютер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систем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микрокомпьютерным управлением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интенсивного медицинского контроля пациента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838080" y="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a00"/>
                </a:solidFill>
                <a:latin typeface="Times New Roman"/>
              </a:rPr>
              <a:t>А такж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8583840" cy="2236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149200"/>
            <a:ext cx="79246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Взяли интервью у местных работников здравоохран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ровели опрос знако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Нашли сообщения  в печатных изданиях о применении ЭВМ в ме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одобрали фот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255600" y="189000"/>
            <a:ext cx="80280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8"/>
          <p:cNvGraphicFramePr/>
          <p:nvPr/>
        </p:nvGraphicFramePr>
        <p:xfrm>
          <a:off x="0" y="1071720"/>
          <a:ext cx="7616880" cy="553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71720"/>
                    <a:ext cx="7616880" cy="55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324000" y="96840"/>
            <a:ext cx="8340840" cy="1403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Чем раньше выявить заболевание, тем проще его лечи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Люди стали больше доверять ЭВ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291960" y="-268200"/>
            <a:ext cx="8180280" cy="26938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  <a:ea typeface="Times New Roman"/>
              </a:rPr>
              <a:t>Компьютерная аппаратура широко используется при постановке диагноза, проведении обследований и профилактических осмотров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менение компьютеров переводит медицину на иной, более высокий качественный уровень и способствует дальнейшему повышению уровня и качества жизн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210024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D:\TOCD\Ищенко\Электронная версия учебника по информатике 10-11\0014-2.jpg"/>
          <p:cNvPicPr/>
          <p:nvPr/>
        </p:nvPicPr>
        <p:blipFill>
          <a:blip r:embed="rId1"/>
          <a:stretch/>
        </p:blipFill>
        <p:spPr>
          <a:xfrm>
            <a:off x="71424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используются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храня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в своей памяти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истории болезней пациент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позволяют установить, как влияет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загрязненность воздуха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заболеваемость населения данного района. 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роме того, с их помощью можно изучать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влияние ударов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ая техника используе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ые сети использую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,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ожидающие операции трансплантац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Банки медицинских данн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11280" y="2852640"/>
            <a:ext cx="493236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Lucida Sans Unicode"/>
              </a:rPr>
              <a:t>К</a:t>
            </a:r>
            <a:r>
              <a:rPr b="1" lang="ru-RU" sz="24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D:\TOCD\Ищенко\Электронная версия учебника по информатике 10-11\0011-3.jpg"/>
          <p:cNvPicPr/>
          <p:nvPr/>
        </p:nvPicPr>
        <p:blipFill>
          <a:blip r:embed="rId1"/>
          <a:stretch/>
        </p:blipFill>
        <p:spPr>
          <a:xfrm>
            <a:off x="0" y="228600"/>
            <a:ext cx="3684600" cy="37051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6860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04920" y="4495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140360" y="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011240" y="573120"/>
            <a:ext cx="8334360" cy="3376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36800" y="4628880"/>
            <a:ext cx="45068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a00"/>
                </a:solidFill>
                <a:latin typeface="Lucida Sans Unicode"/>
              </a:rPr>
              <a:t>З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адатчик</a:t>
            </a:r>
            <a:r>
              <a:rPr b="0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(водитель) 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сердечного ритма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7" descr="D:\TOCD\Ищенко\Электронная версия учебника по информатике 10-11\0012-2.jpg"/>
          <p:cNvPicPr/>
          <p:nvPr/>
        </p:nvPicPr>
        <p:blipFill>
          <a:blip r:embed="rId2"/>
          <a:stretch/>
        </p:blipFill>
        <p:spPr>
          <a:xfrm>
            <a:off x="0" y="3733920"/>
            <a:ext cx="3073320" cy="3124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6957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201600" y="4724280"/>
            <a:ext cx="790092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4a00"/>
                </a:solidFill>
                <a:latin typeface="Lucida Sans Unicode"/>
              </a:rPr>
              <a:t>Л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учевая терапия с микропроцессорным управлением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Picture 8" descr="D:\TOCD\Ищенко\Электронная версия учебника по информатике 10-11\0013-2.jpg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38304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36910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7:19:39Z</dcterms:created>
  <dc:creator>user</dc:creator>
  <dc:description/>
  <dc:language>en-US</dc:language>
  <cp:lastModifiedBy>RomaK</cp:lastModifiedBy>
  <dcterms:modified xsi:type="dcterms:W3CDTF">2014-10-31T12:41:37Z</dcterms:modified>
  <cp:revision>20</cp:revision>
  <dc:subject/>
  <dc:title>Компьютеры в медицине</dc:title>
</cp:coreProperties>
</file>