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5092-9C71-417B-8775-EBCB9FA432C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00"/>
                </a:solidFill>
                <a:latin typeface="Impact"/>
              </a:rPr>
              <a:t>Как завораживает звездное неб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CC0D-18D5-4829-B4D6-FF1AFF20C98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ве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A4CF-534B-4087-9667-7D5870B38DC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скорпи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5E5E-BEEC-4E6A-AB27-E58579A98C8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стр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189F-F02E-4A66-97E0-9B6F374FA08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козер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9167-AB86-4DB8-AE5B-61DDFCF996A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т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C2E0-3D51-43F4-8F12-97C7FDD471A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р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0322-C1A2-447C-BB10-6A49D82D13A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л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A21C-6220-4644-86FE-F36A1B33EDE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- кар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4C52-CE6C-4E82-9559-E17C682CB95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- гиг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6D98-52CD-4940-BB26-CEA65B80CDE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ойная звез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3A8D-0549-4B14-90BC-3DE88E51DF9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 - пульс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9792-F139-4385-A785-0E98F222CA9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рта северного полушария не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BF92-6B43-456D-9E34-8C537F85526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юди разделили небо на 88 участков (созвездий) и дали этим «звездным группам» имена героев мифов, легенд, сказочных су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F05F-FC60-40B7-8AC9-08FDBB1314F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д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D83F-8EA3-4C79-993F-B9A4FE635A5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1302-A932-44D3-BF05-7ECCA55E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3652-9089-4777-8525-90061574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0F3-46D1-401F-95DC-4513678F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517D-92D0-43D4-AF31-AF519EAA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8EC-4E86-44B8-8387-4AA2ECA9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CB8-6548-4A15-AEE4-7F60F3D2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C08-60EE-49C1-82C2-34F87974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243-2BEF-4E69-9DBA-0A3EA6E4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2093-3B21-41D2-A433-22972D91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48F-A047-4F28-B2D7-E8A3B176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D027-2AC0-4C60-B723-657C5EA3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37A1-E423-4152-8335-1DB139A5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B049-D675-476D-B910-7832FE10A4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з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762120" y="533520"/>
            <a:ext cx="7696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завораживает звездное небо...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3505320" y="533520"/>
            <a:ext cx="198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с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Picture 5" descr="весы"/>
          <p:cNvPicPr/>
          <p:nvPr/>
        </p:nvPicPr>
        <p:blipFill>
          <a:blip r:embed="rId1"/>
          <a:stretch/>
        </p:blipFill>
        <p:spPr>
          <a:xfrm>
            <a:off x="1600200" y="1325520"/>
            <a:ext cx="5943600" cy="49071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2514600" y="609480"/>
            <a:ext cx="3962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орпио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5" descr="скорпион"/>
          <p:cNvPicPr/>
          <p:nvPr/>
        </p:nvPicPr>
        <p:blipFill>
          <a:blip r:embed="rId1"/>
          <a:stretch/>
        </p:blipFill>
        <p:spPr>
          <a:xfrm>
            <a:off x="1905120" y="1447920"/>
            <a:ext cx="5333760" cy="48006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2666880" y="457200"/>
            <a:ext cx="358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еле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Picture 5" descr="стрелец"/>
          <p:cNvPicPr/>
          <p:nvPr/>
        </p:nvPicPr>
        <p:blipFill>
          <a:blip r:embed="rId1"/>
          <a:stretch/>
        </p:blipFill>
        <p:spPr>
          <a:xfrm>
            <a:off x="1219320" y="1295280"/>
            <a:ext cx="6781680" cy="4572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2666880" y="609480"/>
            <a:ext cx="358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зеро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5" descr="козерог"/>
          <p:cNvPicPr/>
          <p:nvPr/>
        </p:nvPicPr>
        <p:blipFill>
          <a:blip r:embed="rId1"/>
          <a:stretch/>
        </p:blipFill>
        <p:spPr>
          <a:xfrm>
            <a:off x="1600200" y="1447920"/>
            <a:ext cx="5867280" cy="4952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2971800" y="457200"/>
            <a:ext cx="327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ле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5" descr="телец"/>
          <p:cNvPicPr/>
          <p:nvPr/>
        </p:nvPicPr>
        <p:blipFill>
          <a:blip r:embed="rId1"/>
          <a:stretch/>
        </p:blipFill>
        <p:spPr>
          <a:xfrm>
            <a:off x="1447920" y="1116000"/>
            <a:ext cx="6248160" cy="5056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3733920" y="53352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Picture 5" descr="рак"/>
          <p:cNvPicPr/>
          <p:nvPr/>
        </p:nvPicPr>
        <p:blipFill>
          <a:blip r:embed="rId1"/>
          <a:stretch/>
        </p:blipFill>
        <p:spPr>
          <a:xfrm>
            <a:off x="1752480" y="1467000"/>
            <a:ext cx="5867640" cy="47656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3429000" y="380880"/>
            <a:ext cx="1828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Picture 5" descr="лев"/>
          <p:cNvPicPr/>
          <p:nvPr/>
        </p:nvPicPr>
        <p:blipFill>
          <a:blip r:embed="rId1"/>
          <a:stretch/>
        </p:blipFill>
        <p:spPr>
          <a:xfrm>
            <a:off x="2057400" y="1116000"/>
            <a:ext cx="5562720" cy="490392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карлик"/>
          <p:cNvPicPr/>
          <p:nvPr/>
        </p:nvPicPr>
        <p:blipFill>
          <a:blip r:embed="rId1"/>
          <a:stretch/>
        </p:blipFill>
        <p:spPr>
          <a:xfrm>
            <a:off x="3166920" y="0"/>
            <a:ext cx="5977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04920" y="1828800"/>
            <a:ext cx="266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Звезда - карли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гигант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6629400" y="2362320"/>
            <a:ext cx="220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везда - гиган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двойная"/>
          <p:cNvPicPr/>
          <p:nvPr/>
        </p:nvPicPr>
        <p:blipFill>
          <a:blip r:embed="rId1"/>
          <a:stretch/>
        </p:blipFill>
        <p:spPr>
          <a:xfrm>
            <a:off x="0" y="457200"/>
            <a:ext cx="579132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6019920" y="152388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войная звез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ульсар"/>
          <p:cNvPicPr/>
          <p:nvPr/>
        </p:nvPicPr>
        <p:blipFill>
          <a:blip r:embed="rId1"/>
          <a:stretch/>
        </p:blipFill>
        <p:spPr>
          <a:xfrm>
            <a:off x="0" y="609480"/>
            <a:ext cx="5791320" cy="5334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6095880" y="160020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везда  - пульса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млечный пут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кар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33520" y="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рта северного полушария неб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457200" y="1447920"/>
            <a:ext cx="8077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юди разделили небо на 88 участков (созвездий) и дали этим «звездным группам» имена героев мифов, легенд, сказочных сущест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3200400" y="60948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5" descr="дева"/>
          <p:cNvPicPr/>
          <p:nvPr/>
        </p:nvPicPr>
        <p:blipFill>
          <a:blip r:embed="rId1"/>
          <a:stretch/>
        </p:blipFill>
        <p:spPr>
          <a:xfrm>
            <a:off x="1676520" y="1325520"/>
            <a:ext cx="5867280" cy="539928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12T09:55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