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9906-2E49-4AAA-88A1-9D85F5D631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ак завораживает звездное неб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A7F3-0252-400D-8AC4-8FFA1E0CC6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40DC-450C-45DD-9BF8-C536092382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корп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2649-5BC4-4FAA-8A51-9A00904BFE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тр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A5CD-A0A6-4374-B5A7-25467B5CEF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зе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A9CA-5CC0-4517-85FC-B0A6072829B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71F9-D1B0-49C1-A1DE-C29526B7E1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р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38D7-CDF8-40C1-87DF-FBE21D6FA9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л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E981-FE0E-4478-ADE7-2592C60284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кар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81F2-A1BB-43B0-8639-9B0F1B05B7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гиг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B524-FEBF-42EE-9FB9-E282289E18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ая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132D-691F-4EC3-907D-B94BDFE9AD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 - пульс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C703-6240-4A03-B3D5-09D9BE8E35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а северного полушария не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8C23-A890-4252-A42A-AA2113EFE9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F88E-AB39-455F-8D31-F86DCE42D8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5AAA-F97D-4C6A-96AC-E1F58583D8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F3A-60F7-4ACB-8011-7035E0B6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7BA-D395-47BB-A420-371D3ED9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600-71E5-467E-AF2F-72EA383A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F22-63CD-402F-955B-F585F883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D8D-4846-4140-8FCC-B5B24F01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3AD-9AF0-4153-9049-986297A4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5F3-EFE6-4FD7-8095-9F1280DE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74D-07B0-42A4-ADE4-515E0F99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419-BE04-44BB-AB4B-32A9686F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E9B-6D42-4FC2-B6EA-3B539642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C44-42F0-45CA-A1EA-A65451BC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609-99B9-4BBF-BBF9-6A5BEF1C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6193-302D-4772-B2E0-E006B13F8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762120" y="5335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завораживает звездное небо..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505320" y="53352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5" descr="весы"/>
          <p:cNvPicPr/>
          <p:nvPr/>
        </p:nvPicPr>
        <p:blipFill>
          <a:blip r:embed="rId1"/>
          <a:stretch/>
        </p:blipFill>
        <p:spPr>
          <a:xfrm>
            <a:off x="1600200" y="1325520"/>
            <a:ext cx="5943600" cy="4907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514600" y="6094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пи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скорпион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666880" y="45720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5" descr="стрелец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666880" y="60948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зер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козерог"/>
          <p:cNvPicPr/>
          <p:nvPr/>
        </p:nvPicPr>
        <p:blipFill>
          <a:blip r:embed="rId1"/>
          <a:stretch/>
        </p:blipFill>
        <p:spPr>
          <a:xfrm>
            <a:off x="1600200" y="144792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971800" y="45720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5" descr="телец"/>
          <p:cNvPicPr/>
          <p:nvPr/>
        </p:nvPicPr>
        <p:blipFill>
          <a:blip r:embed="rId1"/>
          <a:stretch/>
        </p:blipFill>
        <p:spPr>
          <a:xfrm>
            <a:off x="1447920" y="1116000"/>
            <a:ext cx="6248160" cy="5056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733920" y="5335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рак"/>
          <p:cNvPicPr/>
          <p:nvPr/>
        </p:nvPicPr>
        <p:blipFill>
          <a:blip r:embed="rId1"/>
          <a:stretch/>
        </p:blipFill>
        <p:spPr>
          <a:xfrm>
            <a:off x="1752480" y="1467000"/>
            <a:ext cx="5867640" cy="47656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429000" y="380880"/>
            <a:ext cx="18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5" descr="лев"/>
          <p:cNvPicPr/>
          <p:nvPr/>
        </p:nvPicPr>
        <p:blipFill>
          <a:blip r:embed="rId1"/>
          <a:stretch/>
        </p:blipFill>
        <p:spPr>
          <a:xfrm>
            <a:off x="2057400" y="1116000"/>
            <a:ext cx="5562720" cy="490392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лик"/>
          <p:cNvPicPr/>
          <p:nvPr/>
        </p:nvPicPr>
        <p:blipFill>
          <a:blip r:embed="rId1"/>
          <a:stretch/>
        </p:blipFill>
        <p:spPr>
          <a:xfrm>
            <a:off x="316692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18288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везда - карли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гигант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629400" y="236232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- гиг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войная"/>
          <p:cNvPicPr/>
          <p:nvPr/>
        </p:nvPicPr>
        <p:blipFill>
          <a:blip r:embed="rId1"/>
          <a:stretch/>
        </p:blipFill>
        <p:spPr>
          <a:xfrm>
            <a:off x="0" y="457200"/>
            <a:ext cx="57913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1523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войная звез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ульсар"/>
          <p:cNvPicPr/>
          <p:nvPr/>
        </p:nvPicPr>
        <p:blipFill>
          <a:blip r:embed="rId1"/>
          <a:stretch/>
        </p:blipFill>
        <p:spPr>
          <a:xfrm>
            <a:off x="0" y="609480"/>
            <a:ext cx="579132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95880" y="16002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 - пульса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млечный пу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рта северного полушария неб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57200" y="14479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200400" y="6094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дева"/>
          <p:cNvPicPr/>
          <p:nvPr/>
        </p:nvPicPr>
        <p:blipFill>
          <a:blip r:embed="rId1"/>
          <a:stretch/>
        </p:blipFill>
        <p:spPr>
          <a:xfrm>
            <a:off x="1676520" y="1325520"/>
            <a:ext cx="5867280" cy="5399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5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